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8.jpeg" ContentType="image/jpeg"/>
  <Override PartName="/ppt/media/image30.png" ContentType="image/png"/>
  <Override PartName="/ppt/media/image15.wmf" ContentType="image/x-wmf"/>
  <Override PartName="/ppt/media/image7.png" ContentType="image/png"/>
  <Override PartName="/ppt/media/image32.png" ContentType="image/png"/>
  <Override PartName="/ppt/media/image6.wmf" ContentType="image/x-wmf"/>
  <Override PartName="/ppt/media/image9.gif" ContentType="image/gif"/>
  <Override PartName="/ppt/media/image11.gif" ContentType="image/gif"/>
  <Override PartName="/ppt/media/image27.png" ContentType="image/png"/>
  <Override PartName="/ppt/media/image4.png" ContentType="image/png"/>
  <Override PartName="/ppt/media/image12.wmf" ContentType="image/x-wmf"/>
  <Override PartName="/ppt/media/image28.png" ContentType="image/png"/>
  <Override PartName="/ppt/media/image5.gif" ContentType="image/gif"/>
  <Override PartName="/ppt/media/image3.png" ContentType="image/png"/>
  <Override PartName="/ppt/media/image10.wmf" ContentType="image/x-wmf"/>
  <Override PartName="/ppt/media/image2.gif" ContentType="image/gif"/>
  <Override PartName="/ppt/media/image25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8D5-96BF-4F06-BBCF-8E6E1EFB09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BB5-994B-4C76-A3F9-9C1AEDB0DD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EFF-A1EA-4452-BFA1-EF67EFFA1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C5DE-73AA-48DF-9C9A-E774D8097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AFE0-6E2E-478B-A3AC-EF28D62BC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0EF-A251-488E-8D6F-20F0CA3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FE1-9070-43C7-A678-CE3333C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A5-972B-4229-ACF5-7C8A3ABE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B29-65D8-4489-86AF-AA1FB08D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DAFA-B719-4270-A101-A7AADABE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BA3-E787-4BBB-9254-7DEC4CB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B687-C5BC-4C2E-818F-B2CA4630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2FB-19AB-4E64-90FD-CB971CF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CAF7-FD66-4738-8CE4-C9C04FBB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98CF-42AE-4B73-886B-63089E5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CD6F-060C-423C-8FD8-21F7451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D08-C45F-46F3-A85E-1948EADC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6FBA-871C-45D8-8188-0562556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FE2B-C129-4DB3-87DF-D371EF7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55DC-DEE6-4F16-AFD2-88125EC8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DC3-9693-45FA-8DD4-69D45C89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0806-6D73-41BB-BF30-D5230CDC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D5D-1BC1-4917-ACBD-F0AC6577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09F-7C4E-4E65-A7E5-AFE6A66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1A7-9885-452C-A969-46B1F64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DD3-D1F4-4150-8ED2-3CEDA577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02F-22F9-4785-BB19-28A7961A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0F4-15BD-48CB-BC80-6FEDE9C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9F2-860A-4405-8E6E-2713823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101-AB70-4881-8191-A30C8A1E70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A9E-0259-43F3-BC82-C4261A7772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chelpro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ЕМИНАР-ПРАКТИКУМ</a:t>
            </a:r>
            <a:br>
              <a:rPr sz="3600"/>
            </a:br>
            <a:r>
              <a:rPr b="0" lang="ru-RU" sz="4000" spc="-1" strike="noStrike">
                <a:solidFill>
                  <a:srgbClr val="ff0033"/>
                </a:solidFill>
                <a:latin typeface="Arial"/>
              </a:rPr>
              <a:t>Психогигиена труда педагога</a:t>
            </a:r>
            <a:br>
              <a:rPr sz="4000"/>
            </a:br>
            <a:r>
              <a:rPr b="0" lang="ru-RU" sz="2400" spc="-1" strike="noStrike">
                <a:solidFill>
                  <a:srgbClr val="ff0033"/>
                </a:solidFill>
                <a:latin typeface="Arial"/>
              </a:rPr>
              <a:t>(П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рофессиональное выгорание, эмоциональное выгорание учителя, педагогическое выгорание.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о-ориентированное занятие с элементами тренин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503280"/>
            <a:ext cx="626436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, связанные с воздействием сло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360" y="1887120"/>
            <a:ext cx="810108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иказ 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550"/>
              </a:spcBef>
              <a:spcAft>
                <a:spcPts val="1063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добрение (самопоощрение). 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ходите возможность хвалить себя в течение рабочего дня не менее 3–5 раз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26028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Arial"/>
              </a:rPr>
              <a:t>«Самооценка и ревизия убеждения»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549000"/>
            <a:ext cx="7345440" cy="611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1. Одним предложением запишите цель, которую вы хотите дости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ь: 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кажите на шкал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т 1 до 5, как  вы верите в свою цель по отношению к следующим суждения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я цель желанна и стоит т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 цель достиж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, что мне нужно делать, чтобы достичь этой цели, нормально и естествен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меня есть необходимые способности для достижения этой ц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заслуживаю этой цели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берите тот ответ, который вы оценили ниже остальных. Повторите  это предложение 9 раз, каждый раз добавляя очередное суждение из нижеперечисленных и то, что спонтанно появится за ним. Постарайтесь быть искренним и обязательно аргументировано переработайте «всплывшие» сомнения и возражения. Когда вы закончите, проделайте опять самооценку и заметьте, что изменилось и укрепило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тому что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до того как _________________ 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я ее достигну после того как _________________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сли 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отя и 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же как 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юбое время 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 что _______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263160"/>
            <a:ext cx="7802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Упражнение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57360" y="1928520"/>
            <a:ext cx="81626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Встаньте прямо, руки свободно висят вдоль тулов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редставьте, что к вашему темени прикреплена ниточка, за которую вас не сильно, но уверенно тянут ввер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Позвольте голове последовать за направлением силы натяжения. Понемногу вытягивайте ше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Затем начинайте вытягивать позвоночн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Когда почувствуете, что позвоночник выпрямился, встаньте на цып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6"/>
          <a:stretch/>
        </p:blipFill>
        <p:spPr>
          <a:xfrm>
            <a:off x="684360" y="981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7"/>
          <a:stretch/>
        </p:blipFill>
        <p:spPr>
          <a:xfrm>
            <a:off x="7020000" y="179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8"/>
          <a:stretch/>
        </p:blipFill>
        <p:spPr>
          <a:xfrm>
            <a:off x="1938240" y="720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9"/>
          <a:stretch/>
        </p:blipFill>
        <p:spPr>
          <a:xfrm>
            <a:off x="8058240" y="36036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10"/>
          <a:stretch/>
        </p:blipFill>
        <p:spPr>
          <a:xfrm>
            <a:off x="324000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11"/>
          <a:stretch/>
        </p:blipFill>
        <p:spPr>
          <a:xfrm>
            <a:off x="504036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12"/>
          <a:stretch/>
        </p:blipFill>
        <p:spPr>
          <a:xfrm>
            <a:off x="6659640" y="914400"/>
            <a:ext cx="7617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88720"/>
            <a:ext cx="780264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Физиологическая саморегуляция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57000" y="2060280"/>
            <a:ext cx="78022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09520" indent="0" algn="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«Болезни души неотделимы от болезней тел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Спутник стресса – это мышечный зажим. Мышечный зажим – остаточное явление напряжения, появившееся из-за отрицательных эмоций и нереализованных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ct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«мышечный панцирь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0" algn="just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Он образуется у людей, не умеющих отдыхать, то есть снимать стре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7740720" y="360360"/>
            <a:ext cx="76176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71400" y="168120"/>
            <a:ext cx="7804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РЕЛАКСАЦ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812000" y="43848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60360" y="1025640"/>
            <a:ext cx="3240000" cy="239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246480" y="1440000"/>
            <a:ext cx="2873160" cy="25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5940360" y="107964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5"/>
          <a:stretch/>
        </p:blipFill>
        <p:spPr>
          <a:xfrm>
            <a:off x="5219640" y="3600360"/>
            <a:ext cx="362268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6"/>
          <a:stretch/>
        </p:blipFill>
        <p:spPr>
          <a:xfrm>
            <a:off x="2592360" y="4680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7"/>
          <a:stretch/>
        </p:blipFill>
        <p:spPr>
          <a:xfrm>
            <a:off x="7972560" y="41212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8"/>
          <a:stretch/>
        </p:blipFill>
        <p:spPr>
          <a:xfrm>
            <a:off x="2519280" y="485928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9"/>
          <a:stretch/>
        </p:blipFill>
        <p:spPr>
          <a:xfrm>
            <a:off x="135000" y="3500280"/>
            <a:ext cx="346536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Arial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, развивающийся на фо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онического стресса и ведущий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щению эмоционально-энергет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личностных ресурсов работающе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профессионального выгорания — самая опасная профессиональная болезнь тех, кто работае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людьми: учителей, социальных работник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ов, менеджеров, врачей, журналис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знесменов и политиков, — все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ья деятельность невозможна без общени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рофессии типа «человек-человек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440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116000" y="4005360"/>
          <a:ext cx="152892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005360"/>
                    <a:ext cx="15289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948360" y="2565360"/>
            <a:ext cx="100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33"/>
                </a:solidFill>
                <a:latin typeface="Arial"/>
              </a:rPr>
              <a:t>эмоциональное выгорание учителя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7667640" y="1341360"/>
            <a:ext cx="1123920" cy="1257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349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новной причи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го выгор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необходимость сотрудника проявлять чувство заботы –консультанту о клиенте, врачу о больном, преподавателю об ученике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фессии врача, психолога, учителя и т.д. профессиональное выгорание неизбеж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ий период профессиональ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горания педагога составляет около 5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Признаки профессионального выгорания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6659640" cy="40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lvl="1" marL="822960" indent="0" algn="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моциональное истощение, психологическая выхолощ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персонализация – это состояние сознания, характеризующееся ощущением отрешенности от мира, в том числе от себ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-411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ение способности помогать окружающим на фоне эмоционального исто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960" indent="0" algn="ctr"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113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Профессиональное выгора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4149720"/>
            <a:ext cx="1647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0805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33"/>
                </a:solidFill>
                <a:latin typeface="Arial"/>
              </a:rPr>
              <a:t>Степень истощенности Ваших жизненных сил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ьте «Да»; «Нет»; Не знаю» на следующие утверждения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995640" cy="482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19640" y="1628280"/>
            <a:ext cx="3492720" cy="34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9.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лочи раздражают все силь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0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зически истощен как подсевшая батарей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рой кажется, что лучше умере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жется, что нет больше си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Настроение подавлен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14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Каждое утро просыпаюсь с чувством усталости и истощ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628640"/>
            <a:ext cx="360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о чувствую уста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е трудно  усну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ночь просыпаюсь несколько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оянно чувствую слаб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увствую себя в расцвете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огое не у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знь заводит в туп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-прежнему половая жизнь приносит удовлетв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300640"/>
            <a:ext cx="8424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516640"/>
            <a:ext cx="5940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авьте по одному баллу за отве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а» на № 1,2,3,4,6,7,9,10,11,12,13,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Нет» на № 5,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каждый «Не зна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ЕРВАЯ СТАДИЯ</a:t>
            </a:r>
            <a:r>
              <a:rPr b="0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Снижение самооц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е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стояние тревожности, неудовлетворенности;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вращаясь домой, все чаще хочется сказать: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Не лезьте ко мне, оставьте в поко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67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ТОРА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       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Одиноч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•</a:t>
            </a:r>
            <a:r>
              <a:rPr b="1" i="1" lang="en-GB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никают недоразумения с учениками и родителями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офессионал в кругу своих коллег начинает с пренебрежением говорить о некоторых из н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неприязнь начинает постепенно проявляться в присутствии учеников — вначале это с трудом сдерживаемая антипатия, а затем и вспышки раздражения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7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, страдающие от эмоционального сгорания, не в состоянии установить нормальный контакт с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и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7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1700280"/>
            <a:ext cx="14954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122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ТРЕТЬЯ  СТАДИЯ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офессионального выгор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Эмоциональное истощение, соматизация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притупляются представления о ценност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жизни,  человек становится опасно равнодушным ко всему, даже к собственной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глаза теряют блеск интереса к чему бы то ни было, и почти физически ощутимый холод безразличия поселяется в его ду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Clr>
                <a:srgbClr val="ffffff"/>
              </a:buClr>
              <a:buSzPct val="45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ость, апатия и депрессия, сопровождающие эмоциональное с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94400" y="1197000"/>
            <a:ext cx="1749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33"/>
                </a:solidFill>
                <a:latin typeface="Arial"/>
              </a:rPr>
              <a:t>Ваши результа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813744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-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а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изнаков перенапряжения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ереутомления н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-9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Свидетельствует  о том, что имеются сигналы перенапряжения и переутом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нач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ботать над собой, то возмож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роза сры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-14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аллов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щение жизненных сил, высокий риск срыва защитных механизмов. Профессор Аппелс говорит о необходимости для этих людей обратиться к психологу или психотерапев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1:06:37Z</dcterms:created>
  <dc:creator>Psiholog</dc:creator>
  <dc:description/>
  <dc:language>en-US</dc:language>
  <cp:lastModifiedBy>Psiholog</cp:lastModifiedBy>
  <dcterms:modified xsi:type="dcterms:W3CDTF">2010-05-11T07:47:06Z</dcterms:modified>
  <cp:revision>20</cp:revision>
  <dc:subject/>
  <dc:title>Психогигиена труда педаго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