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3.wmf" ContentType="image/x-wmf"/>
  <Override PartName="/ppt/media/image8.jpeg" ContentType="image/jpeg"/>
  <Override PartName="/ppt/media/image30.png" ContentType="image/png"/>
  <Override PartName="/ppt/media/image15.wmf" ContentType="image/x-wmf"/>
  <Override PartName="/ppt/media/image7.png" ContentType="image/png"/>
  <Override PartName="/ppt/media/image32.png" ContentType="image/png"/>
  <Override PartName="/ppt/media/image6.wmf" ContentType="image/x-wmf"/>
  <Override PartName="/ppt/media/image9.gif" ContentType="image/gif"/>
  <Override PartName="/ppt/media/image11.gif" ContentType="image/gif"/>
  <Override PartName="/ppt/media/image27.png" ContentType="image/png"/>
  <Override PartName="/ppt/media/image4.png" ContentType="image/png"/>
  <Override PartName="/ppt/media/image12.wmf" ContentType="image/x-wmf"/>
  <Override PartName="/ppt/media/image28.png" ContentType="image/png"/>
  <Override PartName="/ppt/media/image5.gif" ContentType="image/gif"/>
  <Override PartName="/ppt/media/image3.png" ContentType="image/png"/>
  <Override PartName="/ppt/media/image10.wmf" ContentType="image/x-wmf"/>
  <Override PartName="/ppt/media/image2.gif" ContentType="image/gif"/>
  <Override PartName="/ppt/media/image25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6.gif" ContentType="image/gi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3463-23D5-42ED-92EA-6B91F3874D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9B87-C80F-4E55-BEFE-05AAE93C70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1158840" y="933480"/>
            <a:ext cx="43498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3F79-AF1D-4663-8FFF-90D48AFBA4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158840" y="933480"/>
            <a:ext cx="43480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112D-9738-46FB-BC7E-B10B09D18B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1158840" y="933480"/>
            <a:ext cx="43480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5A18-0199-4E71-B5D8-BBAA3AFAC5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1158840" y="933480"/>
            <a:ext cx="43498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728-38FB-4F34-8981-83CB12C6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30D-928F-483E-942B-9DFE4C7E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C43-60BD-4920-ABA7-1DA3169D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121-62FE-4020-992D-F835A700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C047-A706-4DF6-9C32-5729A77A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6B38-A5B9-49E4-B89A-7D06E746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DD52-DB88-4075-98B1-692357AD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BDD4-FD49-422B-8483-195213A7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DBC8-6F4A-4C2E-A908-2C33A137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3C75-B8AF-4AAE-AE73-42409C81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B4CA-398E-4F60-BAB8-A508B536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89E-C10D-4FF9-B707-656D55DC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D3F0-A98B-4083-AED1-67D3CA16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9B48-4313-4519-818B-9A6ADBDD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4E38-4A25-440D-AD66-230DDEFE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1B07-FD20-426F-9359-269A4D49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8DB8-21F6-4AD1-AE98-2BA86C41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EFB-F0B8-4353-9DE5-B340DAC8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D68-47E0-4A92-A75A-5A5767A1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768-9763-4E9A-8C3A-73EE4BA7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F69-0A6E-4BC7-8C43-E1F28117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CD5-59F9-4861-ADE6-8514C098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466-7762-4030-AE74-7C582BEC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89A-9F4F-400B-B25F-89F4FAFB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E1AB-019F-4081-A744-E82CE17E93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AE0C-CCD0-4DBD-8867-30E6A1F16D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chelpro.ru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ЕМИНАР-ПРАКТИКУМ</a:t>
            </a:r>
            <a:br>
              <a:rPr sz="3600"/>
            </a:br>
            <a:r>
              <a:rPr b="0" lang="ru-RU" sz="4000" spc="-1" strike="noStrike">
                <a:solidFill>
                  <a:srgbClr val="ff0033"/>
                </a:solidFill>
                <a:latin typeface="Arial"/>
              </a:rPr>
              <a:t>Психогигиена труда педагога</a:t>
            </a:r>
            <a:br>
              <a:rPr sz="4000"/>
            </a:br>
            <a:r>
              <a:rPr b="0" lang="ru-RU" sz="2400" spc="-1" strike="noStrike">
                <a:solidFill>
                  <a:srgbClr val="ff0033"/>
                </a:solidFill>
                <a:latin typeface="Arial"/>
              </a:rPr>
              <a:t>(П</a:t>
            </a: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рофессиональное выгорание, эмоциональное выгорание учителя, педагогическое выгорание.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9280" y="342864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о-ориентированное занятие с элементами тренинг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5651640" y="3716280"/>
            <a:ext cx="2736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280" y="503280"/>
            <a:ext cx="626436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, связанные с воздействием сло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20360" y="1887120"/>
            <a:ext cx="8101080" cy="48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09520" algn="just">
              <a:lnSpc>
                <a:spcPct val="95000"/>
              </a:lnSpc>
              <a:spcBef>
                <a:spcPts val="550"/>
              </a:spcBef>
              <a:spcAft>
                <a:spcPts val="1063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ировки самовнушений строятся в виде простых и кратких утверждений, с позитивной направленностью (без частицы «не»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550"/>
              </a:spcBef>
              <a:spcAft>
                <a:spcPts val="1063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риказ — это короткое, отрывистое распоряжение, сделанное самому себе. Применяйте самоприказ, когда убеждены в том, что надо вести себя определенным образом, но испытываете трудности с выполнение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550"/>
              </a:spcBef>
              <a:spcAft>
                <a:spcPts val="1063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добрение (самопоощрение). Люди часто не получают положительной оценки своего поведения со стороны. Особенно в ситуациях повышенных нервно-психических нагрузок — это одна из причин увеличения нервозности, раздражения. Поэтому важно поощрять себя самому.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ходите возможность хвалить себя в течение рабочего дня не менее 3–5 раз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315200" y="26028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0805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Arial"/>
              </a:rPr>
              <a:t>«Самооценка и ревизия убеждения»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549000"/>
            <a:ext cx="7345440" cy="611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1. Одним предложением запишите цель, которую вы хотите достич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ель: 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Укажите на шкал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от 1 до 5, как  вы верите в свою цель по отношению к следующим суждениям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я цель желанна и стоит тог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а цель достижи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, что мне нужно делать, чтобы достичь этой цели, нормально и естествен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меня есть необходимые способности для достижения этой ц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 заслуживаю этой цели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ыберите тот ответ, который вы оценили ниже остальных. Повторите  это предложение 9 раз, каждый раз добавляя очередное суждение из нижеперечисленных и то, что спонтанно появится за ним. Постарайтесь быть искренним и обязательно аргументировано переработайте «всплывшие» сомнения и возражения. Когда вы закончите, проделайте опять самооценку и заметьте, что изменилось и укрепилос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тому что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я ее достигну до того как _________________ 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я ее достигну после того как _________________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а 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сли 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отя и 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ак же как 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любое время 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ак что _______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8690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263160"/>
            <a:ext cx="7802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Упражнение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57360" y="1928520"/>
            <a:ext cx="816264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Встаньте прямо, руки свободно висят вдоль туловищ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Представьте, что к вашему темени прикреплена ниточка, за которую вас не сильно, но уверенно тянут ввер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Позвольте голове последовать за направлением силы натяжения. Понемногу вытягивайте ше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Затем начинайте вытягивать позвоночн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Когда почувствуете, что позвоночник выпрямился, встаньте на цыпо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6"/>
          <a:stretch/>
        </p:blipFill>
        <p:spPr>
          <a:xfrm>
            <a:off x="684360" y="9810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7"/>
          <a:stretch/>
        </p:blipFill>
        <p:spPr>
          <a:xfrm>
            <a:off x="7020000" y="179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8"/>
          <a:stretch/>
        </p:blipFill>
        <p:spPr>
          <a:xfrm>
            <a:off x="1938240" y="720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9"/>
          <a:stretch/>
        </p:blipFill>
        <p:spPr>
          <a:xfrm>
            <a:off x="8058240" y="360360"/>
            <a:ext cx="761760" cy="1066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10"/>
          <a:stretch/>
        </p:blipFill>
        <p:spPr>
          <a:xfrm>
            <a:off x="3240000" y="900000"/>
            <a:ext cx="762120" cy="1067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11"/>
          <a:stretch/>
        </p:blipFill>
        <p:spPr>
          <a:xfrm>
            <a:off x="5040360" y="900000"/>
            <a:ext cx="762120" cy="1067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12"/>
          <a:stretch/>
        </p:blipFill>
        <p:spPr>
          <a:xfrm>
            <a:off x="6659640" y="914400"/>
            <a:ext cx="7617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288720"/>
            <a:ext cx="780264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Физиологическая саморегуляция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57000" y="2060280"/>
            <a:ext cx="78022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09520" indent="0" algn="r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33"/>
                </a:solidFill>
                <a:latin typeface="Times New Roman"/>
              </a:rPr>
              <a:t>«Болезни души неотделимы от болезней тел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just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just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Спутник стресса – это мышечный зажим. Мышечный зажим – остаточное явление напряжения, появившееся из-за отрицательных эмоций и нереализованных жел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just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ctr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«мышечный панцирь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just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Он образуется у людей, не умеющих отдыхать, то есть снимать стрес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762120" cy="100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7740720" y="360360"/>
            <a:ext cx="76176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671400" y="168120"/>
            <a:ext cx="7804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РЕЛАКСАЦ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7812000" y="43848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360360" y="1025640"/>
            <a:ext cx="3240000" cy="239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3246480" y="1440000"/>
            <a:ext cx="2873160" cy="252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4"/>
          <a:stretch/>
        </p:blipFill>
        <p:spPr>
          <a:xfrm>
            <a:off x="5940360" y="1079640"/>
            <a:ext cx="30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5"/>
          <a:stretch/>
        </p:blipFill>
        <p:spPr>
          <a:xfrm>
            <a:off x="5219640" y="3600360"/>
            <a:ext cx="3622680" cy="216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6"/>
          <a:stretch/>
        </p:blipFill>
        <p:spPr>
          <a:xfrm>
            <a:off x="2592360" y="46800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7"/>
          <a:stretch/>
        </p:blipFill>
        <p:spPr>
          <a:xfrm>
            <a:off x="7972560" y="412128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8"/>
          <a:stretch/>
        </p:blipFill>
        <p:spPr>
          <a:xfrm>
            <a:off x="2519280" y="485928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9"/>
          <a:stretch/>
        </p:blipFill>
        <p:spPr>
          <a:xfrm>
            <a:off x="135000" y="3500280"/>
            <a:ext cx="3465360" cy="22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33"/>
                </a:solidFill>
                <a:latin typeface="Arial"/>
              </a:rPr>
              <a:t>Профессиональное выгорание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46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дром, развивающийся на фо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ронического стресса и ведущий 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тощению эмоционально-энергетическ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личностных ресурсов работающего челове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дром профессионального выгорания — самая опасная профессиональная болезнь тех, кто работае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людьми: учителей, социальных работник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сихологов, менеджеров, врачей, журналист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изнесменов и политиков, — всех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ья деятельность невозможна без общения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профессии типа «человек-человек»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48360" y="170028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48360" y="1700280"/>
            <a:ext cx="14400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1116000" y="4005360"/>
          <a:ext cx="152892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005360"/>
                    <a:ext cx="15289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4" descr=""/>
          <p:cNvPicPr/>
          <p:nvPr/>
        </p:nvPicPr>
        <p:blipFill>
          <a:blip r:embed="rId5"/>
          <a:stretch/>
        </p:blipFill>
        <p:spPr>
          <a:xfrm>
            <a:off x="6948360" y="2565360"/>
            <a:ext cx="100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60912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33"/>
                </a:solidFill>
                <a:latin typeface="Arial"/>
              </a:rPr>
              <a:t>эмоциональное выгорание учителя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7667640" y="1341360"/>
            <a:ext cx="1123920" cy="1257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2349000"/>
            <a:ext cx="727236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новной причи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ессионального выгора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необходимость сотрудника проявлять чувство заботы –консультанту о клиенте, врачу о больном, преподавателю об ученике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фессии врача, психолога, учителя и т.д. профессиональное выгорание неизбеж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ий период профессиональ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горания педагога составляет около 5 л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15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Arial"/>
              </a:rPr>
              <a:t>Признаки профессионального выгорания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84000" y="2420640"/>
            <a:ext cx="6659640" cy="403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lvl="1" marL="822960" indent="0" algn="r"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960" indent="-411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моциональное истощение, психологическая выхолоще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960" indent="-411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еперсонализация – это состояние сознания, характеризующееся ощущением отрешенности от мира, в том числе от себ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960" indent="-411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нижение способности помогать окружающим на фоне эмоционального исто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960" indent="0" algn="ctr"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129440" cy="113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Профессиональное выгорани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4149720"/>
            <a:ext cx="1647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188640"/>
            <a:ext cx="80805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33"/>
                </a:solidFill>
                <a:latin typeface="Arial"/>
              </a:rPr>
              <a:t>Степень истощенности Ваших жизненных сил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ьте «Да»; «Нет»; Не знаю» на следующие утверждения: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3995640" cy="4824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19640" y="1628280"/>
            <a:ext cx="3492720" cy="34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9.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лочи раздражают все сильне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0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зически истощен как подсевшая батарей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1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рой кажется, что лучше умере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2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жется, что нет больше си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Настроение подавлен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4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Каждое утро просыпаюсь с чувством усталости и истощ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628640"/>
            <a:ext cx="3600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сто чувствую устал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не трудно  усну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 ночь просыпаюсь несколько р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оянно чувствую слаб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увствую себя в расцвете с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ногое не уд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изнь заводит в туп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 -прежнему половая жизнь приносит удовлетво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300640"/>
            <a:ext cx="8424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5516640"/>
            <a:ext cx="5940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авьте по одному баллу за ответ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Да» на № 1,2,3,4,6,7,9,10,11,12,13,1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Нет» на № 5,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 каждый «Не зна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708360" y="2492280"/>
            <a:ext cx="1368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ЕРВАЯ СТАДИЯ</a:t>
            </a:r>
            <a:r>
              <a:rPr b="0" lang="en-GB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GB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офессионального выгоран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2160" cy="43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Снижение самооц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чезают положительные эмоции, появляется некоторая отстраненность в отношениях с членами семь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зникает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остояние тревожности, неудовлетворенности;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            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звращаясь домой, все чаще хочется сказать: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        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«Не лезьте ко мне, оставьте в покое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следствие, такие «сгоревшие» работники чувствуют беспомощность и апатию. Со временем это может перейти в агрессию и отчаяни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67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ТОРАЯ  СТАДИЯ</a:t>
            </a:r>
            <a:r>
              <a:rPr b="0" lang="en-GB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офессионального выгор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                 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Одиноче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601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•</a:t>
            </a:r>
            <a:r>
              <a:rPr b="1" i="1" lang="en-GB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зникают недоразумения с учениками и родителями,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офессионал в кругу своих коллег начинает с пренебрежением говорить о некоторых из ни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неприязнь начинает постепенно проявляться в присутствии учеников — вначале это с трудом сдерживаемая антипатия, а затем и вспышки раздражения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7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и, страдающие от эмоционального сгорания, не в состоянии установить нормальный контакт с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ми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ь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87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0" y="1700280"/>
            <a:ext cx="14954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122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ТРЕТЬЯ  СТАДИЯ</a:t>
            </a:r>
            <a:r>
              <a:rPr b="0" lang="en-GB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офессионального выгор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Эмоциональное истощение, соматизация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притупляются представления о ценностя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жизни,  человек становится опасно равнодушным ко всему, даже к собственной жиз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глаза теряют блеск интереса к чему бы то ни было, и почти физически ощутимый холод безразличия поселяется в его душ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лость, апатия и депрессия, сопровождающие эмоциональное сгорание, приводят к серьезным физическим недомоганиям — гастриту, мигрени, повышенному артериальному давлению, синдрому хронической усталости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394400" y="1197000"/>
            <a:ext cx="17496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33"/>
                </a:solidFill>
                <a:latin typeface="Arial"/>
              </a:rPr>
              <a:t>Ваши результа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8137440" cy="447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-4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алла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изнаков перенапряжения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ереутомления н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-9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алл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Свидетельствует  о том, что имеются сигналы перенапряжения и переутом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 нача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аботать над собой, то возмож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гроза сры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-14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аллов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тощение жизненных сил, высокий риск срыва защитных механизмов. Профессор Аппелс говорит о необходимости для этих людей обратиться к психологу или психотерапев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1:06:37Z</dcterms:created>
  <dc:creator>Psiholog</dc:creator>
  <dc:description/>
  <dc:language>en-US</dc:language>
  <cp:lastModifiedBy>Psiholog</cp:lastModifiedBy>
  <dcterms:modified xsi:type="dcterms:W3CDTF">2010-05-11T07:47:06Z</dcterms:modified>
  <cp:revision>20</cp:revision>
  <dc:subject/>
  <dc:title>Психогигиена труда педаго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