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653-8D4D-43EB-9A75-F9A19DD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BF0-D9FF-4217-B46A-2DFAD199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9CA-D09E-4EB0-B6D0-35179BB6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CB4-DF7C-48D8-BA95-0A436673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010-709D-43C8-B79F-B6EEB35A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9BF-2467-4C2C-AF58-D21C7ABA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701-3E58-48F5-BE4F-D0270BC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7CD-3265-4331-BF6C-7BEED39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073-116D-4280-8770-AC13C3CB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39B-F22D-4C64-91CC-F9962A2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81F-5B95-489A-8A41-0A97D51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BFD-095F-4E00-84D2-76DF6A8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317-2513-443B-B0E7-5D52F422A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n-za-dnem.ru/page.php?article=85(&#1074;&#1090;&#1086;&#1088;&#1086;&#1081;" TargetMode="External"/><Relationship Id="rId2" Type="http://schemas.openxmlformats.org/officeDocument/2006/relationships/hyperlink" Target="http://www.den-za-dnem.ru/page.php?article=85(&#1074;&#1090;&#1086;&#1088;&#1086;&#1081;" TargetMode="External"/><Relationship Id="rId3" Type="http://schemas.openxmlformats.org/officeDocument/2006/relationships/hyperlink" Target="http://www.den-za-dnem.ru/page.php?article=85(&#1074;&#1090;&#1086;&#1088;&#1086;&#1081;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ышления о написании 8-го раздела основной образовательной программы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екция районной конфе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6 января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ление интеллектуальной (академической)  одар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ециальные наблю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окая учебная мотиваци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быстро схватывать смысл понятий, принцип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задавать интересные вопросы, выдвигать  гипотезы, предложить необычные способы действ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пособность  высказать свое  собственное мнени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бования ФГОС Н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ировать развитие самостоятельности, инициативы, твор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ять детям возможность совершенствовать свои способности в совместной работе в одноклассниками и с уч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омендуемые приемы и метод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блюдение правил «оценочной безопасности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е у детей эмоциональной грамот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хнологии субъект- субъектного взаимодействия в учебной деятель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флексивная деятельность на уроке самих учащих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детскому творчеств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материальных и информационных услов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чины школьны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уд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Diagram 2"/>
          <p:cNvGrpSpPr/>
          <p:nvPr/>
        </p:nvGrpSpPr>
        <p:grpSpPr>
          <a:xfrm>
            <a:off x="1289520" y="2057400"/>
            <a:ext cx="6647040" cy="1698120"/>
            <a:chOff x="1289520" y="2057400"/>
            <a:chExt cx="6647040" cy="1698120"/>
          </a:xfrm>
        </p:grpSpPr>
        <p:sp>
          <p:nvSpPr>
            <p:cNvPr id="83" name="_s1028"/>
            <p:cNvSpPr/>
            <p:nvPr/>
          </p:nvSpPr>
          <p:spPr>
            <a:xfrm>
              <a:off x="4413600" y="2057400"/>
              <a:ext cx="1677240" cy="16981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6259320" y="2694960"/>
              <a:ext cx="1677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1030"/>
            <p:cNvSpPr/>
            <p:nvPr/>
          </p:nvSpPr>
          <p:spPr>
            <a:xfrm>
              <a:off x="3135600" y="2057400"/>
              <a:ext cx="1677240" cy="16981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_s1031"/>
            <p:cNvSpPr/>
            <p:nvPr/>
          </p:nvSpPr>
          <p:spPr>
            <a:xfrm>
              <a:off x="1289520" y="2694960"/>
              <a:ext cx="1677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ологическ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индивидуально-коррекционной работы в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она нужна?  (ц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детей нуждается в такой поддерж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задач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может выражать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аправл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мощи кого? (чего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редст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в развитии личности – проявление потенциальных возможностей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Один в поле  - не воин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8 раздел ООП ноо - программа действий всех субъектов образовательного процесса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 администрации до  обучающихся и их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едоносность неадекватных педагогических дейст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дагогический всеобуч для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лечение службы ППМ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одаренными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даренность – системное, развивающееся в течение жизни качество психики, которое определя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достижения человеком более высоких (необычных, незаурядных) результатов в одном или нескольких видах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сравнению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 другими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цепция одар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торой рабочий вариант РА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den-za-dnem.ru/page.php?article=8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и учебной работы с одаренными детьми в О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дифференциации на основе селе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дифференциации на основе элективной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корения       стратегия обогащ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качественного изменения традиционного матери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образовательного пространства 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ое разнообразие представленных детям возможностей самореализаци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растание роли внеурочной деятель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изация и дифференциация обуч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для совместной работы обучающихся при минимальном участии взрослых (учителя, родителей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вобода выбора обучающегося (места получения  и профиля дополнительного образования, меры помощи в освоении дополнительных програм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500040" y="285840"/>
            <a:ext cx="8143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ом выявлению одаренности любого вида  будет способствовать разнообразная жизнь ученика во всех её проявлениях, организованная в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осуществления дополнительного образования – занятия (кружковые, факультативные, клубные...), каникулярные сборы, мастер-классы, творческие лаборатории; проектная деятельность в индивидуальном или  групповом режиме (с минимальным влиянием педагога на выбор содержания и продукта проект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о-педагогический мониторин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блю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ования психометрических методи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дивидуальных бесед с ребен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зависимая экспертиза продуктов деятельности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 продуктов ученического портфоли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чем?- не для идентификации способностей, а для оказания индивидуальной психолого-педагогической помощи (выявить сильные и слабые стороны в развитии личност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14:57Z</dcterms:created>
  <dc:creator>DOM</dc:creator>
  <dc:description/>
  <dc:language>en-US</dc:language>
  <cp:lastModifiedBy>school667</cp:lastModifiedBy>
  <dcterms:modified xsi:type="dcterms:W3CDTF">2011-01-26T13:47:32Z</dcterms:modified>
  <cp:revision>1</cp:revision>
  <dc:subject/>
  <dc:title>Размышления о написании 8-го раздела основной образовательной программы ОУ</dc:title>
</cp:coreProperties>
</file>