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C23-7B1C-4349-9A8A-8F46E45C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0AE-4915-41F7-B435-D1BB578D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EA6-1EB2-4771-B939-610A37B7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4E2E-DD2C-41D7-ADDA-2B6A9020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2600-F126-4617-93EF-3DA503E0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264-F384-4A52-9D71-61343EAB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758-A8AA-4977-8EC2-616AE06A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2326-4ED3-4B48-88CA-F4CA322A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E97-6D6E-4E47-932C-5C574ACF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8D9-543C-46CD-8348-F0D7D528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601-CEA2-47A4-942C-8BA27B7B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15A-F695-45DB-AE91-A0304745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01BD-7A78-42CC-B254-7A78ADB0D8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en-za-dnem.ru/page.php?article=85(&#1074;&#1090;&#1086;&#1088;&#1086;&#1081;" TargetMode="External"/><Relationship Id="rId2" Type="http://schemas.openxmlformats.org/officeDocument/2006/relationships/hyperlink" Target="http://www.den-za-dnem.ru/page.php?article=85(&#1074;&#1090;&#1086;&#1088;&#1086;&#1081;" TargetMode="External"/><Relationship Id="rId3" Type="http://schemas.openxmlformats.org/officeDocument/2006/relationships/hyperlink" Target="http://www.den-za-dnem.ru/page.php?article=85(&#1074;&#1090;&#1086;&#1088;&#1086;&#1081;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мышления о написании 8-го раздела основной образовательной программы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екция районной конферен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26 января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явление интеллектуальной (академической)  одарен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пециальные наблюде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сокая учебная мотивация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пособность быстро схватывать смысл понятий, принцип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пособность задавать интересные вопросы, выдвигать  гипотезы, предложить необычные способы действий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пособность  высказать свое  собственное мнение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бования ФГОС Н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мулировать развитие самостоятельности, инициативы, творче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оставлять детям возможность совершенствовать свои способности в совместной работе в одноклассниками и с учителе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омендуемые приемы и методик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блюдение правил «оценочной безопасности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рмирование у детей эмоциональной грамот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хнологии субъект- субъектного взаимодействия в учебной деятель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флексивная деятельность на уроке самих учащихс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м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m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детскому творчеству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здание материальных и информационных условий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чины школьных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удн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Diagram 2"/>
          <p:cNvGrpSpPr/>
          <p:nvPr/>
        </p:nvGrpSpPr>
        <p:grpSpPr>
          <a:xfrm>
            <a:off x="1289520" y="2057400"/>
            <a:ext cx="6647040" cy="1698120"/>
            <a:chOff x="1289520" y="2057400"/>
            <a:chExt cx="6647040" cy="1698120"/>
          </a:xfrm>
        </p:grpSpPr>
        <p:sp>
          <p:nvSpPr>
            <p:cNvPr id="83" name="_s1028"/>
            <p:cNvSpPr/>
            <p:nvPr/>
          </p:nvSpPr>
          <p:spPr>
            <a:xfrm>
              <a:off x="4413600" y="2057400"/>
              <a:ext cx="1677240" cy="169812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_s1029"/>
            <p:cNvSpPr/>
            <p:nvPr/>
          </p:nvSpPr>
          <p:spPr>
            <a:xfrm>
              <a:off x="6259320" y="2694960"/>
              <a:ext cx="1677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оциальны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_s1030"/>
            <p:cNvSpPr/>
            <p:nvPr/>
          </p:nvSpPr>
          <p:spPr>
            <a:xfrm>
              <a:off x="3135600" y="2057400"/>
              <a:ext cx="1677240" cy="169812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_s1031"/>
            <p:cNvSpPr/>
            <p:nvPr/>
          </p:nvSpPr>
          <p:spPr>
            <a:xfrm>
              <a:off x="1289520" y="2694960"/>
              <a:ext cx="1677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ологически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стема индивидуально-коррекционной работы в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она нужна?  (цел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из детей нуждается в такой поддерж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задач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ем может выражать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направле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мощи кого? (чего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редст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357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и в развитии личности – проявление потенциальных возможностей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Один в поле  - не воин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8 раздел ООП ноо - программа действий всех субъектов образовательного процесса 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 администрации до  обучающихся и их родите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едоносность неадекватных педагогических действ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дагогический всеобуч для родите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влечение службы ППМ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одаренными деть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даренность – системное, развивающееся в течение жизни качество психики, которое определяет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озможнос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достижения человеком более высоких (необычных, незаурядных) результатов в одном или нескольких видах деятельност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 сравнению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с другими людь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цепция одар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торой рабочий вариант РАО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den-za-dnem.ru/page.php?article=8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и учебной работы с одаренными детьми в О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тегия дифференциации на основе селе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тегия дифференциации на основе элективной мод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тегия ускорения       стратегия обогащ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тегия качественного изменения традиционного материа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нципы организаци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образовательного пространства в шко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ксимальное разнообразие представленных детям возможностей самореализации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зрастание роли внеурочной деятельност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дивидуализация и дифференциация обуче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здание условий для совместной работы обучающихся при минимальном участии взрослых (учителя, родителей)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вобода выбора обучающегося (места получения  и профиля дополнительного образования, меры помощи в освоении дополнительных программ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500040" y="285840"/>
            <a:ext cx="8143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целом выявлению одаренности любого вида  будет способствовать разнообразная жизнь ученика во всех её проявлениях, организованная в образовательном учрежде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ы осуществления дополнительного образования – занятия (кружковые, факультативные, клубные...), каникулярные сборы, мастер-классы, творческие лаборатории; проектная деятельность в индивидуальном или  групповом режиме (с минимальным влиянием педагога на выбор содержания и продукта проекта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сихолого-педагогический мониторин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блюде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пользования психометрических методи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дивидуальных бесед с ребенк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зависимая экспертиза продуктов деятельности дет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нализ продуктов ученического портфоли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чем?- не для идентификации способностей, а для оказания индивидуальной психолого-педагогической помощи (выявить сильные и слабые стороны в развитии личност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9:14:57Z</dcterms:created>
  <dc:creator>DOM</dc:creator>
  <dc:description/>
  <dc:language>en-US</dc:language>
  <cp:lastModifiedBy>school667</cp:lastModifiedBy>
  <dcterms:modified xsi:type="dcterms:W3CDTF">2011-01-26T13:47:32Z</dcterms:modified>
  <cp:revision>1</cp:revision>
  <dc:subject/>
  <dc:title>Размышления о написании 8-го раздела основной образовательной программы ОУ</dc:title>
</cp:coreProperties>
</file>