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FD4-CB2B-41D8-97E0-A9C6D95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3E7-5F65-4F38-B6C9-84BF9CB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2DD-6D20-46DC-8C58-BEC537E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300-C8E0-40B5-9DF6-5B9FDCCE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536-B091-40A5-BE2B-D5D85FD4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5A0-819A-45C9-B27B-765C26C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E5E-CBC0-44DE-AE57-9374043C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7A1-BA21-402A-8D50-1BDF0D0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F3F-CCA5-407D-82E3-84E6474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3DB-8758-449A-BBC4-B6EB37C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A1B-07C7-4829-8A50-9891455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26D-14B3-42CC-A191-1674F73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5AE-DDBA-4106-A484-5761D4CE8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n-za-dnem.ru/page.php?article=85(&#1074;&#1090;&#1086;&#1088;&#1086;&#1081;" TargetMode="External"/><Relationship Id="rId2" Type="http://schemas.openxmlformats.org/officeDocument/2006/relationships/hyperlink" Target="http://www.den-za-dnem.ru/page.php?article=85(&#1074;&#1090;&#1086;&#1088;&#1086;&#1081;" TargetMode="External"/><Relationship Id="rId3" Type="http://schemas.openxmlformats.org/officeDocument/2006/relationships/hyperlink" Target="http://www.den-za-dnem.ru/page.php?article=85(&#1074;&#1090;&#1086;&#1088;&#1086;&#1081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ышления о написании 8-го раздела основной образовательной программы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екция районной 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6 января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ление интеллектуальной (академической)  одар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ециальные 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окая учебная мотиваци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быстро схватывать смысл понятий, принцип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задавать интересные вопросы, выдвигать  гипотезы, предложить необычные способы действ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 высказать свое  собственное мнени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бования ФГОС Н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ировать развитие самостоятельности, инициативы, твор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ять детям возможность совершенствовать свои способности в совместной работе в одноклассниками и с уч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омендуемые приемы и метод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ение правил «оценочной безопасности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у детей эмоциональной грамот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хнологии субъект- субъектного взаимодействия в учебной деятель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флексивная деятельность на уроке самих учащих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етскому творчеств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материальных и информационных услов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чины школьны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уд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Diagram 2"/>
          <p:cNvGrpSpPr/>
          <p:nvPr/>
        </p:nvGrpSpPr>
        <p:grpSpPr>
          <a:xfrm>
            <a:off x="1289520" y="2057400"/>
            <a:ext cx="6647040" cy="1698120"/>
            <a:chOff x="1289520" y="2057400"/>
            <a:chExt cx="6647040" cy="1698120"/>
          </a:xfrm>
        </p:grpSpPr>
        <p:sp>
          <p:nvSpPr>
            <p:cNvPr id="83" name="_s1028"/>
            <p:cNvSpPr/>
            <p:nvPr/>
          </p:nvSpPr>
          <p:spPr>
            <a:xfrm>
              <a:off x="4413600" y="2057400"/>
              <a:ext cx="1677240" cy="16981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62593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1030"/>
            <p:cNvSpPr/>
            <p:nvPr/>
          </p:nvSpPr>
          <p:spPr>
            <a:xfrm>
              <a:off x="3135600" y="2057400"/>
              <a:ext cx="1677240" cy="16981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_s1031"/>
            <p:cNvSpPr/>
            <p:nvPr/>
          </p:nvSpPr>
          <p:spPr>
            <a:xfrm>
              <a:off x="12895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индивидуально-коррекционной работы в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она нужна?  (ц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детей нуждается в такой поддерж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адач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может выражать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правл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кого? (чего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редст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в развитии личности – проявление потенциальных возможностей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Один в поле  - не воин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 раздел ООП ноо - программа действий всех субъектов образовательного процесса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администрации до  обучающихся и их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едоносность неадекватных педагогически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дагогический всеобуч для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чение службы ППМ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одаренными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даренность – системное, развивающееся в течение жизни качество психики, которое определя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стижения человеком более высоких (необычных, незаурядных) результатов в одном или нескольких видах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сравнению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 другими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цепция одар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торой рабочий вариант РА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den-za-dnem.ru/page.php?article=8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и учебной работы с одаренными детьми в О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селе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элективной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корения       стратегия обогащ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качественного изменения традиционного матери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образовательного пространства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ое разнообразие представленных детям возможностей самореализаци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растание роли внеурочной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изация и дифференциация обуч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для совместной работы обучающихся при минимальном участии взрослых (учителя, родителей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вобода выбора обучающегося (места получения  и профиля дополнительного образования, меры помощи в освоении дополнительных програм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500040" y="285840"/>
            <a:ext cx="814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ом выявлению одаренности любого вида  будет способствовать разнообразная жизнь ученика во всех её проявлениях, организованная в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осуществления дополнительного образования – занятия (кружковые, факультативные, клубные...), каникулярные сборы, мастер-классы, творческие лаборатории; проектная деятельность в индивидуальном или  групповом режиме (с минимальным влиянием педагога на выбор содержания и продукта проект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о-педагогический мониторин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ования психометрических метод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дивидуальных бесед с ребен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зависимая экспертиза продуктов деятельности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продуктов ученического портфоли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чем?- не для идентификации способностей, а для оказания индивидуальной психолого-педагогической помощи (выявить сильные и слабые стороны в развитии личност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14:57Z</dcterms:created>
  <dc:creator>DOM</dc:creator>
  <dc:description/>
  <dc:language>en-US</dc:language>
  <cp:lastModifiedBy>school667</cp:lastModifiedBy>
  <dcterms:modified xsi:type="dcterms:W3CDTF">2011-01-26T13:47:32Z</dcterms:modified>
  <cp:revision>1</cp:revision>
  <dc:subject/>
  <dc:title>Размышления о написании 8-го раздела основной образовательной программы ОУ</dc:title>
</cp:coreProperties>
</file>