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D01A-2D6E-4AD3-9144-407205D8C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E0E5-34D5-47CE-9C49-217A140EA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F742-3581-45BC-90EA-F662C0F0B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E71D-728D-4F41-A75E-534974BC6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3801B-EBF0-43BA-92B2-9BCD292CD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8BFB0-A8BB-498D-97F3-A5F281D9D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71B4A-FFA3-4908-A023-005D2170D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F327A-E0EC-4C71-99EF-ECDF3AB74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21663-250B-4C7C-950A-58490B466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90101-ADF1-4D64-B477-6D7F54A25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04CCA-2AC7-4219-B4D7-FAA2D7E27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76DA-2E40-473D-A962-93415E2DD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47B1E-BBC8-41EB-A83A-1914FB504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E0B39-99B9-46E8-A6EE-44F04422D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277E1-D902-408A-961C-30E259386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F9430-084E-435F-A31A-E0693BC7B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14BCE-4755-4514-B5FA-D444CCC85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57A7-F993-4D07-B3A1-49F13DDDF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CC2E-D74E-4939-9F90-4EFED1C03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63E0-835D-413A-986B-65166EA03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BCBC-7171-405A-9883-B00D9BB45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A29F-258B-4333-BC1D-475B70228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A7F9-E7C2-4D44-854D-8142CBC94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4581-393C-495D-A970-B792D7FF1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1B7ED-EEA9-4990-82F1-FCD7D0E9FF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4A44A-E8E4-4C12-9935-FA579D5BD6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752480"/>
            <a:ext cx="84582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a26d18"/>
                </a:solidFill>
                <a:latin typeface="Times New Roman"/>
              </a:rPr>
              <a:t>Деятельность социального педагога</a:t>
            </a:r>
            <a:endParaRPr b="1" lang="en-US" sz="72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Отчётность классного руководителя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тчёт классного руководителя за прошедшую четверть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даётся по окончании четверти и является доказательством работы классного руководителя с проблемными детьми. Является основанием для обращения за помощью к социальному педагогу и психологу, для постановки учащегося на ВШУ. В случае обращения в вышестоящие инстанции становится показателем проделанной работ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Уважаемые классные руководители!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т качества нашей с Вами совместной работы с социально незащищёнными категориями зависит  успеваемость детей, атмосфера в классах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Все проблемы детей возникают в семье. Вовремя выявить проблему и попытаться решить её – основная задача работы и классного руководителя, и социального педагог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ДАВАЙТЕ ЖИТЬ ДРУЖНО!!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26d18"/>
                </a:solidFill>
                <a:latin typeface="Times New Roman"/>
              </a:rPr>
              <a:t>Сфера деятельности социального педагога</a:t>
            </a:r>
            <a:endParaRPr b="1" lang="en-US" sz="3200" spc="-1" strike="noStrike">
              <a:solidFill>
                <a:srgbClr val="a26d18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380520" y="1219320"/>
            <a:ext cx="8382240" cy="5181120"/>
            <a:chOff x="380520" y="1219320"/>
            <a:chExt cx="8382240" cy="5181120"/>
          </a:xfrm>
        </p:grpSpPr>
        <p:sp>
          <p:nvSpPr>
            <p:cNvPr id="124" name="_s5140"/>
            <p:cNvSpPr/>
            <p:nvPr/>
          </p:nvSpPr>
          <p:spPr>
            <a:xfrm flipH="1" flipV="1">
              <a:off x="3393720" y="3140640"/>
              <a:ext cx="514800" cy="316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_s5139"/>
            <p:cNvSpPr/>
            <p:nvPr/>
          </p:nvSpPr>
          <p:spPr>
            <a:xfrm>
              <a:off x="533880" y="2208960"/>
              <a:ext cx="3009600" cy="1257480"/>
            </a:xfrm>
            <a:prstGeom prst="ellipse">
              <a:avLst/>
            </a:pr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из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многодетных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семе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_s5138"/>
            <p:cNvSpPr/>
            <p:nvPr/>
          </p:nvSpPr>
          <p:spPr>
            <a:xfrm flipH="1">
              <a:off x="3393720" y="4084200"/>
              <a:ext cx="514800" cy="314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_s5137"/>
            <p:cNvSpPr/>
            <p:nvPr/>
          </p:nvSpPr>
          <p:spPr>
            <a:xfrm>
              <a:off x="380520" y="3809160"/>
              <a:ext cx="3009600" cy="1446120"/>
            </a:xfrm>
            <a:prstGeom prst="ellipse">
              <a:avLst/>
            </a:pr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из социальн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опасных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семе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_s5136"/>
            <p:cNvSpPr/>
            <p:nvPr/>
          </p:nvSpPr>
          <p:spPr>
            <a:xfrm>
              <a:off x="4420080" y="4396680"/>
              <a:ext cx="0" cy="63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_s5135"/>
            <p:cNvSpPr/>
            <p:nvPr/>
          </p:nvSpPr>
          <p:spPr>
            <a:xfrm>
              <a:off x="2743200" y="5029200"/>
              <a:ext cx="3505320" cy="1371240"/>
            </a:xfrm>
            <a:prstGeom prst="ellipse">
              <a:avLst/>
            </a:pr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из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малообеспеченных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семе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_s5134"/>
            <p:cNvSpPr/>
            <p:nvPr/>
          </p:nvSpPr>
          <p:spPr>
            <a:xfrm>
              <a:off x="4931640" y="4084200"/>
              <a:ext cx="514440" cy="314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_s5133"/>
            <p:cNvSpPr/>
            <p:nvPr/>
          </p:nvSpPr>
          <p:spPr>
            <a:xfrm>
              <a:off x="5409360" y="3886200"/>
              <a:ext cx="3353400" cy="1257120"/>
            </a:xfrm>
            <a:prstGeom prst="ellipse">
              <a:avLst/>
            </a:pr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оставшиеся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без попечения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родителе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_s5132"/>
            <p:cNvSpPr/>
            <p:nvPr/>
          </p:nvSpPr>
          <p:spPr>
            <a:xfrm flipV="1">
              <a:off x="4931640" y="3140640"/>
              <a:ext cx="514440" cy="316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_s5131"/>
            <p:cNvSpPr/>
            <p:nvPr/>
          </p:nvSpPr>
          <p:spPr>
            <a:xfrm>
              <a:off x="5333400" y="2285640"/>
              <a:ext cx="3124080" cy="1257480"/>
            </a:xfrm>
            <a:prstGeom prst="ellipse">
              <a:avLst/>
            </a:pr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находящиес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на учёт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_s5130"/>
            <p:cNvSpPr/>
            <p:nvPr/>
          </p:nvSpPr>
          <p:spPr>
            <a:xfrm flipV="1">
              <a:off x="4420080" y="2512080"/>
              <a:ext cx="0" cy="63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_s5129"/>
            <p:cNvSpPr/>
            <p:nvPr/>
          </p:nvSpPr>
          <p:spPr>
            <a:xfrm>
              <a:off x="3351240" y="1219320"/>
              <a:ext cx="2214720" cy="1257120"/>
            </a:xfrm>
            <a:prstGeom prst="ellipse">
              <a:avLst/>
            </a:pr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«групп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риска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_s5128"/>
            <p:cNvSpPr/>
            <p:nvPr/>
          </p:nvSpPr>
          <p:spPr>
            <a:xfrm>
              <a:off x="3809880" y="3124440"/>
              <a:ext cx="1184400" cy="1257120"/>
            </a:xfrm>
            <a:prstGeom prst="ellipse">
              <a:avLst/>
            </a:pr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ДЕТ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a26d18"/>
                </a:solidFill>
                <a:latin typeface="Times New Roman"/>
              </a:rPr>
              <a:t>Цель работы:</a:t>
            </a:r>
            <a:endParaRPr b="1" lang="en-US" sz="72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6840" y="2361960"/>
            <a:ext cx="84582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помощь детям, попавшим в трудную жизненную ситуацию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Задачи: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0000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рофилактика правонарушений, преступлений, употребления ПАВ несовершеннолетним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0000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Выявление социального неблагополучия, фактов насилия над несовершеннолетним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0000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Индивидуально-профилактическая работ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0000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онтроль успеваемости и посещаемост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Взаимодействие внутри ОУ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2180880" y="1371240"/>
            <a:ext cx="4704840" cy="4952520"/>
            <a:chOff x="2180880" y="1371240"/>
            <a:chExt cx="4704840" cy="4952520"/>
          </a:xfrm>
        </p:grpSpPr>
        <p:sp>
          <p:nvSpPr>
            <p:cNvPr id="143" name="_s12296"/>
            <p:cNvSpPr/>
            <p:nvPr/>
          </p:nvSpPr>
          <p:spPr>
            <a:xfrm flipV="1">
              <a:off x="3945960" y="1370880"/>
              <a:ext cx="1175400" cy="1236600"/>
            </a:xfrm>
            <a:custGeom>
              <a:avLst/>
              <a:gdLst>
                <a:gd name="textAreaLeft" fmla="*/ 421560 w 1175400"/>
                <a:gd name="textAreaRight" fmla="*/ 753840 w 1175400"/>
                <a:gd name="textAreaTop" fmla="*/ 443520 h 1236600"/>
                <a:gd name="textAreaBottom" fmla="*/ 793080 h 1236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ffd05b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Учитель-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предметник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_s12299"/>
            <p:cNvSpPr/>
            <p:nvPr/>
          </p:nvSpPr>
          <p:spPr>
            <a:xfrm flipV="1">
              <a:off x="3358440" y="2608560"/>
              <a:ext cx="2350440" cy="1239120"/>
            </a:xfrm>
            <a:custGeom>
              <a:avLst/>
              <a:gdLst>
                <a:gd name="textAreaLeft" fmla="*/ 516600 w 2350440"/>
                <a:gd name="textAreaRight" fmla="*/ 1833840 w 2350440"/>
                <a:gd name="textAreaTop" fmla="*/ 272520 h 1239120"/>
                <a:gd name="textAreaBottom" fmla="*/ 966600 h 1239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d05b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Классны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руководител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_s12297"/>
            <p:cNvSpPr/>
            <p:nvPr/>
          </p:nvSpPr>
          <p:spPr>
            <a:xfrm flipV="1">
              <a:off x="2768760" y="3846960"/>
              <a:ext cx="3529440" cy="1236600"/>
            </a:xfrm>
            <a:custGeom>
              <a:avLst/>
              <a:gdLst>
                <a:gd name="textAreaLeft" fmla="*/ 612720 w 3529440"/>
                <a:gd name="textAreaRight" fmla="*/ 2916720 w 3529440"/>
                <a:gd name="textAreaTop" fmla="*/ 214560 h 1236600"/>
                <a:gd name="textAreaBottom" fmla="*/ 1022040 h 1236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ffd05b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Социальны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педагог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_s12298"/>
            <p:cNvSpPr/>
            <p:nvPr/>
          </p:nvSpPr>
          <p:spPr>
            <a:xfrm flipV="1">
              <a:off x="2180880" y="5084640"/>
              <a:ext cx="4704840" cy="1239120"/>
            </a:xfrm>
            <a:custGeom>
              <a:avLst/>
              <a:gdLst>
                <a:gd name="textAreaLeft" fmla="*/ 707760 w 4704840"/>
                <a:gd name="textAreaRight" fmla="*/ 3997080 w 4704840"/>
                <a:gd name="textAreaTop" fmla="*/ 186480 h 1239120"/>
                <a:gd name="textAreaBottom" fmla="*/ 1052640 h 1239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ffd05b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Совет по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профилактик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Субъекты взаимодействия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2245320" y="1259280"/>
            <a:ext cx="4652640" cy="5401440"/>
            <a:chOff x="2245320" y="1259280"/>
            <a:chExt cx="4652640" cy="5401440"/>
          </a:xfrm>
        </p:grpSpPr>
        <p:sp>
          <p:nvSpPr>
            <p:cNvPr id="149" name="_s10250"/>
            <p:cNvSpPr/>
            <p:nvPr/>
          </p:nvSpPr>
          <p:spPr>
            <a:xfrm flipV="1">
              <a:off x="4572000" y="2610000"/>
              <a:ext cx="0" cy="676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_s10249"/>
            <p:cNvSpPr/>
            <p:nvPr/>
          </p:nvSpPr>
          <p:spPr>
            <a:xfrm>
              <a:off x="3925440" y="1259280"/>
              <a:ext cx="1292760" cy="1350360"/>
            </a:xfrm>
            <a:prstGeom prst="ellipse">
              <a:avLst/>
            </a:pr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ОД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_s10260"/>
            <p:cNvSpPr/>
            <p:nvPr/>
          </p:nvSpPr>
          <p:spPr>
            <a:xfrm flipV="1">
              <a:off x="5129640" y="3284640"/>
              <a:ext cx="561960" cy="33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_s10259"/>
            <p:cNvSpPr/>
            <p:nvPr/>
          </p:nvSpPr>
          <p:spPr>
            <a:xfrm>
              <a:off x="5605200" y="2272320"/>
              <a:ext cx="1292760" cy="1350000"/>
            </a:xfrm>
            <a:prstGeom prst="ellipse">
              <a:avLst/>
            </a:pr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Органы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социальной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защит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_s10256"/>
            <p:cNvSpPr/>
            <p:nvPr/>
          </p:nvSpPr>
          <p:spPr>
            <a:xfrm>
              <a:off x="5129640" y="4297680"/>
              <a:ext cx="561960" cy="337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_s10255"/>
            <p:cNvSpPr/>
            <p:nvPr/>
          </p:nvSpPr>
          <p:spPr>
            <a:xfrm>
              <a:off x="5605200" y="4297680"/>
              <a:ext cx="1292760" cy="1350000"/>
            </a:xfrm>
            <a:prstGeom prst="ellipse">
              <a:avLst/>
            </a:pr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Комитет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по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образованию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_s10254"/>
            <p:cNvSpPr/>
            <p:nvPr/>
          </p:nvSpPr>
          <p:spPr>
            <a:xfrm>
              <a:off x="4572000" y="4633200"/>
              <a:ext cx="0" cy="676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_s10253"/>
            <p:cNvSpPr/>
            <p:nvPr/>
          </p:nvSpPr>
          <p:spPr>
            <a:xfrm>
              <a:off x="3925440" y="5310360"/>
              <a:ext cx="1292760" cy="1350360"/>
            </a:xfrm>
            <a:prstGeom prst="ellipse">
              <a:avLst/>
            </a:pr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РКЦТ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«Семья»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_s10252"/>
            <p:cNvSpPr/>
            <p:nvPr/>
          </p:nvSpPr>
          <p:spPr>
            <a:xfrm flipH="1">
              <a:off x="3451680" y="4297680"/>
              <a:ext cx="561960" cy="337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_s10251"/>
            <p:cNvSpPr/>
            <p:nvPr/>
          </p:nvSpPr>
          <p:spPr>
            <a:xfrm>
              <a:off x="2245320" y="4297680"/>
              <a:ext cx="1292760" cy="1350000"/>
            </a:xfrm>
            <a:prstGeom prst="ellipse">
              <a:avLst/>
            </a:pr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КДН и ЗП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_s10258"/>
            <p:cNvSpPr/>
            <p:nvPr/>
          </p:nvSpPr>
          <p:spPr>
            <a:xfrm flipH="1" flipV="1">
              <a:off x="3451680" y="3284640"/>
              <a:ext cx="561960" cy="33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_s10257"/>
            <p:cNvSpPr/>
            <p:nvPr/>
          </p:nvSpPr>
          <p:spPr>
            <a:xfrm>
              <a:off x="2245320" y="2272320"/>
              <a:ext cx="1292760" cy="1350000"/>
            </a:xfrm>
            <a:prstGeom prst="ellipse">
              <a:avLst/>
            </a:pr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Отдел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опеки и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попечительств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_s10248"/>
            <p:cNvSpPr/>
            <p:nvPr/>
          </p:nvSpPr>
          <p:spPr>
            <a:xfrm>
              <a:off x="3925440" y="3287160"/>
              <a:ext cx="1292760" cy="1350000"/>
            </a:xfrm>
            <a:prstGeom prst="ellipse">
              <a:avLst/>
            </a:pr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МОУ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«СОШ № 4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Способы взаимодействия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ДН – сверки, отчёты по ИПР, межведомственные профилактические операции и консультац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рганы социальной защиты – сообщения о вновь выявленных случаях социального неблагополучия, оздоровление детей из социально незащищённых семе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омитет по образованию – отчёты по ИПР, Всеобучу, правонарушениям, посещаемост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КЦТ «Семья» - совместная работа по реабилитации детей, попавших в трудную жизненную ситуацию, межведомственные профилактические операции и консультац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ДН и ЗП - сверки, отчёты по ИПР, межведомственные профилактические операции и консультации, сообщения о фактах правонарушений, характеристик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Отчётность классного руководителя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писки учащихся, не приступивших к занятиям после летних и зимних каникул 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дважды в год в течение недел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писки учащихся, не посещающих учебные занятия без уважительной причины либо по болезни 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ежемесячно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писки учащихся, не явившихся на занятия с указанием точной причины 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ежедневно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анные отчёты обязательны, имеют жёсткий срок исполнения, так как являются основой для отчётов перед Комитетом по образованию и предписаны Федеральным законом № 120 – ФЗ, Приказом Комитета по образованию администрации Каширского муниципального района № 70 от 13.02.2009, Приказом по школ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№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56 от 1.09.201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Отчётность классного руководителя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оциальные паспорта класс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Характеристики учащихся, окончивших начальную школ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Индивидуальные анкеты учащихс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Данные отчёты обязательны к исполнению. Особого внимания заслуживает корректность их составления, так как на основе этих данных ведётся работа социального педагога по оздоровлению несовершеннолетних, взаимодействие с органами опеки, Комитетом по образованию и прочими инстанциями, составляется отчётность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3T17:39:41Z</dcterms:created>
  <dc:creator>Женя</dc:creator>
  <dc:description/>
  <dc:language>en-US</dc:language>
  <cp:lastModifiedBy>User1</cp:lastModifiedBy>
  <dcterms:modified xsi:type="dcterms:W3CDTF">2011-03-28T07:24:35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