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224-776E-4569-A915-148A1356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600-CE00-42DA-B244-DA0AB5DF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D31-B10F-474B-A85C-5E4F113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82A-48F0-48B7-82D9-CD42859E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7DCE-048A-4627-B355-1B615874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40FA-A1C5-41C8-8A06-784703B1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9B52-0233-44D8-8C3E-FB006B0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8B6A-53E8-4E00-BFAF-1A0E8549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CD35-30D8-4EDF-B0B1-4272D00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0AB8-B78F-49BF-B3FA-3E88C01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F57-1BFF-4DA1-8727-F64BE875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B39-AD02-4C69-9F58-76B2DB77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4323-5993-4E13-8B94-EEB6EC4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D50-9F8D-40B0-8988-19DDD21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38A4-BA35-4182-88EB-0960C732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7A3-0407-4C3C-A6FC-602D182B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DA45-2E28-414B-BBC3-E1250BE6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EAE-0E21-441E-A032-991D6C71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724-6BF1-480C-9266-3941CC8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88C-94B0-4E6F-9FEF-93635969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BE6-B53A-467F-AA5E-651B239A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1F7-891D-4E95-BF85-89EC889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727-71B7-4039-BBB4-FDA2DF7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64E-9FBE-4060-8C67-829110E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8628-F489-4243-A15C-761D572A8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5577-AC1B-429F-B622-95263369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Деятельность социального педагога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чёт классного руководителя за прошедшую четвер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даётся по окончании четверти и является доказательством работы классного руководителя с проблемными детьми. Является основанием для обращения за помощью к социальному педагогу и психологу, для постановки учащегося на ВШУ. В случае обращения в вышестоящие инстанции становится показателем проделанной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Уважаемые классные руководители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качества нашей с Вами совместной работы с социально незащищёнными категориями зависит  успеваемость детей, атмосфера в класс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проблемы детей возникают в семье. Вовремя выявить проблему и попытаться решить её – основная задача работы и классного руководителя, и социального педаг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АВАЙТЕ ЖИТЬ ДРУЖНО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Сфера деятельности социального педагог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520" y="1219320"/>
            <a:ext cx="8382240" cy="5181120"/>
            <a:chOff x="380520" y="1219320"/>
            <a:chExt cx="8382240" cy="5181120"/>
          </a:xfrm>
        </p:grpSpPr>
        <p:sp>
          <p:nvSpPr>
            <p:cNvPr id="124" name="_s5140"/>
            <p:cNvSpPr/>
            <p:nvPr/>
          </p:nvSpPr>
          <p:spPr>
            <a:xfrm flipH="1" flipV="1">
              <a:off x="3393720" y="3140640"/>
              <a:ext cx="51480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5139"/>
            <p:cNvSpPr/>
            <p:nvPr/>
          </p:nvSpPr>
          <p:spPr>
            <a:xfrm>
              <a:off x="533880" y="2208960"/>
              <a:ext cx="3009600" cy="125748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ногоде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5138"/>
            <p:cNvSpPr/>
            <p:nvPr/>
          </p:nvSpPr>
          <p:spPr>
            <a:xfrm flipH="1">
              <a:off x="3393720" y="4084200"/>
              <a:ext cx="5148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5137"/>
            <p:cNvSpPr/>
            <p:nvPr/>
          </p:nvSpPr>
          <p:spPr>
            <a:xfrm>
              <a:off x="380520" y="3809160"/>
              <a:ext cx="3009600" cy="1446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з социа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пас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5136"/>
            <p:cNvSpPr/>
            <p:nvPr/>
          </p:nvSpPr>
          <p:spPr>
            <a:xfrm>
              <a:off x="4420080" y="439668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5135"/>
            <p:cNvSpPr/>
            <p:nvPr/>
          </p:nvSpPr>
          <p:spPr>
            <a:xfrm>
              <a:off x="2743200" y="5029200"/>
              <a:ext cx="3505320" cy="137124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алообеспече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5134"/>
            <p:cNvSpPr/>
            <p:nvPr/>
          </p:nvSpPr>
          <p:spPr>
            <a:xfrm>
              <a:off x="4931640" y="4084200"/>
              <a:ext cx="5144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5133"/>
            <p:cNvSpPr/>
            <p:nvPr/>
          </p:nvSpPr>
          <p:spPr>
            <a:xfrm>
              <a:off x="5409360" y="3886200"/>
              <a:ext cx="335340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ставш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ез попеч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5132"/>
            <p:cNvSpPr/>
            <p:nvPr/>
          </p:nvSpPr>
          <p:spPr>
            <a:xfrm flipV="1">
              <a:off x="4931640" y="3140640"/>
              <a:ext cx="5144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31"/>
            <p:cNvSpPr/>
            <p:nvPr/>
          </p:nvSpPr>
          <p:spPr>
            <a:xfrm>
              <a:off x="5333400" y="2285640"/>
              <a:ext cx="3124080" cy="125748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ходящие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 учё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30"/>
            <p:cNvSpPr/>
            <p:nvPr/>
          </p:nvSpPr>
          <p:spPr>
            <a:xfrm flipV="1">
              <a:off x="4420080" y="251208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5129"/>
            <p:cNvSpPr/>
            <p:nvPr/>
          </p:nvSpPr>
          <p:spPr>
            <a:xfrm>
              <a:off x="3351240" y="1219320"/>
              <a:ext cx="221472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«групп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ис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8"/>
            <p:cNvSpPr/>
            <p:nvPr/>
          </p:nvSpPr>
          <p:spPr>
            <a:xfrm>
              <a:off x="3809880" y="3124440"/>
              <a:ext cx="118440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Цель работы: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омощь детям, попавшим в трудную жизненную ситуаци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илактика правонарушений, преступлений, употребления ПАВ несовершеннолетн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явление социального неблагополучия, фактов насилия над несовершеннолетн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дивидуально-профилактическая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ь успеваемости и посещае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заимодействие внутри ОУ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80880" y="1371240"/>
            <a:ext cx="4704840" cy="4952520"/>
            <a:chOff x="2180880" y="1371240"/>
            <a:chExt cx="4704840" cy="4952520"/>
          </a:xfrm>
        </p:grpSpPr>
        <p:sp>
          <p:nvSpPr>
            <p:cNvPr id="143" name="_s12296"/>
            <p:cNvSpPr/>
            <p:nvPr/>
          </p:nvSpPr>
          <p:spPr>
            <a:xfrm flipV="1">
              <a:off x="3945960" y="1370880"/>
              <a:ext cx="1175400" cy="1236600"/>
            </a:xfrm>
            <a:custGeom>
              <a:avLst/>
              <a:gdLst>
                <a:gd name="textAreaLeft" fmla="*/ 421560 w 1175400"/>
                <a:gd name="textAreaRight" fmla="*/ 753840 w 1175400"/>
                <a:gd name="textAreaTop" fmla="*/ 443520 h 1236600"/>
                <a:gd name="textAreaBottom" fmla="*/ 793080 h 12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едметн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299"/>
            <p:cNvSpPr/>
            <p:nvPr/>
          </p:nvSpPr>
          <p:spPr>
            <a:xfrm flipV="1">
              <a:off x="3358440" y="2608560"/>
              <a:ext cx="2350440" cy="1239120"/>
            </a:xfrm>
            <a:custGeom>
              <a:avLst/>
              <a:gdLst>
                <a:gd name="textAreaLeft" fmla="*/ 516600 w 2350440"/>
                <a:gd name="textAreaRight" fmla="*/ 1833840 w 2350440"/>
                <a:gd name="textAreaTop" fmla="*/ 272520 h 1239120"/>
                <a:gd name="textAreaBottom" fmla="*/ 966600 h 123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297"/>
            <p:cNvSpPr/>
            <p:nvPr/>
          </p:nvSpPr>
          <p:spPr>
            <a:xfrm flipV="1">
              <a:off x="2768760" y="3846960"/>
              <a:ext cx="3529440" cy="1236600"/>
            </a:xfrm>
            <a:custGeom>
              <a:avLst/>
              <a:gdLst>
                <a:gd name="textAreaLeft" fmla="*/ 612720 w 3529440"/>
                <a:gd name="textAreaRight" fmla="*/ 2916720 w 3529440"/>
                <a:gd name="textAreaTop" fmla="*/ 214560 h 1236600"/>
                <a:gd name="textAreaBottom" fmla="*/ 1022040 h 12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298"/>
            <p:cNvSpPr/>
            <p:nvPr/>
          </p:nvSpPr>
          <p:spPr>
            <a:xfrm flipV="1">
              <a:off x="2180880" y="5084640"/>
              <a:ext cx="4704840" cy="1239120"/>
            </a:xfrm>
            <a:custGeom>
              <a:avLst/>
              <a:gdLst>
                <a:gd name="textAreaLeft" fmla="*/ 707760 w 4704840"/>
                <a:gd name="textAreaRight" fmla="*/ 3997080 w 4704840"/>
                <a:gd name="textAreaTop" fmla="*/ 186480 h 1239120"/>
                <a:gd name="textAreaBottom" fmla="*/ 1052640 h 123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вет п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филакти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убъекты взаимодейств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45320" y="1259280"/>
            <a:ext cx="4652640" cy="5401440"/>
            <a:chOff x="2245320" y="1259280"/>
            <a:chExt cx="4652640" cy="5401440"/>
          </a:xfrm>
        </p:grpSpPr>
        <p:sp>
          <p:nvSpPr>
            <p:cNvPr id="149" name="_s10250"/>
            <p:cNvSpPr/>
            <p:nvPr/>
          </p:nvSpPr>
          <p:spPr>
            <a:xfrm flipV="1">
              <a:off x="4572000" y="2610000"/>
              <a:ext cx="0" cy="67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249"/>
            <p:cNvSpPr/>
            <p:nvPr/>
          </p:nvSpPr>
          <p:spPr>
            <a:xfrm>
              <a:off x="3925440" y="1259280"/>
              <a:ext cx="1292760" cy="1350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260"/>
            <p:cNvSpPr/>
            <p:nvPr/>
          </p:nvSpPr>
          <p:spPr>
            <a:xfrm flipV="1">
              <a:off x="5129640" y="3284640"/>
              <a:ext cx="5619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259"/>
            <p:cNvSpPr/>
            <p:nvPr/>
          </p:nvSpPr>
          <p:spPr>
            <a:xfrm>
              <a:off x="5605200" y="227232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циаль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256"/>
            <p:cNvSpPr/>
            <p:nvPr/>
          </p:nvSpPr>
          <p:spPr>
            <a:xfrm>
              <a:off x="5129640" y="4297680"/>
              <a:ext cx="561960" cy="33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55"/>
            <p:cNvSpPr/>
            <p:nvPr/>
          </p:nvSpPr>
          <p:spPr>
            <a:xfrm>
              <a:off x="5605200" y="429768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омит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бразов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254"/>
            <p:cNvSpPr/>
            <p:nvPr/>
          </p:nvSpPr>
          <p:spPr>
            <a:xfrm>
              <a:off x="4572000" y="4633200"/>
              <a:ext cx="0" cy="67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53"/>
            <p:cNvSpPr/>
            <p:nvPr/>
          </p:nvSpPr>
          <p:spPr>
            <a:xfrm>
              <a:off x="3925440" y="5310360"/>
              <a:ext cx="1292760" cy="1350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КЦ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Семь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252"/>
            <p:cNvSpPr/>
            <p:nvPr/>
          </p:nvSpPr>
          <p:spPr>
            <a:xfrm flipH="1">
              <a:off x="3451680" y="4297680"/>
              <a:ext cx="561960" cy="33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251"/>
            <p:cNvSpPr/>
            <p:nvPr/>
          </p:nvSpPr>
          <p:spPr>
            <a:xfrm>
              <a:off x="2245320" y="429768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ДН и З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258"/>
            <p:cNvSpPr/>
            <p:nvPr/>
          </p:nvSpPr>
          <p:spPr>
            <a:xfrm flipH="1" flipV="1">
              <a:off x="3451680" y="3284640"/>
              <a:ext cx="5619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257"/>
            <p:cNvSpPr/>
            <p:nvPr/>
          </p:nvSpPr>
          <p:spPr>
            <a:xfrm>
              <a:off x="2245320" y="227232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пеки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печитель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248"/>
            <p:cNvSpPr/>
            <p:nvPr/>
          </p:nvSpPr>
          <p:spPr>
            <a:xfrm>
              <a:off x="3925440" y="328716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О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«СОШ № 4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пособы взаимодейств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 – сверки, отчёты по ИПР, межведомственные профилактические операции и консуль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ы социальной защиты – сообщения о вновь выявленных случаях социального неблагополучия, оздоровление детей из социально незащищённых сем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итет по образованию – отчёты по ИПР, Всеобучу, правонарушениям, посещае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КЦТ «Семья» - совместная работа по реабилитации детей, попавших в трудную жизненную ситуацию, межведомственные профилактические операции и консуль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ДН и ЗП - сверки, отчёты по ИПР, межведомственные профилактические операции и консультации, сообщения о фактах правонарушений, характерис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приступивших к занятиям после летних и зимних каникул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важды в год в течение нед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посещающих учебные занятия без уважительной причины либо по болезни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жемесяч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явившихся на занятия с указанием точной причины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же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ные отчёты обязательны, имеют жёсткий срок исполнения, так как являются основой для отчётов перед Комитетом по образованию и предписаны Федеральным законом № 120 – ФЗ, Приказом Комитета по образованию администрации Каширского муниципального района № 70 от 13.02.2009, Приказом по шко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6 от 1.09.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циальные паспорта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и учащихся, окончивших началь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дивидуальные анкеты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ные отчёты обязательны к исполнению. Особого внимания заслуживает корректность их составления, так как на основе этих данных ведётся работа социального педагога по оздоровлению несовершеннолетних, взаимодействие с органами опеки, Комитетом по образованию и прочими инстанциями, составляется отчёт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7:39:41Z</dcterms:created>
  <dc:creator>Женя</dc:creator>
  <dc:description/>
  <dc:language>en-US</dc:language>
  <cp:lastModifiedBy>User1</cp:lastModifiedBy>
  <dcterms:modified xsi:type="dcterms:W3CDTF">2011-03-28T07:2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