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399-F6DD-4C5F-B6F9-1B628880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62D-4130-4519-9E0E-CFB6DD38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56E-75B9-456F-A984-45C6724B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B67-C88D-45AF-A933-25AFD42C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A4B0-4F65-45D3-8976-8AF59580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8F0C-B342-4F24-B839-AA82327C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126F-06C2-4DB5-9B2A-88EA9326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F37B-ECC5-49EA-8A28-C6C35440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A5D9-F5FB-46C5-8A2E-A90A7509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3764-A22D-41E3-A266-9506896F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90D1-4B5C-4E44-A872-832CAA48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796-DA98-4722-A48B-6A46E965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F783-B3A5-4A32-A419-AC1EDB92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C866-2DA5-48DF-A0EB-9EB311CA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F380-7593-439A-ACB4-57C52087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2DDE-C3EA-4054-92A7-2C3103E2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ACF2-A4B5-4D53-8A36-39EEC376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3D1-C61D-4A69-BFFE-3F91EF32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518-1FDC-444A-AC6A-47B6EE38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9F3-9FC0-49BA-AE6E-F4396A7E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A71-4A68-4D7E-AF7D-66B4087A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2B0-AF22-4658-A8E7-51E8D55C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248-3A87-4E3C-8793-A04F61BE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EC2-2927-4D5B-89D3-3C6474B0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6DB9-5E92-4224-BC27-76ABC9DBD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B2F5-446B-48F3-9285-074B26AA9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7524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26d18"/>
                </a:solidFill>
                <a:latin typeface="Times New Roman"/>
              </a:rPr>
              <a:t>Деятельность социального педагога</a:t>
            </a:r>
            <a:endParaRPr b="1" lang="en-US" sz="7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тчётность классного руководител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чёт классного руководителя за прошедшую четвер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даётся по окончании четверти и является доказательством работы классного руководителя с проблемными детьми. Является основанием для обращения за помощью к социальному педагогу и психологу, для постановки учащегося на ВШУ. В случае обращения в вышестоящие инстанции становится показателем проделанной рабо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Уважаемые классные руководители!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качества нашей с Вами совместной работы с социально незащищёнными категориями зависит  успеваемость детей, атмосфера в класс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е проблемы детей возникают в семье. Вовремя выявить проблему и попытаться решить её – основная задача работы и классного руководителя, и социального педаго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ДАВАЙТЕ ЖИТЬ ДРУЖНО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Сфера деятельности социального педагога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0520" y="1219320"/>
            <a:ext cx="8382240" cy="5181120"/>
            <a:chOff x="380520" y="1219320"/>
            <a:chExt cx="8382240" cy="5181120"/>
          </a:xfrm>
        </p:grpSpPr>
        <p:sp>
          <p:nvSpPr>
            <p:cNvPr id="124" name="_s5140"/>
            <p:cNvSpPr/>
            <p:nvPr/>
          </p:nvSpPr>
          <p:spPr>
            <a:xfrm flipH="1" flipV="1">
              <a:off x="3393720" y="3140640"/>
              <a:ext cx="514800" cy="31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5139"/>
            <p:cNvSpPr/>
            <p:nvPr/>
          </p:nvSpPr>
          <p:spPr>
            <a:xfrm>
              <a:off x="533880" y="2208960"/>
              <a:ext cx="3009600" cy="125748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из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многодетны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ем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5138"/>
            <p:cNvSpPr/>
            <p:nvPr/>
          </p:nvSpPr>
          <p:spPr>
            <a:xfrm flipH="1">
              <a:off x="3393720" y="4084200"/>
              <a:ext cx="51480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5137"/>
            <p:cNvSpPr/>
            <p:nvPr/>
          </p:nvSpPr>
          <p:spPr>
            <a:xfrm>
              <a:off x="380520" y="3809160"/>
              <a:ext cx="3009600" cy="144612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з социаль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пасны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ем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5136"/>
            <p:cNvSpPr/>
            <p:nvPr/>
          </p:nvSpPr>
          <p:spPr>
            <a:xfrm>
              <a:off x="4420080" y="4396680"/>
              <a:ext cx="0" cy="63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5135"/>
            <p:cNvSpPr/>
            <p:nvPr/>
          </p:nvSpPr>
          <p:spPr>
            <a:xfrm>
              <a:off x="2743200" y="5029200"/>
              <a:ext cx="3505320" cy="137124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из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малообеспеченны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ем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5134"/>
            <p:cNvSpPr/>
            <p:nvPr/>
          </p:nvSpPr>
          <p:spPr>
            <a:xfrm>
              <a:off x="4931640" y="4084200"/>
              <a:ext cx="51444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5133"/>
            <p:cNvSpPr/>
            <p:nvPr/>
          </p:nvSpPr>
          <p:spPr>
            <a:xfrm>
              <a:off x="5409360" y="3886200"/>
              <a:ext cx="3353400" cy="125712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ставшие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ез попече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одител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5132"/>
            <p:cNvSpPr/>
            <p:nvPr/>
          </p:nvSpPr>
          <p:spPr>
            <a:xfrm flipV="1">
              <a:off x="4931640" y="3140640"/>
              <a:ext cx="514440" cy="31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5131"/>
            <p:cNvSpPr/>
            <p:nvPr/>
          </p:nvSpPr>
          <p:spPr>
            <a:xfrm>
              <a:off x="5333400" y="2285640"/>
              <a:ext cx="3124080" cy="125748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ходящие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 учё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5130"/>
            <p:cNvSpPr/>
            <p:nvPr/>
          </p:nvSpPr>
          <p:spPr>
            <a:xfrm flipV="1">
              <a:off x="4420080" y="2512080"/>
              <a:ext cx="0" cy="63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5129"/>
            <p:cNvSpPr/>
            <p:nvPr/>
          </p:nvSpPr>
          <p:spPr>
            <a:xfrm>
              <a:off x="3351240" y="1219320"/>
              <a:ext cx="2214720" cy="125712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«групп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иск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128"/>
            <p:cNvSpPr/>
            <p:nvPr/>
          </p:nvSpPr>
          <p:spPr>
            <a:xfrm>
              <a:off x="3809880" y="3124440"/>
              <a:ext cx="1184400" cy="125712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Е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26d18"/>
                </a:solidFill>
                <a:latin typeface="Times New Roman"/>
              </a:rPr>
              <a:t>Цель работы:</a:t>
            </a:r>
            <a:endParaRPr b="1" lang="en-US" sz="7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6840" y="23619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помощь детям, попавшим в трудную жизненную ситуаци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филактика правонарушений, преступлений, употребления ПАВ несовершеннолетни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явление социального неблагополучия, фактов насилия над несовершеннолетни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дивидуально-профилактическая рабо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троль успеваемости и посещаем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заимодействие внутри ОУ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180880" y="1371240"/>
            <a:ext cx="4704840" cy="4952520"/>
            <a:chOff x="2180880" y="1371240"/>
            <a:chExt cx="4704840" cy="4952520"/>
          </a:xfrm>
        </p:grpSpPr>
        <p:sp>
          <p:nvSpPr>
            <p:cNvPr id="143" name="_s12296"/>
            <p:cNvSpPr/>
            <p:nvPr/>
          </p:nvSpPr>
          <p:spPr>
            <a:xfrm flipV="1">
              <a:off x="3945960" y="1370880"/>
              <a:ext cx="1175400" cy="1236600"/>
            </a:xfrm>
            <a:custGeom>
              <a:avLst/>
              <a:gdLst>
                <a:gd name="textAreaLeft" fmla="*/ 421560 w 1175400"/>
                <a:gd name="textAreaRight" fmla="*/ 753840 w 1175400"/>
                <a:gd name="textAreaTop" fmla="*/ 443520 h 1236600"/>
                <a:gd name="textAreaBottom" fmla="*/ 793080 h 12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d05b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Учитель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редметни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2299"/>
            <p:cNvSpPr/>
            <p:nvPr/>
          </p:nvSpPr>
          <p:spPr>
            <a:xfrm flipV="1">
              <a:off x="3358440" y="2608560"/>
              <a:ext cx="2350440" cy="1239120"/>
            </a:xfrm>
            <a:custGeom>
              <a:avLst/>
              <a:gdLst>
                <a:gd name="textAreaLeft" fmla="*/ 516600 w 2350440"/>
                <a:gd name="textAreaRight" fmla="*/ 1833840 w 2350440"/>
                <a:gd name="textAreaTop" fmla="*/ 272520 h 1239120"/>
                <a:gd name="textAreaBottom" fmla="*/ 966600 h 123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d05b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ласс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уковод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2297"/>
            <p:cNvSpPr/>
            <p:nvPr/>
          </p:nvSpPr>
          <p:spPr>
            <a:xfrm flipV="1">
              <a:off x="2768760" y="3846960"/>
              <a:ext cx="3529440" cy="1236600"/>
            </a:xfrm>
            <a:custGeom>
              <a:avLst/>
              <a:gdLst>
                <a:gd name="textAreaLeft" fmla="*/ 612720 w 3529440"/>
                <a:gd name="textAreaRight" fmla="*/ 2916720 w 3529440"/>
                <a:gd name="textAreaTop" fmla="*/ 214560 h 1236600"/>
                <a:gd name="textAreaBottom" fmla="*/ 1022040 h 12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d05b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оциаль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едаго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2298"/>
            <p:cNvSpPr/>
            <p:nvPr/>
          </p:nvSpPr>
          <p:spPr>
            <a:xfrm flipV="1">
              <a:off x="2180880" y="5084640"/>
              <a:ext cx="4704840" cy="1239120"/>
            </a:xfrm>
            <a:custGeom>
              <a:avLst/>
              <a:gdLst>
                <a:gd name="textAreaLeft" fmla="*/ 707760 w 4704840"/>
                <a:gd name="textAreaRight" fmla="*/ 3997080 w 4704840"/>
                <a:gd name="textAreaTop" fmla="*/ 186480 h 1239120"/>
                <a:gd name="textAreaBottom" fmla="*/ 1052640 h 123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d05b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овет п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офилакти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убъекты взаимодейств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245320" y="1259280"/>
            <a:ext cx="4652640" cy="5401440"/>
            <a:chOff x="2245320" y="1259280"/>
            <a:chExt cx="4652640" cy="5401440"/>
          </a:xfrm>
        </p:grpSpPr>
        <p:sp>
          <p:nvSpPr>
            <p:cNvPr id="149" name="_s10250"/>
            <p:cNvSpPr/>
            <p:nvPr/>
          </p:nvSpPr>
          <p:spPr>
            <a:xfrm flipV="1">
              <a:off x="4572000" y="2610000"/>
              <a:ext cx="0" cy="67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249"/>
            <p:cNvSpPr/>
            <p:nvPr/>
          </p:nvSpPr>
          <p:spPr>
            <a:xfrm>
              <a:off x="3925440" y="1259280"/>
              <a:ext cx="1292760" cy="135036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Д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260"/>
            <p:cNvSpPr/>
            <p:nvPr/>
          </p:nvSpPr>
          <p:spPr>
            <a:xfrm flipV="1">
              <a:off x="5129640" y="3284640"/>
              <a:ext cx="5619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259"/>
            <p:cNvSpPr/>
            <p:nvPr/>
          </p:nvSpPr>
          <p:spPr>
            <a:xfrm>
              <a:off x="5605200" y="2272320"/>
              <a:ext cx="1292760" cy="135000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рган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оциальн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защ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256"/>
            <p:cNvSpPr/>
            <p:nvPr/>
          </p:nvSpPr>
          <p:spPr>
            <a:xfrm>
              <a:off x="5129640" y="4297680"/>
              <a:ext cx="561960" cy="33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255"/>
            <p:cNvSpPr/>
            <p:nvPr/>
          </p:nvSpPr>
          <p:spPr>
            <a:xfrm>
              <a:off x="5605200" y="4297680"/>
              <a:ext cx="1292760" cy="135000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омит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бразова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254"/>
            <p:cNvSpPr/>
            <p:nvPr/>
          </p:nvSpPr>
          <p:spPr>
            <a:xfrm>
              <a:off x="4572000" y="4633200"/>
              <a:ext cx="0" cy="67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253"/>
            <p:cNvSpPr/>
            <p:nvPr/>
          </p:nvSpPr>
          <p:spPr>
            <a:xfrm>
              <a:off x="3925440" y="5310360"/>
              <a:ext cx="1292760" cy="135036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КЦ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«Семья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252"/>
            <p:cNvSpPr/>
            <p:nvPr/>
          </p:nvSpPr>
          <p:spPr>
            <a:xfrm flipH="1">
              <a:off x="3451680" y="4297680"/>
              <a:ext cx="561960" cy="33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251"/>
            <p:cNvSpPr/>
            <p:nvPr/>
          </p:nvSpPr>
          <p:spPr>
            <a:xfrm>
              <a:off x="2245320" y="4297680"/>
              <a:ext cx="1292760" cy="135000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ДН и З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258"/>
            <p:cNvSpPr/>
            <p:nvPr/>
          </p:nvSpPr>
          <p:spPr>
            <a:xfrm flipH="1" flipV="1">
              <a:off x="3451680" y="3284640"/>
              <a:ext cx="5619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257"/>
            <p:cNvSpPr/>
            <p:nvPr/>
          </p:nvSpPr>
          <p:spPr>
            <a:xfrm>
              <a:off x="2245320" y="2272320"/>
              <a:ext cx="1292760" cy="135000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тде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пеки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опечитель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248"/>
            <p:cNvSpPr/>
            <p:nvPr/>
          </p:nvSpPr>
          <p:spPr>
            <a:xfrm>
              <a:off x="3925440" y="3287160"/>
              <a:ext cx="1292760" cy="135000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МО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«СОШ № 4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пособы взаимодейств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Н – сверки, отчёты по ИПР, межведомственные профилактические операции и консульт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ы социальной защиты – сообщения о вновь выявленных случаях социального неблагополучия, оздоровление детей из социально незащищённых сем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итет по образованию – отчёты по ИПР, Всеобучу, правонарушениям, посещаем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КЦТ «Семья» - совместная работа по реабилитации детей, попавших в трудную жизненную ситуацию, межведомственные профилактические операции и консульт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ДН и ЗП - сверки, отчёты по ИПР, межведомственные профилактические операции и консультации, сообщения о фактах правонарушений, характерист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тчётность классного руководител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иски учащихся, не приступивших к занятиям после летних и зимних каникул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важды в год в течение неде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иски учащихся, не посещающих учебные занятия без уважительной причины либо по болезни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ежемесяч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иски учащихся, не явившихся на занятия с указанием точной причины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ежеднев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ные отчёты обязательны, имеют жёсткий срок исполнения, так как являются основой для отчётов перед Комитетом по образованию и предписаны Федеральным законом № 120 – ФЗ, Приказом Комитета по образованию администрации Каширского муниципального района № 70 от 13.02.2009, Приказом по школ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6 от 1.09.20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тчётность классного руководител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циальные паспорта кла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арактеристики учащихся, окончивших начальную шко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дивидуальные анкеты уча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нные отчёты обязательны к исполнению. Особого внимания заслуживает корректность их составления, так как на основе этих данных ведётся работа социального педагога по оздоровлению несовершеннолетних, взаимодействие с органами опеки, Комитетом по образованию и прочими инстанциями, составляется отчёт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7:39:41Z</dcterms:created>
  <dc:creator>Женя</dc:creator>
  <dc:description/>
  <dc:language>en-US</dc:language>
  <cp:lastModifiedBy>User1</cp:lastModifiedBy>
  <dcterms:modified xsi:type="dcterms:W3CDTF">2011-03-28T07:24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