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34C-F08D-4573-9D7B-6E3CE57C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108-D89A-4C6F-B081-D5B271E4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E88-7278-436F-AAE0-A19FF0FA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5FE-5C2B-4119-B2FE-3582CCEB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C3E4-C382-4B4C-9F0C-D2434969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90A6-6659-4735-BC02-D3CDEC20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55B2-7E21-4016-B978-F00007C2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EB0F-448D-4632-9E83-AB65B70B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F389-BA27-45E0-A085-21429C0F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6B8B-79B0-4FD6-B733-5C411B8B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4F7B-7F40-44B8-822D-D9F0503E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EF4-9027-4773-B29E-40D33322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75FB-30CD-46CD-A4AD-9F157B9B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22FC-89D4-4B28-98C3-3763A60D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0F42-6E84-4C73-9966-089C19DC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6E41-ADB2-434A-BBBB-E95602C7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3067-94CA-4A4B-9ED2-0D907531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8D1E-2F01-49FB-879F-2D1E2311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455-606A-463D-A69B-D44EAC35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FDD-0456-44BC-B930-6AA2D005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D78-0B73-457F-850E-3F24C237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7948-7CC8-4209-8CD9-60980096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474-21F5-45EF-BF26-2473FEAC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6F67-EF01-48D7-808C-894CCA26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7BC7-B3C1-4790-8C96-E70BF5E8D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368C-D860-4B00-A924-5B80370867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бота с детьми «девиантного поведени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дагог – психоло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ретенник Н.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 девиантному поведению относят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атологическая лжив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ровств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ходы и побеги из дом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кращение учебной деятельност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улиганств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отребление наркотических вещест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нняя половая жизн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зартные иг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тклонения проявляютс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школьной неуспеваем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тсутствии интереса к учению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едисциплинированн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конфликтности, высокой тревожн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личие нежелательных качеств: лень, лживость, грубос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перактивнос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отивированная агресси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наруш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03280" y="2637000"/>
            <a:ext cx="612144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ПРАВЛЕНИЯ ПРОФИЛАКТИЧЕСКОЙ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549360"/>
            <a:ext cx="2521080" cy="1224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620640"/>
            <a:ext cx="2376720" cy="1152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а с учащими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4508640"/>
            <a:ext cx="2521080" cy="1368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а с семь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4581360"/>
            <a:ext cx="3168720" cy="1295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вместная работа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кретной семь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427640" y="1557000"/>
            <a:ext cx="1008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3492360" y="1557000"/>
            <a:ext cx="935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419640" y="3429000"/>
            <a:ext cx="1008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3429000"/>
            <a:ext cx="72072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411280" y="836640"/>
            <a:ext cx="482472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ПОНЕН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ФИЛАКТИЧЕСКОЙ РАБО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205000"/>
            <a:ext cx="28796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разовате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2276640"/>
            <a:ext cx="295092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сихолог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3789360"/>
            <a:ext cx="3241440" cy="1440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ци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492000" y="1700280"/>
            <a:ext cx="1079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170028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70028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Рекомендации по организации коррекционной работы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оказание помощи в становлении полноценного члена общества, в реализации его индивидуального потенциа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дача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Обеспечение включенности «трудного» ребенка в реальные социальные отношения; самореализация детей в процессе социального взаимодействия, т.е. предоставления полно раскрыть себ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нципы работ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Принцип ориентации на позитивное пове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Принцип социальной адекват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Принцип индивидуализ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Принцип социального закали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етоды и прием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идатель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особствующий формированию у воспитанника правильного повед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емы, строящиеся на понимании динамики чувств и интере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ямые и косвенные тормозящие при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тель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Эффективность перевоспитания зависит от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35320"/>
            <a:ext cx="822960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дагогического влия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лоченности детского коллекти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нятости ребе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тельных возможностей семь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1:29:09Z</dcterms:created>
  <dc:creator>USER</dc:creator>
  <dc:description/>
  <dc:language>en-US</dc:language>
  <cp:lastModifiedBy>USER</cp:lastModifiedBy>
  <dcterms:modified xsi:type="dcterms:W3CDTF">2007-11-26T12:05:07Z</dcterms:modified>
  <cp:revision>3</cp:revision>
  <dc:subject/>
  <dc:title>Работа с детьми «девиантного поведения»</dc:title>
</cp:coreProperties>
</file>