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DD5-84E5-41EE-9AB2-15F37FC2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C34-F438-4B06-AC4A-A4BC4CFE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E78-C184-4DE7-95EC-18B43823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280-0986-4944-AE99-48F23F91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7940-B5FA-4B7E-ABEF-805E4745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E4A7-5690-4535-9367-DC9CA5C0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BE05-35CC-474A-87A8-C8B57AFB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5B3-9326-42EE-89B7-91A13E30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1A90-C219-4E57-9C41-15F0E8A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8469-79DF-4924-856D-0E54BA86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B7C9-CE51-4C4D-B93D-FA45D92D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E47-1B8E-4276-A6B7-95AE7861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FBF1-4628-4039-800F-65BE7BD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C76B-3139-4E93-8932-6AD5817C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EAB3-D1D7-4572-8176-F35F6157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0DB7-7ED2-48C7-AC34-742865F3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BBB4-47CC-4C26-ACEF-65238AB2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80F-4771-44ED-8A39-AA76C388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0A3-E080-43F0-A922-FD51ED3F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BE4-4436-4262-BB64-33B49D22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71E-E494-4D6C-98A2-EA980CDF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83F-853D-4B36-8826-BA276073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502-120F-4825-AF19-0C505B4E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1B9-3EB3-4D34-9A32-05AF1FCD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7DD3-C499-43F0-B82C-E2882C703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3960-51A7-45A1-93DE-9374F808A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бота с детьми «девиантного поведени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дагог – психоло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етенник Н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 девиантному поведению относя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атологическая лжив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ровств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ходы и побеги из дом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кращение учебной деятельнос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улиганств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отребление наркотических веще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няя половая жизн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зартные иг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клонения проявляютс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школьной неуспевае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сутствии интереса к учени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дисциплинированн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нфликтности, высокой тревожн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личие нежелательных качеств: лень, лживость, груб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ерактив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отивированная агресс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нару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2637000"/>
            <a:ext cx="61214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АВЛЕНИЯ ПРОФИЛАКТИЧЕСКОЙ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549360"/>
            <a:ext cx="252108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620640"/>
            <a:ext cx="2376720" cy="1152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с учащими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4508640"/>
            <a:ext cx="2521080" cy="1368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с семь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4581360"/>
            <a:ext cx="3168720" cy="1295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местная работа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кретной семь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427640" y="1557000"/>
            <a:ext cx="1008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492360" y="155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19640" y="3429000"/>
            <a:ext cx="1008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3429000"/>
            <a:ext cx="72072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11280" y="836640"/>
            <a:ext cx="4824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ОНЕН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ФИЛАКТИЧЕСКОЙ РАБО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205000"/>
            <a:ext cx="28796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ова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2276640"/>
            <a:ext cx="295092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сих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3789360"/>
            <a:ext cx="3241440" cy="1440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92000" y="170028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700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700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Рекомендации по организации коррекционной работ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казание помощи в становлении полноценного члена общества, в реализации его индивидуального потенц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дача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беспечение включенности «трудного» ребенка в реальные социальные отношения; самореализация детей в процессе социального взаимодействия, т.е. предоставления полно раскрыть себ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нципы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Принцип ориентации на позитивное пове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Принцип социальной адеква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Принцип индивиду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Принцип социального закали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тоды и прием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идате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собствующий формированию у воспитанника правильного пове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емы, строящиеся на понимании динамики чувств и интере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ямые и косвенные тормозящие при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е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Эффективность перевоспитания зависит о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дагогического влия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лоченности детского коллекти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нятости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ельных возможностей семь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1:29:09Z</dcterms:created>
  <dc:creator>USER</dc:creator>
  <dc:description/>
  <dc:language>en-US</dc:language>
  <cp:lastModifiedBy>USER</cp:lastModifiedBy>
  <dcterms:modified xsi:type="dcterms:W3CDTF">2007-11-26T12:05:07Z</dcterms:modified>
  <cp:revision>3</cp:revision>
  <dc:subject/>
  <dc:title>Работа с детьми «девиантного поведения»</dc:title>
</cp:coreProperties>
</file>