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DD7-CC47-4941-BE11-635A78EA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63D-2979-4F25-8EB4-E64A5D5B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A584-772D-49CD-A01F-79D9718A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047-F149-442B-B09E-ED8AB3C9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A7F1-B588-4F71-BA1E-C484FE22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6E81-06E3-4E9B-B63B-25CF948A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06FE-4E02-4426-9268-74DC646D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B3DD-AE06-486E-85FD-8AE2E056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B582-8677-4F6D-BE0A-2EE9153A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F666-5BC5-4340-9F80-E36C5BE7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75D2-EC4F-470E-B9B7-49092460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F73E-B633-47E0-AB23-5A49A621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5B78-2E1B-480F-B457-A8EAD75C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2CD5-D2EB-4FA6-AFCC-2E36B3B4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7A14-DCDD-46B6-9F26-0C962425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113C-18AB-4628-A868-5CFA635D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E4DE-B0E4-4EFF-AEAD-157CD012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53C-A47F-407A-9D04-A62651D1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3D5D-F3FD-45F2-BAEB-4656737C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47D-EA9A-4EE5-B601-A0866741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B895-87B6-4E56-904D-56160B8F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31F-297E-42E6-8AEB-1E7AF3DA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F021-0B66-4C31-B812-C0531B13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0F2-9246-4BF9-B160-1457DD06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5A63-929A-42B4-AAD8-ED040FC331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5C82-0389-4B89-893C-EE6AB6B7B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абота с детьми «девиантного поведени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дагог – психолог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ретенник Н.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 девиантному поведению относят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атологическая лжив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ровств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ходы и побеги из дом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кращение учебной деятельност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улиганств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потребление наркотических вещест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нняя половая жизн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зартные иг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тклонения проявляютс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школьной неуспеваемост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тсутствии интереса к учению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едисциплинированност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конфликтности, высокой тревожност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личие нежелательных качеств: лень, лживость, грубос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перактивнос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мотивированная агресси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наруш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03280" y="2637000"/>
            <a:ext cx="612144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ПРАВЛЕНИЯ ПРОФИЛАКТИЧЕСКОЙ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549360"/>
            <a:ext cx="2521080" cy="1224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620640"/>
            <a:ext cx="2376720" cy="1152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бота с учащими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4508640"/>
            <a:ext cx="2521080" cy="1368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бота с семь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4581360"/>
            <a:ext cx="3168720" cy="1295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вместная работа 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кретной семь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427640" y="1557000"/>
            <a:ext cx="1008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3492360" y="1557000"/>
            <a:ext cx="935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419640" y="3429000"/>
            <a:ext cx="1008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7640" y="3429000"/>
            <a:ext cx="72072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411280" y="836640"/>
            <a:ext cx="4824720" cy="79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МПОНЕН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ФИЛАКТИЧЕСКОЙ РАБО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205000"/>
            <a:ext cx="287964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разовате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2276640"/>
            <a:ext cx="295092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сихолог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3789360"/>
            <a:ext cx="3241440" cy="1440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ци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492000" y="1700280"/>
            <a:ext cx="1079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1700280"/>
            <a:ext cx="100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70028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Рекомендации по организации коррекционной работы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оказание помощи в становлении полноценного члена общества, в реализации его индивидуального потенциа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дача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Обеспечение включенности «трудного» ребенка в реальные социальные отношения; самореализация детей в процессе социального взаимодействия, т.е. предоставления полно раскрыть себ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инципы работ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Принцип ориентации на позитивное повед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Принцип социальной адекват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Принцип индивидуализ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Принцип социального закали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етоды и прием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идатель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особствующий формированию у воспитанника правильного повед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емы, строящиеся на понимании динамики чувств и интере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ямые и косвенные тормозящие при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атель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Эффективность перевоспитания зависит от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35320"/>
            <a:ext cx="822960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дагогического влия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лоченности детского коллекти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нятости ребен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ательных возможностей семь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1:29:09Z</dcterms:created>
  <dc:creator>USER</dc:creator>
  <dc:description/>
  <dc:language>en-US</dc:language>
  <cp:lastModifiedBy>USER</cp:lastModifiedBy>
  <dcterms:modified xsi:type="dcterms:W3CDTF">2007-11-26T12:05:07Z</dcterms:modified>
  <cp:revision>3</cp:revision>
  <dc:subject/>
  <dc:title>Работа с детьми «девиантного поведения»</dc:title>
</cp:coreProperties>
</file>