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473A-C992-4849-A4A4-F0C9EEB2A6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9F2F-C249-440F-84DD-1C616FAB9C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105A-70E8-4672-95CD-728CABD9B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B6D7-DF37-4FE7-A61E-8B294900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C5FF-892C-4D23-8B6D-A0199DF94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8ED3-B46C-43B0-8B7F-97B114B8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1955-6F6A-402D-A02F-C067DDF4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F9B5-9C3B-45AB-AEF9-DC1E72C2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DE33-7056-4AD4-A61A-B874855C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C348-7B24-4756-A0B8-1CC957A4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5FB9-58F0-4198-83CC-92A46FD7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D3CC-585A-4C37-9C1C-A827E832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9368-9A18-46D0-8DBC-AD488697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76A2-F308-4CAB-B3A7-94CB39BC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3A85-9FC7-4181-87E1-1DB2357B04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roshkolu.ru/user/djhrjdf24vfq/folder/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9"/>
          <p:cNvSpPr/>
          <p:nvPr/>
        </p:nvSpPr>
        <p:spPr>
          <a:xfrm>
            <a:off x="0" y="0"/>
            <a:ext cx="9220320" cy="685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Группа 51"/>
          <p:cNvGrpSpPr/>
          <p:nvPr/>
        </p:nvGrpSpPr>
        <p:grpSpPr>
          <a:xfrm>
            <a:off x="895320" y="3363840"/>
            <a:ext cx="951120" cy="1063800"/>
            <a:chOff x="895320" y="3363840"/>
            <a:chExt cx="951120" cy="1063800"/>
          </a:xfrm>
        </p:grpSpPr>
        <p:grpSp>
          <p:nvGrpSpPr>
            <p:cNvPr id="50" name="Group 20"/>
            <p:cNvGrpSpPr/>
            <p:nvPr/>
          </p:nvGrpSpPr>
          <p:grpSpPr>
            <a:xfrm>
              <a:off x="895320" y="3363840"/>
              <a:ext cx="888480" cy="765360"/>
              <a:chOff x="895320" y="3363840"/>
              <a:chExt cx="888480" cy="765360"/>
            </a:xfrm>
          </p:grpSpPr>
          <p:sp>
            <p:nvSpPr>
              <p:cNvPr id="51" name="Oval 21"/>
              <p:cNvSpPr/>
              <p:nvPr/>
            </p:nvSpPr>
            <p:spPr>
              <a:xfrm>
                <a:off x="895320" y="3363840"/>
                <a:ext cx="888480" cy="7653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073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22"/>
              <p:cNvSpPr/>
              <p:nvPr/>
            </p:nvSpPr>
            <p:spPr>
              <a:xfrm>
                <a:off x="995040" y="3374640"/>
                <a:ext cx="684720" cy="2905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Oval 24"/>
            <p:cNvSpPr/>
            <p:nvPr/>
          </p:nvSpPr>
          <p:spPr>
            <a:xfrm>
              <a:off x="925560" y="4207320"/>
              <a:ext cx="920880" cy="2203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Группа 52"/>
          <p:cNvGrpSpPr/>
          <p:nvPr/>
        </p:nvGrpSpPr>
        <p:grpSpPr>
          <a:xfrm>
            <a:off x="0" y="3870360"/>
            <a:ext cx="1019160" cy="1130400"/>
            <a:chOff x="0" y="3870360"/>
            <a:chExt cx="1019160" cy="1130400"/>
          </a:xfrm>
        </p:grpSpPr>
        <p:grpSp>
          <p:nvGrpSpPr>
            <p:cNvPr id="55" name="Group 27"/>
            <p:cNvGrpSpPr/>
            <p:nvPr/>
          </p:nvGrpSpPr>
          <p:grpSpPr>
            <a:xfrm>
              <a:off x="0" y="3870360"/>
              <a:ext cx="982440" cy="832680"/>
              <a:chOff x="0" y="3870360"/>
              <a:chExt cx="982440" cy="832680"/>
            </a:xfrm>
          </p:grpSpPr>
          <p:sp>
            <p:nvSpPr>
              <p:cNvPr id="56" name="Oval 28"/>
              <p:cNvSpPr/>
              <p:nvPr/>
            </p:nvSpPr>
            <p:spPr>
              <a:xfrm>
                <a:off x="0" y="3870360"/>
                <a:ext cx="982440" cy="83268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532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29"/>
              <p:cNvSpPr/>
              <p:nvPr/>
            </p:nvSpPr>
            <p:spPr>
              <a:xfrm>
                <a:off x="97560" y="3927240"/>
                <a:ext cx="757440" cy="314640"/>
              </a:xfrm>
              <a:custGeom>
                <a:avLst/>
                <a:gdLst>
                  <a:gd name="textAreaLeft" fmla="*/ 0 w 757440"/>
                  <a:gd name="textAreaRight" fmla="*/ 757800 w 757440"/>
                  <a:gd name="textAreaTop" fmla="*/ 0 h 314640"/>
                  <a:gd name="textAreaBottom" fmla="*/ 315000 h 314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Oval 31"/>
            <p:cNvSpPr/>
            <p:nvPr/>
          </p:nvSpPr>
          <p:spPr>
            <a:xfrm>
              <a:off x="720" y="4762800"/>
              <a:ext cx="1018440" cy="23796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7"/>
          <p:cNvSpPr/>
          <p:nvPr/>
        </p:nvSpPr>
        <p:spPr>
          <a:xfrm>
            <a:off x="214200" y="250920"/>
            <a:ext cx="864396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d2d8a"/>
                </a:solidFill>
                <a:latin typeface="Verdana"/>
              </a:rPr>
              <a:t>Как называется новая прогрессивная форма проведения малых педсоветов, где учительская команда вырабатывает стратегию индивидуализированного личностно мотивационного образования учащих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1857240" y="5857920"/>
            <a:ext cx="5451480" cy="517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9999"/>
              </a:gs>
              <a:gs pos="50000">
                <a:srgbClr val="5bbdbd"/>
              </a:gs>
              <a:gs pos="100000">
                <a:srgbClr val="00999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КОНСИЛИ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"/>
          <p:cNvSpPr/>
          <p:nvPr/>
        </p:nvSpPr>
        <p:spPr>
          <a:xfrm rot="10800000">
            <a:off x="1857240" y="5072040"/>
            <a:ext cx="5207040" cy="789120"/>
          </a:xfrm>
          <a:prstGeom prst="upArrow">
            <a:avLst>
              <a:gd name="adj1" fmla="val 57824"/>
              <a:gd name="adj2" fmla="val 54398"/>
            </a:avLst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600720" y="514368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Verdana"/>
              </a:rPr>
              <a:t>Вы пра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6"/>
          <p:cNvGrpSpPr/>
          <p:nvPr/>
        </p:nvGrpSpPr>
        <p:grpSpPr>
          <a:xfrm>
            <a:off x="2906640" y="3786120"/>
            <a:ext cx="1143000" cy="1142640"/>
            <a:chOff x="2906640" y="3786120"/>
            <a:chExt cx="1143000" cy="1142640"/>
          </a:xfrm>
        </p:grpSpPr>
        <p:grpSp>
          <p:nvGrpSpPr>
            <p:cNvPr id="64" name="Group 8"/>
            <p:cNvGrpSpPr/>
            <p:nvPr/>
          </p:nvGrpSpPr>
          <p:grpSpPr>
            <a:xfrm>
              <a:off x="2906640" y="3786120"/>
              <a:ext cx="1075320" cy="835920"/>
              <a:chOff x="2906640" y="3786120"/>
              <a:chExt cx="1075320" cy="835920"/>
            </a:xfrm>
          </p:grpSpPr>
          <p:sp>
            <p:nvSpPr>
              <p:cNvPr id="65" name="Oval 9"/>
              <p:cNvSpPr/>
              <p:nvPr/>
            </p:nvSpPr>
            <p:spPr>
              <a:xfrm>
                <a:off x="2906640" y="3786120"/>
                <a:ext cx="1075320" cy="83592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20206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0"/>
              <p:cNvSpPr/>
              <p:nvPr/>
            </p:nvSpPr>
            <p:spPr>
              <a:xfrm>
                <a:off x="3029400" y="3799800"/>
                <a:ext cx="830160" cy="315360"/>
              </a:xfrm>
              <a:custGeom>
                <a:avLst/>
                <a:gdLst>
                  <a:gd name="textAreaLeft" fmla="*/ 0 w 830160"/>
                  <a:gd name="textAreaRight" fmla="*/ 830520 w 830160"/>
                  <a:gd name="textAreaTop" fmla="*/ 0 h 315360"/>
                  <a:gd name="textAreaBottom" fmla="*/ 315720 h 3153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Oval 12"/>
            <p:cNvSpPr/>
            <p:nvPr/>
          </p:nvSpPr>
          <p:spPr>
            <a:xfrm>
              <a:off x="2906640" y="4687200"/>
              <a:ext cx="1143000" cy="24156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13"/>
          <p:cNvGrpSpPr/>
          <p:nvPr/>
        </p:nvGrpSpPr>
        <p:grpSpPr>
          <a:xfrm>
            <a:off x="1846440" y="3408480"/>
            <a:ext cx="1142640" cy="1142640"/>
            <a:chOff x="1846440" y="3408480"/>
            <a:chExt cx="1142640" cy="1142640"/>
          </a:xfrm>
        </p:grpSpPr>
        <p:grpSp>
          <p:nvGrpSpPr>
            <p:cNvPr id="69" name="Group 14"/>
            <p:cNvGrpSpPr/>
            <p:nvPr/>
          </p:nvGrpSpPr>
          <p:grpSpPr>
            <a:xfrm>
              <a:off x="1846440" y="3408480"/>
              <a:ext cx="1081440" cy="856800"/>
              <a:chOff x="1846440" y="3408480"/>
              <a:chExt cx="1081440" cy="856800"/>
            </a:xfrm>
          </p:grpSpPr>
          <p:sp>
            <p:nvSpPr>
              <p:cNvPr id="70" name="Oval 15"/>
              <p:cNvSpPr/>
              <p:nvPr/>
            </p:nvSpPr>
            <p:spPr>
              <a:xfrm>
                <a:off x="1846440" y="3408480"/>
                <a:ext cx="1081440" cy="85680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f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6"/>
              <p:cNvSpPr/>
              <p:nvPr/>
            </p:nvSpPr>
            <p:spPr>
              <a:xfrm>
                <a:off x="1978200" y="3458880"/>
                <a:ext cx="834840" cy="3232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Oval 18"/>
            <p:cNvSpPr/>
            <p:nvPr/>
          </p:nvSpPr>
          <p:spPr>
            <a:xfrm>
              <a:off x="1869120" y="4304880"/>
              <a:ext cx="1119960" cy="2462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 Box 30"/>
          <p:cNvSpPr/>
          <p:nvPr/>
        </p:nvSpPr>
        <p:spPr>
          <a:xfrm>
            <a:off x="214200" y="407196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Группа 53"/>
          <p:cNvGrpSpPr/>
          <p:nvPr/>
        </p:nvGrpSpPr>
        <p:grpSpPr>
          <a:xfrm>
            <a:off x="4011480" y="3544920"/>
            <a:ext cx="1071720" cy="1143000"/>
            <a:chOff x="4011480" y="3544920"/>
            <a:chExt cx="1071720" cy="1143000"/>
          </a:xfrm>
        </p:grpSpPr>
        <p:grpSp>
          <p:nvGrpSpPr>
            <p:cNvPr id="75" name="Group 14"/>
            <p:cNvGrpSpPr/>
            <p:nvPr/>
          </p:nvGrpSpPr>
          <p:grpSpPr>
            <a:xfrm>
              <a:off x="4011480" y="3544920"/>
              <a:ext cx="1014120" cy="856800"/>
              <a:chOff x="4011480" y="3544920"/>
              <a:chExt cx="1014120" cy="856800"/>
            </a:xfrm>
          </p:grpSpPr>
          <p:sp>
            <p:nvSpPr>
              <p:cNvPr id="76" name="Oval 15"/>
              <p:cNvSpPr/>
              <p:nvPr/>
            </p:nvSpPr>
            <p:spPr>
              <a:xfrm>
                <a:off x="4011480" y="3544920"/>
                <a:ext cx="1014120" cy="85680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f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6"/>
              <p:cNvSpPr/>
              <p:nvPr/>
            </p:nvSpPr>
            <p:spPr>
              <a:xfrm>
                <a:off x="4134960" y="3595320"/>
                <a:ext cx="782280" cy="3232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Oval 18"/>
            <p:cNvSpPr/>
            <p:nvPr/>
          </p:nvSpPr>
          <p:spPr>
            <a:xfrm>
              <a:off x="4032720" y="4441680"/>
              <a:ext cx="1050480" cy="2462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 Box 23"/>
          <p:cNvSpPr/>
          <p:nvPr/>
        </p:nvSpPr>
        <p:spPr>
          <a:xfrm>
            <a:off x="1120680" y="34894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0"/>
          <p:cNvSpPr/>
          <p:nvPr/>
        </p:nvSpPr>
        <p:spPr>
          <a:xfrm>
            <a:off x="4114800" y="37465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0"/>
          <p:cNvSpPr/>
          <p:nvPr/>
        </p:nvSpPr>
        <p:spPr>
          <a:xfrm>
            <a:off x="3046320" y="392760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0"/>
          <p:cNvSpPr/>
          <p:nvPr/>
        </p:nvSpPr>
        <p:spPr>
          <a:xfrm>
            <a:off x="2179800" y="366696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Группа 51"/>
          <p:cNvGrpSpPr/>
          <p:nvPr/>
        </p:nvGrpSpPr>
        <p:grpSpPr>
          <a:xfrm>
            <a:off x="6649920" y="3943440"/>
            <a:ext cx="1214640" cy="1143000"/>
            <a:chOff x="6649920" y="3943440"/>
            <a:chExt cx="1214640" cy="1143000"/>
          </a:xfrm>
        </p:grpSpPr>
        <p:grpSp>
          <p:nvGrpSpPr>
            <p:cNvPr id="84" name="Group 20"/>
            <p:cNvGrpSpPr/>
            <p:nvPr/>
          </p:nvGrpSpPr>
          <p:grpSpPr>
            <a:xfrm>
              <a:off x="6649920" y="3943440"/>
              <a:ext cx="1134360" cy="822600"/>
              <a:chOff x="6649920" y="3943440"/>
              <a:chExt cx="1134360" cy="822600"/>
            </a:xfrm>
          </p:grpSpPr>
          <p:sp>
            <p:nvSpPr>
              <p:cNvPr id="85" name="Oval 21"/>
              <p:cNvSpPr/>
              <p:nvPr/>
            </p:nvSpPr>
            <p:spPr>
              <a:xfrm>
                <a:off x="6649920" y="3943440"/>
                <a:ext cx="1134360" cy="82260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073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22"/>
              <p:cNvSpPr/>
              <p:nvPr/>
            </p:nvSpPr>
            <p:spPr>
              <a:xfrm>
                <a:off x="6778080" y="3956040"/>
                <a:ext cx="875520" cy="3110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Oval 24"/>
            <p:cNvSpPr/>
            <p:nvPr/>
          </p:nvSpPr>
          <p:spPr>
            <a:xfrm>
              <a:off x="6688800" y="4849560"/>
              <a:ext cx="1175760" cy="2368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Группа 52"/>
          <p:cNvGrpSpPr/>
          <p:nvPr/>
        </p:nvGrpSpPr>
        <p:grpSpPr>
          <a:xfrm>
            <a:off x="7643880" y="3929040"/>
            <a:ext cx="1214280" cy="1214640"/>
            <a:chOff x="7643880" y="3929040"/>
            <a:chExt cx="1214280" cy="1214640"/>
          </a:xfrm>
        </p:grpSpPr>
        <p:grpSp>
          <p:nvGrpSpPr>
            <p:cNvPr id="89" name="Group 27"/>
            <p:cNvGrpSpPr/>
            <p:nvPr/>
          </p:nvGrpSpPr>
          <p:grpSpPr>
            <a:xfrm>
              <a:off x="7643880" y="3929040"/>
              <a:ext cx="1170720" cy="896040"/>
              <a:chOff x="7643880" y="3929040"/>
              <a:chExt cx="1170720" cy="896040"/>
            </a:xfrm>
          </p:grpSpPr>
          <p:sp>
            <p:nvSpPr>
              <p:cNvPr id="90" name="Oval 28"/>
              <p:cNvSpPr/>
              <p:nvPr/>
            </p:nvSpPr>
            <p:spPr>
              <a:xfrm>
                <a:off x="7643880" y="3929040"/>
                <a:ext cx="1170720" cy="89604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532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9"/>
              <p:cNvSpPr/>
              <p:nvPr/>
            </p:nvSpPr>
            <p:spPr>
              <a:xfrm>
                <a:off x="7760520" y="3990960"/>
                <a:ext cx="903600" cy="338040"/>
              </a:xfrm>
              <a:custGeom>
                <a:avLst/>
                <a:gdLst>
                  <a:gd name="textAreaLeft" fmla="*/ 0 w 903600"/>
                  <a:gd name="textAreaRight" fmla="*/ 903960 w 90360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Oval 31"/>
            <p:cNvSpPr/>
            <p:nvPr/>
          </p:nvSpPr>
          <p:spPr>
            <a:xfrm>
              <a:off x="7644960" y="4887360"/>
              <a:ext cx="1213200" cy="2563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30"/>
          <p:cNvSpPr/>
          <p:nvPr/>
        </p:nvSpPr>
        <p:spPr>
          <a:xfrm>
            <a:off x="6929280" y="4143240"/>
            <a:ext cx="55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0"/>
          <p:cNvSpPr/>
          <p:nvPr/>
        </p:nvSpPr>
        <p:spPr>
          <a:xfrm>
            <a:off x="7858080" y="4071960"/>
            <a:ext cx="7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6"/>
          <p:cNvGrpSpPr/>
          <p:nvPr/>
        </p:nvGrpSpPr>
        <p:grpSpPr>
          <a:xfrm>
            <a:off x="5025960" y="3782880"/>
            <a:ext cx="987120" cy="1104840"/>
            <a:chOff x="5025960" y="3782880"/>
            <a:chExt cx="987120" cy="1104840"/>
          </a:xfrm>
        </p:grpSpPr>
        <p:grpSp>
          <p:nvGrpSpPr>
            <p:cNvPr id="96" name="Group 8"/>
            <p:cNvGrpSpPr/>
            <p:nvPr/>
          </p:nvGrpSpPr>
          <p:grpSpPr>
            <a:xfrm>
              <a:off x="5025960" y="3782880"/>
              <a:ext cx="927000" cy="809280"/>
              <a:chOff x="5025960" y="3782880"/>
              <a:chExt cx="927000" cy="809280"/>
            </a:xfrm>
          </p:grpSpPr>
          <p:sp>
            <p:nvSpPr>
              <p:cNvPr id="97" name="Oval 9"/>
              <p:cNvSpPr/>
              <p:nvPr/>
            </p:nvSpPr>
            <p:spPr>
              <a:xfrm>
                <a:off x="5025960" y="3782880"/>
                <a:ext cx="927000" cy="80928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20206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0"/>
              <p:cNvSpPr/>
              <p:nvPr/>
            </p:nvSpPr>
            <p:spPr>
              <a:xfrm>
                <a:off x="5273640" y="3989520"/>
                <a:ext cx="573840" cy="414360"/>
              </a:xfrm>
              <a:custGeom>
                <a:avLst/>
                <a:gdLst>
                  <a:gd name="textAreaLeft" fmla="*/ 0 w 573840"/>
                  <a:gd name="textAreaRight" fmla="*/ 574200 w 573840"/>
                  <a:gd name="textAreaTop" fmla="*/ 0 h 414360"/>
                  <a:gd name="textAreaBottom" fmla="*/ 414720 h 4143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Oval 12"/>
            <p:cNvSpPr/>
            <p:nvPr/>
          </p:nvSpPr>
          <p:spPr>
            <a:xfrm>
              <a:off x="5026680" y="4654080"/>
              <a:ext cx="986400" cy="2336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Прямоугольник 72"/>
          <p:cNvSpPr/>
          <p:nvPr/>
        </p:nvSpPr>
        <p:spPr>
          <a:xfrm>
            <a:off x="5224320" y="3936960"/>
            <a:ext cx="4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3"/>
          <p:cNvGrpSpPr/>
          <p:nvPr/>
        </p:nvGrpSpPr>
        <p:grpSpPr>
          <a:xfrm>
            <a:off x="5925960" y="3503520"/>
            <a:ext cx="1144440" cy="1169640"/>
            <a:chOff x="5925960" y="3503520"/>
            <a:chExt cx="1144440" cy="1169640"/>
          </a:xfrm>
        </p:grpSpPr>
        <p:grpSp>
          <p:nvGrpSpPr>
            <p:cNvPr id="102" name="Group 14"/>
            <p:cNvGrpSpPr/>
            <p:nvPr/>
          </p:nvGrpSpPr>
          <p:grpSpPr>
            <a:xfrm>
              <a:off x="5925960" y="3503520"/>
              <a:ext cx="1081080" cy="856440"/>
              <a:chOff x="5925960" y="3503520"/>
              <a:chExt cx="1081080" cy="856440"/>
            </a:xfrm>
          </p:grpSpPr>
          <p:sp>
            <p:nvSpPr>
              <p:cNvPr id="103" name="Oval 15"/>
              <p:cNvSpPr/>
              <p:nvPr/>
            </p:nvSpPr>
            <p:spPr>
              <a:xfrm>
                <a:off x="5925960" y="3503520"/>
                <a:ext cx="1081080" cy="8564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f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16"/>
              <p:cNvSpPr/>
              <p:nvPr/>
            </p:nvSpPr>
            <p:spPr>
              <a:xfrm>
                <a:off x="6057720" y="3553920"/>
                <a:ext cx="835200" cy="323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Oval 18"/>
            <p:cNvSpPr/>
            <p:nvPr/>
          </p:nvSpPr>
          <p:spPr>
            <a:xfrm>
              <a:off x="5950800" y="4427280"/>
              <a:ext cx="1119600" cy="2458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30"/>
          <p:cNvSpPr/>
          <p:nvPr/>
        </p:nvSpPr>
        <p:spPr>
          <a:xfrm>
            <a:off x="6075360" y="353844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2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45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347640" y="428760"/>
            <a:ext cx="453708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сихолого-педагогический консилиу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214440" y="2714760"/>
            <a:ext cx="48574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Пути совершенств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системы работы по осуществлению преемственности между начальным и средним звеньями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Documents and Settings\Admin\Рабочий стол\Методобъединение\15055_smjpg_24s74515h33949105.jpg"/>
          <p:cNvPicPr/>
          <p:nvPr/>
        </p:nvPicPr>
        <p:blipFill>
          <a:blip r:embed="rId2"/>
          <a:stretch/>
        </p:blipFill>
        <p:spPr>
          <a:xfrm>
            <a:off x="2987640" y="476280"/>
            <a:ext cx="5334120" cy="616428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10"/>
          <p:cNvSpPr/>
          <p:nvPr/>
        </p:nvSpPr>
        <p:spPr>
          <a:xfrm>
            <a:off x="3330720" y="5807160"/>
            <a:ext cx="477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Консилиум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– это эффективная форма коллективной диагно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"/>
          <p:cNvSpPr/>
          <p:nvPr/>
        </p:nvSpPr>
        <p:spPr>
          <a:xfrm>
            <a:off x="3868200" y="907920"/>
            <a:ext cx="38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Задачи  консилиу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3276720" y="1557360"/>
            <a:ext cx="46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мочь ученику найти в учении личностный смыс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делать процесс познания увлекательным и успеш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2" descr="Рисунок2.png"/>
          <p:cNvPicPr/>
          <p:nvPr/>
        </p:nvPicPr>
        <p:blipFill>
          <a:blip r:embed="rId2"/>
          <a:stretch/>
        </p:blipFill>
        <p:spPr>
          <a:xfrm>
            <a:off x="4427640" y="3141720"/>
            <a:ext cx="3074760" cy="3073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3851280" y="907920"/>
            <a:ext cx="43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Модель запуска пятикласс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3492360" y="2276640"/>
            <a:ext cx="417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класс – это переход из одного учебного модуля в другой, и из-за смены структуры, содержания обучения у детей происходят изменения психологического и деятельностного характе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4892760" y="3716280"/>
            <a:ext cx="4251240" cy="20322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бинетная систе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много учителей-предме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5045040" y="3868560"/>
            <a:ext cx="4251240" cy="20322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личивается количество предм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5197320" y="4021200"/>
            <a:ext cx="4251600" cy="203184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образие и отличие от начальной школы приёмов работы на у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5349960" y="4173480"/>
            <a:ext cx="4251240" cy="20322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 единства требований со стороны уч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5349960" y="4292640"/>
            <a:ext cx="4251240" cy="203184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растает состояние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тр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3203640" y="90792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Модель запуска пятикласс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3708360" y="2637000"/>
            <a:ext cx="39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тепенная адаптация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500720" y="3591000"/>
            <a:ext cx="4249440" cy="20304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ыработка единых требований учителями 4-х и 5-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4653000" y="3743280"/>
            <a:ext cx="4249800" cy="20304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отр знаний учащих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-х классов совместно с учителями двух моду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4805280" y="3895560"/>
            <a:ext cx="4249800" cy="20304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курсии учащихся 4-х классов по кабинетам, где они будут заниматься в 5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4957920" y="4048200"/>
            <a:ext cx="4249440" cy="20304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ещение и проведение уроков будущими учителя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5110200" y="4200480"/>
            <a:ext cx="4249800" cy="20304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я и проведение совместных мероприятий учителями 4-х и 5-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5262480" y="4352760"/>
            <a:ext cx="4249800" cy="20304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агностическая работа с учащими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5415120" y="4505400"/>
            <a:ext cx="4249440" cy="20304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рекционная деятельность учителей и психол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3851280" y="907920"/>
            <a:ext cx="39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Модель запуска пятикласс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2"/>
          <p:cNvSpPr/>
          <p:nvPr/>
        </p:nvSpPr>
        <p:spPr>
          <a:xfrm>
            <a:off x="3708360" y="263700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шение пробл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4017960" y="3403440"/>
            <a:ext cx="4249800" cy="20304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чинать работу по звонку и быстро включать учащихся в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4170240" y="3556080"/>
            <a:ext cx="4249800" cy="20304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ьшить долю фронтальн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4322880" y="3708360"/>
            <a:ext cx="4249800" cy="20304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личить плотность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4475160" y="3860640"/>
            <a:ext cx="4249800" cy="20304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олжать работу над каллиграф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4627440" y="4013280"/>
            <a:ext cx="4249800" cy="20304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нообразить виды деятельности на уро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4780080" y="4165560"/>
            <a:ext cx="4249800" cy="20304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вать ситуации успе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3203640" y="765000"/>
            <a:ext cx="4753080" cy="50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ОБ АВТОР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Павельчук Людмила Пав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МОУ СОШ №1 с.Екатериносла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Monotype Corsiva"/>
                <a:hlinkClick r:id="rId2"/>
              </a:rPr>
              <a:t>http://www.proshkolu.ru/user/djhrjdf24vfq/folder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10" descr="D:\фотографии\фото2\P5244161.JPG"/>
          <p:cNvPicPr/>
          <p:nvPr/>
        </p:nvPicPr>
        <p:blipFill>
          <a:blip r:embed="rId3"/>
          <a:stretch/>
        </p:blipFill>
        <p:spPr>
          <a:xfrm>
            <a:off x="3435480" y="1424160"/>
            <a:ext cx="1928520" cy="2365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7:19:40Z</dcterms:created>
  <dc:creator>Home</dc:creator>
  <dc:description/>
  <dc:language>en-US</dc:language>
  <cp:lastModifiedBy>User</cp:lastModifiedBy>
  <dcterms:modified xsi:type="dcterms:W3CDTF">2011-12-07T12:45:09Z</dcterms:modified>
  <cp:revision>7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