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C153-E9EC-4A75-BB43-778069D5E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79EE-66A9-4024-AD8A-20722C533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B71-B316-413A-BB0E-8249331F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C85-E425-4711-A976-473ECA15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82E-6AF1-40AA-A3CE-A7FF073C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7FB-E26D-457D-A5D4-502EC4B7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AED-5A97-448A-BAA9-ABA551B2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30F-B290-45F3-A061-2AF0942F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27C-F9D9-4AF2-BD3D-59AF3CF1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FFE-970D-4B1C-9842-E2D66D0D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2F5-5061-4787-B3F8-AB695B9B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CCA-866F-4224-BF86-9E907A83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1E2-E688-4A62-A208-1BDF6DA5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BDE-99F9-4EDD-9568-5F79A5B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A38A-C72F-4CE5-8FA6-BEB49B2D4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roshkolu.ru/user/djhrjdf24vfq/folder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9"/>
          <p:cNvSpPr/>
          <p:nvPr/>
        </p:nvSpPr>
        <p:spPr>
          <a:xfrm>
            <a:off x="0" y="0"/>
            <a:ext cx="922032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Группа 51"/>
          <p:cNvGrpSpPr/>
          <p:nvPr/>
        </p:nvGrpSpPr>
        <p:grpSpPr>
          <a:xfrm>
            <a:off x="895320" y="3363840"/>
            <a:ext cx="951120" cy="1063800"/>
            <a:chOff x="895320" y="3363840"/>
            <a:chExt cx="951120" cy="1063800"/>
          </a:xfrm>
        </p:grpSpPr>
        <p:grpSp>
          <p:nvGrpSpPr>
            <p:cNvPr id="50" name="Group 20"/>
            <p:cNvGrpSpPr/>
            <p:nvPr/>
          </p:nvGrpSpPr>
          <p:grpSpPr>
            <a:xfrm>
              <a:off x="895320" y="3363840"/>
              <a:ext cx="888480" cy="765360"/>
              <a:chOff x="895320" y="3363840"/>
              <a:chExt cx="888480" cy="765360"/>
            </a:xfrm>
          </p:grpSpPr>
          <p:sp>
            <p:nvSpPr>
              <p:cNvPr id="51" name="Oval 21"/>
              <p:cNvSpPr/>
              <p:nvPr/>
            </p:nvSpPr>
            <p:spPr>
              <a:xfrm>
                <a:off x="895320" y="3363840"/>
                <a:ext cx="888480" cy="7653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22"/>
              <p:cNvSpPr/>
              <p:nvPr/>
            </p:nvSpPr>
            <p:spPr>
              <a:xfrm>
                <a:off x="995040" y="3374640"/>
                <a:ext cx="684720" cy="290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Oval 24"/>
            <p:cNvSpPr/>
            <p:nvPr/>
          </p:nvSpPr>
          <p:spPr>
            <a:xfrm>
              <a:off x="925560" y="4207320"/>
              <a:ext cx="920880" cy="220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52"/>
          <p:cNvGrpSpPr/>
          <p:nvPr/>
        </p:nvGrpSpPr>
        <p:grpSpPr>
          <a:xfrm>
            <a:off x="0" y="3870360"/>
            <a:ext cx="1019160" cy="1130400"/>
            <a:chOff x="0" y="3870360"/>
            <a:chExt cx="1019160" cy="1130400"/>
          </a:xfrm>
        </p:grpSpPr>
        <p:grpSp>
          <p:nvGrpSpPr>
            <p:cNvPr id="55" name="Group 27"/>
            <p:cNvGrpSpPr/>
            <p:nvPr/>
          </p:nvGrpSpPr>
          <p:grpSpPr>
            <a:xfrm>
              <a:off x="0" y="3870360"/>
              <a:ext cx="982440" cy="832680"/>
              <a:chOff x="0" y="3870360"/>
              <a:chExt cx="982440" cy="832680"/>
            </a:xfrm>
          </p:grpSpPr>
          <p:sp>
            <p:nvSpPr>
              <p:cNvPr id="56" name="Oval 28"/>
              <p:cNvSpPr/>
              <p:nvPr/>
            </p:nvSpPr>
            <p:spPr>
              <a:xfrm>
                <a:off x="0" y="3870360"/>
                <a:ext cx="982440" cy="8326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29"/>
              <p:cNvSpPr/>
              <p:nvPr/>
            </p:nvSpPr>
            <p:spPr>
              <a:xfrm>
                <a:off x="97560" y="3927240"/>
                <a:ext cx="757440" cy="314640"/>
              </a:xfrm>
              <a:custGeom>
                <a:avLst/>
                <a:gdLst>
                  <a:gd name="textAreaLeft" fmla="*/ 0 w 757440"/>
                  <a:gd name="textAreaRight" fmla="*/ 757800 w 757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Oval 31"/>
            <p:cNvSpPr/>
            <p:nvPr/>
          </p:nvSpPr>
          <p:spPr>
            <a:xfrm>
              <a:off x="720" y="4762800"/>
              <a:ext cx="1018440" cy="2379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7"/>
          <p:cNvSpPr/>
          <p:nvPr/>
        </p:nvSpPr>
        <p:spPr>
          <a:xfrm>
            <a:off x="214200" y="250920"/>
            <a:ext cx="86439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Verdana"/>
              </a:rPr>
              <a:t>Как называется новая прогрессивная форма проведения малых педсоветов, где учительская команда вырабатывает стратегию индивидуализированного личностно мотивационного образования учащих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857240" y="5857920"/>
            <a:ext cx="5451480" cy="517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50000">
                <a:srgbClr val="5bbdbd"/>
              </a:gs>
              <a:gs pos="100000">
                <a:srgbClr val="00999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ОНСИЛИ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 rot="10800000">
            <a:off x="1857240" y="5072040"/>
            <a:ext cx="5207040" cy="789120"/>
          </a:xfrm>
          <a:prstGeom prst="upArrow">
            <a:avLst>
              <a:gd name="adj1" fmla="val 57824"/>
              <a:gd name="adj2" fmla="val 54398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600720" y="514368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Verdana"/>
              </a:rPr>
              <a:t>Вы пр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2906640" y="3786120"/>
            <a:ext cx="1143000" cy="1142640"/>
            <a:chOff x="2906640" y="3786120"/>
            <a:chExt cx="1143000" cy="1142640"/>
          </a:xfrm>
        </p:grpSpPr>
        <p:grpSp>
          <p:nvGrpSpPr>
            <p:cNvPr id="64" name="Group 8"/>
            <p:cNvGrpSpPr/>
            <p:nvPr/>
          </p:nvGrpSpPr>
          <p:grpSpPr>
            <a:xfrm>
              <a:off x="2906640" y="3786120"/>
              <a:ext cx="1075320" cy="835920"/>
              <a:chOff x="2906640" y="3786120"/>
              <a:chExt cx="1075320" cy="835920"/>
            </a:xfrm>
          </p:grpSpPr>
          <p:sp>
            <p:nvSpPr>
              <p:cNvPr id="65" name="Oval 9"/>
              <p:cNvSpPr/>
              <p:nvPr/>
            </p:nvSpPr>
            <p:spPr>
              <a:xfrm>
                <a:off x="2906640" y="3786120"/>
                <a:ext cx="1075320" cy="8359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02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0"/>
              <p:cNvSpPr/>
              <p:nvPr/>
            </p:nvSpPr>
            <p:spPr>
              <a:xfrm>
                <a:off x="3029400" y="3799800"/>
                <a:ext cx="830160" cy="31536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Oval 12"/>
            <p:cNvSpPr/>
            <p:nvPr/>
          </p:nvSpPr>
          <p:spPr>
            <a:xfrm>
              <a:off x="2906640" y="4687200"/>
              <a:ext cx="1143000" cy="2415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3"/>
          <p:cNvGrpSpPr/>
          <p:nvPr/>
        </p:nvGrpSpPr>
        <p:grpSpPr>
          <a:xfrm>
            <a:off x="1846440" y="3408480"/>
            <a:ext cx="1142640" cy="1142640"/>
            <a:chOff x="1846440" y="3408480"/>
            <a:chExt cx="1142640" cy="1142640"/>
          </a:xfrm>
        </p:grpSpPr>
        <p:grpSp>
          <p:nvGrpSpPr>
            <p:cNvPr id="69" name="Group 14"/>
            <p:cNvGrpSpPr/>
            <p:nvPr/>
          </p:nvGrpSpPr>
          <p:grpSpPr>
            <a:xfrm>
              <a:off x="1846440" y="3408480"/>
              <a:ext cx="1081440" cy="856800"/>
              <a:chOff x="1846440" y="3408480"/>
              <a:chExt cx="1081440" cy="856800"/>
            </a:xfrm>
          </p:grpSpPr>
          <p:sp>
            <p:nvSpPr>
              <p:cNvPr id="70" name="Oval 15"/>
              <p:cNvSpPr/>
              <p:nvPr/>
            </p:nvSpPr>
            <p:spPr>
              <a:xfrm>
                <a:off x="1846440" y="3408480"/>
                <a:ext cx="1081440" cy="85680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6"/>
              <p:cNvSpPr/>
              <p:nvPr/>
            </p:nvSpPr>
            <p:spPr>
              <a:xfrm>
                <a:off x="1978200" y="3458880"/>
                <a:ext cx="834840" cy="323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Oval 18"/>
            <p:cNvSpPr/>
            <p:nvPr/>
          </p:nvSpPr>
          <p:spPr>
            <a:xfrm>
              <a:off x="1869120" y="4304880"/>
              <a:ext cx="1119960" cy="246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30"/>
          <p:cNvSpPr/>
          <p:nvPr/>
        </p:nvSpPr>
        <p:spPr>
          <a:xfrm>
            <a:off x="214200" y="40719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53"/>
          <p:cNvGrpSpPr/>
          <p:nvPr/>
        </p:nvGrpSpPr>
        <p:grpSpPr>
          <a:xfrm>
            <a:off x="4011480" y="3544920"/>
            <a:ext cx="1071720" cy="1143000"/>
            <a:chOff x="4011480" y="3544920"/>
            <a:chExt cx="1071720" cy="1143000"/>
          </a:xfrm>
        </p:grpSpPr>
        <p:grpSp>
          <p:nvGrpSpPr>
            <p:cNvPr id="75" name="Group 14"/>
            <p:cNvGrpSpPr/>
            <p:nvPr/>
          </p:nvGrpSpPr>
          <p:grpSpPr>
            <a:xfrm>
              <a:off x="4011480" y="3544920"/>
              <a:ext cx="1014120" cy="856800"/>
              <a:chOff x="4011480" y="3544920"/>
              <a:chExt cx="1014120" cy="856800"/>
            </a:xfrm>
          </p:grpSpPr>
          <p:sp>
            <p:nvSpPr>
              <p:cNvPr id="76" name="Oval 15"/>
              <p:cNvSpPr/>
              <p:nvPr/>
            </p:nvSpPr>
            <p:spPr>
              <a:xfrm>
                <a:off x="4011480" y="3544920"/>
                <a:ext cx="1014120" cy="85680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4134960" y="3595320"/>
                <a:ext cx="782280" cy="323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Oval 18"/>
            <p:cNvSpPr/>
            <p:nvPr/>
          </p:nvSpPr>
          <p:spPr>
            <a:xfrm>
              <a:off x="4032720" y="4441680"/>
              <a:ext cx="1050480" cy="246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3"/>
          <p:cNvSpPr/>
          <p:nvPr/>
        </p:nvSpPr>
        <p:spPr>
          <a:xfrm>
            <a:off x="1120680" y="34894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4114800" y="37465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3046320" y="39276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0"/>
          <p:cNvSpPr/>
          <p:nvPr/>
        </p:nvSpPr>
        <p:spPr>
          <a:xfrm>
            <a:off x="2179800" y="36669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Группа 51"/>
          <p:cNvGrpSpPr/>
          <p:nvPr/>
        </p:nvGrpSpPr>
        <p:grpSpPr>
          <a:xfrm>
            <a:off x="6649920" y="3943440"/>
            <a:ext cx="1214640" cy="1143000"/>
            <a:chOff x="6649920" y="3943440"/>
            <a:chExt cx="1214640" cy="1143000"/>
          </a:xfrm>
        </p:grpSpPr>
        <p:grpSp>
          <p:nvGrpSpPr>
            <p:cNvPr id="84" name="Group 20"/>
            <p:cNvGrpSpPr/>
            <p:nvPr/>
          </p:nvGrpSpPr>
          <p:grpSpPr>
            <a:xfrm>
              <a:off x="6649920" y="3943440"/>
              <a:ext cx="1134360" cy="822600"/>
              <a:chOff x="6649920" y="3943440"/>
              <a:chExt cx="1134360" cy="822600"/>
            </a:xfrm>
          </p:grpSpPr>
          <p:sp>
            <p:nvSpPr>
              <p:cNvPr id="85" name="Oval 21"/>
              <p:cNvSpPr/>
              <p:nvPr/>
            </p:nvSpPr>
            <p:spPr>
              <a:xfrm>
                <a:off x="6649920" y="3943440"/>
                <a:ext cx="1134360" cy="82260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2"/>
              <p:cNvSpPr/>
              <p:nvPr/>
            </p:nvSpPr>
            <p:spPr>
              <a:xfrm>
                <a:off x="6778080" y="3956040"/>
                <a:ext cx="875520" cy="311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Oval 24"/>
            <p:cNvSpPr/>
            <p:nvPr/>
          </p:nvSpPr>
          <p:spPr>
            <a:xfrm>
              <a:off x="6688800" y="4849560"/>
              <a:ext cx="1175760" cy="2368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52"/>
          <p:cNvGrpSpPr/>
          <p:nvPr/>
        </p:nvGrpSpPr>
        <p:grpSpPr>
          <a:xfrm>
            <a:off x="7643880" y="3929040"/>
            <a:ext cx="1214280" cy="1214640"/>
            <a:chOff x="7643880" y="3929040"/>
            <a:chExt cx="1214280" cy="1214640"/>
          </a:xfrm>
        </p:grpSpPr>
        <p:grpSp>
          <p:nvGrpSpPr>
            <p:cNvPr id="89" name="Group 27"/>
            <p:cNvGrpSpPr/>
            <p:nvPr/>
          </p:nvGrpSpPr>
          <p:grpSpPr>
            <a:xfrm>
              <a:off x="7643880" y="3929040"/>
              <a:ext cx="1170720" cy="896040"/>
              <a:chOff x="7643880" y="3929040"/>
              <a:chExt cx="1170720" cy="896040"/>
            </a:xfrm>
          </p:grpSpPr>
          <p:sp>
            <p:nvSpPr>
              <p:cNvPr id="90" name="Oval 28"/>
              <p:cNvSpPr/>
              <p:nvPr/>
            </p:nvSpPr>
            <p:spPr>
              <a:xfrm>
                <a:off x="7643880" y="3929040"/>
                <a:ext cx="1170720" cy="8960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"/>
              <p:cNvSpPr/>
              <p:nvPr/>
            </p:nvSpPr>
            <p:spPr>
              <a:xfrm>
                <a:off x="7760520" y="3990960"/>
                <a:ext cx="903600" cy="338040"/>
              </a:xfrm>
              <a:custGeom>
                <a:avLst/>
                <a:gdLst>
                  <a:gd name="textAreaLeft" fmla="*/ 0 w 903600"/>
                  <a:gd name="textAreaRight" fmla="*/ 903960 w 903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Oval 31"/>
            <p:cNvSpPr/>
            <p:nvPr/>
          </p:nvSpPr>
          <p:spPr>
            <a:xfrm>
              <a:off x="7644960" y="4887360"/>
              <a:ext cx="1213200" cy="256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30"/>
          <p:cNvSpPr/>
          <p:nvPr/>
        </p:nvSpPr>
        <p:spPr>
          <a:xfrm>
            <a:off x="6929280" y="4143240"/>
            <a:ext cx="5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7858080" y="4071960"/>
            <a:ext cx="7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5025960" y="3782880"/>
            <a:ext cx="987120" cy="1104840"/>
            <a:chOff x="5025960" y="3782880"/>
            <a:chExt cx="987120" cy="1104840"/>
          </a:xfrm>
        </p:grpSpPr>
        <p:grpSp>
          <p:nvGrpSpPr>
            <p:cNvPr id="96" name="Group 8"/>
            <p:cNvGrpSpPr/>
            <p:nvPr/>
          </p:nvGrpSpPr>
          <p:grpSpPr>
            <a:xfrm>
              <a:off x="5025960" y="3782880"/>
              <a:ext cx="927000" cy="809280"/>
              <a:chOff x="5025960" y="3782880"/>
              <a:chExt cx="927000" cy="809280"/>
            </a:xfrm>
          </p:grpSpPr>
          <p:sp>
            <p:nvSpPr>
              <p:cNvPr id="97" name="Oval 9"/>
              <p:cNvSpPr/>
              <p:nvPr/>
            </p:nvSpPr>
            <p:spPr>
              <a:xfrm>
                <a:off x="5025960" y="3782880"/>
                <a:ext cx="927000" cy="80928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02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"/>
              <p:cNvSpPr/>
              <p:nvPr/>
            </p:nvSpPr>
            <p:spPr>
              <a:xfrm>
                <a:off x="5273640" y="3989520"/>
                <a:ext cx="573840" cy="414360"/>
              </a:xfrm>
              <a:custGeom>
                <a:avLst/>
                <a:gdLst>
                  <a:gd name="textAreaLeft" fmla="*/ 0 w 573840"/>
                  <a:gd name="textAreaRight" fmla="*/ 574200 w 57384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Oval 12"/>
            <p:cNvSpPr/>
            <p:nvPr/>
          </p:nvSpPr>
          <p:spPr>
            <a:xfrm>
              <a:off x="5026680" y="4654080"/>
              <a:ext cx="986400" cy="233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Прямоугольник 72"/>
          <p:cNvSpPr/>
          <p:nvPr/>
        </p:nvSpPr>
        <p:spPr>
          <a:xfrm>
            <a:off x="5224320" y="3936960"/>
            <a:ext cx="4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3"/>
          <p:cNvGrpSpPr/>
          <p:nvPr/>
        </p:nvGrpSpPr>
        <p:grpSpPr>
          <a:xfrm>
            <a:off x="5925960" y="3503520"/>
            <a:ext cx="1144440" cy="1169640"/>
            <a:chOff x="5925960" y="3503520"/>
            <a:chExt cx="1144440" cy="1169640"/>
          </a:xfrm>
        </p:grpSpPr>
        <p:grpSp>
          <p:nvGrpSpPr>
            <p:cNvPr id="102" name="Group 14"/>
            <p:cNvGrpSpPr/>
            <p:nvPr/>
          </p:nvGrpSpPr>
          <p:grpSpPr>
            <a:xfrm>
              <a:off x="5925960" y="3503520"/>
              <a:ext cx="1081080" cy="856440"/>
              <a:chOff x="5925960" y="3503520"/>
              <a:chExt cx="1081080" cy="856440"/>
            </a:xfrm>
          </p:grpSpPr>
          <p:sp>
            <p:nvSpPr>
              <p:cNvPr id="103" name="Oval 15"/>
              <p:cNvSpPr/>
              <p:nvPr/>
            </p:nvSpPr>
            <p:spPr>
              <a:xfrm>
                <a:off x="5925960" y="3503520"/>
                <a:ext cx="1081080" cy="8564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6"/>
              <p:cNvSpPr/>
              <p:nvPr/>
            </p:nvSpPr>
            <p:spPr>
              <a:xfrm>
                <a:off x="6057720" y="3553920"/>
                <a:ext cx="835200" cy="323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Oval 18"/>
            <p:cNvSpPr/>
            <p:nvPr/>
          </p:nvSpPr>
          <p:spPr>
            <a:xfrm>
              <a:off x="5950800" y="4427280"/>
              <a:ext cx="1119600" cy="2458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30"/>
          <p:cNvSpPr/>
          <p:nvPr/>
        </p:nvSpPr>
        <p:spPr>
          <a:xfrm>
            <a:off x="6075360" y="35384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47640" y="428760"/>
            <a:ext cx="453708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сихолого-педагогический консили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14440" y="2714760"/>
            <a:ext cx="48574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ути совершенств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истемы работы по осуществлению преемственности между начальным и средним звеньями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dmin\Рабочий стол\Методобъединение\15055_smjpg_24s74515h33949105.jpg"/>
          <p:cNvPicPr/>
          <p:nvPr/>
        </p:nvPicPr>
        <p:blipFill>
          <a:blip r:embed="rId2"/>
          <a:stretch/>
        </p:blipFill>
        <p:spPr>
          <a:xfrm>
            <a:off x="2987640" y="476280"/>
            <a:ext cx="5334120" cy="6164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10"/>
          <p:cNvSpPr/>
          <p:nvPr/>
        </p:nvSpPr>
        <p:spPr>
          <a:xfrm>
            <a:off x="3330720" y="5807160"/>
            <a:ext cx="477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Консилиум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– это эффективная форма коллективной диагно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3868200" y="907920"/>
            <a:ext cx="38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Задачи  консилиу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276720" y="1557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мочь ученику найти в учении личностный смыс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делать процесс познания увлекательным и успеш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Рисунок2.png"/>
          <p:cNvPicPr/>
          <p:nvPr/>
        </p:nvPicPr>
        <p:blipFill>
          <a:blip r:embed="rId2"/>
          <a:stretch/>
        </p:blipFill>
        <p:spPr>
          <a:xfrm>
            <a:off x="4427640" y="3141720"/>
            <a:ext cx="3074760" cy="307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3851280" y="90792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одель запуска пятиклас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3492360" y="2276640"/>
            <a:ext cx="41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класс – это переход из одного учебного модуля в другой, и из-за смены структуры, содержания обучения у детей происходят изменения психологического и деятельностного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892760" y="3716280"/>
            <a:ext cx="4251240" cy="20322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инетная сис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много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5045040" y="3868560"/>
            <a:ext cx="4251240" cy="20322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вается количество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197320" y="4021200"/>
            <a:ext cx="4251600" cy="203184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образие и отличие от начальной школы приёмов работы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5349960" y="4173480"/>
            <a:ext cx="4251240" cy="20322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единства требований со сторон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5349960" y="4292640"/>
            <a:ext cx="4251240" cy="203184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ает состояни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3203640" y="90792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одель запуска пятиклас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3708360" y="263700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епенная адаптация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500720" y="3591000"/>
            <a:ext cx="424944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работка единых требований учителями 4-х и 5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653000" y="374328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тр знаний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х классов совместно с учителями двух моду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805280" y="389556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и учащихся 4-х классов по кабинетам, где они будут заниматься в 5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957920" y="4048200"/>
            <a:ext cx="424944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щение и проведение уроков будущими учител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5110200" y="420048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и проведение совместных мероприятий учителями 4-х и 5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5262480" y="435276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гностическая работа с учащими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5415120" y="4505400"/>
            <a:ext cx="424944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ционная деятельность учителей и 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3851280" y="9079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одель запуска пятиклас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3708360" y="2637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017960" y="340344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инать работу по звонку и быстро включать учащихся в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170240" y="355608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ить долю фронта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322880" y="370836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ть плотность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75160" y="386064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ать работу над каллиграф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627440" y="401328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образить виды деятельности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780080" y="4165560"/>
            <a:ext cx="4249800" cy="2030400"/>
          </a:xfrm>
          <a:prstGeom prst="wedgeRectCallout">
            <a:avLst>
              <a:gd name="adj1" fmla="val -36083"/>
              <a:gd name="adj2" fmla="val 78722"/>
            </a:avLst>
          </a:prstGeom>
          <a:solidFill>
            <a:srgbClr val="badd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ситуации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3203640" y="765000"/>
            <a:ext cx="475308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ОБ АВТО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авельчук Людмил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МОУ СОШ №1 с.Екатериносл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http://www.proshkolu.ru/user/djhrjdf24vfq/fold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10" descr="D:\фотографии\фото2\P5244161.JPG"/>
          <p:cNvPicPr/>
          <p:nvPr/>
        </p:nvPicPr>
        <p:blipFill>
          <a:blip r:embed="rId3"/>
          <a:stretch/>
        </p:blipFill>
        <p:spPr>
          <a:xfrm>
            <a:off x="3435480" y="1424160"/>
            <a:ext cx="1928520" cy="236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7:19:40Z</dcterms:created>
  <dc:creator>Home</dc:creator>
  <dc:description/>
  <dc:language>en-US</dc:language>
  <cp:lastModifiedBy>User</cp:lastModifiedBy>
  <dcterms:modified xsi:type="dcterms:W3CDTF">2011-12-07T12:45:09Z</dcterms:modified>
  <cp:revision>7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