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9C9-07E4-430C-A6CA-54C6DF4C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536-6CE8-4227-9ABF-0A132340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85A-50DD-4DEA-80A0-D2686F36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38B-6B3E-45A8-AAC9-2D4B264C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8C1-7E08-4B22-909A-E6986D80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057-21CD-43AC-97FA-75E64E33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05D-3C93-44E1-809A-C05A7100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D6C-023B-4E98-BA91-C6159B6E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002-B2A7-42B1-88B9-213882A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3C2-58F5-4E23-A652-1C9265D0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ED2-0D72-4DDA-A118-630581C9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6F8-5B2B-43DF-8570-B0365E2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DA6E-B661-4BD7-8277-602B4F3C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ектно-исследовательский метод — основной метод обуч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5660640"/>
            <a:ext cx="69357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МХК и ИЗО ОУ «Магдагачинская МСОШ №3» Лоцманова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4044" r="0" b="3110"/>
          <a:stretch/>
        </p:blipFill>
        <p:spPr>
          <a:xfrm>
            <a:off x="1905120" y="228600"/>
            <a:ext cx="57196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C18-53C1-4B64-AD54-A5BDBA97EE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ешествие длится пять уро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1 ур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Зачет по прошлой теме. Фильм, план фильм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сказ учителя, вопросы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2 ур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Поиск ответов на свои вопросы: работа с книгами, компьютерными программами, ресурсами Интернета. Осуждение в группах. Рассказ ученика. Вопросы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3 ур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Работа с историческим документом. Диалог.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4-5 уро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Творческая работа. Презентация работ. Обсуж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1952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Творческая работа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219" t="0" r="0" b="0"/>
          <a:stretch/>
        </p:blipFill>
        <p:spPr>
          <a:xfrm>
            <a:off x="1295280" y="2895480"/>
            <a:ext cx="6708960" cy="349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B9E-E054-40E9-AE3B-45BA45383F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Варианты уроков – путешеств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ленькие темы - на два урока (без работы в группах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ьшие путешествия - на 8 уроков (если позволяет программа). Ученики выпускают газету, совместно рисуют, клеят большое полотно (коллективно - творческая работа),  пишут презентации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43828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Творческая работа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483240" cy="36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C36-06C7-47C2-9893-AED60E51DF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228600"/>
            <a:ext cx="4648320" cy="53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Трудности для учите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готовить фрагмент фильма, слайд-шоу, презентацию, исторический источник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Организация: работа в группах, разговор вполголоса, доклады представителей групп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Дисциплина: ученики, привыкшие к нормальному уроку, поняв, что здесь что-то не так, могут «выйти из-под контроля». Но строгость в организации не противоречит творческой свобо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75200" y="1143000"/>
            <a:ext cx="3940200" cy="40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0F4-FFED-4BE1-8A0B-D6841C20E9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066680"/>
            <a:ext cx="46483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чем все эти слож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лучше ли традиционный урок: объяснил, задал задание, проверил. Дети спокойны, результаты хорош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дно «но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ый момент нормального урока - вызов к доске. «К доске пойдет...» - каждый помнит эти слова и паузу после...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я школа держится на этой паузе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3846600" cy="48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466-F670-4AB6-BA86-F484334EF9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ы перестали вызывать к доске?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Жалко терять врем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исчез страх, дети перестали слушаться?.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то ж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ржите паузу или научитесь работать иначе.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4000" t="0" r="69465" b="0"/>
          <a:stretch/>
        </p:blipFill>
        <p:spPr>
          <a:xfrm>
            <a:off x="457200" y="2743200"/>
            <a:ext cx="2286000" cy="3425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35424" t="0" r="33619" b="0"/>
          <a:stretch/>
        </p:blipFill>
        <p:spPr>
          <a:xfrm>
            <a:off x="3200400" y="2743200"/>
            <a:ext cx="2666880" cy="34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73887" t="16633" r="3114" b="0"/>
          <a:stretch/>
        </p:blipFill>
        <p:spPr>
          <a:xfrm>
            <a:off x="6248520" y="2743200"/>
            <a:ext cx="2325600" cy="335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6248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Работы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5BC-47BF-4403-A08B-FA8E1CEDE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133720"/>
            <a:ext cx="426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ь думать, работать самостоятельно, опираться на детский интерес - кредо гуманной педагог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ю свои находки  в проектно-исследовательской работе в рамках уроков МХК, ИЗО проводящихся в форме творческих мастерск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-228600"/>
            <a:ext cx="58672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роектно-исследовательский метод — основной метод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670120" cy="159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4FC-0768-45A7-8F8E-E33B58A05C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915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</a:rPr>
              <a:t>Урок 1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отрим фильм без объяснений и комментариев. Фильм - это путешествие в другую эпох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тем рассказ, а не объяснение с «опорными конспектами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колько удивительных историй, которые трогают душу, заставляют пережив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Учебные филь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2743200"/>
            <a:ext cx="2563920" cy="374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B26-262E-4637-A9D9-125B93818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бный фильм обращается не столько к рассудку, а сколько к сердцу ребенка. Ученик пишет или рисует план филь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фильм - это творческий образ. Нарисованный план останется в памяти на долгие го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роших фильмов очень много, можно написать учителю двадцатиминутный фрагмент к каждой теме. Альтернатива фильму – слайды презентации. Экскурсия лучше филь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66688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Учебные филь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724280" cy="295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15725" b="0"/>
          <a:stretch/>
        </p:blipFill>
        <p:spPr>
          <a:xfrm>
            <a:off x="304920" y="3200400"/>
            <a:ext cx="365760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66E-4409-4822-9AC9-42D632F21A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каких комментариев и определений во время просмот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льм создает сильные образы, доводит учеников до эмоционального накала, шока от столкновения с другой реальностью, с сознанием человека другой эпох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: детские вопросы - первый шаг к познан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ащиеся после просмотра фильма задают поверхностные вопросы: «А как обжигали...», «Сколько килограмм весил костюм или золота пошло на...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за тем – проблем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Учебные филь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4267440" cy="2932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88944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E63-F682-4851-A3C6-F1A666678C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</a:rPr>
              <a:t>Урок 2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втором уроке идет поиск ответов на свои вопросы. Класс  делится на четыре группы. Группа выбирает тему своей работы, литературу, компьютерные программы, адреса ссылок в Интернете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инается работа в группах:                                                                                             - каждый читает свое,                                                                                      - потом разговоры вполголо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864040" cy="32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3200400" cy="234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1FA-400E-4C8C-9C1E-3BEF718DCE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льным ученикам даю книгу посложнее, кто «плохо читает» - книжку, где больше картинок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неуверенного ученика разговоры вполголоса средство «заговорит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товы. Выбирается один ученик от группы рассказать о том, что прочитали, всему классу. Говорить нужно так, чтобы все слушали и было интерес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не ответ у доски, а рассказ о том, что другие еще не знаю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каждого сообщения задаются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276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Коллективно-творческая работа учащихся 2 «б»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68600" y="3657600"/>
            <a:ext cx="5341680" cy="313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A92-AEB0-460D-B630-20F159BECB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Урок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ешествие продолжается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аздаю классу небольшой текст исторического документа. Энциклопедия, ресурсы Интернета - это движение вширь, документ - движение вглубь. Текст исторического документа отражает «дух эпохи», сохранивший голос человека другой культу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Обсуждение прочитанного превращается в диалог с человеком другого поколения. Ученики задают вопросы, сами пытаются ответить на них от лица человека другой эпохи, посмотреть на мир его глазами, понять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657600" cy="27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CA3-27DB-47F9-A69A-411E1FDB0B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457200"/>
            <a:ext cx="5029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</a:rPr>
              <a:t>Урок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тешествие закончилос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им, что познал ученик без объяснения нового материала, без зубрежки параграфа, без монологов у доски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к должен написать план сообщения, сценарий фильма, составить кроссворд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главное то, что ученик научился работать в команде, строить свою индивидуальную образовательную траекторию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7984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7FA-DD84-49C6-B391-11154A4F1B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8-27T17:34:33Z</dcterms:modified>
  <cp:revision>2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