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FA0-72E1-4439-BCAF-B392A9E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44B-8F2E-4116-AC5E-B64353E6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68D-66CE-4B57-A433-EBD9A34C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876-6E03-432C-887E-7203C7F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E91-A4C3-4F87-8D54-DD090A2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B98-F9D6-48FF-BAAB-87AB658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923-4DEE-4FC4-A067-F276D93C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B08-2201-4DF3-A310-57D0AB96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708-10B5-4D06-B020-3EE9F9E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4E9-14D2-4F9A-86D1-2DD3918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801-6FE6-4229-8564-E6EA92E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06C-24A8-479F-9900-8C3388E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757-383A-47AE-BF1E-A5E1C1CE9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ектно-исследовательский метод — основной метод обу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60640"/>
            <a:ext cx="69357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МХК и ИЗО ОУ «Магдагачинская МСОШ №3» Лоцманов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4044" r="0" b="3110"/>
          <a:stretch/>
        </p:blipFill>
        <p:spPr>
          <a:xfrm>
            <a:off x="1905120" y="228600"/>
            <a:ext cx="57196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120-4F84-4D42-8345-1D56EFAA6A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длится пять уро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1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Зачет по прошлой теме. Фильм, план филь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каз учителя,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2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Поиск ответов на свои вопросы: работа с книгами, компьютерными программами, ресурсами Интернета. Осуждение в группах. Рассказ ученика.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3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Работа с историческим документом. Диалог.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4-5 уро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Творческая работа. Презентация работ. Обсу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19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19" t="0" r="0" b="0"/>
          <a:stretch/>
        </p:blipFill>
        <p:spPr>
          <a:xfrm>
            <a:off x="1295280" y="2895480"/>
            <a:ext cx="6708960" cy="34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1ED-EC32-4CDC-8418-EB50F8E0F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Варианты уроков – путешеств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енькие темы - на два урока (без работы в группа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е путешествия - на 8 уроков (если позволяет программа). Ученики выпускают газету, совместно рисуют, клеят большое полотно (коллективно - творческая работа),  пишут презентации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43828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8324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C7C-D3E2-45CA-9AB4-CCF4E85BCA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228600"/>
            <a:ext cx="464832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удности для учи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готовить фрагмент фильма, слайд-шоу, презентацию, исторический источник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рганизация: работа в группах, разговор вполголоса, доклады представителей групп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Дисциплина: ученики, привыкшие к нормальному уроку, поняв, что здесь что-то не так, могут «выйти из-под контроля». Но строгость в организации не противоречит творческой своб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75200" y="1143000"/>
            <a:ext cx="394020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21E-17BF-4E67-AB05-B820127D1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066680"/>
            <a:ext cx="46483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чем все эти слож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лучше ли традиционный урок: объяснил, задал задание, проверил. Дети спокойны, результаты хорош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дно «но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ый момент нормального урока - вызов к доске. «К доске пойдет...» - каждый помнит эти слова и паузу после...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я школа держится на этой паузе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8466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BF5-5CD1-4C51-B203-6CE363EA83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 перестали вызывать к доске?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Жалко терять врем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исчез страх, дети перестали слушаться?.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то ж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жите паузу или научитесь работать иначе.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4000" t="0" r="69465" b="0"/>
          <a:stretch/>
        </p:blipFill>
        <p:spPr>
          <a:xfrm>
            <a:off x="457200" y="2743200"/>
            <a:ext cx="2286000" cy="342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5424" t="0" r="33619" b="0"/>
          <a:stretch/>
        </p:blipFill>
        <p:spPr>
          <a:xfrm>
            <a:off x="3200400" y="2743200"/>
            <a:ext cx="2666880" cy="34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73887" t="16633" r="3114" b="0"/>
          <a:stretch/>
        </p:blipFill>
        <p:spPr>
          <a:xfrm>
            <a:off x="6248520" y="2743200"/>
            <a:ext cx="232560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6248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боты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370-569B-4094-9AE0-D7C16747E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3372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ь думать, работать самостоятельно, опираться на детский интерес - кредо гуманной педагог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ю свои находки  в проектно-исследовательской работе в рамках уроков МХК, ИЗО проводящихся в форме творческих мастерск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-228600"/>
            <a:ext cx="5867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оектно-исследовательский метод — основной мет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670120" cy="15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FD4-43D4-41EF-B0AC-F8D803A0C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15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отрим фильм без объяснений и комментариев. Фильм - это путешествие в другую эпох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рассказ, а не объяснение с «опорными конспектами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колько удивительных историй, которые трогают душу, заставляют пережив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2563920" cy="37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9F6-26E0-4F42-90D0-586810DAE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ый фильм обращается не столько к рассудку, а сколько к сердцу ребенка. Ученик пишет или рисует план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фильм - это творческий образ. Нарисованный план останется в памяти на долгие г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роших фильмов очень много, можно написать учителю двадцатиминутный фрагмент к каждой теме. Альтернатива фильму – слайды презентации. Экскурсия лучше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6668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724280" cy="295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15725" b="0"/>
          <a:stretch/>
        </p:blipFill>
        <p:spPr>
          <a:xfrm>
            <a:off x="304920" y="3200400"/>
            <a:ext cx="365760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B73-DBC9-47BC-A966-1E946EACCF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каких комментариев и определений во время просмо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льм создает сильные образы, доводит учеников до эмоционального накала, шока от столкновения с другой реальностью, с сознанием человека другой эпох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: детские вопросы - первый шаг к позна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ащиеся после просмотра фильма задают поверхностные вопросы: «А как обжигали...», «Сколько килограмм весил костюм или золота пошло на...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за тем – проблем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267440" cy="293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88944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7B1-8DCE-47E2-BC62-E8342224F6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тором уроке идет поиск ответов на свои вопросы. Класс  делится на четыре группы. Группа выбирает тему своей работы, литературу, компьютерные программы, адреса ссылок в Интернет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работа в группах:                                                                                             - каждый читает свое,                                                                                      - потом разговоры вполголо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864040" cy="32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200400" cy="23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C21-3851-454B-92B7-C050FBA43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льным ученикам даю книгу посложнее, кто «плохо читает» - книжку, где больше картинок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еуверенного ученика разговоры вполголоса средство «заговори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товы. Выбирается один ученик от группы рассказать о том, что прочитали, всему классу. Говорить нужно так, чтобы все слушали и было интерес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не ответ у доски, а рассказ о том, что другие еще не зна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сообщения задаются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276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Коллективно-творческая работа учащихся 2 «б»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68600" y="3657600"/>
            <a:ext cx="5341680" cy="313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920-6D98-469C-B807-7C57F3D60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Урок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продолжается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даю классу небольшой текст исторического документа. Энциклопедия, ресурсы Интернета - это движение вширь, документ - движение вглубь. Текст исторического документа отражает «дух эпохи», сохранивший голос человека другой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бсуждение прочитанного превращается в диалог с человеком другого поколения. Ученики задают вопросы, сами пытаются ответить на них от лица человека другой эпохи, посмотреть на мир его глазами, понять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277-8C34-460D-9CDC-51A84F042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457200"/>
            <a:ext cx="502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ешествие закончило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им, что познал ученик без объяснения нового материала, без зубрежки параграфа, без монологов у доски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к должен написать план сообщения, сценарий фильма, составить кроссворд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главное то, что ученик научился работать в команде, строить свою индивидуальную образовательную траекторию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7984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67E-7FB7-43BE-A164-FBB7E2FA1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8-27T17:34:33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