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7E42-5E7F-4388-AFB0-0BB025A2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6E3D-15AF-4BEB-B1BD-D813E063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242B-C02A-47F7-A620-9467C1DB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ADC-1F13-4C5D-BEA1-CE1AE05A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ECAA-6D6E-4FA6-99DA-90D924C7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3622-97D9-4D8F-A0D9-26507A25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D41F-1992-4914-A6E7-F4B27FA3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AC3-6AD4-4794-8237-13C3E248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1438-55B4-4438-A62D-88F5647B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F7E6-76AA-498E-9685-E37B1B87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5BB-3F57-4571-B57F-C36E8789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C69E-4EEA-4A90-8FDA-DDEF71FE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49F8-DF5F-47A1-9CB8-54B092FEF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8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роектно-исследовательский метод — основной метод обуч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79640" y="5660640"/>
            <a:ext cx="69357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 МХК и ИЗО ОУ «Магдагачинская МСОШ №3» Лоцманова В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4044" r="0" b="3110"/>
          <a:stretch/>
        </p:blipFill>
        <p:spPr>
          <a:xfrm>
            <a:off x="1905120" y="228600"/>
            <a:ext cx="571968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12B-9226-4E4A-9C6A-67F8BD8A85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утешествие длится пять уро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1 уро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Зачет по прошлой теме. Фильм, план фильма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ссказ учителя, вопросы уча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2 уро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Поиск ответов на свои вопросы: работа с книгами, компьютерными программами, ресурсами Интернета. Осуждение в группах. Рассказ ученика. Вопросы уча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3 уро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Работа с историческим документом. Диалог.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4-5 урок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Творческая работа. Презентация работ. Обсужд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2819520"/>
            <a:ext cx="63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Творческая работа уча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2219" t="0" r="0" b="0"/>
          <a:stretch/>
        </p:blipFill>
        <p:spPr>
          <a:xfrm>
            <a:off x="1295280" y="2895480"/>
            <a:ext cx="6708960" cy="349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630-B6D2-48BF-A7C9-EB87606703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Варианты уроков – путешеств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аленькие темы - на два урока (без работы в группах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ольшие путешествия - на 8 уроков (если позволяет программа). Ученики выпускают газету, совместно рисуют, клеят большое полотно (коллективно - творческая работа),  пишут презентации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2438280"/>
            <a:ext cx="63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Творческая работа уча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483240" cy="363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C2CD-8E14-493D-8C6A-FBB114D9E2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280" y="228600"/>
            <a:ext cx="4648320" cy="53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Трудности для учител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дготовить фрагмент фильма, слайд-шоу, презентацию, исторический источник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Организация: работа в группах, разговор вполголоса, доклады представителей групп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Дисциплина: ученики, привыкшие к нормальному уроку, поняв, что здесь что-то не так, могут «выйти из-под контроля». Но строгость в организации не противоречит творческой свобод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975200" y="1143000"/>
            <a:ext cx="3940200" cy="404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D71-51A8-4D36-BD54-2EAAEAA43B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280" y="1066680"/>
            <a:ext cx="464832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чем все эти слож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лучше ли традиционный урок: объяснил, задал задание, проверил. Дети спокойны, результаты хорош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дно «но»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лавный момент нормального урока - вызов к доске. «К доске пойдет...» - каждый помнит эти слова и паузу после...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я школа держится на этой паузе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952880" y="838080"/>
            <a:ext cx="3846600" cy="489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D78D-1DDF-479E-B018-3EFBC4C60E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29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Вы перестали вызывать к доске?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Жалко терять врем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И исчез страх, дети перестали слушаться?.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Что ж 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ржите паузу или научитесь работать иначе.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4000" t="0" r="69465" b="0"/>
          <a:stretch/>
        </p:blipFill>
        <p:spPr>
          <a:xfrm>
            <a:off x="457200" y="2743200"/>
            <a:ext cx="2286000" cy="3425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35424" t="0" r="33619" b="0"/>
          <a:stretch/>
        </p:blipFill>
        <p:spPr>
          <a:xfrm>
            <a:off x="3200400" y="2743200"/>
            <a:ext cx="2666880" cy="3425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73887" t="16633" r="3114" b="0"/>
          <a:stretch/>
        </p:blipFill>
        <p:spPr>
          <a:xfrm>
            <a:off x="6248520" y="2743200"/>
            <a:ext cx="2325600" cy="335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5120" y="62485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Работы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1A59-8B95-4212-B023-C82481533F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133720"/>
            <a:ext cx="42670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ь думать, работать самостоятельно, опираться на детский интерес - кредо гуманной педагог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лю свои находки  в проектно-исследовательской работе в рамках уроков МХК, ИЗО проводящихся в форме творческих мастерск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-228600"/>
            <a:ext cx="58672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роектно-исследовательский метод — основной метод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657600" cy="48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670120" cy="159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13C-A179-4BCC-8E91-EF626C3DEF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8915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Arial"/>
              </a:rPr>
              <a:t>Урок 1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мотрим фильм без объяснений и комментариев. Фильм - это путешествие в другую эпох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тем рассказ, а не объяснение с «опорными конспектами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сколько удивительных историй, которые трогают душу, заставляют пережива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43200"/>
            <a:ext cx="678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Учебные филь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15000" y="2743200"/>
            <a:ext cx="2563920" cy="374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07C-67B1-4CA3-9142-C460C55CA0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ебный фильм обращается не столько к рассудку, а сколько к сердцу ребенка. Ученик пишет или рисует план филь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ый фильм - это творческий образ. Нарисованный план останется в памяти на долгие го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роших фильмов очень много, можно написать учителю двадцатиминутный фрагмент к каждой теме. Альтернатива фильму – слайды презентации. Экскурсия лучше филь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2666880"/>
            <a:ext cx="678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Учебные филь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4724280" cy="2950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0" r="15725" b="0"/>
          <a:stretch/>
        </p:blipFill>
        <p:spPr>
          <a:xfrm>
            <a:off x="304920" y="3200400"/>
            <a:ext cx="3657600" cy="326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EF0-9C52-4FCA-842D-2092A90AEA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икаких комментариев и определений во время просмот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льм создает сильные образы, доводит учеников до эмоционального накала, шока от столкновения с другой реальностью, с сознанием человека другой эпох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зультат: детские вопросы - первый шаг к познани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ащиеся после просмотра фильма задают поверхностные вопросы: «А как обжигали...», «Сколько килограмм весил костюм или золота пошло на...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за тем – проблем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124080"/>
            <a:ext cx="678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Учебные филь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4267440" cy="2932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00600" y="3276720"/>
            <a:ext cx="3889440" cy="291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D3F8-9EA5-4594-A538-CB5118DFC3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Arial"/>
              </a:rPr>
              <a:t>Урок 2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втором уроке идет поиск ответов на свои вопросы. Класс  делится на четыре группы. Группа выбирает тему своей работы, литературу, компьютерные программы, адреса ссылок в Интернете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чинается работа в группах:                                                                                             - каждый читает свое,                                                                                      - потом разговоры вполголос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5864040" cy="32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15000" y="2209680"/>
            <a:ext cx="3200400" cy="234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404D-34BE-46C1-8C20-EEC59F117F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льным ученикам даю книгу посложнее, кто «плохо читает» - книжку, где больше картинок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неуверенного ученика разговоры вполголоса средство «заговорить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товы. Выбирается один ученик от группы рассказать о том, что прочитали, всему классу. Говорить нужно так, чтобы все слушали и было интересн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не ответ у доски, а рассказ о том, что другие еще не знаю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 каждого сообщения задаются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27672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Коллективно-творческая работа учащихся 2 «б» клас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68600" y="3657600"/>
            <a:ext cx="5341680" cy="313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A957-1926-493C-B100-1B2CC7AD71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Урок 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утешествие продолжается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Раздаю классу небольшой текст исторического документа. Энциклопедия, ресурсы Интернета - это движение вширь, документ - движение вглубь. Текст исторического документа отражает «дух эпохи», сохранивший голос человека другой культур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Обсуждение прочитанного превращается в диалог с человеком другого поколения. Ученики задают вопросы, сами пытаются ответить на них от лица человека другой эпохи, посмотреть на мир его глазами, понять 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657600" cy="273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6895-E809-4B41-8101-5EEA624546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457200"/>
            <a:ext cx="5029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Arial"/>
              </a:rPr>
              <a:t>Урок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утешествие закончилос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рим, что познал ученик без объяснения нового материала, без зубрежки параграфа, без монологов у доски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еник должен написать план сообщения, сценарий фильма, составить кроссворд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 главное то, что ученик научился работать в команде, строить свою индивидуальную образовательную траекторию…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3579840" cy="449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6C0A-B08F-4D64-8284-AB620B6056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8-27T17:34:33Z</dcterms:modified>
  <cp:revision>2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