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711-E86E-421D-8B19-8A8723AE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5AF-1AEE-4522-8796-53E33EE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FDB-71D6-4947-B067-139D72D7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C5D-F8EF-4C0A-839E-C6D88D41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BDD-E063-4986-90D9-BF5BD382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045F-BE52-425F-ADB9-58DB918A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C5DC-0B7F-47BC-9FCD-F462CDF8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508A-95AB-483F-BD20-112735B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C457-A7A7-4BD2-B5FA-6257C6F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96C-DC17-488E-B8C9-F8C7077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3C8A-FDCE-4194-83C1-A8F070F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02F-C671-4B00-B5C7-32DD959D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5B0B-B55A-4C7B-BB9D-51CAB362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7001-1575-4F2E-8A79-406AF382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3D41-7E83-44C1-8B5B-872AC80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AFCC-B85F-4B38-9C65-DE9DDA46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7BF-90D3-4860-943D-E367BCCD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D24-A882-4ECD-BF47-338E93C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F84-9D43-4C8A-B56C-423983F1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74C-732F-4D29-AA71-4121A30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920-635B-4BF6-A752-834EE01C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0F4-E571-4027-8A30-C8329BC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403-72B6-4A70-BAB2-44A45AF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5A7-B8F6-4B1E-86B6-563F5E6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D92-C437-41E6-ADB7-C1275E189C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B9D-8BC0-4689-833B-4D0570BC6F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977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aramond"/>
              </a:rPr>
              <a:t>Секция «Проектирование учебного плана и программ дисциплин в области начального образова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8136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и се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уружапов Виктор Александрович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. Кафедрой педагогической психологии Московского городского психолого-педагогического универс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иновьева Татьяна Ивано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н факультета начальных классов Московского городского педагогического универс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тякова Наталья Павло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н факультета начальных классов Челябинского государственного педагогического университ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тивная часть учебного плана бакалавр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0–118 кредита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дуль 0 (базовый) . Проектно-аналитическая деятельность педаг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1. Фундаментальные основы и содержание деятельности учителя в области начального математическ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2. Фундаментальные основы и содержание деятельности учителя в области начального языков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3. Фундаментальные основы и содержание деятельности учителя в образовательной области «Окружающий ми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4. Фундаментальные основы и содержание деятельности учителя в образовательной области «Филолог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5. Культурно-исторические и технологические основы дисциплин эстетического цик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6. Основы духовно-нравственного воспитани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 7. Организация внеучебной  деятельност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ектно-аналитическое содержание деятельности учителя начальных классов</a:t>
            </a:r>
            <a:br>
              <a:rPr sz="44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основы организации учебной деятельности младших школьников и формирования универсальных учеб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трольно-измерительные методы диагностики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ум по сценированию уроков на основе  современных УМ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риски обучения и воспитания современны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аботы с одаренными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аботы с малоуспевающими учениками и детьми ри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ь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даментальные основы содержания начального образования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о-предметные основы  содержания  математики в современной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е основы содержания естествознания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одного русского языка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усского языка (неродного)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гвистические основы курса родного (не русского языка)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дуль 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ультурно-исторические и технологические основы дисциплин эстетического цикла.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эстетические и филологические основы курса литературного чтения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тетическое содержание и основы технологии изобразительной деятельности и художественного труда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музыкального и хореографического  развития младших школьник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уль 4. Основы индивидуального психического и физического развития дете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система охраны психического и физического здоровь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физического развития младших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ология траекторий психического развития детей и варианты индивидуальных образовательных траектори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ая работа с детьми, имеющими проблемы псих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дуль 5. Нравственное воспитание и организация внеурочной деятельност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организации внеурочной деятельности  и музейная педагог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о-педагогические основы  общения учителя с учениками и их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кум по методам сплочения коллектив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дачи секции (в жанре круглого стола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ать общие требования  к основной образовательной программе (ООП) и содержанию программ дисциплин подготовки педагогов-психологов  начальных классов в рамках психолого-педагогического направления в соответствии с новым стандартом общего начально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яться мнениями и дать анализ существующих программ (специалитет) с точки зрения учета как положительного, так и отрицательн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дискуссию о соотношении содержания бакалаврской и магистерской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межрегиональную группу по разработке ОПП и примерных О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резолюции по итогам работыи секции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39640" y="342900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Особенности стандарта начального образования 2-поколения как фундаментальной ступени общего образова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учебно-воспитательного процесса на организацию разнообразных видов деятельности и психическое развит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ация педагогической деятельности на привитие ученикам универсальных учебных действий и освоение ими фундаментального содержания основных учеб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возрастных возможностей и индивидуальных особенностей учебной деятельности учеников (индивидуальные образовательные траек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имание нач. образования как сферы  коллективных усилий образовательной общественности по культурной адаптации детей к разнообразным условиями современной социаль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2" descr="E:\Лекция 26.10.09\математика автор МОРО.jpg"/>
          <p:cNvPicPr/>
          <p:nvPr/>
        </p:nvPicPr>
        <p:blipFill>
          <a:blip r:embed="rId1"/>
          <a:stretch/>
        </p:blipFill>
        <p:spPr>
          <a:xfrm>
            <a:off x="1214280" y="1214280"/>
            <a:ext cx="40719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етенции выпускника в образовательной деятельности на начальной ступени общего образования (ПКНО):</a:t>
            </a:r>
            <a:br>
              <a:rPr sz="4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организовать на уроках совместную и самостоятельную учебную деятельность,  деятельность  младших школьников, направленную на достижение целей и задач  реализуемой образовательной программы (ПКНО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проводить диагностику уровня освоения детьми содержания учебных программ с помощью стандартных предметных заданий, внося  (совместно с методистами)  необходимые изменения в построение учебной деятельности   (ПКНО-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участвовать в построении и изменении индивидуальной образовательной траектории учащегося  (ПКНО-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создавать условия, облегчающие адаптацию детей к учебному процессу на начальном этапе обучения в школе (ПКНО-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организовать индивидуальную и совместную учебную  деятельность учащихся, основанную на применении развивающих образовательных программ (ПКНО-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во взаимодействии с психологом проводить  комплекс мероприятий по профилактике трудностей адаптации детей к обучению в основной школе (ПКНО-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ов осуществлять сбор данных об индивидуальных особенностях детей, проявляющихся в учебной работе и в общении со сверстниками (ПКНО-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ен эффективно взаимодействовать с родителями, педагогами и психологами образовательного учреждения по вопросам воспитания, обучения и развития учеников (ПКНО-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Требования к ООП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дам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на понимание сущностных связей обучения и психического развит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бкость (возможность обновления содержания дисциплин, учета вариативности начального образования, многообразия особенностей психического развития детей, возможность выбора студентами индивидуальной образовательной траек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достижений отечественной и зарубежной теории и практики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на формирование профессиональных компетенций и креативное развитие студ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теоретических дисциплин в единстве с практическим освоением методов работ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ть возможность обращения к современным информацион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манитарный, социальный и экономический цикл. Базовая ч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 – 30 и 12 – 14 кредита. 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Философия, Иностранный язык, Русский язык и культура р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и межкультурные взаимодействия в современном мире,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тивная часть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, умения, навыки определяются ООП вуз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4 – 16 кредита. Дисциплин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, культура, экономика  и география региона, Юридические основы соврем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й и естественнонаучный цикл. Базовая часть12 – 18 и 6 – 10 кредитов.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Современные информационные технологии, Анатомия и возрастная физиология, Основы педиатрии и гиги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ый цикл. Базовая (общепрофессиональная)  часть. 158 – 164 и 40–50 кредитов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сциплины: Безопасность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0 . Проектно-аналитическая деятельность учителя нач. кла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1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оретические и экспериментальные основы психолого-педагогиче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и экспериментальная псих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обучения и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едагогики и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культурное 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псих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психология детей и подрост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педагог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2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сихология и педагогика развити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 до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для детей до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ой шко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подросткового возрас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пределение и профессиональная ориентация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уль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«Методология и методы психолого-педагогиче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е и количественные методы психологических и педагогических исследо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иагнос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ое взаимодействие участников образовательного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этика в психолого-педагогической деятель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28:19Z</dcterms:created>
  <dc:creator>BOSS</dc:creator>
  <dc:description/>
  <dc:language>en-US</dc:language>
  <cp:lastModifiedBy>c-309</cp:lastModifiedBy>
  <dcterms:modified xsi:type="dcterms:W3CDTF">2009-11-24T14:05:02Z</dcterms:modified>
  <cp:revision>26</cp:revision>
  <dc:subject/>
  <dc:title>Дипломная работа на тему:</dc:title>
</cp:coreProperties>
</file>