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C901-65BB-4C0D-B5D0-3A2DF2A96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83A0-2902-4C4D-97CC-8BD51AAE4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8480-A42D-493A-A1F3-BDEFF3DFF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8468-9233-4D8B-BF03-1F4136FE1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B761C-9B4F-41AC-8C8D-203FF2F60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58634-33FA-49B2-B57D-FBEF1F132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A6679-76E8-48FA-94D1-B8B1DF64F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D7E0D-F733-4ADA-8400-20C25EC67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92C3A-ADFE-4C73-B8C9-40DB6BC4C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100A1-1A79-42BC-A4A3-4999CBEE8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F2A15-F66A-4D36-9D28-01A77114C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43BE-DEAA-48BC-A80A-4B252850A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558C4-A8DD-4C8D-B3D0-1F74035D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A39C6-B9AA-4BC6-AB89-404DE6D66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FF280-2F97-4D21-9D85-3320BF9D3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7DD00-7854-4EFF-90C0-3C417FB03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19725-A734-48D3-AAF5-D695F559A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3F57-6B54-4D11-92E2-2227290CD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654F-7E58-4BD4-B1BE-CB56CB286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5E45-CD8D-4F9F-89E7-FACE84B0C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9444-764E-487B-850F-88C645A13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F86F-5F60-44BD-BE42-C7E68A26F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83EB-2176-4ADA-ACEC-48A09B689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34DA-315B-4D43-B056-84325CFA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C59C7-54DF-4877-8B17-16EC9298F53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50442-748B-4BA0-B539-919C6389242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99776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Garamond"/>
              </a:rPr>
              <a:t>Секция «Проектирование учебного плана и программ дисциплин в области начального образования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55640" y="1341000"/>
            <a:ext cx="813600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уководители сек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уружапов Виктор Александрович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в. Кафедрой педагогической психологии Московского городского психолого-педагогического университ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иновьева Татьяна Ивановн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кан факультета начальных классов Московского городского педагогического университе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Шитякова Наталья Павловн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кан факультета начальных классов Челябинского государственного педагогического университе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риативная часть учебного плана бакалавра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10–118 кредита</a:t>
            </a:r>
            <a:br>
              <a:rPr sz="2400"/>
            </a:b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22960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Модуль 0 (базовый) . Проектно-аналитическая деятельность педагог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дуль 1. Фундаментальные основы и содержание деятельности учителя в области начального математического образо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дуль 2. Фундаментальные основы и содержание деятельности учителя в области начального языкового образо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дуль 3. Фундаментальные основы и содержание деятельности учителя в образовательной области «Окружающий мир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дуль 4. Фундаментальные основы и содержание деятельности учителя в образовательной области «Филология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дуль 5. Культурно-исторические и технологические основы дисциплин эстетического цикл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дуль 6. Основы духовно-нравственного воспитания дет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дуль 7. Организация внеучебной  деятельности учащих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дуль 1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оектно-аналитическое содержание деятельности учителя начальных классов</a:t>
            </a:r>
            <a:br>
              <a:rPr sz="4400"/>
            </a:b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сихолого-педагогические основы организации учебной деятельности младших школьников и формирования универсальных учебных действ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ременные контрольно-измерительные методы диагностики учебного процес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ктикум по сценированию уроков на основе  современных УМК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8-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сихолого-педагогические риски обучения и воспитания современных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ы работы с одаренными деть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ы работы с малоуспевающими учениками и детьми рис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дуль 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Фундаментальные основы содержания начального образования.</a:t>
            </a:r>
            <a:br>
              <a:rPr sz="2400"/>
            </a:b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огико-предметные основы  содержания  математики в современной начальной шко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учные основы содержания естествознания в начальной шко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нгвистические основы курса родного русского языка в начальной шко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нгвистические основы курса русского языка (неродного) в начальной шко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нгвистические основы курса родного (не русского языка) в начальной шко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одуль 3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Культурно-исторические и технологические основы дисциплин эстетического цикла. 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щие эстетические и филологические основы курса литературного чтения в начальной шко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стетическое содержание и основы технологии изобразительной деятельности и художественного труда в начальной шко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ы музыкального и хореографического  развития младших школьников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дуль 4. Основы индивидуального психического и физического развития детей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лексная система охраны психического и физического здоровья де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ы физического развития младших школь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ипология траекторий психического развития детей и варианты индивидуальных образовательных траекторий учащих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дагогическая работа с детьми, имеющими проблемы психического разви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Модуль 5. Нравственное воспитание и организация внеурочной деятельности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ы организации внеурочной деятельности  и музейная педагог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сихолого-педагогические основы  общения учителя с учениками и их родител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ктикум по методам сплочения коллектива кла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33"/>
                </a:solidFill>
                <a:latin typeface="Garamond"/>
              </a:rPr>
              <a:t>Задачи секции (в жанре круглого стола)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работать общие требования  к основной образовательной программе (ООП) и содержанию программ дисциплин подготовки педагогов-психологов  начальных классов в рамках психолого-педагогического направления в соответствии с новым стандартом общего начального образован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меняться мнениями и дать анализ существующих программ (специалитет) с точки зрения учета как положительного, так и отрицательного опы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сти дискуссию о соотношении содержания бакалаврской и магистерской програм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ть межрегиональную группу по разработке ОПП и примерных ОП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готовить резолюции по итогам работыи секции 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539640" y="3429000"/>
            <a:ext cx="813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33"/>
                </a:solidFill>
                <a:latin typeface="Garamond"/>
              </a:rPr>
              <a:t>Особенности стандарта начального образования 2-поколения как фундаментальной ступени общего образования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целенность учебно-воспитательного процесса на организацию разнообразных видов деятельности и психическое развитие д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иентация педагогической деятельности на привитие ученикам универсальных учебных действий и освоение ими фундаментального содержания основных учебных дисципл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т возрастных возможностей и индивидуальных особенностей учебной деятельности учеников (индивидуальные образовательные траектори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нимание нач. образования как сферы  коллективных усилий образовательной общественности по культурной адаптации детей к разнообразным условиями современной социальной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4" name="Picture 2" descr="E:\Лекция 26.10.09\математика автор МОРО.jpg"/>
          <p:cNvPicPr/>
          <p:nvPr/>
        </p:nvPicPr>
        <p:blipFill>
          <a:blip r:embed="rId1"/>
          <a:stretch/>
        </p:blipFill>
        <p:spPr>
          <a:xfrm>
            <a:off x="1214280" y="1214280"/>
            <a:ext cx="4071960" cy="49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мпетенции выпускника в образовательной деятельности на начальной ступени общего образования (ПКНО):</a:t>
            </a:r>
            <a:br>
              <a:rPr sz="4400"/>
            </a:b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пособен организовать на уроках совместную и самостоятельную учебную деятельность,  деятельность  младших школьников, направленную на достижение целей и задач  реализуемой образовательной программы (ПКНО-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пособен проводить диагностику уровня освоения детьми содержания учебных программ с помощью стандартных предметных заданий, внося  (совместно с методистами)  необходимые изменения в построение учебной деятельности   (ПКНО-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пособен участвовать в построении и изменении индивидуальной образовательной траектории учащегося  (ПКНО-3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отов создавать условия, облегчающие адаптацию детей к учебному процессу на начальном этапе обучения в школе (ПКНО-4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отов организовать индивидуальную и совместную учебную  деятельность учащихся, основанную на применении развивающих образовательных программ (ПКНО-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отов во взаимодействии с психологом проводить  комплекс мероприятий по профилактике трудностей адаптации детей к обучению в основной школе (ПКНО-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отов осуществлять сбор данных об индивидуальных особенностях детей, проявляющихся в учебной работе и в общении со сверстниками (ПКНО-7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пособен эффективно взаимодействовать с родителями, педагогами и психологами образовательного учреждения по вопросам воспитания, обучения и развития учеников (ПКНО-8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600" spc="-1" strike="noStrike">
                <a:solidFill>
                  <a:srgbClr val="006633"/>
                </a:solidFill>
                <a:latin typeface="Garamond"/>
              </a:rPr>
              <a:t>Требования к ООП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57560" indent="-45756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ундамента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560" indent="-45756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целенность на понимание сущностных связей обучения и психического развития д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560" indent="-45756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ибкость (возможность обновления содержания дисциплин, учета вариативности начального образования, многообразия особенностей психического развития детей, возможность выбора студентами индивидуальной образовательной траектори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560" indent="-45756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т достижений отечественной и зарубежной теории и практики начального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560" indent="-45756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целенность на формирование профессиональных компетенций и креативное развитие студент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560" indent="-45756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учение теоретических дисциплин в единстве с практическим освоением методов работы с деть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560" indent="-45756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еспечивать возможность обращения к современным информационным ресурс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уманитарный, социальный и экономический цикл. Базовая час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6 – 30 и 12 – 14 кредита. </a:t>
            </a:r>
            <a:br>
              <a:rPr sz="2000"/>
            </a:b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сциплины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ория, Философия, Иностранный язык, Русский язык и культура реч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ультура и межкультурные взаимодействия в современном мире, Эконом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ариативная часть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ния, умения, навыки определяются ООП вуза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14 – 16 кредита. Дисциплины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ория, культура, экономика  и география региона, Юридические основы современного образ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тематический и естественнонаучный цикл. Базовая часть12 – 18 и 6 – 10 кредитов. 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сциплины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тематика, Современные информационные технологии, Анатомия и возрастная физиология, Основы педиатрии и гигие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фессиональный цикл. Базовая (общепрофессиональная)  часть. 158 – 164 и 40–50 кредитов.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000080"/>
            <a:ext cx="8229600" cy="51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исциплины: Безопасность жизнедеяте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Модуль 0 . Проектно-аналитическая деятельность учителя нач. класс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Модуль 1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Теоретические и экспериментальные основы психолого-педагогической деятельност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ая и экспериментальная психолог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и обучения и воспит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педагогики и образ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икультурное образ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ая психолог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ия развит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иническая психология детей и подрост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фектолог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ая педагог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Модуль 2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Психология и педагогика развития детей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ия  дошкольного возрас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овательные программы для детей дошкольного возрас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ия детей младшего школьного возрас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овательные програм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альной школ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ия подросткового возрас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определение и профессиональная ориентация учащих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Модуль 3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«Методология и методы психолого-педагогической деятельност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чественные и количественные методы психологических и педагогических исследова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о-педагогическая диагност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о-педагогическое взаимодействие участников образовательного процесс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ессиональная этика в психолого-педагогической деятельн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4T07:28:19Z</dcterms:created>
  <dc:creator>BOSS</dc:creator>
  <dc:description/>
  <dc:language>en-US</dc:language>
  <cp:lastModifiedBy>c-309</cp:lastModifiedBy>
  <dcterms:modified xsi:type="dcterms:W3CDTF">2009-11-24T14:05:02Z</dcterms:modified>
  <cp:revision>26</cp:revision>
  <dc:subject/>
  <dc:title>Дипломная работа на тему:</dc:title>
</cp:coreProperties>
</file>