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4E1-4E3C-4616-B0B4-6B5C249B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4F05-C779-45AE-BF8F-F7450F36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88A-CEDC-46CF-A5E9-0C23CC9E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D7D3-08DB-4640-B4F5-B74839FA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DD74-19B5-4A6A-8C86-591F85F4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B7BC-B7A6-46B2-89EE-DC6A8535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FCBB-F4CC-48F5-A5AF-998AF065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6FFB-E44D-47E6-88DB-EDC44A1E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F5CC-84A2-4AF0-B3F2-31C423E6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48A1-8905-439C-8D50-42041BB4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F36E-09CA-4B7D-9B39-3EB9E8AF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713-EB59-4309-8526-D6D34745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0EDF-160B-4ADE-8E2F-D6BDCAFF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253B-417B-4704-9BE5-442707D5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5CB4-A950-4EC5-9B92-2E1A5EE9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6970-D455-4BDF-9B9B-8D27E713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0424-552E-45AD-ADF1-B27EE09A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025-6E5D-4C98-AF8E-C1489D4A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1A3-B8D5-4039-8391-FB7EF606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A8D-EF90-446B-958A-713A6CBB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C3B-9FCE-4A95-A1AD-0126D82E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3DB-3606-4DF7-8AC8-BA570A93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77B-7016-4408-8847-A9E23A34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B7F-252C-46EC-9C38-2CED0BC9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C89A-2BFC-4B9A-A22B-24B0766157E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626B-362F-44DD-A409-ACF49F428B5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9977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aramond"/>
              </a:rPr>
              <a:t>Секция «Проектирование учебного плана и программ дисциплин в области начального образования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81360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и се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уружапов Виктор Александрович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в. Кафедрой педагогической психологии Московского городского психолого-педагогического университ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иновьева Татьяна Иванов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н факультета начальных классов Московского городского педагогического университ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итякова Наталья Павлов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н факультета начальных классов Челябинского государственного педагогического университ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тивная часть учебного плана бакалавр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0–118 кредита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одуль 0 (базовый) . Проектно-аналитическая деятельность педаго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1. Фундаментальные основы и содержание деятельности учителя в области начального математическо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2. Фундаментальные основы и содержание деятельности учителя в области начального языково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3. Фундаментальные основы и содержание деятельности учителя в образовательной области «Окружающий мир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4. Фундаментальные основы и содержание деятельности учителя в образовательной области «Филолог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5. Культурно-исторические и технологические основы дисциплин эстетического цик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6. Основы духовно-нравственного воспитания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7. Организация внеучебной  деятельност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ектно-аналитическое содержание деятельности учителя начальных классов</a:t>
            </a:r>
            <a:br>
              <a:rPr sz="44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ие основы организации учебной деятельности младших школьников и формирования универсальных учебн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контрольно-измерительные методы диагностики учеб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ум по сценированию уроков на основе  современных УМК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8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ие риски обучения и воспитания современных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работы с одаренными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работы с малоуспевающими учениками и детьми ри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уль 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ундаментальные основы содержания начального образования.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ко-предметные основы  содержания  математики в современной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е основы содержания естествознания в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гвистические основы курса родного русского языка в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гвистические основы курса русского языка (неродного) в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гвистические основы курса родного (не русского языка) в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дуль 3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ультурно-исторические и технологические основы дисциплин эстетического цикла.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эстетические и филологические основы курса литературного чтения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стетическое содержание и основы технологии изобразительной деятельности и художественного труда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музыкального и хореографического  развития младших школьник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уль 4. Основы индивидуального психического и физического развития дете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ая система охраны психического и физического здоровья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физического развития младших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ология траекторий психического развития детей и варианты индивидуальных образовательных траекторий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ая работа с детьми, имеющими проблемы псих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Модуль 5. Нравственное воспитание и организация внеурочной деятельности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организации внеурочной деятельности  и музейная педагог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о-педагогические основы  общения учителя с учениками и их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кум по методам сплочения коллектива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Задачи секции (в жанре круглого стола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ботать общие требования  к основной образовательной программе (ООП) и содержанию программ дисциплин подготовки педагогов-психологов  начальных классов в рамках психолого-педагогического направления в соответствии с новым стандартом общего начального образо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яться мнениями и дать анализ существующих программ (специалитет) с точки зрения учета как положительного, так и отрицательного опы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дискуссию о соотношении содержания бакалаврской и магистерской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ть межрегиональную группу по разработке ОПП и примерных О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ть резолюции по итогам работыи секции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39640" y="342900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Особенности стандарта начального образования 2-поколения как фундаментальной ступени общего образования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целенность учебно-воспитательного процесса на организацию разнообразных видов деятельности и психическое развити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иентация педагогической деятельности на привитие ученикам универсальных учебных действий и освоение ими фундаментального содержания основных учебных дисцип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возрастных возможностей и индивидуальных особенностей учебной деятельности учеников (индивидуальные образовательные траектор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имание нач. образования как сферы  коллективных усилий образовательной общественности по культурной адаптации детей к разнообразным условиями современной социаль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2" descr="E:\Лекция 26.10.09\математика автор МОРО.jpg"/>
          <p:cNvPicPr/>
          <p:nvPr/>
        </p:nvPicPr>
        <p:blipFill>
          <a:blip r:embed="rId1"/>
          <a:stretch/>
        </p:blipFill>
        <p:spPr>
          <a:xfrm>
            <a:off x="1214280" y="1214280"/>
            <a:ext cx="40719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етенции выпускника в образовательной деятельности на начальной ступени общего образования (ПКНО):</a:t>
            </a:r>
            <a:br>
              <a:rPr sz="4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ен организовать на уроках совместную и самостоятельную учебную деятельность,  деятельность  младших школьников, направленную на достижение целей и задач  реализуемой образовательной программы (ПКНО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ен проводить диагностику уровня освоения детьми содержания учебных программ с помощью стандартных предметных заданий, внося  (совместно с методистами)  необходимые изменения в построение учебной деятельности   (ПКНО-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ен участвовать в построении и изменении индивидуальной образовательной траектории учащегося  (ПКНО-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ов создавать условия, облегчающие адаптацию детей к учебному процессу на начальном этапе обучения в школе (ПКНО-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ов организовать индивидуальную и совместную учебную  деятельность учащихся, основанную на применении развивающих образовательных программ (ПКНО-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ов во взаимодействии с психологом проводить  комплекс мероприятий по профилактике трудностей адаптации детей к обучению в основной школе (ПКНО-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ов осуществлять сбор данных об индивидуальных особенностях детей, проявляющихся в учебной работе и в общении со сверстниками (ПКНО-7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ен эффективно взаимодействовать с родителями, педагогами и психологами образовательного учреждения по вопросам воспитания, обучения и развития учеников (ПКНО-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6633"/>
                </a:solidFill>
                <a:latin typeface="Garamond"/>
              </a:rPr>
              <a:t>Требования к ООП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дам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целенность на понимание сущностных связей обучения и психического развити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бкость (возможность обновления содержания дисциплин, учета вариативности начального образования, многообразия особенностей психического развития детей, возможность выбора студентами индивидуальной образовательной траектор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достижений отечественной и зарубежной теории и практики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целенность на формирование профессиональных компетенций и креативное развитие студ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теоретических дисциплин в единстве с практическим освоением методов работы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ть возможность обращения к современным информационным ресур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уманитарный, социальный и экономический цикл. Базовая ча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6 – 30 и 12 – 14 кредита. 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циплины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, Философия, Иностранный язык, Русский язык и культура реч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 и межкультурные взаимодействия в современном мире, Эконо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тивная часть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, умения, навыки определяются ООП вуз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4 – 16 кредита. Дисциплины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, культура, экономика  и география региона, Юридические основы современ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ий и естественнонаучный цикл. Базовая часть12 – 18 и 6 – 10 кредитов.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циплины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а, Современные информационные технологии, Анатомия и возрастная физиология, Основы педиатрии и гиги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ональный цикл. Базовая (общепрофессиональная)  часть. 158 – 164 и 40–50 кредитов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сциплины: Безопасность жизне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дуль 0 . Проектно-аналитическая деятельность учителя нач. кла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дуль 1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еоретические и экспериментальные основы психолого-педагогической деятель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и экспериментальная психолог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и обучения и воспит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едагогики и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культурное образ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психолог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ая психология детей и подрост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олог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педагог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дуль 2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сихология и педагогика развития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 дошкольного возрас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е программы для детей дошкольного возрас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детей младшего школьного возрас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е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ой шко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подросткового возрас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пределение и профессиональная ориентация уча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дуль 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«Методология и методы психолого-педагогической деятель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е и количественные методы психологических и педагогических исследо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иагнос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ое взаимодействие участников образовательного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ая этика в психолого-педагогической деятель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28:19Z</dcterms:created>
  <dc:creator>BOSS</dc:creator>
  <dc:description/>
  <dc:language>en-US</dc:language>
  <cp:lastModifiedBy>c-309</cp:lastModifiedBy>
  <dcterms:modified xsi:type="dcterms:W3CDTF">2009-11-24T14:05:02Z</dcterms:modified>
  <cp:revision>26</cp:revision>
  <dc:subject/>
  <dc:title>Дипломная работа на тему:</dc:title>
</cp:coreProperties>
</file>