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2AF-4BD3-4863-A182-E593C6BA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EE0-AFC4-403F-B424-A238E1F4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14F4C-8043-42D8-84CD-C4D610E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C4817-72D7-4D42-8104-2524B35A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BF4BD-D5E3-497C-8E34-62F16F85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EA0B4-AF93-4B78-BF37-EFB1772D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7EA2E-633C-45A9-ACC7-AFC63537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BEEC7-C5F2-4AE4-B770-93F35B7C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44678-01ED-4847-A8A7-848EE883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FA837-25B3-4D70-82C7-2EE7BF80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9FFD5-85C3-4FA4-A8E7-0FFB65F3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841D4-7385-4B6A-9891-876EC7C9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95E-1773-4B79-88DE-5533D72B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00E3E-00CA-4298-AC38-F7EB6327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85CE0-371C-46E5-AEE9-1CE50177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55B4C-87C1-46E8-AC4A-F9821C79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834AB-E882-4D26-AE3E-9433A40F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79CCC-1582-4D26-B866-DE18EF0A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10C10-4403-4233-AE3E-5AC58752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1F9B9-ED27-40D1-BB38-1DA6D802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EB952-DE1A-453F-B5DD-548CECEF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BA60E-9565-4EF0-A6A6-2EA3ABA4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8251B-0609-4C4B-8AC0-A154012E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D2F-D5BF-492B-9A56-611BDB09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58CBE-5738-4911-97E7-31A62404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12877-6551-43E9-8C02-EA013F28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786DC-D420-4441-9311-ED7E324F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3C926-C2D5-41C0-AE8F-4026B7DE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9D9A9-F020-4EFB-B2A3-1F4360B2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4FF53-6381-4BCE-8300-18EA17BA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7C6E7-D7B8-4D48-A3AA-2CBF08E5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F6435-A5EC-44A6-A1BA-0CCA72A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4DD15-E777-4B5D-9222-56424C93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F967E-8BA7-41BD-B7EE-4F8CB036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03A9-24B5-4513-9835-BE811577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43888-0AA8-4C3B-B23F-B153856A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821B9-8DA8-4333-B529-7F7A2B66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147E8-47F1-4F40-B237-DC99CC09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B3B78F-C893-4430-ABE3-40E41972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6ACFE7-8216-4374-80B1-27F3E550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D4C244-4A36-47BF-ACA1-EAC078A9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8F67AB-2584-4C7B-8399-F15E5A30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22867F-CE44-4A97-9474-DC525A0F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9E97D0-3C48-471F-9B11-028168C5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8FAF21-555F-4076-B4A0-EFDB8611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8507-914B-4919-B9B1-781DBD94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1C8D80-0AB3-4B3F-90CF-60BBA0E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73F0E0-7D73-4B3C-BA40-9546206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090F09-8666-4464-A44F-55FF1E57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3547A0-7374-41EC-B3B9-377D0387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EF733A-150F-4E0B-892E-57516AE2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13476-94AE-4D83-BE9C-30F54EAF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A00FD-C1CE-4870-BF82-5296148B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6B1AC-983B-476A-BBFD-0294CA26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28311-7869-4529-8ED2-5841DCBE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29115-56E7-445C-A487-B523CD46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D642-BBB6-476B-8509-898F8CA1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F40CD-2D98-40F3-8912-6073E4C9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646B1-EB8C-4755-824B-78CB10D1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FA49D-3687-4A28-A719-84B8976F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5ADD9-A7C7-4F0D-9629-C186206B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176B9-A678-4146-A118-B6ED7340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74DEA-5671-4682-ACC9-610828AC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AC0B7-569C-42CD-84A9-48C90A55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3A739-0E14-44FB-B138-9D8B5017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D3060-5531-48BA-862E-0911D3C8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EAC5A-17D9-4160-AFE6-6F01C4AB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6B1D-E711-4A7E-A1BA-CD33377C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A85B8-770C-4C05-B3BE-197D0977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CBD7B-F5B4-43EE-9B0B-8A558475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E41353-D8A3-4EDF-A96B-3E6A23EC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5D574-A9BE-4482-8F8E-9A73D1D4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B4B83-0BB1-4783-8ACD-DD69E6E9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481D5-ED9C-40F9-BC42-7CC8EB93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F8AD9-B570-42B3-8381-4E9A8D12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CF0AD-D5FA-49AC-9DB4-BBA8AE00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661C9-411B-4FA9-91ED-5A922D88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4D2C1-7D3F-4D1A-89AB-0C90E5F3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1E9E-3891-47CA-8E19-0895384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B1853-EFEF-4817-AC65-6A12D28D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EE115E-4E14-43A9-A7D4-A2A389B1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C70BE-E7FB-4EE3-A54E-16A1C1CA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810C4-C2C7-4CBA-B974-8EA5E8D4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18B2F-6069-4FDB-B295-080AA602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432A91-8A36-4B0C-BBD5-0DD1FD8A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B8616-A3CF-45F3-BF12-0A0699A3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96078-F09F-4715-8F4D-0E168D7A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94939-B86D-46FC-82ED-5D692BD2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85947-912C-48CC-B90D-3723E0EB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078B-733F-482B-8C6B-CE9627CF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AC19C-2332-4312-B1AA-45EB2C56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D90D8-651C-459A-8602-59E7830B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39A76-4C71-406B-822C-CF62107E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C3D26-0531-443B-B7A5-483C66FE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1916C-808F-48C9-B640-95A89027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95C90-FBAA-4950-96F4-D6FC4833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992D6-1C1B-431F-8BE7-13E91FCF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1FCDE-C551-488C-8399-B2CC0BAC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D564C-3787-41DB-B523-F69EF88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2A54BC-CFB3-41EC-ABCD-37E84B85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FF47-7AEB-4D77-9132-731BC53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C9A67-D461-4A0F-90E3-AC7497FC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BE50B-8287-438D-9081-AEB78A6B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36BAE-8588-4E40-ACE0-D3A2253C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250-DFA6-482F-8664-145240B4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FAA3-5C3E-4C19-B62B-15A98D85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9E3C-D52F-4BFC-AD1F-B5C36848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29C8-0331-4E29-BAF7-B46D2000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B1AB-BC13-4285-9A84-C2603A7E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D894-B188-41ED-844F-EF20E0CE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95AC1-A8F2-48CC-BFCE-C7C4483E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ADF90-801C-4BCB-988D-BE723F82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8B6F3-A38E-4C47-8962-F6BD6395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C87A0-1456-40AC-A2E4-6B94F34F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F4980-9FA2-43CD-802D-7C46520C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AE9-F0FD-4D46-98CF-BE3A688F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B3DD9-88A1-4063-87BB-BC2B55F4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2F23D-D1E8-4429-A40B-179E898C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4EE37-6D26-4BE4-8EA6-E05ABBB9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40E95-C45D-4933-BA23-C750C47E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9F516-5571-423C-933C-2B7BD96A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A0FCD-A264-442C-8AC1-D33D4AB4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9A292-D282-4531-AE95-2CAA59CE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DBAB-FE5C-4209-ABA6-DDAAA1B1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86580-B0F0-408C-9CB0-6A4CE902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97F9-0DF8-438B-B3CA-CE74C64C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F5E-3A2D-4BCF-8803-C311E7ED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C8D5B-4FCE-4941-B4C6-874B168D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10008-90D7-4EB4-8773-C866E775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0D2FD-FC5D-4487-A762-4EB9AD02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2682B-F154-4EE1-B25A-D2C77707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C9DB-5F24-4B01-88F4-87B7931C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413BE-BD9D-4BEC-899E-5924F825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8C3B-1280-4455-B399-68B1FF75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77943-DAE7-4DCB-B891-F9602B93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875D-CD75-4027-9897-C70EFA36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B5017-0F83-4A62-9FB7-DE9A1F87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D45-ABED-4C42-B01E-8C028CD5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6B0F6-3030-493D-92E6-02E605CC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A105B-6AD9-4A66-857F-696987B5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9C39E-6038-4D56-8BEA-BBBA375D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B8C7D-15CC-4F4A-B7B9-D22E95D4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A0239-F71C-4596-8397-731568E1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AFF09-ABF6-4281-9DA7-8A40F324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BC9DD-4EEB-4BA4-BD7D-9943D2A3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17499-5722-4936-AFB6-C8A9E33F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152CE-6371-47F8-AB8A-7A73FD32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121B8-47D1-4FD1-9694-9EFAC064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42E-27D2-4996-A5CC-51112AB5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32CEB-8FC9-4CE6-AF78-BEBF8D76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D1397-A776-42AD-8698-875CAB0C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31C1-2A8D-401F-9FB9-16508A80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9A1DD-557B-4CE8-9DCD-44F38C20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ED7FA-5AC1-4174-A4AA-CE60077B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CE49F-D0EB-4A68-9356-BBD905CF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FC3F2-2E95-429F-A72C-8EE980EA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AD3BC-C04D-416A-824B-F5C7C632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6CAF3-6D82-4FE9-9576-99B9B2A0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F7D2F-6CD4-4E94-9195-DAF65D52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793-1566-42A7-9D59-01010CA9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C43CA-9B0B-4DEF-A59C-6916FB04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0D8A4-63E5-4104-BF18-631EFDB5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5C189-6E98-4D5D-967E-71A99B9F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286E5-B8A6-4E04-8366-EF7FA2AC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FC66-B9B6-49CE-91AC-25F395E2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5BD28-B7F8-449D-8ED6-26942FFC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463D-A21F-4EFE-9F1A-7640712B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64974-A04D-4C46-881D-531BA015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120F4-2A4B-47C5-9324-37DBD584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8CF46-5FE7-40C3-83DD-91A7707A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2E2-BEAA-4FB2-8181-AD9E055D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4E6A5-293F-4493-8FDA-AA5452DB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CE003-E367-45D6-897A-57959727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8EA27-4E0C-4ED7-813B-B3944CE5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374F6-44D1-44CC-B2A3-8C024E0B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2B966-C30F-4CE0-AD2B-35ECBE31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23781-0494-49D6-B53D-F81B370E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9BDEB-54CD-40C8-9E20-68ADACF7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922F2-3030-490F-ACA8-C4689C1E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1A80E-C613-4108-987E-2C4A2B10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C1E8D-69FB-43A0-B1F0-2DC2B2F0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4A1-A2B9-41FB-ABA5-937D070B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6702E-E596-418B-A3D4-0386AD5B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3793D-9720-4645-82C7-9E2500CE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A7301-0876-402F-AE8D-BE489F34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FAEC4-2ED2-4277-BF96-386AC4EA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E1F95-9F67-4B6F-A717-B993D397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7F502-A3B5-45D7-A1F8-CF536A11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6DD43-4598-4D41-9058-3DCB1FC0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75C63-D9C3-450A-8143-267A5828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8CF2B-8515-4917-A155-94E71134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94C36-5E39-4E85-9F95-75C0539D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9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8956-249F-4D52-9CF4-6EFC9B74EF7A}" type="slidenum">
              <a:rPr b="0" lang="ru-RU" sz="1400" spc="-1" strike="noStrike">
                <a:solidFill>
                  <a:srgbClr val="00295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BA8C-A6B2-4119-AFE3-4E39678B35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7F2A-2125-487D-8F47-3CDF3B2A18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5191-1BEE-4D2C-B852-2577599D18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8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5EB3-B282-48E5-A739-4484514DA7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2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D996-4A9C-4ED6-A34F-02722623FD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7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64A5-F2CB-46A8-9D2F-C355DF4B055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6659-CBCD-4CDB-8522-ACB08DC310A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9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9CFA-5355-44CA-BDF3-E948F199DA36}" type="slidenum">
              <a:rPr b="0" lang="ru-RU" sz="1400" spc="-1" strike="noStrike">
                <a:solidFill>
                  <a:srgbClr val="00295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A63D-E780-4EEB-8431-A6079C9CEF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D0F0-5FF0-4011-B6E1-2B5ECD474A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C4F4-7330-4474-A9C3-95004D9191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9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9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1829-B98E-48D6-B0ED-A139827616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9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F08C-4F0D-4268-BFFB-E5089DF608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FC9F-3AF5-43DA-9F88-022E19CE94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7FC7-C8A5-49C8-BD63-7582165238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4643280" y="2852640"/>
            <a:ext cx="4322880" cy="37450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549360"/>
            <a:ext cx="5003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99"/>
                </a:solidFill>
                <a:latin typeface="Arial"/>
              </a:rPr>
              <a:t>Реализация научно-методической темы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99"/>
                </a:solidFill>
                <a:latin typeface="Arial"/>
              </a:rPr>
              <a:t>как одна из форм организации методической работы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900000" y="588600"/>
            <a:ext cx="7632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11 классы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здание мотивации здорового образа жизни, обучение методам самосознания, самоконтроля, умения оказывать первую помощь, формирование полового поведения, индивидуального способа физического самосовершенствования, психосаморегуляции, программирования своей деятельности по укреплению здоровь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ематика классных часов делится на 5 бло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ая гигиен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ные особенности челове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физическое здоровье челове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Школа выживания»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привычк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81636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5" dur="2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2340000" y="0"/>
            <a:ext cx="37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Этап активных действи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"/>
          <p:cNvSpPr/>
          <p:nvPr/>
        </p:nvSpPr>
        <p:spPr>
          <a:xfrm>
            <a:off x="2340000" y="1125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9" name=""/>
          <p:cNvSpPr/>
          <p:nvPr/>
        </p:nvSpPr>
        <p:spPr>
          <a:xfrm>
            <a:off x="1042920" y="907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"/>
          <p:cNvSpPr/>
          <p:nvPr/>
        </p:nvSpPr>
        <p:spPr>
          <a:xfrm>
            <a:off x="3995640" y="1413000"/>
            <a:ext cx="169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250920" y="682560"/>
          <a:ext cx="8497800" cy="5986440"/>
        </p:xfrm>
        <a:graphic>
          <a:graphicData uri="http://schemas.openxmlformats.org/drawingml/2006/table">
            <a:tbl>
              <a:tblPr/>
              <a:tblGrid>
                <a:gridCol w="2449440"/>
                <a:gridCol w="60483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Задач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Формирование отношения к здоровью через анализ школьниками собственного здоровь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й сов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Технология обучения учащихся валеологическому самоанализ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й сов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Воспитание у учащихся сознательной валеологической культур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й семинар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тношение умственно отсталых учащихся к собственному здоровью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роизводственное совещани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храна здоровья учащихся и работников школ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Работа радиолектория «Я и моё здоровье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спользование новых форм, методов, приёмов обуч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й сов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Внедрение здоровьесберегающих технологий в режим работы ГП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е совет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бщественная экспертиза – шаг на пути демократизации школ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едагогическая поддержка ребёнка и процесс его развития в системе личностно-ориентированного воспит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Личностно-ориентированный урок: конструирование и диагностик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е семинар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ндивидуализация и дифференциация в обучении и развитии: методы, форм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сихолого-педагогическая, социальная, медицинская поддержка обучающихся в образовательном процесс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едагогическое наблюдение: метод, позволяющий дойти до кажд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сихологический тренинг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«И взрослые бывают «трудным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468360" y="374760"/>
          <a:ext cx="8280360" cy="6483240"/>
        </p:xfrm>
        <a:graphic>
          <a:graphicData uri="http://schemas.openxmlformats.org/drawingml/2006/table">
            <a:tbl>
              <a:tblPr/>
              <a:tblGrid>
                <a:gridCol w="2712960"/>
                <a:gridCol w="556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Формирование банка данных по результатам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е  совет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Создание условий для обеспечения оптимальных показателей физического и психического развития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Устремим ум на радость творче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Влияние профессиональной деятельности на здоровье педагогов, их грамотность и умение управлять своим здоровь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Научно-методическое обеспечение реализации программы развития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е консилиу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Круглый стол «Сохрани своё здоров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Диагности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едагог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Уровень профессиональной компетентности педаг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сследование психологической атмосферы в коллекти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ценка эффективности методической работы в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бучающих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зучение отношения учащихся к ЗО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зучение особенностей структуры межличностных связей в классных коллекти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Диагностика особенностей поведения и личностного развития учащихся группы социального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Родителе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Диагностика семей группы социального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«Подумаем о будущем вмест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2771640" y="69228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e917"/>
                </a:solidFill>
                <a:latin typeface="Trebuchet MS"/>
              </a:rPr>
              <a:t>Тематика обобщения опыта педагог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"/>
          <p:cNvSpPr/>
          <p:nvPr/>
        </p:nvSpPr>
        <p:spPr>
          <a:xfrm>
            <a:off x="539640" y="1700280"/>
            <a:ext cx="76518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ологический подход на уроках русского языка и чт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ологическая направленность уроков истори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над системой психофизического оздоровления детей в ГПД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ение здоровьесберегающих технологий на уроках трудового обуч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хранение и укрепление здоровья педагогов и обучающихся в процссе трудового обуч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ологический подход к уроку в начальной школ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о-педагогическое сопровождение учащихся группы социального риск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ктическая и валеологическая направленность уроков математик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хранение здоровья обучающихся на уроках музыки и во внеурочное врем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2627280" y="26028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4 этап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Подведение итогов работ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468360" y="907920"/>
          <a:ext cx="8497800" cy="4865760"/>
        </p:xfrm>
        <a:graphic>
          <a:graphicData uri="http://schemas.openxmlformats.org/drawingml/2006/table">
            <a:tbl>
              <a:tblPr/>
              <a:tblGrid>
                <a:gridCol w="3267000"/>
                <a:gridCol w="5230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Обобщение опыта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етодический конкурс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«Лучшее портфолио педагог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астер-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етодические не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Педагог в 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XI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веке. В поисках исти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Калейдоскоп педагогических ид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одведение итогов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етодический со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Итоги работы школы над проблем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Педагогический сов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Оценка деятельности образовательного учреждения в рамках заключительного этапа работы над проблемой школ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Создание банка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Презентации опыта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Создание системы здоровьесбережения в образовательном проце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Система работы школы по решению проблемы профессиональной адаптации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Школьная система воспитания «Научись радоваться жизни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949320" y="4046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Итоговый педагогический сове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«Оценка деятельности образовательного учреждения в рамках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заключительного этапа работы над проблемой школ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1773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ачество условий для реализации программы развития 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етодической тем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"/>
          <p:cNvSpPr/>
          <p:nvPr/>
        </p:nvSpPr>
        <p:spPr>
          <a:xfrm>
            <a:off x="1403280" y="393372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оздание системы здоровьесбережения в образовательном процесс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"/>
          <p:cNvSpPr/>
          <p:nvPr/>
        </p:nvSpPr>
        <p:spPr>
          <a:xfrm>
            <a:off x="3995640" y="191628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истема работы школы по решени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облемы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"/>
          <p:cNvSpPr/>
          <p:nvPr/>
        </p:nvSpPr>
        <p:spPr>
          <a:xfrm>
            <a:off x="5940360" y="393372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пыт работы школьной воспитательной системы «Научись радоваться жизни!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34920" y="1341360"/>
            <a:ext cx="865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2987640" y="1484280"/>
            <a:ext cx="72072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1341360"/>
            <a:ext cx="21600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1413000"/>
            <a:ext cx="1368360" cy="23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2484360" y="1484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"/>
          <p:cNvSpPr/>
          <p:nvPr/>
        </p:nvSpPr>
        <p:spPr>
          <a:xfrm>
            <a:off x="2987640" y="620640"/>
            <a:ext cx="40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а школы над проблемам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627280" y="981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"/>
          <p:cNvSpPr/>
          <p:nvPr/>
        </p:nvSpPr>
        <p:spPr>
          <a:xfrm>
            <a:off x="5867280" y="981000"/>
            <a:ext cx="1297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324000" y="1413000"/>
            <a:ext cx="2808000" cy="1655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44c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1995-2001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Развитие и социальная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адаптация умственно отсталых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учащихся в процессе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обучения, воспитания,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рофессионально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одготовк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"/>
          <p:cNvSpPr/>
          <p:nvPr/>
        </p:nvSpPr>
        <p:spPr>
          <a:xfrm>
            <a:off x="3059280" y="2276640"/>
            <a:ext cx="2881080" cy="18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2001-2008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алеологизация образовательного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роцесса – условия сохранени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и укрепления здоровья учащихся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едагогов, родителе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"/>
          <p:cNvSpPr/>
          <p:nvPr/>
        </p:nvSpPr>
        <p:spPr>
          <a:xfrm>
            <a:off x="6012000" y="1484280"/>
            <a:ext cx="2952720" cy="19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2009-2014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Информационно-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коммуникационны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технологии как факто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оптимизации обучения 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оспитания школьников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086360" y="714240"/>
            <a:ext cx="156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1179360"/>
            <a:ext cx="0" cy="2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1523520" y="1947960"/>
            <a:ext cx="1219320" cy="512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"/>
          <p:cNvSpPr/>
          <p:nvPr/>
        </p:nvSpPr>
        <p:spPr>
          <a:xfrm>
            <a:off x="3962520" y="2057400"/>
            <a:ext cx="0" cy="434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"/>
          <p:cNvSpPr/>
          <p:nvPr/>
        </p:nvSpPr>
        <p:spPr>
          <a:xfrm>
            <a:off x="6461280" y="1892160"/>
            <a:ext cx="976320" cy="549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"/>
          <p:cNvSpPr/>
          <p:nvPr/>
        </p:nvSpPr>
        <p:spPr>
          <a:xfrm>
            <a:off x="4998960" y="2003400"/>
            <a:ext cx="854280" cy="493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8" name=""/>
          <p:cNvSpPr/>
          <p:nvPr/>
        </p:nvSpPr>
        <p:spPr>
          <a:xfrm>
            <a:off x="1463760" y="2879640"/>
            <a:ext cx="0" cy="601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"/>
          <p:cNvSpPr/>
          <p:nvPr/>
        </p:nvSpPr>
        <p:spPr>
          <a:xfrm>
            <a:off x="5241960" y="4525920"/>
            <a:ext cx="0" cy="601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"/>
          <p:cNvSpPr/>
          <p:nvPr/>
        </p:nvSpPr>
        <p:spPr>
          <a:xfrm>
            <a:off x="3595680" y="2879640"/>
            <a:ext cx="0" cy="601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"/>
          <p:cNvSpPr/>
          <p:nvPr/>
        </p:nvSpPr>
        <p:spPr>
          <a:xfrm>
            <a:off x="5608800" y="2935440"/>
            <a:ext cx="0" cy="601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4525920"/>
            <a:ext cx="0" cy="600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"/>
          <p:cNvSpPr/>
          <p:nvPr/>
        </p:nvSpPr>
        <p:spPr>
          <a:xfrm>
            <a:off x="7559640" y="3044880"/>
            <a:ext cx="0" cy="544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1763640" y="5084640"/>
            <a:ext cx="2133720" cy="714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651280" y="5084640"/>
            <a:ext cx="198108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6" name=""/>
          <p:cNvSpPr/>
          <p:nvPr/>
        </p:nvSpPr>
        <p:spPr>
          <a:xfrm>
            <a:off x="1211400" y="316080"/>
            <a:ext cx="66531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3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Проблема школы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«ВАЛЕОЛОГИЗАЦИЯ ОБРАЗОВАТЕЛЬНОГО ПРОЦЕССА – УСЛОВИЕ СОХРАНЕНИЯ И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УКРЕПЛЕНИЯ ЗДОРОВЬЯ УЧАЩИХСЯ, ПЕДАГОГОВ, РОДИТЕЛЕЙ»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"/>
          <p:cNvSpPr/>
          <p:nvPr/>
        </p:nvSpPr>
        <p:spPr>
          <a:xfrm>
            <a:off x="2760840" y="1393560"/>
            <a:ext cx="3709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ru-RU" sz="13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Методический совет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Разработка и реализация валеологической концепции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учебно-воспитательного процесса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"/>
          <p:cNvSpPr/>
          <p:nvPr/>
        </p:nvSpPr>
        <p:spPr>
          <a:xfrm>
            <a:off x="322560" y="2755800"/>
            <a:ext cx="148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684360" y="2492280"/>
          <a:ext cx="8102520" cy="1076400"/>
        </p:xfrm>
        <a:graphic>
          <a:graphicData uri="http://schemas.openxmlformats.org/drawingml/2006/table">
            <a:tbl>
              <a:tblPr/>
              <a:tblGrid>
                <a:gridCol w="2025720"/>
                <a:gridCol w="2027160"/>
                <a:gridCol w="2023920"/>
                <a:gridCol w="2025720"/>
              </a:tblGrid>
              <a:tr h="1076400"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учителей-предметник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воспитателей ГП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классных руководител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психолого-медико-педагогического направл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0" name=""/>
          <p:cNvSpPr/>
          <p:nvPr/>
        </p:nvSpPr>
        <p:spPr>
          <a:xfrm>
            <a:off x="-4129200" y="39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"/>
          <p:cNvSpPr/>
          <p:nvPr/>
        </p:nvSpPr>
        <p:spPr>
          <a:xfrm>
            <a:off x="-4129200" y="3822840"/>
            <a:ext cx="1573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468360" y="3573360"/>
          <a:ext cx="8102520" cy="1672920"/>
        </p:xfrm>
        <a:graphic>
          <a:graphicData uri="http://schemas.openxmlformats.org/drawingml/2006/table">
            <a:tbl>
              <a:tblPr/>
              <a:tblGrid>
                <a:gridCol w="2025720"/>
                <a:gridCol w="2025360"/>
                <a:gridCol w="2024280"/>
                <a:gridCol w="2027160"/>
              </a:tblGrid>
              <a:tr h="1672920"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алеологическая основа урока, внедрение в образовательный процесс здоровьесберегающих технолог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алеологизация режима работы ГП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стема работы с семьей по формированию здорового образа жизн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едупреждение заболеваний и несчастных случаев через диагностику, профилактику и оздоровл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"/>
          <p:cNvSpPr/>
          <p:nvPr/>
        </p:nvSpPr>
        <p:spPr>
          <a:xfrm rot="5400000">
            <a:off x="-3709440" y="5877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"/>
          <p:cNvSpPr/>
          <p:nvPr/>
        </p:nvSpPr>
        <p:spPr>
          <a:xfrm>
            <a:off x="3489480" y="5577120"/>
            <a:ext cx="24829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3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План развития школы,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перспективный план работы школы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348000" y="18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«Осмысле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1-2002 год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"/>
          <p:cNvSpPr/>
          <p:nvPr/>
        </p:nvSpPr>
        <p:spPr>
          <a:xfrm>
            <a:off x="826920" y="105264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79280" y="1268280"/>
          <a:ext cx="8640720" cy="5193000"/>
        </p:xfrm>
        <a:graphic>
          <a:graphicData uri="http://schemas.openxmlformats.org/drawingml/2006/table">
            <a:tbl>
              <a:tblPr/>
              <a:tblGrid>
                <a:gridCol w="2986200"/>
                <a:gridCol w="56545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дач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6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омплексная диагностика физического, соматического, психического и социального уровня здоровь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Диагностик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сихологические обследования обучаю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офилактические медицинские осмот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дико-психологическая диагностика педагог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социального статуса семей обучаю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й семинар</a:t>
                      </a: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оль психолого-педагогической службы в работе над проблемой школ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едсове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оздание условий для обеспечения оптимальных показателей физического и психического развития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3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алеологический анализ школьного 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е семина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алеологизация учебно-воспитательного процес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дико-педагогическое обеспечение учебно-воспитательного процес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едсо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облемы организации валеологического сопровождения учебно-воспитательного процес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роизводственное совещ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начение рационального питания для обеспечения активной и здоровой деятельности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9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179280" y="189000"/>
          <a:ext cx="8964720" cy="5957640"/>
        </p:xfrm>
        <a:graphic>
          <a:graphicData uri="http://schemas.openxmlformats.org/drawingml/2006/table">
            <a:tbl>
              <a:tblPr/>
              <a:tblGrid>
                <a:gridCol w="3024360"/>
                <a:gridCol w="5940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учно-практическая подготовка по валеологии учителей,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й сов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«Координация работы МО по единой методической тем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й семина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сихолого-валеологическая грамотность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едагогические сов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одика взаимодействия семьи и школы по формированию у учащихся потребности в ЗОЖ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оль учителя, родителей и ученика в формировании глубоких знаний и качественной подготовки к самостоятельной жизни и труд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роизводственное совещ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одическая культура педагога – важное условие сохранения и укрепления здоровья школьников и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колько стоит здоровье вашего ребёнк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Деловая иг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силие в семье – основная причина детских неврозов и девиантного поведения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Работа университета «Азбука для родител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воение приёмов саморегуляции и способов укрепления здоровь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Коррекционные занятия с элементами 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Цикл радиопередач «Я и моё здоров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9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484360" y="260280"/>
            <a:ext cx="569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этап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даптация , конструирова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2-2004 год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"/>
          <p:cNvSpPr/>
          <p:nvPr/>
        </p:nvSpPr>
        <p:spPr>
          <a:xfrm>
            <a:off x="311148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1547640" y="1125360"/>
          <a:ext cx="7488360" cy="5519880"/>
        </p:xfrm>
        <a:graphic>
          <a:graphicData uri="http://schemas.openxmlformats.org/drawingml/2006/table">
            <a:tbl>
              <a:tblPr/>
              <a:tblGrid>
                <a:gridCol w="3017880"/>
                <a:gridCol w="4470480"/>
              </a:tblGrid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инновационных технологий обучения, сберегающих здоровье учащихся, учителей и их внедрение в педагогическую практик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едагогический со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кционно-валеологическое сопровождение учебно-воспитательного процесса как составная часть процесса реабилитации детей  с проблемами в развит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тодические  семина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ологическая направленность урока в начальных класса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и мотивации или коллективное освоение новых технолог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педагогических требова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оизводственные совещ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учебно-воспитательного процесса на здоровье обучающихся и проектирование валеологически обоснованной системы обуч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труда: в заботах о безопасности школьника и учител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едметно-методические нед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уроков физкультуры  с учётом мониторинга уровня здоровья и индивидуальных особенностей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ониторинг здоровья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азработка и внедрение спортивных нормативов для умственно отсталых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75"/>
                            </p:stCondLst>
                            <p:childTnLst>
                              <p:par>
                                <p:cTn id="156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900000" y="928800"/>
            <a:ext cx="73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3" name=""/>
          <p:cNvSpPr/>
          <p:nvPr/>
        </p:nvSpPr>
        <p:spPr>
          <a:xfrm>
            <a:off x="900000" y="1289160"/>
            <a:ext cx="41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763640" y="476280"/>
          <a:ext cx="7272360" cy="5268960"/>
        </p:xfrm>
        <a:graphic>
          <a:graphicData uri="http://schemas.openxmlformats.org/drawingml/2006/table">
            <a:tbl>
              <a:tblPr/>
              <a:tblGrid>
                <a:gridCol w="2448000"/>
                <a:gridCol w="482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работка воспитательных и образовательных программ, направленных на формирование ЗО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Педагогические сов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вивающие возможности ГПД.Нестандартные формы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алеология как область знаний об индивидуальном здоровье челове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ачество образования: тенденция развития и инструменты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Методические семин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дивидуализация и дифференциация в обуч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истема работы классных руководителей и воспитателей ГПД с учащимися девиантного пове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Производственное совеща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уховное здоровье учителя: размышляем, спорим, предлага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Разработка и принятие валеологической программы «Твоё здоровь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2124000" y="76500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6" name=""/>
          <p:cNvSpPr/>
          <p:nvPr/>
        </p:nvSpPr>
        <p:spPr>
          <a:xfrm>
            <a:off x="1116000" y="98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7" name=""/>
          <p:cNvSpPr/>
          <p:nvPr/>
        </p:nvSpPr>
        <p:spPr>
          <a:xfrm>
            <a:off x="684360" y="82872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8" name=""/>
          <p:cNvSpPr/>
          <p:nvPr/>
        </p:nvSpPr>
        <p:spPr>
          <a:xfrm>
            <a:off x="2050920" y="744480"/>
            <a:ext cx="568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Железногорская специальная (коррекционная)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бщеобразовательная  школа №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882720" y="1461960"/>
            <a:ext cx="2095560" cy="216216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3419640" y="1905480"/>
            <a:ext cx="4841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ОГРАМ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О ВАЛЕОЛОГИЧЕСКОМУ ВОСПИТАН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«ТВОЕ ЗДОРОВЬЕ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882720" y="5334120"/>
          <a:ext cx="6256440" cy="672840"/>
        </p:xfrm>
        <a:graphic>
          <a:graphicData uri="http://schemas.openxmlformats.org/drawingml/2006/table">
            <a:tbl>
              <a:tblPr/>
              <a:tblGrid>
                <a:gridCol w="3127320"/>
                <a:gridCol w="312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созд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а М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1979640" y="981000"/>
            <a:ext cx="626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"/>
          <p:cNvSpPr/>
          <p:nvPr/>
        </p:nvSpPr>
        <p:spPr>
          <a:xfrm>
            <a:off x="684360" y="28440"/>
            <a:ext cx="7559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– 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овать потребности мотивационных оснований гигиенического поведения, безопасной жизни нравственно – психологического компонента здорового образа жизни, обеспечить физическое и психическое саморазвитие, воспитывать привычку ЗОЖ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Уроки Мойдодыра: расти здоровым» (1 класс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включает в себя заботу о своем теле, правильное питание, поведение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Уроки Айболита: правила на всю жизнь» (2 класс)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предусматривает знакомство учащихся с наиболее распространенными болезнями, причинами заболеваемости и как можно предохранится от них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Уроки Знайки: воспитай себя» (3 класс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ссные часы на этом этапе учат детей вырабатывать свой характер, заботиться о психическом здоровье челове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Сам себе доктор» (4 класс) включает в себя материалы по «Основам безопасности жизнедеятельности», «Экологии», «Первой помощи»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5219640" y="4221000"/>
            <a:ext cx="2862360" cy="22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5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2:00:36Z</dcterms:created>
  <dc:creator>Анастасия Королева</dc:creator>
  <dc:description/>
  <cp:keywords/>
  <dc:language>en-US</dc:language>
  <cp:lastModifiedBy>дюльдина ольга</cp:lastModifiedBy>
  <dcterms:modified xsi:type="dcterms:W3CDTF">2009-10-21T12:33:22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41049</vt:lpwstr>
  </property>
</Properties>
</file>