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BF2-867C-4DB5-86BC-1359726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F00-0803-4699-98AE-31275BA6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4C9FA-0F85-4264-AB29-38560AB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07BCE-9C6B-4243-9B2A-B9697C52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69986-60EA-4038-9C59-3AC2150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E5584-16F9-4F8E-B957-BBE3D5B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A6F35-2C6C-4D25-819A-15BDDB0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31BD0-548B-4595-8F82-952D67C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3D7B9-26A4-4906-8D37-263284F7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3A817-8E25-4F6A-AC07-FAC85C87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932A-C2D3-4A49-93D3-21F150AD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D86AB-9D82-49A2-B3AE-743C3435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9F7-C826-4E9B-8996-CB2DC60F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1F57E-5CD2-4C5D-85D6-B7A3730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0F15-DADA-48F9-B4FC-F6499C9C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7602C-CD47-464D-A207-79D8FDF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047BC-0183-4673-ABCE-E67A8CE5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70792-F96D-46D7-B6DB-8B21C05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179D1-3771-4575-B2B5-C3A1661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49F9-3A38-4EDF-BC49-3337A2D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8FFB5-E539-4D9F-95AA-E53D6EB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CE39F-A67F-4233-8E14-DE6EFF4A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84C78-6F2F-40DE-B22B-274A49DA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857-EC37-4CAE-8072-0E5AECA3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98BBB-C536-4DE5-892E-25CD4AB5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2E1FC-831F-433A-96CE-59976BD4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8287-A0F6-453A-B5A1-1B27DAC8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DB62F-DE29-4E9F-B438-32FC4094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8AE4-5DCD-43CC-898D-BB4A45A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53284-592B-4195-A66A-8C99763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39277-03D6-4C6C-A7E4-2927D632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E5D11-297F-42F6-A162-CEB67FC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D1A1A-6312-4D8C-A807-F77CFAA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7214-4C4C-4394-AE59-4AE9E5A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604-73F6-4AC1-AAD6-CA5EA57E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7F12E-BF09-4CD1-B370-6542772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CB62-A40B-46CD-BDC8-CAFDAEB9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04E41-58AF-4C3E-98BF-E314DFCD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00A3F3-69A2-4F6B-AF48-0E41CE31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1927B-9724-4E6C-8998-59E1C866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A2783-6B8E-4204-AF1A-29F6BE8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FF372B-135A-49C7-8AEC-B27A3D4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11B164-195B-4190-B7F7-7E07A6E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5AA171-F440-400C-9129-1D5795E6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EDAA25-0948-4670-8234-084FAB9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F28A-7EB9-4C0B-A168-9D7FD34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D10F6B-D351-4A8E-A2E1-ACA25E8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E328DA-4BB1-4DFF-AC96-0260A6D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B91282-877F-48AA-8F08-379ED44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F54D8C-851C-433E-800F-66989C5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39407-4ADB-45AD-945E-63E5EF73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7C3D-821D-4D6D-ADDB-CE6C57DA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FF6A7-0229-475D-9E0F-7684DA3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8C052-3141-43D4-A5E1-B318EB7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2F0C8-E61C-4C49-984E-D0BAA8F1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D44AB-A536-4147-8045-392B460C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060B-55D9-49F8-AA76-1012F9C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897E3-98B3-4426-B206-4971DC4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17380-0D69-402E-A544-F56A422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5299A-0323-45DE-ACBF-4683671F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E0D92-4EC1-406B-A0AE-637939F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2803D-1ADA-4969-86B7-5A5ABE1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3E054-367C-4494-924E-6FC59D66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DCBB2-ECE5-4560-9371-1DB9E4EF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7ECF9-BA32-418E-B797-90DA650C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E5B06-69AA-4975-ACC2-5FCC2EB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5F0E1-BDA4-454C-B757-455D2FBC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EDE-3AFD-446C-95DF-CDA7E1D7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954A6-1AE7-4D3E-8C65-34B819A2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AA0B5-C8DB-4B30-BBEF-AED5F80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D889E-EA0F-476F-89AB-DE5A869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197DF-D821-405F-BCDD-91380EE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B040A-5698-443F-B2D8-438617D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10EC2-8CF8-469D-B450-DF5B66A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D91AB-82BD-446B-90E4-1A8E5A4B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05B0D-5F45-4C8D-B3AB-26E83982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EE18F-6DF6-4B4B-B548-4A8343C6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983AF-8418-42BA-8F11-A9BFFDF1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CA1-714F-471F-8106-9B2F4D2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94ED3-6DB5-4D63-A650-E6737E1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C52F3-B0DD-4AFC-9785-9820452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B12F1-F688-4D8D-ADE8-69901CD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62D8F-59AB-46A7-970D-7DCA0959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B876F-DF9D-43AB-9071-5DD88BF2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39DD7-0170-4C81-B493-6905B27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00368-D5C7-4CE0-B151-0D4EF8F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B22F4-3FF1-4D07-9AFC-0D70C70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2B9D8-6353-4128-81AD-DA8C0BA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9D887-6D88-4045-BFFF-CDAFA232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B6B9-6205-42EC-93B9-7BC63F0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95695-940B-430C-A5C3-0103EF46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E1ADB-7F76-4B08-89CD-218E7CB8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D8C11-D743-4D9D-9770-B4611CA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31D1C-204B-423F-9A3F-9C7D07CE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31E66-E783-40E5-A433-AACD868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96538-F16A-4DB2-ADD2-E973DF12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819FB-2522-4C75-89E5-1524337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1EA4E-ABC8-4005-8C57-EA1A309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D2A1A-C288-4F6A-9ED0-E2EBF87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CA652-048A-40AC-B73B-91BCB2B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97E7-3693-43B8-9B34-387C649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6E13B-094D-4714-B80B-C6E2D23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3B26E-60E1-4D13-BE8D-CB447DFC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A6E46-EF01-4A05-8AF8-83FC082F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3D1-4582-4819-A852-C87A843F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E354-AE23-481C-837A-ADF38C3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CBA-B8C1-4C77-978A-2223C46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8538-C14D-48F7-8B66-0D3A495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1CC6-43A7-4362-BE64-990053EC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E4FD-4217-4BA4-A344-2FD1D578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F2918-C4EE-4493-BFDE-1A29EECD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0D198-B39E-435A-A8B3-04F8BB3F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F7635-1B4F-4BB3-94CA-51145E3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5479E-D9BB-4881-935B-7344D857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0893F-BD82-4FB7-BB76-AE3A808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3E3-6202-4F6B-9B3B-E1DA205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A1D0E-DBB5-4FC7-99DE-F3017D2F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88E8B-8FE6-4384-B560-94B89A2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55035-426F-4293-92A5-CB272A4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DCE78-1F49-4EF7-A3F7-38EAD96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6C75B-C0FC-4E72-860A-958F141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BA929-0EA8-4748-A3D3-6C52A8E5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B26E8-0A39-4747-A4E4-3917065E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5C2E-B438-448A-81E8-52525B47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E264-5BC8-4789-AA06-D249C8F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6037-6590-4542-8E1E-953ECCD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E78-91F0-4848-961E-588383D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3392-1150-4047-9346-3E47CDB2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9D0D-DD49-4C7A-999E-1DDCC61B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5FD7-DCC5-4653-AB51-3D1A18A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3F38-0C2C-4DE9-B5D0-B30F9B8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77D3-B2FD-4AF6-8002-AFCD0003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9D3D-EF6E-41F2-9E73-0F7E207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9AD9-A447-4D9D-A67C-3ACEA29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4D3C-84B6-4504-874D-DE5AD6E7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1D06-B4BF-4320-8AEA-B4DAFB9C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99EF-E0F9-4373-82D2-F65E00CD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662-3E6B-46E4-A58A-EF4722E9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DB14-7203-4687-9D68-33E58B2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717F-D6FE-458E-B796-0348F570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45F3-2CB1-4F15-842A-DD699E9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A89A-82FC-4F7A-856A-E7412EEA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7F6B-9246-49EC-A0BF-815A9282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A1A2-260F-4184-9EBB-DECD78F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A009-C698-4FA9-814A-D523FB3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9651-FA88-44BC-B56B-634BE81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E26C-F3D7-4702-BBC7-D7188C8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3200D-8D98-4E6F-83B1-E57C4973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320-4A62-4A4F-95CC-90BB70A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1F21-3152-478F-841F-D6B9DDD8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22748-3A05-4148-A2F0-7EF7623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E429-5353-4986-BF7D-F13D98B4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08E4-51FF-452E-887A-E048F9D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7A7F-215D-4367-AECF-E2743520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9033-9466-4E21-93B0-ABCEE825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B2A0-9B94-46CB-BAF9-F2EF169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3726-D5E3-4E34-BF0E-B37DFD6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6E5F-CE3B-4772-BF4F-4DD494F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0373-7DC9-41EA-8005-EEDC5646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FAF-FA69-45BD-91CC-04F48E8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CAE3-A65E-41AA-9601-995CA8D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526B-D6B4-440A-9FDE-0B464BAC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51A57-7D60-4C5A-A50A-1B3A69FC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78A5C-65FD-4D54-AADD-79BCAC12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73032-6B70-44F3-9E2F-87AD76D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0FB5-2605-4F80-8DC2-89491726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0E234-D0DE-442A-A864-03BC5EE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5342-FC08-4A42-B956-1A782A3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607C0-326C-4FFA-B8BE-B70ADEB8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F63A-C464-49C3-B7F6-79F0296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987-9471-42D4-B8C1-09D49E7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5EB4-85AD-4837-8621-E0657F0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293E-8E37-4C2C-B076-5EB60E4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1395-7F5F-4973-96B9-5DF7AD9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693C8-D64B-4D6B-B556-E897ABD6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382D-64B7-4323-AAAE-D894333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BAC7-D2D5-4C55-AE1B-2CC7B2BE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D957-1EE6-4CBE-B98C-B9C3142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8B85-8551-4369-8D6A-C293E2B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A2CA4-3C73-4B86-89C3-C46BF59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44CD7-7875-4651-84F6-1B7FACE9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D7F-D8F8-482B-BCD0-6F104D3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F2C2-691B-4996-923D-95A3DCA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A8FF-AA3E-4EF1-A346-A86826C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16B9-721C-463E-A050-A357F3B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5A9C9-4988-402F-86EB-F3B95414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9BE0-DE38-4096-A5E1-BA9DFD8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DE687-3751-4A95-BBEB-600AAAFA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9B74B-7498-4C12-9DF0-9D79FDA0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5445D-5B44-4286-94F5-901E1A46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CA6F5-CD1A-468E-A871-272F2A67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5D05B-AD90-47AE-B8CC-ADB4882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1A4-79F2-4717-883B-6BA2AF31FBA0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4FD-6DC5-492B-966A-4F39CC9EF3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8456-2D17-4EBE-9DCE-96C407A409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B10-7398-4CE7-ABD7-782C722F52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025-4842-479D-AAA1-5002D0D082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2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77E-C08C-449B-B430-083A9CC802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7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C7C-808A-4AEE-8866-DF504C3C376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D5CC-F9D1-4EF1-8685-106A315DEA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3A8A-9DF8-439B-9EE8-280148345510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897-6CA2-4FFE-8E63-89DF8317C0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E7D8-9B14-4619-BE65-A0026980A1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B86-E4CD-4A35-8811-DD4B572EB7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9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C689-AA88-424D-B6F2-7C11265524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E7B-8B4E-4758-A643-8D0E0E4635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A9DE-0EA2-4605-B69C-CEFBE4F812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A39-10FE-4A52-96DE-B1BCF62DF7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322880" cy="3745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49360"/>
            <a:ext cx="5003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Реализация научно-методической темы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как одна из форм организации методической работы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900000" y="588600"/>
            <a:ext cx="7632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11 класс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мотивации здорового образа жизни, обучение методам самосознания, самоконтроля, умения оказывать первую помощь, формирование полового поведения, индивидуального способа физического самосовершенствования, психосаморегуляции, программирования своей деятельности по укреплению здоровь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матика классных часов делится на 5 бло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гигиен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ые особенности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физическое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кола выживания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81636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5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340000" y="0"/>
            <a:ext cx="37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Этап активных действ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"/>
          <p:cNvSpPr/>
          <p:nvPr/>
        </p:nvSpPr>
        <p:spPr>
          <a:xfrm>
            <a:off x="2340000" y="1125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"/>
          <p:cNvSpPr/>
          <p:nvPr/>
        </p:nvSpPr>
        <p:spPr>
          <a:xfrm>
            <a:off x="1042920" y="907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"/>
          <p:cNvSpPr/>
          <p:nvPr/>
        </p:nvSpPr>
        <p:spPr>
          <a:xfrm>
            <a:off x="3995640" y="1413000"/>
            <a:ext cx="169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250920" y="682560"/>
          <a:ext cx="8497800" cy="5986440"/>
        </p:xfrm>
        <a:graphic>
          <a:graphicData uri="http://schemas.openxmlformats.org/drawingml/2006/table">
            <a:tbl>
              <a:tblPr/>
              <a:tblGrid>
                <a:gridCol w="2449440"/>
                <a:gridCol w="60483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отношения к здоровью через анализ школьниками собственного здоровь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Технология обучения учащихся валеологическому самоанализ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оспитание у учащихся сознательной валеологической культур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тношение умственно отсталых учащихся к собственному здоровь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храна здоровья учащихся и работников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Работа радиолектория «Я и моё здоровь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пользование новых форм, методов, приёмов обуч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недрение здоровьесберегающих технологий в режим работы ГП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совет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щественная экспертиза – шаг на пути демократизации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ая поддержка ребёнка и процесс его развития в системе личностно-ориентированного воспит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Личностно-ориентированный урок: конструирование и диагностик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е семина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ндивидуализация и дифференциация в обучении и развитии: методы, фор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сихолого-педагогическая, социальная, медицинская поддержка обучающихся в образовательном процесс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ое наблюдение: метод, позволяющий дойти до кажд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сихологический тренинг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И взрослые бывают «трудны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468360" y="374760"/>
          <a:ext cx="8280360" cy="6483240"/>
        </p:xfrm>
        <a:graphic>
          <a:graphicData uri="http://schemas.openxmlformats.org/drawingml/2006/table">
            <a:tbl>
              <a:tblPr/>
              <a:tblGrid>
                <a:gridCol w="2712960"/>
                <a:gridCol w="556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банка данных по результатам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 совет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стремим ум на радость творч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лияние профессиональной деятельности на здоровье педагогов, их грамотность и умение управлять своим здоровь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Научно-методическое обеспечение реализации программы развития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консили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Круглый стол «Сохрани св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Диагности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ровень профессиональной компетентности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следование психологической атмосферы в 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ценка эффективности методической работы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учающих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тношения учащихся к 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собенностей структуры межличностных связей в классных коллекти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особенностей поведения и личностного развития учащихся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Родителе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семей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Подумаем о будущем вмес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771640" y="6922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e917"/>
                </a:solidFill>
                <a:latin typeface="Trebuchet MS"/>
              </a:rPr>
              <a:t>Тематика обобщения опыта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"/>
          <p:cNvSpPr/>
          <p:nvPr/>
        </p:nvSpPr>
        <p:spPr>
          <a:xfrm>
            <a:off x="539640" y="1700280"/>
            <a:ext cx="7651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на уроках русского языка и чт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ая направленность уроков истор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над системой психофизического оздоровления детей в ГПД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 на уроках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педагогов и обучающихся в процссе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к уроку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учащихся группы социального рис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ческая и валеологическая направленность уроков математи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здоровья обучающихся на уроках музыки и во внеурочное врем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2627280" y="260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4 этап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Подведение итогов рабо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468360" y="907920"/>
          <a:ext cx="8497800" cy="4865760"/>
        </p:xfrm>
        <a:graphic>
          <a:graphicData uri="http://schemas.openxmlformats.org/drawingml/2006/table">
            <a:tbl>
              <a:tblPr/>
              <a:tblGrid>
                <a:gridCol w="3267000"/>
                <a:gridCol w="5230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бобщение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конкурс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«Лучшее портфолио педаго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е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Педагог в 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XI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веке. В поисках ист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Калейдоскоп педагогических ид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дведение итог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Итоги работы школы над проблем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Оценка деятельности образовательного учреждения в рамках заключительного этапа работы над проблемой шко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банка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резентации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системы здоровьесбережения в образовательном проце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истема работы школы по решению проблемы профессиональной адаптации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Школьная система воспитания «Научись радоваться жизн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949320" y="4046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Итоговый педагогический сов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«Оценка деятельности образовательного учреждения в рамка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заключительного этапа работы над проблемой школ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17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ачество условий для реализации программы развития 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етодической тем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"/>
          <p:cNvSpPr/>
          <p:nvPr/>
        </p:nvSpPr>
        <p:spPr>
          <a:xfrm>
            <a:off x="1403280" y="3933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оздание системы здоровьесбережени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"/>
          <p:cNvSpPr/>
          <p:nvPr/>
        </p:nvSpPr>
        <p:spPr>
          <a:xfrm>
            <a:off x="3995640" y="191628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стема работы школы по решен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бл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"/>
          <p:cNvSpPr/>
          <p:nvPr/>
        </p:nvSpPr>
        <p:spPr>
          <a:xfrm>
            <a:off x="5940360" y="393372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пыт работы школьной воспитательной системы «Научись радоваться жизни!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34920" y="1341360"/>
            <a:ext cx="865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987640" y="1484280"/>
            <a:ext cx="72072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1341360"/>
            <a:ext cx="216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1413000"/>
            <a:ext cx="136836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84360" y="1484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"/>
          <p:cNvSpPr/>
          <p:nvPr/>
        </p:nvSpPr>
        <p:spPr>
          <a:xfrm>
            <a:off x="2987640" y="620640"/>
            <a:ext cx="40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 школы над проблемам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627280" y="981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981000"/>
            <a:ext cx="129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324000" y="1413000"/>
            <a:ext cx="2808000" cy="1655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44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1995-2001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Развитие и социальна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адаптация умственно отсталы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учащихся в процессе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бучения, воспитания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фессионально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одготовк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/>
          <p:nvPr/>
        </p:nvSpPr>
        <p:spPr>
          <a:xfrm>
            <a:off x="3059280" y="2276640"/>
            <a:ext cx="2881080" cy="18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1-200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алеологизация образовательного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цесса – условия сохране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 укрепления здоровья учащихся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едагогов, родителе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"/>
          <p:cNvSpPr/>
          <p:nvPr/>
        </p:nvSpPr>
        <p:spPr>
          <a:xfrm>
            <a:off x="6012000" y="1484280"/>
            <a:ext cx="2952720" cy="19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9-201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коммуникационны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технологии как факто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птимизации обучения 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оспитания школьнико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086360" y="714240"/>
            <a:ext cx="15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179360"/>
            <a:ext cx="0" cy="2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523520" y="1947960"/>
            <a:ext cx="1219320" cy="512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2057400"/>
            <a:ext cx="0" cy="434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"/>
          <p:cNvSpPr/>
          <p:nvPr/>
        </p:nvSpPr>
        <p:spPr>
          <a:xfrm>
            <a:off x="6461280" y="1892160"/>
            <a:ext cx="976320" cy="549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"/>
          <p:cNvSpPr/>
          <p:nvPr/>
        </p:nvSpPr>
        <p:spPr>
          <a:xfrm>
            <a:off x="4998960" y="2003400"/>
            <a:ext cx="854280" cy="49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"/>
          <p:cNvSpPr/>
          <p:nvPr/>
        </p:nvSpPr>
        <p:spPr>
          <a:xfrm>
            <a:off x="146376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"/>
          <p:cNvSpPr/>
          <p:nvPr/>
        </p:nvSpPr>
        <p:spPr>
          <a:xfrm>
            <a:off x="5241960" y="452592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"/>
          <p:cNvSpPr/>
          <p:nvPr/>
        </p:nvSpPr>
        <p:spPr>
          <a:xfrm>
            <a:off x="359568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"/>
          <p:cNvSpPr/>
          <p:nvPr/>
        </p:nvSpPr>
        <p:spPr>
          <a:xfrm>
            <a:off x="5608800" y="293544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4525920"/>
            <a:ext cx="0" cy="600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"/>
          <p:cNvSpPr/>
          <p:nvPr/>
        </p:nvSpPr>
        <p:spPr>
          <a:xfrm>
            <a:off x="7559640" y="3044880"/>
            <a:ext cx="0" cy="544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1763640" y="5084640"/>
            <a:ext cx="2133720" cy="714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651280" y="5084640"/>
            <a:ext cx="198108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"/>
          <p:cNvSpPr/>
          <p:nvPr/>
        </p:nvSpPr>
        <p:spPr>
          <a:xfrm>
            <a:off x="1211400" y="316080"/>
            <a:ext cx="66531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роблема школы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«ВАЛЕОЛОГИЗАЦИЯ ОБРАЗОВАТЕЛЬНОГО ПРОЦЕССА – УСЛОВИЕ СОХРАНЕНИЯ И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УКРЕПЛЕНИЯ ЗДОРОВЬЯ УЧАЩИХСЯ, ПЕДАГОГОВ, РОДИТЕЛЕЙ»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"/>
          <p:cNvSpPr/>
          <p:nvPr/>
        </p:nvSpPr>
        <p:spPr>
          <a:xfrm>
            <a:off x="2760840" y="1393560"/>
            <a:ext cx="3709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3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Методический совет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работка и реализация валеологической концепци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учебно-воспитательного процесса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/>
          <p:nvPr/>
        </p:nvSpPr>
        <p:spPr>
          <a:xfrm>
            <a:off x="322560" y="2755800"/>
            <a:ext cx="148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684360" y="2492280"/>
          <a:ext cx="8102520" cy="1076400"/>
        </p:xfrm>
        <a:graphic>
          <a:graphicData uri="http://schemas.openxmlformats.org/drawingml/2006/table">
            <a:tbl>
              <a:tblPr/>
              <a:tblGrid>
                <a:gridCol w="2025720"/>
                <a:gridCol w="2027160"/>
                <a:gridCol w="2023920"/>
                <a:gridCol w="2025720"/>
              </a:tblGrid>
              <a:tr h="1076400"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учителей-предмет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воспитателей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классных руководите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психолого-медико-педагогического направ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0" name=""/>
          <p:cNvSpPr/>
          <p:nvPr/>
        </p:nvSpPr>
        <p:spPr>
          <a:xfrm>
            <a:off x="-4129200" y="39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/>
          <p:nvPr/>
        </p:nvSpPr>
        <p:spPr>
          <a:xfrm>
            <a:off x="-4129200" y="3822840"/>
            <a:ext cx="157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68360" y="3573360"/>
          <a:ext cx="8102520" cy="167292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4280"/>
                <a:gridCol w="2027160"/>
              </a:tblGrid>
              <a:tr h="1672920"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ческая основа урока, внедрение в образовательный процесс здоровьесберегающих технолог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зация режима работы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стема работы с семьей по формированию здорового образа жиз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упреждение заболеваний и несчастных случаев через диагностику, профилактику и оздоров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 rot="5400000">
            <a:off x="-3709440" y="5877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/>
          <p:nvPr/>
        </p:nvSpPr>
        <p:spPr>
          <a:xfrm>
            <a:off x="3489480" y="5577120"/>
            <a:ext cx="24829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лан развития школы,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ерспективный план работы школы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348000" y="1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«Осмысле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1-2002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79280" y="1268280"/>
          <a:ext cx="8640720" cy="5193000"/>
        </p:xfrm>
        <a:graphic>
          <a:graphicData uri="http://schemas.openxmlformats.org/drawingml/2006/table">
            <a:tbl>
              <a:tblPr/>
              <a:tblGrid>
                <a:gridCol w="2986200"/>
                <a:gridCol w="56545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6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мплексная диагностика физического, соматического, психического и социального уровня здоровь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иагностик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ические обследования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филактические медицинские осмот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сихологическая диагностика педагог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оциального статуса семей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</a:t>
                      </a: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психолого-педагогической службы в работе над проблемой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ческий анализ шко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зац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едагогическое обеспечение учебно-воспитательного процес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блемы организации валеологического сопровожден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начение рационального питания для обеспечения активной и здоровой деятельности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179280" y="189000"/>
          <a:ext cx="8964720" cy="5957640"/>
        </p:xfrm>
        <a:graphic>
          <a:graphicData uri="http://schemas.openxmlformats.org/drawingml/2006/table">
            <a:tbl>
              <a:tblPr/>
              <a:tblGrid>
                <a:gridCol w="3024360"/>
                <a:gridCol w="594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учно-практическая подготовка по валеологии учителей,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«Координация работы МО по единой методической тем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о-валеологическая грамотность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ка взаимодействия семьи и школы по формированию у учащихся потребности в ЗО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учителя, родителей и ученика в формировании глубоких знаний и качественной подготовки к самостоятельной жизни и тру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ческая культура педагога – важное условие сохранения и укрепления здоровья школьников 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колько стоит здоровье вашего ребён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еловая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силие в семье – основная причина детских неврозов и девиантного поведения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Работа университета «Азбука для родител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воение приёмов саморегуляции и способов укрепления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оррекционные занятия с элементами 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Цикл радиопередач «Я и м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9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484360" y="260280"/>
            <a:ext cx="56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даптация , конструиров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2-2004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1547640" y="1125360"/>
          <a:ext cx="7488360" cy="5519880"/>
        </p:xfrm>
        <a:graphic>
          <a:graphicData uri="http://schemas.openxmlformats.org/drawingml/2006/table">
            <a:tbl>
              <a:tblPr/>
              <a:tblGrid>
                <a:gridCol w="3017880"/>
                <a:gridCol w="447048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нновационных технологий обучения, сберегающих здоровье учащихся, учителей и их внедрение в педагогическую практи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едагогический 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ционно-валеологическое сопровождение учебно-воспитательного процесса как составная часть процесса реабилитации детей  с проблемами в развит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одические 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ологическая направленность урока в начальных класс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 мотивации или коллективное освоение новых технолог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едагогических требов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изводственные совещ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учебно-воспитательного процесса на здоровье обучающихся и проектирование валеологически обоснованной системы обуч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труда: в заботах о безопасности школьника и учите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едметно-методические нед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уроков физкультуры  с учётом мониторинга уровня здоровья и индивидуальных особенностей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ониторинг здоровь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зработка и внедрение спортивных нормативов для умственно отсталых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900000" y="92880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1289160"/>
            <a:ext cx="41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763640" y="476280"/>
          <a:ext cx="7272360" cy="5268960"/>
        </p:xfrm>
        <a:graphic>
          <a:graphicData uri="http://schemas.openxmlformats.org/drawingml/2006/table">
            <a:tbl>
              <a:tblPr/>
              <a:tblGrid>
                <a:gridCol w="2448000"/>
                <a:gridCol w="482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работка воспитательных и образовательных программ, направленных на формирование ЗО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вивающие возможности ГПД.Нестандартные формы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алеология как область знаний об индивидуальном здоровье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образования: тенденция развития и инструменты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дивидуализация и дифференциация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стема работы классных руководителей и воспитателей ГПД с учащимися девиант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уховное здоровье учителя: размышляем, спорим, предлаг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Разработка и принятие валеологической программы «Твоё здоров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2124000" y="765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"/>
          <p:cNvSpPr/>
          <p:nvPr/>
        </p:nvSpPr>
        <p:spPr>
          <a:xfrm>
            <a:off x="1116000" y="98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"/>
          <p:cNvSpPr/>
          <p:nvPr/>
        </p:nvSpPr>
        <p:spPr>
          <a:xfrm>
            <a:off x="684360" y="82872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"/>
          <p:cNvSpPr/>
          <p:nvPr/>
        </p:nvSpPr>
        <p:spPr>
          <a:xfrm>
            <a:off x="2050920" y="744480"/>
            <a:ext cx="56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Железногорская специальная (коррекционная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щеобразовательная  школа №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882720" y="1461960"/>
            <a:ext cx="2095560" cy="21621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3419640" y="1905480"/>
            <a:ext cx="4841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ГРАМ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О ВАЛЕОЛОГИЧЕСКОМУ ВОСПИТА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ТВОЕ ЗДОРОВЬЕ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882720" y="5334120"/>
          <a:ext cx="6256440" cy="672840"/>
        </p:xfrm>
        <a:graphic>
          <a:graphicData uri="http://schemas.openxmlformats.org/drawingml/2006/table">
            <a:tbl>
              <a:tblPr/>
              <a:tblGrid>
                <a:gridCol w="3127320"/>
                <a:gridCol w="312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созд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а М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979640" y="981000"/>
            <a:ext cx="62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/>
          <p:nvPr/>
        </p:nvSpPr>
        <p:spPr>
          <a:xfrm>
            <a:off x="684360" y="28440"/>
            <a:ext cx="7559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овать потребности мотивационных оснований гигиенического поведения, безопасной жизни нравственно – психологического компонента здорового образа жизни, обеспечить физическое и психическое саморазвитие, воспитывать привычку ЗОЖ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Мойдодыра: расти здоровым» (1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включает в себя заботу о своем теле, правильное питание, поведени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Айболита: правила на всю жизнь» (2 класс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предусматривает знакомство учащихся с наиболее распространенными болезнями, причинами заболеваемости и как можно предохранится от ни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Знайки: воспитай себя» (3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ные часы на этом этапе учат детей вырабатывать свой характер, заботиться о психическом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Сам себе доктор» (4 класс) включает в себя материалы по «Основам безопасности жизнедеятельности», «Экологии», «Первой помощ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286236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2:00:36Z</dcterms:created>
  <dc:creator>Анастасия Королева</dc:creator>
  <dc:description/>
  <cp:keywords/>
  <dc:language>en-US</dc:language>
  <cp:lastModifiedBy>дюльдина ольга</cp:lastModifiedBy>
  <dcterms:modified xsi:type="dcterms:W3CDTF">2009-10-21T12:33:22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