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1CA-834A-4515-97D9-C121FCD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498-BF3E-41C1-A4DD-9D591EAF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A0AB7-78B8-4B74-962B-699FEF17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7BE49-A31C-485B-BE33-716B30E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971D7-A3AC-4FA7-9528-1433A98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19EA5-5E34-4CA3-A46D-78B5F70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E9CE-A45F-4996-A486-56AF36F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D11C5-B4F4-47A9-84A2-E6F9204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C7EC1-2FDB-482A-888A-5C3C9AC5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BF803-D5AE-41B1-9F49-AC0A4D7A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E931-0CCC-4F7B-9D54-A1F8DD24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AB7DA-F4BA-41ED-8F08-DDA4E14C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401-1457-4F34-848E-6082B482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FB031-D69A-4A72-87E8-6202659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5290D-F234-4D04-9B36-15D4699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9B98A-47EA-4408-8733-C7F7AA8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2C4F8-2025-4615-9140-D1D7197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BCFD1-6632-4F2F-8F42-7BCFA1C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14535-D688-43F9-87FA-0A73A3E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5DF8-5757-4C61-94F1-49EB0B2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00B5A-4E43-4BE9-902F-583416C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F838B-61C7-475B-9F62-579833D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1F919-80AD-4359-AC9F-CBF37EFB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627-9A01-495B-B918-F650227F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1D188-EDF8-4994-9B21-D265942C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409A-0D63-43A7-9F34-D4E8AA75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4C12-6D5E-4BED-89BB-622E7FA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701DE-E459-49EA-BD40-24E8695B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7BA2F-3838-4C76-A9B3-CEF4525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8A42-F427-4038-8856-36E0372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AC856-33DE-4057-ACF0-C4065E8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65B4E-3633-42A3-9EAA-AEABCAA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29C8-3E34-46B0-BFFB-AAFFCDA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A458C-20AA-4A01-92CF-DBC7AB5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ABEA-4907-4D4D-B437-694FEF3A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81901-DBEB-4107-B9BB-7608A00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FAFB8-ADF4-4888-834E-5629E1C2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F24FA-F2C0-4236-AEB6-3620E4BD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929C7C-10CE-4411-9A0D-173569E8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EB6D45-D3F2-4649-B67E-3611FFA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C6DE06-CFCD-41FC-8F06-F02DB854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194263-BB4F-4AB8-8398-894D3343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756C6C-4572-4CC1-AF0B-D1BFBA8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2C643B-9AFF-432D-B5FB-91B1409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0EBECF-866C-4194-BBFE-7A2541F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3EA-2D4C-4CA6-8493-C792BA14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B78F4-B60C-4973-A648-1EFAF75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7662C7-2423-4C60-A0C9-92038C1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5A5A5B-C8DB-4822-8CA5-1F4984A7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865968-22A4-4BA3-8979-7FACEEE1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2FD7F4-0D6A-4985-82A4-063CA492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B9213-8114-4B1A-9D4A-D564B5D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16D77-E730-4613-95AD-CA21DD3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39925-6A31-4BEF-BCDD-D75C59B7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B210E-F394-44FA-B755-055A5D05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13DC1-98AE-4B13-BD49-7C53633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EC6-9D38-4EE6-AD0D-FD6EE470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08A6B-70BD-4903-B072-4E32DC5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1139D-B24B-415D-B278-4969D76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36D18-FEFA-4DE7-81EE-1CDFADB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11012-1E3B-4D3E-B250-6D3504E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2D44C-1E0D-45EA-9FCC-CBDDBD5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69AFD-602C-4F6B-B72E-68568ABE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D9816-1CBA-457B-91FF-8AF0D564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F2C37-B36F-48BC-BC97-82BC931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9BDB7-F972-4CEC-AAEB-CD4AF03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1E3F3-CCF0-4A4E-985C-77918C86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4D84-AAD8-4CB5-90BD-659D663F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B5C80-7189-4343-888F-98EF646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FBE04-0A91-4D48-B345-A2E56FE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1B259-2094-481C-9196-3B661128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E735D-4677-45EF-8ACB-00B31E53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F18F9-23BC-4F14-9F4D-3B2B031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B5D4A-2DE7-4D3E-BBEA-7BF5648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E20CA-3381-440A-B6D7-4908E9A2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D520F-555C-4319-BD39-91DF34D2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8768C-904D-4AFE-BEF9-A48F85DF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0D792-1713-478B-B386-5630E2F0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B0B-028A-4EC0-A53C-0B1A4B2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9A0A7-20BC-41C9-87B9-C0BDD737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D050A-9B89-4B89-8DCB-B72D28F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93C45-C375-4CE0-AB52-55DF2AA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71669-9877-4B56-BCEA-97843E6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CB45C-B42C-4D15-ABBA-096DAB6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4381E-A095-4760-9158-D0E6E8B0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4B85E-6436-442A-8DC7-A17FBD9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98B97-DA1F-4854-9094-59F8D20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0FF67-F8C1-436C-9D7D-228B437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A2B13-9AE5-4033-AEE4-EAD69659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7FB-B720-4F76-A2C1-43296EA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7E3C7-09B2-4B4D-A6DC-7451BA95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4F04D-7812-4959-BD4B-F0C5C560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9BBEB-25B1-4582-9DB3-4DAF4D07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DAD56-4419-470C-8DC6-6890521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3F597-4986-4A50-A8F5-2C4BFCAB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738E0-E82B-4F94-8794-35DF8088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3F318-9E0C-45DF-907B-27363ED8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27F2C-D8BB-4A7F-A78F-AAC7E7C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9347E-5E26-4D2F-B98E-D38E349F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1EAEC-D4E9-4B01-A542-7E7CBE7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7CD5-5FB1-456B-9DF1-A6160A1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90EB1-53C9-4E96-A5AC-A891203B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EAB86-9028-4199-8584-F74029BE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9A48E-4FEB-4549-B382-16C52A5B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69C-C54E-4A7C-A7C7-C17A8B6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6B7D-91DA-4EE9-98F3-EB7E83C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AE9-4C1F-438D-AAF3-D52884FC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E53-B2D2-42D2-9F16-2B37202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00CF-01D1-41C6-AA7C-6DAE1E1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F5B-13E9-4C7D-924C-E6B55A90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BF441-BC92-4E5C-AEBB-0284235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78A35-DFB5-4161-891B-5D63B94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E0872-B476-492F-A6B2-45D6E4F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626E7-2BFB-4F35-BBFC-2550859E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6F236-9AAC-4523-AD6F-11F3E13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91C-BFEC-445E-A38A-912A3D1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C3EFE-D22C-4D81-9DC0-1250DD89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308AB-D0FF-470F-9B29-B3637A8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ED94D-ABFC-4240-B897-0BE38EA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E86F6-27C4-4A1B-AF21-86D87BE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67905-B92C-450C-8CC9-087CD9E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A6E43-254F-4441-92E3-6FEE0C56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8B7BB-54D9-45DD-A661-A647B8A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BADB-2372-462F-BD45-C8FA9266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1326-D28C-42DF-A2F4-7CBB53C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ACB2-3136-486A-A1E5-4FA3FFE0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C9B-DE89-4B9C-96E9-41FE92D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C5FF-496F-4C77-99B6-98E1EDF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7D08-FC62-45F2-B717-012BDD5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384D-74AF-4887-8B8E-35EDC8E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187B-E121-4657-BD5F-4A6E953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1EF7-C5E7-4E25-B343-1A2E0A7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E018-B041-450B-90CB-74F2E54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EB13-D2D0-4C5E-8E73-B071313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A46A-A87B-4B65-9800-80F0768F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7397-2E3F-4CF2-89CF-DAC9CC08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0E28-9623-476B-8C1B-54789B23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715-77FE-4AA4-BF82-B5719D7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30EB-CDE6-4BEA-A128-4A5A4C7F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0C75-6D8E-4E25-872F-1BEE04DB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04D1-64B4-48FD-B8C7-1F92B9A3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FC81-50BE-4B60-B0CD-D751996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BBEC-113A-4FF7-88C7-DDB6F63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0440-778B-40EB-8939-BA8F158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AAB1-601E-4D1A-A051-E46FB82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6A0A-9C95-447F-B05D-887E73C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7508-E001-4DA2-B003-369DEF3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5849-AB54-4D06-ACDD-3B01DD9B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CF4-2DDF-4385-A0B9-8E4232BF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B5C7-6D6E-4D5F-AC72-B453BEC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056E-AD9B-458A-9166-A38BD1D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24B6-D8A4-4501-BC11-822271B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3F2C-497E-46E5-A592-CF2EAE9F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3C5A-F905-454D-9543-5C3C2F3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F1C5F-9024-4E63-970C-71F29063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0F4B-75ED-4BD5-8E6F-491DDA5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654D-99F0-4ADD-AA46-1A2424D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5259-0D10-44B6-A043-1BFAE7E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5B9D-C70C-4909-B039-6412648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EBE-737D-47FE-B5EE-86E566F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B9CD-E8EC-44CF-B084-06E10A59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1E43-DE21-4376-8ECC-9BBDFD3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36D0-E060-4A9A-924C-D914A005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6798-FD8A-42AB-A9B3-B6460A89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AA06-F6AE-41E1-B0E6-B70C09A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C46B-11E5-4433-B33F-1406FB7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BD913-CCF7-4BC4-85FB-FE3ACAF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DF3F-A998-472C-B60B-37EFC6B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72A8-A339-4368-9724-A6E2D56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4A93-A2F5-4BA1-9A24-827FD28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4C6-C159-499A-BE62-018C259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29EA-F391-4B47-902A-E81DC61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A817-CCB3-4F7A-B83F-6580FD7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F3B6-97DE-4CB2-A8E9-B823CF9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431F-4137-441B-9418-C8B4EB9D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D307-B740-4808-BF9F-6AC2176B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BBF9-99D4-4F51-AA81-90D840A5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B3E4-090E-4609-AFD5-4B454FF2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918B-F35A-4C1F-8871-3BD9D6F0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EE4F3-1469-4F56-91AA-827A772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2BC2-3897-4ACA-A6A9-A75E9FD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E0A-C54C-4CF7-94C5-199B44E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4019-D2AA-4125-834A-0C5693CB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A226-0D25-43B9-AC2E-DE37019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CFDC-5CD7-4600-9DB6-1A837F7F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5722-04C0-4B45-B773-1AF18A1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FD28-C27D-4184-8993-DCB6051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7B69-B9C0-4742-9A5E-226316F0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DFBA-DFF7-4F73-8D36-E3A99FF7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9606-1B5C-4470-96F2-C2C18CEB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C9E7F-8819-4FF5-94F7-E67D30C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BEB2-D137-4B90-BE8F-5AEF7FC4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2BC-98B6-4347-B74C-31572C256C8E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7F27-4EDB-403A-B4F8-02A875532D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96D-C043-4C7D-B72F-0296893334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1035-B9AC-4BCB-860E-63FA49E32A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F94-0983-41A6-9E7A-FC41B60AFF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2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81DB-FE0E-4538-BA0A-D8714AF67C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7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209-C182-44AF-8417-6F4D51746C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3AD-A084-4D7A-9EA1-1CC94741D8B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6D6-0252-4A18-94FD-0053D06710B7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833-AAF3-44F4-BD1B-7521EE47EA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FB9-78FD-46DC-AB2E-4FA0B1C707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9E7-E018-490A-8D81-543D2E51EF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9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F37C-2BF6-4B16-BD9E-CB00BAF547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E76B-12FE-46B6-987A-BF1F15CB0B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0F1-CA07-46FC-B665-4051FF590D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AE8-AF90-4AF5-96D4-CAE9110BA9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322880" cy="3745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49360"/>
            <a:ext cx="5003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Реализация научно-методической темы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99"/>
                </a:solidFill>
                <a:latin typeface="Arial"/>
              </a:rPr>
              <a:t>как одна из форм организации методической работы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900000" y="588600"/>
            <a:ext cx="7632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11 класс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мотивации здорового образа жизни, обучение методам самосознания, самоконтроля, умения оказывать первую помощь, формирование полового поведения, индивидуального способа физического самосовершенствования, психосаморегуляции, программирования своей деятельности по укреплению здоровь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матика классных часов делится на 5 бло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гигиен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ые особенности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физическое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кола выживания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81636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5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340000" y="0"/>
            <a:ext cx="37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Этап активных действи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"/>
          <p:cNvSpPr/>
          <p:nvPr/>
        </p:nvSpPr>
        <p:spPr>
          <a:xfrm>
            <a:off x="2340000" y="1125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"/>
          <p:cNvSpPr/>
          <p:nvPr/>
        </p:nvSpPr>
        <p:spPr>
          <a:xfrm>
            <a:off x="1042920" y="907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"/>
          <p:cNvSpPr/>
          <p:nvPr/>
        </p:nvSpPr>
        <p:spPr>
          <a:xfrm>
            <a:off x="3995640" y="1413000"/>
            <a:ext cx="169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250920" y="682560"/>
          <a:ext cx="8497800" cy="5986440"/>
        </p:xfrm>
        <a:graphic>
          <a:graphicData uri="http://schemas.openxmlformats.org/drawingml/2006/table">
            <a:tbl>
              <a:tblPr/>
              <a:tblGrid>
                <a:gridCol w="2449440"/>
                <a:gridCol w="60483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отношения к здоровью через анализ школьниками собственного здоровь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Технология обучения учащихся валеологическому самоанализ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оспитание у учащихся сознательной валеологической культур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тношение умственно отсталых учащихся к собственному здоровь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храна здоровья учащихся и работников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Работа радиолектория «Я и моё здоровь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пользование новых форм, методов, приёмов обуч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недрение здоровьесберегающих технологий в режим работы ГП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совет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щественная экспертиза – шаг на пути демократизации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ая поддержка ребёнка и процесс его развития в системе личностно-ориентированного воспит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Личностно-ориентированный урок: конструирование и диагностик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Методические семина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ндивидуализация и дифференциация в обучении и развитии: методы, фор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сихолого-педагогическая, социальная, медицинская поддержка обучающихся в образовательном процесс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ическое наблюдение: метод, позволяющий дойти до кажд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сихологический тренинг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И взрослые бывают «трудны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468360" y="374760"/>
          <a:ext cx="8280360" cy="6483240"/>
        </p:xfrm>
        <a:graphic>
          <a:graphicData uri="http://schemas.openxmlformats.org/drawingml/2006/table">
            <a:tbl>
              <a:tblPr/>
              <a:tblGrid>
                <a:gridCol w="2712960"/>
                <a:gridCol w="556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Формирование банка данных по результатам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 совет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стремим ум на радость творч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Влияние профессиональной деятельности на здоровье педагогов, их грамотность и умение управлять своим здоровь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Научно-методическое обеспечение реализации программы развития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Педагогические консили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Круглый стол «Сохрани св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44c04"/>
                          </a:solidFill>
                          <a:uFillTx/>
                          <a:latin typeface="Arial"/>
                        </a:rPr>
                        <a:t>Диагности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Педагог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Уровень профессиональной компетентности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сследование психологической атмосферы в 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ценка эффективности методической работы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Обучающих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тношения учащихся к 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Изучение особенностей структуры межличностных связей в классных коллекти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особенностей поведения и личностного развития учащихся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Родителе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Диагностика семей группы социального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44c04"/>
                          </a:solidFill>
                          <a:latin typeface="Arial"/>
                        </a:rPr>
                        <a:t>«Подумаем о будущем вмес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771640" y="6922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e917"/>
                </a:solidFill>
                <a:latin typeface="Trebuchet MS"/>
              </a:rPr>
              <a:t>Тематика обобщения опыта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"/>
          <p:cNvSpPr/>
          <p:nvPr/>
        </p:nvSpPr>
        <p:spPr>
          <a:xfrm>
            <a:off x="539640" y="1700280"/>
            <a:ext cx="7651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на уроках русского языка и чт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ая направленность уроков истор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над системой психофизического оздоровления детей в ГПД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 на уроках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 педагогов и обучающихся в процссе трудового обуч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ологический подход к уроку в начальной школ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учащихся группы социального рис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ческая и валеологическая направленность уроков математи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ение здоровья обучающихся на уроках музыки и во внеурочное врем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2627280" y="260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4 этап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Подведение итогов работ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468360" y="907920"/>
          <a:ext cx="8497800" cy="4865760"/>
        </p:xfrm>
        <a:graphic>
          <a:graphicData uri="http://schemas.openxmlformats.org/drawingml/2006/table">
            <a:tbl>
              <a:tblPr/>
              <a:tblGrid>
                <a:gridCol w="3267000"/>
                <a:gridCol w="5230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Обобщение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конкурс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«Лучшее портфолио педаго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е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Педагог в 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XI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веке. В поисках ист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Калейдоскоп педагогических ид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дведение итог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Методический 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Итоги работы школы над проблем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едагог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«Оценка деятельности образовательного учреждения в рамках заключительного этапа работы над проблемой шко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банка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Презентации опыт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оздание системы здоровьесбережения в образовательном проце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истема работы школы по решению проблемы профессиональной адаптации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Школьная система воспитания «Научись радоваться жизн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949320" y="4046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Итоговый педагогический сов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«Оценка деятельности образовательного учреждения в рамках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заключительного этапа работы над проблемой школ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17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ачество условий для реализации программы развития 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етодической тем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"/>
          <p:cNvSpPr/>
          <p:nvPr/>
        </p:nvSpPr>
        <p:spPr>
          <a:xfrm>
            <a:off x="1403280" y="3933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оздание системы здоровьесбережени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"/>
          <p:cNvSpPr/>
          <p:nvPr/>
        </p:nvSpPr>
        <p:spPr>
          <a:xfrm>
            <a:off x="3995640" y="191628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стема работы школы по решен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блемы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"/>
          <p:cNvSpPr/>
          <p:nvPr/>
        </p:nvSpPr>
        <p:spPr>
          <a:xfrm>
            <a:off x="5940360" y="393372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пыт работы школьной воспитательной системы «Научись радоваться жизни!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34920" y="1341360"/>
            <a:ext cx="865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987640" y="1484280"/>
            <a:ext cx="72072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1341360"/>
            <a:ext cx="216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1413000"/>
            <a:ext cx="136836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84360" y="1484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"/>
          <p:cNvSpPr/>
          <p:nvPr/>
        </p:nvSpPr>
        <p:spPr>
          <a:xfrm>
            <a:off x="2987640" y="620640"/>
            <a:ext cx="40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 школы над проблемам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627280" y="981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981000"/>
            <a:ext cx="129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324000" y="1413000"/>
            <a:ext cx="2808000" cy="1655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44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1995-2001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Развитие и социальна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адаптация умственно отсталы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учащихся в процессе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бучения, воспитания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фессионально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одготовк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/>
          <p:nvPr/>
        </p:nvSpPr>
        <p:spPr>
          <a:xfrm>
            <a:off x="3059280" y="2276640"/>
            <a:ext cx="2881080" cy="18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1-200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алеологизация образовательного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цесса – условия сохране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 укрепления здоровья учащихся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едагогов, родителе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"/>
          <p:cNvSpPr/>
          <p:nvPr/>
        </p:nvSpPr>
        <p:spPr>
          <a:xfrm>
            <a:off x="6012000" y="1484280"/>
            <a:ext cx="2952720" cy="19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2009-201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коммуникационны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технологии как факто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оптимизации обучения 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оспитания школьнико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086360" y="714240"/>
            <a:ext cx="15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179360"/>
            <a:ext cx="0" cy="2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523520" y="1947960"/>
            <a:ext cx="1219320" cy="512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2057400"/>
            <a:ext cx="0" cy="434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"/>
          <p:cNvSpPr/>
          <p:nvPr/>
        </p:nvSpPr>
        <p:spPr>
          <a:xfrm>
            <a:off x="6461280" y="1892160"/>
            <a:ext cx="976320" cy="549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"/>
          <p:cNvSpPr/>
          <p:nvPr/>
        </p:nvSpPr>
        <p:spPr>
          <a:xfrm>
            <a:off x="4998960" y="2003400"/>
            <a:ext cx="854280" cy="49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"/>
          <p:cNvSpPr/>
          <p:nvPr/>
        </p:nvSpPr>
        <p:spPr>
          <a:xfrm>
            <a:off x="146376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"/>
          <p:cNvSpPr/>
          <p:nvPr/>
        </p:nvSpPr>
        <p:spPr>
          <a:xfrm>
            <a:off x="5241960" y="452592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"/>
          <p:cNvSpPr/>
          <p:nvPr/>
        </p:nvSpPr>
        <p:spPr>
          <a:xfrm>
            <a:off x="3595680" y="2879640"/>
            <a:ext cx="0" cy="601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"/>
          <p:cNvSpPr/>
          <p:nvPr/>
        </p:nvSpPr>
        <p:spPr>
          <a:xfrm>
            <a:off x="5608800" y="2935440"/>
            <a:ext cx="0" cy="601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4525920"/>
            <a:ext cx="0" cy="600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"/>
          <p:cNvSpPr/>
          <p:nvPr/>
        </p:nvSpPr>
        <p:spPr>
          <a:xfrm>
            <a:off x="7559640" y="3044880"/>
            <a:ext cx="0" cy="544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1763640" y="5084640"/>
            <a:ext cx="2133720" cy="714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651280" y="5084640"/>
            <a:ext cx="198108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"/>
          <p:cNvSpPr/>
          <p:nvPr/>
        </p:nvSpPr>
        <p:spPr>
          <a:xfrm>
            <a:off x="1211400" y="316080"/>
            <a:ext cx="66531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роблема школы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«ВАЛЕОЛОГИЗАЦИЯ ОБРАЗОВАТЕЛЬНОГО ПРОЦЕССА – УСЛОВИЕ СОХРАНЕНИЯ И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УКРЕПЛЕНИЯ ЗДОРОВЬЯ УЧАЩИХСЯ, ПЕДАГОГОВ, РОДИТЕЛЕЙ»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"/>
          <p:cNvSpPr/>
          <p:nvPr/>
        </p:nvSpPr>
        <p:spPr>
          <a:xfrm>
            <a:off x="2760840" y="1393560"/>
            <a:ext cx="3709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ru-RU" sz="13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Методический совет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работка и реализация валеологической концепци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учебно-воспитательного процесса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/>
          <p:nvPr/>
        </p:nvSpPr>
        <p:spPr>
          <a:xfrm>
            <a:off x="322560" y="2755800"/>
            <a:ext cx="148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684360" y="2492280"/>
          <a:ext cx="8102520" cy="1076400"/>
        </p:xfrm>
        <a:graphic>
          <a:graphicData uri="http://schemas.openxmlformats.org/drawingml/2006/table">
            <a:tbl>
              <a:tblPr/>
              <a:tblGrid>
                <a:gridCol w="2025720"/>
                <a:gridCol w="2027160"/>
                <a:gridCol w="2023920"/>
                <a:gridCol w="2025720"/>
              </a:tblGrid>
              <a:tr h="1076400"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учителей-предмет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воспитателей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классных руководите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5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МО психолого-медико-педагогического направ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0" name=""/>
          <p:cNvSpPr/>
          <p:nvPr/>
        </p:nvSpPr>
        <p:spPr>
          <a:xfrm>
            <a:off x="-4129200" y="39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/>
          <p:nvPr/>
        </p:nvSpPr>
        <p:spPr>
          <a:xfrm>
            <a:off x="-4129200" y="3822840"/>
            <a:ext cx="157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468360" y="3573360"/>
          <a:ext cx="8102520" cy="167292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4280"/>
                <a:gridCol w="2027160"/>
              </a:tblGrid>
              <a:tr h="1672920"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ческая основа урока, внедрение в образовательный процесс здоровьесберегающих технолог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алеологизация режима работы ГП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стема работы с семьей по формированию здорового образа жиз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упреждение заболеваний и несчастных случаев через диагностику, профилактику и оздоровл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"/>
          <p:cNvSpPr/>
          <p:nvPr/>
        </p:nvSpPr>
        <p:spPr>
          <a:xfrm rot="5400000">
            <a:off x="-3709440" y="5877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/>
          <p:nvPr/>
        </p:nvSpPr>
        <p:spPr>
          <a:xfrm>
            <a:off x="3489480" y="5577120"/>
            <a:ext cx="24829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7080" bIns="3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3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лан развития школы,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перспективный план работы школы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348000" y="1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«Осмысле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1-2002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79280" y="1268280"/>
          <a:ext cx="8640720" cy="5193000"/>
        </p:xfrm>
        <a:graphic>
          <a:graphicData uri="http://schemas.openxmlformats.org/drawingml/2006/table">
            <a:tbl>
              <a:tblPr/>
              <a:tblGrid>
                <a:gridCol w="2986200"/>
                <a:gridCol w="56545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6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мплексная диагностика физического, соматического, психического и социального уровня здоровь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иагностик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ические обследования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филактические медицинские осмот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сихологическая диагностика педагог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оциального статуса семей обучаю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</a:t>
                      </a: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психолого-педагогической службы в работе над проблемой школ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условий для обеспечения оптимальных показателей физического и психического развити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ческий анализ шко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алеологизац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дико-педагогическое обеспечение учебно-воспитательного процес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блемы организации валеологического сопровождения учебно-воспитательного процес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начение рационального питания для обеспечения активной и здоровой деятельности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179280" y="189000"/>
          <a:ext cx="8964720" cy="5957640"/>
        </p:xfrm>
        <a:graphic>
          <a:graphicData uri="http://schemas.openxmlformats.org/drawingml/2006/table">
            <a:tbl>
              <a:tblPr/>
              <a:tblGrid>
                <a:gridCol w="3024360"/>
                <a:gridCol w="594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учно-практическая подготовка по валеологии учителей,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ов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«Координация работы МО по единой методической тем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Методический семина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о-валеологическая грамотность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ка взаимодействия семьи и школы по формированию у учащихся потребности в ЗО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ль учителя, родителей и ученика в формировании глубоких знаний и качественной подготовки к самостоятельной жизни и тру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Производственное совещ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одическая культура педагога – важное условие сохранения и укрепления здоровья школьников 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колько стоит здоровье вашего ребён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Деловая иг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силие в семье – основная причина детских неврозов и девиантного поведения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Работа университета «Азбука для родител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воение приёмов саморегуляции и способов укрепления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Коррекционные занятия с элементами 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Цикл радиопередач «Я и моё здоров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9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484360" y="260280"/>
            <a:ext cx="56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даптация , конструиров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2-2004 г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1547640" y="1125360"/>
          <a:ext cx="7488360" cy="5519880"/>
        </p:xfrm>
        <a:graphic>
          <a:graphicData uri="http://schemas.openxmlformats.org/drawingml/2006/table">
            <a:tbl>
              <a:tblPr/>
              <a:tblGrid>
                <a:gridCol w="3017880"/>
                <a:gridCol w="447048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нновационных технологий обучения, сберегающих здоровье учащихся, учителей и их внедрение в педагогическую практи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едагогический со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ционно-валеологическое сопровождение учебно-воспитательного процесса как составная часть процесса реабилитации детей  с проблемами в развит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одические  семина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ологическая направленность урока в начальных класс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 мотивации или коллективное освоение новых технолог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едагогических требов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изводственные совещ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учебно-воспитательного процесса на здоровье обучающихся и проектирование валеологически обоснованной системы обуч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труда: в заботах о безопасности школьника и учите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едметно-методические нед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уроков физкультуры  с учётом мониторинга уровня здоровья и индивидуальных особенностей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ониторинг здоровья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зработка и внедрение спортивных нормативов для умственно отсталых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900000" y="92880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1289160"/>
            <a:ext cx="41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763640" y="476280"/>
          <a:ext cx="7272360" cy="5268960"/>
        </p:xfrm>
        <a:graphic>
          <a:graphicData uri="http://schemas.openxmlformats.org/drawingml/2006/table">
            <a:tbl>
              <a:tblPr/>
              <a:tblGrid>
                <a:gridCol w="2448000"/>
                <a:gridCol w="482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сновные 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работка воспитательных и образовательных программ, направленных на формирование ЗО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едагогические сов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вивающие возможности ГПД.Нестандартные формы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алеология как область знаний об индивидуальном здоровье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образования: тенденция развития и инструменты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Методические семин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дивидуализация и дифференциация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стема работы классных руководителей и воспитателей ГПД с учащимися девиант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Производственное совеща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уховное здоровье учителя: размышляем, спорим, предлаг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Разработка и принятие валеологической программы «Твоё здоров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2124000" y="765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"/>
          <p:cNvSpPr/>
          <p:nvPr/>
        </p:nvSpPr>
        <p:spPr>
          <a:xfrm>
            <a:off x="1116000" y="98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"/>
          <p:cNvSpPr/>
          <p:nvPr/>
        </p:nvSpPr>
        <p:spPr>
          <a:xfrm>
            <a:off x="684360" y="82872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"/>
          <p:cNvSpPr/>
          <p:nvPr/>
        </p:nvSpPr>
        <p:spPr>
          <a:xfrm>
            <a:off x="2050920" y="744480"/>
            <a:ext cx="56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Железногорская специальная (коррекционная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щеобразовательная  школа №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882720" y="1461960"/>
            <a:ext cx="2095560" cy="21621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3419640" y="1905480"/>
            <a:ext cx="4841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ГРАМ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О ВАЛЕОЛОГИЧЕСКОМУ ВОСПИТА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ТВОЕ ЗДОРОВЬЕ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882720" y="5334120"/>
          <a:ext cx="6256440" cy="672840"/>
        </p:xfrm>
        <a:graphic>
          <a:graphicData uri="http://schemas.openxmlformats.org/drawingml/2006/table">
            <a:tbl>
              <a:tblPr/>
              <a:tblGrid>
                <a:gridCol w="3127320"/>
                <a:gridCol w="312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созд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а М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979640" y="981000"/>
            <a:ext cx="626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/>
          <p:nvPr/>
        </p:nvSpPr>
        <p:spPr>
          <a:xfrm>
            <a:off x="684360" y="28440"/>
            <a:ext cx="7559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овать потребности мотивационных оснований гигиенического поведения, безопасной жизни нравственно – психологического компонента здорового образа жизни, обеспечить физическое и психическое саморазвитие, воспитывать привычку ЗОЖ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Мойдодыра: расти здоровым» (1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включает в себя заботу о своем теле, правильное питание, поведение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Айболита: правила на всю жизнь» (2 класс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предусматривает знакомство учащихся с наиболее распространенными болезнями, причинами заболеваемости и как можно предохранится от ни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Уроки Знайки: воспитай себя» (3 класс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ные часы на этом этапе учат детей вырабатывать свой характер, заботиться о психическом здоровье челове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упень – «Сам себе доктор» (4 класс) включает в себя материалы по «Основам безопасности жизнедеятельности», «Экологии», «Первой помощи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286236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2:00:36Z</dcterms:created>
  <dc:creator>Анастасия Королева</dc:creator>
  <dc:description/>
  <cp:keywords/>
  <dc:language>en-US</dc:language>
  <cp:lastModifiedBy>дюльдина ольга</cp:lastModifiedBy>
  <dcterms:modified xsi:type="dcterms:W3CDTF">2009-10-21T12:33:22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