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FAB-677D-4AAB-8380-8D381F24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3C0-1B09-4909-8CBD-51376786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5B6C9-11CD-4C50-950E-69D30D2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88A71-CE74-4730-A2F5-94342873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10D72-9B5E-4707-A4FC-B080A2D9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545C4-84F3-4537-8E13-1865A64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54380-7664-4082-AF09-834AADE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78DAD-1B2F-41CA-BD5D-BAB19A0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5CF71-1BCF-4E1F-AB19-DB66AAD6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466E7-3B3B-4D01-8CEB-DF7540E1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6D95-072B-42E5-BB73-7281CBC9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4C354-D9F0-4A38-8ED4-9F773C30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0C4-E506-43EF-8DD9-B24280CA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E782C-0187-486D-9DD1-6CA7015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3F07-9034-4C47-A0C0-BC71D34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9F710-9E6B-48BB-82E5-16962C8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50F1-5B7C-46CC-BDFF-3DBEEDD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09C6D-D587-47DF-8C41-3ADDB239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0367-99C5-424E-B15D-C5A3B7A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FC4AF-47F7-44F1-AEA6-C049EC8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C3D0E-2FD2-4373-A58D-65547E3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F3743-0F71-4F95-AC0A-B0F3531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8F7C6-F478-4FE3-A886-1C215E28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96D-F933-44C2-91E2-7DA184FD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AE24F-DA65-477B-84A8-08BE3F7F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4093D-B042-404F-9E5E-0FE2AFBD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9BC3-28B8-4B3F-AABD-9675883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0E3CC-BF97-4DA8-B530-2A092619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75267-D8C1-4716-B889-9CE6E7B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7DF1E-E11A-4200-9E40-A4BB03F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733EA-E394-4891-86AE-F8ACD42B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76F4-5751-4648-B970-CC1B3C5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23A8-FFA5-42E9-A274-415917A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1F9C-EA67-49E6-BBB4-CE7DCE7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CA6-CB4F-4F4F-9827-C1540D68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D024A-8202-4971-ABB0-4F18C9B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2D0AA-4A97-4817-940A-F83BC50F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A2180-1808-46AC-A300-F77A23B3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D33E2-4A35-4E15-8B6B-BA77165F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EC974-B263-44BE-8146-18540B8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963AC-1A3D-4D55-AF9E-2C4E8B26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7705B-8012-4B6A-87F1-FD282C82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8B86B-2B87-466A-BD9C-7D22984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F657F-E9AD-4F7A-AA2D-E810B21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9DAD2-6D84-4FDC-BF9C-00CEC87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1F7-4C03-425C-9926-463487D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040B3-707E-40EB-BE5F-545F43E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071B3-3F30-43FF-8401-FC67206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F0DE-12BF-4885-BEB6-8E352EC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F2091-344B-4D33-9CBE-5E9EE305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39DDC-027F-478E-9520-D28B087F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45F5-B1C1-4C90-BFD8-922457C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409-3082-4790-ABC0-E48232B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EEB5-B25D-4C47-B3AD-FB9D216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5561-55B1-4CAB-9CD9-3B1589EA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F1A-9F02-43C7-A998-AA327C9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05F-73BE-459D-80E0-3E290EC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85D-3663-40B0-B3E1-2100585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0AF5-615D-4A8E-A5B3-244B888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FE30-468C-4592-9389-F7585C39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7048-360E-4D90-81FD-4EE6469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7DD2-678F-4FE4-87E0-60CAC074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47A5-5B12-4BC2-A951-F3083040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BE90-39D6-495F-96B2-9088292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B4C7-F846-4AAD-BEBB-0651CABD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AB96-7284-4E81-9AE4-7671285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FE47-A5F0-4E52-8C12-924EC38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D8B-A481-4B73-AB09-5647AB4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F573-A335-4CCF-9215-FFCBACB1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F696-68B6-424C-8C71-786D9C3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9A49-EEBA-4834-8EB3-8B7DC54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6015-01F5-47F5-B1C2-49ADB06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95B4-CE5A-4FBB-BE9D-5E62E356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1AF7-B2FA-4024-BC37-32D2337B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4FBB-D5D5-4AC8-8947-EC9DC564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18C3-99C8-45DE-BD3D-4E2BACAE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5676-106C-4007-9C91-B092FCE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2990-0699-4A71-B46F-9719127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3E6-5A7E-42A0-A748-EF03232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66A0-2C3C-4480-AC42-2B8EBAB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6669-2615-42C4-9F03-DF1A507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FDFD-C691-4A8B-9A80-D7F90E50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1C40-320A-45BF-812D-1CF4265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C872-4794-4BDB-8EEB-757BE56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1C15-1A1A-4B57-8088-90793A3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1A1A-0BDD-4111-89CE-78209801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0EB5-7C62-4583-A493-865204E2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735D-9BDC-48F2-886C-039EB67B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E3C2-6E2F-4375-ACAC-34A3F776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206-0C19-4135-A153-2C90FCD1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3B79-5A1D-4C13-9DED-37567D7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E66F-F122-4FD8-B8C8-0B104365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D84C-56E9-4411-9735-3ECFE76C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FA9F-916A-470F-BB0B-21C1896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820D-CD4E-4441-A0FC-CD511F4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49AD-6EA3-4596-8ABD-695CEDF4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8745-980D-4B91-8C10-336A5E0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ABD7-73D2-4EDE-AD7E-82ED5BE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8A77-BB54-46A0-820F-82D8B45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8E28-A9B7-4E8D-90C2-EE30308B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3EA-9EA5-404D-AED2-0DF76C2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773B-D60A-4DC2-98D5-47449A77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B7DA-4D96-45E7-95A9-C0171CF8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8CA6-F4AC-4F7B-A50A-8C08828D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E4FF-9351-4039-B80E-BD9A84E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A9B77-CA76-4BAE-8703-D1D60E4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503F-1588-4828-84C9-98E1762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84ED-679C-4760-BFD4-8846F5C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9D7D-4E7D-4007-A1C6-1B4B90E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F314-B8F5-45CC-AEAA-C325712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AC76A-B2E9-45AE-97B5-91E648E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0D6-2A82-4C23-B2A7-38F643F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BA7F-89E5-42B1-AFFD-E92D0BD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13EE-512B-49FF-B8CF-02D18BE1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64CE-AFBB-4905-BE8F-8A4E8C9A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DB73-4235-432A-9BD2-B1D42D7C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6D08-33DE-481C-B2E6-9DDE84B2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E3B9B-2D6C-4659-B82E-898798B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73D4-CB1D-4241-83B9-B445884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6221-24D9-41B1-B916-D2FF260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0AC34-945A-43E2-98A2-602632F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F335-D1A6-41ED-B647-BDCEA5C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E66-146D-4DCD-8CBB-BDF098C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B65D-14EC-496A-A839-BC0FBA8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1A49-2776-4C59-8F95-753BB54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77D6B-8D2A-4505-94CB-9A92EBE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1CE2-32A2-4361-8188-2417B56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4505-8238-4C99-BE5A-27BB1C80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5F514-52B1-4D18-9077-2CE7210C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6D92-95C8-4AA5-92B3-DC3513D2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A151A-9682-4D0C-B757-41B09C3A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6DB94-C5F2-4904-8E55-42B933E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68E0-2E69-4BE8-8402-68F38D1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E3A-13C8-4CC9-9DAD-C54E05BD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A92B-D16B-457C-A7D2-1FCFD302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CC0B-1F10-49CB-B005-BC9F397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CF67-9786-4D6A-AA3E-B23960A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E2587-FED4-42DC-9BE8-00C5EF5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BAA5F-04ED-4528-BE90-6C72B489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0C4F0-8931-4C4E-A15E-D1CCF8FA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736A-A80C-475B-A46D-3E70368C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5286-B896-46AB-A701-4021BC19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8F90-FE45-4CF4-AFDA-47D233C8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1E91-1284-4139-82A1-06B9F4D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C8B-3DC5-4AC8-9A7C-E5AAB6793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AB2A-F06C-4181-97DB-FCB819A66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42F-1975-4E3E-BD71-4F08531DE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86D-B2B1-4E35-9B4F-50D0B8266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6E9-5E94-4D4B-8C0A-8464351DE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7684-54CA-452D-AA6A-4C7D10AAB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0E01-9BCA-4C88-AD40-EC2D46796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07A9-9A01-401C-ACD4-B179DEBD3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360-DE4A-428E-835F-D34EBAEFE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BE1-FF33-40CD-B3D2-854049AC6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18B-CC80-4ECF-A877-550C04B75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E37E-600E-41CE-A812-0BE25DB3F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Е СОЦИОКУЛЬТУРНОЙ КОМПЕТЕНЦИИ У УЧАЩИХСЯ НА УРОКАХ АНГЛИЙСКОГО ЯЗЫ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57120" y="857160"/>
            <a:ext cx="8143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етен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готовность человека к мобилизации знаний, умений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х ресурсов для эффективной деятельности в конкретной жизненной ситуации; готовность действовать в ситуации неопредел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85480" y="571320"/>
            <a:ext cx="77151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государственном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ому стандарту ново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ления, для формирования социокультурной компетенции на уроках английского языка учащиеся должны овладеть следующими знаниями и умени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42600" y="1071720"/>
            <a:ext cx="74293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географических, природно-климатических особенностей страны изучаемого языка, основных городов и их достопримечательностей и  умение использовать эти знания в собственных высказыван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642600" y="1356840"/>
            <a:ext cx="7643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олитического, государственного и религиозного строя страны изучаемого язы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42876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основных сведений из истории страны изучаемого языка, в том числе из истории развития литературы культуры, цивилизации, науки и техники, и  умение их использовать при построении собственных высказываний; умение сопоставлять их с достижениями своей культуры, своего нар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85840" y="928440"/>
            <a:ext cx="82152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современных аспектов жизни сверстников за рубежом (работа, учеба, туризм, мода и т.д.) и умение выражать собственное мнение/суждение по проблемам, сравнивать с собственным опытом, а также понимать аналогичные высказы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642960" y="1143000"/>
            <a:ext cx="7858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национальных традиций, обычаев, праздников, умение сопоставить их с собств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9:01:37Z</dcterms:created>
  <dc:creator>Олег</dc:creator>
  <dc:description/>
  <dc:language>en-US</dc:language>
  <cp:lastModifiedBy>школа № 171</cp:lastModifiedBy>
  <dcterms:modified xsi:type="dcterms:W3CDTF">2012-04-03T07:48:50Z</dcterms:modified>
  <cp:revision>73</cp:revision>
  <dc:subject/>
  <dc:title>ФОРМИРОВАНИЕ СОЦИОКУЛЬТУРНОЙ КОМПЕТЕНЦИИ НА УРОКАХ АНГЛИЙСКОГО ЯЗЫКА</dc:title>
</cp:coreProperties>
</file>