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A2A-2D78-45B3-B49C-501EF0C3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DB5-9D51-4739-8E4C-EA0F31CF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473FE-56E9-46D3-92D0-04BED392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B1CBC-AFE5-429A-9024-A8B4C78B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23E12-EFA5-4669-85EE-7929DCC9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F7D60-D8FA-4D69-9A02-624DD86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7F102-1F75-44BE-A29A-C406E28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E66A9-D1D6-456D-9AD3-4ECD1FC1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92AE6-52EF-4B91-A67D-637AE80C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8D9AF-1DD5-4BAC-B12F-CD8347FE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CB20-5FAC-47FF-B167-5C1AF5DA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2A709-E570-48D3-A64F-B69AAB72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2FB-8EEC-46F0-958C-0C246D8C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31931-58FD-438C-931E-A3F3DEB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7225F-FD50-4C0C-82F2-9D6D6A0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5161D-AA30-4574-8A0D-197BD433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E4559-6035-4979-86CC-C52ACC68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FD673-745D-4EA5-B4C6-A7C6DE93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6BA31-4959-4E74-BA37-93B457E7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C8BE3-2FF5-4A39-AC21-60AF00E7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6A16F-F573-46B8-954A-65CB603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F8E36-3D13-4BA0-A891-191BDC9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4079D-554B-4111-866D-E9317EC1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852-78CB-4BAF-A130-B87D2FAF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5E936-1BAA-448E-9F5F-C70B54D2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E2EA9-BD1C-45E6-BE53-76CA54E3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DDED6-8333-40A6-9871-0A7EE753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7E21B-31C3-4B09-ADD7-BE02050A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06132-BE73-4489-B59F-1BD705BC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5168C-D551-40E2-9B33-A318A3E4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E69E9-E715-4783-B5C4-A939E09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768B8-A3C6-4A73-A449-D5D4567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768EF-ACD8-4871-984E-C5F034CF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CBBB7-91DA-4AB5-A756-AB337A5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95EA-C625-40A7-9FC8-D29C0264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4C091-0AEE-4F76-848C-87F70CBD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D3862-59C2-40AA-8D69-465D8292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EE174-0EB8-416D-AA20-984D71BB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D9C9F-6D97-478D-97D9-032FA82C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FB4DE-170D-4780-B45F-438C7A67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57C6E-8887-4655-BC4D-B4F8C691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61778-C278-4958-BAC9-4E4E1C74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F09EF-6E03-4FA6-A315-47FD7C77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C70F9-725C-40C2-8A3C-38C7A7DB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CE0CE-344B-40E3-BF46-B8B38BE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E2CE-1783-4B07-9228-8B2664D2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03AB8-1A27-4359-8117-A4087907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2C0C5-D791-4378-9E9A-E5EBF5EC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A8293-BAF2-4170-8D97-01D2E5C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9A44C-1DB8-47BC-AD6D-BAC752B3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54338-7D5F-472E-A4B6-C210FCD7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7FC4-AD25-4156-B6BF-03133C81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D1E3-8E61-4077-81FB-25A095FD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46FE-1725-4C6E-8FB2-7080263A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4A6B-37DC-4ADF-B991-5230016B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BD7D-5323-49C5-B3DC-986B11D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E6A-CB38-43FB-83BA-7B91961F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A2DD-19E2-4AB6-BC9E-A209A4F5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27C7-862C-4EA2-8AE7-9AF25966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A998-A3C4-4A65-A5F8-42B97206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3432-24F3-4E32-A244-F77DAB0B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E460-7A2B-45C1-9A52-A1BB4DB0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D19B-7A46-4C88-8281-F0250ECA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ADFC-91A9-426D-9396-C919ABB5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31CB-04C3-41A4-95A4-31D372A2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4C7B-F897-4FC2-BFB5-EC3EE6C9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CD78-D253-4490-AAAE-C315DC2F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CFD-E2EF-49C1-87AC-6A0A92C8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EED3-7894-4947-B194-3752AB3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2E017-B4B3-4C5E-A90B-7324894E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FFD1-0C80-4F9B-9D79-3C6D7AA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E2CD-83BF-4D1E-98B3-18134DD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C2EF-7463-4339-9EEA-B8CAABC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0CBD-591C-48D9-B4C9-26A5DB8B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7C14-3AFB-44ED-A182-84A4A0CD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D96C-4253-4C33-88A0-0CAC8F84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2CB6-C529-4005-9896-A46CC44B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E2B2-3235-4EF9-9C3F-FFD1D673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6A3-836A-46CF-84F5-543D2CF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9C5F-08A0-447F-A319-1612BA51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6B73-07DD-4C07-A06F-8B07CAB0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F5FEF-1DF1-4621-AA1F-D9602BEE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7F95-3492-44B2-9BD9-BC1DC39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5E5E-6B61-40F3-AE4F-692F21AB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0855-DDA4-4B85-894D-E1B9829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950F-D2B9-442F-AB2E-AC661E5B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01A5-562F-4162-8595-82170F66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9A2F-6695-4C24-A218-98461F6E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E3A30-285E-4D8B-8A0D-5CBA2F9B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9DF-3880-411A-A340-1B8BADD9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4F93C-C836-446E-B279-48387653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6623-9057-4778-9D40-1D82CD68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53A9-7CF3-43F6-82C0-E0EBA2DE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1CB1-982F-4E82-AFE4-E8B570BD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B3B3C-E5C6-4A86-8C28-49821875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3DEA-E523-403C-BF29-1F790F50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9E689-05C8-4887-9717-301AF5AC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FFDC7-7422-48F4-BE57-B3EF37F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9178-4B80-4BCC-9D38-4E40C0A2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1803-9E6D-4200-ABFF-23BC471E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C6A-A2C1-4611-BDAB-30C9DD7E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EA62-545B-4FDA-A82E-44C58E96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ED4B-F611-43EF-BD9B-8682F26C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6D84-8BC8-491E-98B7-C4C1CD5A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CBEE-C158-45BB-91C5-5E44A2FE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7DEB-5832-4318-9085-A4503625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C27EB-8351-40ED-9592-FD5CAF8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C469-2FF9-49B6-ADBA-2E34F0F9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BF49D-420C-4287-AB92-920D80A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F71BB-60B5-4EC0-BE43-B4C7822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505B-E753-4C01-8EED-E382E39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B14-4346-425F-BD48-EDDCC1A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503C-B5A8-4A00-A58D-7085CC63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D9E55-8FC1-46CA-B773-F52A2D9A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21C42-D88F-4201-B962-D97BD69F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9D8AF-B916-442A-BAB4-7331655C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68640-4E8F-44D6-92FE-2C0E2913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67AD-2A15-4DB9-B901-FB4DE8B7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0F6F0-DF5B-4638-B9B5-A5ECE844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1493B-E710-4359-A1A7-7137281F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21260-B119-46DD-98EC-FAD40A53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E1CC-ED1B-4508-84D0-102E1FF5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CEA-C099-4D7E-B70F-01D1DAAA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2C9FB-2868-49E7-88F0-05ABA57D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94DD1-3C78-43ED-B5CC-4FE0AB28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3479D-2D22-4CE8-A25D-A99A5199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90C9B-6E8C-4191-96F1-DB88F32E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CFDE2-AC9C-4B41-A391-34049E00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BF86E-673E-42C1-887B-D4E873A6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C17F-3CC5-4509-874B-988C6090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88AA0-C847-45E4-B53C-DBB0894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F8E73-41E8-479E-94E8-D266A59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7A87F-3907-4656-A2BE-AA9232D9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D97-FD5C-4D34-8362-F45FCEDD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FA7D3-26CD-4F98-835A-120EDB82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77DF-7DAA-4475-B7F8-DF24DB2D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041CC-BD61-48EA-8EA3-CD1ECEB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F1E8-DB43-4482-B3E0-46D669B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C7853-D20C-4F79-8891-088190B1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FDD2A-498A-45D5-A995-767D7E9A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D37BE-D759-456C-99A3-10329063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7D615-6205-4146-83C2-6712B270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F5623-CD5D-489E-BCFF-69935ABA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AB968-4FE0-40E3-8E8F-51286A69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688A-7F66-450F-B91B-58599B69D2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1E0-512C-4CC3-B619-6191BC076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440C-CAE8-4383-A440-3E3FDB374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337D-76A6-45CB-94D4-1DAF90764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530A-6F93-4C35-90EA-6921217D3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E83F-5F01-4C3B-9C6A-86D1AA768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208D-36CF-4313-97EE-744581A07C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42A7-CCB4-4ADB-BF05-DCDE03FFEE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35AA-F083-4196-A5FB-AD63078F8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C1E5-74A1-4523-8451-6015ACC36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E34-7E46-4724-B642-B6AE4BFF7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12C3-F465-4BBF-A617-834D2D337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ИРОВАНИЕ СОЦИОКУЛЬТУРНОЙ КОМПЕТЕНЦИИ У УЧАЩИХСЯ НА УРОКАХ АНГЛИЙСКОГО ЯЗЫ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57120" y="857160"/>
            <a:ext cx="81439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етен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готовность человека к мобилизации знаний, умений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х ресурсов для эффективной деятельности в конкретной жизненной ситуации; готовность действовать в ситуации неопредел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85480" y="571320"/>
            <a:ext cx="77151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государственном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ому стандарту новог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ления, для формирования социокультурной компетенции на уроках английского языка учащиеся должны овладеть следующими знаниями и умения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42600" y="1071720"/>
            <a:ext cx="74293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географических, природно-климатических особенностей страны изучаемого языка, основных городов и их достопримечательностей и  умение использовать эти знания в собственных высказыван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642600" y="1356840"/>
            <a:ext cx="7643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политического, государственного и религиозного строя страны изучаемого язы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6840" y="428760"/>
            <a:ext cx="7900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основных сведений из истории страны изучаемого языка, в том числе из истории развития литературы культуры, цивилизации, науки и техники, и  умение их использовать при построении собственных высказываний; умение сопоставлять их с достижениями своей культуры, своего нар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85840" y="928440"/>
            <a:ext cx="82152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современных аспектов жизни сверстников за рубежом (работа, учеба, туризм, мода и т.д.) и умение выражать собственное мнение/суждение по проблемам, сравнивать с собственным опытом, а также понимать аналогичные высказы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642960" y="1143000"/>
            <a:ext cx="7858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национальных традиций, обычаев, праздников, умение сопоставить их с собственным опы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9:01:37Z</dcterms:created>
  <dc:creator>Олег</dc:creator>
  <dc:description/>
  <dc:language>en-US</dc:language>
  <cp:lastModifiedBy>школа № 171</cp:lastModifiedBy>
  <dcterms:modified xsi:type="dcterms:W3CDTF">2012-04-03T07:48:50Z</dcterms:modified>
  <cp:revision>73</cp:revision>
  <dc:subject/>
  <dc:title>ФОРМИРОВАНИЕ СОЦИОКУЛЬТУРНОЙ КОМПЕТЕНЦИИ НА УРОКАХ АНГЛИЙСКОГО ЯЗЫКА</dc:title>
</cp:coreProperties>
</file>