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14C-FFEC-421E-9572-16ED4625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C77-1E4A-4BCF-861F-CB756394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F7E0E-53CB-4C03-9830-CC52B8E4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3E632-6F96-44D7-9308-A1DA981A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2CA01-B694-4A79-902D-861E1C6D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30A98-0191-4000-96FD-494CCBBA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B59DC-BC58-4289-BF70-CC72A313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2A71F-B182-4594-B599-968079A2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8A44F-47C7-4AE5-8068-784C29EE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A9788-0C57-405B-8B60-E8D16A5B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CE3D7-5D09-42B2-B5B8-BDE91893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B8DD7-C431-4E67-A1E1-8E0AA971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387-7C61-4EAE-933A-AE07A340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49907-43FF-4E58-AC95-CD7E8129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399CB-486A-4543-AE82-E75D66B2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69B63-1696-43CB-A716-D8F90DDD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AA797-AA62-45A1-8E23-17D33F0C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9E843-2BCC-4647-A147-DC7B14E1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585D5-7D18-429E-94A6-E00F1830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A29A5-EC03-40E1-9CDA-271EDDE7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4F8AB-2907-4166-BFB6-961FFFD7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C5445-5849-471C-A886-B22DC7F0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B2CA7-B180-40B1-A465-A6CEBBBE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7A8-7486-4BA5-9249-B3D308F4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0FFDC-D17F-4BFE-B5D4-B87A038C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7B381-2D27-42EB-89D6-2506F501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6FF30-42DA-4680-8FC5-85549084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E08C3-69B4-42C6-A61C-8C237368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42132-3BEC-4BAA-B8CD-00C6C1F2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E495A-CA1F-4DC9-B189-9D13D767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20D52-ED18-4F59-BE79-F86454AA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0F313-585A-46D1-BF07-7F96C29C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70871-B687-4540-9E6F-92274584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8842C-70DC-4E65-84F0-BA338F46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1BA5-75AA-42FC-94A7-8EE29545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32B99-0D7D-48C4-B0B0-E07ED49E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5BFDC-0F67-4958-A7F1-E38761A7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A964B-1F8F-45A8-A972-CF13C6C7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62205-3878-4310-B534-25CFAB73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768ED-FC9E-411C-AC99-3F7CBC2E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1AE77-D222-4F69-8FA4-2EAF978E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1F82C-1C52-4C2F-AB39-3CA3FB17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E1735-126A-4F41-AF80-56918F5D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EBFB9-32E9-47A3-9E8B-F053EAFD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7509B-E6BF-4D14-99D9-B90B05EA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ABBF-4A8A-46E4-B5D9-B10AF73D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72040-E776-4A61-91AC-C8B7EC27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DD4A6-7F5D-43D7-A8E2-F14642CF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08601-E8E6-4623-90CC-229AFD4F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71C6C-CD6D-4902-91B5-C5016905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3CBF3-08C0-4E46-BF63-41B95249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9497-1EC4-4EE5-A27E-942433BB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8055-98D8-428B-96EE-80DF90C9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0E0C-A95F-498C-BE0C-78DED82E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04AA-89DB-447D-9CDE-EED4CBF4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89AC-E761-40F1-BE35-8A416F06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B29-9CAE-49CB-99A2-7DA5B79E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0E60-1770-4606-B90A-D5CE6E5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BE9A-6CE4-4009-89BD-272FE04E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9691-BF78-49D9-9B60-FC9C4C89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64D4-7D19-4FB5-9F28-765C668D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0BA8-AA0B-4C9C-93B0-49B75C5E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339F-EAEA-48A1-9ED3-35A16FD4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C59C-6582-40C4-92B0-AF15E18D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C814-817D-47FA-B62C-1897A263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780C8-BF9F-47FA-9E6C-916E10A2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3D49-1279-4F6F-B9A6-BA78D775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470-9F07-44DA-A5C4-885872C5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CD21-E3ED-4F3C-9BCA-6D54B654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38B7-684C-4954-B95A-6D5900D8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F033-F545-4413-8581-BEBEBCFB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4E68-DB46-4FCF-BFDC-08977682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8438-CD20-4605-A035-5DC6D90B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08A59-8C9B-4ABF-A298-831584F0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ECB8-1EAC-48AE-A524-77BF57F8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1D9C-9D3D-446B-B032-0B8EBD48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2A8B-EE43-4E3B-8451-1B990A90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FC5F0-AF13-467D-B272-F7348321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C00-FB77-4AB9-8523-DB0D671B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6797-2D0E-443D-9657-B7CEEB34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2443-C083-452B-AB1E-C39D167B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5C615-D793-4B1A-A168-10FC42F6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45E11-0D4C-42F9-B5C7-971BA11C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595F-0313-44AF-8694-041C375A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B003-5C3A-4177-99CC-7439661A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6FB5-CCB8-4B5A-BC7A-9851F759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A6C1F-7552-485F-BDFA-D04D86F7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7A4D-A46E-48F0-8A86-7E817F31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AC2DF-B9B3-4396-876D-EC1D280D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F58-EA2B-463D-9921-38F80E63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76C84-748F-436F-9397-EA28CF78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23A67-F8C5-4F39-89BC-EBAE1A64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DAD03-50AC-4E4E-B613-FDD93234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876BE-9F22-4EEC-BF97-86D850FB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59BC3-7ACD-4C31-9466-AC745879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4265-13EF-44DD-A43C-0559EBD5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A76C-6950-4A54-B3BE-097E8F45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E1004-33B9-43CA-9F72-AEEE6FC4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272C7-B9E6-459B-9857-ED32E379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6275C-7F31-4468-83E9-D8031887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811-4ECF-4238-8CF3-0CE8FE6B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444E0-EBBF-449D-9680-500FDC29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77CF2-BFBE-4ADD-B6E0-61069DCA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CCD1E-DD37-4342-82C2-D5C66B57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F7065-760E-410A-A4AC-BE87C64D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1D683-00A9-44E4-ADA5-F4D7852A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7180F-A7B4-4D3B-9E3E-2C94CBCE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CAABA-B144-4DA3-9E5F-88E94D86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5B1A0-3579-4BCD-B7F8-CE62AB48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36294-CB0A-4D29-AB87-7C289F2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8BBA-7D82-4660-AAF9-17347C6F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2B7-E12A-4A52-84F1-C2F4B975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99D34-CBA3-4D7A-BB70-1E1A640B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E9E85-600B-434B-9656-4BE47B01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AC3CF-FBAE-4266-876F-918F9A40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4F951-1317-4E82-94D3-7D5287A8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10478-D8FD-45CF-AF22-3D7EC72C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BD718-34C4-4F09-84FE-69F78A3F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B30D9-1611-4924-A8EB-4F43FF8B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2CB90-362B-4CB6-B5D2-CFF3F77F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7FC39-0F60-4B21-B387-72DD586C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2EFB1-3E27-4EBD-A931-7318A9AE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405-C957-4E7C-BF18-8D1123E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4180C-4FBC-4652-9AF3-B420E296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F24B5-C238-4EEF-9AB4-289FBEC5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8655C-9C39-487B-A515-026E304B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E2740-5B73-46F7-B0AC-3EC92D8F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C7352-682B-4AA1-9E61-1DAD239E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AAE14-BEE8-4132-9078-77E954BB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C67FD-C797-4D4C-AE18-986FC9FB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047EB-5981-46F0-BB6A-A353CE87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633F7-F055-4E89-B9BF-59F7E05E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B4552-71AD-4CEB-AC0E-2BF456B6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1EE-7ADB-4461-BDE4-8D2823F0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C1B0E-D845-4022-A31E-F8C4A918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8CA1F-EFC5-4394-9393-20AD46AD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E7C75-A83F-4D2E-83BE-E73D4578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2BC25-2124-41C0-B2F2-E6E327C2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2B20C-085B-46D4-BDD4-85875B2D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CDEDD-0AFD-4908-B5BD-BBE41C8D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8CA02-D834-4C6E-A791-5FAE8F29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B6EF4-C75D-4557-B8F9-D8B8BB45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6B397-F78F-422B-94E8-1E44918A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4022D-63B4-4E89-BB10-A0DCDBC9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EEC9-B3A6-474B-A465-49415C92C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DFB1-10DB-464B-8F53-690BB39BF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3086-71E1-48B7-B92F-97809439C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8899-3A48-4EC6-8776-167525E5AA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C562-6D5B-4AB2-BB68-7C5ACE506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1953-6D91-4CA3-9F0D-A4BAE39E9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FFBC-B453-4A64-BD98-98FE02F35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822A-8F8E-4374-9DED-BCBEF0319E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4A33-8DBB-4058-B65F-3C563BBF8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26F1-2B59-4A09-B372-8E7E52E4DF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5267-C827-40AF-BCB9-1D6AE8330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E102-AECF-4AE8-9D54-BE1F67D5D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ИРОВАНИЕ СОЦИОКУЛЬТУРНОЙ КОМПЕТЕНЦИИ У УЧАЩИХСЯ НА УРОКАХ АНГЛИЙСКОГО ЯЗЫ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57120" y="857160"/>
            <a:ext cx="81439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етен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готовность человека к мобилизации знаний, умений 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шних ресурсов для эффективной деятельности в конкретной жизненной ситуации; готовность действовать в ситуации неопредел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85480" y="571320"/>
            <a:ext cx="77151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государственном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тельному стандарту новог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оления, для формирования социокультурной компетенции на уроках английского языка учащиеся должны овладеть следующими знаниями и умения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42600" y="1071720"/>
            <a:ext cx="74293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географических, природно-климатических особенностей страны изучаемого языка, основных городов и их достопримечательностей и  умение использовать эти знания в собственных высказывания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642600" y="1356840"/>
            <a:ext cx="7643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политического, государственного и религиозного строя страны изучаемого язы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6840" y="428760"/>
            <a:ext cx="7900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основных сведений из истории страны изучаемого языка, в том числе из истории развития литературы культуры, цивилизации, науки и техники, и  умение их использовать при построении собственных высказываний; умение сопоставлять их с достижениями своей культуры, своего нар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285840" y="928440"/>
            <a:ext cx="82152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современных аспектов жизни сверстников за рубежом (работа, учеба, туризм, мода и т.д.) и умение выражать собственное мнение/суждение по проблемам, сравнивать с собственным опытом, а также понимать аналогичные высказы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642960" y="1143000"/>
            <a:ext cx="7858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национальных традиций, обычаев, праздников, умение сопоставить их с собственным опы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9:01:37Z</dcterms:created>
  <dc:creator>Олег</dc:creator>
  <dc:description/>
  <dc:language>en-US</dc:language>
  <cp:lastModifiedBy>школа № 171</cp:lastModifiedBy>
  <dcterms:modified xsi:type="dcterms:W3CDTF">2012-04-03T07:48:50Z</dcterms:modified>
  <cp:revision>73</cp:revision>
  <dc:subject/>
  <dc:title>ФОРМИРОВАНИЕ СОЦИОКУЛЬТУРНОЙ КОМПЕТЕНЦИИ НА УРОКАХ АНГЛИЙСКОГО ЯЗЫКА</dc:title>
</cp:coreProperties>
</file>