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6.jpeg" ContentType="image/jpeg"/>
  <Override PartName="/ppt/media/image60.png" ContentType="image/png"/>
  <Override PartName="/ppt/media/image18.png" ContentType="image/png"/>
  <Override PartName="/ppt/media/image33.png" ContentType="image/png"/>
  <Override PartName="/ppt/media/image52.png" ContentType="image/png"/>
  <Override PartName="/ppt/media/image3.png" ContentType="image/png"/>
  <Override PartName="/ppt/media/image15.png" ContentType="image/png"/>
  <Override PartName="/ppt/media/image48.png" ContentType="image/png"/>
  <Override PartName="/ppt/media/image11.png" ContentType="image/png"/>
  <Override PartName="/ppt/media/image32.png" ContentType="image/png"/>
  <Override PartName="/ppt/media/image2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65.png" ContentType="image/png"/>
  <Override PartName="/ppt/media/image64.png" ContentType="image/png"/>
  <Override PartName="/ppt/media/image66.png" ContentType="image/png"/>
  <Override PartName="/ppt/media/image29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49.png" ContentType="image/png"/>
  <Override PartName="/ppt/media/image12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14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jpeg" ContentType="image/jpeg"/>
  <Override PartName="/ppt/media/image30.png" ContentType="image/png"/>
  <Override PartName="/ppt/media/image31.png" ContentType="image/png"/>
  <Override PartName="/ppt/media/image34.jpeg" ContentType="image/jpeg"/>
  <Override PartName="/ppt/media/image37.png" ContentType="image/png"/>
  <Override PartName="/ppt/media/image9.jpeg" ContentType="image/jpeg"/>
  <Override PartName="/ppt/media/image36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418C-CA25-46C8-BF7A-59A43BA365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E6F08C3-43B4-4551-94A9-C4F487A6762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A1FB-A5D0-48BA-A087-7F084F28F2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066-2893-4936-855C-4190D12A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6E5-B473-481F-99DA-9EF25510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B94356-975C-4BD4-B187-CECBDB90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EA540B-2F17-40DB-A8EE-BF3FA111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91759D-8DEF-470C-BB06-769F227C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2EB6D5-9969-4975-9418-612AA180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5984AF-1532-44E4-956A-C8F71B8B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D18B95-71FB-40A7-896F-BCA8C06E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C741F0-A388-41A4-96CD-2732AC82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FF085E-9C37-42D8-A358-58839FC0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03DD0E-BFBB-4B5C-985A-A5EC6465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D15-9F19-45FB-9233-3EBE4FB2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832-7540-4EB0-95F5-CD2449A4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467D0-E940-44BE-A95D-918F3CB2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CF793-1E1E-42C5-B938-7345148D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D46D0-1A3F-47A0-88B0-E2A32516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7AD09-B324-4992-9EC2-5BEFBC37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DC6E5-ACBF-4556-9617-F0A31DFE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21A19-F507-41CE-844D-875A305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B3EBC-10F3-4504-9661-3529DFA0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04A-7E68-4C99-95A9-189471F1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35864-0E18-428A-8D41-6B7FEE61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6D707-FC5C-4359-82B3-A3C5B9E5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9A90F-D5F6-45C9-8F42-50263A73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0E316-05D5-4AB7-8CC5-7438E479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FB3C9-221A-4E0D-8173-3B8C1B3B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9133-8687-44EA-9564-A1BF3F1E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00056-8E90-40A6-A94E-7E4397CE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61B3-667C-4714-8C33-45B93BD5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3B285-CF45-4008-BB8D-5238FD6F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BDCFB-4F8C-4D66-9772-4CE1154C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4A3-7112-4F02-9BE0-B60D615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60E1-8C95-4F44-A920-F8EA2566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4609-1897-4029-8345-596CBB1D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319D-CCD9-4C66-B140-EC250C83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506A7-05F1-4CAD-8874-58413851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736A2-0A51-4D25-B05A-9FF4946E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84DE-8A9E-4D83-8F0B-82B99049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BF6D-C00B-4BE5-8496-82FF8EAC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005ACA-207B-4277-ABA2-0FF107FA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97DB7-1982-4420-80D7-5F0EE18B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67E4C5-9B09-48FE-88B5-0A776BB7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244-0E22-4DDF-8E9D-A02BB4C7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F415A-30A2-4591-AE83-9198A539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59F10-828B-4FD1-B16A-B7871415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3C1934-608E-44D4-8CC4-601E65AB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27B21E-5F60-4E76-84B2-E8D44CCE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BFCD4-C52B-495A-A89E-0C74371D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2E06C-7DF2-40A1-994E-2C9442DF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A72B1A-75A2-4393-B817-30D62AE7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68ECC-B15A-4682-B4B1-1677031A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E8932-B578-439F-8D72-7A67DFA3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4A68B-108A-4B01-B560-7A89465C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BD0-2F12-442C-A8F0-150F78FE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17BB9-6F8B-4369-8948-2320F7EE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BAD8D-7588-49E4-8FA2-D35615DA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36327-64C5-412C-955E-B1F1BFDC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D9581-73D1-4219-9EBC-C220C673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F0D8-F159-4F09-946B-CDA5D7B5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3E457-BAEC-4A85-9A20-E71BD36D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9C440-E4C0-43BE-9744-908C323A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2DC5-065C-4421-89D7-2A8BC537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CCF7A-B9A2-45EF-907C-E66BBACB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FF6DC-5349-41E6-919F-5EF4BE0E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C21-9807-4D86-B20E-ADA2DC85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DD628-CF19-4F03-99D2-44A34997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C4D78-3CDC-4F4C-9234-743BDFFD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45556-7C6C-466D-8276-F8577DFF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F2A58-F737-4415-976E-49EA2989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E7619-C224-4EC5-8494-0DEFB93A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F2AC2-DBCA-4BC9-B66C-32237388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83564-8289-420C-97A6-A07C2587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3547A-6789-4269-B55D-3B66C682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FA6FF-830B-42E6-B3E2-6BE3F8E6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0D86D-DA30-4BFB-94FD-C2232160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193-C327-47F2-9D6D-8E001C56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98CC4-C6CC-4DE5-B1ED-3F4371AE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A8A4-3497-4522-A68B-40166963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9C29B-714F-4E9C-87FD-1922CF91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A8A29-CCA6-4F76-B0A7-73A51EC2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4ECA6-A6A6-46CC-B94D-0B5CB563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297EC-3FEC-4DCA-97B6-4D23675F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AB244-D534-49CF-B1F5-693A8303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25896-EDFC-4EDB-BB58-6AB0F353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F041E-B418-445F-A512-2B048B29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12F55-F295-4DEA-9EA3-2CC3E683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BB4-EC1B-47A8-8E3B-BA07EA78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3037-9E48-4D4A-ABDE-70EFCE6E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5F5B3-0BE4-44DF-A038-4B3F3900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2AF0C-2326-487E-8620-B9F5C2CB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801F1-410B-4F5B-A350-6236C23F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B89E8-EB09-4DDF-B42E-A1C7C5BF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85EBC-E6E8-40BD-9543-4730F711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B9E508-2695-4CAF-9470-320EB515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DE3C26-36EA-4FE8-A208-DC662FAC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D943C9-1207-42FF-8AF9-ED71B634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A5CCE8-7C6B-45E2-8BFA-81653D70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82D-950D-48D0-B679-C6953EAD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EEE58F-4410-47EE-AA61-DA7B5CE3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F7805-6B81-4962-A419-D3E85E3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A02471-4F4B-40E4-A9C0-41BB4C86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37A3F3-D14A-4C73-AEF6-4475005F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6A4CF6-48B7-4FFD-AFE6-D2477C3D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3893F9-894C-453C-AB41-BA06C822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79EC59-BC49-4305-9C90-6B818D67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B13ABC-172D-40AA-A2C3-E593C6E0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C7909F-B461-4BC8-A5CB-75BB98B5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6F45BC-D74A-473B-B1FD-B360258F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53E7-D77E-46E9-9A57-59288A6319EB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8962-DC3C-4007-B89F-92BAD1787485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99B0-9996-4F37-93C0-017B1A4CA0FE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8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B3C5-7BD2-41C1-984B-D61479843F4F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8D63-82F6-408A-A978-A80D0CC18417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3F85-9BC9-4EC6-94E1-D27138545D73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C2A0-9771-4F85-AEB8-7EAAFA9E0E8C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8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6076b4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B20-C81B-480E-BFA9-800408CD39F4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dee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deec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9c5252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842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5b1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5b1d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ade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420B-6B16-4A84-96EF-40C66DE50E1D}" type="slidenum">
              <a:rPr b="0" lang="ru-RU" sz="1600" spc="-1" strike="noStrike">
                <a:solidFill>
                  <a:srgbClr val="dade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png"/><Relationship Id="rId19" Type="http://schemas.openxmlformats.org/officeDocument/2006/relationships/image" Target="../media/image57.png"/><Relationship Id="rId20" Type="http://schemas.openxmlformats.org/officeDocument/2006/relationships/image" Target="../media/image58.png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image" Target="../media/image61.png"/><Relationship Id="rId24" Type="http://schemas.openxmlformats.org/officeDocument/2006/relationships/image" Target="../media/image62.png"/><Relationship Id="rId25" Type="http://schemas.openxmlformats.org/officeDocument/2006/relationships/slideLayout" Target="../slideLayouts/slideLayout25.xml"/><Relationship Id="rId2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3" descr=""/>
          <p:cNvPicPr/>
          <p:nvPr/>
        </p:nvPicPr>
        <p:blipFill>
          <a:blip r:embed="rId1"/>
          <a:stretch/>
        </p:blipFill>
        <p:spPr>
          <a:xfrm>
            <a:off x="3041640" y="4724280"/>
            <a:ext cx="5486400" cy="6652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427280" y="189000"/>
            <a:ext cx="35067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mbria"/>
              </a:rPr>
              <a:t>Педагогический совет по теме: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Федеральный государственный стандарт начального общего образования: актуальные вопросы введения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403" name="Рисунок 14"/>
          <p:cNvGrpSpPr/>
          <p:nvPr/>
        </p:nvGrpSpPr>
        <p:grpSpPr>
          <a:xfrm>
            <a:off x="920880" y="1079640"/>
            <a:ext cx="3670200" cy="3767040"/>
            <a:chOff x="920880" y="1079640"/>
            <a:chExt cx="3670200" cy="3767040"/>
          </a:xfrm>
        </p:grpSpPr>
        <p:pic>
          <p:nvPicPr>
            <p:cNvPr id="404" name="Рисунок 14" descr=""/>
            <p:cNvPicPr/>
            <p:nvPr/>
          </p:nvPicPr>
          <p:blipFill>
            <a:blip r:embed="rId2"/>
            <a:stretch/>
          </p:blipFill>
          <p:spPr>
            <a:xfrm>
              <a:off x="920880" y="1079640"/>
              <a:ext cx="367020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047600" y="1204920"/>
              <a:ext cx="3414960" cy="35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 txBox="1"/>
          <p:nvPr/>
        </p:nvSpPr>
        <p:spPr>
          <a:xfrm>
            <a:off x="6357600" y="4643280"/>
            <a:ext cx="27860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Picture 1" descr="C:\Documents and Settings\Admin\Рабочий стол\i.jpegm.jpeg"/>
          <p:cNvPicPr/>
          <p:nvPr/>
        </p:nvPicPr>
        <p:blipFill>
          <a:blip r:embed="rId3"/>
          <a:stretch/>
        </p:blipFill>
        <p:spPr>
          <a:xfrm>
            <a:off x="250920" y="907920"/>
            <a:ext cx="3960720" cy="439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mbria"/>
              </a:rPr>
              <a:t>Дошкольного образования;</a:t>
            </a:r>
            <a:endParaRPr b="0" lang="en-US" sz="3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mbria"/>
              </a:rPr>
              <a:t>Начального общего образования;</a:t>
            </a:r>
            <a:endParaRPr b="0" lang="en-US" sz="3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mbria"/>
              </a:rPr>
              <a:t>Основного общего образования; </a:t>
            </a:r>
            <a:endParaRPr b="0" lang="en-US" sz="3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mbria"/>
              </a:rPr>
              <a:t>Среднего (полного) общего образования.</a:t>
            </a:r>
            <a:endParaRPr b="0" lang="en-US" sz="3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287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1320" y="1267920"/>
            <a:ext cx="853452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1380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61380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ОП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утверждается  и реализуется образовательным учреждением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mbria"/>
              </a:rPr>
              <a:t>самостоятельно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61380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61380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ОП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ОУ  разрабатывается на основе соответствующих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mbria"/>
              </a:rPr>
              <a:t>примерных основных образовательных программ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78912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lvl="2" marL="78912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Примерная основная образовательная программа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разрабатывается на основе 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Cambria"/>
              </a:rPr>
              <a:t>федеральных государственных образовательных стандартов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lvl="2" marL="78912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lvl="2" marL="78912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Органы государственной власти субъекта РФ в сфере образования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 могут принимать участие в разработке примерных основных образовательных программ 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Cambria"/>
              </a:rPr>
              <a:t>(в части учета региональных, национальных и этнокультурных особенностей)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    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60360" y="195120"/>
            <a:ext cx="8790120" cy="1170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нструмент обеспечения баланса целей личности, общества и государства  в образовани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нструмент формирования социального  доверия, общественного согласия и гражданской консолидаци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нструмент реализации государственной политики в сфере образован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91680" cy="1463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Впервые стандарты – это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целостная система требований ко всей системе образования страны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, а не только требования к предметному содержанию образования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Впервые  стандарты рассматриваются как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конституция школьной жизни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Впервые основой внедрения стандартов в реальную  жизнь является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новая организационно-экономическая модель образования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«Знаниевая»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истемно-деятельностна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учение основ наук        Обеспечение развития универсальных учебных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ействий на материале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снов наук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cxnSp>
        <p:nvCxnSpPr>
          <p:cNvPr id="459" name="Прямая со стрелкой 4"/>
          <p:cNvCxnSpPr/>
          <p:nvPr/>
        </p:nvCxnSpPr>
        <p:spPr>
          <a:xfrm>
            <a:off x="3143160" y="1785960"/>
            <a:ext cx="643320" cy="2160"/>
          </a:xfrm>
          <a:prstGeom prst="straightConnector1">
            <a:avLst/>
          </a:prstGeom>
          <a:ln w="9360">
            <a:solidFill>
              <a:srgbClr val="566aa3"/>
            </a:solidFill>
            <a:miter/>
            <a:tailEnd len="med" type="arrow" w="med"/>
          </a:ln>
        </p:spPr>
      </p:cxnSp>
      <p:cxnSp>
        <p:nvCxnSpPr>
          <p:cNvPr id="460" name="Прямая со стрелкой 6"/>
          <p:cNvCxnSpPr/>
          <p:nvPr/>
        </p:nvCxnSpPr>
        <p:spPr>
          <a:xfrm>
            <a:off x="4500360" y="2286000"/>
            <a:ext cx="572040" cy="2160"/>
          </a:xfrm>
          <a:prstGeom prst="straightConnector1">
            <a:avLst/>
          </a:prstGeom>
          <a:ln w="9360">
            <a:solidFill>
              <a:srgbClr val="566aa3"/>
            </a:solidFill>
            <a:miter/>
            <a:tailEnd len="med" type="arrow" w="med"/>
          </a:ln>
        </p:spPr>
      </p:cxnSp>
      <p:pic>
        <p:nvPicPr>
          <p:cNvPr id="461" name="Picture 3" descr="p001"/>
          <p:cNvPicPr/>
          <p:nvPr/>
        </p:nvPicPr>
        <p:blipFill>
          <a:blip r:embed="rId2"/>
          <a:stretch/>
        </p:blipFill>
        <p:spPr>
          <a:xfrm>
            <a:off x="714240" y="3714840"/>
            <a:ext cx="2500560" cy="215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31200" cy="1324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mbria"/>
              </a:rPr>
              <a:t>Задач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риентация системы образования на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ambria"/>
              </a:rPr>
              <a:t>новые образовательные результаты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, связанные с пониманием развития личности как цели  и смысла образован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4" name="Рисунок 1" descr="C:\Documents and Settings\IAntonova\Рабочий стол\Обложки Стандарты\federal_gos_obraz_stand.jpg"/>
          <p:cNvPicPr/>
          <p:nvPr/>
        </p:nvPicPr>
        <p:blipFill>
          <a:blip r:embed="rId2"/>
          <a:stretch/>
        </p:blipFill>
        <p:spPr>
          <a:xfrm>
            <a:off x="7164360" y="3860640"/>
            <a:ext cx="1224000" cy="23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457200" y="-73080"/>
            <a:ext cx="8637480" cy="17924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301680" y="1527120"/>
            <a:ext cx="8842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Cambria"/>
              </a:rPr>
              <a:t>Личностные результаты</a:t>
            </a: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– сформировавшиеся в образовательном процессе мотивы деятельности, система ценностных отношений учащихся – в частности, к себе , другим участникам образовательного процесса, самому образовательному процессу, объектам познания, результатам образовательной деятельности и т.д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 u="sng">
                <a:solidFill>
                  <a:srgbClr val="ffffff"/>
                </a:solidFill>
                <a:uFillTx/>
                <a:latin typeface="Cambria"/>
              </a:rPr>
              <a:t>Метапредметные результаты</a:t>
            </a: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– освоенные обучающимися на базе нескольких или всех учебных предметов обобщенные способы деятельности, применимые как в рамках образовательного процесса, так и в реальных жизненных ситуациях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 u="sng">
                <a:solidFill>
                  <a:srgbClr val="ffffff"/>
                </a:solidFill>
                <a:uFillTx/>
                <a:latin typeface="Cambria"/>
              </a:rPr>
              <a:t>Предметные результаты</a:t>
            </a: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 - выражаются в усвоении обучаемыми конкретных элементов социального опыта, изучаемого в рамках отдельных учебных предметов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301320" y="1856880"/>
            <a:ext cx="850428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4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Гармоничное развитие личности, интегрированной в мировую и национальную культуру, обладающей ключевыми компетентностями, способной к ответственному поведению и </a:t>
            </a:r>
            <a:r>
              <a:rPr b="1" lang="ru-RU" sz="2700" spc="-1" strike="noStrike" u="sng">
                <a:solidFill>
                  <a:srgbClr val="ffffff"/>
                </a:solidFill>
                <a:uFillTx/>
                <a:latin typeface="Cambria"/>
              </a:rPr>
              <a:t>самореализации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 в современном ей обществе.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9" name="Picture 2" descr="1274886401_uchenik"/>
          <p:cNvPicPr/>
          <p:nvPr/>
        </p:nvPicPr>
        <p:blipFill>
          <a:blip r:embed="rId2"/>
          <a:stretch/>
        </p:blipFill>
        <p:spPr>
          <a:xfrm>
            <a:off x="6500880" y="5072040"/>
            <a:ext cx="2009880" cy="149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420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ризнание обществом значимости (полезности) той деятельности, которую выполняет личност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лучение личностью удовлетворения от результатов своей деятельност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(материального, интеллектуального, эмоционального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3" name="Picture 2" descr="untitled"/>
          <p:cNvPicPr/>
          <p:nvPr/>
        </p:nvPicPr>
        <p:blipFill>
          <a:blip r:embed="rId2"/>
          <a:stretch/>
        </p:blipFill>
        <p:spPr>
          <a:xfrm>
            <a:off x="2700360" y="4500720"/>
            <a:ext cx="2232000" cy="19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ооружить ребенка умениями, которые помогут ему ориентироваться в новых ситуациях своей профессиональной, личной и общественной жизни, достигая поставленной цел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ОМПЕТЕНТНОСТЯМ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buClr>
                <a:srgbClr val="6076b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4427640" y="4113360"/>
            <a:ext cx="431640" cy="755640"/>
          </a:xfrm>
          <a:prstGeom prst="downArrow">
            <a:avLst>
              <a:gd name="adj1" fmla="val 50000"/>
              <a:gd name="adj2" fmla="val 45857"/>
            </a:avLst>
          </a:prstGeom>
          <a:solidFill>
            <a:srgbClr val="6076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0" y="1356840"/>
            <a:ext cx="478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Cambria"/>
              </a:rPr>
              <a:t>Великая цель образования - это не знания,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Cambria"/>
              </a:rPr>
              <a:t>а действия</a:t>
            </a:r>
            <a:br>
              <a:rPr sz="4000"/>
            </a:br>
            <a:r>
              <a:rPr b="0" i="1" lang="ru-RU" sz="2800" spc="-1" strike="noStrike">
                <a:solidFill>
                  <a:srgbClr val="ffff00"/>
                </a:solidFill>
                <a:latin typeface="Cambria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Г.Спенсер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16" descr="1304018455_be8ec3665d_o"/>
          <p:cNvPicPr/>
          <p:nvPr/>
        </p:nvPicPr>
        <p:blipFill>
          <a:blip r:embed="rId1"/>
          <a:stretch/>
        </p:blipFill>
        <p:spPr>
          <a:xfrm>
            <a:off x="5219640" y="1928880"/>
            <a:ext cx="3456000" cy="277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войство личности, которое подлежит целенаправленному формированию в процессе обучения, воспитания и развит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словия для успешной социализации лично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лючевы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- Специальны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- Профессиональны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1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553600" cy="15066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бразовательна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нформационная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оммуникативна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оциальна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толерантность (терпимость к различным мнениям, непредубежденность к оценке людей и событий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274680" y="255600"/>
            <a:ext cx="8717040" cy="15066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подготовка профессионального ученика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83" name="Picture 4" descr="8a9007d6eb73b482f79821ede54a06cd"/>
          <p:cNvPicPr/>
          <p:nvPr/>
        </p:nvPicPr>
        <p:blipFill>
          <a:blip r:embed="rId2"/>
          <a:stretch/>
        </p:blipFill>
        <p:spPr>
          <a:xfrm>
            <a:off x="4572000" y="2492280"/>
            <a:ext cx="239544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6076b4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ЦЕЛЕПОЛАГАНИЕ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– умение ставить цель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6076b4"/>
              </a:buClr>
              <a:buSzPct val="70000"/>
              <a:buFont typeface="Cambr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ЛАНИРОВАНИЕ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– способы достижение намеченной цел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6076b4"/>
              </a:buClr>
              <a:buSzPct val="70000"/>
              <a:buFont typeface="Cambr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УЧЕБНЫЕ ДЕЙСТВ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6076b4"/>
              </a:buClr>
              <a:buSzPct val="70000"/>
              <a:buFont typeface="Cambr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ОНТРОЛЬ И КОРРЕКЦИЯ способов достижения учебных действий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5. 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ЦЕНКА результатов достижения учебной цел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Rectangle 2" descr=""/>
          <p:cNvPicPr/>
          <p:nvPr/>
        </p:nvPicPr>
        <p:blipFill>
          <a:blip r:embed="rId1"/>
          <a:stretch/>
        </p:blipFill>
        <p:spPr>
          <a:xfrm>
            <a:off x="298440" y="-128520"/>
            <a:ext cx="8564400" cy="17920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301320" y="1915920"/>
            <a:ext cx="853452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сновы гражданской идентичности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чувство сопричастности и гордости за свою Родину, народ и историю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тветственность за общее благополучие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истема общечеловеческих ценностей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отивационная основа учебной деятельности и способность к самооценке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301320" y="1428840"/>
            <a:ext cx="8504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разработана и утверждена </a:t>
            </a: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основная образовательная программа начального общего образования ОУ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;  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нормативная база ОУ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приведена в соответствие с требованиями ФГОС (цели образовательного процесса, режим занятий, финансирование, материально-техническое  обеспечение  и т.п.)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должностные инструкции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работников образовательного учреждения приведены в соответствие с требованиями ФГОС начального общего образования и новыми тарифно-квалификационными характеристиками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определен список учебников и учебных пособий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, используемых в образовательном процессе в соответствии с ФГОС начального общего образования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Rectangle 1"/>
          <p:cNvSpPr/>
          <p:nvPr/>
        </p:nvSpPr>
        <p:spPr>
          <a:xfrm>
            <a:off x="-341280" y="-610560"/>
            <a:ext cx="8668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разработаны локальные акты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, регламентирующие установление заработной платы работников образовательного учреждения, в том числе стимулирующих  надбавок и доплат, порядка и размеров премирования в соответствии с НСОТ;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определена </a:t>
            </a: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оптимальная модель организации образовательного процесса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, обеспечивающая организацию внеурочной деятельности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разработан </a:t>
            </a: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план методической работы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, обеспечивающей сопровождение введения ФГОС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осуществлено </a:t>
            </a: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повышение квалификации учителей</a:t>
            </a:r>
            <a:r>
              <a:rPr b="0" lang="ru-RU" sz="23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и других педагогических работников;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ambria"/>
              </a:rPr>
              <a:t>обеспечены кадровые, финансовые, материально-технические и иные условия реализации основной образовательной программы начального общего </a:t>
            </a:r>
            <a:r>
              <a:rPr b="0" lang="ru-RU" sz="2300" spc="-1" strike="noStrike">
                <a:solidFill>
                  <a:srgbClr val="ffffff"/>
                </a:solidFill>
                <a:latin typeface="Cambria"/>
              </a:rPr>
              <a:t>образования в соответствии с требованиями  ФГОС.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9800" y="-195120"/>
            <a:ext cx="8363160" cy="117000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3"/>
          <p:cNvSpPr/>
          <p:nvPr/>
        </p:nvSpPr>
        <p:spPr>
          <a:xfrm>
            <a:off x="235080" y="2343240"/>
            <a:ext cx="4878360" cy="4438440"/>
          </a:xfrm>
          <a:custGeom>
            <a:avLst/>
            <a:gdLst>
              <a:gd name="textAreaLeft" fmla="*/ 0 w 4878360"/>
              <a:gd name="textAreaRight" fmla="*/ 4878720 w 4878360"/>
              <a:gd name="textAreaTop" fmla="*/ 0 h 4438440"/>
              <a:gd name="textAreaBottom" fmla="*/ 1598040 h 443844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4"/>
          <p:cNvSpPr/>
          <p:nvPr/>
        </p:nvSpPr>
        <p:spPr>
          <a:xfrm>
            <a:off x="923760" y="2981160"/>
            <a:ext cx="3603960" cy="3279960"/>
          </a:xfrm>
          <a:custGeom>
            <a:avLst/>
            <a:gdLst>
              <a:gd name="textAreaLeft" fmla="*/ 0 w 3603960"/>
              <a:gd name="textAreaRight" fmla="*/ 3604320 w 3603960"/>
              <a:gd name="textAreaTop" fmla="*/ 0 h 3279960"/>
              <a:gd name="textAreaBottom" fmla="*/ 1180800 h 327996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5"/>
          <p:cNvSpPr/>
          <p:nvPr/>
        </p:nvSpPr>
        <p:spPr>
          <a:xfrm>
            <a:off x="1363680" y="3462480"/>
            <a:ext cx="2662200" cy="2422440"/>
          </a:xfrm>
          <a:custGeom>
            <a:avLst/>
            <a:gdLst>
              <a:gd name="textAreaLeft" fmla="*/ 0 w 2662200"/>
              <a:gd name="textAreaRight" fmla="*/ 2662200 w 2662200"/>
              <a:gd name="textAreaTop" fmla="*/ 0 h 2422440"/>
              <a:gd name="textAreaBottom" fmla="*/ 872280 h 242244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482626"/>
              </a:gs>
              <a:gs pos="50000">
                <a:srgbClr val="9c5252"/>
              </a:gs>
              <a:gs pos="100000">
                <a:srgbClr val="482626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6"/>
          <p:cNvSpPr/>
          <p:nvPr/>
        </p:nvSpPr>
        <p:spPr>
          <a:xfrm>
            <a:off x="1692360" y="4005360"/>
            <a:ext cx="1887480" cy="1368360"/>
          </a:xfrm>
          <a:prstGeom prst="pie">
            <a:avLst/>
          </a:prstGeom>
          <a:gradFill rotWithShape="0">
            <a:gsLst>
              <a:gs pos="0">
                <a:srgbClr val="2c3753"/>
              </a:gs>
              <a:gs pos="50000">
                <a:srgbClr val="6076b4"/>
              </a:gs>
              <a:gs pos="100000">
                <a:srgbClr val="2c375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7"/>
          <p:cNvSpPr/>
          <p:nvPr/>
        </p:nvSpPr>
        <p:spPr>
          <a:xfrm>
            <a:off x="5435640" y="3789360"/>
            <a:ext cx="3924360" cy="16556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нормативная база ОУ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иведена в соответствие с требованиями ФГО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(цели образовательного процесса, режим занятий, финансирование, материально-техническое  обеспечение  и т.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8"/>
          <p:cNvSpPr/>
          <p:nvPr/>
        </p:nvSpPr>
        <p:spPr>
          <a:xfrm>
            <a:off x="4716360" y="2708280"/>
            <a:ext cx="3672000" cy="792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уществлено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овышение квалификации учителей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 других педагогических работ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9"/>
          <p:cNvSpPr/>
          <p:nvPr/>
        </p:nvSpPr>
        <p:spPr>
          <a:xfrm>
            <a:off x="3924360" y="1413000"/>
            <a:ext cx="3743280" cy="115236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зработан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лан методической работы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 обеспечивающей сопровождение введения ФГО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10"/>
          <p:cNvSpPr/>
          <p:nvPr/>
        </p:nvSpPr>
        <p:spPr>
          <a:xfrm>
            <a:off x="755640" y="1341360"/>
            <a:ext cx="2736720" cy="121752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зработана и утверждена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ОП начального общег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зования ОУ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0" y="5589720"/>
            <a:ext cx="1882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олжностные инструкции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ботников ОУ приведены в соответ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 требованиями ФГОС НОО и новыми тарифно-квалификацион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арактерист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Блок-схема: процесс 21"/>
          <p:cNvGrpSpPr/>
          <p:nvPr/>
        </p:nvGrpSpPr>
        <p:grpSpPr>
          <a:xfrm>
            <a:off x="5437080" y="1274760"/>
            <a:ext cx="3713400" cy="5583240"/>
            <a:chOff x="5437080" y="1274760"/>
            <a:chExt cx="3713400" cy="5583240"/>
          </a:xfrm>
        </p:grpSpPr>
        <p:pic>
          <p:nvPicPr>
            <p:cNvPr id="504" name="Блок-схема: процесс 21" descr=""/>
            <p:cNvPicPr/>
            <p:nvPr/>
          </p:nvPicPr>
          <p:blipFill>
            <a:blip r:embed="rId1"/>
            <a:stretch/>
          </p:blipFill>
          <p:spPr>
            <a:xfrm>
              <a:off x="5437080" y="1274760"/>
              <a:ext cx="3713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457960" y="1293840"/>
              <a:ext cx="3671640" cy="55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Блок-схема: процесс 19"/>
          <p:cNvGrpSpPr/>
          <p:nvPr/>
        </p:nvGrpSpPr>
        <p:grpSpPr>
          <a:xfrm>
            <a:off x="92160" y="1176480"/>
            <a:ext cx="3705120" cy="5584680"/>
            <a:chOff x="92160" y="1176480"/>
            <a:chExt cx="3705120" cy="5584680"/>
          </a:xfrm>
        </p:grpSpPr>
        <p:pic>
          <p:nvPicPr>
            <p:cNvPr id="507" name="Блок-схема: процесс 19" descr=""/>
            <p:cNvPicPr/>
            <p:nvPr/>
          </p:nvPicPr>
          <p:blipFill>
            <a:blip r:embed="rId2"/>
            <a:stretch/>
          </p:blipFill>
          <p:spPr>
            <a:xfrm>
              <a:off x="92160" y="1176480"/>
              <a:ext cx="370512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08000" y="1197000"/>
              <a:ext cx="3672000" cy="55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TextBox 10"/>
          <p:cNvGrpSpPr/>
          <p:nvPr/>
        </p:nvGrpSpPr>
        <p:grpSpPr>
          <a:xfrm>
            <a:off x="2567160" y="1249200"/>
            <a:ext cx="1193760" cy="487440"/>
            <a:chOff x="2567160" y="1249200"/>
            <a:chExt cx="1193760" cy="487440"/>
          </a:xfrm>
        </p:grpSpPr>
        <p:pic>
          <p:nvPicPr>
            <p:cNvPr id="510" name="TextBox 10" descr=""/>
            <p:cNvPicPr/>
            <p:nvPr/>
          </p:nvPicPr>
          <p:blipFill>
            <a:blip r:embed="rId3"/>
            <a:stretch/>
          </p:blipFill>
          <p:spPr>
            <a:xfrm>
              <a:off x="2567160" y="1249200"/>
              <a:ext cx="1193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11"/>
            <p:cNvSpPr/>
            <p:nvPr/>
          </p:nvSpPr>
          <p:spPr>
            <a:xfrm>
              <a:off x="2646360" y="130500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1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2" name="TextBox 11"/>
          <p:cNvGrpSpPr/>
          <p:nvPr/>
        </p:nvGrpSpPr>
        <p:grpSpPr>
          <a:xfrm>
            <a:off x="3846600" y="1255680"/>
            <a:ext cx="1395360" cy="622440"/>
            <a:chOff x="3846600" y="1255680"/>
            <a:chExt cx="1395360" cy="622440"/>
          </a:xfrm>
        </p:grpSpPr>
        <p:pic>
          <p:nvPicPr>
            <p:cNvPr id="513" name="TextBox 11" descr=""/>
            <p:cNvPicPr/>
            <p:nvPr/>
          </p:nvPicPr>
          <p:blipFill>
            <a:blip r:embed="rId4"/>
            <a:stretch/>
          </p:blipFill>
          <p:spPr>
            <a:xfrm>
              <a:off x="3846600" y="1255680"/>
              <a:ext cx="1395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3930480" y="131436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TextBox 13"/>
          <p:cNvGrpSpPr/>
          <p:nvPr/>
        </p:nvGrpSpPr>
        <p:grpSpPr>
          <a:xfrm>
            <a:off x="3846600" y="1736640"/>
            <a:ext cx="1395360" cy="615960"/>
            <a:chOff x="3846600" y="1736640"/>
            <a:chExt cx="1395360" cy="615960"/>
          </a:xfrm>
        </p:grpSpPr>
        <p:pic>
          <p:nvPicPr>
            <p:cNvPr id="516" name="TextBox 13" descr=""/>
            <p:cNvPicPr/>
            <p:nvPr/>
          </p:nvPicPr>
          <p:blipFill>
            <a:blip r:embed="rId5"/>
            <a:stretch/>
          </p:blipFill>
          <p:spPr>
            <a:xfrm>
              <a:off x="3846600" y="1736640"/>
              <a:ext cx="1395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3930480" y="179064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TextBox 14"/>
          <p:cNvGrpSpPr/>
          <p:nvPr/>
        </p:nvGrpSpPr>
        <p:grpSpPr>
          <a:xfrm>
            <a:off x="3846600" y="2236680"/>
            <a:ext cx="1395360" cy="622440"/>
            <a:chOff x="3846600" y="2236680"/>
            <a:chExt cx="1395360" cy="622440"/>
          </a:xfrm>
        </p:grpSpPr>
        <p:pic>
          <p:nvPicPr>
            <p:cNvPr id="519" name="TextBox 14" descr=""/>
            <p:cNvPicPr/>
            <p:nvPr/>
          </p:nvPicPr>
          <p:blipFill>
            <a:blip r:embed="rId6"/>
            <a:stretch/>
          </p:blipFill>
          <p:spPr>
            <a:xfrm>
              <a:off x="3846600" y="2236680"/>
              <a:ext cx="1395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3930480" y="229392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TextBox 15"/>
          <p:cNvGrpSpPr/>
          <p:nvPr/>
        </p:nvGrpSpPr>
        <p:grpSpPr>
          <a:xfrm>
            <a:off x="3846600" y="2743200"/>
            <a:ext cx="1395360" cy="622440"/>
            <a:chOff x="3846600" y="2743200"/>
            <a:chExt cx="1395360" cy="622440"/>
          </a:xfrm>
        </p:grpSpPr>
        <p:pic>
          <p:nvPicPr>
            <p:cNvPr id="522" name="TextBox 15" descr=""/>
            <p:cNvPicPr/>
            <p:nvPr/>
          </p:nvPicPr>
          <p:blipFill>
            <a:blip r:embed="rId7"/>
            <a:stretch/>
          </p:blipFill>
          <p:spPr>
            <a:xfrm>
              <a:off x="3846600" y="2743200"/>
              <a:ext cx="1395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930480" y="279864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TextBox 16"/>
          <p:cNvGrpSpPr/>
          <p:nvPr/>
        </p:nvGrpSpPr>
        <p:grpSpPr>
          <a:xfrm>
            <a:off x="3846600" y="3224160"/>
            <a:ext cx="1390680" cy="615960"/>
            <a:chOff x="3846600" y="3224160"/>
            <a:chExt cx="1390680" cy="615960"/>
          </a:xfrm>
        </p:grpSpPr>
        <p:pic>
          <p:nvPicPr>
            <p:cNvPr id="525" name="TextBox 16" descr=""/>
            <p:cNvPicPr/>
            <p:nvPr/>
          </p:nvPicPr>
          <p:blipFill>
            <a:blip r:embed="rId8"/>
            <a:stretch/>
          </p:blipFill>
          <p:spPr>
            <a:xfrm>
              <a:off x="3846600" y="3224160"/>
              <a:ext cx="13906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3929040" y="32781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TextBox 18"/>
          <p:cNvGrpSpPr/>
          <p:nvPr/>
        </p:nvGrpSpPr>
        <p:grpSpPr>
          <a:xfrm>
            <a:off x="3846600" y="3749760"/>
            <a:ext cx="1395360" cy="620640"/>
            <a:chOff x="3846600" y="3749760"/>
            <a:chExt cx="1395360" cy="620640"/>
          </a:xfrm>
        </p:grpSpPr>
        <p:pic>
          <p:nvPicPr>
            <p:cNvPr id="528" name="TextBox 18" descr=""/>
            <p:cNvPicPr/>
            <p:nvPr/>
          </p:nvPicPr>
          <p:blipFill>
            <a:blip r:embed="rId9"/>
            <a:stretch/>
          </p:blipFill>
          <p:spPr>
            <a:xfrm>
              <a:off x="3846600" y="3749760"/>
              <a:ext cx="139536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930480" y="3807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TextBox 20"/>
          <p:cNvGrpSpPr/>
          <p:nvPr/>
        </p:nvGrpSpPr>
        <p:grpSpPr>
          <a:xfrm>
            <a:off x="5508720" y="1736640"/>
            <a:ext cx="1079280" cy="482760"/>
            <a:chOff x="5508720" y="1736640"/>
            <a:chExt cx="1079280" cy="482760"/>
          </a:xfrm>
        </p:grpSpPr>
        <p:pic>
          <p:nvPicPr>
            <p:cNvPr id="531" name="TextBox 20" descr=""/>
            <p:cNvPicPr/>
            <p:nvPr/>
          </p:nvPicPr>
          <p:blipFill>
            <a:blip r:embed="rId10"/>
            <a:stretch/>
          </p:blipFill>
          <p:spPr>
            <a:xfrm>
              <a:off x="5508720" y="1736640"/>
              <a:ext cx="1079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32"/>
            <p:cNvSpPr/>
            <p:nvPr/>
          </p:nvSpPr>
          <p:spPr>
            <a:xfrm>
              <a:off x="5578920" y="1789200"/>
              <a:ext cx="9442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1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3" name="TextBox 22"/>
          <p:cNvGrpSpPr/>
          <p:nvPr/>
        </p:nvGrpSpPr>
        <p:grpSpPr>
          <a:xfrm>
            <a:off x="334800" y="2730600"/>
            <a:ext cx="1195560" cy="482400"/>
            <a:chOff x="334800" y="2730600"/>
            <a:chExt cx="1195560" cy="482400"/>
          </a:xfrm>
        </p:grpSpPr>
        <p:pic>
          <p:nvPicPr>
            <p:cNvPr id="534" name="TextBox 22" descr=""/>
            <p:cNvPicPr/>
            <p:nvPr/>
          </p:nvPicPr>
          <p:blipFill>
            <a:blip r:embed="rId11"/>
            <a:stretch/>
          </p:blipFill>
          <p:spPr>
            <a:xfrm>
              <a:off x="334800" y="2730600"/>
              <a:ext cx="11955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35"/>
            <p:cNvSpPr/>
            <p:nvPr/>
          </p:nvSpPr>
          <p:spPr>
            <a:xfrm>
              <a:off x="414360" y="278460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10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TextBox 23"/>
          <p:cNvGrpSpPr/>
          <p:nvPr/>
        </p:nvGrpSpPr>
        <p:grpSpPr>
          <a:xfrm>
            <a:off x="7753320" y="6199200"/>
            <a:ext cx="1195560" cy="487440"/>
            <a:chOff x="7753320" y="6199200"/>
            <a:chExt cx="1195560" cy="487440"/>
          </a:xfrm>
        </p:grpSpPr>
        <p:pic>
          <p:nvPicPr>
            <p:cNvPr id="537" name="TextBox 23" descr=""/>
            <p:cNvPicPr/>
            <p:nvPr/>
          </p:nvPicPr>
          <p:blipFill>
            <a:blip r:embed="rId12"/>
            <a:stretch/>
          </p:blipFill>
          <p:spPr>
            <a:xfrm>
              <a:off x="7753320" y="6199200"/>
              <a:ext cx="11955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38"/>
            <p:cNvSpPr/>
            <p:nvPr/>
          </p:nvSpPr>
          <p:spPr>
            <a:xfrm>
              <a:off x="7831080" y="625644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10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TextBox 25"/>
          <p:cNvGrpSpPr/>
          <p:nvPr/>
        </p:nvGrpSpPr>
        <p:grpSpPr>
          <a:xfrm>
            <a:off x="6553080" y="3800520"/>
            <a:ext cx="1193760" cy="480960"/>
            <a:chOff x="6553080" y="3800520"/>
            <a:chExt cx="1193760" cy="480960"/>
          </a:xfrm>
        </p:grpSpPr>
        <p:pic>
          <p:nvPicPr>
            <p:cNvPr id="540" name="TextBox 25" descr=""/>
            <p:cNvPicPr/>
            <p:nvPr/>
          </p:nvPicPr>
          <p:blipFill>
            <a:blip r:embed="rId13"/>
            <a:stretch/>
          </p:blipFill>
          <p:spPr>
            <a:xfrm>
              <a:off x="6553080" y="3800520"/>
              <a:ext cx="1193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 Box 41"/>
            <p:cNvSpPr/>
            <p:nvPr/>
          </p:nvSpPr>
          <p:spPr>
            <a:xfrm>
              <a:off x="6630840" y="385272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5</a:t>
              </a:r>
              <a:r>
                <a:rPr b="1" lang="ru-RU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TextBox 27"/>
          <p:cNvGrpSpPr/>
          <p:nvPr/>
        </p:nvGrpSpPr>
        <p:grpSpPr>
          <a:xfrm>
            <a:off x="1487520" y="2236680"/>
            <a:ext cx="1195200" cy="487440"/>
            <a:chOff x="1487520" y="2236680"/>
            <a:chExt cx="1195200" cy="487440"/>
          </a:xfrm>
        </p:grpSpPr>
        <p:pic>
          <p:nvPicPr>
            <p:cNvPr id="543" name="TextBox 27" descr=""/>
            <p:cNvPicPr/>
            <p:nvPr/>
          </p:nvPicPr>
          <p:blipFill>
            <a:blip r:embed="rId14"/>
            <a:stretch/>
          </p:blipFill>
          <p:spPr>
            <a:xfrm>
              <a:off x="1487520" y="2236680"/>
              <a:ext cx="11952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44"/>
            <p:cNvSpPr/>
            <p:nvPr/>
          </p:nvSpPr>
          <p:spPr>
            <a:xfrm>
              <a:off x="1565280" y="2293920"/>
              <a:ext cx="10447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5 клас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TextBox 28"/>
          <p:cNvGrpSpPr/>
          <p:nvPr/>
        </p:nvGrpSpPr>
        <p:grpSpPr>
          <a:xfrm>
            <a:off x="3846600" y="4254480"/>
            <a:ext cx="1395360" cy="622440"/>
            <a:chOff x="3846600" y="4254480"/>
            <a:chExt cx="1395360" cy="622440"/>
          </a:xfrm>
        </p:grpSpPr>
        <p:pic>
          <p:nvPicPr>
            <p:cNvPr id="546" name="TextBox 28" descr=""/>
            <p:cNvPicPr/>
            <p:nvPr/>
          </p:nvPicPr>
          <p:blipFill>
            <a:blip r:embed="rId15"/>
            <a:stretch/>
          </p:blipFill>
          <p:spPr>
            <a:xfrm>
              <a:off x="3846600" y="4254480"/>
              <a:ext cx="1395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930480" y="430992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TextBox 29"/>
          <p:cNvGrpSpPr/>
          <p:nvPr/>
        </p:nvGrpSpPr>
        <p:grpSpPr>
          <a:xfrm>
            <a:off x="3846600" y="4761000"/>
            <a:ext cx="1395360" cy="615960"/>
            <a:chOff x="3846600" y="4761000"/>
            <a:chExt cx="1395360" cy="615960"/>
          </a:xfrm>
        </p:grpSpPr>
        <p:pic>
          <p:nvPicPr>
            <p:cNvPr id="549" name="TextBox 29" descr=""/>
            <p:cNvPicPr/>
            <p:nvPr/>
          </p:nvPicPr>
          <p:blipFill>
            <a:blip r:embed="rId16"/>
            <a:stretch/>
          </p:blipFill>
          <p:spPr>
            <a:xfrm>
              <a:off x="3846600" y="4761000"/>
              <a:ext cx="1395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3930480" y="4815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TextBox 30"/>
          <p:cNvGrpSpPr/>
          <p:nvPr/>
        </p:nvGrpSpPr>
        <p:grpSpPr>
          <a:xfrm>
            <a:off x="3846600" y="5261040"/>
            <a:ext cx="1395360" cy="622080"/>
            <a:chOff x="3846600" y="5261040"/>
            <a:chExt cx="1395360" cy="622080"/>
          </a:xfrm>
        </p:grpSpPr>
        <p:pic>
          <p:nvPicPr>
            <p:cNvPr id="552" name="TextBox 30" descr=""/>
            <p:cNvPicPr/>
            <p:nvPr/>
          </p:nvPicPr>
          <p:blipFill>
            <a:blip r:embed="rId17"/>
            <a:stretch/>
          </p:blipFill>
          <p:spPr>
            <a:xfrm>
              <a:off x="3846600" y="5261040"/>
              <a:ext cx="13953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930480" y="531828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TextBox 31"/>
          <p:cNvGrpSpPr/>
          <p:nvPr/>
        </p:nvGrpSpPr>
        <p:grpSpPr>
          <a:xfrm>
            <a:off x="3846600" y="5767560"/>
            <a:ext cx="1395360" cy="620640"/>
            <a:chOff x="3846600" y="5767560"/>
            <a:chExt cx="1395360" cy="620640"/>
          </a:xfrm>
        </p:grpSpPr>
        <p:pic>
          <p:nvPicPr>
            <p:cNvPr id="555" name="TextBox 31" descr=""/>
            <p:cNvPicPr/>
            <p:nvPr/>
          </p:nvPicPr>
          <p:blipFill>
            <a:blip r:embed="rId18"/>
            <a:stretch/>
          </p:blipFill>
          <p:spPr>
            <a:xfrm>
              <a:off x="3846600" y="5767560"/>
              <a:ext cx="139536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3930480" y="5823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1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TextBox 32"/>
          <p:cNvGrpSpPr/>
          <p:nvPr/>
        </p:nvGrpSpPr>
        <p:grpSpPr>
          <a:xfrm>
            <a:off x="3846600" y="6272280"/>
            <a:ext cx="1395360" cy="615960"/>
            <a:chOff x="3846600" y="6272280"/>
            <a:chExt cx="1395360" cy="615960"/>
          </a:xfrm>
        </p:grpSpPr>
        <p:pic>
          <p:nvPicPr>
            <p:cNvPr id="558" name="TextBox 32" descr=""/>
            <p:cNvPicPr/>
            <p:nvPr/>
          </p:nvPicPr>
          <p:blipFill>
            <a:blip r:embed="rId19"/>
            <a:stretch/>
          </p:blipFill>
          <p:spPr>
            <a:xfrm>
              <a:off x="3846600" y="6272280"/>
              <a:ext cx="1395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3930480" y="632628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.09.20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Стрелка вниз 33"/>
          <p:cNvGrpSpPr/>
          <p:nvPr/>
        </p:nvGrpSpPr>
        <p:grpSpPr>
          <a:xfrm>
            <a:off x="2657520" y="1755720"/>
            <a:ext cx="1019160" cy="4584600"/>
            <a:chOff x="2657520" y="1755720"/>
            <a:chExt cx="1019160" cy="4584600"/>
          </a:xfrm>
        </p:grpSpPr>
        <p:pic>
          <p:nvPicPr>
            <p:cNvPr id="561" name="Стрелка вниз 33" descr=""/>
            <p:cNvPicPr/>
            <p:nvPr/>
          </p:nvPicPr>
          <p:blipFill>
            <a:blip r:embed="rId20"/>
            <a:stretch/>
          </p:blipFill>
          <p:spPr>
            <a:xfrm>
              <a:off x="2657520" y="1755720"/>
              <a:ext cx="1019160" cy="45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933640" y="1773360"/>
              <a:ext cx="468360" cy="42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Стрелка вниз 34"/>
          <p:cNvGrpSpPr/>
          <p:nvPr/>
        </p:nvGrpSpPr>
        <p:grpSpPr>
          <a:xfrm>
            <a:off x="1579680" y="2762280"/>
            <a:ext cx="1017360" cy="3583080"/>
            <a:chOff x="1579680" y="2762280"/>
            <a:chExt cx="1017360" cy="3583080"/>
          </a:xfrm>
        </p:grpSpPr>
        <p:pic>
          <p:nvPicPr>
            <p:cNvPr id="564" name="Стрелка вниз 34" descr=""/>
            <p:cNvPicPr/>
            <p:nvPr/>
          </p:nvPicPr>
          <p:blipFill>
            <a:blip r:embed="rId21"/>
            <a:stretch/>
          </p:blipFill>
          <p:spPr>
            <a:xfrm>
              <a:off x="1579680" y="2762280"/>
              <a:ext cx="1017360" cy="35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1854360" y="2781360"/>
              <a:ext cx="468000" cy="32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6" name="Стрелка вниз 35"/>
          <p:cNvGrpSpPr/>
          <p:nvPr/>
        </p:nvGrpSpPr>
        <p:grpSpPr>
          <a:xfrm>
            <a:off x="426960" y="3267000"/>
            <a:ext cx="1017720" cy="3090960"/>
            <a:chOff x="426960" y="3267000"/>
            <a:chExt cx="1017720" cy="3090960"/>
          </a:xfrm>
        </p:grpSpPr>
        <p:pic>
          <p:nvPicPr>
            <p:cNvPr id="567" name="Стрелка вниз 35" descr=""/>
            <p:cNvPicPr/>
            <p:nvPr/>
          </p:nvPicPr>
          <p:blipFill>
            <a:blip r:embed="rId22"/>
            <a:stretch/>
          </p:blipFill>
          <p:spPr>
            <a:xfrm>
              <a:off x="426960" y="3267000"/>
              <a:ext cx="1017720" cy="30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703440" y="3284640"/>
              <a:ext cx="466560" cy="27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Стрелка вниз 36"/>
          <p:cNvGrpSpPr/>
          <p:nvPr/>
        </p:nvGrpSpPr>
        <p:grpSpPr>
          <a:xfrm>
            <a:off x="5394240" y="2262240"/>
            <a:ext cx="1019160" cy="4151160"/>
            <a:chOff x="5394240" y="2262240"/>
            <a:chExt cx="1019160" cy="4151160"/>
          </a:xfrm>
        </p:grpSpPr>
        <p:pic>
          <p:nvPicPr>
            <p:cNvPr id="570" name="Стрелка вниз 36" descr=""/>
            <p:cNvPicPr/>
            <p:nvPr/>
          </p:nvPicPr>
          <p:blipFill>
            <a:blip r:embed="rId23"/>
            <a:stretch/>
          </p:blipFill>
          <p:spPr>
            <a:xfrm>
              <a:off x="5394240" y="2262240"/>
              <a:ext cx="101916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670720" y="2276640"/>
              <a:ext cx="468000" cy="38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Стрелка вниз 37"/>
          <p:cNvGrpSpPr/>
          <p:nvPr/>
        </p:nvGrpSpPr>
        <p:grpSpPr>
          <a:xfrm>
            <a:off x="6620040" y="4273560"/>
            <a:ext cx="1019160" cy="2139840"/>
            <a:chOff x="6620040" y="4273560"/>
            <a:chExt cx="1019160" cy="2139840"/>
          </a:xfrm>
        </p:grpSpPr>
        <p:pic>
          <p:nvPicPr>
            <p:cNvPr id="573" name="Стрелка вниз 37" descr=""/>
            <p:cNvPicPr/>
            <p:nvPr/>
          </p:nvPicPr>
          <p:blipFill>
            <a:blip r:embed="rId24"/>
            <a:stretch/>
          </p:blipFill>
          <p:spPr>
            <a:xfrm>
              <a:off x="6620040" y="4273560"/>
              <a:ext cx="101916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6894360" y="4292640"/>
              <a:ext cx="46836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Блок-схема: альтернативный процесс 38"/>
          <p:cNvSpPr/>
          <p:nvPr/>
        </p:nvSpPr>
        <p:spPr>
          <a:xfrm>
            <a:off x="252360" y="1341360"/>
            <a:ext cx="2087640" cy="863640"/>
          </a:xfrm>
          <a:prstGeom prst="flowChartAlternateProcess">
            <a:avLst/>
          </a:prstGeom>
          <a:gradFill rotWithShape="0">
            <a:gsLst>
              <a:gs pos="0">
                <a:srgbClr val="96a5de"/>
              </a:gs>
              <a:gs pos="100000">
                <a:srgbClr val="e4e7f5"/>
              </a:gs>
            </a:gsLst>
            <a:lin ang="16200000"/>
          </a:gradFill>
          <a:ln w="9360">
            <a:solidFill>
              <a:srgbClr val="566aa3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ведение ФГОС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 мере готов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Блок-схема: альтернативный процесс 39"/>
          <p:cNvSpPr/>
          <p:nvPr/>
        </p:nvSpPr>
        <p:spPr>
          <a:xfrm>
            <a:off x="6732720" y="1341360"/>
            <a:ext cx="2087280" cy="863640"/>
          </a:xfrm>
          <a:prstGeom prst="flowChartAlternateProcess">
            <a:avLst/>
          </a:prstGeom>
          <a:gradFill rotWithShape="0">
            <a:gsLst>
              <a:gs pos="0">
                <a:srgbClr val="96a5de"/>
              </a:gs>
              <a:gs pos="100000">
                <a:srgbClr val="e4e7f5"/>
              </a:gs>
            </a:gsLst>
            <a:lin ang="16200000"/>
          </a:gradFill>
          <a:ln w="9360">
            <a:solidFill>
              <a:srgbClr val="566aa3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ное введ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ФГ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77"/>
          <p:cNvSpPr/>
          <p:nvPr/>
        </p:nvSpPr>
        <p:spPr>
          <a:xfrm>
            <a:off x="179280" y="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34520" cy="125568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рганизация и проведение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убличных отчетов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бразовательного учрежден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2.</a:t>
            </a: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спользование информационных ресурсов образовательного учреждения (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айт, Интернет-страничка, выставки, презентации и т.д.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ffc000"/>
                </a:solidFill>
                <a:latin typeface="Cambria"/>
              </a:rPr>
              <a:t>Стандарт – важнейший нормативно-правовой акт, устанавливающий от имени РФ определённую совокупность наиболее общих норм и правил, регулирующих деятельность системы общего среднего образования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5000760" y="214200"/>
            <a:ext cx="2857320" cy="785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C:\Documents and Settings\gavrish\Мои документы\Мои рисунки\iCAW25KVN.jpg"/>
          <p:cNvPicPr/>
          <p:nvPr/>
        </p:nvPicPr>
        <p:blipFill>
          <a:blip r:embed="rId2"/>
          <a:stretch/>
        </p:blipFill>
        <p:spPr>
          <a:xfrm>
            <a:off x="6143760" y="4643280"/>
            <a:ext cx="1433520" cy="1962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Documents and Settings\gavrish\Мои документы\Мои рисунки\председатель правительства.jpg"/>
          <p:cNvPicPr/>
          <p:nvPr/>
        </p:nvPicPr>
        <p:blipFill>
          <a:blip r:embed="rId3"/>
          <a:stretch/>
        </p:blipFill>
        <p:spPr>
          <a:xfrm>
            <a:off x="285840" y="142920"/>
            <a:ext cx="1355760" cy="155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Rectangle 2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534520" cy="179712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Обеспечение доступа педагогов и обучающихся к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электронным образовательным ресурсам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2.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Разработка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локальных актов, устанавливающих требования к объектам инфраструктуры (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положения о культурно-досуговом центре, информационно-библиотечном центре, физкультурно-оздоровительном центре, об учебном кабинете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и др.)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394840" cy="13604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3.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Обеспечение учебниками и учебно-методической литературой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в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оответствии с утвержденным федеральным перечнем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4.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Комплектование в библиотеке достаточного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фонда дополнительной литературы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(художественной, научно-популярной), справочно-библиографических и периодических изданий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Заголовок 2" descr=""/>
          <p:cNvPicPr/>
          <p:nvPr/>
        </p:nvPicPr>
        <p:blipFill>
          <a:blip r:embed="rId1"/>
          <a:stretch/>
        </p:blipFill>
        <p:spPr>
          <a:xfrm>
            <a:off x="73080" y="212760"/>
            <a:ext cx="8845560" cy="214632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27525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не должна стать делом отдельных учителей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 ней должен принять участие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mbria"/>
              </a:rPr>
              <a:t>весь педагогический коллектив ОУ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-36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Rockwell"/>
              </a:rPr>
              <a:t>C</a:t>
            </a:r>
            <a:r>
              <a:rPr b="1" lang="ru-RU" sz="3200" spc="-1" strike="noStrike">
                <a:solidFill>
                  <a:srgbClr val="cc3300"/>
                </a:solidFill>
                <a:latin typeface="Cambria"/>
              </a:rPr>
              <a:t>ПАСИБО ЗА ВНИМАНИЕ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Cambria"/>
              </a:rPr>
              <a:t>Успехов в реализации ФГОС!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2231-406A-49C7-BED9-0F0D61A491B7}" type="slidenum">
              <a:rPr b="0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7AD2-5290-47BA-91E0-6691B28773D1}" type="slidenum">
              <a:rPr b="0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55C9-6C54-44ED-A479-3F5E03243429}" type="slidenum">
              <a:rPr b="0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18"/>
          <p:cNvGrpSpPr/>
          <p:nvPr/>
        </p:nvGrpSpPr>
        <p:grpSpPr>
          <a:xfrm>
            <a:off x="395280" y="260280"/>
            <a:ext cx="8569080" cy="5689440"/>
            <a:chOff x="395280" y="260280"/>
            <a:chExt cx="8569080" cy="5689440"/>
          </a:xfrm>
        </p:grpSpPr>
        <p:sp>
          <p:nvSpPr>
            <p:cNvPr id="418" name="AutoShape 27"/>
            <p:cNvSpPr/>
            <p:nvPr/>
          </p:nvSpPr>
          <p:spPr>
            <a:xfrm rot="5400000">
              <a:off x="4384800" y="4276080"/>
              <a:ext cx="447120" cy="504720"/>
            </a:xfrm>
            <a:custGeom>
              <a:avLst/>
              <a:gdLst>
                <a:gd name="textAreaLeft" fmla="*/ 69120 w 447120"/>
                <a:gd name="textAreaRight" fmla="*/ 391320 w 44712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5"/>
            <p:cNvSpPr/>
            <p:nvPr/>
          </p:nvSpPr>
          <p:spPr>
            <a:xfrm>
              <a:off x="3419280" y="2880720"/>
              <a:ext cx="2376360" cy="1348200"/>
            </a:xfrm>
            <a:prstGeom prst="roundRect">
              <a:avLst>
                <a:gd name="adj" fmla="val 16667"/>
              </a:avLst>
            </a:prstGeom>
            <a:solidFill>
              <a:srgbClr val="0033cc">
                <a:alpha val="49000"/>
              </a:srgbClr>
            </a:solidFill>
            <a:ln w="0">
              <a:noFill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овая це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бразова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7"/>
            <p:cNvSpPr/>
            <p:nvPr/>
          </p:nvSpPr>
          <p:spPr>
            <a:xfrm>
              <a:off x="6011640" y="1159560"/>
              <a:ext cx="2952720" cy="224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Новые технолог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8"/>
            <p:cNvSpPr/>
            <p:nvPr/>
          </p:nvSpPr>
          <p:spPr>
            <a:xfrm>
              <a:off x="395280" y="1083600"/>
              <a:ext cx="2877840" cy="23198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Общественный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договор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9"/>
            <p:cNvSpPr/>
            <p:nvPr/>
          </p:nvSpPr>
          <p:spPr>
            <a:xfrm>
              <a:off x="682560" y="1683000"/>
              <a:ext cx="2593800" cy="172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>
                    <a:alpha val="50196"/>
                  </a:srgbClr>
                </a:gs>
                <a:gs pos="100000">
                  <a:srgbClr val="f66200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вы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бразовательны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запросы семь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бщества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и государст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>
              <a:off x="6298920" y="1683000"/>
              <a:ext cx="2665440" cy="172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>
                    <a:alpha val="50196"/>
                  </a:srgbClr>
                </a:gs>
                <a:gs pos="100000">
                  <a:srgbClr val="d95700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Широкое внедре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ИКТ-технолог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во все сферы жизн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AutoShape 17"/>
            <p:cNvSpPr/>
            <p:nvPr/>
          </p:nvSpPr>
          <p:spPr>
            <a:xfrm rot="1534800">
              <a:off x="2411280" y="3553560"/>
              <a:ext cx="976320" cy="50508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7080 h 505080"/>
                <a:gd name="textAreaBottom" fmla="*/ 37980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23"/>
            <p:cNvSpPr/>
            <p:nvPr/>
          </p:nvSpPr>
          <p:spPr>
            <a:xfrm rot="9180000">
              <a:off x="5795280" y="3553560"/>
              <a:ext cx="976320" cy="50508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7080 h 505080"/>
                <a:gd name="textAreaBottom" fmla="*/ 37980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26"/>
            <p:cNvSpPr/>
            <p:nvPr/>
          </p:nvSpPr>
          <p:spPr>
            <a:xfrm>
              <a:off x="3490920" y="260280"/>
              <a:ext cx="2232000" cy="12722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Проблемы Росс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Стратег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20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466560" y="4826160"/>
              <a:ext cx="8137440" cy="1123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Воспитание, социально-педагогическая поддержка становления 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развития высоконравственного, ответственного, творческого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инициативного, компетентного гражданина Росс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AutoShape 27"/>
            <p:cNvSpPr/>
            <p:nvPr/>
          </p:nvSpPr>
          <p:spPr>
            <a:xfrm rot="5400000">
              <a:off x="4268160" y="1842120"/>
              <a:ext cx="747360" cy="576360"/>
            </a:xfrm>
            <a:custGeom>
              <a:avLst/>
              <a:gdLst>
                <a:gd name="textAreaLeft" fmla="*/ 117000 w 747360"/>
                <a:gd name="textAreaRight" fmla="*/ 653400 w 747360"/>
                <a:gd name="textAreaTop" fmla="*/ 144360 h 576360"/>
                <a:gd name="textAreaBottom" fmla="*/ 4320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00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Rectangle 19"/>
          <p:cNvSpPr/>
          <p:nvPr/>
        </p:nvSpPr>
        <p:spPr>
          <a:xfrm>
            <a:off x="4572000" y="1557360"/>
            <a:ext cx="184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76040" y="79200"/>
            <a:ext cx="8607600" cy="1725840"/>
          </a:xfrm>
          <a:prstGeom prst="rect">
            <a:avLst/>
          </a:prstGeom>
          <a:ln w="0">
            <a:noFill/>
          </a:ln>
        </p:spPr>
      </p:pic>
      <p:sp>
        <p:nvSpPr>
          <p:cNvPr id="431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525C-FC10-448B-B8F7-EE37AED4C76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_s1030"/>
          <p:cNvSpPr/>
          <p:nvPr/>
        </p:nvSpPr>
        <p:spPr>
          <a:xfrm>
            <a:off x="2556000" y="4653000"/>
            <a:ext cx="4317840" cy="1908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_s1032"/>
          <p:cNvSpPr/>
          <p:nvPr/>
        </p:nvSpPr>
        <p:spPr>
          <a:xfrm>
            <a:off x="5219640" y="1989000"/>
            <a:ext cx="3924360" cy="1835280"/>
          </a:xfrm>
          <a:prstGeom prst="ellipse">
            <a:avLst/>
          </a:prstGeom>
          <a:solidFill>
            <a:srgbClr val="ecde78">
              <a:alpha val="50000"/>
            </a:srgbClr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_s1028"/>
          <p:cNvSpPr/>
          <p:nvPr/>
        </p:nvSpPr>
        <p:spPr>
          <a:xfrm>
            <a:off x="0" y="3141720"/>
            <a:ext cx="3780000" cy="1798560"/>
          </a:xfrm>
          <a:prstGeom prst="ellipse">
            <a:avLst/>
          </a:prstGeom>
          <a:solidFill>
            <a:srgbClr val="cc99ff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179280" y="2997360"/>
            <a:ext cx="3637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081e"/>
                </a:solidFill>
                <a:latin typeface="Arial"/>
                <a:ea typeface="Arial"/>
              </a:rPr>
              <a:t>СЕМ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Личностная усп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Социальная усп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Профессион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усп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5364000" y="1916280"/>
            <a:ext cx="3780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081e"/>
                </a:solidFill>
                <a:latin typeface="Arial"/>
                <a:ea typeface="Arial"/>
              </a:rPr>
              <a:t>ОБЩ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Безопасность и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Благо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2627280" y="4365720"/>
            <a:ext cx="4284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081e"/>
                </a:solidFill>
                <a:latin typeface="Arial"/>
                <a:ea typeface="Arial"/>
              </a:rPr>
              <a:t>ГОСУДАР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Национальное еди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Безопас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Развитие человеческого потенц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90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081e"/>
                </a:solidFill>
                <a:latin typeface="Arial"/>
                <a:ea typeface="Arial"/>
              </a:rPr>
              <a:t>Конкурентоспособ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1512720" cy="273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8718480" cy="1116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1320" y="1928880"/>
            <a:ext cx="850428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твержден и введен в действи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 1 января 2010 год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казом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инобрнауки России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т 6 октября 2009 года № 373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1" name="Рисунок 1" descr="C:\Documents and Settings\IAntonova\Рабочий стол\Обложки Стандарты\federal_gos_obraz_stand.jpg"/>
          <p:cNvPicPr/>
          <p:nvPr/>
        </p:nvPicPr>
        <p:blipFill>
          <a:blip r:embed="rId2"/>
          <a:stretch/>
        </p:blipFill>
        <p:spPr>
          <a:xfrm>
            <a:off x="7572240" y="4786200"/>
            <a:ext cx="1332000" cy="18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информационные</a:t>
            </a:r>
            <a:r>
              <a:rPr b="0" lang="ru-RU" sz="2000" spc="-1" strike="noStrike">
                <a:solidFill>
                  <a:srgbClr val="cc33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ознакомление педагогической общественности с основными тенденциями развития современного образования, ключевыми задачами и новыми результатами образования;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аучно-методические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обеспечение подготовки педагогических работников к реализации ФГОС второго поколения через освоение идеологии нового стандарта, структуры и содержания основных документов, новой системы требований к оценке результатов образовательной деятельности учащихся, принятие современных педагогических стратегий обучения детей;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едагогические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– повышение квалификации и переподготовка учителей начальных классов, обеспечение их готовности к эффективной профессиональной деятельности в условиях реализации ФГОС второго поколен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организационные</a:t>
            </a:r>
            <a:r>
              <a:rPr b="0" lang="ru-RU" sz="2000" spc="-1" strike="noStrike">
                <a:solidFill>
                  <a:srgbClr val="cc33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создание на региональном уровне инструктивно-методических рекомендации по введению ФГОС второго поколения в Московской области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3" descr=""/>
          <p:cNvPicPr/>
          <p:nvPr/>
        </p:nvPicPr>
        <p:blipFill>
          <a:blip r:embed="rId1"/>
          <a:stretch/>
        </p:blipFill>
        <p:spPr>
          <a:xfrm>
            <a:off x="212760" y="139680"/>
            <a:ext cx="8791560" cy="1116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В</a:t>
            </a:r>
            <a:r>
              <a:rPr b="1" lang="cs-CZ" sz="3200" spc="-1" strike="noStrike">
                <a:solidFill>
                  <a:srgbClr val="ffffff"/>
                </a:solidFill>
                <a:latin typeface="Rockwell"/>
              </a:rPr>
              <a:t>ажнейший нормативный правовой акт Российской Федерации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Rockwell"/>
              </a:rPr>
              <a:t>устанавливающий систему норм и правил, обязательных для исполнения в любом образовательном учреждении, реализующем основные образовательные программы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buClr>
                <a:srgbClr val="6076b4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6" name="Рисунок 1" descr="C:\Documents and Settings\IAntonova\Рабочий стол\Обложки Стандарты\federal_gos_obraz_stand.jpg"/>
          <p:cNvPicPr/>
          <p:nvPr/>
        </p:nvPicPr>
        <p:blipFill>
          <a:blip r:embed="rId2"/>
          <a:stretch/>
        </p:blipFill>
        <p:spPr>
          <a:xfrm>
            <a:off x="357120" y="4714920"/>
            <a:ext cx="1332000" cy="18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34520" cy="18651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23640" y="2060640"/>
            <a:ext cx="85122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тандарты могут разрабатываться по образовательным уровням, ступеням образования, профессиям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правлениям подготовки, специальностям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инистерство образования и науки РФ обеспечивает разработку проектов стандартов с привлечением: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  заинтересованных органов исполнительной власти,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  государственно-общественных объединений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 ведущих образовательных и научных учреждений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 представителей научно-педагогических сообществ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бъединений работодателей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6076b4"/>
              </a:buClr>
              <a:buSzPct val="7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ститутов общественного участия в управлении образованием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форматика</cp:lastModifiedBy>
  <dcterms:modified xsi:type="dcterms:W3CDTF">2011-11-15T06:23:43Z</dcterms:modified>
  <cp:revision>84</cp:revision>
  <dc:subject/>
  <dc:title>Актуальные проблемы введения ФГОС</dc:title>
</cp:coreProperties>
</file>