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6.jpeg" ContentType="image/jpeg"/>
  <Override PartName="/ppt/media/image60.png" ContentType="image/png"/>
  <Override PartName="/ppt/media/image18.png" ContentType="image/png"/>
  <Override PartName="/ppt/media/image33.png" ContentType="image/png"/>
  <Override PartName="/ppt/media/image52.png" ContentType="image/png"/>
  <Override PartName="/ppt/media/image3.png" ContentType="image/png"/>
  <Override PartName="/ppt/media/image15.png" ContentType="image/png"/>
  <Override PartName="/ppt/media/image48.png" ContentType="image/png"/>
  <Override PartName="/ppt/media/image11.png" ContentType="image/png"/>
  <Override PartName="/ppt/media/image32.png" ContentType="image/png"/>
  <Override PartName="/ppt/media/image2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65.png" ContentType="image/png"/>
  <Override PartName="/ppt/media/image64.png" ContentType="image/png"/>
  <Override PartName="/ppt/media/image66.png" ContentType="image/png"/>
  <Override PartName="/ppt/media/image29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49.png" ContentType="image/png"/>
  <Override PartName="/ppt/media/image12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14.jpeg" ContentType="image/jpeg"/>
  <Override PartName="/ppt/media/image54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4.png" ContentType="image/png"/>
  <Override PartName="/ppt/media/image7.jpeg" ContentType="image/jpe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10.jpeg" ContentType="image/jpeg"/>
  <Override PartName="/ppt/media/image30.png" ContentType="image/png"/>
  <Override PartName="/ppt/media/image31.png" ContentType="image/png"/>
  <Override PartName="/ppt/media/image34.jpeg" ContentType="image/jpeg"/>
  <Override PartName="/ppt/media/image37.png" ContentType="image/png"/>
  <Override PartName="/ppt/media/image9.jpeg" ContentType="image/jpeg"/>
  <Override PartName="/ppt/media/image36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ECE0-FEB8-43D5-AAD9-AC79C7532A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Номер слайда 3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085E963-980A-45AD-99FD-88E0877485C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E6A7-EC1A-4A10-B4F1-0496962976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877-59CC-48E7-914F-5F1CC4F0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1C6-DE89-431E-90D5-4433C735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ABA089-C89E-4EF0-95D9-10BBF8DA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20F27B-07E8-4D7A-A80C-332EE623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8409F6-7AE5-43A1-915C-AABAB5A4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5BAD11-7B87-4E17-82CB-F354937A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C0F4AD-C805-46C3-BD2B-340D2F33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D5C2F9-EC7E-445A-8C83-22D95271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DC326E-D619-4129-BBCF-8525305C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5EC904-C458-41E9-A4F4-F8F76F6F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4D5445-14FA-486C-8442-46A919AC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105-982B-4DDA-867B-DD7C1935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F1D-FDEA-472B-8AE8-38D2CFE0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25EE7-0204-4669-AE8F-FE8D1106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B7ECD-0E04-4C05-B8F9-5BF478AF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49D3B-0B2D-4EBC-8B49-2E20D7F2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E2EF9-5D33-4455-9380-375672DC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AC2AD-84FD-40DC-8006-157E8D11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E7537-BAF3-4360-9FE2-82B0CFDE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9644D-0AF0-4549-A228-57199240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6DB-531B-49AD-BF6E-786D180A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3CD96-5E06-4ADF-B6D9-318FA170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09251-4247-4E95-94F3-2D0E2803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8B618-301B-41A8-8C05-27FE6861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EF4FC-1F4E-4B81-A389-91C646E3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95544-C9CD-4C40-93C1-83E5DD5F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06158-BB68-4FB7-B0C9-9DDD98E0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8FAB4-07B3-4065-9737-B7F47E47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3651D-DB1E-46B6-931E-BAA07B2D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BDC9C-9682-4240-9DB0-068796A1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68C0-7493-49A8-9EEA-01EE7ECA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8C3-17F3-4B79-8330-8D37A47A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1EA7D-B3AA-4FBF-A8BD-BCA64A7B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84E73-9397-43F7-8CE8-90D0CB8F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14C9-0FFF-46C7-848E-B582998D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E01A9-581E-4CCD-BC6C-1C52E19A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A6EE3-0094-4F87-8C7F-344CE605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C638-70F6-4AB3-A8A1-2FA36841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170CD-21C7-4038-AAF9-AEEFF92D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325A01-F040-4A33-BE81-47962F3E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98A473-648E-429C-B86E-6AFC0101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56A313-A474-46FF-96D5-7591D5DB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DDB-9C49-49CA-98AF-06B6DFFD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CE76F6-4ADD-438B-A52C-FA76E907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571663-8EB7-48E7-9256-85196843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2176A8-3EF9-44CD-BC98-D5AFC720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BE3980-A7CA-4A8F-987F-C14970DD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F85D24-D601-4219-B214-8F92A50F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398A9-BF35-4809-803C-60539AE6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1FF00E-55B9-49BE-8F05-A1D2B2FC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DE4017-ADF4-4B4A-8BEF-CAD616AB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ABD79A-F877-41B9-A942-9F427857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80DEB-2CF0-46B5-8D51-9A7F2728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E30-0A2B-4B36-807F-DF9E1DCE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7AD7D-2492-4190-96C2-FB70B1CA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57F77-3D1A-45D2-96A8-F54816AC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E7E6D-77D0-433A-877C-7D07D1D5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A9A57-BF25-4583-9F28-443EE896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89DC7-3CD9-4210-9A80-7F7BC1C6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FFCAE-05BD-44A7-9CA2-28C07311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25FE1-D2DA-4F2D-9F5D-EAF02598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28F9E-40B6-4F8C-9FC3-3A0356DD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4B2F7-5076-48F0-816A-E89EC30E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669BD-7440-45E5-A57A-45A9ED51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7D0-AAE2-4D10-8FD0-DA3AB663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C0B26-475A-43DF-86B2-6B93C132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88A92-71EF-4923-BC83-0475756E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C8DCA-0287-4788-8D53-2A1A1505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8F199-20CD-495F-BFB3-1016C37C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19C25-8297-4CB2-AEC3-6C2319A8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D1964-5A75-4FDD-B6F1-AE58DABF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2EABF-C181-42DC-92B1-E0DB245F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0B39B-8609-4AAA-B2E6-2818B2C1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61BDE-50E7-44D1-9D5F-35E81547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67802-71B5-414D-A7FF-66440ED6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591-35EC-4ACC-94F3-25D3F071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6E697-6693-4D8E-942E-A8635449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5DEB4-6A88-4F7A-829A-FF44E4E5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5D347-DE1E-4F44-A4E1-69B5CF75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82ECA-39B1-4F87-A539-A4148A83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C9B25-CC1B-462C-A42C-0462E54F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FA4D5-10A6-4518-9722-81C79EEC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01459-6795-4DAD-A069-78ADB385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9A2F0-AD17-43F8-A98D-C9B37E09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3C556-A7E1-46FB-85BB-BDA400F5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8247A-F2F8-4892-B02B-BE4C3583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8E0-F037-41CF-9A18-CF5A052B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EFA97-C967-4EC0-A5FD-05884049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80C73-9807-43B0-B76D-DFCD2AC8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31F4B-4854-4716-9E7A-8643B982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05CA8-CC86-4C7D-B949-FB28938E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E960A-8214-42C6-9334-468BB733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5DDE6E-2785-4346-A605-D1DEF1BF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8BC02B-9B82-4E00-8BCA-A46614F2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BEC7FA-E99A-4C27-91EA-2FD4AA78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1DEF15-DEEA-409F-8096-754038D4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2078A6-2973-4A5F-B15B-67B6C771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BE7-C381-47F3-85BD-E62CF187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85C13D-700A-4A3D-B3D6-F39EF7B6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8FA09C-5F80-4BD5-94AC-28836B82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7D03F7-06CC-4835-9212-18F3C8DE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65BEC2-AF7C-439E-87D4-2760DC9B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E0B776-59B3-4A3D-8BF5-D014FBF8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695F76-29AE-4FCB-B743-200C6DE6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9DEF4E-EE78-4362-A02F-5E2D9F55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E19BB6-322E-4623-888B-C096D1A8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80C5D5-4DAC-45E9-B00C-720D191C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E3C397-95FA-4741-BA4A-64D6A239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2F9F-0DBF-4DD8-98F2-7A5E4993B10A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38EA-E18A-4C18-82B2-227DDAA05D59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CBC4-3C6C-4E7A-A290-296271F13BF5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8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3F22-1EB2-4A09-A8F5-506C3DC61487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3DE5-3A85-4C8B-BB93-0361D31CFD41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6259-63E5-4A26-B7EF-6E82DD410D48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F392-A8BB-4176-9B35-908FE2036DA8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8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0510-518F-4165-8485-9BD6A69E9F7A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11DE-48A2-45D9-90B9-8C8ABE410D16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5.png"/><Relationship Id="rId18" Type="http://schemas.openxmlformats.org/officeDocument/2006/relationships/image" Target="../media/image56.png"/><Relationship Id="rId19" Type="http://schemas.openxmlformats.org/officeDocument/2006/relationships/image" Target="../media/image57.png"/><Relationship Id="rId20" Type="http://schemas.openxmlformats.org/officeDocument/2006/relationships/image" Target="../media/image58.png"/><Relationship Id="rId21" Type="http://schemas.openxmlformats.org/officeDocument/2006/relationships/image" Target="../media/image59.png"/><Relationship Id="rId22" Type="http://schemas.openxmlformats.org/officeDocument/2006/relationships/image" Target="../media/image60.png"/><Relationship Id="rId23" Type="http://schemas.openxmlformats.org/officeDocument/2006/relationships/image" Target="../media/image61.png"/><Relationship Id="rId24" Type="http://schemas.openxmlformats.org/officeDocument/2006/relationships/image" Target="../media/image62.png"/><Relationship Id="rId25" Type="http://schemas.openxmlformats.org/officeDocument/2006/relationships/slideLayout" Target="../slideLayouts/slideLayout25.xml"/><Relationship Id="rId2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3" descr=""/>
          <p:cNvPicPr/>
          <p:nvPr/>
        </p:nvPicPr>
        <p:blipFill>
          <a:blip r:embed="rId1"/>
          <a:stretch/>
        </p:blipFill>
        <p:spPr>
          <a:xfrm>
            <a:off x="3041640" y="4724280"/>
            <a:ext cx="5486400" cy="6652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427280" y="189000"/>
            <a:ext cx="35067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mbria"/>
              </a:rPr>
              <a:t>Педагогический совет по теме: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Федеральный государственный стандарт начального общего образования: актуальные вопросы введения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403" name="Рисунок 14"/>
          <p:cNvGrpSpPr/>
          <p:nvPr/>
        </p:nvGrpSpPr>
        <p:grpSpPr>
          <a:xfrm>
            <a:off x="920880" y="1079640"/>
            <a:ext cx="3670200" cy="3767040"/>
            <a:chOff x="920880" y="1079640"/>
            <a:chExt cx="3670200" cy="3767040"/>
          </a:xfrm>
        </p:grpSpPr>
        <p:pic>
          <p:nvPicPr>
            <p:cNvPr id="404" name="Рисунок 14" descr=""/>
            <p:cNvPicPr/>
            <p:nvPr/>
          </p:nvPicPr>
          <p:blipFill>
            <a:blip r:embed="rId2"/>
            <a:stretch/>
          </p:blipFill>
          <p:spPr>
            <a:xfrm>
              <a:off x="920880" y="1079640"/>
              <a:ext cx="3670200" cy="37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1047600" y="1204920"/>
              <a:ext cx="3414960" cy="35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 txBox="1"/>
          <p:nvPr/>
        </p:nvSpPr>
        <p:spPr>
          <a:xfrm>
            <a:off x="6357600" y="4643280"/>
            <a:ext cx="27860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Picture 1" descr="C:\Documents and Settings\Admin\Рабочий стол\i.jpegm.jpeg"/>
          <p:cNvPicPr/>
          <p:nvPr/>
        </p:nvPicPr>
        <p:blipFill>
          <a:blip r:embed="rId3"/>
          <a:stretch/>
        </p:blipFill>
        <p:spPr>
          <a:xfrm>
            <a:off x="250920" y="907920"/>
            <a:ext cx="3960720" cy="439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mbria"/>
              </a:rPr>
              <a:t>Дошкольного образования;</a:t>
            </a:r>
            <a:endParaRPr b="0" lang="en-US" sz="3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mbria"/>
              </a:rPr>
              <a:t>Начального общего образования;</a:t>
            </a:r>
            <a:endParaRPr b="0" lang="en-US" sz="3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mbria"/>
              </a:rPr>
              <a:t>Основного общего образования; </a:t>
            </a:r>
            <a:endParaRPr b="0" lang="en-US" sz="3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mbria"/>
              </a:rPr>
              <a:t>Среднего (полного) общего образования.</a:t>
            </a:r>
            <a:endParaRPr b="0" lang="en-US" sz="3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2873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1320" y="1267920"/>
            <a:ext cx="853452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1380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61380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ОП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утверждается  и реализуется образовательным учреждением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mbria"/>
              </a:rPr>
              <a:t>самостоятельно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61380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61380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ОП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ОУ  разрабатывается на основе соответствующих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mbria"/>
              </a:rPr>
              <a:t>примерных основных образовательных программ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78912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lvl="2" marL="78912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Примерная основная образовательная программа 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разрабатывается на основе </a:t>
            </a:r>
            <a:r>
              <a:rPr b="1" lang="ru-RU" sz="2300" spc="-1" strike="noStrike" u="sng">
                <a:solidFill>
                  <a:srgbClr val="ffffff"/>
                </a:solidFill>
                <a:uFillTx/>
                <a:latin typeface="Cambria"/>
              </a:rPr>
              <a:t>федеральных государственных образовательных стандартов 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lvl="2" marL="78912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lvl="2" marL="78912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Органы государственной власти субъекта РФ в сфере образования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 могут принимать участие в разработке примерных основных образовательных программ </a:t>
            </a:r>
            <a:r>
              <a:rPr b="1" lang="ru-RU" sz="2300" spc="-1" strike="noStrike" u="sng">
                <a:solidFill>
                  <a:srgbClr val="ffffff"/>
                </a:solidFill>
                <a:uFillTx/>
                <a:latin typeface="Cambria"/>
              </a:rPr>
              <a:t>(в части учета региональных, национальных и этнокультурных особенностей)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     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360360" y="195120"/>
            <a:ext cx="8790120" cy="1170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нструмент обеспечения баланса целей личности, общества и государства  в образовани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нструмент формирования социального  доверия, общественного согласия и гражданской консолидаци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нструмент реализации государственной политики в сфере образован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491680" cy="14637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Впервые стандарты – это 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целостная система требований ко всей системе образования страны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, а не только требования к предметному содержанию образования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Впервые  стандарты рассматриваются как 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конституция школьной жизни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Впервые основой внедрения стандартов в реальную  жизнь является 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новая организационно-экономическая модель образования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«Знаниевая»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системно-деятельностна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r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зучение основ наук        Обеспечение развития универсальных учебных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ействий на материале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снов наук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cxnSp>
        <p:nvCxnSpPr>
          <p:cNvPr id="459" name="Прямая со стрелкой 4"/>
          <p:cNvCxnSpPr/>
          <p:nvPr/>
        </p:nvCxnSpPr>
        <p:spPr>
          <a:xfrm>
            <a:off x="3143160" y="1785960"/>
            <a:ext cx="643320" cy="2160"/>
          </a:xfrm>
          <a:prstGeom prst="straightConnector1">
            <a:avLst/>
          </a:prstGeom>
          <a:ln w="9360">
            <a:solidFill>
              <a:srgbClr val="566aa3"/>
            </a:solidFill>
            <a:miter/>
            <a:tailEnd len="med" type="arrow" w="med"/>
          </a:ln>
        </p:spPr>
      </p:cxnSp>
      <p:cxnSp>
        <p:nvCxnSpPr>
          <p:cNvPr id="460" name="Прямая со стрелкой 6"/>
          <p:cNvCxnSpPr/>
          <p:nvPr/>
        </p:nvCxnSpPr>
        <p:spPr>
          <a:xfrm>
            <a:off x="4500360" y="2286000"/>
            <a:ext cx="572040" cy="2160"/>
          </a:xfrm>
          <a:prstGeom prst="straightConnector1">
            <a:avLst/>
          </a:prstGeom>
          <a:ln w="9360">
            <a:solidFill>
              <a:srgbClr val="566aa3"/>
            </a:solidFill>
            <a:miter/>
            <a:tailEnd len="med" type="arrow" w="med"/>
          </a:ln>
        </p:spPr>
      </p:cxnSp>
      <p:pic>
        <p:nvPicPr>
          <p:cNvPr id="461" name="Picture 3" descr="p001"/>
          <p:cNvPicPr/>
          <p:nvPr/>
        </p:nvPicPr>
        <p:blipFill>
          <a:blip r:embed="rId2"/>
          <a:stretch/>
        </p:blipFill>
        <p:spPr>
          <a:xfrm>
            <a:off x="714240" y="3714840"/>
            <a:ext cx="2500560" cy="215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431200" cy="1324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mbria"/>
              </a:rPr>
              <a:t>Задача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ориентация системы образования на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ambria"/>
              </a:rPr>
              <a:t>новые образовательные результаты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, связанные с пониманием развития личности как цели  и смысла образован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4" name="Рисунок 1" descr="C:\Documents and Settings\IAntonova\Рабочий стол\Обложки Стандарты\federal_gos_obraz_stand.jpg"/>
          <p:cNvPicPr/>
          <p:nvPr/>
        </p:nvPicPr>
        <p:blipFill>
          <a:blip r:embed="rId2"/>
          <a:stretch/>
        </p:blipFill>
        <p:spPr>
          <a:xfrm>
            <a:off x="7164360" y="3860640"/>
            <a:ext cx="1224000" cy="230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457200" y="-73080"/>
            <a:ext cx="8637480" cy="17924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301680" y="1527120"/>
            <a:ext cx="8842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Cambria"/>
              </a:rPr>
              <a:t>Личностные результаты</a:t>
            </a: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 – сформировавшиеся в образовательном процессе мотивы деятельности, система ценностных отношений учащихся – в частности, к себе , другим участникам образовательного процесса, самому образовательному процессу, объектам познания, результатам образовательной деятельности и т.д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 u="sng">
                <a:solidFill>
                  <a:srgbClr val="ffffff"/>
                </a:solidFill>
                <a:uFillTx/>
                <a:latin typeface="Cambria"/>
              </a:rPr>
              <a:t>Метапредметные результаты</a:t>
            </a: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 – освоенные обучающимися на базе нескольких или всех учебных предметов обобщенные способы деятельности, применимые как в рамках образовательного процесса, так и в реальных жизненных ситуациях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 u="sng">
                <a:solidFill>
                  <a:srgbClr val="ffffff"/>
                </a:solidFill>
                <a:uFillTx/>
                <a:latin typeface="Cambria"/>
              </a:rPr>
              <a:t>Предметные результаты</a:t>
            </a: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  - выражаются в усвоении обучаемыми конкретных элементов социального опыта, изучаемого в рамках отдельных учебных предметов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301320" y="1856880"/>
            <a:ext cx="850428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4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Гармоничное развитие личности, интегрированной в мировую и национальную культуру, обладающей ключевыми компетентностями, способной к ответственному поведению и </a:t>
            </a:r>
            <a:r>
              <a:rPr b="1" lang="ru-RU" sz="2700" spc="-1" strike="noStrike" u="sng">
                <a:solidFill>
                  <a:srgbClr val="ffffff"/>
                </a:solidFill>
                <a:uFillTx/>
                <a:latin typeface="Cambria"/>
              </a:rPr>
              <a:t>самореализации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 в современном ей обществе. 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9" name="Picture 2" descr="1274886401_uchenik"/>
          <p:cNvPicPr/>
          <p:nvPr/>
        </p:nvPicPr>
        <p:blipFill>
          <a:blip r:embed="rId2"/>
          <a:stretch/>
        </p:blipFill>
        <p:spPr>
          <a:xfrm>
            <a:off x="6500880" y="5072040"/>
            <a:ext cx="2009880" cy="149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4209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ризнание обществом значимости (полезности) той деятельности, которую выполняет личность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лучение личностью удовлетворения от результатов своей деятельности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(материального, интеллектуального, эмоционального)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3" name="Picture 2" descr="untitled"/>
          <p:cNvPicPr/>
          <p:nvPr/>
        </p:nvPicPr>
        <p:blipFill>
          <a:blip r:embed="rId2"/>
          <a:stretch/>
        </p:blipFill>
        <p:spPr>
          <a:xfrm>
            <a:off x="2700360" y="4500720"/>
            <a:ext cx="2232000" cy="193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ооружить ребенка умениями, которые помогут ему ориентироваться в новых ситуациях своей профессиональной, личной и общественной жизни, достигая поставленной цел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ОМПЕТЕНТНОСТЯМИ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10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AutoShape 6"/>
          <p:cNvSpPr/>
          <p:nvPr/>
        </p:nvSpPr>
        <p:spPr>
          <a:xfrm>
            <a:off x="4427640" y="4113360"/>
            <a:ext cx="431640" cy="755640"/>
          </a:xfrm>
          <a:prstGeom prst="downArrow">
            <a:avLst>
              <a:gd name="adj1" fmla="val 50000"/>
              <a:gd name="adj2" fmla="val 45857"/>
            </a:avLst>
          </a:prstGeom>
          <a:solidFill>
            <a:srgbClr val="6076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0" y="1356840"/>
            <a:ext cx="4788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Cambria"/>
              </a:rPr>
              <a:t>Великая цель образования - это не знания,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Cambria"/>
              </a:rPr>
              <a:t>а действия</a:t>
            </a:r>
            <a:br>
              <a:rPr sz="4000"/>
            </a:br>
            <a:r>
              <a:rPr b="0" i="1" lang="ru-RU" sz="2800" spc="-1" strike="noStrike">
                <a:solidFill>
                  <a:srgbClr val="ffff00"/>
                </a:solidFill>
                <a:latin typeface="Cambria"/>
              </a:rPr>
              <a:t>                               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Г.Спенсер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Picture 16" descr="1304018455_be8ec3665d_o"/>
          <p:cNvPicPr/>
          <p:nvPr/>
        </p:nvPicPr>
        <p:blipFill>
          <a:blip r:embed="rId1"/>
          <a:stretch/>
        </p:blipFill>
        <p:spPr>
          <a:xfrm>
            <a:off x="5219640" y="1928880"/>
            <a:ext cx="3456000" cy="277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войство личности, которое подлежит целенаправленному формированию в процессе обучения, воспитания и развит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Условия для успешной социализации личност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Ключевы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- Специальны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- Профессиональны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Заголовок 1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553600" cy="15066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бразовательна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нформационная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коммуникативна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оциальна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толерантность (терпимость к различным мнениям, непредубежденность к оценке людей и событий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274680" y="255600"/>
            <a:ext cx="8717040" cy="15066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подготовка профессионального ученика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83" name="Picture 4" descr="8a9007d6eb73b482f79821ede54a06cd"/>
          <p:cNvPicPr/>
          <p:nvPr/>
        </p:nvPicPr>
        <p:blipFill>
          <a:blip r:embed="rId2"/>
          <a:stretch/>
        </p:blipFill>
        <p:spPr>
          <a:xfrm>
            <a:off x="4572000" y="2492280"/>
            <a:ext cx="239544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6076b4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ЦЕЛЕПОЛАГАНИЕ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– умение ставить цель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buClr>
                <a:srgbClr val="6076b4"/>
              </a:buClr>
              <a:buSzPct val="70000"/>
              <a:buFont typeface="Cambr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ЛАНИРОВАНИЕ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– способы достижение намеченной цел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buClr>
                <a:srgbClr val="6076b4"/>
              </a:buClr>
              <a:buSzPct val="70000"/>
              <a:buFont typeface="Cambr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УЧЕБНЫЕ ДЕЙСТВ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buClr>
                <a:srgbClr val="6076b4"/>
              </a:buClr>
              <a:buSzPct val="70000"/>
              <a:buFont typeface="Cambr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КОНТРОЛЬ И КОРРЕКЦИЯ способов достижения учебных действий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5. 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ОЦЕНКА результатов достижения учебной цел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Rectangle 2" descr=""/>
          <p:cNvPicPr/>
          <p:nvPr/>
        </p:nvPicPr>
        <p:blipFill>
          <a:blip r:embed="rId1"/>
          <a:stretch/>
        </p:blipFill>
        <p:spPr>
          <a:xfrm>
            <a:off x="298440" y="-128520"/>
            <a:ext cx="8564400" cy="17920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301320" y="1915920"/>
            <a:ext cx="853452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сновы гражданской идентичности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9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чувство сопричастности и гордости за свою Родину, народ и историю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тветственность за общее благополучие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истема общечеловеческих ценностей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отивационная основа учебной деятельности и способность к самооценке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301320" y="1428840"/>
            <a:ext cx="8504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разработана и утверждена </a:t>
            </a: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основная образовательная программа начального общего образования ОУ</a:t>
            </a: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;   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нормативная база ОУ</a:t>
            </a: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приведена в соответствие с требованиями ФГОС (цели образовательного процесса, режим занятий, финансирование, материально-техническое  обеспечение  и т.п.);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должностные инструкции</a:t>
            </a: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работников образовательного учреждения приведены в соответствие с требованиями ФГОС начального общего образования и новыми тарифно-квалификационными характеристиками;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определен список учебников и учебных пособий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, используемых в образовательном процессе в соответствии с ФГОС начального общего образования;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Rectangle 1"/>
          <p:cNvSpPr/>
          <p:nvPr/>
        </p:nvSpPr>
        <p:spPr>
          <a:xfrm>
            <a:off x="-341280" y="-610560"/>
            <a:ext cx="8668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7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разработаны локальные акты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, регламентирующие установление заработной платы работников образовательного учреждения, в том числе стимулирующих  надбавок и доплат, порядка и размеров премирования в соответствии с НСОТ; 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7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определена </a:t>
            </a: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оптимальная модель организации образовательного процесса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, обеспечивающая организацию внеурочной деятельности;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7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разработан </a:t>
            </a: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план методической работы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, обеспечивающей сопровождение введения ФГОС;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7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осуществлено </a:t>
            </a: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повышение квалификации учителей</a:t>
            </a: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и других педагогических работников;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7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обеспечены кадровые, финансовые, материально-технические и иные условия реализации основной образовательной программы начального общего 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образования в соответствии с требованиями  ФГОС. 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469800" y="-195120"/>
            <a:ext cx="8363160" cy="117000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3"/>
          <p:cNvSpPr/>
          <p:nvPr/>
        </p:nvSpPr>
        <p:spPr>
          <a:xfrm>
            <a:off x="235080" y="2343240"/>
            <a:ext cx="4878360" cy="4438440"/>
          </a:xfrm>
          <a:custGeom>
            <a:avLst/>
            <a:gdLst>
              <a:gd name="textAreaLeft" fmla="*/ 0 w 4878360"/>
              <a:gd name="textAreaRight" fmla="*/ 4878720 w 4878360"/>
              <a:gd name="textAreaTop" fmla="*/ 0 h 4438440"/>
              <a:gd name="textAreaBottom" fmla="*/ 1598040 h 443844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4"/>
          <p:cNvSpPr/>
          <p:nvPr/>
        </p:nvSpPr>
        <p:spPr>
          <a:xfrm>
            <a:off x="923760" y="2981160"/>
            <a:ext cx="3603960" cy="3279960"/>
          </a:xfrm>
          <a:custGeom>
            <a:avLst/>
            <a:gdLst>
              <a:gd name="textAreaLeft" fmla="*/ 0 w 3603960"/>
              <a:gd name="textAreaRight" fmla="*/ 3604320 w 3603960"/>
              <a:gd name="textAreaTop" fmla="*/ 0 h 3279960"/>
              <a:gd name="textAreaBottom" fmla="*/ 1180800 h 327996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5"/>
          <p:cNvSpPr/>
          <p:nvPr/>
        </p:nvSpPr>
        <p:spPr>
          <a:xfrm>
            <a:off x="1363680" y="3462480"/>
            <a:ext cx="2662200" cy="2422440"/>
          </a:xfrm>
          <a:custGeom>
            <a:avLst/>
            <a:gdLst>
              <a:gd name="textAreaLeft" fmla="*/ 0 w 2662200"/>
              <a:gd name="textAreaRight" fmla="*/ 2662200 w 2662200"/>
              <a:gd name="textAreaTop" fmla="*/ 0 h 2422440"/>
              <a:gd name="textAreaBottom" fmla="*/ 872280 h 242244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482626"/>
              </a:gs>
              <a:gs pos="50000">
                <a:srgbClr val="9c5252"/>
              </a:gs>
              <a:gs pos="100000">
                <a:srgbClr val="482626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6"/>
          <p:cNvSpPr/>
          <p:nvPr/>
        </p:nvSpPr>
        <p:spPr>
          <a:xfrm>
            <a:off x="1692360" y="4005360"/>
            <a:ext cx="1887480" cy="1368360"/>
          </a:xfrm>
          <a:prstGeom prst="pie">
            <a:avLst/>
          </a:prstGeom>
          <a:gradFill rotWithShape="0">
            <a:gsLst>
              <a:gs pos="0">
                <a:srgbClr val="2c3753"/>
              </a:gs>
              <a:gs pos="50000">
                <a:srgbClr val="6076b4"/>
              </a:gs>
              <a:gs pos="100000">
                <a:srgbClr val="2c375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7"/>
          <p:cNvSpPr/>
          <p:nvPr/>
        </p:nvSpPr>
        <p:spPr>
          <a:xfrm>
            <a:off x="5435640" y="3789360"/>
            <a:ext cx="3924360" cy="16556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нормативная база ОУ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иведена в соответствие с требованиями ФГО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(цели образовательного процесса, режим занятий, финансирование, материально-техническое  обеспечение  и т.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8"/>
          <p:cNvSpPr/>
          <p:nvPr/>
        </p:nvSpPr>
        <p:spPr>
          <a:xfrm>
            <a:off x="4716360" y="2708280"/>
            <a:ext cx="3672000" cy="792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уществлено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овышение квалификации учителей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 других педагогических работни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9"/>
          <p:cNvSpPr/>
          <p:nvPr/>
        </p:nvSpPr>
        <p:spPr>
          <a:xfrm>
            <a:off x="3924360" y="1413000"/>
            <a:ext cx="3743280" cy="115236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азработан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лан методической работы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, обеспечивающей сопровождение введения ФГО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AutoShape 10"/>
          <p:cNvSpPr/>
          <p:nvPr/>
        </p:nvSpPr>
        <p:spPr>
          <a:xfrm>
            <a:off x="755640" y="1341360"/>
            <a:ext cx="2736720" cy="121752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азработана и утверждена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ОП начального общег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зования ОУ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0" y="5589720"/>
            <a:ext cx="1882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должностные инструкции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аботников ОУ приведены в соответств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 требованиями ФГОС НОО и новыми тарифно-квалификацион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характеристи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Блок-схема: процесс 21"/>
          <p:cNvGrpSpPr/>
          <p:nvPr/>
        </p:nvGrpSpPr>
        <p:grpSpPr>
          <a:xfrm>
            <a:off x="5437080" y="1274760"/>
            <a:ext cx="3713400" cy="5583240"/>
            <a:chOff x="5437080" y="1274760"/>
            <a:chExt cx="3713400" cy="5583240"/>
          </a:xfrm>
        </p:grpSpPr>
        <p:pic>
          <p:nvPicPr>
            <p:cNvPr id="504" name="Блок-схема: процесс 21" descr=""/>
            <p:cNvPicPr/>
            <p:nvPr/>
          </p:nvPicPr>
          <p:blipFill>
            <a:blip r:embed="rId1"/>
            <a:stretch/>
          </p:blipFill>
          <p:spPr>
            <a:xfrm>
              <a:off x="5437080" y="1274760"/>
              <a:ext cx="371340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5457960" y="1293840"/>
              <a:ext cx="3671640" cy="55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Блок-схема: процесс 19"/>
          <p:cNvGrpSpPr/>
          <p:nvPr/>
        </p:nvGrpSpPr>
        <p:grpSpPr>
          <a:xfrm>
            <a:off x="92160" y="1176480"/>
            <a:ext cx="3705120" cy="5584680"/>
            <a:chOff x="92160" y="1176480"/>
            <a:chExt cx="3705120" cy="5584680"/>
          </a:xfrm>
        </p:grpSpPr>
        <p:pic>
          <p:nvPicPr>
            <p:cNvPr id="507" name="Блок-схема: процесс 19" descr=""/>
            <p:cNvPicPr/>
            <p:nvPr/>
          </p:nvPicPr>
          <p:blipFill>
            <a:blip r:embed="rId2"/>
            <a:stretch/>
          </p:blipFill>
          <p:spPr>
            <a:xfrm>
              <a:off x="92160" y="1176480"/>
              <a:ext cx="3705120" cy="55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08000" y="1197000"/>
              <a:ext cx="3672000" cy="55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TextBox 10"/>
          <p:cNvGrpSpPr/>
          <p:nvPr/>
        </p:nvGrpSpPr>
        <p:grpSpPr>
          <a:xfrm>
            <a:off x="2567160" y="1249200"/>
            <a:ext cx="1193760" cy="487440"/>
            <a:chOff x="2567160" y="1249200"/>
            <a:chExt cx="1193760" cy="487440"/>
          </a:xfrm>
        </p:grpSpPr>
        <p:pic>
          <p:nvPicPr>
            <p:cNvPr id="510" name="TextBox 10" descr=""/>
            <p:cNvPicPr/>
            <p:nvPr/>
          </p:nvPicPr>
          <p:blipFill>
            <a:blip r:embed="rId3"/>
            <a:stretch/>
          </p:blipFill>
          <p:spPr>
            <a:xfrm>
              <a:off x="2567160" y="1249200"/>
              <a:ext cx="11937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11"/>
            <p:cNvSpPr/>
            <p:nvPr/>
          </p:nvSpPr>
          <p:spPr>
            <a:xfrm>
              <a:off x="2646360" y="130500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1 клас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2" name="TextBox 11"/>
          <p:cNvGrpSpPr/>
          <p:nvPr/>
        </p:nvGrpSpPr>
        <p:grpSpPr>
          <a:xfrm>
            <a:off x="3846600" y="1255680"/>
            <a:ext cx="1395360" cy="622440"/>
            <a:chOff x="3846600" y="1255680"/>
            <a:chExt cx="1395360" cy="622440"/>
          </a:xfrm>
        </p:grpSpPr>
        <p:pic>
          <p:nvPicPr>
            <p:cNvPr id="513" name="TextBox 11" descr=""/>
            <p:cNvPicPr/>
            <p:nvPr/>
          </p:nvPicPr>
          <p:blipFill>
            <a:blip r:embed="rId4"/>
            <a:stretch/>
          </p:blipFill>
          <p:spPr>
            <a:xfrm>
              <a:off x="3846600" y="1255680"/>
              <a:ext cx="13953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3930480" y="131436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TextBox 13"/>
          <p:cNvGrpSpPr/>
          <p:nvPr/>
        </p:nvGrpSpPr>
        <p:grpSpPr>
          <a:xfrm>
            <a:off x="3846600" y="1736640"/>
            <a:ext cx="1395360" cy="615960"/>
            <a:chOff x="3846600" y="1736640"/>
            <a:chExt cx="1395360" cy="615960"/>
          </a:xfrm>
        </p:grpSpPr>
        <p:pic>
          <p:nvPicPr>
            <p:cNvPr id="516" name="TextBox 13" descr=""/>
            <p:cNvPicPr/>
            <p:nvPr/>
          </p:nvPicPr>
          <p:blipFill>
            <a:blip r:embed="rId5"/>
            <a:stretch/>
          </p:blipFill>
          <p:spPr>
            <a:xfrm>
              <a:off x="3846600" y="1736640"/>
              <a:ext cx="13953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3930480" y="179064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TextBox 14"/>
          <p:cNvGrpSpPr/>
          <p:nvPr/>
        </p:nvGrpSpPr>
        <p:grpSpPr>
          <a:xfrm>
            <a:off x="3846600" y="2236680"/>
            <a:ext cx="1395360" cy="622440"/>
            <a:chOff x="3846600" y="2236680"/>
            <a:chExt cx="1395360" cy="622440"/>
          </a:xfrm>
        </p:grpSpPr>
        <p:pic>
          <p:nvPicPr>
            <p:cNvPr id="519" name="TextBox 14" descr=""/>
            <p:cNvPicPr/>
            <p:nvPr/>
          </p:nvPicPr>
          <p:blipFill>
            <a:blip r:embed="rId6"/>
            <a:stretch/>
          </p:blipFill>
          <p:spPr>
            <a:xfrm>
              <a:off x="3846600" y="2236680"/>
              <a:ext cx="13953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3930480" y="229392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TextBox 15"/>
          <p:cNvGrpSpPr/>
          <p:nvPr/>
        </p:nvGrpSpPr>
        <p:grpSpPr>
          <a:xfrm>
            <a:off x="3846600" y="2743200"/>
            <a:ext cx="1395360" cy="622440"/>
            <a:chOff x="3846600" y="2743200"/>
            <a:chExt cx="1395360" cy="622440"/>
          </a:xfrm>
        </p:grpSpPr>
        <p:pic>
          <p:nvPicPr>
            <p:cNvPr id="522" name="TextBox 15" descr=""/>
            <p:cNvPicPr/>
            <p:nvPr/>
          </p:nvPicPr>
          <p:blipFill>
            <a:blip r:embed="rId7"/>
            <a:stretch/>
          </p:blipFill>
          <p:spPr>
            <a:xfrm>
              <a:off x="3846600" y="2743200"/>
              <a:ext cx="13953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930480" y="279864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TextBox 16"/>
          <p:cNvGrpSpPr/>
          <p:nvPr/>
        </p:nvGrpSpPr>
        <p:grpSpPr>
          <a:xfrm>
            <a:off x="3846600" y="3224160"/>
            <a:ext cx="1390680" cy="615960"/>
            <a:chOff x="3846600" y="3224160"/>
            <a:chExt cx="1390680" cy="615960"/>
          </a:xfrm>
        </p:grpSpPr>
        <p:pic>
          <p:nvPicPr>
            <p:cNvPr id="525" name="TextBox 16" descr=""/>
            <p:cNvPicPr/>
            <p:nvPr/>
          </p:nvPicPr>
          <p:blipFill>
            <a:blip r:embed="rId8"/>
            <a:stretch/>
          </p:blipFill>
          <p:spPr>
            <a:xfrm>
              <a:off x="3846600" y="3224160"/>
              <a:ext cx="13906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3929040" y="327816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TextBox 18"/>
          <p:cNvGrpSpPr/>
          <p:nvPr/>
        </p:nvGrpSpPr>
        <p:grpSpPr>
          <a:xfrm>
            <a:off x="3846600" y="3749760"/>
            <a:ext cx="1395360" cy="620640"/>
            <a:chOff x="3846600" y="3749760"/>
            <a:chExt cx="1395360" cy="620640"/>
          </a:xfrm>
        </p:grpSpPr>
        <p:pic>
          <p:nvPicPr>
            <p:cNvPr id="528" name="TextBox 18" descr=""/>
            <p:cNvPicPr/>
            <p:nvPr/>
          </p:nvPicPr>
          <p:blipFill>
            <a:blip r:embed="rId9"/>
            <a:stretch/>
          </p:blipFill>
          <p:spPr>
            <a:xfrm>
              <a:off x="3846600" y="3749760"/>
              <a:ext cx="139536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930480" y="380700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0" name="TextBox 20"/>
          <p:cNvGrpSpPr/>
          <p:nvPr/>
        </p:nvGrpSpPr>
        <p:grpSpPr>
          <a:xfrm>
            <a:off x="5508720" y="1736640"/>
            <a:ext cx="1079280" cy="482760"/>
            <a:chOff x="5508720" y="1736640"/>
            <a:chExt cx="1079280" cy="482760"/>
          </a:xfrm>
        </p:grpSpPr>
        <p:pic>
          <p:nvPicPr>
            <p:cNvPr id="531" name="TextBox 20" descr=""/>
            <p:cNvPicPr/>
            <p:nvPr/>
          </p:nvPicPr>
          <p:blipFill>
            <a:blip r:embed="rId10"/>
            <a:stretch/>
          </p:blipFill>
          <p:spPr>
            <a:xfrm>
              <a:off x="5508720" y="1736640"/>
              <a:ext cx="10792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Text Box 32"/>
            <p:cNvSpPr/>
            <p:nvPr/>
          </p:nvSpPr>
          <p:spPr>
            <a:xfrm>
              <a:off x="5578920" y="1789200"/>
              <a:ext cx="94428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1 клас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3" name="TextBox 22"/>
          <p:cNvGrpSpPr/>
          <p:nvPr/>
        </p:nvGrpSpPr>
        <p:grpSpPr>
          <a:xfrm>
            <a:off x="334800" y="2730600"/>
            <a:ext cx="1195560" cy="482400"/>
            <a:chOff x="334800" y="2730600"/>
            <a:chExt cx="1195560" cy="482400"/>
          </a:xfrm>
        </p:grpSpPr>
        <p:pic>
          <p:nvPicPr>
            <p:cNvPr id="534" name="TextBox 22" descr=""/>
            <p:cNvPicPr/>
            <p:nvPr/>
          </p:nvPicPr>
          <p:blipFill>
            <a:blip r:embed="rId11"/>
            <a:stretch/>
          </p:blipFill>
          <p:spPr>
            <a:xfrm>
              <a:off x="334800" y="2730600"/>
              <a:ext cx="119556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Text Box 35"/>
            <p:cNvSpPr/>
            <p:nvPr/>
          </p:nvSpPr>
          <p:spPr>
            <a:xfrm>
              <a:off x="414360" y="278460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10 клас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6" name="TextBox 23"/>
          <p:cNvGrpSpPr/>
          <p:nvPr/>
        </p:nvGrpSpPr>
        <p:grpSpPr>
          <a:xfrm>
            <a:off x="7753320" y="6199200"/>
            <a:ext cx="1195560" cy="487440"/>
            <a:chOff x="7753320" y="6199200"/>
            <a:chExt cx="1195560" cy="487440"/>
          </a:xfrm>
        </p:grpSpPr>
        <p:pic>
          <p:nvPicPr>
            <p:cNvPr id="537" name="TextBox 23" descr=""/>
            <p:cNvPicPr/>
            <p:nvPr/>
          </p:nvPicPr>
          <p:blipFill>
            <a:blip r:embed="rId12"/>
            <a:stretch/>
          </p:blipFill>
          <p:spPr>
            <a:xfrm>
              <a:off x="7753320" y="6199200"/>
              <a:ext cx="11955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38"/>
            <p:cNvSpPr/>
            <p:nvPr/>
          </p:nvSpPr>
          <p:spPr>
            <a:xfrm>
              <a:off x="7831080" y="625644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10 клас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TextBox 25"/>
          <p:cNvGrpSpPr/>
          <p:nvPr/>
        </p:nvGrpSpPr>
        <p:grpSpPr>
          <a:xfrm>
            <a:off x="6553080" y="3800520"/>
            <a:ext cx="1193760" cy="480960"/>
            <a:chOff x="6553080" y="3800520"/>
            <a:chExt cx="1193760" cy="480960"/>
          </a:xfrm>
        </p:grpSpPr>
        <p:pic>
          <p:nvPicPr>
            <p:cNvPr id="540" name="TextBox 25" descr=""/>
            <p:cNvPicPr/>
            <p:nvPr/>
          </p:nvPicPr>
          <p:blipFill>
            <a:blip r:embed="rId13"/>
            <a:stretch/>
          </p:blipFill>
          <p:spPr>
            <a:xfrm>
              <a:off x="6553080" y="3800520"/>
              <a:ext cx="11937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 Box 41"/>
            <p:cNvSpPr/>
            <p:nvPr/>
          </p:nvSpPr>
          <p:spPr>
            <a:xfrm>
              <a:off x="6630840" y="385272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5</a:t>
              </a:r>
              <a:r>
                <a:rPr b="1" lang="ru-RU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клас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TextBox 27"/>
          <p:cNvGrpSpPr/>
          <p:nvPr/>
        </p:nvGrpSpPr>
        <p:grpSpPr>
          <a:xfrm>
            <a:off x="1487520" y="2236680"/>
            <a:ext cx="1195200" cy="487440"/>
            <a:chOff x="1487520" y="2236680"/>
            <a:chExt cx="1195200" cy="487440"/>
          </a:xfrm>
        </p:grpSpPr>
        <p:pic>
          <p:nvPicPr>
            <p:cNvPr id="543" name="TextBox 27" descr=""/>
            <p:cNvPicPr/>
            <p:nvPr/>
          </p:nvPicPr>
          <p:blipFill>
            <a:blip r:embed="rId14"/>
            <a:stretch/>
          </p:blipFill>
          <p:spPr>
            <a:xfrm>
              <a:off x="1487520" y="2236680"/>
              <a:ext cx="11952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44"/>
            <p:cNvSpPr/>
            <p:nvPr/>
          </p:nvSpPr>
          <p:spPr>
            <a:xfrm>
              <a:off x="1565280" y="2293920"/>
              <a:ext cx="10447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5 клас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TextBox 28"/>
          <p:cNvGrpSpPr/>
          <p:nvPr/>
        </p:nvGrpSpPr>
        <p:grpSpPr>
          <a:xfrm>
            <a:off x="3846600" y="4254480"/>
            <a:ext cx="1395360" cy="622440"/>
            <a:chOff x="3846600" y="4254480"/>
            <a:chExt cx="1395360" cy="622440"/>
          </a:xfrm>
        </p:grpSpPr>
        <p:pic>
          <p:nvPicPr>
            <p:cNvPr id="546" name="TextBox 28" descr=""/>
            <p:cNvPicPr/>
            <p:nvPr/>
          </p:nvPicPr>
          <p:blipFill>
            <a:blip r:embed="rId15"/>
            <a:stretch/>
          </p:blipFill>
          <p:spPr>
            <a:xfrm>
              <a:off x="3846600" y="4254480"/>
              <a:ext cx="13953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3930480" y="430992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TextBox 29"/>
          <p:cNvGrpSpPr/>
          <p:nvPr/>
        </p:nvGrpSpPr>
        <p:grpSpPr>
          <a:xfrm>
            <a:off x="3846600" y="4761000"/>
            <a:ext cx="1395360" cy="615960"/>
            <a:chOff x="3846600" y="4761000"/>
            <a:chExt cx="1395360" cy="615960"/>
          </a:xfrm>
        </p:grpSpPr>
        <p:pic>
          <p:nvPicPr>
            <p:cNvPr id="549" name="TextBox 29" descr=""/>
            <p:cNvPicPr/>
            <p:nvPr/>
          </p:nvPicPr>
          <p:blipFill>
            <a:blip r:embed="rId16"/>
            <a:stretch/>
          </p:blipFill>
          <p:spPr>
            <a:xfrm>
              <a:off x="3846600" y="4761000"/>
              <a:ext cx="13953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3930480" y="481500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TextBox 30"/>
          <p:cNvGrpSpPr/>
          <p:nvPr/>
        </p:nvGrpSpPr>
        <p:grpSpPr>
          <a:xfrm>
            <a:off x="3846600" y="5261040"/>
            <a:ext cx="1395360" cy="622080"/>
            <a:chOff x="3846600" y="5261040"/>
            <a:chExt cx="1395360" cy="622080"/>
          </a:xfrm>
        </p:grpSpPr>
        <p:pic>
          <p:nvPicPr>
            <p:cNvPr id="552" name="TextBox 30" descr=""/>
            <p:cNvPicPr/>
            <p:nvPr/>
          </p:nvPicPr>
          <p:blipFill>
            <a:blip r:embed="rId17"/>
            <a:stretch/>
          </p:blipFill>
          <p:spPr>
            <a:xfrm>
              <a:off x="3846600" y="5261040"/>
              <a:ext cx="139536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3930480" y="531828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TextBox 31"/>
          <p:cNvGrpSpPr/>
          <p:nvPr/>
        </p:nvGrpSpPr>
        <p:grpSpPr>
          <a:xfrm>
            <a:off x="3846600" y="5767560"/>
            <a:ext cx="1395360" cy="620640"/>
            <a:chOff x="3846600" y="5767560"/>
            <a:chExt cx="1395360" cy="620640"/>
          </a:xfrm>
        </p:grpSpPr>
        <p:pic>
          <p:nvPicPr>
            <p:cNvPr id="555" name="TextBox 31" descr=""/>
            <p:cNvPicPr/>
            <p:nvPr/>
          </p:nvPicPr>
          <p:blipFill>
            <a:blip r:embed="rId18"/>
            <a:stretch/>
          </p:blipFill>
          <p:spPr>
            <a:xfrm>
              <a:off x="3846600" y="5767560"/>
              <a:ext cx="139536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3930480" y="582300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7" name="TextBox 32"/>
          <p:cNvGrpSpPr/>
          <p:nvPr/>
        </p:nvGrpSpPr>
        <p:grpSpPr>
          <a:xfrm>
            <a:off x="3846600" y="6272280"/>
            <a:ext cx="1395360" cy="615960"/>
            <a:chOff x="3846600" y="6272280"/>
            <a:chExt cx="1395360" cy="615960"/>
          </a:xfrm>
        </p:grpSpPr>
        <p:pic>
          <p:nvPicPr>
            <p:cNvPr id="558" name="TextBox 32" descr=""/>
            <p:cNvPicPr/>
            <p:nvPr/>
          </p:nvPicPr>
          <p:blipFill>
            <a:blip r:embed="rId19"/>
            <a:stretch/>
          </p:blipFill>
          <p:spPr>
            <a:xfrm>
              <a:off x="3846600" y="6272280"/>
              <a:ext cx="13953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3930480" y="632628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0" name="Стрелка вниз 33"/>
          <p:cNvGrpSpPr/>
          <p:nvPr/>
        </p:nvGrpSpPr>
        <p:grpSpPr>
          <a:xfrm>
            <a:off x="2657520" y="1755720"/>
            <a:ext cx="1019160" cy="4584600"/>
            <a:chOff x="2657520" y="1755720"/>
            <a:chExt cx="1019160" cy="4584600"/>
          </a:xfrm>
        </p:grpSpPr>
        <p:pic>
          <p:nvPicPr>
            <p:cNvPr id="561" name="Стрелка вниз 33" descr=""/>
            <p:cNvPicPr/>
            <p:nvPr/>
          </p:nvPicPr>
          <p:blipFill>
            <a:blip r:embed="rId20"/>
            <a:stretch/>
          </p:blipFill>
          <p:spPr>
            <a:xfrm>
              <a:off x="2657520" y="1755720"/>
              <a:ext cx="1019160" cy="45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2933640" y="1773360"/>
              <a:ext cx="468360" cy="42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Стрелка вниз 34"/>
          <p:cNvGrpSpPr/>
          <p:nvPr/>
        </p:nvGrpSpPr>
        <p:grpSpPr>
          <a:xfrm>
            <a:off x="1579680" y="2762280"/>
            <a:ext cx="1017360" cy="3583080"/>
            <a:chOff x="1579680" y="2762280"/>
            <a:chExt cx="1017360" cy="3583080"/>
          </a:xfrm>
        </p:grpSpPr>
        <p:pic>
          <p:nvPicPr>
            <p:cNvPr id="564" name="Стрелка вниз 34" descr=""/>
            <p:cNvPicPr/>
            <p:nvPr/>
          </p:nvPicPr>
          <p:blipFill>
            <a:blip r:embed="rId21"/>
            <a:stretch/>
          </p:blipFill>
          <p:spPr>
            <a:xfrm>
              <a:off x="1579680" y="2762280"/>
              <a:ext cx="1017360" cy="35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1854360" y="2781360"/>
              <a:ext cx="468000" cy="32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6" name="Стрелка вниз 35"/>
          <p:cNvGrpSpPr/>
          <p:nvPr/>
        </p:nvGrpSpPr>
        <p:grpSpPr>
          <a:xfrm>
            <a:off x="426960" y="3267000"/>
            <a:ext cx="1017720" cy="3090960"/>
            <a:chOff x="426960" y="3267000"/>
            <a:chExt cx="1017720" cy="3090960"/>
          </a:xfrm>
        </p:grpSpPr>
        <p:pic>
          <p:nvPicPr>
            <p:cNvPr id="567" name="Стрелка вниз 35" descr=""/>
            <p:cNvPicPr/>
            <p:nvPr/>
          </p:nvPicPr>
          <p:blipFill>
            <a:blip r:embed="rId22"/>
            <a:stretch/>
          </p:blipFill>
          <p:spPr>
            <a:xfrm>
              <a:off x="426960" y="3267000"/>
              <a:ext cx="1017720" cy="30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703440" y="3284640"/>
              <a:ext cx="466560" cy="27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Стрелка вниз 36"/>
          <p:cNvGrpSpPr/>
          <p:nvPr/>
        </p:nvGrpSpPr>
        <p:grpSpPr>
          <a:xfrm>
            <a:off x="5394240" y="2262240"/>
            <a:ext cx="1019160" cy="4151160"/>
            <a:chOff x="5394240" y="2262240"/>
            <a:chExt cx="1019160" cy="4151160"/>
          </a:xfrm>
        </p:grpSpPr>
        <p:pic>
          <p:nvPicPr>
            <p:cNvPr id="570" name="Стрелка вниз 36" descr=""/>
            <p:cNvPicPr/>
            <p:nvPr/>
          </p:nvPicPr>
          <p:blipFill>
            <a:blip r:embed="rId23"/>
            <a:stretch/>
          </p:blipFill>
          <p:spPr>
            <a:xfrm>
              <a:off x="5394240" y="2262240"/>
              <a:ext cx="101916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5670720" y="2276640"/>
              <a:ext cx="468000" cy="38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Стрелка вниз 37"/>
          <p:cNvGrpSpPr/>
          <p:nvPr/>
        </p:nvGrpSpPr>
        <p:grpSpPr>
          <a:xfrm>
            <a:off x="6620040" y="4273560"/>
            <a:ext cx="1019160" cy="2139840"/>
            <a:chOff x="6620040" y="4273560"/>
            <a:chExt cx="1019160" cy="2139840"/>
          </a:xfrm>
        </p:grpSpPr>
        <p:pic>
          <p:nvPicPr>
            <p:cNvPr id="573" name="Стрелка вниз 37" descr=""/>
            <p:cNvPicPr/>
            <p:nvPr/>
          </p:nvPicPr>
          <p:blipFill>
            <a:blip r:embed="rId24"/>
            <a:stretch/>
          </p:blipFill>
          <p:spPr>
            <a:xfrm>
              <a:off x="6620040" y="4273560"/>
              <a:ext cx="101916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6894360" y="4292640"/>
              <a:ext cx="46836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5" name="Блок-схема: альтернативный процесс 38"/>
          <p:cNvSpPr/>
          <p:nvPr/>
        </p:nvSpPr>
        <p:spPr>
          <a:xfrm>
            <a:off x="252360" y="1341360"/>
            <a:ext cx="2087640" cy="863640"/>
          </a:xfrm>
          <a:prstGeom prst="flowChartAlternateProcess">
            <a:avLst/>
          </a:prstGeom>
          <a:gradFill rotWithShape="0">
            <a:gsLst>
              <a:gs pos="0">
                <a:srgbClr val="96a5de"/>
              </a:gs>
              <a:gs pos="100000">
                <a:srgbClr val="e4e7f5"/>
              </a:gs>
            </a:gsLst>
            <a:lin ang="16200000"/>
          </a:gradFill>
          <a:ln w="9360">
            <a:solidFill>
              <a:srgbClr val="566aa3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ведение ФГОС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 мере готов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Блок-схема: альтернативный процесс 39"/>
          <p:cNvSpPr/>
          <p:nvPr/>
        </p:nvSpPr>
        <p:spPr>
          <a:xfrm>
            <a:off x="6732720" y="1341360"/>
            <a:ext cx="2087280" cy="863640"/>
          </a:xfrm>
          <a:prstGeom prst="flowChartAlternateProcess">
            <a:avLst/>
          </a:prstGeom>
          <a:gradFill rotWithShape="0">
            <a:gsLst>
              <a:gs pos="0">
                <a:srgbClr val="96a5de"/>
              </a:gs>
              <a:gs pos="100000">
                <a:srgbClr val="e4e7f5"/>
              </a:gs>
            </a:gsLst>
            <a:lin ang="16200000"/>
          </a:gradFill>
          <a:ln w="9360">
            <a:solidFill>
              <a:srgbClr val="566aa3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язательное введ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ФГ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77"/>
          <p:cNvSpPr/>
          <p:nvPr/>
        </p:nvSpPr>
        <p:spPr>
          <a:xfrm>
            <a:off x="179280" y="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Rectangle 2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534520" cy="125568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1.</a:t>
            </a:r>
            <a:r>
              <a:rPr b="1" i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рганизация и проведение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убличных отчетов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бразовательного учрежден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2.</a:t>
            </a:r>
            <a:r>
              <a:rPr b="1" i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спользование информационных ресурсов образовательного учреждения (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сайт, Интернет-страничка, выставки, презентации и т.д.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ffc000"/>
                </a:solidFill>
                <a:latin typeface="Cambria"/>
              </a:rPr>
              <a:t>Стандарт – важнейший нормативно-правовой акт, устанавливающий от имени РФ определённую совокупность наиболее общих норм и правил, регулирующих деятельность системы общего среднего образования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5000760" y="214200"/>
            <a:ext cx="2857320" cy="7858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C:\Documents and Settings\gavrish\Мои документы\Мои рисунки\iCAW25KVN.jpg"/>
          <p:cNvPicPr/>
          <p:nvPr/>
        </p:nvPicPr>
        <p:blipFill>
          <a:blip r:embed="rId2"/>
          <a:stretch/>
        </p:blipFill>
        <p:spPr>
          <a:xfrm>
            <a:off x="6143760" y="4643280"/>
            <a:ext cx="1433520" cy="1962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C:\Documents and Settings\gavrish\Мои документы\Мои рисунки\председатель правительства.jpg"/>
          <p:cNvPicPr/>
          <p:nvPr/>
        </p:nvPicPr>
        <p:blipFill>
          <a:blip r:embed="rId3"/>
          <a:stretch/>
        </p:blipFill>
        <p:spPr>
          <a:xfrm>
            <a:off x="285840" y="142920"/>
            <a:ext cx="1355760" cy="155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Rectangle 2" descr=""/>
          <p:cNvPicPr/>
          <p:nvPr/>
        </p:nvPicPr>
        <p:blipFill>
          <a:blip r:embed="rId1"/>
          <a:stretch/>
        </p:blipFill>
        <p:spPr>
          <a:xfrm>
            <a:off x="298440" y="12600"/>
            <a:ext cx="8534520" cy="179712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1.</a:t>
            </a:r>
            <a:r>
              <a:rPr b="1" i="1" lang="ru-RU" sz="3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Обеспечение доступа педагогов и обучающихся к 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электронным образовательным ресурсам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2.</a:t>
            </a:r>
            <a:r>
              <a:rPr b="1" i="1" lang="ru-RU" sz="3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Разработка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локальных актов, устанавливающих требования к объектам инфраструктуры (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положения о культурно-досуговом центре, информационно-библиотечном центре, физкультурно-оздоровительном центре, об учебном кабинете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и др.)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394840" cy="136044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3.</a:t>
            </a:r>
            <a:r>
              <a:rPr b="1" i="1" lang="ru-RU" sz="3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Обеспечение учебниками и учебно-методической литературой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в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соответствии с утвержденным федеральным перечнем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4.</a:t>
            </a:r>
            <a:r>
              <a:rPr b="1" i="1" lang="ru-RU" sz="3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Комплектование в библиотеке достаточного 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фонда дополнительной литературы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(художественной, научно-популярной), справочно-библиографических и периодических изданий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Заголовок 2" descr=""/>
          <p:cNvPicPr/>
          <p:nvPr/>
        </p:nvPicPr>
        <p:blipFill>
          <a:blip r:embed="rId1"/>
          <a:stretch/>
        </p:blipFill>
        <p:spPr>
          <a:xfrm>
            <a:off x="73080" y="212760"/>
            <a:ext cx="8845560" cy="214632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275256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не должна стать делом отдельных учителей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в ней должен принять участие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ambria"/>
              </a:rPr>
              <a:t>весь педагогический коллектив ОУ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-36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Rockwell"/>
              </a:rPr>
              <a:t>C</a:t>
            </a:r>
            <a:r>
              <a:rPr b="1" lang="ru-RU" sz="3200" spc="-1" strike="noStrike">
                <a:solidFill>
                  <a:srgbClr val="cc3300"/>
                </a:solidFill>
                <a:latin typeface="Cambria"/>
              </a:rPr>
              <a:t>ПАСИБО ЗА ВНИМАНИЕ!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Cambria"/>
              </a:rPr>
              <a:t>Успехов в реализации ФГОС!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3184-73D3-46F5-B408-551FE2815E61}" type="slidenum">
              <a:rPr b="0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1EC8-104A-4C95-B1F6-4EFE0234FC44}" type="slidenum">
              <a:rPr b="0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A2F8-9FFB-4F9E-BBA7-C05906D48CEC}" type="slidenum">
              <a:rPr b="0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18"/>
          <p:cNvGrpSpPr/>
          <p:nvPr/>
        </p:nvGrpSpPr>
        <p:grpSpPr>
          <a:xfrm>
            <a:off x="395280" y="260280"/>
            <a:ext cx="8569080" cy="5689440"/>
            <a:chOff x="395280" y="260280"/>
            <a:chExt cx="8569080" cy="5689440"/>
          </a:xfrm>
        </p:grpSpPr>
        <p:sp>
          <p:nvSpPr>
            <p:cNvPr id="418" name="AutoShape 27"/>
            <p:cNvSpPr/>
            <p:nvPr/>
          </p:nvSpPr>
          <p:spPr>
            <a:xfrm rot="5400000">
              <a:off x="4384800" y="4276080"/>
              <a:ext cx="447120" cy="504720"/>
            </a:xfrm>
            <a:custGeom>
              <a:avLst/>
              <a:gdLst>
                <a:gd name="textAreaLeft" fmla="*/ 69120 w 447120"/>
                <a:gd name="textAreaRight" fmla="*/ 391320 w 44712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AutoShape 5"/>
            <p:cNvSpPr/>
            <p:nvPr/>
          </p:nvSpPr>
          <p:spPr>
            <a:xfrm>
              <a:off x="3419280" y="2880720"/>
              <a:ext cx="2376360" cy="1348200"/>
            </a:xfrm>
            <a:prstGeom prst="roundRect">
              <a:avLst>
                <a:gd name="adj" fmla="val 16667"/>
              </a:avLst>
            </a:prstGeom>
            <a:solidFill>
              <a:srgbClr val="0033cc">
                <a:alpha val="49000"/>
              </a:srgbClr>
            </a:solidFill>
            <a:ln w="0">
              <a:noFill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овая це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бразова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AutoShape 7"/>
            <p:cNvSpPr/>
            <p:nvPr/>
          </p:nvSpPr>
          <p:spPr>
            <a:xfrm>
              <a:off x="6011640" y="1159560"/>
              <a:ext cx="2952720" cy="2243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Новые технолог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AutoShape 8"/>
            <p:cNvSpPr/>
            <p:nvPr/>
          </p:nvSpPr>
          <p:spPr>
            <a:xfrm>
              <a:off x="395280" y="1083600"/>
              <a:ext cx="2877840" cy="23198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Общественный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договор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AutoShape 9"/>
            <p:cNvSpPr/>
            <p:nvPr/>
          </p:nvSpPr>
          <p:spPr>
            <a:xfrm>
              <a:off x="682560" y="1683000"/>
              <a:ext cx="2593800" cy="172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>
                    <a:alpha val="50196"/>
                  </a:srgbClr>
                </a:gs>
                <a:gs pos="100000">
                  <a:srgbClr val="f66200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вы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бразовательны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запросы семь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бщества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и государст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AutoShape 10"/>
            <p:cNvSpPr/>
            <p:nvPr/>
          </p:nvSpPr>
          <p:spPr>
            <a:xfrm>
              <a:off x="6298920" y="1683000"/>
              <a:ext cx="2665440" cy="172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>
                    <a:alpha val="50196"/>
                  </a:srgbClr>
                </a:gs>
                <a:gs pos="100000">
                  <a:srgbClr val="d95700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Широкое внедрен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ИКТ-технолог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во все сферы жизн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AutoShape 17"/>
            <p:cNvSpPr/>
            <p:nvPr/>
          </p:nvSpPr>
          <p:spPr>
            <a:xfrm rot="1534800">
              <a:off x="2411280" y="3553560"/>
              <a:ext cx="976320" cy="50508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7080 h 505080"/>
                <a:gd name="textAreaBottom" fmla="*/ 37980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AutoShape 23"/>
            <p:cNvSpPr/>
            <p:nvPr/>
          </p:nvSpPr>
          <p:spPr>
            <a:xfrm rot="9180000">
              <a:off x="5795280" y="3553560"/>
              <a:ext cx="976320" cy="50508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7080 h 505080"/>
                <a:gd name="textAreaBottom" fmla="*/ 37980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AutoShape 26"/>
            <p:cNvSpPr/>
            <p:nvPr/>
          </p:nvSpPr>
          <p:spPr>
            <a:xfrm>
              <a:off x="3490920" y="260280"/>
              <a:ext cx="2232000" cy="12722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Проблемы Росс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Стратег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20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466560" y="4826160"/>
              <a:ext cx="8137440" cy="1123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Воспитание, социально-педагогическая поддержка становления 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развития высоконравственного, ответственного, творческого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инициативного, компетентного гражданина Росс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AutoShape 27"/>
            <p:cNvSpPr/>
            <p:nvPr/>
          </p:nvSpPr>
          <p:spPr>
            <a:xfrm rot="5400000">
              <a:off x="4268160" y="1842120"/>
              <a:ext cx="747360" cy="576360"/>
            </a:xfrm>
            <a:custGeom>
              <a:avLst/>
              <a:gdLst>
                <a:gd name="textAreaLeft" fmla="*/ 117000 w 747360"/>
                <a:gd name="textAreaRight" fmla="*/ 653400 w 747360"/>
                <a:gd name="textAreaTop" fmla="*/ 144360 h 576360"/>
                <a:gd name="textAreaBottom" fmla="*/ 4320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Rectangle 19"/>
          <p:cNvSpPr/>
          <p:nvPr/>
        </p:nvSpPr>
        <p:spPr>
          <a:xfrm>
            <a:off x="4572000" y="1557360"/>
            <a:ext cx="184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76040" y="79200"/>
            <a:ext cx="8607600" cy="1725840"/>
          </a:xfrm>
          <a:prstGeom prst="rect">
            <a:avLst/>
          </a:prstGeom>
          <a:ln w="0">
            <a:noFill/>
          </a:ln>
        </p:spPr>
      </p:pic>
      <p:sp>
        <p:nvSpPr>
          <p:cNvPr id="431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6C22-455C-4382-B15B-6AAA2EA8F4E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_s1030"/>
          <p:cNvSpPr/>
          <p:nvPr/>
        </p:nvSpPr>
        <p:spPr>
          <a:xfrm>
            <a:off x="2556000" y="4653000"/>
            <a:ext cx="4317840" cy="19080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_s1032"/>
          <p:cNvSpPr/>
          <p:nvPr/>
        </p:nvSpPr>
        <p:spPr>
          <a:xfrm>
            <a:off x="5219640" y="1989000"/>
            <a:ext cx="3924360" cy="1835280"/>
          </a:xfrm>
          <a:prstGeom prst="ellipse">
            <a:avLst/>
          </a:prstGeom>
          <a:solidFill>
            <a:srgbClr val="ecde78">
              <a:alpha val="50000"/>
            </a:srgbClr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_s1028"/>
          <p:cNvSpPr/>
          <p:nvPr/>
        </p:nvSpPr>
        <p:spPr>
          <a:xfrm>
            <a:off x="0" y="3141720"/>
            <a:ext cx="3780000" cy="1798560"/>
          </a:xfrm>
          <a:prstGeom prst="ellipse">
            <a:avLst/>
          </a:prstGeom>
          <a:solidFill>
            <a:srgbClr val="cc99ff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179280" y="2997360"/>
            <a:ext cx="3637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081e"/>
                </a:solidFill>
                <a:latin typeface="Arial"/>
                <a:ea typeface="Arial"/>
              </a:rPr>
              <a:t>СЕМ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Личностная успеш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Социальная успеш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Профессиона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успеш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5364000" y="1916280"/>
            <a:ext cx="3780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081e"/>
                </a:solidFill>
                <a:latin typeface="Arial"/>
                <a:ea typeface="Arial"/>
              </a:rPr>
              <a:t>ОБЩ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Безопасность и здоров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Свобода и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Социальная справедлив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Благососто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9"/>
          <p:cNvSpPr/>
          <p:nvPr/>
        </p:nvSpPr>
        <p:spPr>
          <a:xfrm>
            <a:off x="2627280" y="4365720"/>
            <a:ext cx="42847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081e"/>
                </a:solidFill>
                <a:latin typeface="Arial"/>
                <a:ea typeface="Arial"/>
              </a:rPr>
              <a:t>ГОСУДАР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Национальное един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Безопас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Развитие человеческого потенци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Конкурентоспособ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1512720" cy="273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8718480" cy="11160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1320" y="1928880"/>
            <a:ext cx="850428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утвержден и введен в действи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 1 января 2010 года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казом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инобрнауки России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т 6 октября 2009 года № 373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1" name="Рисунок 1" descr="C:\Documents and Settings\IAntonova\Рабочий стол\Обложки Стандарты\federal_gos_obraz_stand.jpg"/>
          <p:cNvPicPr/>
          <p:nvPr/>
        </p:nvPicPr>
        <p:blipFill>
          <a:blip r:embed="rId2"/>
          <a:stretch/>
        </p:blipFill>
        <p:spPr>
          <a:xfrm>
            <a:off x="7572240" y="4786200"/>
            <a:ext cx="1332000" cy="184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информационные</a:t>
            </a:r>
            <a:r>
              <a:rPr b="0" lang="ru-RU" sz="2000" spc="-1" strike="noStrike">
                <a:solidFill>
                  <a:srgbClr val="cc33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– ознакомление педагогической общественности с основными тенденциями развития современного образования, ключевыми задачами и новыми результатами образования;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научно-методические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– обеспечение подготовки педагогических работников к реализации ФГОС второго поколения через освоение идеологии нового стандарта, структуры и содержания основных документов, новой системы требований к оценке результатов образовательной деятельности учащихся, принятие современных педагогических стратегий обучения детей;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педагогические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– повышение квалификации и переподготовка учителей начальных классов, обеспечение их готовности к эффективной профессиональной деятельности в условиях реализации ФГОС второго поколения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организационные</a:t>
            </a:r>
            <a:r>
              <a:rPr b="0" lang="ru-RU" sz="2000" spc="-1" strike="noStrike">
                <a:solidFill>
                  <a:srgbClr val="cc33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– создание на региональном уровне инструктивно-методических рекомендации по введению ФГОС второго поколения в Московской области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3" descr=""/>
          <p:cNvPicPr/>
          <p:nvPr/>
        </p:nvPicPr>
        <p:blipFill>
          <a:blip r:embed="rId1"/>
          <a:stretch/>
        </p:blipFill>
        <p:spPr>
          <a:xfrm>
            <a:off x="212760" y="139680"/>
            <a:ext cx="8791560" cy="1116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В</a:t>
            </a:r>
            <a:r>
              <a:rPr b="1" lang="cs-CZ" sz="3200" spc="-1" strike="noStrike">
                <a:solidFill>
                  <a:srgbClr val="ffffff"/>
                </a:solidFill>
                <a:latin typeface="Rockwell"/>
              </a:rPr>
              <a:t>ажнейший нормативный правовой акт Российской Федерации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устанавливающий систему норм и правил, обязательных для исполнения в любом образовательном учреждении, реализующем основные образовательные программы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6" name="Рисунок 1" descr="C:\Documents and Settings\IAntonova\Рабочий стол\Обложки Стандарты\federal_gos_obraz_stand.jpg"/>
          <p:cNvPicPr/>
          <p:nvPr/>
        </p:nvPicPr>
        <p:blipFill>
          <a:blip r:embed="rId2"/>
          <a:stretch/>
        </p:blipFill>
        <p:spPr>
          <a:xfrm>
            <a:off x="357120" y="4714920"/>
            <a:ext cx="1332000" cy="184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534520" cy="18651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323640" y="2060640"/>
            <a:ext cx="85122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тандарты могут разрабатываться по образовательным уровням, ступеням образования, профессиям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правлениям подготовки, специальностям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инистерство образования и науки РФ обеспечивает разработку проектов стандартов с привлечением: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-  заинтересованных органов исполнительной власти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-  государственно-общественных объединений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- ведущих образовательных и научных учреждений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- представителей научно-педагогических сообществ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6076b4"/>
              </a:buClr>
              <a:buSzPct val="7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бъединений работодателей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6076b4"/>
              </a:buClr>
              <a:buSzPct val="7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ститутов общественного участия в управлении образованием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форматика</cp:lastModifiedBy>
  <dcterms:modified xsi:type="dcterms:W3CDTF">2011-11-15T06:23:43Z</dcterms:modified>
  <cp:revision>84</cp:revision>
  <dc:subject/>
  <dc:title>Актуальные проблемы введения ФГОС</dc:title>
</cp:coreProperties>
</file>