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3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6.jpeg" ContentType="image/jpeg"/>
  <Override PartName="/ppt/media/image60.png" ContentType="image/png"/>
  <Override PartName="/ppt/media/image18.png" ContentType="image/png"/>
  <Override PartName="/ppt/media/image33.png" ContentType="image/png"/>
  <Override PartName="/ppt/media/image52.png" ContentType="image/png"/>
  <Override PartName="/ppt/media/image3.png" ContentType="image/png"/>
  <Override PartName="/ppt/media/image15.png" ContentType="image/png"/>
  <Override PartName="/ppt/media/image48.png" ContentType="image/png"/>
  <Override PartName="/ppt/media/image11.png" ContentType="image/png"/>
  <Override PartName="/ppt/media/image32.png" ContentType="image/png"/>
  <Override PartName="/ppt/media/image2.png" ContentType="image/png"/>
  <Override PartName="/ppt/media/image47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19.png" ContentType="image/png"/>
  <Override PartName="/ppt/media/image61.png" ContentType="image/png"/>
  <Override PartName="/ppt/media/image65.png" ContentType="image/png"/>
  <Override PartName="/ppt/media/image64.png" ContentType="image/png"/>
  <Override PartName="/ppt/media/image66.png" ContentType="image/png"/>
  <Override PartName="/ppt/media/image29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49.png" ContentType="image/png"/>
  <Override PartName="/ppt/media/image12.png" ContentType="image/png"/>
  <Override PartName="/ppt/media/image22.png" ContentType="image/png"/>
  <Override PartName="/ppt/media/image59.png" ContentType="image/png"/>
  <Override PartName="/ppt/media/image24.png" ContentType="image/png"/>
  <Override PartName="/ppt/media/image14.jpeg" ContentType="image/jpeg"/>
  <Override PartName="/ppt/media/image54.png" ContentType="image/png"/>
  <Override PartName="/ppt/media/image23.jpeg" ContentType="image/jpeg"/>
  <Override PartName="/ppt/media/image8.png" ContentType="image/png"/>
  <Override PartName="/ppt/media/image38.png" ContentType="image/png"/>
  <Override PartName="/ppt/media/image13.png" ContentType="image/png"/>
  <Override PartName="/ppt/media/image20.png" ContentType="image/png"/>
  <Override PartName="/ppt/media/image57.png" ContentType="image/png"/>
  <Override PartName="/ppt/media/image16.png" ContentType="image/png"/>
  <Override PartName="/ppt/media/image4.png" ContentType="image/png"/>
  <Override PartName="/ppt/media/image7.jpeg" ContentType="image/jpe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7.jpeg" ContentType="image/jpeg"/>
  <Override PartName="/ppt/media/image10.jpeg" ContentType="image/jpeg"/>
  <Override PartName="/ppt/media/image30.png" ContentType="image/png"/>
  <Override PartName="/ppt/media/image31.png" ContentType="image/png"/>
  <Override PartName="/ppt/media/image34.jpeg" ContentType="image/jpeg"/>
  <Override PartName="/ppt/media/image37.png" ContentType="image/png"/>
  <Override PartName="/ppt/media/image9.jpeg" ContentType="image/jpeg"/>
  <Override PartName="/ppt/media/image36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2deec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2F97-5EFA-4370-B220-B2CC4E0959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Номер слайда 3"/>
          <p:cNvSpPr/>
          <p:nvPr/>
        </p:nvSpPr>
        <p:spPr>
          <a:xfrm>
            <a:off x="3886200" y="8688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F7441C0-6998-46B1-A6BF-CB055D157F3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Номер слайда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570E-4ED1-40EB-A1DE-B3C033333C7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A92E-239E-4BF8-926A-4F2E9FC28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161B-1F13-416B-9886-343ADD6A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3B82EE-941A-410F-A66E-7B4AA990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F2CCE8-C82E-4EC6-BD50-C614B27D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A507E8-6AE4-4DE1-A81C-F1164B14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9413C9-BA97-4A81-932F-38817E59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A64E52-ECE9-4CB1-8B57-31FD5F9B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C072EA-5907-4C58-9A25-7FBF1269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1854CC-2BDB-4A3B-8A07-512E6702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F1DA3B-4273-4852-813F-D1EF305DF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651919-6350-47C4-8CE9-174C2FCCA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312A-8D9B-496D-B60D-8F52FB7CF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8999-5740-452E-B0B0-1A9FE05E0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B1EB7-E793-4A85-94F5-574614D08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3CC5C-CA26-4022-8ECA-FD3ABECA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454D01-C8F3-4DA8-B54A-67440EF7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38FE16-EECA-4DFE-9A30-FCD62DFB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807600-C306-4810-A2D2-C50BFD54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ED919-4882-4E4B-B4F3-AAF8117F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E788C-1841-4FEE-8D73-807459F7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0F75-5BDE-4BA4-8177-81A206A7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79D99F-26FB-409A-A985-C906613B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76527-864E-4374-99C2-C0AB5FF9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6A792-63CE-401D-ADA5-3CA1E892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B4E4F-1F4F-458B-883F-947229DA7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72E3E-D79E-4E41-9158-A9A529E9D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165D2-F18B-41C7-8E70-8161C78E9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62387-FF4A-4C1E-8AFB-1CBC4565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521E6-C2A6-4CA4-895D-7A740FCC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7DFF4-E134-4085-AA6B-AF1494E4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64BA3-BD94-4523-9B3D-6DDEAA20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9A85-DAD1-457A-9F05-9CD6317F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36DC2-EEEE-4F46-8F3E-684221BC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64DCF-733F-4B20-A144-EBFAE0B9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4840D-D37A-4E89-964A-338E6F00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82C5E-5786-401D-A402-8EC9A694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C41E9-74F3-4A0D-8F7B-A4044A9B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08A86-B140-4E93-BC9A-45A48E58C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569C0-312F-4076-A2D2-7B70E8F7A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8421C7-7FFB-4988-853C-C0E7CAB5F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0DCF6B-758B-483A-9B0A-8B36253E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843162-D7F0-4D9C-A4B7-035248A0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4946-FBC7-4476-AF2B-352FD142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FFCFCC-1BCF-4456-912B-02A94C8E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0BDC1B-755E-4012-B310-1DA3CF3A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11DA8F-10BA-4D91-B32B-1C2086C8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A7B61D-9CD8-4AD8-A536-68F9A32B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A0B50B-5D8E-4A1A-A949-E831F7F4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4255DB-6B62-4E09-9B9D-D41F5CA6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BD7D26-C5AB-4578-9CCD-7E2F01AB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91E67B-8FA8-46FA-B986-180863FF4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EBC550-FDB6-47BD-BEE8-2F3BA83CA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0D316-2C62-4186-99EC-5FCF11C76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F441-3613-428A-BE4A-ACEB186E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F9A5C-5276-49F1-B46F-07F45726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D224D-2899-4212-B3BA-FD4C835F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AFD28-9E9D-4572-AB0A-5FBE1638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FD00E-6E6A-4020-ABB7-F320DA17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A2AF3-BF97-4806-B537-2CCDDADAA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16DA1-B30D-43E1-9DE8-C602BF06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F5BD7-9ED0-4569-BC7E-ABCA25BA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B428E-0031-44D1-B4BE-96566539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E7294-0044-487E-82E5-D5E9A5DF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62F0E-CFDA-4E1A-BD10-28AD333FC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49A8-47ED-46A9-87E2-A809922D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889AE-BB3B-4204-8DC4-3C30EF768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726E9-F166-40DC-9E19-E33F506D7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04F0C-4284-4FE3-A264-19C80777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BD6D7-83C4-4641-A09B-9FF9B559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64F84-D5AF-4E86-A387-6B5BE7D9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6167F-4A9B-49ED-AB8F-0F44AF8B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0AD1F-BBAB-4B56-9E01-74AE7E9E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14DF4-34BC-4AB9-BC45-A7AE71E9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D7205-3D34-4497-A668-A622B925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53C03-12F4-4C6B-9587-A8C7115A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7EA6-6E62-4DC5-89FC-2BE28E26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63320-A055-4E4F-BA6E-B3BFAF9D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50A76-46A4-462C-AB16-63534EB8B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6B3C2-31AC-46FA-9484-633EE462F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2771C-22A6-4E01-A41A-ECF3E305C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5A7DE-6833-4A9C-B78C-264F2552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66A9B-F578-477F-86EF-78AC06EB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B486A-16FC-4391-85D6-F25C4383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1A9D5-C9B8-4A2A-AAD9-DEEAABF4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7E410-49B4-47D2-9B50-59273F17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291BF-D23B-4606-AE78-A54A8856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C6E0-8B19-461B-9015-8C452F6E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9FFA3-17E5-4839-A088-063C97AF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D6E61-9366-4BC4-9E40-691954F7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870CA-D7E3-4276-920E-4F38FC56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2A230-BC98-49D2-B26E-5BAE2ACF7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69085-798C-4FFB-ACB2-4BFAC778D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63E1D7-2D4C-4F88-8D26-1E5E19BF8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0D4551-A4DF-4B84-A485-4FFA305C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8A0332-E6EA-4668-B591-3BEBDEAB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927A27-F3A2-4EF1-B4C8-B28AF501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B71941-2C85-411E-8449-0BFEDA55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8E52-C978-4BAB-BCBE-4F8579E1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E71B49-E49F-4535-8906-F138EB1B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50F352-D79E-4700-B18A-BE9BC5BA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825FB1-1DC3-440A-BCE4-43DD57CC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C182EC-18EE-4DB1-8813-8FEC144B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625E22-CF30-4BE4-A2F4-C6219895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F9804F-5287-4E62-84B2-B23839DC5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880ECC-2249-4C40-BF20-BAE761666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8A0E9D-E71C-44BB-9A9F-7CA7FC414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8E6466-302E-46FC-9A84-1C23BEF1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31BE50-C7F4-4364-99BE-C29EF273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5b1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5b1d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adee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107BB-5C8C-4E3E-83C9-126FD6DABEFE}" type="slidenum">
              <a:rPr b="0" lang="ru-RU" sz="1600" spc="-1" strike="noStrike">
                <a:solidFill>
                  <a:srgbClr val="dadee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2deec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9c5252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2deec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9c5252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5b1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5b1d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adee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33A8-062A-4485-8456-10E922E4C7ED}" type="slidenum">
              <a:rPr b="0" lang="ru-RU" sz="1600" spc="-1" strike="noStrike">
                <a:solidFill>
                  <a:srgbClr val="dadee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6076b4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2deec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9c5252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5b1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5b1d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adee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D2A0-C601-4862-8662-7DF3947EA2BF}" type="slidenum">
              <a:rPr b="0" lang="ru-RU" sz="1600" spc="-1" strike="noStrike">
                <a:solidFill>
                  <a:srgbClr val="dadee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58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6076b4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2deec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9c5252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5b1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5b1d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adee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B49D-8F58-4602-A754-1E355B1A55FF}" type="slidenum">
              <a:rPr b="0" lang="ru-RU" sz="1600" spc="-1" strike="noStrike">
                <a:solidFill>
                  <a:srgbClr val="dadee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6076b4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2deec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9c5252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5b1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5b1d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adee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2FA2-9A8C-4CB4-AE22-9CB046E6C3C4}" type="slidenum">
              <a:rPr b="0" lang="ru-RU" sz="1600" spc="-1" strike="noStrike">
                <a:solidFill>
                  <a:srgbClr val="dadee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6076b4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6076b4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2deec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9c5252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5b1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5b1d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adee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9514-09DD-4D08-9BB5-D9196398106C}" type="slidenum">
              <a:rPr b="0" lang="ru-RU" sz="1600" spc="-1" strike="noStrike">
                <a:solidFill>
                  <a:srgbClr val="dadee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6076b4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2deec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9c5252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5b1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5b1d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adee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E602-EB9D-4CDC-8E80-FCC3275D9F25}" type="slidenum">
              <a:rPr b="0" lang="ru-RU" sz="1600" spc="-1" strike="noStrike">
                <a:solidFill>
                  <a:srgbClr val="dadee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58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6076b4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2deec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9c5252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5b1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5b1d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adee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AD35-B5E3-411B-B578-E228E7C56842}" type="slidenum">
              <a:rPr b="0" lang="ru-RU" sz="1600" spc="-1" strike="noStrike">
                <a:solidFill>
                  <a:srgbClr val="dadee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2deec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9c5252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5b1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5b1d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adee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6080-A42D-4687-9720-722100549F9B}" type="slidenum">
              <a:rPr b="0" lang="ru-RU" sz="1600" spc="-1" strike="noStrike">
                <a:solidFill>
                  <a:srgbClr val="dadee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48.png"/><Relationship Id="rId11" Type="http://schemas.openxmlformats.org/officeDocument/2006/relationships/image" Target="../media/image49.png"/><Relationship Id="rId12" Type="http://schemas.openxmlformats.org/officeDocument/2006/relationships/image" Target="../media/image50.png"/><Relationship Id="rId13" Type="http://schemas.openxmlformats.org/officeDocument/2006/relationships/image" Target="../media/image51.png"/><Relationship Id="rId14" Type="http://schemas.openxmlformats.org/officeDocument/2006/relationships/image" Target="../media/image52.png"/><Relationship Id="rId15" Type="http://schemas.openxmlformats.org/officeDocument/2006/relationships/image" Target="../media/image53.png"/><Relationship Id="rId16" Type="http://schemas.openxmlformats.org/officeDocument/2006/relationships/image" Target="../media/image54.png"/><Relationship Id="rId17" Type="http://schemas.openxmlformats.org/officeDocument/2006/relationships/image" Target="../media/image55.png"/><Relationship Id="rId18" Type="http://schemas.openxmlformats.org/officeDocument/2006/relationships/image" Target="../media/image56.png"/><Relationship Id="rId19" Type="http://schemas.openxmlformats.org/officeDocument/2006/relationships/image" Target="../media/image57.png"/><Relationship Id="rId20" Type="http://schemas.openxmlformats.org/officeDocument/2006/relationships/image" Target="../media/image58.png"/><Relationship Id="rId21" Type="http://schemas.openxmlformats.org/officeDocument/2006/relationships/image" Target="../media/image59.png"/><Relationship Id="rId22" Type="http://schemas.openxmlformats.org/officeDocument/2006/relationships/image" Target="../media/image60.png"/><Relationship Id="rId23" Type="http://schemas.openxmlformats.org/officeDocument/2006/relationships/image" Target="../media/image61.png"/><Relationship Id="rId24" Type="http://schemas.openxmlformats.org/officeDocument/2006/relationships/image" Target="../media/image62.png"/><Relationship Id="rId25" Type="http://schemas.openxmlformats.org/officeDocument/2006/relationships/slideLayout" Target="../slideLayouts/slideLayout25.xml"/><Relationship Id="rId2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3" descr=""/>
          <p:cNvPicPr/>
          <p:nvPr/>
        </p:nvPicPr>
        <p:blipFill>
          <a:blip r:embed="rId1"/>
          <a:stretch/>
        </p:blipFill>
        <p:spPr>
          <a:xfrm>
            <a:off x="3041640" y="4724280"/>
            <a:ext cx="5486400" cy="66528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4427280" y="189000"/>
            <a:ext cx="35067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mbri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mbri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mbri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mbria"/>
              </a:rPr>
              <a:t>Педагогический совет по теме: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Федеральный государственный стандарт начального общего образования: актуальные вопросы введения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grpSp>
        <p:nvGrpSpPr>
          <p:cNvPr id="403" name="Рисунок 14"/>
          <p:cNvGrpSpPr/>
          <p:nvPr/>
        </p:nvGrpSpPr>
        <p:grpSpPr>
          <a:xfrm>
            <a:off x="920880" y="1079640"/>
            <a:ext cx="3670200" cy="3767040"/>
            <a:chOff x="920880" y="1079640"/>
            <a:chExt cx="3670200" cy="3767040"/>
          </a:xfrm>
        </p:grpSpPr>
        <p:pic>
          <p:nvPicPr>
            <p:cNvPr id="404" name="Рисунок 14" descr=""/>
            <p:cNvPicPr/>
            <p:nvPr/>
          </p:nvPicPr>
          <p:blipFill>
            <a:blip r:embed="rId2"/>
            <a:stretch/>
          </p:blipFill>
          <p:spPr>
            <a:xfrm>
              <a:off x="920880" y="1079640"/>
              <a:ext cx="3670200" cy="37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1047600" y="1204920"/>
              <a:ext cx="3414960" cy="35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6" name=""/>
          <p:cNvSpPr txBox="1"/>
          <p:nvPr/>
        </p:nvSpPr>
        <p:spPr>
          <a:xfrm>
            <a:off x="6357600" y="4643280"/>
            <a:ext cx="27860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r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7" name="Picture 1" descr="C:\Documents and Settings\Admin\Рабочий стол\i.jpegm.jpeg"/>
          <p:cNvPicPr/>
          <p:nvPr/>
        </p:nvPicPr>
        <p:blipFill>
          <a:blip r:embed="rId3"/>
          <a:stretch/>
        </p:blipFill>
        <p:spPr>
          <a:xfrm>
            <a:off x="250920" y="907920"/>
            <a:ext cx="3960720" cy="439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Rectangle 2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36044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Cambria"/>
              </a:rPr>
              <a:t>Дошкольного образования;</a:t>
            </a:r>
            <a:endParaRPr b="0" lang="en-US" sz="35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6076b4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Cambria"/>
              </a:rPr>
              <a:t>Начального общего образования;</a:t>
            </a:r>
            <a:endParaRPr b="0" lang="en-US" sz="35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6076b4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Cambria"/>
              </a:rPr>
              <a:t>Основного общего образования; </a:t>
            </a:r>
            <a:endParaRPr b="0" lang="en-US" sz="35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6076b4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Cambria"/>
              </a:rPr>
              <a:t>Среднего (полного) общего образования.</a:t>
            </a:r>
            <a:endParaRPr b="0" lang="en-US" sz="35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Rectangle 2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28736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301320" y="1267920"/>
            <a:ext cx="853452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613800" indent="-219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1" marL="613800" indent="-219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ООП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утверждается  и реализуется образовательным учреждением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Cambria"/>
              </a:rPr>
              <a:t>самостоятельно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1" marL="613800" indent="-219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1" marL="613800" indent="-219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ООП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ОУ  разрабатывается на основе соответствующих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Cambria"/>
              </a:rPr>
              <a:t>примерных основных образовательных программ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Cambr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2" marL="789120" indent="-18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ambria"/>
            </a:endParaRPr>
          </a:p>
          <a:p>
            <a:pPr lvl="2" marL="789120" indent="-18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Cambria"/>
              </a:rPr>
              <a:t>Примерная основная образовательная программа </a:t>
            </a:r>
            <a:r>
              <a:rPr b="0" lang="ru-RU" sz="2300" spc="-1" strike="noStrike">
                <a:solidFill>
                  <a:srgbClr val="ffffff"/>
                </a:solidFill>
                <a:latin typeface="Cambria"/>
              </a:rPr>
              <a:t>разрабатывается на основе </a:t>
            </a:r>
            <a:r>
              <a:rPr b="1" lang="ru-RU" sz="2300" spc="-1" strike="noStrike" u="sng">
                <a:solidFill>
                  <a:srgbClr val="ffffff"/>
                </a:solidFill>
                <a:uFillTx/>
                <a:latin typeface="Cambria"/>
              </a:rPr>
              <a:t>федеральных государственных образовательных стандартов </a:t>
            </a:r>
            <a:endParaRPr b="0" lang="en-US" sz="2300" spc="-1" strike="noStrike">
              <a:solidFill>
                <a:srgbClr val="ffffff"/>
              </a:solidFill>
              <a:latin typeface="Cambria"/>
            </a:endParaRPr>
          </a:p>
          <a:p>
            <a:pPr lvl="2" marL="789120" indent="-18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ambria"/>
            </a:endParaRPr>
          </a:p>
          <a:p>
            <a:pPr lvl="2" marL="789120" indent="-18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Cambria"/>
              </a:rPr>
              <a:t>Органы государственной власти субъекта РФ в сфере образования</a:t>
            </a:r>
            <a:r>
              <a:rPr b="0" lang="ru-RU" sz="2300" spc="-1" strike="noStrike">
                <a:solidFill>
                  <a:srgbClr val="ffffff"/>
                </a:solidFill>
                <a:latin typeface="Cambria"/>
              </a:rPr>
              <a:t> могут принимать участие в разработке примерных основных образовательных программ </a:t>
            </a:r>
            <a:r>
              <a:rPr b="1" lang="ru-RU" sz="2300" spc="-1" strike="noStrike" u="sng">
                <a:solidFill>
                  <a:srgbClr val="ffffff"/>
                </a:solidFill>
                <a:uFillTx/>
                <a:latin typeface="Cambria"/>
              </a:rPr>
              <a:t>(в части учета региональных, национальных и этнокультурных особенностей)</a:t>
            </a:r>
            <a:r>
              <a:rPr b="0" lang="ru-RU" sz="2300" spc="-1" strike="noStrike">
                <a:solidFill>
                  <a:srgbClr val="ffffff"/>
                </a:solidFill>
                <a:latin typeface="Cambria"/>
              </a:rPr>
              <a:t>     </a:t>
            </a:r>
            <a:endParaRPr b="0" lang="en-US" sz="23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Заголовок 1" descr=""/>
          <p:cNvPicPr/>
          <p:nvPr/>
        </p:nvPicPr>
        <p:blipFill>
          <a:blip r:embed="rId1"/>
          <a:stretch/>
        </p:blipFill>
        <p:spPr>
          <a:xfrm>
            <a:off x="360360" y="195120"/>
            <a:ext cx="8790120" cy="11700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80080" indent="-28008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Инструмент обеспечения баланса целей личности, общества и государства  в образовании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Инструмент формирования социального  доверия, общественного согласия и гражданской консолидации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Инструмент реализации государственной политики в сфере образования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Заголовок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491680" cy="146376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mbria"/>
              </a:rPr>
              <a:t>Впервые стандарты – это </a:t>
            </a:r>
            <a:r>
              <a:rPr b="1" lang="ru-RU" sz="2700" spc="-1" strike="noStrike">
                <a:solidFill>
                  <a:srgbClr val="ffffff"/>
                </a:solidFill>
                <a:latin typeface="Cambria"/>
              </a:rPr>
              <a:t>целостная система требований ко всей системе образования страны</a:t>
            </a:r>
            <a:r>
              <a:rPr b="0" lang="ru-RU" sz="2700" spc="-1" strike="noStrike">
                <a:solidFill>
                  <a:srgbClr val="ffffff"/>
                </a:solidFill>
                <a:latin typeface="Cambria"/>
              </a:rPr>
              <a:t>, а не только требования к предметному содержанию образования</a:t>
            </a:r>
            <a:r>
              <a:rPr b="0" lang="en-US" sz="2700" spc="-1" strike="noStrike">
                <a:solidFill>
                  <a:srgbClr val="ffffff"/>
                </a:solidFill>
                <a:latin typeface="Rockwell"/>
              </a:rPr>
              <a:t>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mbria"/>
              </a:rPr>
              <a:t>Впервые  стандарты рассматриваются как </a:t>
            </a:r>
            <a:r>
              <a:rPr b="1" lang="ru-RU" sz="2700" spc="-1" strike="noStrike">
                <a:solidFill>
                  <a:srgbClr val="ffffff"/>
                </a:solidFill>
                <a:latin typeface="Cambria"/>
              </a:rPr>
              <a:t>конституция школьной жизни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mbria"/>
              </a:rPr>
              <a:t>Впервые основой внедрения стандартов в реальную  жизнь является </a:t>
            </a:r>
            <a:r>
              <a:rPr b="1" lang="ru-RU" sz="2700" spc="-1" strike="noStrike">
                <a:solidFill>
                  <a:srgbClr val="ffffff"/>
                </a:solidFill>
                <a:latin typeface="Cambria"/>
              </a:rPr>
              <a:t>новая организационно-экономическая модель образования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Заголовок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534520" cy="150660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«Знаниевая»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         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системно-деятельностная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r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Изучение основ наук        Обеспечение развития универсальных учебных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действий на материале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основ наук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cxnSp>
        <p:nvCxnSpPr>
          <p:cNvPr id="459" name="Прямая со стрелкой 4"/>
          <p:cNvCxnSpPr/>
          <p:nvPr/>
        </p:nvCxnSpPr>
        <p:spPr>
          <a:xfrm>
            <a:off x="3143160" y="1785960"/>
            <a:ext cx="643320" cy="2160"/>
          </a:xfrm>
          <a:prstGeom prst="straightConnector1">
            <a:avLst/>
          </a:prstGeom>
          <a:ln w="9360">
            <a:solidFill>
              <a:srgbClr val="566aa3"/>
            </a:solidFill>
            <a:miter/>
            <a:tailEnd len="med" type="arrow" w="med"/>
          </a:ln>
        </p:spPr>
      </p:cxnSp>
      <p:cxnSp>
        <p:nvCxnSpPr>
          <p:cNvPr id="460" name="Прямая со стрелкой 6"/>
          <p:cNvCxnSpPr/>
          <p:nvPr/>
        </p:nvCxnSpPr>
        <p:spPr>
          <a:xfrm>
            <a:off x="4500360" y="2286000"/>
            <a:ext cx="572040" cy="2160"/>
          </a:xfrm>
          <a:prstGeom prst="straightConnector1">
            <a:avLst/>
          </a:prstGeom>
          <a:ln w="9360">
            <a:solidFill>
              <a:srgbClr val="566aa3"/>
            </a:solidFill>
            <a:miter/>
            <a:tailEnd len="med" type="arrow" w="med"/>
          </a:ln>
        </p:spPr>
      </p:cxnSp>
      <p:pic>
        <p:nvPicPr>
          <p:cNvPr id="461" name="Picture 3" descr="p001"/>
          <p:cNvPicPr/>
          <p:nvPr/>
        </p:nvPicPr>
        <p:blipFill>
          <a:blip r:embed="rId2"/>
          <a:stretch/>
        </p:blipFill>
        <p:spPr>
          <a:xfrm>
            <a:off x="714240" y="3714840"/>
            <a:ext cx="2500560" cy="2157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Заголовок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431200" cy="132408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Cambria"/>
              </a:rPr>
              <a:t>Задача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ориентация системы образования на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ambria"/>
              </a:rPr>
              <a:t>новые образовательные результаты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, связанные с пониманием развития личности как цели  и смысла образования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64" name="Рисунок 1" descr="C:\Documents and Settings\IAntonova\Рабочий стол\Обложки Стандарты\federal_gos_obraz_stand.jpg"/>
          <p:cNvPicPr/>
          <p:nvPr/>
        </p:nvPicPr>
        <p:blipFill>
          <a:blip r:embed="rId2"/>
          <a:stretch/>
        </p:blipFill>
        <p:spPr>
          <a:xfrm>
            <a:off x="7164360" y="3860640"/>
            <a:ext cx="1224000" cy="2305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Заголовок 1" descr=""/>
          <p:cNvPicPr/>
          <p:nvPr/>
        </p:nvPicPr>
        <p:blipFill>
          <a:blip r:embed="rId1"/>
          <a:stretch/>
        </p:blipFill>
        <p:spPr>
          <a:xfrm>
            <a:off x="457200" y="-73080"/>
            <a:ext cx="8637480" cy="179244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 txBox="1"/>
          <p:nvPr/>
        </p:nvSpPr>
        <p:spPr>
          <a:xfrm>
            <a:off x="301680" y="1527120"/>
            <a:ext cx="8842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ffff"/>
                </a:solidFill>
                <a:uFillTx/>
                <a:latin typeface="Cambria"/>
              </a:rPr>
              <a:t>Личностные результаты</a:t>
            </a:r>
            <a:r>
              <a:rPr b="1" lang="ru-RU" sz="2200" spc="-1" strike="noStrike">
                <a:solidFill>
                  <a:srgbClr val="ffffff"/>
                </a:solidFill>
                <a:latin typeface="Cambria"/>
              </a:rPr>
              <a:t> – сформировавшиеся в образовательном процессе мотивы деятельности, система ценностных отношений учащихся – в частности, к себе , другим участникам образовательного процесса, самому образовательному процессу, объектам познания, результатам образовательной деятельности и т.д.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67120" indent="-26712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 u="sng">
                <a:solidFill>
                  <a:srgbClr val="ffffff"/>
                </a:solidFill>
                <a:uFillTx/>
                <a:latin typeface="Cambria"/>
              </a:rPr>
              <a:t>Метапредметные результаты</a:t>
            </a:r>
            <a:r>
              <a:rPr b="1" lang="ru-RU" sz="2200" spc="-1" strike="noStrike">
                <a:solidFill>
                  <a:srgbClr val="ffffff"/>
                </a:solidFill>
                <a:latin typeface="Cambria"/>
              </a:rPr>
              <a:t> – освоенные обучающимися на базе нескольких или всех учебных предметов обобщенные способы деятельности, применимые как в рамках образовательного процесса, так и в реальных жизненных ситуациях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67120" indent="-26712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 u="sng">
                <a:solidFill>
                  <a:srgbClr val="ffffff"/>
                </a:solidFill>
                <a:uFillTx/>
                <a:latin typeface="Cambria"/>
              </a:rPr>
              <a:t>Предметные результаты</a:t>
            </a:r>
            <a:r>
              <a:rPr b="1" lang="ru-RU" sz="2200" spc="-1" strike="noStrike">
                <a:solidFill>
                  <a:srgbClr val="ffffff"/>
                </a:solidFill>
                <a:latin typeface="Cambria"/>
              </a:rPr>
              <a:t>  - выражаются в усвоении обучаемыми конкретных элементов социального опыта, изучаемого в рамках отдельных учебных предметов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67120" indent="-26712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9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Заголовок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534520" cy="150660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 txBox="1"/>
          <p:nvPr/>
        </p:nvSpPr>
        <p:spPr>
          <a:xfrm>
            <a:off x="301320" y="1856880"/>
            <a:ext cx="850428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4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mbria"/>
              </a:rPr>
              <a:t>Гармоничное развитие личности, интегрированной в мировую и национальную культуру, обладающей ключевыми компетентностями, способной к ответственному поведению и </a:t>
            </a:r>
            <a:r>
              <a:rPr b="1" lang="ru-RU" sz="2700" spc="-1" strike="noStrike" u="sng">
                <a:solidFill>
                  <a:srgbClr val="ffffff"/>
                </a:solidFill>
                <a:uFillTx/>
                <a:latin typeface="Cambria"/>
              </a:rPr>
              <a:t>самореализации</a:t>
            </a:r>
            <a:r>
              <a:rPr b="0" lang="ru-RU" sz="2700" spc="-1" strike="noStrike">
                <a:solidFill>
                  <a:srgbClr val="ffffff"/>
                </a:solidFill>
                <a:latin typeface="Cambria"/>
              </a:rPr>
              <a:t> в современном ей обществе. 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69" name="Picture 2" descr="1274886401_uchenik"/>
          <p:cNvPicPr/>
          <p:nvPr/>
        </p:nvPicPr>
        <p:blipFill>
          <a:blip r:embed="rId2"/>
          <a:stretch/>
        </p:blipFill>
        <p:spPr>
          <a:xfrm>
            <a:off x="6500880" y="5072040"/>
            <a:ext cx="2009880" cy="1490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Заголовок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42092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Признание обществом значимости (полезности) той деятельности, которую выполняет личность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Получение личностью удовлетворения от результатов своей деятельности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(материального, интеллектуального, эмоционального)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73" name="Picture 2" descr="untitled"/>
          <p:cNvPicPr/>
          <p:nvPr/>
        </p:nvPicPr>
        <p:blipFill>
          <a:blip r:embed="rId2"/>
          <a:stretch/>
        </p:blipFill>
        <p:spPr>
          <a:xfrm>
            <a:off x="2700360" y="4500720"/>
            <a:ext cx="2232000" cy="1933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Заголовок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5066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Вооружить ребенка умениями, которые помогут ему ориентироваться в новых ситуациях своей профессиональной, личной и общественной жизни, достигая поставленной цели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67120" indent="-26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67120" indent="-26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67120" indent="-26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67120" indent="-267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КОМПЕТЕНТНОСТЯМИ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67120" indent="-267120">
              <a:lnSpc>
                <a:spcPct val="100000"/>
              </a:lnSpc>
              <a:buClr>
                <a:srgbClr val="6076b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6" name="AutoShape 6"/>
          <p:cNvSpPr/>
          <p:nvPr/>
        </p:nvSpPr>
        <p:spPr>
          <a:xfrm>
            <a:off x="4427640" y="4113360"/>
            <a:ext cx="431640" cy="755640"/>
          </a:xfrm>
          <a:prstGeom prst="downArrow">
            <a:avLst>
              <a:gd name="adj1" fmla="val 50000"/>
              <a:gd name="adj2" fmla="val 45857"/>
            </a:avLst>
          </a:prstGeom>
          <a:solidFill>
            <a:srgbClr val="6076b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0" y="1356840"/>
            <a:ext cx="47880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00"/>
                </a:solidFill>
                <a:latin typeface="Cambria"/>
              </a:rPr>
              <a:t>Великая цель образования - это не знания, 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00"/>
                </a:solidFill>
                <a:latin typeface="Cambria"/>
              </a:rPr>
              <a:t>а действия</a:t>
            </a:r>
            <a:br>
              <a:rPr sz="4000"/>
            </a:br>
            <a:r>
              <a:rPr b="0" i="1" lang="ru-RU" sz="2800" spc="-1" strike="noStrike">
                <a:solidFill>
                  <a:srgbClr val="ffff00"/>
                </a:solidFill>
                <a:latin typeface="Cambria"/>
              </a:rPr>
              <a:t>                                               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Г.Спенсер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9" name="Picture 16" descr="1304018455_be8ec3665d_o"/>
          <p:cNvPicPr/>
          <p:nvPr/>
        </p:nvPicPr>
        <p:blipFill>
          <a:blip r:embed="rId1"/>
          <a:stretch/>
        </p:blipFill>
        <p:spPr>
          <a:xfrm>
            <a:off x="5219640" y="1928880"/>
            <a:ext cx="3456000" cy="2778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Заголовок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50660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Свойство личности, которое подлежит целенаправленному формированию в процессе обучения, воспитания и развития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Условия для успешной социализации личности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- 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Ключевые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- Специальные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- Профессиональные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Заголовок 1" descr=""/>
          <p:cNvPicPr/>
          <p:nvPr/>
        </p:nvPicPr>
        <p:blipFill>
          <a:blip r:embed="rId1"/>
          <a:stretch/>
        </p:blipFill>
        <p:spPr>
          <a:xfrm>
            <a:off x="438120" y="255600"/>
            <a:ext cx="8553600" cy="150660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образовательная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информационная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коммуникативная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социальная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толерантность (терпимость к различным мнениям, непредубежденность к оценке людей и событий)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Rectangle 2" descr=""/>
          <p:cNvPicPr/>
          <p:nvPr/>
        </p:nvPicPr>
        <p:blipFill>
          <a:blip r:embed="rId1"/>
          <a:stretch/>
        </p:blipFill>
        <p:spPr>
          <a:xfrm>
            <a:off x="274680" y="255600"/>
            <a:ext cx="8717040" cy="150660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mbria"/>
              </a:rPr>
              <a:t>подготовка профессионального ученика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83" name="Picture 4" descr="8a9007d6eb73b482f79821ede54a06cd"/>
          <p:cNvPicPr/>
          <p:nvPr/>
        </p:nvPicPr>
        <p:blipFill>
          <a:blip r:embed="rId2"/>
          <a:stretch/>
        </p:blipFill>
        <p:spPr>
          <a:xfrm>
            <a:off x="4572000" y="2492280"/>
            <a:ext cx="2395440" cy="3429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Rectangle 2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50660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buClr>
                <a:srgbClr val="6076b4"/>
              </a:buClr>
              <a:buSzPct val="70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ЦЕЛЕПОЛАГАНИЕ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– умение ставить цель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buClr>
                <a:srgbClr val="6076b4"/>
              </a:buClr>
              <a:buSzPct val="70000"/>
              <a:buFont typeface="Cambr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ПЛАНИРОВАНИЕ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– способы достижение намеченной цели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buClr>
                <a:srgbClr val="6076b4"/>
              </a:buClr>
              <a:buSzPct val="70000"/>
              <a:buFont typeface="Cambr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УЧЕБНЫЕ ДЕЙСТВИЯ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buClr>
                <a:srgbClr val="6076b4"/>
              </a:buClr>
              <a:buSzPct val="70000"/>
              <a:buFont typeface="Cambr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КОНТРОЛЬ И КОРРЕКЦИЯ способов достижения учебных действий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5.  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ОЦЕНКА результатов достижения учебной цели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Rectangle 2" descr=""/>
          <p:cNvPicPr/>
          <p:nvPr/>
        </p:nvPicPr>
        <p:blipFill>
          <a:blip r:embed="rId1"/>
          <a:stretch/>
        </p:blipFill>
        <p:spPr>
          <a:xfrm>
            <a:off x="298440" y="-128520"/>
            <a:ext cx="8564400" cy="179208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 txBox="1"/>
          <p:nvPr/>
        </p:nvSpPr>
        <p:spPr>
          <a:xfrm>
            <a:off x="301320" y="1915920"/>
            <a:ext cx="8534520" cy="42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68560" indent="-2685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основы гражданской идентичности,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lnSpc>
                <a:spcPct val="9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чувство сопричастности и гордости за свою Родину, народ и историю,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ответственность за общее благополучие,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система общечеловеческих ценностей,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мотивационная основа учебной деятельности и способность к самооценке.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Заголовок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534520" cy="150660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 txBox="1"/>
          <p:nvPr/>
        </p:nvSpPr>
        <p:spPr>
          <a:xfrm>
            <a:off x="301320" y="1428840"/>
            <a:ext cx="8504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00"/>
                </a:solidFill>
                <a:latin typeface="Cambria"/>
              </a:rPr>
              <a:t>разработана и утверждена </a:t>
            </a:r>
            <a:r>
              <a:rPr b="1" lang="ru-RU" sz="2300" spc="-1" strike="noStrike">
                <a:solidFill>
                  <a:srgbClr val="ffff00"/>
                </a:solidFill>
                <a:latin typeface="Cambria"/>
              </a:rPr>
              <a:t>основная образовательная программа начального общего образования ОУ</a:t>
            </a:r>
            <a:r>
              <a:rPr b="0" lang="ru-RU" sz="2300" spc="-1" strike="noStrike">
                <a:solidFill>
                  <a:srgbClr val="ffff00"/>
                </a:solidFill>
                <a:latin typeface="Cambria"/>
              </a:rPr>
              <a:t>;   </a:t>
            </a:r>
            <a:endParaRPr b="0" lang="en-US" sz="23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Cambria"/>
              </a:rPr>
              <a:t>нормативная база ОУ</a:t>
            </a:r>
            <a:r>
              <a:rPr b="0" lang="ru-RU" sz="23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Cambria"/>
              </a:rPr>
              <a:t>приведена в соответствие с требованиями ФГОС (цели образовательного процесса, режим занятий, финансирование, материально-техническое  обеспечение  и т.п.);</a:t>
            </a:r>
            <a:endParaRPr b="0" lang="en-US" sz="23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Cambria"/>
              </a:rPr>
              <a:t>должностные инструкции</a:t>
            </a:r>
            <a:r>
              <a:rPr b="0" lang="ru-RU" sz="23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Cambria"/>
              </a:rPr>
              <a:t>работников образовательного учреждения приведены в соответствие с требованиями ФГОС начального общего образования и новыми тарифно-квалификационными характеристиками;</a:t>
            </a:r>
            <a:endParaRPr b="0" lang="en-US" sz="23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Cambria"/>
              </a:rPr>
              <a:t>определен список учебников и учебных пособий</a:t>
            </a:r>
            <a:r>
              <a:rPr b="0" lang="ru-RU" sz="2300" spc="-1" strike="noStrike">
                <a:solidFill>
                  <a:srgbClr val="ffffff"/>
                </a:solidFill>
                <a:latin typeface="Cambria"/>
              </a:rPr>
              <a:t>, используемых в образовательном процессе в соответствии с ФГОС начального общего образования;</a:t>
            </a:r>
            <a:endParaRPr b="0" lang="en-US" sz="23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0" name="Rectangle 1"/>
          <p:cNvSpPr/>
          <p:nvPr/>
        </p:nvSpPr>
        <p:spPr>
          <a:xfrm>
            <a:off x="-341280" y="-610560"/>
            <a:ext cx="8668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Rectangle 2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534520" cy="150660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7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Cambria"/>
              </a:rPr>
              <a:t>разработаны локальные акты</a:t>
            </a:r>
            <a:r>
              <a:rPr b="0" lang="ru-RU" sz="2300" spc="-1" strike="noStrike">
                <a:solidFill>
                  <a:srgbClr val="ffffff"/>
                </a:solidFill>
                <a:latin typeface="Cambria"/>
              </a:rPr>
              <a:t>, регламентирующие установление заработной платы работников образовательного учреждения, в том числе стимулирующих  надбавок и доплат, порядка и размеров премирования в соответствии с НСОТ; </a:t>
            </a:r>
            <a:endParaRPr b="0" lang="en-US" sz="23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7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00"/>
                </a:solidFill>
                <a:latin typeface="Cambria"/>
              </a:rPr>
              <a:t>определена </a:t>
            </a:r>
            <a:r>
              <a:rPr b="1" lang="ru-RU" sz="2300" spc="-1" strike="noStrike">
                <a:solidFill>
                  <a:srgbClr val="ffff00"/>
                </a:solidFill>
                <a:latin typeface="Cambria"/>
              </a:rPr>
              <a:t>оптимальная модель организации образовательного процесса</a:t>
            </a:r>
            <a:r>
              <a:rPr b="0" lang="ru-RU" sz="2300" spc="-1" strike="noStrike">
                <a:solidFill>
                  <a:srgbClr val="ffffff"/>
                </a:solidFill>
                <a:latin typeface="Cambria"/>
              </a:rPr>
              <a:t>, обеспечивающая организацию внеурочной деятельности;</a:t>
            </a:r>
            <a:endParaRPr b="0" lang="en-US" sz="23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7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ru-RU" sz="2300" spc="-1" strike="noStrike">
                <a:solidFill>
                  <a:srgbClr val="ffff00"/>
                </a:solidFill>
                <a:latin typeface="Cambria"/>
              </a:rPr>
              <a:t>разработан </a:t>
            </a:r>
            <a:r>
              <a:rPr b="1" lang="ru-RU" sz="2300" spc="-1" strike="noStrike">
                <a:solidFill>
                  <a:srgbClr val="ffff00"/>
                </a:solidFill>
                <a:latin typeface="Cambria"/>
              </a:rPr>
              <a:t>план методической работы</a:t>
            </a:r>
            <a:r>
              <a:rPr b="0" lang="ru-RU" sz="2300" spc="-1" strike="noStrike">
                <a:solidFill>
                  <a:srgbClr val="ffffff"/>
                </a:solidFill>
                <a:latin typeface="Cambria"/>
              </a:rPr>
              <a:t>, обеспечивающей сопровождение введения ФГОС;</a:t>
            </a:r>
            <a:endParaRPr b="0" lang="en-US" sz="23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7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00"/>
                </a:solidFill>
                <a:latin typeface="Cambria"/>
              </a:rPr>
              <a:t>осуществлено </a:t>
            </a:r>
            <a:r>
              <a:rPr b="1" lang="ru-RU" sz="2300" spc="-1" strike="noStrike">
                <a:solidFill>
                  <a:srgbClr val="ffff00"/>
                </a:solidFill>
                <a:latin typeface="Cambria"/>
              </a:rPr>
              <a:t>повышение квалификации учителей</a:t>
            </a:r>
            <a:r>
              <a:rPr b="0" lang="ru-RU" sz="23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Cambria"/>
              </a:rPr>
              <a:t>и других педагогических работников;</a:t>
            </a:r>
            <a:endParaRPr b="0" lang="en-US" sz="23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7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Cambria"/>
              </a:rPr>
              <a:t>обеспечены кадровые, финансовые, материально-технические и иные условия реализации основной образовательной программы начального общего </a:t>
            </a:r>
            <a:r>
              <a:rPr b="0" lang="ru-RU" sz="2300" spc="-1" strike="noStrike">
                <a:solidFill>
                  <a:srgbClr val="ffffff"/>
                </a:solidFill>
                <a:latin typeface="Cambria"/>
              </a:rPr>
              <a:t>образования в соответствии с требованиями  ФГОС. </a:t>
            </a:r>
            <a:endParaRPr b="0" lang="en-US" sz="23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Rectangle 2" descr=""/>
          <p:cNvPicPr/>
          <p:nvPr/>
        </p:nvPicPr>
        <p:blipFill>
          <a:blip r:embed="rId1"/>
          <a:stretch/>
        </p:blipFill>
        <p:spPr>
          <a:xfrm>
            <a:off x="469800" y="-195120"/>
            <a:ext cx="8363160" cy="1170000"/>
          </a:xfrm>
          <a:prstGeom prst="rect">
            <a:avLst/>
          </a:prstGeom>
          <a:ln w="0">
            <a:noFill/>
          </a:ln>
        </p:spPr>
      </p:pic>
      <p:sp>
        <p:nvSpPr>
          <p:cNvPr id="494" name="AutoShape 3"/>
          <p:cNvSpPr/>
          <p:nvPr/>
        </p:nvSpPr>
        <p:spPr>
          <a:xfrm>
            <a:off x="235080" y="2343240"/>
            <a:ext cx="4878360" cy="4438440"/>
          </a:xfrm>
          <a:custGeom>
            <a:avLst/>
            <a:gdLst>
              <a:gd name="textAreaLeft" fmla="*/ 0 w 4878360"/>
              <a:gd name="textAreaRight" fmla="*/ 4878720 w 4878360"/>
              <a:gd name="textAreaTop" fmla="*/ 0 h 4438440"/>
              <a:gd name="textAreaBottom" fmla="*/ 1598040 h 4438440"/>
            </a:gdLst>
            <a:ahLst/>
            <a:rect l="textAreaLeft" t="textAreaTop" r="textAreaRight" b="textAreaBottom"/>
            <a:pathLst>
              <a:path w="21600" h="2160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lnTo>
                  <a:pt x="4750" y="10833"/>
                </a:lnTo>
                <a:close/>
              </a:path>
            </a:pathLst>
          </a:cu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AutoShape 4"/>
          <p:cNvSpPr/>
          <p:nvPr/>
        </p:nvSpPr>
        <p:spPr>
          <a:xfrm>
            <a:off x="923760" y="2981160"/>
            <a:ext cx="3603960" cy="3279960"/>
          </a:xfrm>
          <a:custGeom>
            <a:avLst/>
            <a:gdLst>
              <a:gd name="textAreaLeft" fmla="*/ 0 w 3603960"/>
              <a:gd name="textAreaRight" fmla="*/ 3604320 w 3603960"/>
              <a:gd name="textAreaTop" fmla="*/ 0 h 3279960"/>
              <a:gd name="textAreaBottom" fmla="*/ 1180800 h 3279960"/>
            </a:gdLst>
            <a:ahLst/>
            <a:rect l="textAreaLeft" t="textAreaTop" r="textAreaRight" b="textAreaBottom"/>
            <a:pathLst>
              <a:path w="21600" h="2160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lnTo>
                  <a:pt x="4750" y="10833"/>
                </a:lnTo>
                <a:close/>
              </a:path>
            </a:pathLst>
          </a:custGeom>
          <a:gradFill rotWithShape="0">
            <a:gsLst>
              <a:gs pos="0">
                <a:srgbClr val="184776"/>
              </a:gs>
              <a:gs pos="50000">
                <a:srgbClr val="3399ff"/>
              </a:gs>
              <a:gs pos="100000">
                <a:srgbClr val="184776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AutoShape 5"/>
          <p:cNvSpPr/>
          <p:nvPr/>
        </p:nvSpPr>
        <p:spPr>
          <a:xfrm>
            <a:off x="1363680" y="3462480"/>
            <a:ext cx="2662200" cy="2422440"/>
          </a:xfrm>
          <a:custGeom>
            <a:avLst/>
            <a:gdLst>
              <a:gd name="textAreaLeft" fmla="*/ 0 w 2662200"/>
              <a:gd name="textAreaRight" fmla="*/ 2662200 w 2662200"/>
              <a:gd name="textAreaTop" fmla="*/ 0 h 2422440"/>
              <a:gd name="textAreaBottom" fmla="*/ 872280 h 2422440"/>
            </a:gdLst>
            <a:ahLst/>
            <a:rect l="textAreaLeft" t="textAreaTop" r="textAreaRight" b="textAreaBottom"/>
            <a:pathLst>
              <a:path w="21600" h="2160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lnTo>
                  <a:pt x="4750" y="10833"/>
                </a:lnTo>
                <a:close/>
              </a:path>
            </a:pathLst>
          </a:custGeom>
          <a:gradFill rotWithShape="0">
            <a:gsLst>
              <a:gs pos="0">
                <a:srgbClr val="482626"/>
              </a:gs>
              <a:gs pos="50000">
                <a:srgbClr val="9c5252"/>
              </a:gs>
              <a:gs pos="100000">
                <a:srgbClr val="482626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AutoShape 6"/>
          <p:cNvSpPr/>
          <p:nvPr/>
        </p:nvSpPr>
        <p:spPr>
          <a:xfrm>
            <a:off x="1692360" y="4005360"/>
            <a:ext cx="1887480" cy="1368360"/>
          </a:xfrm>
          <a:prstGeom prst="pie">
            <a:avLst/>
          </a:prstGeom>
          <a:gradFill rotWithShape="0">
            <a:gsLst>
              <a:gs pos="0">
                <a:srgbClr val="2c3753"/>
              </a:gs>
              <a:gs pos="50000">
                <a:srgbClr val="6076b4"/>
              </a:gs>
              <a:gs pos="100000">
                <a:srgbClr val="2c3753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Г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AutoShape 7"/>
          <p:cNvSpPr/>
          <p:nvPr/>
        </p:nvSpPr>
        <p:spPr>
          <a:xfrm>
            <a:off x="5435640" y="3789360"/>
            <a:ext cx="3924360" cy="16556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нормативная база ОУ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приведена в соответствие с требованиями ФГОС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(цели образовательного процесса, режим занятий, финансирование, материально-техническое  обеспечение  и т.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AutoShape 8"/>
          <p:cNvSpPr/>
          <p:nvPr/>
        </p:nvSpPr>
        <p:spPr>
          <a:xfrm>
            <a:off x="4716360" y="2708280"/>
            <a:ext cx="3672000" cy="79200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существлено </a:t>
            </a: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повышение квалификации учителей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и других педагогических работник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AutoShape 9"/>
          <p:cNvSpPr/>
          <p:nvPr/>
        </p:nvSpPr>
        <p:spPr>
          <a:xfrm>
            <a:off x="3924360" y="1413000"/>
            <a:ext cx="3743280" cy="115236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разработан </a:t>
            </a: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план методической работы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, обеспечивающей сопровождение введения ФГОС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AutoShape 10"/>
          <p:cNvSpPr/>
          <p:nvPr/>
        </p:nvSpPr>
        <p:spPr>
          <a:xfrm>
            <a:off x="755640" y="1341360"/>
            <a:ext cx="2736720" cy="121752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разработана и утверждена </a:t>
            </a: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ООП начального общег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бразования ОУ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11"/>
          <p:cNvSpPr/>
          <p:nvPr/>
        </p:nvSpPr>
        <p:spPr>
          <a:xfrm>
            <a:off x="0" y="5589720"/>
            <a:ext cx="1882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должностные инструкции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работников ОУ приведены в соответств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 требованиями ФГОС НОО и новыми тарифно-квалификационны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характеристик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Блок-схема: процесс 21"/>
          <p:cNvGrpSpPr/>
          <p:nvPr/>
        </p:nvGrpSpPr>
        <p:grpSpPr>
          <a:xfrm>
            <a:off x="5437080" y="1274760"/>
            <a:ext cx="3713400" cy="5583240"/>
            <a:chOff x="5437080" y="1274760"/>
            <a:chExt cx="3713400" cy="5583240"/>
          </a:xfrm>
        </p:grpSpPr>
        <p:pic>
          <p:nvPicPr>
            <p:cNvPr id="504" name="Блок-схема: процесс 21" descr=""/>
            <p:cNvPicPr/>
            <p:nvPr/>
          </p:nvPicPr>
          <p:blipFill>
            <a:blip r:embed="rId1"/>
            <a:stretch/>
          </p:blipFill>
          <p:spPr>
            <a:xfrm>
              <a:off x="5437080" y="1274760"/>
              <a:ext cx="3713400" cy="558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>
              <a:off x="5457960" y="1293840"/>
              <a:ext cx="3671640" cy="55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6" name="Блок-схема: процесс 19"/>
          <p:cNvGrpSpPr/>
          <p:nvPr/>
        </p:nvGrpSpPr>
        <p:grpSpPr>
          <a:xfrm>
            <a:off x="92160" y="1176480"/>
            <a:ext cx="3705120" cy="5584680"/>
            <a:chOff x="92160" y="1176480"/>
            <a:chExt cx="3705120" cy="5584680"/>
          </a:xfrm>
        </p:grpSpPr>
        <p:pic>
          <p:nvPicPr>
            <p:cNvPr id="507" name="Блок-схема: процесс 19" descr=""/>
            <p:cNvPicPr/>
            <p:nvPr/>
          </p:nvPicPr>
          <p:blipFill>
            <a:blip r:embed="rId2"/>
            <a:stretch/>
          </p:blipFill>
          <p:spPr>
            <a:xfrm>
              <a:off x="92160" y="1176480"/>
              <a:ext cx="3705120" cy="558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108000" y="1197000"/>
              <a:ext cx="3672000" cy="55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9" name="TextBox 10"/>
          <p:cNvGrpSpPr/>
          <p:nvPr/>
        </p:nvGrpSpPr>
        <p:grpSpPr>
          <a:xfrm>
            <a:off x="2567160" y="1249200"/>
            <a:ext cx="1193760" cy="487440"/>
            <a:chOff x="2567160" y="1249200"/>
            <a:chExt cx="1193760" cy="487440"/>
          </a:xfrm>
        </p:grpSpPr>
        <p:pic>
          <p:nvPicPr>
            <p:cNvPr id="510" name="TextBox 10" descr=""/>
            <p:cNvPicPr/>
            <p:nvPr/>
          </p:nvPicPr>
          <p:blipFill>
            <a:blip r:embed="rId3"/>
            <a:stretch/>
          </p:blipFill>
          <p:spPr>
            <a:xfrm>
              <a:off x="2567160" y="1249200"/>
              <a:ext cx="119376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Text Box 11"/>
            <p:cNvSpPr/>
            <p:nvPr/>
          </p:nvSpPr>
          <p:spPr>
            <a:xfrm>
              <a:off x="2646360" y="1305000"/>
              <a:ext cx="1042920" cy="33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1 класс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2" name="TextBox 11"/>
          <p:cNvGrpSpPr/>
          <p:nvPr/>
        </p:nvGrpSpPr>
        <p:grpSpPr>
          <a:xfrm>
            <a:off x="3846600" y="1255680"/>
            <a:ext cx="1395360" cy="622440"/>
            <a:chOff x="3846600" y="1255680"/>
            <a:chExt cx="1395360" cy="622440"/>
          </a:xfrm>
        </p:grpSpPr>
        <p:pic>
          <p:nvPicPr>
            <p:cNvPr id="513" name="TextBox 11" descr=""/>
            <p:cNvPicPr/>
            <p:nvPr/>
          </p:nvPicPr>
          <p:blipFill>
            <a:blip r:embed="rId4"/>
            <a:stretch/>
          </p:blipFill>
          <p:spPr>
            <a:xfrm>
              <a:off x="3846600" y="1255680"/>
              <a:ext cx="139536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3930480" y="1314360"/>
              <a:ext cx="122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1.09.201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5" name="TextBox 13"/>
          <p:cNvGrpSpPr/>
          <p:nvPr/>
        </p:nvGrpSpPr>
        <p:grpSpPr>
          <a:xfrm>
            <a:off x="3846600" y="1736640"/>
            <a:ext cx="1395360" cy="615960"/>
            <a:chOff x="3846600" y="1736640"/>
            <a:chExt cx="1395360" cy="615960"/>
          </a:xfrm>
        </p:grpSpPr>
        <p:pic>
          <p:nvPicPr>
            <p:cNvPr id="516" name="TextBox 13" descr=""/>
            <p:cNvPicPr/>
            <p:nvPr/>
          </p:nvPicPr>
          <p:blipFill>
            <a:blip r:embed="rId5"/>
            <a:stretch/>
          </p:blipFill>
          <p:spPr>
            <a:xfrm>
              <a:off x="3846600" y="1736640"/>
              <a:ext cx="13953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3930480" y="1790640"/>
              <a:ext cx="122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1.09.20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8" name="TextBox 14"/>
          <p:cNvGrpSpPr/>
          <p:nvPr/>
        </p:nvGrpSpPr>
        <p:grpSpPr>
          <a:xfrm>
            <a:off x="3846600" y="2236680"/>
            <a:ext cx="1395360" cy="622440"/>
            <a:chOff x="3846600" y="2236680"/>
            <a:chExt cx="1395360" cy="622440"/>
          </a:xfrm>
        </p:grpSpPr>
        <p:pic>
          <p:nvPicPr>
            <p:cNvPr id="519" name="TextBox 14" descr=""/>
            <p:cNvPicPr/>
            <p:nvPr/>
          </p:nvPicPr>
          <p:blipFill>
            <a:blip r:embed="rId6"/>
            <a:stretch/>
          </p:blipFill>
          <p:spPr>
            <a:xfrm>
              <a:off x="3846600" y="2236680"/>
              <a:ext cx="139536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3930480" y="2293920"/>
              <a:ext cx="122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1.09.201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1" name="TextBox 15"/>
          <p:cNvGrpSpPr/>
          <p:nvPr/>
        </p:nvGrpSpPr>
        <p:grpSpPr>
          <a:xfrm>
            <a:off x="3846600" y="2743200"/>
            <a:ext cx="1395360" cy="622440"/>
            <a:chOff x="3846600" y="2743200"/>
            <a:chExt cx="1395360" cy="622440"/>
          </a:xfrm>
        </p:grpSpPr>
        <p:pic>
          <p:nvPicPr>
            <p:cNvPr id="522" name="TextBox 15" descr=""/>
            <p:cNvPicPr/>
            <p:nvPr/>
          </p:nvPicPr>
          <p:blipFill>
            <a:blip r:embed="rId7"/>
            <a:stretch/>
          </p:blipFill>
          <p:spPr>
            <a:xfrm>
              <a:off x="3846600" y="2743200"/>
              <a:ext cx="139536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3930480" y="2798640"/>
              <a:ext cx="122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1.09.201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4" name="TextBox 16"/>
          <p:cNvGrpSpPr/>
          <p:nvPr/>
        </p:nvGrpSpPr>
        <p:grpSpPr>
          <a:xfrm>
            <a:off x="3846600" y="3224160"/>
            <a:ext cx="1390680" cy="615960"/>
            <a:chOff x="3846600" y="3224160"/>
            <a:chExt cx="1390680" cy="615960"/>
          </a:xfrm>
        </p:grpSpPr>
        <p:pic>
          <p:nvPicPr>
            <p:cNvPr id="525" name="TextBox 16" descr=""/>
            <p:cNvPicPr/>
            <p:nvPr/>
          </p:nvPicPr>
          <p:blipFill>
            <a:blip r:embed="rId8"/>
            <a:stretch/>
          </p:blipFill>
          <p:spPr>
            <a:xfrm>
              <a:off x="3846600" y="3224160"/>
              <a:ext cx="139068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3929040" y="327816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1.09.201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7" name="TextBox 18"/>
          <p:cNvGrpSpPr/>
          <p:nvPr/>
        </p:nvGrpSpPr>
        <p:grpSpPr>
          <a:xfrm>
            <a:off x="3846600" y="3749760"/>
            <a:ext cx="1395360" cy="620640"/>
            <a:chOff x="3846600" y="3749760"/>
            <a:chExt cx="1395360" cy="620640"/>
          </a:xfrm>
        </p:grpSpPr>
        <p:pic>
          <p:nvPicPr>
            <p:cNvPr id="528" name="TextBox 18" descr=""/>
            <p:cNvPicPr/>
            <p:nvPr/>
          </p:nvPicPr>
          <p:blipFill>
            <a:blip r:embed="rId9"/>
            <a:stretch/>
          </p:blipFill>
          <p:spPr>
            <a:xfrm>
              <a:off x="3846600" y="3749760"/>
              <a:ext cx="139536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3930480" y="3807000"/>
              <a:ext cx="122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1.09.201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0" name="TextBox 20"/>
          <p:cNvGrpSpPr/>
          <p:nvPr/>
        </p:nvGrpSpPr>
        <p:grpSpPr>
          <a:xfrm>
            <a:off x="5508720" y="1736640"/>
            <a:ext cx="1079280" cy="482760"/>
            <a:chOff x="5508720" y="1736640"/>
            <a:chExt cx="1079280" cy="482760"/>
          </a:xfrm>
        </p:grpSpPr>
        <p:pic>
          <p:nvPicPr>
            <p:cNvPr id="531" name="TextBox 20" descr=""/>
            <p:cNvPicPr/>
            <p:nvPr/>
          </p:nvPicPr>
          <p:blipFill>
            <a:blip r:embed="rId10"/>
            <a:stretch/>
          </p:blipFill>
          <p:spPr>
            <a:xfrm>
              <a:off x="5508720" y="1736640"/>
              <a:ext cx="107928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Text Box 32"/>
            <p:cNvSpPr/>
            <p:nvPr/>
          </p:nvSpPr>
          <p:spPr>
            <a:xfrm>
              <a:off x="5578920" y="1789200"/>
              <a:ext cx="944280" cy="33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1 класс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3" name="TextBox 22"/>
          <p:cNvGrpSpPr/>
          <p:nvPr/>
        </p:nvGrpSpPr>
        <p:grpSpPr>
          <a:xfrm>
            <a:off x="334800" y="2730600"/>
            <a:ext cx="1195560" cy="482400"/>
            <a:chOff x="334800" y="2730600"/>
            <a:chExt cx="1195560" cy="482400"/>
          </a:xfrm>
        </p:grpSpPr>
        <p:pic>
          <p:nvPicPr>
            <p:cNvPr id="534" name="TextBox 22" descr=""/>
            <p:cNvPicPr/>
            <p:nvPr/>
          </p:nvPicPr>
          <p:blipFill>
            <a:blip r:embed="rId11"/>
            <a:stretch/>
          </p:blipFill>
          <p:spPr>
            <a:xfrm>
              <a:off x="334800" y="2730600"/>
              <a:ext cx="1195560" cy="48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Text Box 35"/>
            <p:cNvSpPr/>
            <p:nvPr/>
          </p:nvSpPr>
          <p:spPr>
            <a:xfrm>
              <a:off x="414360" y="2784600"/>
              <a:ext cx="1042920" cy="33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10 класс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6" name="TextBox 23"/>
          <p:cNvGrpSpPr/>
          <p:nvPr/>
        </p:nvGrpSpPr>
        <p:grpSpPr>
          <a:xfrm>
            <a:off x="7753320" y="6199200"/>
            <a:ext cx="1195560" cy="487440"/>
            <a:chOff x="7753320" y="6199200"/>
            <a:chExt cx="1195560" cy="487440"/>
          </a:xfrm>
        </p:grpSpPr>
        <p:pic>
          <p:nvPicPr>
            <p:cNvPr id="537" name="TextBox 23" descr=""/>
            <p:cNvPicPr/>
            <p:nvPr/>
          </p:nvPicPr>
          <p:blipFill>
            <a:blip r:embed="rId12"/>
            <a:stretch/>
          </p:blipFill>
          <p:spPr>
            <a:xfrm>
              <a:off x="7753320" y="6199200"/>
              <a:ext cx="119556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Text Box 38"/>
            <p:cNvSpPr/>
            <p:nvPr/>
          </p:nvSpPr>
          <p:spPr>
            <a:xfrm>
              <a:off x="7831080" y="6256440"/>
              <a:ext cx="1042920" cy="33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10 класс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9" name="TextBox 25"/>
          <p:cNvGrpSpPr/>
          <p:nvPr/>
        </p:nvGrpSpPr>
        <p:grpSpPr>
          <a:xfrm>
            <a:off x="6553080" y="3800520"/>
            <a:ext cx="1193760" cy="480960"/>
            <a:chOff x="6553080" y="3800520"/>
            <a:chExt cx="1193760" cy="480960"/>
          </a:xfrm>
        </p:grpSpPr>
        <p:pic>
          <p:nvPicPr>
            <p:cNvPr id="540" name="TextBox 25" descr=""/>
            <p:cNvPicPr/>
            <p:nvPr/>
          </p:nvPicPr>
          <p:blipFill>
            <a:blip r:embed="rId13"/>
            <a:stretch/>
          </p:blipFill>
          <p:spPr>
            <a:xfrm>
              <a:off x="6553080" y="3800520"/>
              <a:ext cx="11937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 Box 41"/>
            <p:cNvSpPr/>
            <p:nvPr/>
          </p:nvSpPr>
          <p:spPr>
            <a:xfrm>
              <a:off x="6630840" y="3852720"/>
              <a:ext cx="1042920" cy="33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5</a:t>
              </a:r>
              <a:r>
                <a:rPr b="1" lang="ru-RU" sz="1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ru-RU" sz="16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класс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2" name="TextBox 27"/>
          <p:cNvGrpSpPr/>
          <p:nvPr/>
        </p:nvGrpSpPr>
        <p:grpSpPr>
          <a:xfrm>
            <a:off x="1487520" y="2236680"/>
            <a:ext cx="1195200" cy="487440"/>
            <a:chOff x="1487520" y="2236680"/>
            <a:chExt cx="1195200" cy="487440"/>
          </a:xfrm>
        </p:grpSpPr>
        <p:pic>
          <p:nvPicPr>
            <p:cNvPr id="543" name="TextBox 27" descr=""/>
            <p:cNvPicPr/>
            <p:nvPr/>
          </p:nvPicPr>
          <p:blipFill>
            <a:blip r:embed="rId14"/>
            <a:stretch/>
          </p:blipFill>
          <p:spPr>
            <a:xfrm>
              <a:off x="1487520" y="2236680"/>
              <a:ext cx="11952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Text Box 44"/>
            <p:cNvSpPr/>
            <p:nvPr/>
          </p:nvSpPr>
          <p:spPr>
            <a:xfrm>
              <a:off x="1565280" y="2293920"/>
              <a:ext cx="1044720" cy="33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5 класс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5" name="TextBox 28"/>
          <p:cNvGrpSpPr/>
          <p:nvPr/>
        </p:nvGrpSpPr>
        <p:grpSpPr>
          <a:xfrm>
            <a:off x="3846600" y="4254480"/>
            <a:ext cx="1395360" cy="622440"/>
            <a:chOff x="3846600" y="4254480"/>
            <a:chExt cx="1395360" cy="622440"/>
          </a:xfrm>
        </p:grpSpPr>
        <p:pic>
          <p:nvPicPr>
            <p:cNvPr id="546" name="TextBox 28" descr=""/>
            <p:cNvPicPr/>
            <p:nvPr/>
          </p:nvPicPr>
          <p:blipFill>
            <a:blip r:embed="rId15"/>
            <a:stretch/>
          </p:blipFill>
          <p:spPr>
            <a:xfrm>
              <a:off x="3846600" y="4254480"/>
              <a:ext cx="139536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"/>
            <p:cNvSpPr/>
            <p:nvPr/>
          </p:nvSpPr>
          <p:spPr>
            <a:xfrm>
              <a:off x="3930480" y="4309920"/>
              <a:ext cx="122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1.09.201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8" name="TextBox 29"/>
          <p:cNvGrpSpPr/>
          <p:nvPr/>
        </p:nvGrpSpPr>
        <p:grpSpPr>
          <a:xfrm>
            <a:off x="3846600" y="4761000"/>
            <a:ext cx="1395360" cy="615960"/>
            <a:chOff x="3846600" y="4761000"/>
            <a:chExt cx="1395360" cy="615960"/>
          </a:xfrm>
        </p:grpSpPr>
        <p:pic>
          <p:nvPicPr>
            <p:cNvPr id="549" name="TextBox 29" descr=""/>
            <p:cNvPicPr/>
            <p:nvPr/>
          </p:nvPicPr>
          <p:blipFill>
            <a:blip r:embed="rId16"/>
            <a:stretch/>
          </p:blipFill>
          <p:spPr>
            <a:xfrm>
              <a:off x="3846600" y="4761000"/>
              <a:ext cx="13953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>
              <a:off x="3930480" y="4815000"/>
              <a:ext cx="122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1.09.20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1" name="TextBox 30"/>
          <p:cNvGrpSpPr/>
          <p:nvPr/>
        </p:nvGrpSpPr>
        <p:grpSpPr>
          <a:xfrm>
            <a:off x="3846600" y="5261040"/>
            <a:ext cx="1395360" cy="622080"/>
            <a:chOff x="3846600" y="5261040"/>
            <a:chExt cx="1395360" cy="622080"/>
          </a:xfrm>
        </p:grpSpPr>
        <p:pic>
          <p:nvPicPr>
            <p:cNvPr id="552" name="TextBox 30" descr=""/>
            <p:cNvPicPr/>
            <p:nvPr/>
          </p:nvPicPr>
          <p:blipFill>
            <a:blip r:embed="rId17"/>
            <a:stretch/>
          </p:blipFill>
          <p:spPr>
            <a:xfrm>
              <a:off x="3846600" y="5261040"/>
              <a:ext cx="1395360" cy="6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3930480" y="5318280"/>
              <a:ext cx="122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1.09.201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4" name="TextBox 31"/>
          <p:cNvGrpSpPr/>
          <p:nvPr/>
        </p:nvGrpSpPr>
        <p:grpSpPr>
          <a:xfrm>
            <a:off x="3846600" y="5767560"/>
            <a:ext cx="1395360" cy="620640"/>
            <a:chOff x="3846600" y="5767560"/>
            <a:chExt cx="1395360" cy="620640"/>
          </a:xfrm>
        </p:grpSpPr>
        <p:pic>
          <p:nvPicPr>
            <p:cNvPr id="555" name="TextBox 31" descr=""/>
            <p:cNvPicPr/>
            <p:nvPr/>
          </p:nvPicPr>
          <p:blipFill>
            <a:blip r:embed="rId18"/>
            <a:stretch/>
          </p:blipFill>
          <p:spPr>
            <a:xfrm>
              <a:off x="3846600" y="5767560"/>
              <a:ext cx="139536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3930480" y="5823000"/>
              <a:ext cx="122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1.09.201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7" name="TextBox 32"/>
          <p:cNvGrpSpPr/>
          <p:nvPr/>
        </p:nvGrpSpPr>
        <p:grpSpPr>
          <a:xfrm>
            <a:off x="3846600" y="6272280"/>
            <a:ext cx="1395360" cy="615960"/>
            <a:chOff x="3846600" y="6272280"/>
            <a:chExt cx="1395360" cy="615960"/>
          </a:xfrm>
        </p:grpSpPr>
        <p:pic>
          <p:nvPicPr>
            <p:cNvPr id="558" name="TextBox 32" descr=""/>
            <p:cNvPicPr/>
            <p:nvPr/>
          </p:nvPicPr>
          <p:blipFill>
            <a:blip r:embed="rId19"/>
            <a:stretch/>
          </p:blipFill>
          <p:spPr>
            <a:xfrm>
              <a:off x="3846600" y="6272280"/>
              <a:ext cx="13953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3930480" y="6326280"/>
              <a:ext cx="122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1.09.202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0" name="Стрелка вниз 33"/>
          <p:cNvGrpSpPr/>
          <p:nvPr/>
        </p:nvGrpSpPr>
        <p:grpSpPr>
          <a:xfrm>
            <a:off x="2657520" y="1755720"/>
            <a:ext cx="1019160" cy="4584600"/>
            <a:chOff x="2657520" y="1755720"/>
            <a:chExt cx="1019160" cy="4584600"/>
          </a:xfrm>
        </p:grpSpPr>
        <p:pic>
          <p:nvPicPr>
            <p:cNvPr id="561" name="Стрелка вниз 33" descr=""/>
            <p:cNvPicPr/>
            <p:nvPr/>
          </p:nvPicPr>
          <p:blipFill>
            <a:blip r:embed="rId20"/>
            <a:stretch/>
          </p:blipFill>
          <p:spPr>
            <a:xfrm>
              <a:off x="2657520" y="1755720"/>
              <a:ext cx="1019160" cy="458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"/>
            <p:cNvSpPr/>
            <p:nvPr/>
          </p:nvSpPr>
          <p:spPr>
            <a:xfrm>
              <a:off x="2933640" y="1773360"/>
              <a:ext cx="468360" cy="427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3" name="Стрелка вниз 34"/>
          <p:cNvGrpSpPr/>
          <p:nvPr/>
        </p:nvGrpSpPr>
        <p:grpSpPr>
          <a:xfrm>
            <a:off x="1579680" y="2762280"/>
            <a:ext cx="1017360" cy="3583080"/>
            <a:chOff x="1579680" y="2762280"/>
            <a:chExt cx="1017360" cy="3583080"/>
          </a:xfrm>
        </p:grpSpPr>
        <p:pic>
          <p:nvPicPr>
            <p:cNvPr id="564" name="Стрелка вниз 34" descr=""/>
            <p:cNvPicPr/>
            <p:nvPr/>
          </p:nvPicPr>
          <p:blipFill>
            <a:blip r:embed="rId21"/>
            <a:stretch/>
          </p:blipFill>
          <p:spPr>
            <a:xfrm>
              <a:off x="1579680" y="2762280"/>
              <a:ext cx="1017360" cy="35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"/>
            <p:cNvSpPr/>
            <p:nvPr/>
          </p:nvSpPr>
          <p:spPr>
            <a:xfrm>
              <a:off x="1854360" y="2781360"/>
              <a:ext cx="468000" cy="32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6" name="Стрелка вниз 35"/>
          <p:cNvGrpSpPr/>
          <p:nvPr/>
        </p:nvGrpSpPr>
        <p:grpSpPr>
          <a:xfrm>
            <a:off x="426960" y="3267000"/>
            <a:ext cx="1017720" cy="3090960"/>
            <a:chOff x="426960" y="3267000"/>
            <a:chExt cx="1017720" cy="3090960"/>
          </a:xfrm>
        </p:grpSpPr>
        <p:pic>
          <p:nvPicPr>
            <p:cNvPr id="567" name="Стрелка вниз 35" descr=""/>
            <p:cNvPicPr/>
            <p:nvPr/>
          </p:nvPicPr>
          <p:blipFill>
            <a:blip r:embed="rId22"/>
            <a:stretch/>
          </p:blipFill>
          <p:spPr>
            <a:xfrm>
              <a:off x="426960" y="3267000"/>
              <a:ext cx="1017720" cy="30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"/>
            <p:cNvSpPr/>
            <p:nvPr/>
          </p:nvSpPr>
          <p:spPr>
            <a:xfrm>
              <a:off x="703440" y="3284640"/>
              <a:ext cx="466560" cy="27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9" name="Стрелка вниз 36"/>
          <p:cNvGrpSpPr/>
          <p:nvPr/>
        </p:nvGrpSpPr>
        <p:grpSpPr>
          <a:xfrm>
            <a:off x="5394240" y="2262240"/>
            <a:ext cx="1019160" cy="4151160"/>
            <a:chOff x="5394240" y="2262240"/>
            <a:chExt cx="1019160" cy="4151160"/>
          </a:xfrm>
        </p:grpSpPr>
        <p:pic>
          <p:nvPicPr>
            <p:cNvPr id="570" name="Стрелка вниз 36" descr=""/>
            <p:cNvPicPr/>
            <p:nvPr/>
          </p:nvPicPr>
          <p:blipFill>
            <a:blip r:embed="rId23"/>
            <a:stretch/>
          </p:blipFill>
          <p:spPr>
            <a:xfrm>
              <a:off x="5394240" y="2262240"/>
              <a:ext cx="1019160" cy="41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"/>
            <p:cNvSpPr/>
            <p:nvPr/>
          </p:nvSpPr>
          <p:spPr>
            <a:xfrm>
              <a:off x="5670720" y="2276640"/>
              <a:ext cx="468000" cy="38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2" name="Стрелка вниз 37"/>
          <p:cNvGrpSpPr/>
          <p:nvPr/>
        </p:nvGrpSpPr>
        <p:grpSpPr>
          <a:xfrm>
            <a:off x="6620040" y="4273560"/>
            <a:ext cx="1019160" cy="2139840"/>
            <a:chOff x="6620040" y="4273560"/>
            <a:chExt cx="1019160" cy="2139840"/>
          </a:xfrm>
        </p:grpSpPr>
        <p:pic>
          <p:nvPicPr>
            <p:cNvPr id="573" name="Стрелка вниз 37" descr=""/>
            <p:cNvPicPr/>
            <p:nvPr/>
          </p:nvPicPr>
          <p:blipFill>
            <a:blip r:embed="rId24"/>
            <a:stretch/>
          </p:blipFill>
          <p:spPr>
            <a:xfrm>
              <a:off x="6620040" y="4273560"/>
              <a:ext cx="1019160" cy="21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6894360" y="4292640"/>
              <a:ext cx="46836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5" name="Блок-схема: альтернативный процесс 38"/>
          <p:cNvSpPr/>
          <p:nvPr/>
        </p:nvSpPr>
        <p:spPr>
          <a:xfrm>
            <a:off x="252360" y="1341360"/>
            <a:ext cx="2087640" cy="863640"/>
          </a:xfrm>
          <a:prstGeom prst="flowChartAlternateProcess">
            <a:avLst/>
          </a:prstGeom>
          <a:gradFill rotWithShape="0">
            <a:gsLst>
              <a:gs pos="0">
                <a:srgbClr val="96a5de"/>
              </a:gs>
              <a:gs pos="100000">
                <a:srgbClr val="e4e7f5"/>
              </a:gs>
            </a:gsLst>
            <a:lin ang="16200000"/>
          </a:gradFill>
          <a:ln w="9360">
            <a:solidFill>
              <a:srgbClr val="566aa3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ведение ФГОС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 мере готов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Блок-схема: альтернативный процесс 39"/>
          <p:cNvSpPr/>
          <p:nvPr/>
        </p:nvSpPr>
        <p:spPr>
          <a:xfrm>
            <a:off x="6732720" y="1341360"/>
            <a:ext cx="2087280" cy="863640"/>
          </a:xfrm>
          <a:prstGeom prst="flowChartAlternateProcess">
            <a:avLst/>
          </a:prstGeom>
          <a:gradFill rotWithShape="0">
            <a:gsLst>
              <a:gs pos="0">
                <a:srgbClr val="96a5de"/>
              </a:gs>
              <a:gs pos="100000">
                <a:srgbClr val="e4e7f5"/>
              </a:gs>
            </a:gsLst>
            <a:lin ang="16200000"/>
          </a:gradFill>
          <a:ln w="9360">
            <a:solidFill>
              <a:srgbClr val="566aa3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бязательное введе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ФГО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Rectangle 77"/>
          <p:cNvSpPr/>
          <p:nvPr/>
        </p:nvSpPr>
        <p:spPr>
          <a:xfrm>
            <a:off x="179280" y="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Rectangle 2" descr=""/>
          <p:cNvPicPr/>
          <p:nvPr/>
        </p:nvPicPr>
        <p:blipFill>
          <a:blip r:embed="rId1"/>
          <a:stretch/>
        </p:blipFill>
        <p:spPr>
          <a:xfrm>
            <a:off x="298440" y="231840"/>
            <a:ext cx="8534520" cy="125568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1.</a:t>
            </a:r>
            <a:r>
              <a:rPr b="1" i="1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Организация и проведение 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публичных отчетов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образовательного учреждения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2.</a:t>
            </a:r>
            <a:r>
              <a:rPr b="1" i="1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Использование информационных ресурсов образовательного учреждения (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сайт, Интернет-страничка, выставки, презентации и т.д.)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   </a:t>
            </a:r>
            <a:r>
              <a:rPr b="0" lang="ru-RU" sz="2800" spc="-1" strike="noStrike">
                <a:solidFill>
                  <a:srgbClr val="ffc000"/>
                </a:solidFill>
                <a:latin typeface="Cambria"/>
              </a:rPr>
              <a:t>Стандарт – важнейший нормативно-правовой акт, устанавливающий от имени РФ определённую совокупность наиболее общих норм и правил, регулирующих деятельность системы общего среднего образования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1" name="Picture 4" descr=""/>
          <p:cNvPicPr/>
          <p:nvPr/>
        </p:nvPicPr>
        <p:blipFill>
          <a:blip r:embed="rId1"/>
          <a:stretch/>
        </p:blipFill>
        <p:spPr>
          <a:xfrm>
            <a:off x="5000760" y="214200"/>
            <a:ext cx="2857320" cy="7858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C:\Documents and Settings\gavrish\Мои документы\Мои рисунки\iCAW25KVN.jpg"/>
          <p:cNvPicPr/>
          <p:nvPr/>
        </p:nvPicPr>
        <p:blipFill>
          <a:blip r:embed="rId2"/>
          <a:stretch/>
        </p:blipFill>
        <p:spPr>
          <a:xfrm>
            <a:off x="6143760" y="4643280"/>
            <a:ext cx="1433520" cy="19623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" descr="C:\Documents and Settings\gavrish\Мои документы\Мои рисунки\председатель правительства.jpg"/>
          <p:cNvPicPr/>
          <p:nvPr/>
        </p:nvPicPr>
        <p:blipFill>
          <a:blip r:embed="rId3"/>
          <a:stretch/>
        </p:blipFill>
        <p:spPr>
          <a:xfrm>
            <a:off x="285840" y="142920"/>
            <a:ext cx="1355760" cy="1557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Rectangle 2" descr=""/>
          <p:cNvPicPr/>
          <p:nvPr/>
        </p:nvPicPr>
        <p:blipFill>
          <a:blip r:embed="rId1"/>
          <a:stretch/>
        </p:blipFill>
        <p:spPr>
          <a:xfrm>
            <a:off x="298440" y="12600"/>
            <a:ext cx="8534520" cy="179712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mbria"/>
              </a:rPr>
              <a:t>1.</a:t>
            </a:r>
            <a:r>
              <a:rPr b="1" i="1" lang="ru-RU" sz="3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Обеспечение доступа педагогов и обучающихся к </a:t>
            </a:r>
            <a:r>
              <a:rPr b="1" lang="ru-RU" sz="3000" spc="-1" strike="noStrike">
                <a:solidFill>
                  <a:srgbClr val="ffffff"/>
                </a:solidFill>
                <a:latin typeface="Cambria"/>
              </a:rPr>
              <a:t>электронным образовательным ресурсам.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mbria"/>
              </a:rPr>
              <a:t>2.</a:t>
            </a:r>
            <a:r>
              <a:rPr b="1" i="1" lang="ru-RU" sz="3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Разработка</a:t>
            </a:r>
            <a:r>
              <a:rPr b="1" lang="ru-RU" sz="3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локальных актов, устанавливающих требования к объектам инфраструктуры (</a:t>
            </a:r>
            <a:r>
              <a:rPr b="1" lang="ru-RU" sz="3000" spc="-1" strike="noStrike">
                <a:solidFill>
                  <a:srgbClr val="ffffff"/>
                </a:solidFill>
                <a:latin typeface="Cambria"/>
              </a:rPr>
              <a:t>положения о культурно-досуговом центре, информационно-библиотечном центре, физкультурно-оздоровительном центре, об учебном кабинете </a:t>
            </a: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и др.)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Rectangle 2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394840" cy="136044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mbria"/>
              </a:rPr>
              <a:t>3.</a:t>
            </a:r>
            <a:r>
              <a:rPr b="1" i="1" lang="ru-RU" sz="3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ambria"/>
              </a:rPr>
              <a:t>Обеспечение учебниками и учебно-методической литературой </a:t>
            </a: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в 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соответствии с утвержденным федеральным перечнем.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mbria"/>
              </a:rPr>
              <a:t>4.</a:t>
            </a:r>
            <a:r>
              <a:rPr b="1" i="1" lang="ru-RU" sz="3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Комплектование в библиотеке достаточного </a:t>
            </a:r>
            <a:r>
              <a:rPr b="1" lang="ru-RU" sz="3000" spc="-1" strike="noStrike">
                <a:solidFill>
                  <a:srgbClr val="ffffff"/>
                </a:solidFill>
                <a:latin typeface="Cambria"/>
              </a:rPr>
              <a:t>фонда дополнительной литературы </a:t>
            </a: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(художественной, научно-популярной), справочно-библиографических и периодических изданий.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Заголовок 2" descr=""/>
          <p:cNvPicPr/>
          <p:nvPr/>
        </p:nvPicPr>
        <p:blipFill>
          <a:blip r:embed="rId1"/>
          <a:stretch/>
        </p:blipFill>
        <p:spPr>
          <a:xfrm>
            <a:off x="73080" y="212760"/>
            <a:ext cx="8845560" cy="214632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275256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не должна стать делом отдельных учителей,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в ней должен принять участие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Cambria"/>
              </a:rPr>
              <a:t>весь педагогический коллектив ОУ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-36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Rockwell"/>
              </a:rPr>
              <a:t>C</a:t>
            </a:r>
            <a:r>
              <a:rPr b="1" lang="ru-RU" sz="3200" spc="-1" strike="noStrike">
                <a:solidFill>
                  <a:srgbClr val="cc3300"/>
                </a:solidFill>
                <a:latin typeface="Cambria"/>
              </a:rPr>
              <a:t>ПАСИБО ЗА ВНИМАНИЕ!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Cambria"/>
              </a:rPr>
              <a:t>Успехов в реализации ФГОС!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F86C-04BC-4B8E-B723-7E92353DFA1B}" type="slidenum">
              <a:rPr b="0" lang="ru-RU" sz="1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676E-8D41-46C3-884F-C1E44B5AD8EB}" type="slidenum">
              <a:rPr b="0" lang="ru-RU" sz="1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2ABE-FE22-4411-A8C4-314733961B68}" type="slidenum">
              <a:rPr b="0" lang="ru-RU" sz="1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7" name="Group 18"/>
          <p:cNvGrpSpPr/>
          <p:nvPr/>
        </p:nvGrpSpPr>
        <p:grpSpPr>
          <a:xfrm>
            <a:off x="395280" y="260280"/>
            <a:ext cx="8569080" cy="5689440"/>
            <a:chOff x="395280" y="260280"/>
            <a:chExt cx="8569080" cy="5689440"/>
          </a:xfrm>
        </p:grpSpPr>
        <p:sp>
          <p:nvSpPr>
            <p:cNvPr id="418" name="AutoShape 27"/>
            <p:cNvSpPr/>
            <p:nvPr/>
          </p:nvSpPr>
          <p:spPr>
            <a:xfrm rot="5400000">
              <a:off x="4384800" y="4276080"/>
              <a:ext cx="447120" cy="504720"/>
            </a:xfrm>
            <a:custGeom>
              <a:avLst/>
              <a:gdLst>
                <a:gd name="textAreaLeft" fmla="*/ 69120 w 447120"/>
                <a:gd name="textAreaRight" fmla="*/ 391320 w 44712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noFill/>
            <a:ln w="28440">
              <a:solidFill>
                <a:srgbClr val="0033cc"/>
              </a:solidFill>
              <a:miter/>
            </a:ln>
            <a:effectLst>
              <a:outerShdw dist="17819" dir="2700000" blurRad="0" rotWithShape="0">
                <a:srgbClr val="001f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AutoShape 5"/>
            <p:cNvSpPr/>
            <p:nvPr/>
          </p:nvSpPr>
          <p:spPr>
            <a:xfrm>
              <a:off x="3419280" y="2880720"/>
              <a:ext cx="2376360" cy="1348200"/>
            </a:xfrm>
            <a:prstGeom prst="roundRect">
              <a:avLst>
                <a:gd name="adj" fmla="val 16667"/>
              </a:avLst>
            </a:prstGeom>
            <a:solidFill>
              <a:srgbClr val="0033cc">
                <a:alpha val="49000"/>
              </a:srgbClr>
            </a:solidFill>
            <a:ln w="0">
              <a:noFill/>
            </a:ln>
            <a:effectLst>
              <a:outerShdw dist="17819" dir="2700000" blurRad="0" rotWithShape="0">
                <a:srgbClr val="001f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Новая цел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образован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AutoShape 7"/>
            <p:cNvSpPr/>
            <p:nvPr/>
          </p:nvSpPr>
          <p:spPr>
            <a:xfrm>
              <a:off x="6011640" y="1159560"/>
              <a:ext cx="2952720" cy="22438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33cc"/>
              </a:solidFill>
              <a:miter/>
            </a:ln>
            <a:effectLst>
              <a:outerShdw dist="17819" dir="2700000" blurRad="0" rotWithShape="0">
                <a:srgbClr val="001f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75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Новые технологи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AutoShape 8"/>
            <p:cNvSpPr/>
            <p:nvPr/>
          </p:nvSpPr>
          <p:spPr>
            <a:xfrm>
              <a:off x="395280" y="1083600"/>
              <a:ext cx="2877840" cy="23198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33cc"/>
              </a:solidFill>
              <a:miter/>
            </a:ln>
            <a:effectLst>
              <a:outerShdw dist="17819" dir="2700000" blurRad="0" rotWithShape="0">
                <a:srgbClr val="001f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75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Общественный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договор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AutoShape 9"/>
            <p:cNvSpPr/>
            <p:nvPr/>
          </p:nvSpPr>
          <p:spPr>
            <a:xfrm>
              <a:off x="682560" y="1683000"/>
              <a:ext cx="2593800" cy="1720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>
                    <a:alpha val="50196"/>
                  </a:srgbClr>
                </a:gs>
                <a:gs pos="100000">
                  <a:srgbClr val="f66200">
                    <a:alpha val="50196"/>
                  </a:srgbClr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Новые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образовательные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запросы семьи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общества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и государств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AutoShape 10"/>
            <p:cNvSpPr/>
            <p:nvPr/>
          </p:nvSpPr>
          <p:spPr>
            <a:xfrm>
              <a:off x="6298920" y="1683000"/>
              <a:ext cx="2665440" cy="1720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>
                    <a:alpha val="50196"/>
                  </a:srgbClr>
                </a:gs>
                <a:gs pos="100000">
                  <a:srgbClr val="d95700">
                    <a:alpha val="50196"/>
                  </a:srgbClr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Широкое внедрение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ИКТ-технологи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во все сферы жизн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AutoShape 17"/>
            <p:cNvSpPr/>
            <p:nvPr/>
          </p:nvSpPr>
          <p:spPr>
            <a:xfrm rot="1534800">
              <a:off x="2411280" y="3553560"/>
              <a:ext cx="976320" cy="50508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7080 h 505080"/>
                <a:gd name="textAreaBottom" fmla="*/ 379800 h 5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noFill/>
            <a:ln w="28440">
              <a:solidFill>
                <a:srgbClr val="0033cc"/>
              </a:solidFill>
              <a:miter/>
            </a:ln>
            <a:effectLst>
              <a:outerShdw dist="17819" dir="2700000" blurRad="0" rotWithShape="0">
                <a:srgbClr val="001f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AutoShape 23"/>
            <p:cNvSpPr/>
            <p:nvPr/>
          </p:nvSpPr>
          <p:spPr>
            <a:xfrm rot="9180000">
              <a:off x="5795280" y="3553560"/>
              <a:ext cx="976320" cy="50508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7080 h 505080"/>
                <a:gd name="textAreaBottom" fmla="*/ 379800 h 5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noFill/>
            <a:ln w="28440">
              <a:solidFill>
                <a:srgbClr val="0033cc"/>
              </a:solidFill>
              <a:miter/>
            </a:ln>
            <a:effectLst>
              <a:outerShdw dist="17819" dir="2700000" blurRad="0" rotWithShape="0">
                <a:srgbClr val="001f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AutoShape 26"/>
            <p:cNvSpPr/>
            <p:nvPr/>
          </p:nvSpPr>
          <p:spPr>
            <a:xfrm>
              <a:off x="3490920" y="260280"/>
              <a:ext cx="2232000" cy="12722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33cc"/>
              </a:solidFill>
              <a:miter/>
            </a:ln>
            <a:effectLst>
              <a:outerShdw dist="17819" dir="2700000" blurRad="0" rotWithShape="0">
                <a:srgbClr val="001f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ahoma"/>
                </a:rPr>
                <a:t>Проблемы Росси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ahoma"/>
                </a:rPr>
                <a:t>Стратег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ahoma"/>
                </a:rPr>
                <a:t>202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AutoShape 8"/>
            <p:cNvSpPr/>
            <p:nvPr/>
          </p:nvSpPr>
          <p:spPr>
            <a:xfrm>
              <a:off x="466560" y="4826160"/>
              <a:ext cx="8137440" cy="11235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33cc"/>
              </a:solidFill>
              <a:miter/>
            </a:ln>
            <a:effectLst>
              <a:outerShdw dist="17819" dir="2700000" blurRad="0" rotWithShape="0">
                <a:srgbClr val="001f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ahoma"/>
                </a:rPr>
                <a:t>Воспитание, социально-педагогическая поддержка становления и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ahoma"/>
                </a:rPr>
                <a:t>развития высоконравственного, ответственного, творческого,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ahoma"/>
                </a:rPr>
                <a:t>инициативного, компетентного гражданина Росси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AutoShape 27"/>
            <p:cNvSpPr/>
            <p:nvPr/>
          </p:nvSpPr>
          <p:spPr>
            <a:xfrm rot="5400000">
              <a:off x="4268160" y="1842120"/>
              <a:ext cx="747360" cy="576360"/>
            </a:xfrm>
            <a:custGeom>
              <a:avLst/>
              <a:gdLst>
                <a:gd name="textAreaLeft" fmla="*/ 117000 w 747360"/>
                <a:gd name="textAreaRight" fmla="*/ 653400 w 747360"/>
                <a:gd name="textAreaTop" fmla="*/ 144360 h 576360"/>
                <a:gd name="textAreaBottom" fmla="*/ 4320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noFill/>
            <a:ln w="28440">
              <a:solidFill>
                <a:srgbClr val="0033cc"/>
              </a:solidFill>
              <a:miter/>
            </a:ln>
            <a:effectLst>
              <a:outerShdw dist="17819" dir="2700000" blurRad="0" rotWithShape="0">
                <a:srgbClr val="001f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9" name="Rectangle 19"/>
          <p:cNvSpPr/>
          <p:nvPr/>
        </p:nvSpPr>
        <p:spPr>
          <a:xfrm>
            <a:off x="4572000" y="1557360"/>
            <a:ext cx="184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1" descr=""/>
          <p:cNvPicPr/>
          <p:nvPr/>
        </p:nvPicPr>
        <p:blipFill>
          <a:blip r:embed="rId1"/>
          <a:stretch/>
        </p:blipFill>
        <p:spPr>
          <a:xfrm>
            <a:off x="176040" y="79200"/>
            <a:ext cx="8607600" cy="1725840"/>
          </a:xfrm>
          <a:prstGeom prst="rect">
            <a:avLst/>
          </a:prstGeom>
          <a:ln w="0">
            <a:noFill/>
          </a:ln>
        </p:spPr>
      </p:pic>
      <p:sp>
        <p:nvSpPr>
          <p:cNvPr id="431" name="Номер слайда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BDDA-9182-4D95-B65A-437E3BFED4C3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_s1030"/>
          <p:cNvSpPr/>
          <p:nvPr/>
        </p:nvSpPr>
        <p:spPr>
          <a:xfrm>
            <a:off x="2556000" y="4653000"/>
            <a:ext cx="4317840" cy="190800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_s1032"/>
          <p:cNvSpPr/>
          <p:nvPr/>
        </p:nvSpPr>
        <p:spPr>
          <a:xfrm>
            <a:off x="5219640" y="1989000"/>
            <a:ext cx="3924360" cy="1835280"/>
          </a:xfrm>
          <a:prstGeom prst="ellipse">
            <a:avLst/>
          </a:prstGeom>
          <a:solidFill>
            <a:srgbClr val="ecde78">
              <a:alpha val="50000"/>
            </a:srgbClr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_s1028"/>
          <p:cNvSpPr/>
          <p:nvPr/>
        </p:nvSpPr>
        <p:spPr>
          <a:xfrm>
            <a:off x="0" y="3141720"/>
            <a:ext cx="3780000" cy="1798560"/>
          </a:xfrm>
          <a:prstGeom prst="ellipse">
            <a:avLst/>
          </a:prstGeom>
          <a:solidFill>
            <a:srgbClr val="cc99ff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7"/>
          <p:cNvSpPr/>
          <p:nvPr/>
        </p:nvSpPr>
        <p:spPr>
          <a:xfrm>
            <a:off x="179280" y="2997360"/>
            <a:ext cx="3637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9081e"/>
                </a:solidFill>
                <a:latin typeface="Arial"/>
                <a:ea typeface="Arial"/>
              </a:rPr>
              <a:t>СЕМЬ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90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081e"/>
                </a:solidFill>
                <a:latin typeface="Arial"/>
                <a:ea typeface="Arial"/>
              </a:rPr>
              <a:t>Личностная успеш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90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081e"/>
                </a:solidFill>
                <a:latin typeface="Arial"/>
                <a:ea typeface="Arial"/>
              </a:rPr>
              <a:t>Социальная успеш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90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081e"/>
                </a:solidFill>
                <a:latin typeface="Arial"/>
                <a:ea typeface="Arial"/>
              </a:rPr>
              <a:t>Профессиональ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081e"/>
                </a:solidFill>
                <a:latin typeface="Arial"/>
                <a:ea typeface="Arial"/>
              </a:rPr>
              <a:t>успеш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8"/>
          <p:cNvSpPr/>
          <p:nvPr/>
        </p:nvSpPr>
        <p:spPr>
          <a:xfrm>
            <a:off x="5364000" y="1916280"/>
            <a:ext cx="3780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9081e"/>
                </a:solidFill>
                <a:latin typeface="Arial"/>
                <a:ea typeface="Arial"/>
              </a:rPr>
              <a:t>ОБЩЕ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90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081e"/>
                </a:solidFill>
                <a:latin typeface="Arial"/>
                <a:ea typeface="Arial"/>
              </a:rPr>
              <a:t>Безопасность и здоровь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90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081e"/>
                </a:solidFill>
                <a:latin typeface="Arial"/>
                <a:ea typeface="Arial"/>
              </a:rPr>
              <a:t>Свобода и ответств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90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081e"/>
                </a:solidFill>
                <a:latin typeface="Arial"/>
                <a:ea typeface="Arial"/>
              </a:rPr>
              <a:t>Социальная справедлив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90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081e"/>
                </a:solidFill>
                <a:latin typeface="Arial"/>
                <a:ea typeface="Arial"/>
              </a:rPr>
              <a:t>Благосостоя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9"/>
          <p:cNvSpPr/>
          <p:nvPr/>
        </p:nvSpPr>
        <p:spPr>
          <a:xfrm>
            <a:off x="2627280" y="4365720"/>
            <a:ext cx="428472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9081e"/>
                </a:solidFill>
                <a:latin typeface="Arial"/>
                <a:ea typeface="Arial"/>
              </a:rPr>
              <a:t>ГОСУДАР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90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081e"/>
                </a:solidFill>
                <a:latin typeface="Arial"/>
                <a:ea typeface="Arial"/>
              </a:rPr>
              <a:t>Национальное един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90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081e"/>
                </a:solidFill>
                <a:latin typeface="Arial"/>
                <a:ea typeface="Arial"/>
              </a:rPr>
              <a:t>Безопасно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90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081e"/>
                </a:solidFill>
                <a:latin typeface="Arial"/>
                <a:ea typeface="Arial"/>
              </a:rPr>
              <a:t>Развитие человеческого потенциа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90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081e"/>
                </a:solidFill>
                <a:latin typeface="Arial"/>
                <a:ea typeface="Arial"/>
              </a:rPr>
              <a:t>Конкурентоспособ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Picture 10" descr=""/>
          <p:cNvPicPr/>
          <p:nvPr/>
        </p:nvPicPr>
        <p:blipFill>
          <a:blip r:embed="rId2"/>
          <a:stretch/>
        </p:blipFill>
        <p:spPr>
          <a:xfrm>
            <a:off x="3780000" y="1700280"/>
            <a:ext cx="1512720" cy="2736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Заголовок 1" descr=""/>
          <p:cNvPicPr/>
          <p:nvPr/>
        </p:nvPicPr>
        <p:blipFill>
          <a:blip r:embed="rId1"/>
          <a:stretch/>
        </p:blipFill>
        <p:spPr>
          <a:xfrm>
            <a:off x="212760" y="0"/>
            <a:ext cx="8718480" cy="111600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301320" y="1928880"/>
            <a:ext cx="850428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утвержден и введен в действие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с 1 января 2010 года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риказом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Минобрнауки России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от 6 октября 2009 года № 373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41" name="Рисунок 1" descr="C:\Documents and Settings\IAntonova\Рабочий стол\Обложки Стандарты\federal_gos_obraz_stand.jpg"/>
          <p:cNvPicPr/>
          <p:nvPr/>
        </p:nvPicPr>
        <p:blipFill>
          <a:blip r:embed="rId2"/>
          <a:stretch/>
        </p:blipFill>
        <p:spPr>
          <a:xfrm>
            <a:off x="7572240" y="4786200"/>
            <a:ext cx="1332000" cy="1847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Rectangle 2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36044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80080" indent="-28008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</a:rPr>
              <a:t>информационные</a:t>
            </a:r>
            <a:r>
              <a:rPr b="0" lang="ru-RU" sz="2000" spc="-1" strike="noStrike">
                <a:solidFill>
                  <a:srgbClr val="cc33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– ознакомление педагогической общественности с основными тенденциями развития современного образования, ключевыми задачами и новыми результатами образования;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</a:rPr>
              <a:t>научно-методические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– обеспечение подготовки педагогических работников к реализации ФГОС второго поколения через освоение идеологии нового стандарта, структуры и содержания основных документов, новой системы требований к оценке результатов образовательной деятельности учащихся, принятие современных педагогических стратегий обучения детей;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</a:rPr>
              <a:t>педагогические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– повышение квалификации и переподготовка учителей начальных классов, обеспечение их готовности к эффективной профессиональной деятельности в условиях реализации ФГОС второго поколения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</a:rPr>
              <a:t>организационные</a:t>
            </a:r>
            <a:r>
              <a:rPr b="0" lang="ru-RU" sz="2000" spc="-1" strike="noStrike">
                <a:solidFill>
                  <a:srgbClr val="cc33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– создание на региональном уровне инструктивно-методических рекомендации по введению ФГОС второго поколения в Московской области.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Заголовок 3" descr=""/>
          <p:cNvPicPr/>
          <p:nvPr/>
        </p:nvPicPr>
        <p:blipFill>
          <a:blip r:embed="rId1"/>
          <a:stretch/>
        </p:blipFill>
        <p:spPr>
          <a:xfrm>
            <a:off x="212760" y="139680"/>
            <a:ext cx="8791560" cy="111600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В</a:t>
            </a:r>
            <a:r>
              <a:rPr b="1" lang="cs-CZ" sz="3200" spc="-1" strike="noStrike">
                <a:solidFill>
                  <a:srgbClr val="ffffff"/>
                </a:solidFill>
                <a:latin typeface="Rockwell"/>
              </a:rPr>
              <a:t>ажнейший нормативный правовой акт Российской Федерации,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устанавливающий систему норм и правил, обязательных для исполнения в любом образовательном учреждении, реализующем основные образовательные программы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lnSpc>
                <a:spcPct val="10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46" name="Рисунок 1" descr="C:\Documents and Settings\IAntonova\Рабочий стол\Обложки Стандарты\federal_gos_obraz_stand.jpg"/>
          <p:cNvPicPr/>
          <p:nvPr/>
        </p:nvPicPr>
        <p:blipFill>
          <a:blip r:embed="rId2"/>
          <a:stretch/>
        </p:blipFill>
        <p:spPr>
          <a:xfrm>
            <a:off x="357120" y="4714920"/>
            <a:ext cx="1332000" cy="1847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2" descr=""/>
          <p:cNvPicPr/>
          <p:nvPr/>
        </p:nvPicPr>
        <p:blipFill>
          <a:blip r:embed="rId1"/>
          <a:stretch/>
        </p:blipFill>
        <p:spPr>
          <a:xfrm>
            <a:off x="298440" y="231840"/>
            <a:ext cx="8534520" cy="186516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 txBox="1"/>
          <p:nvPr/>
        </p:nvSpPr>
        <p:spPr>
          <a:xfrm>
            <a:off x="323640" y="2060640"/>
            <a:ext cx="85122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Стандарты могут разрабатываться по образовательным уровням, ступеням образования, профессиям,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направлениям подготовки, специальностям.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Министерство образования и науки РФ обеспечивает разработку проектов стандартов с привлечением: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-  заинтересованных органов исполнительной власти,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-  государственно-общественных объединений,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- ведущих образовательных и научных учреждений,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- представителей научно-педагогических сообществ,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6076b4"/>
              </a:buClr>
              <a:buSzPct val="70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объединений работодателей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6076b4"/>
              </a:buClr>
              <a:buSzPct val="70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институтов общественного участия в управлении образованием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нформатика</cp:lastModifiedBy>
  <dcterms:modified xsi:type="dcterms:W3CDTF">2011-11-15T06:23:43Z</dcterms:modified>
  <cp:revision>84</cp:revision>
  <dc:subject/>
  <dc:title>Актуальные проблемы введения ФГОС</dc:title>
</cp:coreProperties>
</file>