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D073-767C-4CCB-AA5E-DC6375AC4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FBB2-2CD3-4FDD-9E69-B4D2B05F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C9EF-024C-4037-906C-CD2A35F45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6DD5-643E-4570-A5BB-10AD20B11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822D-71D2-43B6-96B1-1B97168E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8FEE-B5C2-487E-A69E-EF170BA9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9BB5-D9DE-4CC1-A251-F49A8307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88A2-4CBB-4E51-837D-311F63E8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8700-E49D-4A77-BE84-14C82403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43F4-B923-4DD1-8595-44D60987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023F-9833-4A9D-AC27-4CCA2D00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8CE1-9EBB-4DF8-8CCE-03582228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D3D2-5658-4DA3-97C5-37E877D3D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057400"/>
            <a:ext cx="3581280" cy="4495680"/>
          </a:xfrm>
          <a:prstGeom prst="triangle">
            <a:avLst>
              <a:gd name="adj" fmla="val 50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Monotype Corsiva"/>
              </a:rPr>
              <a:t>ЗАДАЧИ </a:t>
            </a:r>
            <a:br>
              <a:rPr sz="4400"/>
            </a:br>
            <a:r>
              <a:rPr b="1" lang="en-US" sz="4400" spc="-1" strike="noStrike">
                <a:solidFill>
                  <a:srgbClr val="800000"/>
                </a:solidFill>
                <a:latin typeface="Monotype Corsiva"/>
              </a:rPr>
              <a:t>С ИНСТРУКЦИЕЙ ДЛЯ РЕШЕНИЯ ПО ТЕМЕ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80880" y="2133720"/>
            <a:ext cx="807732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ОБЪЕМ ПИРАМИДЫ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14400" y="4191120"/>
            <a:ext cx="2374920" cy="20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v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27480" y="4564080"/>
            <a:ext cx="38642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Monotype Corsiva"/>
              </a:rPr>
              <a:t>Презентация выполне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Monotype Corsiva"/>
              </a:rPr>
              <a:t>учителем математ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Monotype Corsiva"/>
              </a:rPr>
              <a:t>МОУ «СОШ№6» п Передов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Monotype Corsiva"/>
              </a:rPr>
              <a:t>Богдановской В.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28600" y="5791320"/>
            <a:ext cx="1676520" cy="7617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5791320"/>
            <a:ext cx="1904760" cy="7617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904760" y="2057400"/>
            <a:ext cx="75960" cy="37339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0" y="1295280"/>
            <a:ext cx="89154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ЖЕЛАЮ УДАЧИ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9" name="book17" descr=""/>
          <p:cNvPicPr/>
          <p:nvPr/>
        </p:nvPicPr>
        <p:blipFill>
          <a:blip r:embed="rId1"/>
          <a:stretch/>
        </p:blipFill>
        <p:spPr>
          <a:xfrm>
            <a:off x="3886200" y="3886200"/>
            <a:ext cx="20574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Monotype Corsiva"/>
              </a:rPr>
              <a:t>Необходимые формулы и теоремы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щадь  треугольника можно вычислить по формул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щадь прямоугольного треугольника можно вычислить по формул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ъем пирамид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=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/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осн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дианы в треугольнике точкой пересечения делятся в отношении 2:1 начиная от верши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щадь квадрата или ромб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=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щадь ромба, параллелограмм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=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диус окружности описанной около треугольника можно вычислить по формул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нтр окружности,описанной около прямоугольного треугольника, расположен в середине гипотенуз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94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066680" y="1371600"/>
                <a:ext cx="1371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629400" y="914400"/>
                <a:ext cx="990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981080" y="2209680"/>
                <a:ext cx="9144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209680" y="4572000"/>
                <a:ext cx="838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609480" y="59436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59436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59436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59436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59436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629400" y="59436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772400" y="59436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43000" y="3809880"/>
            <a:ext cx="76212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905120" y="3733920"/>
            <a:ext cx="198108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143000" y="3733560"/>
            <a:ext cx="2743200" cy="759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09880"/>
            <a:ext cx="1676520" cy="38124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523880" y="3733920"/>
            <a:ext cx="2362320" cy="53316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1143000" y="456840"/>
            <a:ext cx="1143000" cy="3352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457200"/>
            <a:ext cx="1523880" cy="327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905120" y="457200"/>
            <a:ext cx="380880" cy="419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8120" y="3726000"/>
            <a:ext cx="4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60680" y="468936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32200" y="3573360"/>
            <a:ext cx="5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08320" y="297000"/>
            <a:ext cx="5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96000" y="3622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05280" y="41529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81440" y="40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0"/>
            <a:ext cx="586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BC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ая пирами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=3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=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5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548640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86000" y="533520"/>
            <a:ext cx="76320" cy="35049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2327400"/>
            <a:ext cx="48006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Учтите, что в основании равносторонний треугольник.Найдите площадь основа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Из треугольника АМС найдите медиану М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Вспомните свойство точки пересечения медиан. Найдите длину А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Из треугольник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йдите высоту пирамид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 Найдите объем пирамид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91280" y="5756400"/>
            <a:ext cx="37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дложите свое реш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51040" y="32767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83040" y="1558800"/>
            <a:ext cx="6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05120" y="33526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371600" y="3352680"/>
            <a:ext cx="533520" cy="9144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42670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971800" y="3352680"/>
            <a:ext cx="53352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905120" y="609480"/>
            <a:ext cx="380880" cy="27432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371600" y="533160"/>
            <a:ext cx="914400" cy="3733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285640" y="533160"/>
            <a:ext cx="1219320" cy="28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2285640" y="533160"/>
            <a:ext cx="685800" cy="3733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371600" y="3352680"/>
            <a:ext cx="2133720" cy="9144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352680"/>
            <a:ext cx="1066680" cy="9144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609480"/>
            <a:ext cx="152280" cy="32004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77040" y="4003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98480" y="311616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03600" y="311616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58120" y="407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71960" y="-34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96000" y="3470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1120" y="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BCD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ая пирами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CO=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,     FO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98480" y="30402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14960" y="2936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5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548640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H="1">
            <a:off x="3276360" y="3048120"/>
            <a:ext cx="759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193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2403360"/>
            <a:ext cx="487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Определите вид треугольник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его углы.Сделайте вывод о длине О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Найдите А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Вспомните формулу для нахождения площади квадрата по его диагоналям.Найдите площадь основа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Вычислите объем пирамид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17640" y="5241960"/>
            <a:ext cx="37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дложите свое реш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flipV="1">
            <a:off x="1371600" y="3657600"/>
            <a:ext cx="533520" cy="5335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36576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4191120"/>
            <a:ext cx="6858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46483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819520" y="4191120"/>
            <a:ext cx="53316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819160" y="3657600"/>
            <a:ext cx="53316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905120" y="761760"/>
            <a:ext cx="457200" cy="28954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371600" y="761760"/>
            <a:ext cx="99072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057400" y="761760"/>
            <a:ext cx="304920" cy="388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2362320" y="761760"/>
            <a:ext cx="457200" cy="388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2361960" y="761760"/>
            <a:ext cx="99036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2362320" y="761760"/>
            <a:ext cx="457200" cy="28954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62320" y="7621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77040" y="385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62480" y="3165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05480" y="3165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39000" y="385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52840" y="4537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15120" y="4460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24600" y="270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24600" y="369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676160" y="39625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676160" y="762120"/>
            <a:ext cx="685800" cy="3657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57200" y="42321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0"/>
            <a:ext cx="50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BCDEK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ая пирамид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BC),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,  FO=4,  FM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38480" y="1371600"/>
            <a:ext cx="2819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5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548640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 flipH="1">
            <a:off x="2209680" y="36576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09680" y="3809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1599840" y="41148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523880" y="411480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47920" y="255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46680" y="1946160"/>
            <a:ext cx="504504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Из треугольник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йдите М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Из треугольника МОК наудите МК, обозначив МК=х, используя для составления уравнения известную теорем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Найдите площадь равностороннего треугольника А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Найдите площадь основания , которая состоит из площадей равных треугольни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 Вычислите объем пирамид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057040" y="3962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1371600" y="39625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17640" y="5173560"/>
            <a:ext cx="37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дложите свое реш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3000" y="3809880"/>
            <a:ext cx="76212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905120" y="3733920"/>
            <a:ext cx="198108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143000" y="3733560"/>
            <a:ext cx="2743200" cy="759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143000" y="456840"/>
            <a:ext cx="1143000" cy="3352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0" y="457200"/>
            <a:ext cx="1523880" cy="327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905120" y="457200"/>
            <a:ext cx="380880" cy="419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8120" y="3726000"/>
            <a:ext cx="4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60680" y="468936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32200" y="3573360"/>
            <a:ext cx="5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08320" y="297000"/>
            <a:ext cx="5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96000" y="3622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04920" y="4152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81080" y="407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05320" y="0"/>
            <a:ext cx="5486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BC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ирамида,треугольник АВС прямоугольный,АВ-гипотену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С=6, ВС=8.Каждое боковое ребро составляет с плоскостью основания угол 4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905120" y="3809520"/>
            <a:ext cx="380880" cy="83844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0" y="457200"/>
            <a:ext cx="0" cy="32767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0" y="3467160"/>
            <a:ext cx="177840" cy="266760"/>
          </a:xfrm>
          <a:custGeom>
            <a:avLst/>
            <a:gdLst/>
            <a:ahLst/>
            <a:rect l="l" t="t" r="r" b="b"/>
            <a:pathLst>
              <a:path w="112" h="168">
                <a:moveTo>
                  <a:pt x="0" y="24"/>
                </a:moveTo>
                <a:cubicBezTo>
                  <a:pt x="40" y="12"/>
                  <a:pt x="80" y="0"/>
                  <a:pt x="96" y="24"/>
                </a:cubicBezTo>
                <a:cubicBezTo>
                  <a:pt x="112" y="48"/>
                  <a:pt x="96" y="144"/>
                  <a:pt x="96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419112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52480" y="4343400"/>
            <a:ext cx="381240" cy="152280"/>
          </a:xfrm>
          <a:custGeom>
            <a:avLst/>
            <a:gdLst/>
            <a:ahLst/>
            <a:rect l="l" t="t" r="r" b="b"/>
            <a:pathLst>
              <a:path w="240" h="96">
                <a:moveTo>
                  <a:pt x="0" y="96"/>
                </a:moveTo>
                <a:cubicBezTo>
                  <a:pt x="52" y="48"/>
                  <a:pt x="104" y="0"/>
                  <a:pt x="144" y="0"/>
                </a:cubicBezTo>
                <a:cubicBezTo>
                  <a:pt x="184" y="0"/>
                  <a:pt x="224" y="80"/>
                  <a:pt x="240" y="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581280" y="342900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35053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5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548640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327560" y="2708280"/>
            <a:ext cx="4664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Найдите площадь прямоугольного треугольника АВС по известным катета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 Вспомните,где расположен центр окружности,описанной около прямоугольного треугольника АВС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Из прямоугольного треугольника АВС найдите гипотенузу АВ,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.Определите вид треугольник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его углы.Сделайте вывод о длине 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Вычислите объем пирамид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57920" y="6137280"/>
            <a:ext cx="36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дложите свое реш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3809880"/>
            <a:ext cx="76212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905120" y="3733920"/>
            <a:ext cx="198108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143000" y="3733560"/>
            <a:ext cx="2743200" cy="759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143000" y="456840"/>
            <a:ext cx="1143000" cy="3352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0" y="457200"/>
            <a:ext cx="1523880" cy="327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905120" y="457200"/>
            <a:ext cx="380880" cy="419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8120" y="3726000"/>
            <a:ext cx="4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60680" y="468936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32200" y="3573360"/>
            <a:ext cx="5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08320" y="297000"/>
            <a:ext cx="5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96000" y="3622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04920" y="4152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81080" y="40528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3920" y="0"/>
            <a:ext cx="525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BC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ирамид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угольник АВС равнобедрен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С=АВ=10, ВС=12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=BD=CD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457200"/>
            <a:ext cx="0" cy="36576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43000" y="3809880"/>
            <a:ext cx="1600200" cy="4572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3880" y="22860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81080" y="27432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895120" y="1905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36920" y="4343400"/>
            <a:ext cx="89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23880" y="156204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33526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55" descr=""/>
          <p:cNvPicPr/>
          <p:nvPr/>
        </p:nvPicPr>
        <p:blipFill>
          <a:blip r:embed="rId1"/>
          <a:stretch/>
        </p:blipFill>
        <p:spPr>
          <a:xfrm>
            <a:off x="304920" y="548640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251240" y="2251080"/>
            <a:ext cx="489276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Из треугольника АСМ найдите медиану 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АМ- высота, найдите площадь треугольника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С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Исходя из услови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=BD=C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О-центр описанной окружности.Найдит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=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М из соответствующей формул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Из прямоугольного треугольника А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йдите кате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O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соту пирамиды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Вычислите объем пирами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58120" y="5451480"/>
            <a:ext cx="36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дложите свое реш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905120" y="33526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371600" y="3352680"/>
            <a:ext cx="533520" cy="9144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2670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971800" y="3352680"/>
            <a:ext cx="53352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905120" y="609480"/>
            <a:ext cx="380880" cy="27432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371600" y="533160"/>
            <a:ext cx="914400" cy="3733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2285640" y="533160"/>
            <a:ext cx="1219320" cy="28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2285640" y="533160"/>
            <a:ext cx="685800" cy="3733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371600" y="3352680"/>
            <a:ext cx="2133720" cy="9144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5120" y="3352680"/>
            <a:ext cx="1066680" cy="9144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609480"/>
            <a:ext cx="152280" cy="32004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77040" y="4003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98480" y="311616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603600" y="311616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58120" y="407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71960" y="-34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196000" y="3470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91120" y="0"/>
            <a:ext cx="457200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BCD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ирамида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D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мб,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=3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ромб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6. Каждый из двугранных углов при основании равен 4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74800" y="2971800"/>
            <a:ext cx="4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51320" y="3192480"/>
            <a:ext cx="4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38280" y="38098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86000" y="3622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55" descr=""/>
          <p:cNvPicPr/>
          <p:nvPr/>
        </p:nvPicPr>
        <p:blipFill>
          <a:blip r:embed="rId1"/>
          <a:stretch/>
        </p:blipFill>
        <p:spPr>
          <a:xfrm>
            <a:off x="304920" y="548640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137120" y="2666880"/>
            <a:ext cx="5006880" cy="44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Из треугольника АВК найдите сторону ромба ВА, используя свойство стороны треугольника, лежащей против угла 3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Вычислите площадь основания АВ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Зная, что ОМ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делайте вывод о длине 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Определите вид треугольник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 и его углы.Сделайте вывод о длине 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Вычислите объем пирамид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533520"/>
            <a:ext cx="91440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2895120" y="3581280"/>
            <a:ext cx="228600" cy="30492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38440" y="4232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4089240"/>
            <a:ext cx="266760" cy="177840"/>
          </a:xfrm>
          <a:custGeom>
            <a:avLst/>
            <a:gdLst/>
            <a:ahLst/>
            <a:rect l="l" t="t" r="r" b="b"/>
            <a:pathLst>
              <a:path w="168" h="112">
                <a:moveTo>
                  <a:pt x="0" y="16"/>
                </a:moveTo>
                <a:cubicBezTo>
                  <a:pt x="60" y="8"/>
                  <a:pt x="120" y="0"/>
                  <a:pt x="144" y="16"/>
                </a:cubicBezTo>
                <a:cubicBezTo>
                  <a:pt x="168" y="32"/>
                  <a:pt x="156" y="72"/>
                  <a:pt x="144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86160" y="5985000"/>
            <a:ext cx="37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дложите свое реш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143000" y="3809880"/>
            <a:ext cx="76212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1905120" y="3733920"/>
            <a:ext cx="198108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143000" y="3733560"/>
            <a:ext cx="2743200" cy="759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143000" y="456840"/>
            <a:ext cx="1143000" cy="3352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0" y="457200"/>
            <a:ext cx="1523880" cy="327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1905120" y="457200"/>
            <a:ext cx="380880" cy="419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08120" y="3726000"/>
            <a:ext cx="4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60680" y="468936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32200" y="3573360"/>
            <a:ext cx="5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308320" y="297000"/>
            <a:ext cx="5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96000" y="3622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04920" y="4152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81080" y="40528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0"/>
            <a:ext cx="52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BC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ирами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угольник АВС равнобедрен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С=АВ=10, ВС=12. Каждый из двугранных углов при основании равен 4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0" y="457200"/>
            <a:ext cx="0" cy="36576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43000" y="3809880"/>
            <a:ext cx="1600200" cy="4572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36920" y="4343400"/>
            <a:ext cx="89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457200"/>
            <a:ext cx="380880" cy="3809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438280" y="3962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3352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55" descr=""/>
          <p:cNvPicPr/>
          <p:nvPr/>
        </p:nvPicPr>
        <p:blipFill>
          <a:blip r:embed="rId1"/>
          <a:stretch/>
        </p:blipFill>
        <p:spPr>
          <a:xfrm>
            <a:off x="304920" y="548640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251240" y="2631960"/>
            <a:ext cx="4816440" cy="40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Из треугольника АСМ найдите медиану 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АМ- высота, найдите площадь треугольника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С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. Вспомните свойство точки пересечения медиан. Найдите длину 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Определите вид треугольник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 и его углы.Сделайте вывод о длине 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Вычислите объем пирами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29520" y="5832360"/>
            <a:ext cx="36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дложите свое реш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5:55:18Z</dcterms:created>
  <dc:creator>User</dc:creator>
  <dc:description/>
  <dc:language>en-US</dc:language>
  <cp:lastModifiedBy>User</cp:lastModifiedBy>
  <dcterms:modified xsi:type="dcterms:W3CDTF">2008-03-04T14:49:13Z</dcterms:modified>
  <cp:revision>10</cp:revision>
  <dc:subject/>
  <dc:title>Презентация PowerPoint</dc:title>
</cp:coreProperties>
</file>