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039-ECF7-4DC5-B264-2DC9F3CC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DA0-D884-4788-85EA-5A05C46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60C-5973-4404-A80F-E3C30E4D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CB5-CC42-49F6-A5E5-C58DF4D3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AF2-70E5-435D-ACA0-1384C250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15D-B87A-49E2-BE3B-86141E11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3E9-1C03-42F2-B8BA-D65D20F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3B2-E882-4DA8-B50B-F772A4B8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BD2-FCEA-405E-BD7A-473F9920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9F3-E8FF-4479-9661-B930C9C6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AC6-5BD2-49D2-B2B4-D7C000F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636-7A78-4FAC-AE6B-D05E039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310-9274-466B-826E-440A62B22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057400"/>
            <a:ext cx="3581280" cy="449568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ЗАДАЧ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Monotype Corsiva"/>
              </a:rPr>
              <a:t>С ИНСТРУКЦИЕЙ ДЛЯ РЕШЕНИЯ ПО ТЕМЕ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2133720"/>
            <a:ext cx="80773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ОБЪЕМ ПИРАМИДЫ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4191120"/>
            <a:ext cx="2374920" cy="20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v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27480" y="4564080"/>
            <a:ext cx="3864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Презентация выполн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учителем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МОУ «СОШ№6» п Передов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Monotype Corsiva"/>
              </a:rPr>
              <a:t>Богдановской В.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5791320"/>
            <a:ext cx="167652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5791320"/>
            <a:ext cx="1904760" cy="7617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4760" y="2057400"/>
            <a:ext cx="75960" cy="3733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0" y="1295280"/>
            <a:ext cx="8915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ЖЕЛАЮ УДАЧ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book17" descr=""/>
          <p:cNvPicPr/>
          <p:nvPr/>
        </p:nvPicPr>
        <p:blipFill>
          <a:blip r:embed="rId1"/>
          <a:stretch/>
        </p:blipFill>
        <p:spPr>
          <a:xfrm>
            <a:off x="3886200" y="388620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Monotype Corsiva"/>
              </a:rPr>
              <a:t>Необходимые формулы и теорем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 треугольника можно вычислить по формул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прямоугольного треугольника можно вычислить по форму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м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</a:rPr>
              <a:t>ос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дианы в треугольнике точкой пересечения делятся в отношении 2:1 начиная от верши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квадрата или ромб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щадь ромба, параллелограм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=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диус окружности описанной около треугольника можно вычислить по формул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 окружности,описанной около прямоугольного треугольника, расположен в середине гипотену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13716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629400" y="91440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81080" y="2209680"/>
                <a:ext cx="914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09680" y="4572000"/>
                <a:ext cx="838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094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09880"/>
            <a:ext cx="1676520" cy="3812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523880" y="3733920"/>
            <a:ext cx="2362320" cy="5331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05280" y="41529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8144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0"/>
            <a:ext cx="58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=3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0" y="533520"/>
            <a:ext cx="76320" cy="35049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327400"/>
            <a:ext cx="4800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Учтите, что в основании равносторонний треугольник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АМС найдите медиану М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Вспомните свойство точки пересечения медиан. Найдите длину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высоту пирами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д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1280" y="57564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1040" y="3276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83040" y="1558800"/>
            <a:ext cx="6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O=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    FO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8480" y="3040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14960" y="293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3276360" y="30481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193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403360"/>
            <a:ext cx="487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Найдите А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Вспомните формулу для нахождения площади квадрата по его диагоналям.Найдите площадь осн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17640" y="52419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V="1">
            <a:off x="1371600" y="3657600"/>
            <a:ext cx="533520" cy="53352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1911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19520" y="4191120"/>
            <a:ext cx="533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819160" y="3657600"/>
            <a:ext cx="5331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71600" y="761760"/>
            <a:ext cx="99072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7400" y="761760"/>
            <a:ext cx="304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362320" y="761760"/>
            <a:ext cx="45720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2361960" y="761760"/>
            <a:ext cx="990360" cy="342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362320" y="761760"/>
            <a:ext cx="45720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7621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7704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2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05480" y="3165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900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52840" y="4537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5120" y="4460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4600" y="27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24600" y="369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3962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676160" y="762120"/>
            <a:ext cx="68580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57200" y="4232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EK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ьная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C),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,  FO=4,  FM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13716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2209680" y="36576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599840" y="4114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523880" y="4114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792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6680" y="1946160"/>
            <a:ext cx="50450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з треугольника МОК наудите МК, обозначив МК=х, используя для составления уравнения известную теоре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йдите площадь равностороннего треугольника А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Найдите площадь основания , которая состоит из площадей равных тре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Вычислите объем пирами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57040" y="396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71600" y="3962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17640" y="517356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04920" y="4152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1080" y="407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0"/>
            <a:ext cx="54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треугольник АВС прямоугольный,АВ-гипотен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6, ВС=8.Каждое боковое ребро составляет с плоскостью основания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05120" y="3809520"/>
            <a:ext cx="380880" cy="838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457200"/>
            <a:ext cx="0" cy="327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467160"/>
            <a:ext cx="177840" cy="266760"/>
          </a:xfrm>
          <a:custGeom>
            <a:avLst/>
            <a:gdLst/>
            <a:ahLst/>
            <a:rect l="l" t="t" r="r" b="b"/>
            <a:pathLst>
              <a:path w="112" h="168">
                <a:moveTo>
                  <a:pt x="0" y="24"/>
                </a:moveTo>
                <a:cubicBezTo>
                  <a:pt x="40" y="12"/>
                  <a:pt x="80" y="0"/>
                  <a:pt x="96" y="24"/>
                </a:cubicBezTo>
                <a:cubicBezTo>
                  <a:pt x="112" y="48"/>
                  <a:pt x="96" y="144"/>
                  <a:pt x="96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4191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4343400"/>
            <a:ext cx="381240" cy="152280"/>
          </a:xfrm>
          <a:custGeom>
            <a:avLst/>
            <a:gdLst/>
            <a:ahLst/>
            <a:rect l="l" t="t" r="r" b="b"/>
            <a:pathLst>
              <a:path w="240" h="96">
                <a:moveTo>
                  <a:pt x="0" y="96"/>
                </a:moveTo>
                <a:cubicBezTo>
                  <a:pt x="52" y="48"/>
                  <a:pt x="104" y="0"/>
                  <a:pt x="144" y="0"/>
                </a:cubicBezTo>
                <a:cubicBezTo>
                  <a:pt x="184" y="0"/>
                  <a:pt x="224" y="80"/>
                  <a:pt x="2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1280" y="3429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5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27560" y="2708280"/>
            <a:ext cx="466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Найдите площадь прямоугольного треугольника АВС по известным катета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Вспомните,где расположен центр окружности,описанной около прямоугольного треугольника АВС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з прямоугольного треугольника АВС найдите гипотенузу АВ,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.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57920" y="61372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0"/>
            <a:ext cx="52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=BD=CD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7432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95120" y="1905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5620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251240" y="2251080"/>
            <a:ext cx="48927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Исходя из услов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=BD=C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-центр описанной окружности.Найдит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М из соответствующей формул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Из прямоугольного треугольника А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кат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ту пирами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8120" y="545148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05120" y="33526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371600" y="3352680"/>
            <a:ext cx="5335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267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971800" y="3352680"/>
            <a:ext cx="533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05120" y="609480"/>
            <a:ext cx="380880" cy="27432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371600" y="533160"/>
            <a:ext cx="9144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285640" y="533160"/>
            <a:ext cx="1219320" cy="28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533160"/>
            <a:ext cx="68580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371600" y="3352680"/>
            <a:ext cx="213372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120" y="335268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609480"/>
            <a:ext cx="152280" cy="32004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7040" y="400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848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0" y="31161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58120" y="407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71960" y="-3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96000" y="347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0"/>
            <a:ext cx="45720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D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б,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=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ром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6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4800" y="2971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51320" y="31924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86000" y="362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137120" y="2666880"/>
            <a:ext cx="500688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Из треугольника АВК найдите сторону ромба ВА, используя свойство стороны треугольника, лежащей против угла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ычислите площадь основания АВ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Зная, что ОМ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делайте вывод о длине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533520"/>
            <a:ext cx="91440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895120" y="3581280"/>
            <a:ext cx="228600" cy="3049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8440" y="423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089240"/>
            <a:ext cx="266760" cy="177840"/>
          </a:xfrm>
          <a:custGeom>
            <a:avLst/>
            <a:gdLst/>
            <a:ahLst/>
            <a:rect l="l" t="t" r="r" b="b"/>
            <a:pathLst>
              <a:path w="168" h="112">
                <a:moveTo>
                  <a:pt x="0" y="16"/>
                </a:moveTo>
                <a:cubicBezTo>
                  <a:pt x="60" y="8"/>
                  <a:pt x="120" y="0"/>
                  <a:pt x="144" y="16"/>
                </a:cubicBezTo>
                <a:cubicBezTo>
                  <a:pt x="168" y="32"/>
                  <a:pt x="156" y="72"/>
                  <a:pt x="14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6160" y="598500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3809880"/>
            <a:ext cx="76212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05120" y="3733920"/>
            <a:ext cx="19810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43000" y="3733560"/>
            <a:ext cx="2743200" cy="759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143000" y="456840"/>
            <a:ext cx="114300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457200"/>
            <a:ext cx="1523880" cy="32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457200"/>
            <a:ext cx="380880" cy="419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8120" y="37260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60680" y="4689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32200" y="357336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08320" y="29700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96000" y="36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04920" y="41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81080" y="4052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BC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 равнобедрен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=АВ=10, ВС=12. Каждый из двугранных углов при основании равен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4572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3809880"/>
            <a:ext cx="1600200" cy="457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36920" y="434340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457200"/>
            <a:ext cx="38088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3962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55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251240" y="2631960"/>
            <a:ext cx="4816440" cy="40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Из треугольника АСМ найдите медиану 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АМ- высота, найдите площадь треугольника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. Вспомните свойство точки пересечения медиан. Найдите длину 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Определите вид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 и его углы.Сделайте вывод о длине 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числите объем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29520" y="583236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свое 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5:55:18Z</dcterms:created>
  <dc:creator>User</dc:creator>
  <dc:description/>
  <dc:language>en-US</dc:language>
  <cp:lastModifiedBy>User</cp:lastModifiedBy>
  <dcterms:modified xsi:type="dcterms:W3CDTF">2008-03-04T14:49:13Z</dcterms:modified>
  <cp:revision>10</cp:revision>
  <dc:subject/>
  <dc:title>Презентация PowerPoint</dc:title>
</cp:coreProperties>
</file>