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B05-AF38-40D2-A298-1A198379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752-679E-4101-9358-C2BA04A6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C64-B5BA-45B1-B9FC-32FC7B3F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EC1-23AE-4CD1-AB07-79827FAF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30DA-67AF-44FE-A528-689311FD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E009-90DC-4FDF-910C-82DC6F08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8F71-7490-460E-A76C-B70EEFC4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B5FF-5D76-4521-B6E7-1CA1EF6D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2A7D-79F1-4803-A43C-F75EEF57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A82A-BF50-4C2F-9718-9584917F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282D-AF6D-4E0C-9529-F3C6FAE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FDD-709C-4EEF-8D69-70360AD1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2339-5301-4854-9989-202E4F00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0D48-6E45-4922-8EF0-75C78FF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3737-B016-461A-B8B5-F20B6430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29CC-10D7-413E-BA11-8AA317E1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88C2-7A35-4308-92AE-9A18CB2C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FBE-7F0A-4595-B83B-ED38A524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523-9FEE-4B6C-9305-39F8BB7A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0A8-4D95-4714-A5F7-18E8404D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E46-47E7-4C89-8B89-4D5D844E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A64-ED87-4830-BBA4-40FA14E8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9F9-14CB-49A7-A94B-4C05C551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1B5-2E0B-4390-9D00-15980694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657F-C870-4F6E-BDA7-E81B52950A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C387-09E8-4A2E-8ED0-0C68C04632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33"/>
                </a:solidFill>
                <a:latin typeface="Verdana"/>
                <a:ea typeface="Times New Roman"/>
              </a:rPr>
              <a:t>ПИФАГОРОВЫ ШТАНЫ НА ВСЕ СТОРОНЫ РАВНЫ</a:t>
            </a:r>
            <a:r>
              <a:rPr b="0" lang="ru-RU" sz="5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7621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язвительное замечание (которое в полном виде имеет продолжение: чтобы это доказать, нужно снять и показать), придуманное кем-то, по-видимому, потрясенным внутренним содержанием одной важной теоремы евклидовой геометрии, как нельзя точно раскрывает отправную точку, из которой цепь совсем несложных размышлений быстро приводит к доказательству теоремы, а также к еще более значимым результатам. Теорема эта, приписываемая древнегреческому математику Пифагору Самосскому (6 век до нашей эры), известна чуть ли не каждому школьнику и звучит так: квадрат гипотенузы прямоугольного треугольника равен сумме квадратов катетов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066680"/>
            <a:ext cx="8305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Пожалуй, многие согласятся, что геометрическая фигура, обозванная шифровкой "пифагоровы штаны на все стороны равны", называется квадратом. Ну и с улыбкой на лице добавим безобидной шутки ради, что имелось в виду в продолжении шифрованного сарказма. Итак, "чтобы это доказать, нужно снять и показать". Ясно, что "это" - под местоимением подразумевалась непосредственно теорема, "снять" - это получить в руки, взять названную фигуру, "показать" - имелось в виду слово "покасать", привести в соприкосновение какие-то части фигуры. Вообще "пифагоровыми штанами" окрестили напоминавшую по виду штаны графическую конструкцию, получавшуюся на чертеже Евклида при весьма сложном доказательстве им теоремы Пифагора. Когда нашлось доказательство проще, быть может, какой-то рифмоплет сочинил эту скороговорку-подсказку, чтобы не запамятовать начало подхода к доказательству, а народная молва уж разнесла ее по свету как пустую поговор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0492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Так вот если взять квадрат, и внутрь него поместить меньший квадрат так, чтобы центры их совпадали, и повернуть притом меньший квадрат до соприкосновения его углов со сторонами большего квадрата, то на большей фигуре окажутся выделены сторонами меньшего квадрата 4 одинаковых прямоугольных треугольн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сюда уже лежит прямой путь к доказательству известной теоремы. Пусть сторону меньшего квадрата обозначим через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Сторона большего квадрата равна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+b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и тогда его площадь равна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+b)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a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2ab+b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Ту же площадь можно определить как сумму площади меньшего квадрата и площадей 4 одинаковых прямоугольных треугольников, то есть как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·ab/2+c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2ab+c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Поставим знак равенства между двумя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32997" descr=""/>
          <p:cNvPicPr/>
          <p:nvPr/>
        </p:nvPicPr>
        <p:blipFill>
          <a:blip r:embed="rId1"/>
          <a:stretch/>
        </p:blipFill>
        <p:spPr>
          <a:xfrm>
            <a:off x="0" y="3733920"/>
            <a:ext cx="2971800" cy="288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95480" y="3352680"/>
            <a:ext cx="5791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вычислениями одной и той же площади: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+2ab+b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=2ab+c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 После сокращения членов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2ab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получаем вывод: квадрат гипотенузы прямоугольного треугольника равен сумме квадратов катетов, то есть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+b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=c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143000"/>
            <a:ext cx="815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Сразу не каждый поймет, какой прок от этой теоремы. С практической точки зрения ее ценность состоит в служении базисом для многих геометрических вычислений, как например определения расстояния между точками координатной плоскости. Из теоремы выводятся некоторые ценные формулы, ее обобщения ведут к новым теоремам, перекидывающим мостик от вычислений на плоскости до вычислений в пространстве. Следствия теоремы проникают в теорию чисел, открывая отдельные подробности структуры ряда чисел. И многое другое, всего не перечислиш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9154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Взгляд с точки зрения праздного любопытства демонстрирует преподношение теоремой занимательных задачек, формулируемых до крайности понятно, но являющихся подчас крепкими орешками. В пример достаточно привести наиболее простую из них, так называемый вопрос о пифагоровых числах, задаваемую в бытовом изложении следующим образом: можно ли построить комнату, длина, ширина и диагональ на полу которой одновременно измерялись бы только целыми величинами, скажем шагами? Всего лишь малейшее изменение этого вопроса способно сделать задачу чрезвычайно сложной. И соответственно, найдутся желающие чисто из научного задора испытать себя в раскалывании очередного математического ребуса. Другое изменение вопроса - и еще одна головоломка. Часто в ходе поиска ответов на подобные проблемы математика эволюционирует, приобретает свежие взгляды на старые понятия, обзаводится новыми системными подходами и так далее, а значит теорема Пифагора, впрочем как и любое другое стоящее учение, с этой точки зрения имеет не меньшую польз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Математика времен Пифагора не признавала иных чисел, кроме рациональных (натуральных чисел или дробей с натуральным числителем и знаменателем). Все измерялось целыми величинами или частями целых. Потому так понятно стремление делать геометрические вычисления, решать уравнения все больше в натуральных числах. Пристрастие к ним открывает путь в невероятный мир таинства чисел, ряд которых в геометрической интерпретации первоначально вырисовывается как прямая линия с бесконечным множеством отметин. Иногда зависимость между какими-то числами ряда, "линейным расстоянием" между ними, пропорцией тотчас бросается в глаза, а иной раз самые сложные мыслительные конструкции не позволяют установить, каким закономерностям подчинено распределение тех или иных чисел. Выясняется, что и в новом мире, в этой "одномерной геометрии", старые задачи сохраняют силу, меняется лишь их постановка. Как например, вариант задания о пифагоровых числах: "От дома отец делает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шагов по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сантиметров каждый, а затем идет еще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шагов по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сантиметров. За ним шагает сын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шагов по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сантиметров каждый. Какими должны быть размеры их шагов, чтобы на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-том шаге ребенок вступил в след отца?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335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Справедливости ради полагается отметить некоторую сложность для начинающего математика пифагорейской методики развития мысли. Это особого рода стиль математического мышления, к нему нужно привыкать. Интересен один момент. Математики вавилонского государства (оно возникло задолго до рождения Пифагора, почти полторы тысячи лет до него) тоже, видимо, знали какие-то методы поиска чисел, которые впоследствии стали называться пифагоровыми. Были найдены клинописные таблички, где вавилонские мудрецы записали выявленные ими тройки таких чисел. Некоторые тройки состояли из чересчур больших чисел, в связи с чем наши современники стали предполагать наличие у вавилонян недурственных, и вероятно даже немудреных, способов их вычисления. К сожалению, ни о самих способах, ни об их существовании ничего не извест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kolas</cp:lastModifiedBy>
  <dcterms:modified xsi:type="dcterms:W3CDTF">2007-05-01T12:37:27Z</dcterms:modified>
  <cp:revision>3</cp:revision>
  <dc:subject/>
  <dc:title>ПИФАГОРОВЫ ШТАНЫ НА ВСЕ СТОРОНЫ РАВНЫ </dc:title>
</cp:coreProperties>
</file>