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D082-8098-42E2-969B-D92A8AC9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3391-B92D-4AE0-B1D5-139900EA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0041-AD14-4597-8059-53BE2A34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7C26-42B2-4A40-B468-4BEAF84A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9189-0F93-40BF-A838-DCF63252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3E39-3039-4550-9FDB-7947DD3F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57AE-FBEE-41F7-AFEC-261BE750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55F2-FBD6-4BD7-B4B5-2E1B60F4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C74F-17B5-429F-A684-9DA038E1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B3EE-D60C-4C3B-B143-5F8C39F8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187B-600A-4FF5-AA42-30CD9510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6BA9-042F-4B58-BE8C-B0283BED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7846-A5F9-4C10-81C8-D31039FA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7B23-868F-44D2-B3E8-53103C34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3845-F1D5-41E7-91F5-875DB708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E515-11D1-435F-AF57-C15487D6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63CF-1E4C-4593-8D8F-CC67B2F2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A19F-1B86-41EA-B98D-82FD2F36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B5E1-1754-469C-9FBC-368A9931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CA2-4E7C-4AC6-AF0B-8C0E6148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F1AD-6FD2-4763-BE20-C0A18D7B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8AD9-CA33-4B25-A639-C7EF52FB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C370-5B52-43F5-BEEA-B2AB050F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BDCE-B5FC-4BC8-9297-231C4100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AA8E-3F6E-40F6-B88A-637CE689445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1C2D-3521-4058-99DF-CFF1CFACC68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33"/>
                </a:solidFill>
                <a:latin typeface="Verdana"/>
                <a:ea typeface="Times New Roman"/>
              </a:rPr>
              <a:t>ПИФАГОРОВЫ ШТАНЫ НА ВСЕ СТОРОНЫ РАВНЫ</a:t>
            </a:r>
            <a:r>
              <a:rPr b="0" lang="ru-RU" sz="5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76212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о язвительное замечание (которое в полном виде имеет продолжение: чтобы это доказать, нужно снять и показать), придуманное кем-то, по-видимому, потрясенным внутренним содержанием одной важной теоремы евклидовой геометрии, как нельзя точно раскрывает отправную точку, из которой цепь совсем несложных размышлений быстро приводит к доказательству теоремы, а также к еще более значимым результатам. Теорема эта, приписываемая древнегреческому математику Пифагору Самосскому (6 век до нашей эры), известна чуть ли не каждому школьнику и звучит так: квадрат гипотенузы прямоугольного треугольника равен сумме квадратов катетов.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066680"/>
            <a:ext cx="8305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Пожалуй, многие согласятся, что геометрическая фигура, обозванная шифровкой "пифагоровы штаны на все стороны равны", называется квадратом. Ну и с улыбкой на лице добавим безобидной шутки ради, что имелось в виду в продолжении шифрованного сарказма. Итак, "чтобы это доказать, нужно снять и показать". Ясно, что "это" - под местоимением подразумевалась непосредственно теорема, "снять" - это получить в руки, взять названную фигуру, "показать" - имелось в виду слово "покасать", привести в соприкосновение какие-то части фигуры. Вообще "пифагоровыми штанами" окрестили напоминавшую по виду штаны графическую конструкцию, получавшуюся на чертеже Евклида при весьма сложном доказательстве им теоремы Пифагора. Когда нашлось доказательство проще, быть может, какой-то рифмоплет сочинил эту скороговорку-подсказку, чтобы не запамятовать начало подхода к доказательству, а народная молва уж разнесла ее по свету как пустую поговорк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30492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Так вот если взять квадрат, и внутрь него поместить меньший квадрат так, чтобы центры их совпадали, и повернуть притом меньший квадрат до соприкосновения его углов со сторонами большего квадрата, то на большей фигуре окажутся выделены сторонами меньшего квадрата 4 одинаковых прямоугольных треугольн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сюда уже лежит прямой путь к доказательству известной теоремы. Пусть сторону меньшего квадрата обозначим через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Сторона большего квадрата равна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+b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и тогда его площадь равна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+b)</a:t>
            </a:r>
            <a:r>
              <a:rPr b="0" i="1" lang="ru-RU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a</a:t>
            </a:r>
            <a:r>
              <a:rPr b="0" i="1" lang="ru-RU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2ab+b</a:t>
            </a:r>
            <a:r>
              <a:rPr b="0" i="1" lang="ru-RU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Ту же площадь можно определить как сумму площади меньшего квадрата и площадей 4 одинаковых прямоугольных треугольников, то есть как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·ab/2+c</a:t>
            </a:r>
            <a:r>
              <a:rPr b="0" i="1" lang="ru-RU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2ab+c</a:t>
            </a:r>
            <a:r>
              <a:rPr b="0" i="1" lang="ru-RU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Поставим знак равенства между двумя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32997" descr=""/>
          <p:cNvPicPr/>
          <p:nvPr/>
        </p:nvPicPr>
        <p:blipFill>
          <a:blip r:embed="rId1"/>
          <a:stretch/>
        </p:blipFill>
        <p:spPr>
          <a:xfrm>
            <a:off x="0" y="3733920"/>
            <a:ext cx="2971800" cy="2887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895480" y="3352680"/>
            <a:ext cx="5791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вычислениями одной и той же площади: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a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Verdana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+2ab+b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Verdana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=2ab+c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Verdan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. После сокращения членов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2ab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получаем вывод: квадрат гипотенузы прямоугольного треугольника равен сумме квадратов катетов, то есть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a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Verdana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+b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Verdana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=c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Verdan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1143000"/>
            <a:ext cx="8153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Сразу не каждый поймет, какой прок от этой теоремы. С практической точки зрения ее ценность состоит в служении базисом для многих геометрических вычислений, как например определения расстояния между точками координатной плоскости. Из теоремы выводятся некоторые ценные формулы, ее обобщения ведут к новым теоремам, перекидывающим мостик от вычислений на плоскости до вычислений в пространстве. Следствия теоремы проникают в теорию чисел, открывая отдельные подробности структуры ряда чисел. И многое другое, всего не перечислиш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9480"/>
            <a:ext cx="89154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Взгляд с точки зрения праздного любопытства демонстрирует преподношение теоремой занимательных задачек, формулируемых до крайности понятно, но являющихся подчас крепкими орешками. В пример достаточно привести наиболее простую из них, так называемый вопрос о пифагоровых числах, задаваемую в бытовом изложении следующим образом: можно ли построить комнату, длина, ширина и диагональ на полу которой одновременно измерялись бы только целыми величинами, скажем шагами? Всего лишь малейшее изменение этого вопроса способно сделать задачу чрезвычайно сложной. И соответственно, найдутся желающие чисто из научного задора испытать себя в раскалывании очередного математического ребуса. Другое изменение вопроса - и еще одна головоломка. Часто в ходе поиска ответов на подобные проблемы математика эволюционирует, приобретает свежие взгляды на старые понятия, обзаводится новыми системными подходами и так далее, а значит теорема Пифагора, впрочем как и любое другое стоящее учение, с этой точки зрения имеет не меньшую польз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Математика времен Пифагора не признавала иных чисел, кроме рациональных (натуральных чисел или дробей с натуральным числителем и знаменателем). Все измерялось целыми величинами или частями целых. Потому так понятно стремление делать геометрические вычисления, решать уравнения все больше в натуральных числах. Пристрастие к ним открывает путь в невероятный мир таинства чисел, ряд которых в геометрической интерпретации первоначально вырисовывается как прямая линия с бесконечным множеством отметин. Иногда зависимость между какими-то числами ряда, "линейным расстоянием" между ними, пропорцией тотчас бросается в глаза, а иной раз самые сложные мыслительные конструкции не позволяют установить, каким закономерностям подчинено распределение тех или иных чисел. Выясняется, что и в новом мире, в этой "одномерной геометрии", старые задачи сохраняют силу, меняется лишь их постановка. Как например, вариант задания о пифагоровых числах: "От дома отец делает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шагов по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сантиметров каждый, а затем идет еще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шагов по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сантиметров. За ним шагает сын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шагов по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сантиметров каждый. Какими должны быть размеры их шагов, чтобы на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-том шаге ребенок вступил в след отца?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53352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Справедливости ради полагается отметить некоторую сложность для начинающего математика пифагорейской методики развития мысли. Это особого рода стиль математического мышления, к нему нужно привыкать. Интересен один момент. Математики вавилонского государства (оно возникло задолго до рождения Пифагора, почти полторы тысячи лет до него) тоже, видимо, знали какие-то методы поиска чисел, которые впоследствии стали называться пифагоровыми. Были найдены клинописные таблички, где вавилонские мудрецы записали выявленные ими тройки таких чисел. Некоторые тройки состояли из чересчур больших чисел, в связи с чем наши современники стали предполагать наличие у вавилонян недурственных, и вероятно даже немудреных, способов их вычисления. К сожалению, ни о самих способах, ни об их существовании ничего не известн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kolas</cp:lastModifiedBy>
  <dcterms:modified xsi:type="dcterms:W3CDTF">2007-05-01T12:37:27Z</dcterms:modified>
  <cp:revision>3</cp:revision>
  <dc:subject/>
  <dc:title>ПИФАГОРОВЫ ШТАНЫ НА ВСЕ СТОРОНЫ РАВНЫ </dc:title>
</cp:coreProperties>
</file>