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83D-E443-4FF5-9ABB-343E5372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13A-A8FB-41A6-817C-C461DB32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FECB-1E99-4897-913D-48EDC5B4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6D5-C69F-4C96-83FA-CF4AA605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812-0586-406A-BDCD-C12689E1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2C3-62F6-48DE-8671-72A195CB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2AC-4A46-4C5C-A04B-A1FA4CC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EA9-ED04-4721-9823-1DED647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E5A-8E8B-4890-89AA-86AF0B83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1B8-7B69-465D-B128-8D6AF841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2A7-FB33-4909-9CCC-A33FB1B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675-C10D-4151-B670-11DAE157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7596-EE63-4302-8DB5-F05A51F85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9800" y="1341360"/>
            <a:ext cx="522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и призна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пендикулярности плоско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90760" y="56664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и признак параллельности прямой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с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94200" y="1557360"/>
            <a:ext cx="838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йте плоскость, параллельную данной прямо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оходящую чере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заданную точку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другую данную прямую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-5760" y="4076640"/>
            <a:ext cx="87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а ||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|| α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меет с плоскостью α общую точку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жите, что прям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ит в плоскости 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-134640" y="546480"/>
            <a:ext cx="921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 CYR"/>
                <a:ea typeface="Times New Roman"/>
              </a:rPr>
              <a:t>Определение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лоскост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называются перпендикулярным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если существует плоскость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ерпендикулярная их линии пересечения 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ересекающая их по взаимно перпендикулярным прям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-2290680" y="3398760"/>
          <a:ext cx="584280" cy="397080"/>
        </p:xfrm>
        <a:graphic>
          <a:graphicData uri="http://schemas.openxmlformats.org/drawingml/2006/table">
            <a:tbl>
              <a:tblPr/>
              <a:tblGrid>
                <a:gridCol w="584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ис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б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5"/>
          <p:cNvSpPr/>
          <p:nvPr/>
        </p:nvSpPr>
        <p:spPr>
          <a:xfrm>
            <a:off x="425520" y="2781360"/>
            <a:ext cx="71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;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2736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-25560" y="402120"/>
            <a:ext cx="795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таких плоскосте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ществу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еобходимо доказат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это определение был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ект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ерпендикулярно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зависит от выбор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737080" cy="2501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711240" y="335772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’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891240" y="4005360"/>
            <a:ext cx="32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700440" y="450864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|| a’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|| b’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50920" y="331920"/>
            <a:ext cx="69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пары перпендикулярных плоскостей 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й из фигур и обоснуй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232000" cy="1868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5219640" y="907920"/>
            <a:ext cx="2664000" cy="243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2340000" y="299736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800" y="5950080"/>
            <a:ext cx="91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формулируйте признак перпендикулярности плоскост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3681360" y="28486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-3683160" y="3352680"/>
          <a:ext cx="519120" cy="397080"/>
        </p:xfrm>
        <a:graphic>
          <a:graphicData uri="http://schemas.openxmlformats.org/drawingml/2006/table">
            <a:tbl>
              <a:tblPr/>
              <a:tblGrid>
                <a:gridCol w="5191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ис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15"/>
          <p:cNvSpPr/>
          <p:nvPr/>
        </p:nvSpPr>
        <p:spPr>
          <a:xfrm>
            <a:off x="-81360" y="333360"/>
            <a:ext cx="92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плоскость содержит перпендикуля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 другой плоскости, то эти плоскости перпендикуляр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189000" y="4005360"/>
            <a:ext cx="895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 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Так как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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, с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знак перпендикулярности прямой и плоск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 определению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440640" y="134136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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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208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250560" y="37008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доказанным признаком, обоснуйт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ость плоскостей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97080" y="2060640"/>
            <a:ext cx="26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АВС) 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D’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449440" cy="2050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5003640" y="16286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(РАС) и (РВ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5796000" y="2060640"/>
            <a:ext cx="2663640" cy="2435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2843640" y="342900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(РАС) и (АВС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3"/>
          <a:stretch/>
        </p:blipFill>
        <p:spPr>
          <a:xfrm>
            <a:off x="2411280" y="4172040"/>
            <a:ext cx="2952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21:22Z</dcterms:created>
  <dc:creator>Николай Бирюков / Nikolai Biryukov</dc:creator>
  <dc:description/>
  <dc:language>en-US</dc:language>
  <cp:lastModifiedBy>Коля</cp:lastModifiedBy>
  <dcterms:modified xsi:type="dcterms:W3CDTF">2013-03-30T21:50:59Z</dcterms:modified>
  <cp:revision>4</cp:revision>
  <dc:subject/>
  <dc:title>Slide 1</dc:title>
</cp:coreProperties>
</file>