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F35-8C93-4FEC-9B0B-E61DC79F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01E-29BE-40AA-AA7F-7694EC9A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08E-2B25-4484-81AD-1F094919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F95-A436-43DE-AEA7-2447555E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73E-FC7C-486E-8D01-5CC0D1C5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283-2126-4ED8-AB9D-96BA5B4C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938-D314-47DA-906F-C437B74B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67F-F3EB-4673-BFB9-A5247AEB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589-D287-41BA-BFAE-340F8EC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A25-350B-4CE1-9CB5-2B6853E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EF0-95D9-49CA-911D-4F41C9EB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9AA-782F-4BE6-92D6-5590124C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6F20-BB88-48C7-8CFA-12375D4A8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9800" y="1341360"/>
            <a:ext cx="522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и призна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пендикулярности плоскос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90760" y="56664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и признак параллельности прямой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ск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94200" y="1557360"/>
            <a:ext cx="838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плоскость, параллельную данной прямо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оходящую чере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заданную точку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другую данную прямую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-5760" y="4076640"/>
            <a:ext cx="87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а ||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|| α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ет с плоскостью α общую точк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жите, что пряма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жит в плоскости 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-134640" y="546480"/>
            <a:ext cx="921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CYR"/>
                <a:ea typeface="Times New Roman"/>
              </a:rPr>
              <a:t>Определение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лоскост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 называются перпендикулярным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если существует плоскость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ерпендикулярная их линии пересечения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ересекающая их по взаимно перпендикулярным прямы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-2290680" y="3398760"/>
          <a:ext cx="584280" cy="397080"/>
        </p:xfrm>
        <a:graphic>
          <a:graphicData uri="http://schemas.openxmlformats.org/drawingml/2006/table">
            <a:tbl>
              <a:tblPr/>
              <a:tblGrid>
                <a:gridCol w="584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ис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б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5"/>
          <p:cNvSpPr/>
          <p:nvPr/>
        </p:nvSpPr>
        <p:spPr>
          <a:xfrm>
            <a:off x="425520" y="2781360"/>
            <a:ext cx="71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2736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-25560" y="402120"/>
            <a:ext cx="795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таких плоскостей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ществу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еобходимо доказать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это определение был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ект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ерпендикулярно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зависит от выбор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737080" cy="2501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711240" y="335772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’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891240" y="4005360"/>
            <a:ext cx="32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700440" y="450864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|| a’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|| b’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0920" y="331920"/>
            <a:ext cx="69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пары перпендикулярных плоскостей 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й из фигур и обоснуйт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2232000" cy="1868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2664000" cy="2435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2340000" y="2997360"/>
            <a:ext cx="2952720" cy="2685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1800" y="5950080"/>
            <a:ext cx="91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формулируйте признак перпендикулярности плоскос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3681360" y="28486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3683160" y="3352680"/>
          <a:ext cx="519120" cy="397080"/>
        </p:xfrm>
        <a:graphic>
          <a:graphicData uri="http://schemas.openxmlformats.org/drawingml/2006/table">
            <a:tbl>
              <a:tblPr/>
              <a:tblGrid>
                <a:gridCol w="5191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ис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5"/>
          <p:cNvSpPr/>
          <p:nvPr/>
        </p:nvSpPr>
        <p:spPr>
          <a:xfrm>
            <a:off x="-81360" y="333360"/>
            <a:ext cx="92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плоскость содержит перпендикуля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 другой плоскости, то эти плоскости перпендикуляр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189000" y="4005360"/>
            <a:ext cx="895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а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 |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Так как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, с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знак перпендикулярности прямой и плоскост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 определению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440640" y="134136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208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560" y="370080"/>
            <a:ext cx="67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доказанным признаком, обоснуйт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ность плоскостей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97080" y="2060640"/>
            <a:ext cx="26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(АВС) 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D’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449440" cy="2050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5003640" y="162864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(РАС) и (РВ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5796000" y="2060640"/>
            <a:ext cx="2663640" cy="24350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2843640" y="342900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(РАС) и (АВ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3"/>
          <a:stretch/>
        </p:blipFill>
        <p:spPr>
          <a:xfrm>
            <a:off x="2411280" y="4172040"/>
            <a:ext cx="29527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8:21:22Z</dcterms:created>
  <dc:creator>Николай Бирюков / Nikolai Biryukov</dc:creator>
  <dc:description/>
  <dc:language>en-US</dc:language>
  <cp:lastModifiedBy>Коля</cp:lastModifiedBy>
  <dcterms:modified xsi:type="dcterms:W3CDTF">2013-03-30T21:50:59Z</dcterms:modified>
  <cp:revision>4</cp:revision>
  <dc:subject/>
  <dc:title>Slide 1</dc:title>
</cp:coreProperties>
</file>