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829007-5942-4E02-8411-0D956C938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977663-9801-4A7F-9188-83A4B44D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19E31B8-A512-42A8-8290-D1D591824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31CF2A-318A-4BB0-AF80-86793B73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001F4-0DB0-48B2-98FE-0A9AF5CC4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4A32E-F588-4944-A7AB-89071877D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A00F7-B88C-46B4-939D-0E147337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A258A-F4B3-4B8C-A520-32BC70C19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31BB7-9039-4D51-9F1D-A648542FF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12AB2-2091-4C20-89F8-2E9D5DCD1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6993C-74EB-4260-9A39-3C2BF4D26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9C6DA6-0113-48F8-A9F9-F60654681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5A45-23EA-4054-9A81-619DC167D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85B9E-9340-4AE8-B0A1-C0B116410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C4579-EDDF-4D0B-801E-803AD222A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3C28E-3E65-4F4C-99F7-C5934B394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DB95D-28B8-4681-A1B2-04AF9BD6E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085352-BB75-4616-A06C-B3F42E553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BAC1AA-C3FE-4877-BF99-4B7737AF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0FDA3E-C6A0-4E61-8DFF-023F5EBB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5A87A22-A4BC-4D12-B1AA-CC32E591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3BD472-E62A-4382-A2FD-54462DCF9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A3F380-E06A-495C-8C44-1A866146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95E325-EE21-4D51-A661-3372A4D50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EB1C-ACC1-4D2E-BF84-1744FBFA80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2F9A-7983-4131-B2BB-8CE3A6CFE6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Авторская песня</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Матвеева Новелла Николаевна</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Книги и стихи</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сего ее перу принадлежит более 30 книг стихов, прозы и переводов. Среди них: "Лирика" (1961), "Кораблик" (1963), "Душа вещей" (1966), "Солнечный зайчик" (1966), "Ласточкина школа" (1973), "Река" (1978), "Закон песен" (1983), "Страна прибоя" (1983), "Кроличья деревня" (1984), "Избранное" (1986), "Хвала работе" (1987), "Нерасторжимый круг" (1991), "Мелодия для гитары" (1998), "Кассета снов" (1998), "Сонеты" (1998), "Караван" (2000), "Жасмин" (2001).</a:t>
            </a:r>
            <a:endParaRPr b="0" lang="en-US" sz="2800" spc="-1" strike="noStrike">
              <a:solidFill>
                <a:srgbClr val="ffffff"/>
              </a:solidFill>
              <a:latin typeface="Garamond"/>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сни на пластинках</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автор-исполнитель Н. Матвеева записала пластинки: "Песни" (Мелодия, 1967), "Стихи и песни" (Мелодия, 1966), "Дорога - мой дом" (Мелодия, 1982), "Музыка света" (в соавторстве с И. Киуру, Мелодия, 1984), "Баллады" (в соавторстве с И. Киуру, Мелодия, 1985), "Мой вороненок" (в соавторстве с И. Киуру, Мелодия, 1986), "Рыжая девочка" (в соавторстве с И. Киуру, Мелодия, 1986) и компакт-диски "Какой большой ветер" (ASP, 1997), "Девушка из харчевни" (ASP, 1997), "Лучшие песни" (Московские окна, 2000), "Отчаянная Мэри", "Трактир "Четвереньки".</a:t>
            </a:r>
            <a:endParaRPr b="0" lang="en-US" sz="2800" spc="-1" strike="noStrike">
              <a:solidFill>
                <a:srgbClr val="ffffff"/>
              </a:solidFill>
              <a:latin typeface="Garamond"/>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пулярные песни</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иболее известными и популярными песнями Новеллы Матвеевой стали: "Песня погонщика мула" ("Ах, как долго, долго едем..."), "Ветер" ("Какой большой ветер..."), "Водосточные трубы" ("Дождь, дождь вечерний..."), "Девушка из харчевни" ("Любви моей ты боялся зря..."), "Окраина" ("Летняя ночь была..."), "Капитаны без усов" ("Вот передо мною море голубое..."), "Страна Дельфиния" ("Набегают волны синие..."), "Фокусник" ("Ах ты, фокусник..."), "Цыганка" ("Развеселые цыгане по Молдавии гуляли..."), "Шарманщик" ("На землю падал снег...") и др.</a:t>
            </a: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становка пьесы</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 1984 году в Центральном детском театре в Москве была поставлена пьеса Н. Матвеевой "Предсказание Эгля" - свободная фантазия по мотивам А. Грина, содержащая 33 ее авторские песни.</a:t>
            </a:r>
            <a:endParaRPr b="0" lang="en-US" sz="3200" spc="-1" strike="noStrike">
              <a:solidFill>
                <a:srgbClr val="ffffff"/>
              </a:solidFill>
              <a:latin typeface="Garamond"/>
            </a:endParaRPr>
          </a:p>
        </p:txBody>
      </p:sp>
    </p:spTree>
  </p:cSld>
  <p:transition spd="slow">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дость»</a:t>
            </a:r>
            <a:endParaRPr b="1" lang="en-US" sz="4400" spc="-1" strike="noStrike">
              <a:solidFill>
                <a:srgbClr val="e5e5ff"/>
              </a:solidFill>
              <a:latin typeface="Garamond"/>
            </a:endParaRPr>
          </a:p>
        </p:txBody>
      </p:sp>
      <p:sp>
        <p:nvSpPr>
          <p:cNvPr id="127" name="PlaceHolder 2"/>
          <p:cNvSpPr>
            <a:spLocks noGrp="1"/>
          </p:cNvSpPr>
          <p:nvPr>
            <p:ph/>
          </p:nvPr>
        </p:nvSpPr>
        <p:spPr>
          <a:xfrm>
            <a:off x="-360" y="1267920"/>
            <a:ext cx="9325080" cy="558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У ворот июля замерли ул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Хлопает листам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мокший 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етер из дожд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дергивает н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олнце сыплет блеск</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Из облачных пр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ветятся лягушки и себя не пом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качут через камни рыжего ручь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мне задержа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 пороге полд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облокоти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 косяк луч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ы думали…»</a:t>
            </a:r>
            <a:endParaRPr b="1" lang="en-US" sz="4400" spc="-1" strike="noStrike">
              <a:solidFill>
                <a:srgbClr val="e5e5ff"/>
              </a:solidFill>
              <a:latin typeface="Garamond"/>
            </a:endParaRPr>
          </a:p>
        </p:txBody>
      </p:sp>
      <p:sp>
        <p:nvSpPr>
          <p:cNvPr id="129" name="PlaceHolder 2"/>
          <p:cNvSpPr>
            <a:spLocks noGrp="1"/>
          </p:cNvSpPr>
          <p:nvPr>
            <p:ph/>
          </p:nvPr>
        </p:nvSpPr>
        <p:spPr>
          <a:xfrm>
            <a:off x="395280" y="1052280"/>
            <a:ext cx="829152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не зн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вы мне чужд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склоняясь, подбир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бломки дружб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глядела не с упреко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только с гр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 я рвусь к истока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то - к 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азлукой больше не стра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е обольщалась.</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про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 - прощалась.</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Биография</a:t>
            </a:r>
            <a:endParaRPr b="1" lang="en-US" sz="4400" spc="-1" strike="noStrike">
              <a:solidFill>
                <a:srgbClr val="e5e5ff"/>
              </a:solidFill>
              <a:latin typeface="Garamond"/>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Матвеева Новелла Николаевна</a:t>
            </a:r>
            <a:endParaRPr b="0" lang="en-US" sz="36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одилась 7 октября 1934 года в Царском Селе (ныне - город Пушкин) Ленинградской области. Отец – Матвеев -Бодрый Николай Николаевич, был историком-краеведом Дальнего Востока, действительным членом Всесоюзного географического общества. Мать - Матвеева-Орленева Надежда Тимофеевна, поэтесса. Супруг - Киуру Иван Семенович (1934-1992), поэт.</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 1950 по 1957 год Новелла Матвеева работала в детском доме в Щелковском районе Московской области.</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Наставник</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исать она стала под влиянием матери. Надежда Тимофеевна была личностью незаурядной во многих отношениях, человеком большой культуры и большого артистизма. Она очень любила поэзию, прекрасно читала стихи. Именно из ее уст, в ее удивительной декламации впервые Новелла услышала стихи Пушкина. В доме Матвеевых не всегда было радио, тем не менее благодаря матери музыка звучала постоянно. У нее был романсовый звонкий голос. Она пела цыганские, русские и итальянские песни.</a:t>
            </a:r>
            <a:endParaRPr b="0" lang="en-US" sz="2800" spc="-1" strike="noStrike">
              <a:solidFill>
                <a:srgbClr val="ffffff"/>
              </a:solidFill>
              <a:latin typeface="Garamond"/>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емья поэтессы</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Вообще Новелла Матвеева происходит из знаменитой литературной семьи русского Дальнего Востока: ее дед Николай Петрович Матвеев-Амурский, был поэтом и автором первой "Истории города Владивостока". Ее мать, младший брат Роальд Николаевич, ее дядя Венедикт Николаевич, супруг - тоже поэты... </a:t>
            </a: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ые стихотворения</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Свои первые стихотворения Новелла Матвеева сочинила еще ребенком, во время войны. Это было в Монинском госпитале, где она лечилась от острого авитаминоза, подействовавшего ей на глаза. Она показала стихи отцу, который работал там же, в госпитале, политруком. В детстве же пыталась сочинять музыку на свои стихи, а также на стихи А. Гладкова, В. Агнивцева, У. Шекспира, М. Лермонтова, А. Фета.</a:t>
            </a:r>
            <a:endParaRPr b="0" lang="en-US" sz="3200" spc="-1" strike="noStrike">
              <a:solidFill>
                <a:srgbClr val="ffffff"/>
              </a:solidFill>
              <a:latin typeface="Garamond"/>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ая публикация</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вой ее публикацией в 1957 году стала пародия на песенку "Пять минут" из кинофильма "Карнавальная ночь". Вскоре последовали публикации стихов в газете "Советская Чукотка" (1958) и журнале "Енисей". С 1959 года ее стихи стали регулярно печататься в центральных газетах и журналах. В продвижении первых больших подборок стихов Новелле Матвеевой помогли поэты Игорь Грудев и Давид Кугультинов, а также работники ЦК комсомола Виктор Бушин и Лен Карпинский. Далее в судьбе поэтессы принимали участие С. Маршак, К. Чуковский, М. Атабекян, В. Чивилихин, Н. Старшинов, Б. Слуцкий, Ю. Воронов. </a:t>
            </a:r>
            <a:endParaRPr b="0" lang="en-US" sz="2800" spc="-1" strike="noStrike">
              <a:solidFill>
                <a:srgbClr val="ffffff"/>
              </a:solidFill>
              <a:latin typeface="Garamond"/>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Творческая судьба</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У Новеллы Матвеевой - счастливая творческая судьба. Ее вовремя заметили и сразу полюбили. Девушка из провинции с необычным завораживающим голосом и гитарой в руках завоевала в начале 1960-х годов столицу, а затем и всю страну. Ее песни, зазвучавшие на любительских магнитофонах, довольно быстро воплотились в пластинку "Песни" (М.: Мелодия, 1966). То была первая бардовская пластинка в Советском Союзе, впоследствии неоднократно выпускавшаяся, но так и оставшаяся раритетом.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 1972 года Новелла Матвеева стала сочинять песни также и на стихи поэта Ивана Киуру.</a:t>
            </a:r>
            <a:endParaRPr b="0" lang="en-US" sz="2800" spc="-1" strike="noStrike">
              <a:solidFill>
                <a:srgbClr val="ffffff"/>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эззия</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поэзии Новеллы Матвеевой преобладает лирико-романтическое начало. Она отражает высокие гуманистические чувства человека, его мечты и фантазии, окружающий его красочный мир природы. Много пишет она и для детей. Кроме того, Новелла Матвеева занимается переводами, пишет пародии и эпиграммы, выступает со статьями по вопросам литературы и искусства.</a:t>
            </a:r>
            <a:endParaRPr b="0" lang="en-US" sz="2800" spc="-1" strike="noStrike">
              <a:solidFill>
                <a:srgbClr val="ffffff"/>
              </a:solidFill>
              <a:latin typeface="Garamond"/>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татьи критиков</a:t>
            </a:r>
            <a:endParaRPr b="1" lang="en-US" sz="4400" spc="-1" strike="noStrike">
              <a:solidFill>
                <a:srgbClr val="e5e5ff"/>
              </a:solidFill>
              <a:latin typeface="Garamond"/>
            </a:endParaRPr>
          </a:p>
        </p:txBody>
      </p:sp>
      <p:sp>
        <p:nvSpPr>
          <p:cNvPr id="117"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у Новеллы Матвеевой принадлежат сотни публикаций в периодической печати. Ее творчеству посвящено более сотни статей известных поэтов, литераторов, критиков и литературоведов. Среди их авторов Е. Евтушенко, Л. Аннинский, Е. Винокуров, В. Огнев, З. Паперный, В. Лакшин, С. Маршак, С. Чупринин, Г. Красников, Б. Окуджава, Е. Камбурова, Д. Гранин, Я. Смеляков, В. Цыбин, Б. Слуцкий, В. Берестов, А. Урбан, Ю. Смелков и др.</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1998 году Н.Н. Матвеева удостоена звания лауреата Пушкинской премии в области поэзии.</a:t>
            </a:r>
            <a:endParaRPr b="0" lang="en-US" sz="2800" spc="-1" strike="noStrike">
              <a:solidFill>
                <a:srgbClr val="ffffff"/>
              </a:solidFill>
              <a:latin typeface="Garamond"/>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5:51:39Z</dcterms:created>
  <dc:creator>Артём</dc:creator>
  <dc:description/>
  <dc:language>en-US</dc:language>
  <cp:lastModifiedBy>Артём</cp:lastModifiedBy>
  <dcterms:modified xsi:type="dcterms:W3CDTF">2009-05-19T16:55:49Z</dcterms:modified>
  <cp:revision>2</cp:revision>
  <dc:subject/>
  <dc:title>Авторская песня</dc:title>
</cp:coreProperties>
</file>