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BA4-FBE8-4606-9C11-CE7DB7CE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FE8-5C71-4D0C-BC78-C89C6BDD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068-5E6B-4B7C-AC13-B30E4C78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988-CF8D-4263-A6F4-F6A4B682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B288-82A1-475B-BCDB-0E812528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EF15-9953-47CB-8384-778854B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78BF-0694-44F1-9F12-187D82F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906A-3EC8-4F17-9C2A-77794058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0F80-06D4-44C6-8C10-35B94173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C76-99BF-47C3-868D-5BD14786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606E-C0E3-4ABA-AD5A-87F0B27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3A4-99EA-4286-8D77-B909D0F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85A9-2920-4EB2-9703-65CC7FE3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2856-5568-434B-ACF3-AAE9F8D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5C68-A306-41AB-9794-68798E10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35A6-8FCC-4440-9096-589072EF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F49-E0E3-48DD-B778-863E5A736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FED-D5A7-4608-B7D0-FC24BAF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0FD-96AC-4A6C-8615-5D2B71A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5BB-BC3C-4867-90EB-224F60D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6986-D3BD-4ACF-9E13-F128AB89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DF6-C9B1-47F0-BECD-E8F0483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EBF-5AC2-4A5F-9E09-D7B88ABE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5FA-0F9C-4580-B7F4-C1364E9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3794-1376-4760-A155-38EA5914D3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8D95-F378-4F14-AF6A-560F25EA9D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Правила нанесения размеров на чертежах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нженерная граф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несение размеров на чертеже устанавливает ГОСТ 2.307-6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количество размеров на чертеже должно быть минимальным, но достаточным для изготовления и контроля дет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йдите 10 отличий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и сформулируйте правила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                       нанесения размеров на чертеж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2300400"/>
          <a:ext cx="4105440" cy="31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00400"/>
                    <a:ext cx="410544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1600200" cy="134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40320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делятся 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линейные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угловы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наносятся с помощью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размерных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у размера указывают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миллиметра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 правилу «левой руки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ка касается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выносной лин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линии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ускается изображать размерную линию с обрывом , если деталь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симметрич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ольшом количестве параллельных размерных линий, размерные числа проставляются в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шахматном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рядк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  Если для размерного числа мало места , то его выносят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на полку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равила нанесения размер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8.  При обозначении двух и более одинаковых отверстий , размер выносят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на полку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казанием количества отверст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.  Координирующ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группируя по конструктивным элемента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Габаритны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азмеры наносят 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следнюю очеред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Используются графические зна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(толщина детали)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cc66"/>
                </a:solidFill>
                <a:latin typeface="Verdana"/>
              </a:rPr>
              <a:t>R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 знак радиус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Ø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Verdana"/>
              </a:rPr>
              <a:t>знак диаметр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□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знак квадрат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асштаб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о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называется отношение линейных размеров на чертеже к действительным размерам предме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873360" y="4076640"/>
            <a:ext cx="73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Масштаб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  Изображение :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линейные размеры на чертеже     действите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раз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иды масштаб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в натуральную величин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меньш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:2;  1:2,5;  1:4;  1:5;  1: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штаб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увели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:1;  2,5:1;  4:1;  5:1;  10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:П=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На чертеже наносятся только действительные разм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12:24Z</dcterms:created>
  <dc:creator>ANYA</dc:creator>
  <dc:description/>
  <dc:language>en-US</dc:language>
  <cp:lastModifiedBy>OLYA</cp:lastModifiedBy>
  <dcterms:modified xsi:type="dcterms:W3CDTF">2009-12-04T19:30:58Z</dcterms:modified>
  <cp:revision>4</cp:revision>
  <dc:subject/>
  <dc:title>Слайд 1</dc:title>
</cp:coreProperties>
</file>