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DA2-59CA-4651-9152-A57B9BA7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9C9-828F-4F69-A55C-EA99F10D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610-E07E-4794-B1FF-A591CAB4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CB7-D72D-4060-B0DA-3754BC42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AB9C-CADE-47AC-B5DB-4EA2381D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81CD-C826-4A2E-996B-7C52C5E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61C4-6AF9-4434-B0A3-92CA5A7B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4844-8C59-4497-9CDF-43306C6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315-210E-475E-96F2-8BC8850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D246-3D8C-40FF-AE1B-C1969D5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F076-461D-49BE-B362-1182F015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A57-6DA9-47F2-97C5-54F1A89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1E51-5FDE-4DE5-AB2D-46D9C1C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85AA-4584-4690-A29C-C83E5FB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705B-A822-440E-9375-1858A73D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6A24-549F-423C-A169-31B1A8AD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ABA8-DEEF-4A72-8348-38AB93FB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72F-3A2B-4224-A12F-6F3F904D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D3C-A887-4733-A763-2B6FCF0C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228-7AED-465A-919F-B53EF640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785-49CC-4C70-81A1-E276FB36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6D4-0DEC-4D02-8DAB-7F6F510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2C6-0CE1-4CEC-99C2-96B4FB2D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5A2-2E92-43A7-8C1F-760B16F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2B70-974B-4979-BB5B-E02DB45DE3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F85F-C3B7-45D8-BCE6-BF9C287D35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равила нанесения размеров на чертеж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нженерная граф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несение размеров на чертеже устанавливает ГОСТ 2.307-6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количество размеров на чертеже должно быть минимальным, но достаточным для изготовления и контроля дет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йдите 10 отличий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 и сформулируйте правила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           нанесения размеров на чертеж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2300400"/>
          <a:ext cx="4105440" cy="31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00400"/>
                    <a:ext cx="410544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1600200" cy="134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4032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делятся 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линей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углов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наносятся с помощью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выносных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размерных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у размера указывают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иллиметра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 правилу «левой рук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ка касается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выносной лин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линии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ускается изображать размерную линию с обрывом , если деталь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симметрич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ольшом количестве параллельных размерных линий, размерные числа проставляются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шахматном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ряд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  Если для размерного числа мало места , то его выносят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а полку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8.  При обозначении двух и более одинаковых отверстий , размер выносят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на полку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казанием количества отверс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.  Координирующ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азмеры наносят группируя по конструктивным элемент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Габарит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азмеры наносят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следнюю очеред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. Используются графические 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(толщина детали)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cc66"/>
                </a:solidFill>
                <a:latin typeface="Verdana"/>
              </a:rPr>
              <a:t>R</a:t>
            </a:r>
            <a:r>
              <a:rPr b="0" i="1" lang="ru-RU" sz="2800" spc="-1" strike="noStrike">
                <a:solidFill>
                  <a:srgbClr val="ffcc66"/>
                </a:solidFill>
                <a:latin typeface="Verdana"/>
              </a:rPr>
              <a:t> знак радиус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Ø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Verdana"/>
              </a:rPr>
              <a:t>знак диаметр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□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нак квадра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асшта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Масштабо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называется отношение линейных размеров на чертеже к действительным размерам предме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873360" y="4076640"/>
            <a:ext cx="73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Масштаб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 Изображение :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линейные размеры на чертеже     действ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аз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Виды масштаб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в натуральную величин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уменьш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:2;  1:2,5;  1:4;  1:5;  1: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увели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:1;  2,5:1;  4:1;  5:1;  10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:П=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На чертеже наносятся только действительные разм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12:24Z</dcterms:created>
  <dc:creator>ANYA</dc:creator>
  <dc:description/>
  <dc:language>en-US</dc:language>
  <cp:lastModifiedBy>OLYA</cp:lastModifiedBy>
  <dcterms:modified xsi:type="dcterms:W3CDTF">2009-12-04T19:30:58Z</dcterms:modified>
  <cp:revision>4</cp:revision>
  <dc:subject/>
  <dc:title>Слайд 1</dc:title>
</cp:coreProperties>
</file>