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579-5BB6-4CBE-8F2B-4BD73734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6B5-8B43-49B9-A4E9-CE54FE2A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3A9-0BF9-4A88-961A-250A2271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80D-81B0-4CC2-A456-338858AB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F41-E269-47C1-BB17-5553E4FE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B2F9-5CE9-4E32-A0F8-5366A0F5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25B0-1F61-47CC-B68A-78E18C1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B611-28AE-40C5-8167-75AAA9AF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B447-2D1B-4556-8B73-200CDC7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DF86-C071-4752-B8D9-743137B7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17F8-F879-48EA-BA83-41A5F74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6A4-A1A7-456B-854E-1A04C7F3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ACC-DFDD-43A0-A358-B16CBC1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3E45-076E-4D8F-A7B3-5E99C82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3C26-4297-4DD2-8747-951AF0C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F2CC-01FC-41CF-8877-030AC1B0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4AB-E8AF-4791-9864-C94BC385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B52-C964-4B3C-AD85-5DDDB4A3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67A-5A87-4350-9282-7C8E53F8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418-32A3-4775-9D64-930FE05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B85-60D4-45FC-9828-1C1BFF65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3C3-A8B6-4997-8C5A-1323C69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E5A-F618-41FB-BE81-3AAFDCF6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CDB-EBC0-443F-BD03-49588F9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972-CA6A-4246-8B8C-047360195B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765C-2E1D-4026-B5CB-D617ECCEA0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равила нанесения размеров на чертеж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нженерная граф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несение размеров на чертеже устанавливает ГОСТ 2.307-6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количество размеров на чертеже должно быть минимальным, но достаточным для изготовления и контроля дет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йдите 10 отличий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и сформулируйте правила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          нанесения размеров на чертеж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2300400"/>
          <a:ext cx="4105440" cy="31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00400"/>
                    <a:ext cx="410544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1600200" cy="134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4032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делятся 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линей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углов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наносятся с помощью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размер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у размера указывают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ллиметра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 правилу «левой рук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ка касается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ой лин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линии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ускается изображать размерную линию с обрывом , если деталь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симметрич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ольшом количестве параллельных размерных линий, размерные числа проставляются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шахматном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ряд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  Если для размерного числа мало места , то его выносят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а полк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8.  При обозначении двух и более одинаковых отверстий , размер выносят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на полку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казанием количества отверс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.  Координирующ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группируя по конструктивным элемент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Габарит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леднюю очеред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Используются графические 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(толщина детали)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cc66"/>
                </a:solidFill>
                <a:latin typeface="Verdana"/>
              </a:rPr>
              <a:t>R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 знак радиус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Ø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знак диамет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□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нак квадра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асшта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о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называется отношение линейных размеров на чертеже к действительным размерам предме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873360" y="4076640"/>
            <a:ext cx="73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 Изображение :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линейные размеры на чертеже     действ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аз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иды масшта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в натуральную величин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меньш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2;  1:2,5;  1:4;  1:5;  1: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вели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:1;  2,5:1;  4:1;  5:1;  10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:П=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На чертеже наносятся только действительные разм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12:24Z</dcterms:created>
  <dc:creator>ANYA</dc:creator>
  <dc:description/>
  <dc:language>en-US</dc:language>
  <cp:lastModifiedBy>OLYA</cp:lastModifiedBy>
  <dcterms:modified xsi:type="dcterms:W3CDTF">2009-12-04T19:30:58Z</dcterms:modified>
  <cp:revision>4</cp:revision>
  <dc:subject/>
  <dc:title>Слайд 1</dc:title>
</cp:coreProperties>
</file>