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E7D-7CE2-4BCA-B0EF-23280E10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25E-5AAB-40F6-BB23-15A69FFB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942-31B2-410B-82D8-9F9DCB55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4FE-9425-443F-AF06-13B9AE5B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E53-5444-416F-99C8-0109EF9F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B26-01A4-4294-B5CC-848BA30D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40B-37F7-4649-9C4F-C589DDB9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788-1AF2-4316-BEDC-4A2BEA40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F81-D8DE-490A-A923-E8976E4D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86E-72DF-4E8B-85B2-A8F90CC1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CA7-67B5-4A89-BA25-2FB8821C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192-DCA6-4288-A120-D3B46282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C683-BB61-48DB-A08A-8FBA3F1C2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rekov_trubach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0/Eheiii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pload.wikimedia.org/wikipedia/commons/1/10/Range_trumpet.pn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7/77/Ian_Frenkel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d/Grekov_Rostov-on-Don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b/Grekov_Rostov-on-Don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rekov_trubachi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c/SM-Budyonny-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oktionov_Aleksandrov_Dunajevskij_Pokrass_Moskvin.jpg" TargetMode="External"/><Relationship Id="rId2" Type="http://schemas.openxmlformats.org/officeDocument/2006/relationships/hyperlink" Target="http://upload.wikimedia.org/wikipedia/commons/4/47/Loktionov_Aleksandrov_Dunajevskij_Pokrass_Moskvi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d/Trumpet_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838080" y="533520"/>
            <a:ext cx="7162920" cy="3124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lackadder ITC"/>
              </a:rPr>
              <a:t>Музыкальные крас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Файл:Grekov trubach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3200400"/>
            <a:ext cx="3810240" cy="29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51814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руба эпохи барокко (реконструкци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Файл:Eheii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85800"/>
            <a:ext cx="6781680" cy="2895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" name="Picture 7" descr="Файл:Range trumpet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581280"/>
            <a:ext cx="31431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н Абра́мович Фре́нк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21 ноябр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9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иев — 25 август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ига) — советский композитор-песенник. Народный артист РСФСР(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ый артист СССР (1989), Лауреат Государственной премии СССР (198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Ian Frenk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09480"/>
            <a:ext cx="369576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lackadder ITC"/>
              </a:rPr>
              <a:t>Действие происходит в Крыму в </a:t>
            </a:r>
            <a:r>
              <a:rPr b="0" i="1" lang="ru-RU" sz="1800" spc="-1" strike="noStrike">
                <a:solidFill>
                  <a:srgbClr val="000000"/>
                </a:solidFill>
                <a:latin typeface="Blackadder ITC"/>
              </a:rPr>
              <a:t>1920</a:t>
            </a:r>
            <a:r>
              <a:rPr b="0" lang="ru-RU" sz="1800" spc="-1" strike="noStrike">
                <a:solidFill>
                  <a:srgbClr val="000000"/>
                </a:solidFill>
                <a:latin typeface="Blackadder ITC"/>
              </a:rPr>
              <a:t> году во времена Гражданской войны. «Неуловимые мстители», возвращаясь с очередного задания сумели захватить аэроплан и лётчика. В планшете лётчика были обнаружены документы, свидетельствующие о том, что белогвардейцы построили секретные оборонительные укрепления вокруг города, который предстоит взять Красной Арм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lackadder ITC"/>
              </a:rPr>
              <a:t>Четвёрка юных героев разведчиков направляются в Ялту, находящуюся под контролем белых. Их цель — штаб белой армии и сейф в кабинете начальника контрразведки полковника Леопольда Кудасова, где хранится пл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Файл:Испанский постер фильма «Новые приключения неуловимых» (СССР, 1968).jpg"/>
          <p:cNvPicPr/>
          <p:nvPr/>
        </p:nvPicPr>
        <p:blipFill>
          <a:blip r:embed="rId1"/>
          <a:stretch/>
        </p:blipFill>
        <p:spPr>
          <a:xfrm>
            <a:off x="6440400" y="533520"/>
            <a:ext cx="2293920" cy="327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" name="Picture 9" descr="Новые приключения неуловимых"/>
          <p:cNvPicPr/>
          <p:nvPr/>
        </p:nvPicPr>
        <p:blipFill>
          <a:blip r:embed="rId2"/>
          <a:stretch/>
        </p:blipFill>
        <p:spPr>
          <a:xfrm>
            <a:off x="4876920" y="3352680"/>
            <a:ext cx="2395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lackadder ITC"/>
              </a:rPr>
              <a:t>«Погон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lackadder ITC"/>
              </a:rPr>
              <a:t>слова Р. Рождественского, музыка Я. Френкел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lackadder ITC"/>
              </a:rPr>
              <a:t>к/ф Новые приключения неуловимы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Усталость забы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Колышется ч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снова копы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Как сердце, сту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нет нам пок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Гори, но жив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Погоня, пого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Погоня, погоня в горячей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Есть пули в нага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надо усп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Сразиться с вра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песню доп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В удачу поверьт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дело с конц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Да здравствует ветер, Который в лиц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льные кра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ембр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динамические 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ладовые (мажор, мин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регистровые (высокий, средний, низ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емповые (быстро, умеренно, медлен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lackadder ITC"/>
              </a:rPr>
              <a:t>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яркие и приглуш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возбужд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ревожные и спок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не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колю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жесткие и мя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лас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Файл:Grekov Rostov-on-Don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685800"/>
            <a:ext cx="44578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548604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Училище им. М. Гр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Файл:Grekov Rostov-on-Don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761976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Файл:Grekov trubach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2280"/>
            <a:ext cx="8001000" cy="6556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47920" y="5562720"/>
            <a:ext cx="403848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С. М. Буд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Файл:SM-Budyonny-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838080"/>
            <a:ext cx="402264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lackadder ITC"/>
              </a:rPr>
              <a:t>Командарм 2-го ранга А. Д. Локтионов, композиторы А. В. Александров, И. О. Дунаевский, Д. Я. Покрасс и артист И. М. Москвин (1938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Файл:Loktionov Aleksandrov Dunajevskij Pokrass Moskv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304920"/>
            <a:ext cx="7620120" cy="46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ми́трий Я́ковлевич Покра́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6 октября (7 ноября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иев — 20 декабр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осква) — российский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вет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узыкант и компози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ный артист СССР (197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уреат Сталинской премии второй степени (1941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 ВКП(б) с 194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ба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итал. 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romb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р. 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rompet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м. 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rompe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нгл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rump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— медный духовой музыкальный инструмент альтово-сопранового регистра, самый высокий по звучанию среди медных духовых. В качестве сигнального инструмента натуральная труба использовалась с древнейших времён, примерно с XVII века вошла в состав оркестра. С изобретением механизма вентилей труба получила полный хроматический звукоряд и с середины XIX века стала полноценным инструментом классической музыки. Инструмент обладает ярким, блестящим тембром, используется как сольный инструмент, в симфоническом и духовом оркестрах, а также в джазе и других жан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Файл:Trumpet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80880"/>
            <a:ext cx="7620120" cy="25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25T22:57:3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