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818-B0A1-4979-8766-C12C4200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E65-5A80-4517-A68C-E5F27DCE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CC6-98BA-47E4-B5A8-6D83047F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546-AB1B-440A-859F-DDBB73F6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E88-9FA3-4DD6-94D1-6DEE3214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9A7-844A-4C57-8778-547DC9D5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7535-4D4F-4470-A3AD-72DF368E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4B0-EFBD-47CD-A1F8-B4D7D63F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FC1-4ADD-43CF-9736-1EBDC8D4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89F-FAA7-4958-A26A-A9325741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ABB-474D-43F2-8AFE-011C5B3C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D66-1647-454E-BCD8-A49BD45D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ff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ED35-403D-4B20-8BD0-9C50C698C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rekov_trubach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0/Eheiii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pload.wikimedia.org/wikipedia/commons/1/10/Range_trumpet.png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7/77/Ian_Frenkel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d/Grekov_Rostov-on-Don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b/Grekov_Rostov-on-Don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rekov_trubachi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c/SM-Budyonny-0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Loktionov_Aleksandrov_Dunajevskij_Pokrass_Moskvin.jpg" TargetMode="External"/><Relationship Id="rId2" Type="http://schemas.openxmlformats.org/officeDocument/2006/relationships/hyperlink" Target="http://upload.wikimedia.org/wikipedia/commons/4/47/Loktionov_Aleksandrov_Dunajevskij_Pokrass_Moskvin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d/Trumpet_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838080" y="533520"/>
            <a:ext cx="7162920" cy="3124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lackadder ITC"/>
              </a:rPr>
              <a:t>Музыкальные крас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Файл:Grekov trubach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3200400"/>
            <a:ext cx="3810240" cy="296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51814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Труба эпохи барокко (реконструкция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Файл:Eheii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85800"/>
            <a:ext cx="6781680" cy="2895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2" name="Picture 7" descr="Файл:Range trumpet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3581280"/>
            <a:ext cx="31431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н Абра́мович Фре́нк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21 ноябр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92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иев — 25 август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ига) — советский композитор-песенник. Народный артист РСФСР(19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ный артист СССР (1989), Лауреат Государственной премии СССР (198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айл:Ian Frenk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09480"/>
            <a:ext cx="369576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lackadder ITC"/>
              </a:rPr>
              <a:t>Действие происходит в Крыму в </a:t>
            </a:r>
            <a:r>
              <a:rPr b="0" i="1" lang="ru-RU" sz="1800" spc="-1" strike="noStrike">
                <a:solidFill>
                  <a:srgbClr val="000000"/>
                </a:solidFill>
                <a:latin typeface="Blackadder ITC"/>
              </a:rPr>
              <a:t>1920</a:t>
            </a:r>
            <a:r>
              <a:rPr b="0" lang="ru-RU" sz="1800" spc="-1" strike="noStrike">
                <a:solidFill>
                  <a:srgbClr val="000000"/>
                </a:solidFill>
                <a:latin typeface="Blackadder ITC"/>
              </a:rPr>
              <a:t> году во времена Гражданской войны. «Неуловимые мстители», возвращаясь с очередного задания сумели захватить аэроплан и лётчика. В планшете лётчика были обнаружены документы, свидетельствующие о том, что белогвардейцы построили секретные оборонительные укрепления вокруг города, который предстоит взять Красной Арм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lackadder ITC"/>
              </a:rPr>
              <a:t>Четвёрка юных героев разведчиков направляются в Ялту, находящуюся под контролем белых. Их цель — штаб белой армии и сейф в кабинете начальника контрразведки полковника Леопольда Кудасова, где хранится пл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Файл:Испанский постер фильма «Новые приключения неуловимых» (СССР, 1968).jpg"/>
          <p:cNvPicPr/>
          <p:nvPr/>
        </p:nvPicPr>
        <p:blipFill>
          <a:blip r:embed="rId1"/>
          <a:stretch/>
        </p:blipFill>
        <p:spPr>
          <a:xfrm>
            <a:off x="6440400" y="533520"/>
            <a:ext cx="2293920" cy="327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7" name="Picture 9" descr="Новые приключения неуловимых"/>
          <p:cNvPicPr/>
          <p:nvPr/>
        </p:nvPicPr>
        <p:blipFill>
          <a:blip r:embed="rId2"/>
          <a:stretch/>
        </p:blipFill>
        <p:spPr>
          <a:xfrm>
            <a:off x="4876920" y="3352680"/>
            <a:ext cx="2395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lackadder ITC"/>
              </a:rPr>
              <a:t>«Погон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lackadder ITC"/>
              </a:rPr>
              <a:t>слова Р. Рождественского, музыка Я. Френкел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Blackadder ITC"/>
              </a:rPr>
              <a:t>к/ф Новые приключения неуловимы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Усталость забы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Колышется ча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И снова копы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Как сердце, стуч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И нет нам поко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Гори, но жив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Погоня, пого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Погоня, погоня в горячей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Есть пули в нага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И надо усп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Сразиться с вра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И песню допе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В удачу поверьт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И дело с конц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Да здравствует ветер, Который в лиц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ыкальные кра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тембр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динамические 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ладовые (мажор, мин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регистровые (высокий, средний, низ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темповые (быстро, умеренно, медлен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lackadder ITC"/>
              </a:rPr>
              <a:t>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яркие и приглуш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возбужд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тревожные и спок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не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колю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жесткие и мя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lackadder ITC"/>
              </a:rPr>
              <a:t>лас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Файл:Grekov Rostov-on-Don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685800"/>
            <a:ext cx="445788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548604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Училище им. М. Гре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Файл:Grekov Rostov-on-Don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761976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Файл:Grekov trubach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52280"/>
            <a:ext cx="8001000" cy="6556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47920" y="5562720"/>
            <a:ext cx="403848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С. М. Буд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Файл:SM-Budyonny-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838080"/>
            <a:ext cx="402264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lackadder ITC"/>
              </a:rPr>
              <a:t>Командарм 2-го ранга А. Д. Локтионов, композиторы А. В. Александров, И. О. Дунаевский, Д. Я. Покрасс и артист И. М. Москвин (1938 г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Файл:Loktionov Aleksandrov Dunajevskij Pokrass Moskv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304920"/>
            <a:ext cx="7620120" cy="4695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ми́трий Я́ковлевич Покра́с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6 октября (7 ноября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89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иев — 20 декабр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осква) — российский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вет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узыкант и компози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одный артист СССР (1975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уреат Сталинской премии второй степени (1941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 ВКП(б) с 1940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ба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итал. 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tromb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фр. 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rompet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ем. 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rompe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нгл.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trump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— медный духовой музыкальный инструмент альтово-сопранового регистра, самый высокий по звучанию среди медных духовых. В качестве сигнального инструмента натуральная труба использовалась с древнейших времён, примерно с XVII века вошла в состав оркестра. С изобретением механизма вентилей труба получила полный хроматический звукоряд и с середины XIX века стала полноценным инструментом классической музыки. Инструмент обладает ярким, блестящим тембром, используется как сольный инструмент, в симфоническом и духовом оркестрах, а также в джазе и других жан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Файл:Trumpet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80880"/>
            <a:ext cx="7620120" cy="252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2-25T22:57:3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