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A03-E25D-4C51-8AF2-5C5CB9FF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A02F-ED01-4530-9A81-BA4A845C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594-03DB-4AA9-899A-85CB8C4B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D3E-B1C8-4101-8C93-75EA9C3C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2882-B7CD-4741-8998-AD2B98BC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5B8B-E37D-4DF0-9BE2-F50920C1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13B3-FC8A-49CB-8060-F6D9BFD4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49DE-8BD0-4C25-8BA9-4BFDEBB5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BAD0-2481-49E2-A2B6-EDF800A0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07EC-2D7D-41E5-9EB0-1C58B8FC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F353-5B00-44FB-B25D-9FBB8156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8BC-BB7E-4E0C-8472-EDB6F9DC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1D92-03DC-4402-A7B3-3E6632FB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9384-6285-4DB9-818E-7B842ED6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6AE8-17FD-4EF8-829C-EE842016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FA79-38A0-462D-8133-34868BC3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58F4-4315-4D7D-914F-CF77D118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102-615A-4E81-ABD7-11365225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23D-0A9B-42DF-9FF8-30CF651C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C41-2100-480B-8AE9-CD14C8D0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ED8-4FE0-4BD3-98BD-3E91735C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1CA-B4C5-4A64-928A-FBD17C15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BDB-E361-47E3-8BB7-5B0B1056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AB5-5178-4444-96CC-80B45E54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EA7D-BC7C-48BA-8AE7-2361D4FC79F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1355-C612-4E6D-87D9-29B614909F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1"/>
          <p:cNvSpPr/>
          <p:nvPr/>
        </p:nvSpPr>
        <p:spPr>
          <a:xfrm>
            <a:off x="611280" y="5493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Verdana"/>
              </a:rPr>
              <a:t>Классный час «Гимн России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2124000" y="1844640"/>
            <a:ext cx="4680000" cy="331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0" y="5300640"/>
            <a:ext cx="88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Автор: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Коркачёва Д.А., учитель информатики МОУ ОСОШ№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11280" y="1844640"/>
            <a:ext cx="820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Древнюю Русь богослужебные песни-гимны пришли вместе с крещением в конце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. Церковное песнопение развивалось всё время существования русской церкв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ри московском князе Иване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I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ыл создан профессиональный хор «государевых певчих дьяков». Хор исполнял духовные песнопения гимнического характера не только во время церковных праздников, но и при всех событиях общегосударственной значим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1511280" cy="1682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2928960" y="514368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ван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I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вю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84360" y="1844640"/>
            <a:ext cx="806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эпоху Петра Первого появилось много песнопений, прославляющих царя и «молодую Россию».  Каждый полк имел свой оркестр и свой марш. Наибольшую известность получил Преображенский марш Петра Великого, появившейся в Преображенском полку. Преображенский марш являлся главным маршем России до конца 1917 года. В годы Гражданской войны Белое движение использовало его в значении русского гимн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900000" y="4365720"/>
            <a:ext cx="1800360" cy="1727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843280" y="4797360"/>
            <a:ext cx="216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кульптурный портрет А.М. Опекушина. 1762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10" descr=""/>
          <p:cNvPicPr/>
          <p:nvPr/>
        </p:nvPicPr>
        <p:blipFill>
          <a:blip r:embed="rId3"/>
          <a:stretch/>
        </p:blipFill>
        <p:spPr>
          <a:xfrm>
            <a:off x="4859280" y="4365720"/>
            <a:ext cx="1771560" cy="1727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1"/>
          <p:cNvSpPr/>
          <p:nvPr/>
        </p:nvSpPr>
        <p:spPr>
          <a:xfrm>
            <a:off x="6804000" y="4724280"/>
            <a:ext cx="20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ер и гренадёр лейб-гвардии Преображенского полка. Литография. 1762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9640" y="1773360"/>
            <a:ext cx="813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конце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VII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 появилось ещё одно произведение всероссийского значения – полонез «Гром победы, раздавайся!». Иногда его называли по припеву «Славься сим, Екатерина!». Стихи написал поэт Г.Р. Державин, музыку – О.А. Козловск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2330280" cy="25923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3059280" y="4508640"/>
            <a:ext cx="1728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.Р. Держав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удожник В.Л.Боровиков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3"/>
          <a:stretch/>
        </p:blipFill>
        <p:spPr>
          <a:xfrm>
            <a:off x="4932360" y="3429000"/>
            <a:ext cx="2330280" cy="2592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2"/>
          <p:cNvSpPr/>
          <p:nvPr/>
        </p:nvSpPr>
        <p:spPr>
          <a:xfrm>
            <a:off x="7343640" y="4437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.А.Козлов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39640" y="177336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Одновременно со светским гимном «Гром победы» появился духовный гимн, дошедший до наших дней, - это «Коль славен наш Господь в Сионе». Музыку духовного гимна написал замечательный русский композитор Д.С. Бортнянский, слова – М.М. Херас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2135160" cy="2376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3059280" y="4365720"/>
            <a:ext cx="1800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.С. Бортнянск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удожник М.И. Бельский. 1788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2135160" cy="2376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7236000" y="44370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.М.Хера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11280" y="1773360"/>
            <a:ext cx="79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Своего официального гимна в России не было долгое время. С 1816 года использовался английский гимн «Боже, храни короля!». Только в 1833 году по указанию императора Николая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композитор Алексей Фёдорович Львов написал русский национальный гимн, получивший название «Боже, царя храни!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5580000" y="3500280"/>
            <a:ext cx="2265480" cy="2521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3348000" y="4365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удожник Бортман. 1851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11280" y="177336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Интересна история создания текста гимна. В 1815 году поэт В.А. Жуковский написал и опубликовал в журнале «Сын Отечества» стихотворение «Молитва русских», посвящённое императору Александру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. В 1816 году А.С. Пушкин приписал к стихотворению ещё две строфы. В 1833 году Жуковский по просьбе Львова дополнил и закончил своё стихотвор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2484360" y="4581360"/>
            <a:ext cx="16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сский поэт Василий Жуков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4427640" y="407664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6372360" y="4508640"/>
            <a:ext cx="1944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.С. Пушкин. Художни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.А. Кипренский. 1827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84360" y="1700280"/>
            <a:ext cx="8064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середине декабря 1833 года в Большом театре состоялось первое публичное слушание «Молитвы» на музыку Львова. Вскоре император Николай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издал указ, в котором гимн «Боже, царя храни!» был объявлен официальным, каковым он являлся до 1917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050920" y="3357720"/>
            <a:ext cx="4608720" cy="273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11280" y="1773360"/>
            <a:ext cx="828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осле Октябрьской революции с января 1918 года по 1943 год официальным гимном СССР являлся пролетарский «Интернационал». В ночь на 1 января 1944 по радио впервые прозвучал гимн Советского Союза, музыку которого написал А.В. Александров, слова – С.В.Михалков и Г.А. Эль-Регист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04840" cy="223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2005200" cy="2232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2843280" y="465300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.В. Александ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7093080" y="465300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.В. Михал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900000" y="2492280"/>
            <a:ext cx="698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39640" y="184464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осле распада СССР в 1991 году гимном России стала «патриотическая песня» М.И. Глинки. После десятилетнего перерыва музыка А.В. Александрова вновь стала звучать как гимн, но не Советского Союза, а Российской Федерации. Слова нового текста написал С.В. Михал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2"/>
          <a:stretch/>
        </p:blipFill>
        <p:spPr>
          <a:xfrm>
            <a:off x="826920" y="3500280"/>
            <a:ext cx="2329200" cy="25927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3419640" y="429264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сский композитор Михаил Гли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468360" y="189000"/>
            <a:ext cx="1366920" cy="122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124000" y="476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Verdana"/>
              </a:rPr>
              <a:t>Проверь свои знания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11280" y="2421000"/>
            <a:ext cx="3240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реображенский марш был сочинён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в начале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VII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в конце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VII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в 1833 год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в 1858 год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95640" y="2421000"/>
            <a:ext cx="45356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2. Гимн «Гром победы, раздавайся!» исполнялся на музыку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полонез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кадри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военного марш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английского гим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5640" y="191628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ервые гимны были сложены в глубокой древности в Египте и Месопотамии, и возникли они гораздо раньше, чем гербы и флаги. Гимны представляли из себя молитвенные песнопения, прославляющие бо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2736720" cy="2043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3419640" y="4365720"/>
            <a:ext cx="187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ирамиды. Эль-Гиза. Древний Егип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4932360" y="3573360"/>
            <a:ext cx="2714760" cy="2087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7666200" y="4437000"/>
            <a:ext cx="147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 Ур. Месопатам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468360" y="189000"/>
            <a:ext cx="1366920" cy="122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124000" y="476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Verdana"/>
              </a:rPr>
              <a:t>Проверь свои знания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84360" y="2060640"/>
            <a:ext cx="43192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3. Музыка гимна «Коль славен наш Господь в Сионе» сочинил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М.М. Херсак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Д.С. Бортнянск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А.Ф. Льв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М.И. Глин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148360" y="1989000"/>
            <a:ext cx="360036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4. В 1833 г. официальным гимном Российской империи стала песн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«Коль славен наш Господь в Сионе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«Гром победы, раздавайся!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«Боже, царя храни!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«Боже, храни короля!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68360" y="189000"/>
            <a:ext cx="1366920" cy="122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124000" y="476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Verdana"/>
              </a:rPr>
              <a:t>Проверь свои знания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11280" y="2133720"/>
            <a:ext cx="39607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5. Первым гимном Советского Союз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стала «Марсельеза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стал Преображенский марш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стал «Гимн партии большевиков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стал «Интернационал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788000" y="2133720"/>
            <a:ext cx="39607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6. Современный государственный гимн России исполняется на музыку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а) М.И. Глинк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) А.В. Александров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) С.В. Михалков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г) А.Ф. Льв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39640" y="1844640"/>
            <a:ext cx="8604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Древней Греции гимнами называли торжественные песни, прославляющие богов, героев, а также знаменательные исторические события. До наших дней сохранились творения многих известных поэтов древней Эллады: Алекя, Алкмана, Пиндара, Гомера. Пение гимнов во славу богов сохранилось и в христианстве. Так в Библию вошли гимны, встречающиеся в псалмах царя Дави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1811160" cy="201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1811520" cy="2016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7308720" y="4508640"/>
            <a:ext cx="1582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мер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раморный бюс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132000" y="4508640"/>
            <a:ext cx="13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евнегреческий поэт Алкман. Моза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9640" y="1773360"/>
            <a:ext cx="8353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Более тысячи гимнов написал Роман Сладкопевец, живший в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е. К лику святых был причислен гимнотворец Иоанн Дамаский, живший в Сирии в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II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II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963720" y="2852640"/>
            <a:ext cx="2847960" cy="3168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4356000" y="3500280"/>
            <a:ext cx="3241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ятой Роман Сладкопевец. Аналойная икона Успенского мужского монастыря в Иваново. Служил в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ке при соборе Св. Софии в Константинополе и прославился как автор и исполнитель кондаков – поэм – гимнов на религиозные 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11280" y="1844640"/>
            <a:ext cx="8064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Огромное влияние на все страны Восточной и Западной Европы оказали византийская культовая музыка, расцвет которой пришёлся на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V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. Религиозные движения в Европе в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I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VI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ах породили новые формы гимнов, не связанные с церковью. Стали создаваться торжественные песни, сопровождающие выходы государ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187632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7093080" y="4365720"/>
            <a:ext cx="187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нахи, поющие во время богослужения. Миниатюра. 1430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2592360" cy="1933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3276720" y="458136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нускрипт с записью гим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55640" y="1844640"/>
            <a:ext cx="7920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Первый национальный гимн появился в Голландии в 1568 году. Это была песня в честь Вильгельма Оранского, возглавившего борьбу против испанского владыче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1116000" y="3284640"/>
            <a:ext cx="2395440" cy="266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924360" y="429264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ц Вильгельм Оранский. Портрет работы А. Ке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9640" y="191628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В 1743 году учитель музыки из Лондона Генри Кэрри написал гимн «Боже, храни короля!». Английский гимн с небольшими изменениями в тексте был принят во многих государствах Европы, в том числе и в Росс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1116000" y="3357720"/>
            <a:ext cx="273672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2200320" cy="244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3203640" y="4437000"/>
            <a:ext cx="1800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од Жозеф Руж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 Ли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5076720" y="3645000"/>
            <a:ext cx="2200320" cy="244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7380360" y="4365720"/>
            <a:ext cx="13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тный лист «Марсельезы» Руже де Лиля. 1792 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11280" y="1844640"/>
            <a:ext cx="8281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ликая французская революция вдохновила инженера-капитана королевской армии Клода Жозефа Руже на написание в 1792 году революционного гимна «Марсельеза». В 1879 году «Марсельеза» была утверждена в качестве официального гимна Французской республ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146680" y="620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Гимн Ро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611280" y="476280"/>
            <a:ext cx="122400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11280" y="1844640"/>
            <a:ext cx="8208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IX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веке появился ещё один революционный гимн – пролетарский «Интернационал». Слова написал Эжен Потье, музыку – Пьер Дегейте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2846520" cy="316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3924360" y="4149720"/>
            <a:ext cx="16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ранцузский поэт и революционер Эжен Поть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5:13:13Z</dcterms:created>
  <dc:creator>Юзер</dc:creator>
  <dc:description/>
  <dc:language>en-US</dc:language>
  <cp:lastModifiedBy>Коля</cp:lastModifiedBy>
  <dcterms:modified xsi:type="dcterms:W3CDTF">2013-03-20T19:24:52Z</dcterms:modified>
  <cp:revision>26</cp:revision>
  <dc:subject/>
  <dc:title>Слайд 1</dc:title>
</cp:coreProperties>
</file>