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2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A535-9C49-4636-8714-8C19219F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287F-19E4-4408-B675-BFC1FA42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1058-7DC9-4CC2-A4E6-A3A7D151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AB2-903F-415B-B3F8-0F273E29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24F5-35FB-4129-A1C5-8179E94D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9027-C0E6-45CB-8078-46378B02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2034-69F5-496F-A71C-E018CDD9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A587-838D-47EC-84DD-358F6FD3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2B1C-ABB0-4D06-886E-16F0F056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B053-98C6-4E44-82B7-B7558B34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8690-9123-4944-9969-456469FA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B308-C4DD-4636-8823-85B3F434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CA65-CAD7-435E-8936-FFDD7BC8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0364-6131-460C-BCE6-FA8D9D7F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296E-5BA9-4A8E-8E56-80532EE6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94E3-01DD-45FD-819F-3B787980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3D18-9D6E-4928-B607-0B0934AA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2D5E-7E1C-47C1-8F3F-AFBAEEA3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E9D-89D1-44B4-B21C-19BBCCCF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F9E4-6C15-4B60-AAEB-41FFE994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DDB6-D223-4427-8397-BDE8A34B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1B33-AD79-41B1-BEAE-D70ACFCD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9F74-D73F-412E-BBB7-C87BDF19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D62C-4CB1-4EC6-8879-DC5EDD31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CB8A-9FDA-4C51-B67D-F0FCAACE2EB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309E-06B9-46C0-AC2A-3F8C5FA16B5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1"/>
          <p:cNvSpPr/>
          <p:nvPr/>
        </p:nvSpPr>
        <p:spPr>
          <a:xfrm>
            <a:off x="611280" y="5493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Verdana"/>
              </a:rPr>
              <a:t>Классный час «Гимн России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2124000" y="1844640"/>
            <a:ext cx="4680000" cy="331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0" y="5300640"/>
            <a:ext cx="88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Автор: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Коркачёва Д.А., учитель информатики МОУ ОСОШ№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11280" y="1844640"/>
            <a:ext cx="820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 Древнюю Русь богослужебные песни-гимны пришли вместе с крещением в конце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X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ка. Церковное песнопение развивалось всё время существования русской церкв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При московском князе Иване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I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был создан профессиональный хор «государевых певчих дьяков». Хор исполнял духовные песнопения гимнического характера не только во время церковных праздников, но и при всех событиях общегосударственной значимос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900000" y="4437000"/>
            <a:ext cx="1511280" cy="1682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2928960" y="514368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I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авю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84360" y="1844640"/>
            <a:ext cx="8064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 эпоху Петра Первого появилось много песнопений, прославляющих царя и «молодую Россию».  Каждый полк имел свой оркестр и свой марш. Наибольшую известность получил Преображенский марш Петра Великого, появившейся в Преображенском полку. Преображенский марш являлся главным маршем России до конца 1917 года. В годы Гражданской войны Белое движение использовало его в значении русского гимн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2"/>
          <a:stretch/>
        </p:blipFill>
        <p:spPr>
          <a:xfrm>
            <a:off x="900000" y="4365720"/>
            <a:ext cx="1800360" cy="1727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2843280" y="4797360"/>
            <a:ext cx="216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тр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кульптурный портрет А.М. Опекушина. 1762 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10" descr=""/>
          <p:cNvPicPr/>
          <p:nvPr/>
        </p:nvPicPr>
        <p:blipFill>
          <a:blip r:embed="rId3"/>
          <a:stretch/>
        </p:blipFill>
        <p:spPr>
          <a:xfrm>
            <a:off x="4859280" y="4365720"/>
            <a:ext cx="1771560" cy="1727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1"/>
          <p:cNvSpPr/>
          <p:nvPr/>
        </p:nvSpPr>
        <p:spPr>
          <a:xfrm>
            <a:off x="6804000" y="4724280"/>
            <a:ext cx="20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ер и гренадёр лейб-гвардии Преображенского полка. Литография. 1762 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39640" y="1773360"/>
            <a:ext cx="813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 конце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XVII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ка появилось ещё одно произведение всероссийского значения – полонез «Гром победы, раздавайся!». Иногда его называли по припеву «Славься сим, Екатерина!». Стихи написал поэт Г.Р. Державин, музыку – О.А. Козловск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9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2330280" cy="25923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3059280" y="4508640"/>
            <a:ext cx="17287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.Р. Держави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удожник В.Л.Боровиков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11" descr=""/>
          <p:cNvPicPr/>
          <p:nvPr/>
        </p:nvPicPr>
        <p:blipFill>
          <a:blip r:embed="rId3"/>
          <a:stretch/>
        </p:blipFill>
        <p:spPr>
          <a:xfrm>
            <a:off x="4932360" y="3429000"/>
            <a:ext cx="2330280" cy="2592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2"/>
          <p:cNvSpPr/>
          <p:nvPr/>
        </p:nvSpPr>
        <p:spPr>
          <a:xfrm>
            <a:off x="7343640" y="44370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.А.Козлов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39640" y="1773360"/>
            <a:ext cx="820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Одновременно со светским гимном «Гром победы» появился духовный гимн, дошедший до наших дней, - это «Коль славен наш Господь в Сионе». Музыку духовного гимна написал замечательный русский композитор Д.С. Бортнянский, слова – М.М. Херас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755640" y="3645000"/>
            <a:ext cx="2135160" cy="23763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3059280" y="4365720"/>
            <a:ext cx="1800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.С. Бортнянск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удожник М.И. Бельский. 1788 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3"/>
          <a:stretch/>
        </p:blipFill>
        <p:spPr>
          <a:xfrm>
            <a:off x="4932360" y="3645000"/>
            <a:ext cx="2135160" cy="23763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7236000" y="443700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.М.Хера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611280" y="1773360"/>
            <a:ext cx="792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Своего официального гимна в России не было долгое время. С 1816 года использовался английский гимн «Боже, храни короля!». Только в 1833 году по указанию императора Николая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композитор Алексей Фёдорович Львов написал русский национальный гимн, получивший название «Боже, царя храни!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5580000" y="3500280"/>
            <a:ext cx="2265480" cy="25210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3348000" y="436572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иколай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удожник Бортман. 1851 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11280" y="1773360"/>
            <a:ext cx="806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Интересна история создания текста гимна. В 1815 году поэт В.А. Жуковский написал и опубликовал в журнале «Сын Отечества» стихотворение «Молитва русских», посвящённое императору Александру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. В 1816 году А.С. Пушкин приписал к стихотворению ещё две строфы. В 1833 году Жуковский по просьбе Львова дополнил и закончил своё стихотворе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2484360" y="4581360"/>
            <a:ext cx="16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сский поэт Василий Жуков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3"/>
          <a:stretch/>
        </p:blipFill>
        <p:spPr>
          <a:xfrm>
            <a:off x="4427640" y="407664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6372360" y="4508640"/>
            <a:ext cx="19447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.С. Пушкин. Художни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.А. Кипренский. 1827 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684360" y="1700280"/>
            <a:ext cx="80643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 середине декабря 1833 года в Большом театре состоялось первое публичное слушание «Молитвы» на музыку Львова. Вскоре император Николай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издал указ, в котором гимн «Боже, царя храни!» был объявлен официальным, каковым он являлся до 1917 г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2050920" y="3357720"/>
            <a:ext cx="4608720" cy="2735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11280" y="1773360"/>
            <a:ext cx="828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После Октябрьской революции с января 1918 года по 1943 год официальным гимном СССР являлся пролетарский «Интернационал». В ночь на 1 января 1944 по радио впервые прозвучал гимн Советского Союза, музыку которого написал А.В. Александров, слова – С.В.Михалков и Г.А. Эль-Региста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004840" cy="2232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3"/>
          <a:stretch/>
        </p:blipFill>
        <p:spPr>
          <a:xfrm>
            <a:off x="5003640" y="3789360"/>
            <a:ext cx="2005200" cy="2232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2843280" y="4653000"/>
            <a:ext cx="18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.В. Александ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7093080" y="465300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.В. Михал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900000" y="2492280"/>
            <a:ext cx="698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539640" y="1844640"/>
            <a:ext cx="813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После распада СССР в 1991 году гимном России стала «патриотическая песня» М.И. Глинки. После десятилетнего перерыва музыка А.В. Александрова вновь стала звучать как гимн, но не Советского Союза, а Российской Федерации. Слова нового текста написал С.В. Михал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8" descr=""/>
          <p:cNvPicPr/>
          <p:nvPr/>
        </p:nvPicPr>
        <p:blipFill>
          <a:blip r:embed="rId2"/>
          <a:stretch/>
        </p:blipFill>
        <p:spPr>
          <a:xfrm>
            <a:off x="826920" y="3500280"/>
            <a:ext cx="2329200" cy="25927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9"/>
          <p:cNvSpPr/>
          <p:nvPr/>
        </p:nvSpPr>
        <p:spPr>
          <a:xfrm>
            <a:off x="3419640" y="4292640"/>
            <a:ext cx="23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сский композитор Михаил Глин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468360" y="189000"/>
            <a:ext cx="1366920" cy="122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124000" y="47628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Verdana"/>
              </a:rPr>
              <a:t>Проверь свои знания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611280" y="2421000"/>
            <a:ext cx="3240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Преображенский марш был сочинён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а) в начале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XVII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к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б) в конце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XVII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к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) в 1833 год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г) в 1858 год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3995640" y="2421000"/>
            <a:ext cx="453564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2. Гимн «Гром победы, раздавайся!» исполнялся на музыку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а) полонез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б) кадри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) военного марш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г) английского гим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5640" y="191628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Первые гимны были сложены в глубокой древности в Египте и Месопотамии, и возникли они гораздо раньше, чем гербы и флаги. Гимны представляли из себя молитвенные песнопения, прославляющие бог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2"/>
          <a:stretch/>
        </p:blipFill>
        <p:spPr>
          <a:xfrm>
            <a:off x="755640" y="3573360"/>
            <a:ext cx="2736720" cy="2043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3419640" y="4365720"/>
            <a:ext cx="187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ирамиды. Эль-Гиза. Древний Египе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4932360" y="3573360"/>
            <a:ext cx="2714760" cy="20876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1"/>
          <p:cNvSpPr/>
          <p:nvPr/>
        </p:nvSpPr>
        <p:spPr>
          <a:xfrm>
            <a:off x="7666200" y="4437000"/>
            <a:ext cx="147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 Ур. Месопатам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468360" y="189000"/>
            <a:ext cx="1366920" cy="122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124000" y="47628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Verdana"/>
              </a:rPr>
              <a:t>Проверь свои знания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684360" y="2060640"/>
            <a:ext cx="43192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3. Музыка гимна «Коль славен наш Господь в Сионе» сочинил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а) М.М. Херсак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б) Д.С. Бортнянск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) А.Ф. Льв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г) М.И. Глин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148360" y="1989000"/>
            <a:ext cx="360036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4. В 1833 г. официальным гимном Российской империи стала песнь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а) «Коль славен наш Господь в Сионе»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б) «Гром победы, раздавайся!»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) «Боже, царя храни!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г) «Боже, храни короля!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468360" y="189000"/>
            <a:ext cx="1366920" cy="122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124000" y="47628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Verdana"/>
              </a:rPr>
              <a:t>Проверь свои знания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11280" y="2133720"/>
            <a:ext cx="39607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5. Первым гимном Советского Союз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а) стала «Марсельеза»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б) стал Преображенский марш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) стал «Гимн партии большевиков»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г) стал «Интернационал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4788000" y="2133720"/>
            <a:ext cx="39607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6. Современный государственный гимн России исполняется на музыку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а) М.И. Глинк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б) А.В. Александров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) С.В. Михалков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г) А.Ф. Льво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39640" y="1844640"/>
            <a:ext cx="860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 Древней Греции гимнами называли торжественные песни, прославляющие богов, героев, а также знаменательные исторические события. До наших дней сохранились творения многих известных поэтов древней Эллады: Алекя, Алкмана, Пиндара, Гомера. Пение гимнов во славу богов сохранилось и в христианстве. Так в Библию вошли гимны, встречающиеся в псалмах царя Дави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971640" y="4076640"/>
            <a:ext cx="1811160" cy="201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5364000" y="4076640"/>
            <a:ext cx="1811520" cy="2016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7308720" y="4508640"/>
            <a:ext cx="1582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мер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раморный бюс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132000" y="4508640"/>
            <a:ext cx="13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ревнегреческий поэт Алкман. Моза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39640" y="1773360"/>
            <a:ext cx="8353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Более тысячи гимнов написал Роман Сладкопевец, живший в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V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ке. К лику святых был причислен гимнотворец Иоанн Дамаский, живший в Сирии в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VII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VII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963720" y="2852640"/>
            <a:ext cx="2847960" cy="3168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4356000" y="3500280"/>
            <a:ext cx="3241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ятой Роман Сладкопевец. Аналойная икона Успенского мужского монастыря в Иваново. Служил в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еке при соборе Св. Софии в Константинополе и прославился как автор и исполнитель кондаков – поэм – гимнов на религиозные т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11280" y="1844640"/>
            <a:ext cx="80643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Огромное влияние на все страны Восточной и Западной Европы оказали византийская культовая музыка, расцвет которой пришёлся на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V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V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ка. Религиозные движения в Европе в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XI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XV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ках породили новые формы гимнов, не связанные с церковью. Стали создаваться торжественные песни, сопровождающие выходы государ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4932360" y="3933720"/>
            <a:ext cx="1876320" cy="2089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7093080" y="4365720"/>
            <a:ext cx="187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нахи, поющие во время богослужения. Миниатюра. 1430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2592360" cy="1933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3276720" y="458136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нускрипт с записью гим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55640" y="1844640"/>
            <a:ext cx="7920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Первый национальный гимн появился в Голландии в 1568 году. Это была песня в честь Вильгельма Оранского, возглавившего борьбу против испанского владыче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1116000" y="3284640"/>
            <a:ext cx="2395440" cy="26654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3924360" y="4292640"/>
            <a:ext cx="28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ц Вильгельм Оранский. Портрет работы А. Ке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39640" y="191628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В 1743 году учитель музыки из Лондона Генри Кэрри написал гимн «Боже, храни короля!». Английский гимн с небольшими изменениями в тексте был принят во многих государствах Европы, в том числе и в Росс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1116000" y="3357720"/>
            <a:ext cx="273672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826920" y="3573360"/>
            <a:ext cx="2200320" cy="244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3203640" y="4437000"/>
            <a:ext cx="1800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од Жозеф Руж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 Ли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3"/>
          <a:stretch/>
        </p:blipFill>
        <p:spPr>
          <a:xfrm>
            <a:off x="5076720" y="3645000"/>
            <a:ext cx="2200320" cy="244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7380360" y="4365720"/>
            <a:ext cx="136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тный лист «Марсельезы» Руже де Лиля. 1792 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11280" y="1844640"/>
            <a:ext cx="8281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ликая французская революция вдохновила инженера-капитана королевской армии Клода Жозефа Руже на написание в 1792 году революционного гимна «Марсельеза». В 1879 году «Марсельеза» была утверждена в качестве официального гимна Французской республ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11280" y="1844640"/>
            <a:ext cx="8208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XIX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ке появился ещё один революционный гимн – пролетарский «Интернационал». Слова написал Эжен Потье, музыку – Пьер Дегейте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755640" y="2924280"/>
            <a:ext cx="2846520" cy="316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3924360" y="4149720"/>
            <a:ext cx="16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ранцузский поэт и революционер Эжен Поть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5:13:13Z</dcterms:created>
  <dc:creator>Юзер</dc:creator>
  <dc:description/>
  <dc:language>en-US</dc:language>
  <cp:lastModifiedBy>Коля</cp:lastModifiedBy>
  <dcterms:modified xsi:type="dcterms:W3CDTF">2013-03-20T19:24:52Z</dcterms:modified>
  <cp:revision>26</cp:revision>
  <dc:subject/>
  <dc:title>Слайд 1</dc:title>
</cp:coreProperties>
</file>