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186-72B9-456F-A604-E6E1022C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C9E-45F3-4E70-B5D2-FF48F8BD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2F6-77E1-45EF-8080-A2068209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98B-C35F-4325-B8A5-653C363E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8F9-CFF9-4002-B0D7-9A337CFF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9856-A62C-4D5E-952C-A50FCFE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F85F-7BBD-40E7-BFB4-E14C0704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2F6B-1C40-4BDA-818E-47017305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E8D5-E6BC-44F6-993F-D673EC12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123D-45A8-4869-B284-85F94C2C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2351-24F9-4204-877F-0E45E42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E15-0C46-4902-AD47-1848DDCD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8F5F-D248-442D-B967-7802598C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D389-2377-4C96-96A2-4FBC63C9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8645-64DD-4731-8E13-9B0075F1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7B77-4533-40BD-A975-05835687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4A18-EF2C-41C8-B91E-154945B7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A77-5121-40EB-9ED1-7B882171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DD7-8070-45F7-B9E1-AD4C27CF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EAF-BD01-4101-B6DA-E34B9305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4C4-E5BB-4366-B6FF-985F5806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171-D5CF-49FF-924C-4DCBFF2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FFE-5ABC-43A8-A908-F0582950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6CB-0383-4EB2-9B9C-123F49D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8A0D-70AF-40C1-80F9-D6477B6B43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57D8-5310-4640-8386-BD22E8DA12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611280" y="549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Классный час «Гимн Росси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2124000" y="1844640"/>
            <a:ext cx="4680000" cy="331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0" y="5300640"/>
            <a:ext cx="88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Автор: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Коркачёва Д.А., учитель информатики МОУ ОСОШ№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11280" y="1844640"/>
            <a:ext cx="82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Древнюю Русь богослужебные песни-гимны пришли вместе с крещением в конц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. Церковное песнопение развивалось всё время существования русской церкв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ри московском князе Иван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ыл создан профессиональный хор «государевых певчих дьяков». Хор исполнял духовные песнопения гимнического характера не только во время церковных праздников, но и при всех событиях общегосударственной значим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1511280" cy="168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928960" y="514368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вю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844640"/>
            <a:ext cx="80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эпоху Петра Первого появилось много песнопений, прославляющих царя и «молодую Россию».  Каждый полк имел свой оркестр и свой марш. Наибольшую известность получил Преображенский марш Петра Великого, появившейся в Преображенском полку. Преображенский марш являлся главным маршем России до конца 1917 года. В годы Гражданской войны Белое движение использовало его в значении русского гимн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900000" y="436572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843280" y="4797360"/>
            <a:ext cx="216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ульптурный портрет А.М. Опекушина. 1762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10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1771560" cy="1727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"/>
          <p:cNvSpPr/>
          <p:nvPr/>
        </p:nvSpPr>
        <p:spPr>
          <a:xfrm>
            <a:off x="6804000" y="4724280"/>
            <a:ext cx="20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ер и гренадёр лейб-гвардии Преображенского полка. Литография. 1762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9640" y="1773360"/>
            <a:ext cx="813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конц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 появилось ещё одно произведение всероссийского значения – полонез «Гром победы, раздавайся!». Иногда его называли по припеву «Славься сим, Екатерина!». Стихи написал поэт Г.Р. Державин, музыку – О.А. Козловск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330280" cy="2592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3059280" y="4508640"/>
            <a:ext cx="1728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Р. Держав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удожник В.Л.Боровиков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2330280" cy="2592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7343640" y="4437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.А.Козлов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9640" y="177336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Одновременно со светским гимном «Гром победы» появился духовный гимн, дошедший до наших дней, - это «Коль славен наш Господь в Сионе». Музыку духовного гимна написал замечательный русский композитор Д.С. Бортнянский, слова – М.М. Херас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2135160" cy="2376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3059280" y="436572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С. Бортнянск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удожник М.И. Бельский. 1788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2135160" cy="2376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7236000" y="44370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М.Хера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11280" y="177336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Своего официального гимна в России не было долгое время. С 1816 года использовался английский гимн «Боже, храни короля!». Только в 1833 году по указанию императора Николая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композитор Алексей Фёдорович Львов написал русский национальный гимн, получивший название «Боже, царя храни!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2265480" cy="2521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348000" y="4365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удожник Бортман. 1851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11280" y="177336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Интересна история создания текста гимна. В 1815 году поэт В.А. Жуковский написал и опубликовал в журнале «Сын Отечества» стихотворение «Молитва русских», посвящённое императору Александру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. В 1816 году А.С. Пушкин приписал к стихотворению ещё две строфы. В 1833 году Жуковский по просьбе Львова дополнил и закончил своё стихотвор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2484360" y="4581360"/>
            <a:ext cx="16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сский поэт Василий Жуков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6372360" y="4508640"/>
            <a:ext cx="1944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С. Пушкин. Художни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.А. Кипренский. 1827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4360" y="1700280"/>
            <a:ext cx="8064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середине декабря 1833 года в Большом театре состоялось первое публичное слушание «Молитвы» на музыку Львова. Вскоре император Николай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издал указ, в котором гимн «Боже, царя храни!» был объявлен официальным, каковым он являлся до 1917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050920" y="3357720"/>
            <a:ext cx="4608720" cy="273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11280" y="1773360"/>
            <a:ext cx="82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осле Октябрьской революции с января 1918 года по 1943 год официальным гимном СССР являлся пролетарский «Интернационал». В ночь на 1 января 1944 по радио впервые прозвучал гимн Советского Союза, музыку которого написал А.В. Александров, слова – С.В.Михалков и Г.А. Эль-Регист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04840" cy="223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2005200" cy="2232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2843280" y="465300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В. Александ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7093080" y="465300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.В. Михал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00000" y="2492280"/>
            <a:ext cx="698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39640" y="184464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осле распада СССР в 1991 году гимном России стала «патриотическая песня» М.И. Глинки. После десятилетнего перерыва музыка А.В. Александрова вновь стала звучать как гимн, но не Советского Союза, а Российской Федерации. Слова нового текста написал С.В. Михал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2329200" cy="2592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3419640" y="429264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сский композитор Михаил Гли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468360" y="189000"/>
            <a:ext cx="13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12400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роверь свои знани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11280" y="2421000"/>
            <a:ext cx="324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реображенский марш был сочинё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в начал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в конц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в 1833 год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в 1858 г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2421000"/>
            <a:ext cx="45356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2. Гимн «Гром победы, раздавайся!» исполнялся на музык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полонез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кадри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военного марш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английского гим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5640" y="191628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ервые гимны были сложены в глубокой древности в Египте и Месопотамии, и возникли они гораздо раньше, чем гербы и флаги. Гимны представляли из себя молитвенные песнопения, прославляющие бо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2736720" cy="2043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3419640" y="436572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ирамиды. Эль-Гиза. Древний Егип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932360" y="3573360"/>
            <a:ext cx="2714760" cy="2087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7666200" y="4437000"/>
            <a:ext cx="147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 Ур. Месопатам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468360" y="189000"/>
            <a:ext cx="13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2400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роверь свои знани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84360" y="2060640"/>
            <a:ext cx="4319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3. Музыка гимна «Коль славен наш Господь в Сионе» сочини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М.М. Херса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Д.С. Бортнянск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А.Ф. Льв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М.И. Глин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148360" y="1989000"/>
            <a:ext cx="36003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4. В 1833 г. официальным гимном Российской империи стала песн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«Коль славен наш Господь в Сионе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«Гром победы, раздавайся!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«Боже, царя храни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«Боже, храни короля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68360" y="189000"/>
            <a:ext cx="13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12400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роверь свои знани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11280" y="2133720"/>
            <a:ext cx="3960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5. Первым гимном Советского Союз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стала «Марсельеза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стал Преображенский марш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стал «Гимн партии большевиков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стал «Интернационал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788000" y="2133720"/>
            <a:ext cx="3960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6. Современный государственный гимн России исполняется на музык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М.И. Глин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А.В. Александр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С.В. Михалк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А.Ф. Льв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9640" y="1844640"/>
            <a:ext cx="860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Древней Греции гимнами называли торжественные песни, прославляющие богов, героев, а также знаменательные исторические события. До наших дней сохранились творения многих известных поэтов древней Эллады: Алекя, Алкмана, Пиндара, Гомера. Пение гимнов во славу богов сохранилось и в христианстве. Так в Библию вошли гимны, встречающиеся в псалмах царя Дави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18111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1811520" cy="2016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7308720" y="4508640"/>
            <a:ext cx="1582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мер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раморный бюс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132000" y="450864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евнегреческий поэт Алкман. Моза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9640" y="1773360"/>
            <a:ext cx="8353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олее тысячи гимнов написал Роман Сладкопевец, живший 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е. К лику святых был причислен гимнотворец Иоанн Дамаский, живший в Сирии 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963720" y="2852640"/>
            <a:ext cx="2847960" cy="3168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4356000" y="3500280"/>
            <a:ext cx="324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той Роман Сладкопевец. Аналойная икона Успенского мужского монастыря в Иваново. Служил в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ке при соборе Св. Софии в Константинополе и прославился как автор и исполнитель кондаков – поэм – гимнов на религиозные 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1280" y="1844640"/>
            <a:ext cx="8064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Огромное влияние на все страны Восточной и Западной Европы оказали византийская культовая музыка, расцвет которой пришёлся на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. Религиозные движения в Европе 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х породили новые формы гимнов, не связанные с церковью. Стали создаваться торжественные песни, сопровождающие выходы государ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187632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7093080" y="4365720"/>
            <a:ext cx="187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нахи, поющие во время богослужения. Миниатюра. 1430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592360" cy="1933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3276720" y="45813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нускрипт с записью гим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55640" y="1844640"/>
            <a:ext cx="7920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ервый национальный гимн появился в Голландии в 1568 году. Это была песня в честь Вильгельма Оранского, возглавившего борьбу против испанского владыч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2395440" cy="266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924360" y="429264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ц Вильгельм Оранский. Портрет работы А. Ке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191628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В 1743 году учитель музыки из Лондона Генри Кэрри написал гимн «Боже, храни короля!». Английский гимн с небольшими изменениями в тексте был принят во многих государствах Европы, в том числе и в Росс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27367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2200320" cy="244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3203640" y="4437000"/>
            <a:ext cx="1800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од Жозеф Руж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 Ли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5076720" y="3645000"/>
            <a:ext cx="2200320" cy="244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7380360" y="436572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тный лист «Марсельезы» Руже де Лиля. 1792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11280" y="1844640"/>
            <a:ext cx="8281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ликая французская революция вдохновила инженера-капитана королевской армии Клода Жозефа Руже на написание в 1792 году революционного гимна «Марсельеза». В 1879 году «Марсельеза» была утверждена в качестве официального гимна Французской республ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1280" y="1844640"/>
            <a:ext cx="820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IX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е появился ещё один революционный гимн – пролетарский «Интернационал». Слова написал Эжен Потье, музыку – Пьер Дегейте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2846520" cy="316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924360" y="4149720"/>
            <a:ext cx="16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ранцузский поэт и революционер Эжен Поть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5:13:13Z</dcterms:created>
  <dc:creator>Юзер</dc:creator>
  <dc:description/>
  <dc:language>en-US</dc:language>
  <cp:lastModifiedBy>Коля</cp:lastModifiedBy>
  <dcterms:modified xsi:type="dcterms:W3CDTF">2013-03-20T19:24:52Z</dcterms:modified>
  <cp:revision>26</cp:revision>
  <dc:subject/>
  <dc:title>Слайд 1</dc:title>
</cp:coreProperties>
</file>