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chimes.wav" ContentType="audio/x-wav"/>
  <Override PartName="/ppt/media/image6.jpeg" ContentType="image/jpeg"/>
  <Override PartName="/ppt/media/image8.png" ContentType="image/png"/>
  <Override PartName="/ppt/media/image2.gif" ContentType="image/gif"/>
  <Override PartName="/ppt/media/image3.png" ContentType="image/png"/>
  <Override PartName="/ppt/media/image4.jpeg" ContentType="image/jpeg"/>
  <Override PartName="/ppt/media/image5.gif" ContentType="image/gif"/>
  <Override PartName="/ppt/media/image7.png" ContentType="image/png"/>
  <Override PartName="/ppt/media/image12.png" ContentType="image/png"/>
  <Override PartName="/ppt/media/image9.jpeg" ContentType="image/jpeg"/>
  <Override PartName="/ppt/media/image11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8BA37-12B9-4420-8411-44AB7D69A86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85470-0C95-45BD-977A-B206746F6B9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E159F-4592-4DCA-A7FE-3CB477DB803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9D648-E9BE-43ED-A807-B9F81F64E3D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8E41D-D781-45AE-9A46-54844C713B0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0F47B-2C3D-428C-AA39-E25E6B756BD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5894A-C466-4566-99BA-78F25233E19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DBE45-A42B-478D-94A5-208D2C3BBA6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80DF8-87EB-49D5-905F-5C569A68817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D940A-3182-4227-B6F6-62CEB61B306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22A54-0B81-49B8-9E4A-B1B24868B98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1B69-DE99-4958-9F1C-E0352B6E0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27B6-0362-495B-89B4-7487FD156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B140-4121-42C9-98DD-3E2B8E582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97CE-0629-47AF-B963-BBD3F87BC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F2D0-6A0F-4D5B-8997-6C42A41BB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90D7-1907-4171-96B5-F2A9851BE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DD5B-4F1C-44DF-9FE1-0A4597074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FF70-A1F4-436E-B194-13E7B906A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B2BF-6FFC-4081-8319-767699509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DDE4-CCAF-4414-937E-3EE4B9CA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B28F-FC9A-41AC-BFFD-65A35932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7C62-6CF4-44F2-AC7A-22D6AA38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45EE5-AD1C-41DC-A11A-B4329A2FD94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vg3097@mail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9A381-8146-4167-93CF-70BD648E44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7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gif"/><Relationship Id="rId3" Type="http://schemas.openxmlformats.org/officeDocument/2006/relationships/image" Target="../media/image7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png"/><Relationship Id="rId3" Type="http://schemas.openxmlformats.org/officeDocument/2006/relationships/image" Target="../media/image4.jpeg"/><Relationship Id="rId4" Type="http://schemas.openxmlformats.org/officeDocument/2006/relationships/image" Target="../media/image11.gif"/><Relationship Id="rId5" Type="http://schemas.openxmlformats.org/officeDocument/2006/relationships/image" Target="../media/image7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2"/>
          <p:cNvSpPr/>
          <p:nvPr/>
        </p:nvSpPr>
        <p:spPr>
          <a:xfrm>
            <a:off x="214200" y="2786040"/>
            <a:ext cx="8605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МОРАЛЬНЫЙ    ВЫБОР -  ЭТО  ОТВЕТСТВЕННОСТ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395280" y="552600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РЕЗЕНТАЦИЯ ПО ОБЩЕСТВОЗНАНИЮ  8 КЛАСС   БАЗОВЫЙ УРОВЕН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ИТЕРАТУ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Прямоугольник 2"/>
          <p:cNvSpPr/>
          <p:nvPr/>
        </p:nvSpPr>
        <p:spPr>
          <a:xfrm>
            <a:off x="285840" y="1857240"/>
            <a:ext cx="85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ЩЕСТВОЗНАНИЕ: УЧЕБНОЕ  ПОСОБИЕ ДЛЯ 8 КЛ. ОБЩЕОБРАЗОВАТЕЛЬНЫХ   УЧРЕЖДЕНИЙ \ Л.Н. БОГОЛЮБОВ   И  ДР.  М. ПРОСВЕЩЕНИЕ, 20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Рисунок 4" descr="___2.jpg"/>
          <p:cNvPicPr/>
          <p:nvPr/>
        </p:nvPicPr>
        <p:blipFill>
          <a:blip r:embed="rId1"/>
          <a:stretch/>
        </p:blipFill>
        <p:spPr>
          <a:xfrm>
            <a:off x="5546880" y="3035160"/>
            <a:ext cx="2858760" cy="342612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ЛАН  УР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vg3097@mail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3"/>
          <p:cNvSpPr/>
          <p:nvPr/>
        </p:nvSpPr>
        <p:spPr>
          <a:xfrm>
            <a:off x="250920" y="1628640"/>
            <a:ext cx="8713800" cy="936720"/>
          </a:xfrm>
          <a:prstGeom prst="rect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108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ОРАЛЬНЫЙ  ВЫБО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4"/>
          <p:cNvSpPr/>
          <p:nvPr/>
        </p:nvSpPr>
        <p:spPr>
          <a:xfrm>
            <a:off x="250920" y="2781360"/>
            <a:ext cx="8713800" cy="863640"/>
          </a:xfrm>
          <a:prstGeom prst="rect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108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ВОБОДА ЭТО ОТВЕТСТВЕНН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5"/>
          <p:cNvSpPr/>
          <p:nvPr/>
        </p:nvSpPr>
        <p:spPr>
          <a:xfrm>
            <a:off x="250920" y="3933720"/>
            <a:ext cx="8713800" cy="1008000"/>
          </a:xfrm>
          <a:prstGeom prst="rect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108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ОРАЛЬНЫЕ   ЗНАНИЯ  И ПРАКТИЧЕСКОЕ    ПОВЕДЕНИЕ ЛИЧНОСТИ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6"/>
          <p:cNvSpPr/>
          <p:nvPr/>
        </p:nvSpPr>
        <p:spPr>
          <a:xfrm>
            <a:off x="220680" y="5229360"/>
            <a:ext cx="8712360" cy="1008000"/>
          </a:xfrm>
          <a:prstGeom prst="rect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108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РИТИЧЕСКИЙ  АНАЛИЗ СОБСТВЕННЫХ  ПОМЫСЛОВ  И ПОСТУПК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А….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vg3097@mail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D:\файлы  папы\Мои документы\Обществознание\WallpapersMania-08.02.12\Фоны\2147233189480a3ff764f4a.gif"/>
          <p:cNvPicPr/>
          <p:nvPr/>
        </p:nvPicPr>
        <p:blipFill>
          <a:blip r:embed="rId1"/>
          <a:stretch/>
        </p:blipFill>
        <p:spPr>
          <a:xfrm>
            <a:off x="179280" y="4653000"/>
            <a:ext cx="2592360" cy="1800360"/>
          </a:xfrm>
          <a:prstGeom prst="rect">
            <a:avLst/>
          </a:prstGeom>
          <a:ln w="0">
            <a:noFill/>
          </a:ln>
        </p:spPr>
      </p:pic>
      <p:sp>
        <p:nvSpPr>
          <p:cNvPr id="59" name="Стрелка вправо 4"/>
          <p:cNvSpPr/>
          <p:nvPr/>
        </p:nvSpPr>
        <p:spPr>
          <a:xfrm>
            <a:off x="2986200" y="5084640"/>
            <a:ext cx="718920" cy="468360"/>
          </a:xfrm>
          <a:prstGeom prst="rightArrow">
            <a:avLst>
              <a:gd name="adj1" fmla="val 50000"/>
              <a:gd name="adj2" fmla="val 49887"/>
            </a:avLst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Скругленный прямоугольник 5"/>
          <p:cNvSpPr/>
          <p:nvPr/>
        </p:nvSpPr>
        <p:spPr>
          <a:xfrm>
            <a:off x="4356000" y="4437000"/>
            <a:ext cx="4537080" cy="180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108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ЧЕЛОВЕК  КАК СУЩЕСТВО   СОЦИАЛЬНОЕ  И РАЗУМНОЕ СВОЕ ПОВЕДЕНИЕ   ВЫБИРАЕТ САМ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243000" y="1700280"/>
            <a:ext cx="2466720" cy="1847880"/>
          </a:xfrm>
          <a:prstGeom prst="rect">
            <a:avLst/>
          </a:prstGeom>
          <a:ln w="0">
            <a:noFill/>
          </a:ln>
        </p:spPr>
      </p:pic>
      <p:sp>
        <p:nvSpPr>
          <p:cNvPr id="62" name="Стрелка вправо 7"/>
          <p:cNvSpPr/>
          <p:nvPr/>
        </p:nvSpPr>
        <p:spPr>
          <a:xfrm>
            <a:off x="2994120" y="2157480"/>
            <a:ext cx="718920" cy="466560"/>
          </a:xfrm>
          <a:prstGeom prst="rightArrow">
            <a:avLst>
              <a:gd name="adj1" fmla="val 50000"/>
              <a:gd name="adj2" fmla="val 50079"/>
            </a:avLst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Скругленный прямоугольник 8"/>
          <p:cNvSpPr/>
          <p:nvPr/>
        </p:nvSpPr>
        <p:spPr>
          <a:xfrm>
            <a:off x="4067280" y="1744560"/>
            <a:ext cx="4537080" cy="1803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108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ВЕДЕНИЕ  ЖИВОТНЫХ  ПОДЧИНЯЕТСЯ   ЕСТЕСТВЕННЫМ ЗАКОНОМ  ОНИ ДЕЙСТВУЮТ ПО ПРОГРАММЕ И НЕ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ВЕДАЮТ О ДОБРЕ И ЗЛ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6"/>
          <p:cNvSpPr/>
          <p:nvPr/>
        </p:nvSpPr>
        <p:spPr>
          <a:xfrm>
            <a:off x="0" y="1650960"/>
            <a:ext cx="9144000" cy="511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Овал 9"/>
          <p:cNvSpPr/>
          <p:nvPr/>
        </p:nvSpPr>
        <p:spPr>
          <a:xfrm>
            <a:off x="324000" y="1779480"/>
            <a:ext cx="8569080" cy="4673880"/>
          </a:xfrm>
          <a:prstGeom prst="ellipse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108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ЧТО  ТАКОЕ НАШ ВЫБОР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ПОЧЕМУ МЫ ВЫБИРАЕМ   ИМЕННО  ТАК..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 ПРОИСХОДИТ..КОГДА МЫ  ДЕЛАЕ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ПРАВИЛЬНЫЙ ВЫБОР…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  <p:sndAc>
      <p:stSnd>
        <p:snd r:embed="rId4" name="chimes.wav"/>
      </p:stSnd>
    </p:sndAc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1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РМИНЫ И ОПРЕДЕЛ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vg3097@mail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250920" y="162864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ОРАЛЬНЫЙ ВЫБОР,  СВОБОДА, ОТВЕТСТВЕННОСТЬ, МОРАЛЬНЫЕ ЗНАНИЯ, ПРАКТИЧЕСКОЕ   ПОВЕДЕНИЕ  ЛИЧНОСТИ.  ПОМЫСЛЫ И ПОСТУПКИ,   СВОБОДА ВЫБОР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D:\файлы  папы\Мои документы\Обществознание\WallpapersMania-08.02.12\Фоны\2147233189480a3ff764f4a.gif"/>
          <p:cNvPicPr/>
          <p:nvPr/>
        </p:nvPicPr>
        <p:blipFill>
          <a:blip r:embed="rId1"/>
          <a:stretch/>
        </p:blipFill>
        <p:spPr>
          <a:xfrm>
            <a:off x="395280" y="2997360"/>
            <a:ext cx="2592360" cy="180000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ОРАЛЬНЫЙ  ВЫБОР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Нижний колонтитул 2"/>
          <p:cNvSpPr/>
          <p:nvPr/>
        </p:nvSpPr>
        <p:spPr>
          <a:xfrm>
            <a:off x="3124080" y="6524640"/>
            <a:ext cx="28958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vg3097@mail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Рисунок 3" descr="92384912648ba4774afd00.gif"/>
          <p:cNvPicPr/>
          <p:nvPr/>
        </p:nvPicPr>
        <p:blipFill>
          <a:blip r:embed="rId1"/>
          <a:stretch/>
        </p:blipFill>
        <p:spPr>
          <a:xfrm>
            <a:off x="0" y="2349360"/>
            <a:ext cx="2057400" cy="1981440"/>
          </a:xfrm>
          <a:prstGeom prst="rect">
            <a:avLst/>
          </a:prstGeom>
          <a:ln w="0">
            <a:noFill/>
          </a:ln>
        </p:spPr>
      </p:pic>
      <p:sp>
        <p:nvSpPr>
          <p:cNvPr id="73" name="TextBox 4"/>
          <p:cNvSpPr/>
          <p:nvPr/>
        </p:nvSpPr>
        <p:spPr>
          <a:xfrm>
            <a:off x="179280" y="155736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ОРАЛЬНЫЕ НОРМЫ   ДАЮТ НАМ  ОБРАЗЦЫ ПРАВИЛЬНОГО ПОВЕДЕНИЯ..НО  ВСЕГДА ЛИ  ИХ ЧЕЛОВЕК ВЫПОЛНЯЕТ..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Стрелка вправо 5"/>
          <p:cNvSpPr/>
          <p:nvPr/>
        </p:nvSpPr>
        <p:spPr>
          <a:xfrm>
            <a:off x="1882800" y="3195720"/>
            <a:ext cx="714240" cy="446040"/>
          </a:xfrm>
          <a:prstGeom prst="rightArrow">
            <a:avLst>
              <a:gd name="adj1" fmla="val 50000"/>
              <a:gd name="adj2" fmla="val 49892"/>
            </a:avLst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оугольник 6"/>
          <p:cNvSpPr/>
          <p:nvPr/>
        </p:nvSpPr>
        <p:spPr>
          <a:xfrm>
            <a:off x="3132000" y="2349360"/>
            <a:ext cx="5761080" cy="2735280"/>
          </a:xfrm>
          <a:prstGeom prst="rect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108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ЧЕЛОВЕК МОЖЕТ БЫТЬ ДОБРЫМ И ЗЛЫМ..ПОДЛЫМ И ЖЕСТКИМ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..  ЛЮДИ ВЕРУЮЩИЕ  ЗНАЮТ СЛОВО  «ГРЕХ»  ЭТО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ЛЮБОЕ ЗЛО  ПРОТИВ  МОРАЛИ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ТАК ПОЧЕМУ ЧЕЛОВЕК  В ОДНИХ СЛУЧАЯХ ПОСТУПАЕТ  ГРЕШНО, А В ДРУГИХ МОРАЛЬНО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7"/>
          <p:cNvSpPr/>
          <p:nvPr/>
        </p:nvSpPr>
        <p:spPr>
          <a:xfrm>
            <a:off x="2771640" y="2205000"/>
            <a:ext cx="6372360" cy="4319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Овал 8"/>
          <p:cNvSpPr/>
          <p:nvPr/>
        </p:nvSpPr>
        <p:spPr>
          <a:xfrm>
            <a:off x="2825640" y="2349360"/>
            <a:ext cx="2178000" cy="2232000"/>
          </a:xfrm>
          <a:prstGeom prst="ellipse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108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ВОБОДА ВЫБОР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9"/>
          <p:cNvSpPr/>
          <p:nvPr/>
        </p:nvSpPr>
        <p:spPr>
          <a:xfrm>
            <a:off x="6300720" y="2492280"/>
            <a:ext cx="2592360" cy="847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ВОБОДА- ЭТО СОСТОЯНИЕ  ДУХ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оугольник 10"/>
          <p:cNvSpPr/>
          <p:nvPr/>
        </p:nvSpPr>
        <p:spPr>
          <a:xfrm>
            <a:off x="6300720" y="3716280"/>
            <a:ext cx="2592360" cy="1081080"/>
          </a:xfrm>
          <a:prstGeom prst="rect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108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СТОЯНИЕ ВЫБОРА – ТВОРЕНИЕ САМОГО СЕБ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Стрелка вправо 11"/>
          <p:cNvSpPr/>
          <p:nvPr/>
        </p:nvSpPr>
        <p:spPr>
          <a:xfrm>
            <a:off x="5219640" y="3340080"/>
            <a:ext cx="738360" cy="339840"/>
          </a:xfrm>
          <a:prstGeom prst="rightArrow">
            <a:avLst>
              <a:gd name="adj1" fmla="val 50000"/>
              <a:gd name="adj2" fmla="val 50213"/>
            </a:avLst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оугольник 12"/>
          <p:cNvSpPr/>
          <p:nvPr/>
        </p:nvSpPr>
        <p:spPr>
          <a:xfrm>
            <a:off x="2916360" y="5084640"/>
            <a:ext cx="5976720" cy="1224000"/>
          </a:xfrm>
          <a:prstGeom prst="rect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108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РАЛЬНЫЙ ВЫБОР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 КОГДА ЧЕЛОВЕК  НЕ ТОЛЬКО ВЫБИРАЕТ  НО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ЕЙСТВУЕТ  В СООТВЕТСТВИИ   СО СВОИМ   ВЫБОР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13"/>
          <p:cNvSpPr/>
          <p:nvPr/>
        </p:nvSpPr>
        <p:spPr>
          <a:xfrm>
            <a:off x="0" y="1413000"/>
            <a:ext cx="9144000" cy="51116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14"/>
          <p:cNvSpPr/>
          <p:nvPr/>
        </p:nvSpPr>
        <p:spPr>
          <a:xfrm>
            <a:off x="539640" y="198900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СУДИ   ЧЕЛОВЕКА   НЕ ПО СЛОВАМ 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 A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О ЕГО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……………………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15"/>
          <p:cNvSpPr/>
          <p:nvPr/>
        </p:nvSpPr>
        <p:spPr>
          <a:xfrm>
            <a:off x="6084720" y="43657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ДЕЛ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Рисунок 2" descr=""/>
          <p:cNvPicPr/>
          <p:nvPr/>
        </p:nvPicPr>
        <p:blipFill>
          <a:blip r:embed="rId5"/>
          <a:stretch/>
        </p:blipFill>
        <p:spPr>
          <a:xfrm>
            <a:off x="7812000" y="380880"/>
            <a:ext cx="1027080" cy="70488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6" name="chimes.wav"/>
      </p:stSnd>
    </p:sndAc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1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8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2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1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path" presetID="64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3.05556E-006 -2.51677E-006 L 0.09722 -0.34814 E">
                                      <p:cBhvr>
                                        <p:cTn id="350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БОДА  ЭТО  ОТВЕТСТВЕН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угольник 2"/>
          <p:cNvSpPr/>
          <p:nvPr/>
        </p:nvSpPr>
        <p:spPr>
          <a:xfrm>
            <a:off x="214200" y="2428920"/>
            <a:ext cx="2857680" cy="2143080"/>
          </a:xfrm>
          <a:prstGeom prst="rect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108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СТУП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Стрелка вправо 3"/>
          <p:cNvSpPr/>
          <p:nvPr/>
        </p:nvSpPr>
        <p:spPr>
          <a:xfrm>
            <a:off x="3429000" y="32148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Скругленный прямоугольник 4"/>
          <p:cNvSpPr/>
          <p:nvPr/>
        </p:nvSpPr>
        <p:spPr>
          <a:xfrm>
            <a:off x="5072040" y="1500120"/>
            <a:ext cx="3714840" cy="4643640"/>
          </a:xfrm>
          <a:custGeom>
            <a:avLst/>
            <a:gdLst>
              <a:gd name="textAreaLeft" fmla="*/ 181080 w 3714840"/>
              <a:gd name="textAreaRight" fmla="*/ 3533760 w 3714840"/>
              <a:gd name="textAreaTop" fmla="*/ 181080 h 4643640"/>
              <a:gd name="textAreaBottom" fmla="*/ 4462560 h 4643640"/>
            </a:gdLst>
            <a:ahLst/>
            <a:rect l="textAreaLeft" t="textAreaTop" r="textAreaRight" b="textAreaBottom"/>
            <a:pathLst>
              <a:path w="21600" h="27000">
                <a:moveTo>
                  <a:pt x="3600" y="0"/>
                </a:moveTo>
                <a:arcTo wR="3600" hR="3600" stAng="16200000" swAng="-5400000"/>
                <a:lnTo>
                  <a:pt x="0" y="23400"/>
                </a:lnTo>
                <a:arcTo wR="3600" hR="3600" stAng="10800000" swAng="-5400000"/>
                <a:lnTo>
                  <a:pt x="18000" y="270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СЕ ПОСТУПКИ  ИМЕЮТ  ПОСЛЕДСТВИ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ТЧА  О ДРОВОСЕК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ЫТЬ ОТВЕТСТВЕННЫМ – ЭТО ПРЕДВИДИТЬ  ПОСЛЕДСТВИЯ  НАШИХ ПОСТУПКОВ. СУЩЕСТВУЕТ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- МОРАЛЬНАЯ  ОТВЕТСТВЕННОСТЬ, ОТВЕТСТВЕННОСТЬ ПЕРЕД  СОБСТВЕННОЙ  СОВЕСТЬ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Прямоугольник 5"/>
          <p:cNvGrpSpPr/>
          <p:nvPr/>
        </p:nvGrpSpPr>
        <p:grpSpPr>
          <a:xfrm>
            <a:off x="-19080" y="1395360"/>
            <a:ext cx="9182160" cy="5291280"/>
            <a:chOff x="-19080" y="1395360"/>
            <a:chExt cx="9182160" cy="5291280"/>
          </a:xfrm>
        </p:grpSpPr>
        <p:pic>
          <p:nvPicPr>
            <p:cNvPr id="91" name="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-19080" y="1395360"/>
              <a:ext cx="9182160" cy="529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0" y="1413000"/>
              <a:ext cx="9144000" cy="52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" name="TextBox 6"/>
          <p:cNvSpPr/>
          <p:nvPr/>
        </p:nvSpPr>
        <p:spPr>
          <a:xfrm>
            <a:off x="324000" y="1628640"/>
            <a:ext cx="846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СВОБОДА   ЭТО ВОЗМОЖНОСТЬ ДЕЙСТВОВАТЬ ПО СВОЕМУ УСМОТРЕНИЮ..НО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НО ПОЧЕМУ В НАРОДЕ ГОВОРЯТ  ТАК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324000" y="3457440"/>
            <a:ext cx="81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ДАЙ  СЕРДЦУ ВОЛЮ -  ЗАВЕДЕТ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В НЕВОЛ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Рисунок 2" descr=""/>
          <p:cNvPicPr/>
          <p:nvPr/>
        </p:nvPicPr>
        <p:blipFill>
          <a:blip r:embed="rId3"/>
          <a:stretch/>
        </p:blipFill>
        <p:spPr>
          <a:xfrm>
            <a:off x="7812000" y="380880"/>
            <a:ext cx="1027080" cy="70488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4" name="chimes.wav"/>
      </p:stSnd>
    </p:sndAc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7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ОРАЛЬНЫЕ ЗНАНИЯ И ПРАКТИЧЕСКОЕ ПОВЕДЕНИЕ ЛИЧ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285840" y="1714680"/>
            <a:ext cx="842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ОТЛИЧИЕ ОТ ЗАКОНОВ     НАРУШЕНИЕ НОРМ МОРАЛИ  НЕ НЕСЕТ НАКАЗАНИЯ.  ЧТО ЖЕ МОЖЕТ  ОБЕСПЕЧИТЬ ИХ   ВЫПОЛНЕНИ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3"/>
          <p:cNvSpPr/>
          <p:nvPr/>
        </p:nvSpPr>
        <p:spPr>
          <a:xfrm>
            <a:off x="214200" y="2786040"/>
            <a:ext cx="8643960" cy="928800"/>
          </a:xfrm>
          <a:prstGeom prst="rect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108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ОЖЕТ  ПРЕВРАТИТЬ  НОРМЫ МОРАЛИ В ЗАКОНЫ.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оугольник 4"/>
          <p:cNvSpPr/>
          <p:nvPr/>
        </p:nvSpPr>
        <p:spPr>
          <a:xfrm>
            <a:off x="285840" y="4000680"/>
            <a:ext cx="8572320" cy="1214280"/>
          </a:xfrm>
          <a:prstGeom prst="rect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108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ОЛЬШИНСТВО ВСЕГДА ПРАВО. МОЖЕТ  В ЭТОМ   ВЫХОД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рямоугольник 5"/>
          <p:cNvSpPr/>
          <p:nvPr/>
        </p:nvSpPr>
        <p:spPr>
          <a:xfrm>
            <a:off x="285840" y="5500800"/>
            <a:ext cx="8572320" cy="880920"/>
          </a:xfrm>
          <a:prstGeom prst="rect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108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РУШЕНИЕ НОРМ МОРАЛИ СВЯЗАНО С ИМУЩЕСТВЕННЫМ НЕРАВЕНСТВОМ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угольник 6"/>
          <p:cNvSpPr/>
          <p:nvPr/>
        </p:nvSpPr>
        <p:spPr>
          <a:xfrm>
            <a:off x="0" y="1484280"/>
            <a:ext cx="9036000" cy="4753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395280" y="171468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СМОТРИМ  НА СТРАНИЦЕ  57 УЧЕБНОГО ПОСОБИЯ ДВА ФАКТА    И ПОПРОБУЕМ  СДЕЛАТЬ ВЫВОД: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КАК  ПОСТУПАТЬ ЧЕЛОВЕКУ?    ОТ ЧЕГО  ЭТО ЗАВИСИТ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D:\файлы  папы\Мои документы\Обществознание\WallpapersMania-08.02.12\Фоны\2147233189480a3ff764f4a.gif"/>
          <p:cNvPicPr/>
          <p:nvPr/>
        </p:nvPicPr>
        <p:blipFill>
          <a:blip r:embed="rId2"/>
          <a:stretch/>
        </p:blipFill>
        <p:spPr>
          <a:xfrm>
            <a:off x="468360" y="3402000"/>
            <a:ext cx="2590920" cy="1800360"/>
          </a:xfrm>
          <a:prstGeom prst="rect">
            <a:avLst/>
          </a:prstGeom>
          <a:ln w="0">
            <a:noFill/>
          </a:ln>
        </p:spPr>
      </p:pic>
      <p:sp>
        <p:nvSpPr>
          <p:cNvPr id="104" name="Стрелка вправо 9"/>
          <p:cNvSpPr/>
          <p:nvPr/>
        </p:nvSpPr>
        <p:spPr>
          <a:xfrm>
            <a:off x="3203640" y="3801960"/>
            <a:ext cx="720720" cy="486000"/>
          </a:xfrm>
          <a:prstGeom prst="rightArrow">
            <a:avLst>
              <a:gd name="adj1" fmla="val 50000"/>
              <a:gd name="adj2" fmla="val 49906"/>
            </a:avLst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Скругленный прямоугольник 10"/>
          <p:cNvSpPr/>
          <p:nvPr/>
        </p:nvSpPr>
        <p:spPr>
          <a:xfrm>
            <a:off x="4500720" y="2914560"/>
            <a:ext cx="4357440" cy="2675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РОБУЙТЕ  СДЕЛАТЬ  ЭТО САМИ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Рисунок 2" descr=""/>
          <p:cNvPicPr/>
          <p:nvPr/>
        </p:nvPicPr>
        <p:blipFill>
          <a:blip r:embed="rId3"/>
          <a:stretch/>
        </p:blipFill>
        <p:spPr>
          <a:xfrm>
            <a:off x="7812000" y="380880"/>
            <a:ext cx="1027080" cy="70488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4" name="chimes.wav"/>
      </p:stSnd>
    </p:sndAc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6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1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РИТИЧЕСКИЙ  АНАЛИЗ  СОБСТВЕННЫХ  ПОМЫСЛОВ  И ПОСТУПК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357120" y="1643040"/>
            <a:ext cx="8786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ПОСМОТРИТЕ  СКОЛЬКО  ЧЕЛОВЕЧЕСТВО ПРИДУМАЛО  СПОСОБОВ  СОБЛЮДЕНИЯ  НРАВСТВЕННОСТИ: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ЩЕСТВЕННОЕ МНЕНИЕ, СТРАХ ПЕРЕД  БОГ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Скругленный прямоугольник 3"/>
          <p:cNvSpPr/>
          <p:nvPr/>
        </p:nvSpPr>
        <p:spPr>
          <a:xfrm>
            <a:off x="214200" y="3214800"/>
            <a:ext cx="3000600" cy="25002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АРАНТИИ СОБЛЮДЕНИЯ МОРАЛИ  В САМОМ ЧЕЛОВЕК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В СВОБОДЕ  ЕГО ВЫБО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Стрелка вправо 4"/>
          <p:cNvSpPr/>
          <p:nvPr/>
        </p:nvSpPr>
        <p:spPr>
          <a:xfrm>
            <a:off x="3429000" y="414324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рямоугольник 5"/>
          <p:cNvSpPr/>
          <p:nvPr/>
        </p:nvSpPr>
        <p:spPr>
          <a:xfrm>
            <a:off x="4857840" y="2928960"/>
            <a:ext cx="4071960" cy="1643040"/>
          </a:xfrm>
          <a:prstGeom prst="rect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108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ОБЛЕМА САМООЦЕНКИ И ОЦЕН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ЧЕЛОВЕК ЛИШЬ ТО, ЧТО ОН САМ ИЗ  СЕБЯ ДЕЛА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" name="Прямоугольник 6"/>
          <p:cNvGrpSpPr/>
          <p:nvPr/>
        </p:nvGrpSpPr>
        <p:grpSpPr>
          <a:xfrm>
            <a:off x="4840200" y="4979880"/>
            <a:ext cx="4108680" cy="1560600"/>
            <a:chOff x="4840200" y="4979880"/>
            <a:chExt cx="4108680" cy="1560600"/>
          </a:xfrm>
        </p:grpSpPr>
        <p:pic>
          <p:nvPicPr>
            <p:cNvPr id="113" name="Прямоугольник 6" descr=""/>
            <p:cNvPicPr/>
            <p:nvPr/>
          </p:nvPicPr>
          <p:blipFill>
            <a:blip r:embed="rId2"/>
            <a:stretch/>
          </p:blipFill>
          <p:spPr>
            <a:xfrm>
              <a:off x="4840200" y="4979880"/>
              <a:ext cx="4108680" cy="156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4857840" y="5000760"/>
              <a:ext cx="407196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БЫТЬ ИЛИ КАЗАТЬСЯ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ОТНОШЕНИЕ ОКРУЖАЮЩИХ ЗАВИСИТ ОТ НАШИХ ПОСТУПКОВ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5" name="Прямоугольник 7"/>
          <p:cNvSpPr/>
          <p:nvPr/>
        </p:nvSpPr>
        <p:spPr>
          <a:xfrm>
            <a:off x="0" y="1413000"/>
            <a:ext cx="9144000" cy="5445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Прямоугольник 8"/>
          <p:cNvSpPr/>
          <p:nvPr/>
        </p:nvSpPr>
        <p:spPr>
          <a:xfrm>
            <a:off x="320760" y="1700280"/>
            <a:ext cx="8502480" cy="1228680"/>
          </a:xfrm>
          <a:prstGeom prst="rect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108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ЦЕСС МОРАЛЬНОГО СОВЕРШЕНСТВОВАНИЯ  ЯВЛЯЕТСЯ БЕСКОНЕЧНЫ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рямоугольник 9"/>
          <p:cNvSpPr/>
          <p:nvPr/>
        </p:nvSpPr>
        <p:spPr>
          <a:xfrm>
            <a:off x="357120" y="3214800"/>
            <a:ext cx="8429760" cy="1428480"/>
          </a:xfrm>
          <a:prstGeom prst="rect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108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ОРАЛЬНОЕ СОВЕРШЕНСТВОВАНИЕ  ЦЕЛИКОМ ЗАВИСИТ ОТ ТЕБЯ, ОТ КОЛИЧЕСТВА ДОБРА  КОТОРОЕ ТЫ НЕСЕШЬ  ЛЮДЯ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D:\Файлы папы\Мои  документы\Рисунки\blue_rose_anim.gif"/>
          <p:cNvPicPr/>
          <p:nvPr/>
        </p:nvPicPr>
        <p:blipFill>
          <a:blip r:embed="rId4"/>
          <a:stretch/>
        </p:blipFill>
        <p:spPr>
          <a:xfrm>
            <a:off x="3000240" y="4762440"/>
            <a:ext cx="3000600" cy="2000160"/>
          </a:xfrm>
          <a:prstGeom prst="rect">
            <a:avLst/>
          </a:prstGeom>
          <a:ln w="0">
            <a:noFill/>
          </a:ln>
        </p:spPr>
      </p:pic>
      <p:sp>
        <p:nvSpPr>
          <p:cNvPr id="119" name="Овал 11"/>
          <p:cNvSpPr/>
          <p:nvPr/>
        </p:nvSpPr>
        <p:spPr>
          <a:xfrm>
            <a:off x="0" y="1413000"/>
            <a:ext cx="8929800" cy="5349600"/>
          </a:xfrm>
          <a:prstGeom prst="ellipse">
            <a:avLst/>
          </a:prstGeom>
          <a:gradFill rotWithShape="0">
            <a:gsLst>
              <a:gs pos="0">
                <a:srgbClr val="83d3ff"/>
              </a:gs>
              <a:gs pos="100000">
                <a:srgbClr val="dbf0ff"/>
              </a:gs>
            </a:gsLst>
            <a:lin ang="108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ИТАК  МОЖЕМ ЛИ МЫ ОТВЕТИТЬ НА ВОПРОСЫ ПОСТАВЛЕННЫЕ В НАЧАЛЕ   УРОК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3"/>
          <p:cNvSpPr/>
          <p:nvPr/>
        </p:nvSpPr>
        <p:spPr>
          <a:xfrm>
            <a:off x="1714680" y="4465800"/>
            <a:ext cx="6170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ЧТО  ТАКОЕ НАШ ВЫБОР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ПОЧЕМУ МЫ ВЫБИРАЕМ   ИМЕННО  ТАК..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 ПРОИСХОДИТ..КОГДА МЫ  ДЕЛАЕ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ПРАВИЛЬНЫЙ ВЫБОР…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Рисунок 2" descr=""/>
          <p:cNvPicPr/>
          <p:nvPr/>
        </p:nvPicPr>
        <p:blipFill>
          <a:blip r:embed="rId5"/>
          <a:stretch/>
        </p:blipFill>
        <p:spPr>
          <a:xfrm>
            <a:off x="7812000" y="380880"/>
            <a:ext cx="1027080" cy="70488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6" name="chimes.wav"/>
      </p:stSnd>
    </p:sndAc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6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6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3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1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1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1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ОПРОСЫ И ЗАД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Прямоугольник 2"/>
          <p:cNvSpPr/>
          <p:nvPr/>
        </p:nvSpPr>
        <p:spPr>
          <a:xfrm>
            <a:off x="428760" y="1643040"/>
            <a:ext cx="8286480" cy="777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АК ВЫ ПОНИМАЕТЕ  СЛОВА ХРИСТА О ТОМ, ЧТО НЕ ХЛЕБОМ ЕДИНЫМ  ЖИВ  ЧЕЛОВЕ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Прямоугольник 3"/>
          <p:cNvSpPr/>
          <p:nvPr/>
        </p:nvSpPr>
        <p:spPr>
          <a:xfrm>
            <a:off x="488880" y="2924280"/>
            <a:ext cx="8215560" cy="720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ДАЖЕ В ТОМ СЛУЧАЕ, ЕСЛИ Я НИЧЕГО НЕ ВЫБИ РАЮ, Я ТЕМ САМЫМ ВСЕ- ТАКИ ВЫБИРА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рямоугольник 4"/>
          <p:cNvSpPr/>
          <p:nvPr/>
        </p:nvSpPr>
        <p:spPr>
          <a:xfrm>
            <a:off x="528480" y="4221000"/>
            <a:ext cx="8215560" cy="792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ОРАЛЬ НАЧИНАЕТСЯ  ТАМ, ГДЕ КОНЧАЮТСЯ  РАЗГОВО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оугольник 5"/>
          <p:cNvSpPr/>
          <p:nvPr/>
        </p:nvSpPr>
        <p:spPr>
          <a:xfrm>
            <a:off x="488880" y="5229360"/>
            <a:ext cx="8226360" cy="1152360"/>
          </a:xfrm>
          <a:prstGeom prst="rect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ОПРОСЫ  « В КЛАССЕ И ДОМА»  НА СТР  59  МОЖНО  ОТВЕЧАТЬ В ОН ЛАЙН  РЕЖИМЕ В  БЛОГЕ   «МИР И МЫ»  , ГДЕ БУДЕТ РАЗМЕЩЕНА   ФЛЕШ- ПРЕЗЕНТАЦИЯ   УРОКА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  <p:sndAc>
      <p:stSnd>
        <p:snd r:embed="rId4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15:31:19Z</dcterms:created>
  <dc:creator>Евгений.</dc:creator>
  <dc:description/>
  <dc:language>en-US</dc:language>
  <cp:lastModifiedBy>kalimullin</cp:lastModifiedBy>
  <dcterms:modified xsi:type="dcterms:W3CDTF">2011-11-14T20:10:49Z</dcterms:modified>
  <cp:revision>24</cp:revision>
  <dc:subject/>
  <dc:title>Презентация PowerPoint</dc:title>
</cp:coreProperties>
</file>