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7.png" ContentType="image/png"/>
  <Override PartName="/ppt/media/image12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D91-1A32-40BF-B87E-5F94FD8CD0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A32-4FDC-419E-BBFF-ED18D5833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47B7-1522-4276-92ED-C6E2C429D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E13-EBD7-4113-B3B3-9B77DDC08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29D1-E569-4CAC-A36C-C74AEAF18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387-34E0-440B-A6C9-7EF98AD4E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775-8C5C-4773-A4EF-C1F8A0F5F3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0F0-5C97-4D99-B1EB-9B0965FE62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DAF-807B-46BC-AF37-468D172D71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848F-DEBD-480F-A23F-E96C44576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BB3-D79F-4BF5-967F-80521E7951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03E-CF4C-4A04-8F8F-284C433D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777-9619-44EE-9506-0959040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70A-5F45-4AB8-A3D9-1AE3B489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696-432B-4120-9A77-7B6FF99E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D62-B94F-46C4-84B0-1D434D2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969-1709-44A6-A2DF-B2C6A69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618-FC66-4997-AB79-1DCBA59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3AF-C465-41A7-A183-725FD326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DC4-D70D-4343-A356-3ED1552D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CC3-EA6B-4C1B-B066-A1651BB4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587-AB2E-4F7E-80BD-78CB720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89D-5D63-4EA6-AC2E-30B0266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9FDC-F030-40D4-B434-54C4EE4462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8415-47CA-4980-91FA-6238D4687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11.gif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14200" y="2786040"/>
            <a:ext cx="86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ОРАЛЬНЫЙ    ВЫБОР -  ЭТО  ОТВЕТСТВЕН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5280" y="55260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ЗЕНТАЦИЯ ПО ОБЩЕСТВОЗНАНИЮ  8 КЛАСС   БАЗОВЫЙ УРОВЕ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85840" y="1857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ЗНАНИЕ: УЧЕБНОЕ  ПОСОБИЕ ДЛЯ 8 КЛ. ОБЩЕОБРАЗОВАТЕЛЬНЫХ   УЧРЕЖДЕНИЙ \ Л.Н. БОГОЛЮБОВ   И  ДР.  М. ПРОСВЕЩЕНИЕ, 2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___2.jpg"/>
          <p:cNvPicPr/>
          <p:nvPr/>
        </p:nvPicPr>
        <p:blipFill>
          <a:blip r:embed="rId1"/>
          <a:stretch/>
        </p:blipFill>
        <p:spPr>
          <a:xfrm>
            <a:off x="5546880" y="3035160"/>
            <a:ext cx="2858760" cy="34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0920" y="1628640"/>
            <a:ext cx="8713800" cy="9367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0920" y="2781360"/>
            <a:ext cx="8713800" cy="8636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ЭТО ОТВЕТСТВ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0920" y="3933720"/>
            <a:ext cx="871380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  ЗНАНИЯ  И ПРАКТИЧЕСКОЕ    ПОВЕДЕНИЕ ЛИЧНОСТИ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20680" y="5229360"/>
            <a:ext cx="8712360" cy="1008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ИЧЕСКИЙ  АНАЛИЗ СОБСТВЕННЫХ  ПОМЫСЛОВ  И ПОСТУП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…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179280" y="4653000"/>
            <a:ext cx="25923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4"/>
          <p:cNvSpPr/>
          <p:nvPr/>
        </p:nvSpPr>
        <p:spPr>
          <a:xfrm>
            <a:off x="2986200" y="5084640"/>
            <a:ext cx="718920" cy="46836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4356000" y="4437000"/>
            <a:ext cx="453708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  КАК СУЩЕСТВО   СОЦИАЛЬНОЕ  И РАЗУМНОЕ СВОЕ ПОВЕДЕНИЕ   ВЫБИРАЕТ САМ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43000" y="1700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7"/>
          <p:cNvSpPr/>
          <p:nvPr/>
        </p:nvSpPr>
        <p:spPr>
          <a:xfrm>
            <a:off x="2994120" y="2157480"/>
            <a:ext cx="718920" cy="46656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8"/>
          <p:cNvSpPr/>
          <p:nvPr/>
        </p:nvSpPr>
        <p:spPr>
          <a:xfrm>
            <a:off x="4067280" y="1744560"/>
            <a:ext cx="4537080" cy="180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ЕДЕНИЕ  ЖИВОТНЫХ  ПОДЧИНЯЕТСЯ   ЕСТЕСТВЕННЫМ ЗАКОНОМ  ОНИ ДЕЙСТВУЮТ ПО ПРОГРАММЕ И Н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ЕДАЮТ О ДОБРЕ И З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0" y="1650960"/>
            <a:ext cx="9144000" cy="511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9"/>
          <p:cNvSpPr/>
          <p:nvPr/>
        </p:nvSpPr>
        <p:spPr>
          <a:xfrm>
            <a:off x="324000" y="1779480"/>
            <a:ext cx="8569080" cy="467388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МИНЫ И ОПРЕД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50920" y="1628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ЬНЫЙ ВЫБОР,  СВОБОДА, ОТВЕТСТВЕННОСТЬ, МОРАЛЬНЫЕ ЗНАНИЯ, ПРАКТИЧЕСКОЕ   ПОВЕДЕНИЕ  ЛИЧНОСТИ.  ПОМЫСЛЫ И ПОСТУПКИ,   СВОБОДА ВЫБ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1"/>
          <a:stretch/>
        </p:blipFill>
        <p:spPr>
          <a:xfrm>
            <a:off x="395280" y="299736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Й  ВЫБО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g3097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92384912648ba4774afd00.gif"/>
          <p:cNvPicPr/>
          <p:nvPr/>
        </p:nvPicPr>
        <p:blipFill>
          <a:blip r:embed="rId1"/>
          <a:stretch/>
        </p:blipFill>
        <p:spPr>
          <a:xfrm>
            <a:off x="0" y="234936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9280" y="1557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ЫЕ НОРМЫ   ДАЮТ НАМ  ОБРАЗЦЫ ПРАВИЛЬНОГО ПОВЕДЕНИЯ..НО  ВСЕГДА ЛИ  ИХ ЧЕЛОВЕК ВЫПОЛНЯЕТ.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право 5"/>
          <p:cNvSpPr/>
          <p:nvPr/>
        </p:nvSpPr>
        <p:spPr>
          <a:xfrm>
            <a:off x="1882800" y="3195720"/>
            <a:ext cx="714240" cy="44604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132000" y="2349360"/>
            <a:ext cx="5761080" cy="2735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МОЖЕТ БЫТЬ ДОБРЫМ И ЗЛЫМ..ПОДЛЫМ И ЖЕСТКИМ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..  ЛЮДИ ВЕРУЮЩИЕ  ЗНАЮТ СЛОВО  «ГРЕХ»  ЭТ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ЮБОЕ ЗЛО  ПРОТИВ  МОРАЛ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АК ПОЧЕМУ ЧЕЛОВЕК  В ОДНИХ СЛУЧАЯХ ПОСТУПАЕТ  ГРЕШНО, А В ДРУГИХ МОРАЛЬНО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2771640" y="2205000"/>
            <a:ext cx="637236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2825640" y="2349360"/>
            <a:ext cx="2178000" cy="223200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 ВЫБ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6300720" y="2492280"/>
            <a:ext cx="2592360" cy="847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БОДА- ЭТО СОСТОЯНИЕ  Д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6300720" y="3716280"/>
            <a:ext cx="2592360" cy="1081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ВЫБОРА – ТВОРЕНИЕ САМОГО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1"/>
          <p:cNvSpPr/>
          <p:nvPr/>
        </p:nvSpPr>
        <p:spPr>
          <a:xfrm>
            <a:off x="5219640" y="3340080"/>
            <a:ext cx="738360" cy="33984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2916360" y="5084640"/>
            <a:ext cx="5976720" cy="1224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НЫЙ ВЫБОР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 КОГДА ЧЕЛОВЕК  НЕ ТОЛЬКО ВЫБИРАЕТ  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ЙСТВУЕТ  В СООТВЕТСТВИИ   СО СВОИМ   ВЫБ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0" y="1413000"/>
            <a:ext cx="9144000" cy="511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3964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УДИ   ЧЕЛОВЕКА   НЕ ПО СЛОВАМ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A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 ЕГО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………………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084720" y="4365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Л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05556E-006 -2.51677E-006 L 0.09722 -0.34814 E">
                                      <p:cBhvr>
                                        <p:cTn id="35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 ЭТО  ОТВЕТСТВ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14200" y="2428920"/>
            <a:ext cx="2857680" cy="21430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У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3429000" y="3214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4"/>
          <p:cNvSpPr/>
          <p:nvPr/>
        </p:nvSpPr>
        <p:spPr>
          <a:xfrm>
            <a:off x="5072040" y="1500120"/>
            <a:ext cx="3714840" cy="46436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4643640"/>
              <a:gd name="textAreaBottom" fmla="*/ 4462560 h 46436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ПОСТУПКИ  ИМЕЮТ  ПОСЛЕДСТВ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ТЧА  О ДРОВОСЕ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ТЬ ОТВЕТСТВЕННЫМ – ЭТО ПРЕДВИДИТЬ  ПОСЛЕДСТВИЯ  НАШИХ ПОСТУПКОВ. 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 МОРАЛЬНАЯ  ОТВЕТСТВЕННОСТЬ, ОТВЕТСТВЕННОСТЬ ПЕРЕД  СОБСТВЕННОЙ  СОВЕ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Прямоугольник 5"/>
          <p:cNvGrpSpPr/>
          <p:nvPr/>
        </p:nvGrpSpPr>
        <p:grpSpPr>
          <a:xfrm>
            <a:off x="-19080" y="1395360"/>
            <a:ext cx="9182160" cy="5291280"/>
            <a:chOff x="-19080" y="1395360"/>
            <a:chExt cx="9182160" cy="5291280"/>
          </a:xfrm>
        </p:grpSpPr>
        <p:pic>
          <p:nvPicPr>
            <p:cNvPr id="9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9080" y="1395360"/>
              <a:ext cx="918216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413000"/>
              <a:ext cx="91440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6"/>
          <p:cNvSpPr/>
          <p:nvPr/>
        </p:nvSpPr>
        <p:spPr>
          <a:xfrm>
            <a:off x="324000" y="1628640"/>
            <a:ext cx="84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ВОБОДА   ЭТО ВОЗМОЖНОСТЬ ДЕЙСТВОВАТЬ ПО СВОЕМУ УСМОТРЕНИЮ..НО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 ПОЧЕМУ В НАРОДЕ ГОВОРЯТ 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24000" y="34574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ДАЙ  СЕРДЦУ ВОЛЮ -  ЗАВЕД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НЕВО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Е ЗНАНИЯ И ПРАКТИЧЕСКОЕ ПОВЕДЕНИЕ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71468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ТЛИЧИЕ ОТ ЗАКОНОВ     НАРУШЕНИЕ НОРМ МОРАЛИ  НЕ НЕСЕТ НАКАЗАНИЯ.  ЧТО ЖЕ МОЖЕТ  ОБЕСПЕЧИТЬ ИХ   ВЫПОЛН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14200" y="2786040"/>
            <a:ext cx="8643960" cy="928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ЕТ  ПРЕВРАТИТЬ  НОРМЫ МОРАЛИ В ЗАКОНЫ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285840" y="4000680"/>
            <a:ext cx="8572320" cy="1214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ИНСТВО ВСЕГДА ПРАВО. МОЖЕТ  В ЭТОМ   ВЫХО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285840" y="5500800"/>
            <a:ext cx="8572320" cy="8809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Е НОРМ МОРАЛИ СВЯЗАНО С ИМУЩЕСТВЕННЫМ НЕРАВЕНСТВ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1484280"/>
            <a:ext cx="9036000" cy="475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95280" y="17146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М  НА СТРАНИЦЕ  57 УЧЕБНОГО ПОСОБИЯ ДВА ФАКТА    И ПОПРОБУЕМ  СДЕЛАТЬ ВЫВОД: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АК  ПОСТУПАТЬ ЧЕЛОВЕКУ?    ОТ ЧЕГО  ЭТО ЗАВИСИТ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файлы  папы\Мои документы\Обществознание\WallpapersMania-08.02.12\Фоны\2147233189480a3ff764f4a.gif"/>
          <p:cNvPicPr/>
          <p:nvPr/>
        </p:nvPicPr>
        <p:blipFill>
          <a:blip r:embed="rId2"/>
          <a:stretch/>
        </p:blipFill>
        <p:spPr>
          <a:xfrm>
            <a:off x="468360" y="3402000"/>
            <a:ext cx="2590920" cy="180036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9"/>
          <p:cNvSpPr/>
          <p:nvPr/>
        </p:nvSpPr>
        <p:spPr>
          <a:xfrm>
            <a:off x="3203640" y="3801960"/>
            <a:ext cx="720720" cy="48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10"/>
          <p:cNvSpPr/>
          <p:nvPr/>
        </p:nvSpPr>
        <p:spPr>
          <a:xfrm>
            <a:off x="4500720" y="2914560"/>
            <a:ext cx="4357440" cy="2675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 СДЕЛАТЬ  ЭТО СА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3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himes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ИЧЕСКИЙ  АНАЛИЗ  СОБСТВЕННЫХ  ПОМЫСЛОВ  И ПОСТУП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64304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МОТРИТЕ  СКОЛЬКО  ЧЕЛОВЕЧЕСТВО ПРИДУМАЛО  СПОСОБОВ  СОБЛЮДЕНИЯ  НРАВСТВЕННОСТИ: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Е МНЕНИЕ, СТРАХ ПЕРЕД  БО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214200" y="3214800"/>
            <a:ext cx="3000600" cy="250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РАНТИИ СОБЛЮДЕНИЯ МОРАЛИ  В САМОМ ЧЕЛОВЕК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СВОБОДЕ  ЕГО ВЫБ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право 4"/>
          <p:cNvSpPr/>
          <p:nvPr/>
        </p:nvSpPr>
        <p:spPr>
          <a:xfrm>
            <a:off x="3429000" y="4143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857840" y="2928960"/>
            <a:ext cx="4071960" cy="16430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 САМООЦЕНКИ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ЕЛОВЕК ЛИШЬ ТО, ЧТО ОН САМ ИЗ  СЕБЯ ДЕЛ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Прямоугольник 6"/>
          <p:cNvGrpSpPr/>
          <p:nvPr/>
        </p:nvGrpSpPr>
        <p:grpSpPr>
          <a:xfrm>
            <a:off x="4840200" y="4979880"/>
            <a:ext cx="4108680" cy="1560600"/>
            <a:chOff x="4840200" y="4979880"/>
            <a:chExt cx="4108680" cy="1560600"/>
          </a:xfrm>
        </p:grpSpPr>
        <p:pic>
          <p:nvPicPr>
            <p:cNvPr id="11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4840200" y="4979880"/>
              <a:ext cx="41086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857840" y="5000760"/>
              <a:ext cx="40719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ЫТЬ ИЛИ КАЗАТЬСЯ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ОТНОШЕНИЕ ОКРУЖАЮЩИХ ЗАВИСИТ ОТ НАШИХ ПОСТУПКОВ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Прямоугольник 7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320760" y="1700280"/>
            <a:ext cx="8502480" cy="12286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ЦЕСС МОРАЛЬНОГО СОВЕРШЕНСТВОВАНИЯ  ЯВЛЯЕТСЯ БЕСКОНЕЧ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357120" y="3214800"/>
            <a:ext cx="8429760" cy="14284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ОЕ СОВЕРШЕНСТВОВАНИЕ  ЦЕЛИКОМ ЗАВИСИТ ОТ ТЕБЯ, ОТ КОЛИЧЕСТВА ДОБРА  КОТОРОЕ ТЫ НЕСЕШЬ  ЛЮД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Файлы папы\Мои  документы\Рисунки\blue_rose_anim.gif"/>
          <p:cNvPicPr/>
          <p:nvPr/>
        </p:nvPicPr>
        <p:blipFill>
          <a:blip r:embed="rId4"/>
          <a:stretch/>
        </p:blipFill>
        <p:spPr>
          <a:xfrm>
            <a:off x="3000240" y="4762440"/>
            <a:ext cx="300060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11"/>
          <p:cNvSpPr/>
          <p:nvPr/>
        </p:nvSpPr>
        <p:spPr>
          <a:xfrm>
            <a:off x="0" y="1413000"/>
            <a:ext cx="8929800" cy="5349600"/>
          </a:xfrm>
          <a:prstGeom prst="ellipse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ТАК  МОЖЕМ ЛИ МЫ ОТВЕТИТЬ НА ВОПРОСЫ ПОСТАВЛЕННЫЕ В НАЧАЛЕ   УР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1714680" y="4465800"/>
            <a:ext cx="617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 ТАКОЕ НАШ ВЫБО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ЧЕМУ МЫ ВЫБИРАЕМ   ИМЕННО  ТАК..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ПРОИСХОДИТ..КОГДА МЫ  ДЕЛА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 ВЫБОР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5"/>
          <a:stretch/>
        </p:blipFill>
        <p:spPr>
          <a:xfrm>
            <a:off x="7812000" y="380880"/>
            <a:ext cx="102708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28760" y="1643040"/>
            <a:ext cx="8286480" cy="77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ВЫ ПОНИМАЕТЕ  СЛОВА ХРИСТА О ТОМ, ЧТО НЕ ХЛЕБОМ ЕДИНЫМ  ЖИВ 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88880" y="2924280"/>
            <a:ext cx="82155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АЖЕ В ТОМ СЛУЧАЕ, ЕСЛИ Я НИЧЕГО НЕ ВЫБИ РАЮ, Я ТЕМ САМЫМ ВСЕ- ТАКИ ВЫБИ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28480" y="4221000"/>
            <a:ext cx="821556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 НАЧИНАЕТСЯ  ТАМ, ГДЕ КОНЧАЮТСЯ  РАЗГОВ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88880" y="5229360"/>
            <a:ext cx="8226360" cy="115236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  « В КЛАССЕ И ДОМА»  НА СТР  59  МОЖНО  ОТВЕЧАТЬ В ОН ЛАЙН  РЕЖИМЕ В  БЛОГЕ   «МИР И МЫ»  , ГДЕ БУДЕТ РАЗМЕЩЕНА   ФЛЕШ- ПРЕЗЕНТАЦИЯ   УРОКА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31:19Z</dcterms:created>
  <dc:creator>Евгений.</dc:creator>
  <dc:description/>
  <dc:language>en-US</dc:language>
  <cp:lastModifiedBy>kalimullin</cp:lastModifiedBy>
  <dcterms:modified xsi:type="dcterms:W3CDTF">2011-11-14T20:10:49Z</dcterms:modified>
  <cp:revision>24</cp:revision>
  <dc:subject/>
  <dc:title>Презентация PowerPoint</dc:title>
</cp:coreProperties>
</file>