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chimes.wav" ContentType="audio/x-wav"/>
  <Override PartName="/ppt/media/image6.jpeg" ContentType="image/jpeg"/>
  <Override PartName="/ppt/media/image8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5.gif" ContentType="image/gif"/>
  <Override PartName="/ppt/media/image7.png" ContentType="image/png"/>
  <Override PartName="/ppt/media/image12.png" ContentType="image/png"/>
  <Override PartName="/ppt/media/image9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527B-ADD4-4A08-BE16-C4BF341707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155F-E950-4EBD-9CBD-DBE891A8C6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4BA1-D382-458C-8A09-2BB443C40D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1D3D-41A1-4CF2-8EC5-01A0533172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2C66-8B5B-47D3-8437-644DFF2378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072F-F797-4532-9966-727BB9972D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9F8B-7AAA-4E47-A793-D62223EB6B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EA09-71E3-4AE2-AD05-0F14C8D972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ABD4-768E-478C-9D6E-A082F7F4F3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12B0-91D3-45D0-8DC0-75C9AD3CFA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68DE-5F09-4EA0-929E-E8A55486CE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6A72-B7BF-4539-BECB-928100D2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B070-6060-40BA-A924-00CAD374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8683-DB79-40A4-80D7-7034BC0B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ADC6-8980-4BED-9159-5CE22129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37B-C75E-4532-9E61-223B0C21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8692-21D2-4A1B-B5BF-03D75938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DAD-3D88-4454-8A49-3DB8849D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B9B6-A71D-4BED-9800-3795E6F8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02A3-A0E3-4896-9384-870ED981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9E8-A7B8-4D6E-9A3C-44B3C6B0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A06D-8BEF-4BB0-A6C6-72EC69E8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0D1C-A256-4A41-BAA7-9CC13E89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FACD-8595-49EA-B2DE-154181693F8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vg3097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188D-9D67-45D7-A695-C466FAEB31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gif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4.jpeg"/><Relationship Id="rId4" Type="http://schemas.openxmlformats.org/officeDocument/2006/relationships/image" Target="../media/image11.gif"/><Relationship Id="rId5" Type="http://schemas.openxmlformats.org/officeDocument/2006/relationships/image" Target="../media/image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214200" y="2786040"/>
            <a:ext cx="86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МОРАЛЬНЫЙ    ВЫБОР -  ЭТО  ОТВЕТСТВЕННОС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395280" y="552600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ЕЗЕНТАЦИЯ ПО ОБЩЕСТВОЗНАНИЮ  8 КЛАСС   БАЗОВЫЙ УРОВЕН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ИТЕРАТУ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285840" y="185724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ЩЕСТВОЗНАНИЕ: УЧЕБНОЕ  ПОСОБИЕ ДЛЯ 8 КЛ. ОБЩЕОБРАЗОВАТЕЛЬНЫХ   УЧРЕЖДЕНИЙ \ Л.Н. БОГОЛЮБОВ   И  ДР.  М. ПРОСВЕЩЕНИЕ, 2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4" descr="___2.jpg"/>
          <p:cNvPicPr/>
          <p:nvPr/>
        </p:nvPicPr>
        <p:blipFill>
          <a:blip r:embed="rId1"/>
          <a:stretch/>
        </p:blipFill>
        <p:spPr>
          <a:xfrm>
            <a:off x="5546880" y="3035160"/>
            <a:ext cx="2858760" cy="34261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Н 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vg3097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250920" y="1628640"/>
            <a:ext cx="8713800" cy="93672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РАЛЬНЫЙ  ВЫБ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250920" y="2781360"/>
            <a:ext cx="8713800" cy="86364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ОБОДА ЭТО ОТВЕТСТВЕН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250920" y="3933720"/>
            <a:ext cx="8713800" cy="1008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РАЛЬНЫЕ   ЗНАНИЯ  И ПРАКТИЧЕСКОЕ    ПОВЕДЕНИЕ ЛИЧНОСТИ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220680" y="5229360"/>
            <a:ext cx="8712360" cy="1008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ИТИЧЕСКИЙ  АНАЛИЗ СОБСТВЕННЫХ  ПОМЫСЛОВ  И ПОСТУП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….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vg3097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D:\файлы  папы\Мои документы\Обществознание\WallpapersMania-08.02.12\Фоны\2147233189480a3ff764f4a.gif"/>
          <p:cNvPicPr/>
          <p:nvPr/>
        </p:nvPicPr>
        <p:blipFill>
          <a:blip r:embed="rId1"/>
          <a:stretch/>
        </p:blipFill>
        <p:spPr>
          <a:xfrm>
            <a:off x="179280" y="4653000"/>
            <a:ext cx="2592360" cy="1800360"/>
          </a:xfrm>
          <a:prstGeom prst="rect">
            <a:avLst/>
          </a:prstGeom>
          <a:ln w="0">
            <a:noFill/>
          </a:ln>
        </p:spPr>
      </p:pic>
      <p:sp>
        <p:nvSpPr>
          <p:cNvPr id="59" name="Стрелка вправо 4"/>
          <p:cNvSpPr/>
          <p:nvPr/>
        </p:nvSpPr>
        <p:spPr>
          <a:xfrm>
            <a:off x="2986200" y="5084640"/>
            <a:ext cx="718920" cy="468360"/>
          </a:xfrm>
          <a:prstGeom prst="rightArrow">
            <a:avLst>
              <a:gd name="adj1" fmla="val 50000"/>
              <a:gd name="adj2" fmla="val 49887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5"/>
          <p:cNvSpPr/>
          <p:nvPr/>
        </p:nvSpPr>
        <p:spPr>
          <a:xfrm>
            <a:off x="4356000" y="4437000"/>
            <a:ext cx="453708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ЛОВЕК  КАК СУЩЕСТВО   СОЦИАЛЬНОЕ  И РАЗУМНОЕ СВОЕ ПОВЕДЕНИЕ   ВЫБИРАЕТ САМ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43000" y="170028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62" name="Стрелка вправо 7"/>
          <p:cNvSpPr/>
          <p:nvPr/>
        </p:nvSpPr>
        <p:spPr>
          <a:xfrm>
            <a:off x="2994120" y="2157480"/>
            <a:ext cx="718920" cy="466560"/>
          </a:xfrm>
          <a:prstGeom prst="rightArrow">
            <a:avLst>
              <a:gd name="adj1" fmla="val 50000"/>
              <a:gd name="adj2" fmla="val 50079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кругленный прямоугольник 8"/>
          <p:cNvSpPr/>
          <p:nvPr/>
        </p:nvSpPr>
        <p:spPr>
          <a:xfrm>
            <a:off x="4067280" y="1744560"/>
            <a:ext cx="4537080" cy="1803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ВЕДЕНИЕ  ЖИВОТНЫХ  ПОДЧИНЯЕТСЯ   ЕСТЕСТВЕННЫМ ЗАКОНОМ  ОНИ ДЕЙСТВУЮТ ПО ПРОГРАММЕ И Н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ЕДАЮТ О ДОБРЕ И ЗЛ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0" y="1650960"/>
            <a:ext cx="9144000" cy="511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вал 9"/>
          <p:cNvSpPr/>
          <p:nvPr/>
        </p:nvSpPr>
        <p:spPr>
          <a:xfrm>
            <a:off x="324000" y="1779480"/>
            <a:ext cx="8569080" cy="4673880"/>
          </a:xfrm>
          <a:prstGeom prst="ellipse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ЧТО  ТАКОЕ НАШ ВЫБОР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ПОЧЕМУ МЫ ВЫБИРАЕМ   ИМЕННО  ТАК..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ПРОИСХОДИТ..КОГДА МЫ  ДЕЛАЕ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ПРАВИЛЬНЫЙ ВЫБОР…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  <p:sndAc>
      <p:stSnd>
        <p:snd r:embed="rId4" name="chimes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РМИНЫ И ОПРЕДЕ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vg3097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250920" y="1628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РАЛЬНЫЙ ВЫБОР,  СВОБОДА, ОТВЕТСТВЕННОСТЬ, МОРАЛЬНЫЕ ЗНАНИЯ, ПРАКТИЧЕСКОЕ   ПОВЕДЕНИЕ  ЛИЧНОСТИ.  ПОМЫСЛЫ И ПОСТУПКИ,   СВОБОДА ВЫБО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D:\файлы  папы\Мои документы\Обществознание\WallpapersMania-08.02.12\Фоны\2147233189480a3ff764f4a.gif"/>
          <p:cNvPicPr/>
          <p:nvPr/>
        </p:nvPicPr>
        <p:blipFill>
          <a:blip r:embed="rId1"/>
          <a:stretch/>
        </p:blipFill>
        <p:spPr>
          <a:xfrm>
            <a:off x="395280" y="2997360"/>
            <a:ext cx="259236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РАЛЬНЫЙ  ВЫБО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ижний колонтитул 2"/>
          <p:cNvSpPr/>
          <p:nvPr/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vg3097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92384912648ba4774afd00.gif"/>
          <p:cNvPicPr/>
          <p:nvPr/>
        </p:nvPicPr>
        <p:blipFill>
          <a:blip r:embed="rId1"/>
          <a:stretch/>
        </p:blipFill>
        <p:spPr>
          <a:xfrm>
            <a:off x="0" y="2349360"/>
            <a:ext cx="2057400" cy="1981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179280" y="15573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РАЛЬНЫЕ НОРМЫ   ДАЮТ НАМ  ОБРАЗЦЫ ПРАВИЛЬНОГО ПОВЕДЕНИЯ..НО  ВСЕГДА ЛИ  ИХ ЧЕЛОВЕК ВЫПОЛНЯЕТ..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трелка вправо 5"/>
          <p:cNvSpPr/>
          <p:nvPr/>
        </p:nvSpPr>
        <p:spPr>
          <a:xfrm>
            <a:off x="1882800" y="3195720"/>
            <a:ext cx="714240" cy="446040"/>
          </a:xfrm>
          <a:prstGeom prst="rightArrow">
            <a:avLst>
              <a:gd name="adj1" fmla="val 50000"/>
              <a:gd name="adj2" fmla="val 49892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132000" y="2349360"/>
            <a:ext cx="5761080" cy="27352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ЕЛОВЕК МОЖЕТ БЫТЬ ДОБРЫМ И ЗЛЫМ..ПОДЛЫМ И ЖЕСТКИМ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..  ЛЮДИ ВЕРУЮЩИЕ  ЗНАЮТ СЛОВО  «ГРЕХ»  ЭТО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ЛЮБОЕ ЗЛО  ПРОТИВ  МОРАЛИ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ТАК ПОЧЕМУ ЧЕЛОВЕК  В ОДНИХ СЛУЧАЯХ ПОСТУПАЕТ  ГРЕШНО, А В ДРУГИХ МОРАЛЬНО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2771640" y="2205000"/>
            <a:ext cx="6372360" cy="4319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Овал 8"/>
          <p:cNvSpPr/>
          <p:nvPr/>
        </p:nvSpPr>
        <p:spPr>
          <a:xfrm>
            <a:off x="2825640" y="2349360"/>
            <a:ext cx="2178000" cy="2232000"/>
          </a:xfrm>
          <a:prstGeom prst="ellipse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ОБОДА ВЫБО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6300720" y="2492280"/>
            <a:ext cx="2592360" cy="847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ОБОДА- ЭТО СОСТОЯНИЕ  ДУХ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6300720" y="3716280"/>
            <a:ext cx="2592360" cy="10810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СТОЯНИЕ ВЫБОРА – ТВОРЕНИЕ САМОГО СЕБ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трелка вправо 11"/>
          <p:cNvSpPr/>
          <p:nvPr/>
        </p:nvSpPr>
        <p:spPr>
          <a:xfrm>
            <a:off x="5219640" y="3340080"/>
            <a:ext cx="738360" cy="339840"/>
          </a:xfrm>
          <a:prstGeom prst="rightArrow">
            <a:avLst>
              <a:gd name="adj1" fmla="val 50000"/>
              <a:gd name="adj2" fmla="val 50213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2916360" y="5084640"/>
            <a:ext cx="5976720" cy="1224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РАЛЬНЫЙ ВЫБОР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 КОГДА ЧЕЛОВЕК  НЕ ТОЛЬКО ВЫБИРАЕТ  НО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ЕЙСТВУЕТ  В СООТВЕТСТВИИ   СО СВОИМ   ВЫБОР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0" y="1413000"/>
            <a:ext cx="9144000" cy="511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539640" y="1989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УДИ   ЧЕЛОВЕКА   НЕ ПО СЛОВАМ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A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 ЕГО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……………………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6084720" y="4365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ЕЛ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2" descr=""/>
          <p:cNvPicPr/>
          <p:nvPr/>
        </p:nvPicPr>
        <p:blipFill>
          <a:blip r:embed="rId5"/>
          <a:stretch/>
        </p:blipFill>
        <p:spPr>
          <a:xfrm>
            <a:off x="7812000" y="380880"/>
            <a:ext cx="1027080" cy="7048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6" name="chimes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1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05556E-006 -2.51677E-006 L 0.09722 -0.34814 E">
                                      <p:cBhvr>
                                        <p:cTn id="350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А  ЭТО  ОТВЕТСТВЕН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214200" y="2428920"/>
            <a:ext cx="2857680" cy="21430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СТУП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трелка вправо 3"/>
          <p:cNvSpPr/>
          <p:nvPr/>
        </p:nvSpPr>
        <p:spPr>
          <a:xfrm>
            <a:off x="3429000" y="32148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кругленный прямоугольник 4"/>
          <p:cNvSpPr/>
          <p:nvPr/>
        </p:nvSpPr>
        <p:spPr>
          <a:xfrm>
            <a:off x="5072040" y="1500120"/>
            <a:ext cx="3714840" cy="4643640"/>
          </a:xfrm>
          <a:custGeom>
            <a:avLst/>
            <a:gdLst>
              <a:gd name="textAreaLeft" fmla="*/ 181080 w 3714840"/>
              <a:gd name="textAreaRight" fmla="*/ 3533760 w 3714840"/>
              <a:gd name="textAreaTop" fmla="*/ 181080 h 4643640"/>
              <a:gd name="textAreaBottom" fmla="*/ 4462560 h 4643640"/>
            </a:gdLst>
            <a:ahLst/>
            <a:rect l="textAreaLeft" t="textAreaTop" r="textAreaRight" b="textAreaBottom"/>
            <a:pathLst>
              <a:path w="21600" h="27000">
                <a:moveTo>
                  <a:pt x="3600" y="0"/>
                </a:moveTo>
                <a:arcTo wR="3600" hR="3600" stAng="16200000" swAng="-5400000"/>
                <a:lnTo>
                  <a:pt x="0" y="23400"/>
                </a:lnTo>
                <a:arcTo wR="3600" hR="3600" stAng="10800000" swAng="-5400000"/>
                <a:lnTo>
                  <a:pt x="18000" y="2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 ПОСТУПКИ  ИМЕЮТ  ПОСЛЕДСТВ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ТЧА  О ДРОВОСЕ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ЫТЬ ОТВЕТСТВЕННЫМ – ЭТО ПРЕДВИДИТЬ  ПОСЛЕДСТВИЯ  НАШИХ ПОСТУПКОВ. СУЩЕСТВУЕТ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- МОРАЛЬНАЯ  ОТВЕТСТВЕННОСТЬ, ОТВЕТСТВЕННОСТЬ ПЕРЕД  СОБСТВЕННОЙ  СОВЕСТЬ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Прямоугольник 5"/>
          <p:cNvGrpSpPr/>
          <p:nvPr/>
        </p:nvGrpSpPr>
        <p:grpSpPr>
          <a:xfrm>
            <a:off x="-19080" y="1395360"/>
            <a:ext cx="9182160" cy="5291280"/>
            <a:chOff x="-19080" y="1395360"/>
            <a:chExt cx="9182160" cy="5291280"/>
          </a:xfrm>
        </p:grpSpPr>
        <p:pic>
          <p:nvPicPr>
            <p:cNvPr id="91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-19080" y="1395360"/>
              <a:ext cx="9182160" cy="52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0" y="1413000"/>
              <a:ext cx="9144000" cy="52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TextBox 6"/>
          <p:cNvSpPr/>
          <p:nvPr/>
        </p:nvSpPr>
        <p:spPr>
          <a:xfrm>
            <a:off x="324000" y="1628640"/>
            <a:ext cx="846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ВОБОДА   ЭТО ВОЗМОЖНОСТЬ ДЕЙСТВОВАТЬ ПО СВОЕМУ УСМОТРЕНИЮ..НО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О ПОЧЕМУ В НАРОДЕ ГОВОРЯТ  ТА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24000" y="345744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ДАЙ  СЕРДЦУ ВОЛЮ -  ЗАВЕДЕТ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 НЕВОЛ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2" descr=""/>
          <p:cNvPicPr/>
          <p:nvPr/>
        </p:nvPicPr>
        <p:blipFill>
          <a:blip r:embed="rId3"/>
          <a:stretch/>
        </p:blipFill>
        <p:spPr>
          <a:xfrm>
            <a:off x="7812000" y="380880"/>
            <a:ext cx="1027080" cy="7048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chimes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РАЛЬНЫЕ ЗНАНИЯ И ПРАКТИЧЕСКОЕ ПОВЕДЕНИЕ ЛИЧ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85840" y="1714680"/>
            <a:ext cx="84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ОТЛИЧИЕ ОТ ЗАКОНОВ     НАРУШЕНИЕ НОРМ МОРАЛИ  НЕ НЕСЕТ НАКАЗАНИЯ.  ЧТО ЖЕ МОЖЕТ  ОБЕСПЕЧИТЬ ИХ   ВЫПОЛН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214200" y="2786040"/>
            <a:ext cx="8643960" cy="9288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ЖЕТ  ПРЕВРАТИТЬ  НОРМЫ МОРАЛИ В ЗАКОНЫ.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285840" y="4000680"/>
            <a:ext cx="8572320" cy="12142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ЬШИНСТВО ВСЕГДА ПРАВО. МОЖЕТ  В ЭТОМ   ВЫХОД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285840" y="5500800"/>
            <a:ext cx="8572320" cy="88092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РУШЕНИЕ НОРМ МОРАЛИ СВЯЗАНО С ИМУЩЕСТВЕННЫМ НЕРАВЕНСТВО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0" y="1484280"/>
            <a:ext cx="9036000" cy="475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95280" y="171468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МОТРИМ  НА СТРАНИЦЕ  57 УЧЕБНОГО ПОСОБИЯ ДВА ФАКТА    И ПОПРОБУЕМ  СДЕЛАТЬ ВЫВОД: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АК  ПОСТУПАТЬ ЧЕЛОВЕКУ?    ОТ ЧЕГО  ЭТО ЗАВИСИТ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D:\файлы  папы\Мои документы\Обществознание\WallpapersMania-08.02.12\Фоны\2147233189480a3ff764f4a.gif"/>
          <p:cNvPicPr/>
          <p:nvPr/>
        </p:nvPicPr>
        <p:blipFill>
          <a:blip r:embed="rId2"/>
          <a:stretch/>
        </p:blipFill>
        <p:spPr>
          <a:xfrm>
            <a:off x="468360" y="3402000"/>
            <a:ext cx="2590920" cy="1800360"/>
          </a:xfrm>
          <a:prstGeom prst="rect">
            <a:avLst/>
          </a:prstGeom>
          <a:ln w="0">
            <a:noFill/>
          </a:ln>
        </p:spPr>
      </p:pic>
      <p:sp>
        <p:nvSpPr>
          <p:cNvPr id="104" name="Стрелка вправо 9"/>
          <p:cNvSpPr/>
          <p:nvPr/>
        </p:nvSpPr>
        <p:spPr>
          <a:xfrm>
            <a:off x="3203640" y="3801960"/>
            <a:ext cx="720720" cy="48600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ый прямоугольник 10"/>
          <p:cNvSpPr/>
          <p:nvPr/>
        </p:nvSpPr>
        <p:spPr>
          <a:xfrm>
            <a:off x="4500720" y="2914560"/>
            <a:ext cx="4357440" cy="2675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 СДЕЛАТЬ  ЭТО САМИ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2" descr=""/>
          <p:cNvPicPr/>
          <p:nvPr/>
        </p:nvPicPr>
        <p:blipFill>
          <a:blip r:embed="rId3"/>
          <a:stretch/>
        </p:blipFill>
        <p:spPr>
          <a:xfrm>
            <a:off x="7812000" y="380880"/>
            <a:ext cx="1027080" cy="7048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chimes.wav"/>
      </p:stSnd>
    </p:sndAc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1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ИТИЧЕСКИЙ  АНАЛИЗ  СОБСТВЕННЫХ  ПОМЫСЛОВ  И ПОСТУП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57120" y="1643040"/>
            <a:ext cx="878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ПОСМОТРИТЕ  СКОЛЬКО  ЧЕЛОВЕЧЕСТВО ПРИДУМАЛО  СПОСОБОВ  СОБЛЮДЕНИЯ  НРАВСТВЕННОСТИ: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СТВЕННОЕ МНЕНИЕ, СТРАХ ПЕРЕД  БОГ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кругленный прямоугольник 3"/>
          <p:cNvSpPr/>
          <p:nvPr/>
        </p:nvSpPr>
        <p:spPr>
          <a:xfrm>
            <a:off x="214200" y="3214800"/>
            <a:ext cx="3000600" cy="25002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АРАНТИИ СОБЛЮДЕНИЯ МОРАЛИ  В САМОМ ЧЕЛОВЕК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 СВОБОДЕ  ЕГО ВЫБ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трелка вправо 4"/>
          <p:cNvSpPr/>
          <p:nvPr/>
        </p:nvSpPr>
        <p:spPr>
          <a:xfrm>
            <a:off x="3429000" y="41432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4857840" y="2928960"/>
            <a:ext cx="4071960" cy="164304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БЛЕМА САМООЦЕНКИ И ОЦЕН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ЧЕЛОВЕК ЛИШЬ ТО, ЧТО ОН САМ ИЗ  СЕБЯ ДЕЛ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Прямоугольник 6"/>
          <p:cNvGrpSpPr/>
          <p:nvPr/>
        </p:nvGrpSpPr>
        <p:grpSpPr>
          <a:xfrm>
            <a:off x="4840200" y="4979880"/>
            <a:ext cx="4108680" cy="1560600"/>
            <a:chOff x="4840200" y="4979880"/>
            <a:chExt cx="4108680" cy="1560600"/>
          </a:xfrm>
        </p:grpSpPr>
        <p:pic>
          <p:nvPicPr>
            <p:cNvPr id="113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4840200" y="4979880"/>
              <a:ext cx="410868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857840" y="5000760"/>
              <a:ext cx="407196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БЫТЬ ИЛИ КАЗАТЬСЯ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ОТНОШЕНИЕ ОКРУЖАЮЩИХ ЗАВИСИТ ОТ НАШИХ ПОСТУПКОВ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Прямоугольник 7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8"/>
          <p:cNvSpPr/>
          <p:nvPr/>
        </p:nvSpPr>
        <p:spPr>
          <a:xfrm>
            <a:off x="320760" y="1700280"/>
            <a:ext cx="8502480" cy="12286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ЦЕСС МОРАЛЬНОГО СОВЕРШЕНСТВОВАНИЯ  ЯВЛЯЕТСЯ БЕСКОНЕЧ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357120" y="3214800"/>
            <a:ext cx="8429760" cy="14284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РАЛЬНОЕ СОВЕРШЕНСТВОВАНИЕ  ЦЕЛИКОМ ЗАВИСИТ ОТ ТЕБЯ, ОТ КОЛИЧЕСТВА ДОБРА  КОТОРОЕ ТЫ НЕСЕШЬ  ЛЮД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D:\Файлы папы\Мои  документы\Рисунки\blue_rose_anim.gif"/>
          <p:cNvPicPr/>
          <p:nvPr/>
        </p:nvPicPr>
        <p:blipFill>
          <a:blip r:embed="rId4"/>
          <a:stretch/>
        </p:blipFill>
        <p:spPr>
          <a:xfrm>
            <a:off x="3000240" y="4762440"/>
            <a:ext cx="3000600" cy="2000160"/>
          </a:xfrm>
          <a:prstGeom prst="rect">
            <a:avLst/>
          </a:prstGeom>
          <a:ln w="0">
            <a:noFill/>
          </a:ln>
        </p:spPr>
      </p:pic>
      <p:sp>
        <p:nvSpPr>
          <p:cNvPr id="119" name="Овал 11"/>
          <p:cNvSpPr/>
          <p:nvPr/>
        </p:nvSpPr>
        <p:spPr>
          <a:xfrm>
            <a:off x="0" y="1413000"/>
            <a:ext cx="8929800" cy="5349600"/>
          </a:xfrm>
          <a:prstGeom prst="ellipse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ТАК  МОЖЕМ ЛИ МЫ ОТВЕТИТЬ НА ВОПРОСЫ ПОСТАВЛЕННЫЕ В НАЧАЛЕ   УРО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1714680" y="4465800"/>
            <a:ext cx="617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ЧТО  ТАКОЕ НАШ ВЫБОР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ПОЧЕМУ МЫ ВЫБИРАЕМ   ИМЕННО  ТАК..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ПРОИСХОДИТ..КОГДА МЫ  ДЕЛАЕ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ПРАВИЛЬНЫЙ ВЫБОР…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2" descr=""/>
          <p:cNvPicPr/>
          <p:nvPr/>
        </p:nvPicPr>
        <p:blipFill>
          <a:blip r:embed="rId5"/>
          <a:stretch/>
        </p:blipFill>
        <p:spPr>
          <a:xfrm>
            <a:off x="7812000" y="380880"/>
            <a:ext cx="1027080" cy="7048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6" name="chimes.wav"/>
      </p:stSnd>
    </p:sndAc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ПРОСЫ И ЗА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428760" y="1643040"/>
            <a:ext cx="8286480" cy="777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ВЫ ПОНИМАЕТЕ  СЛОВА ХРИСТА О ТОМ, ЧТО НЕ ХЛЕБОМ ЕДИНЫМ  ЖИВ  ЧЕЛОВ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488880" y="2924280"/>
            <a:ext cx="821556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ДАЖЕ В ТОМ СЛУЧАЕ, ЕСЛИ Я НИЧЕГО НЕ ВЫБИ РАЮ, Я ТЕМ САМЫМ ВСЕ- ТАКИ ВЫБИР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528480" y="4221000"/>
            <a:ext cx="8215560" cy="79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РАЛЬ НАЧИНАЕТСЯ  ТАМ, ГДЕ КОНЧАЮТСЯ  РАЗГОВ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5"/>
          <p:cNvSpPr/>
          <p:nvPr/>
        </p:nvSpPr>
        <p:spPr>
          <a:xfrm>
            <a:off x="488880" y="5229360"/>
            <a:ext cx="8226360" cy="115236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ПРОСЫ  « В КЛАССЕ И ДОМА»  НА СТР  59  МОЖНО  ОТВЕЧАТЬ В ОН ЛАЙН  РЕЖИМЕ В  БЛОГЕ   «МИР И МЫ»  , ГДЕ БУДЕТ РАЗМЕЩЕНА   ФЛЕШ- ПРЕЗЕНТАЦИЯ   УРОКА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5:31:19Z</dcterms:created>
  <dc:creator>Евгений.</dc:creator>
  <dc:description/>
  <dc:language>en-US</dc:language>
  <cp:lastModifiedBy>kalimullin</cp:lastModifiedBy>
  <dcterms:modified xsi:type="dcterms:W3CDTF">2011-11-14T20:10:49Z</dcterms:modified>
  <cp:revision>24</cp:revision>
  <dc:subject/>
  <dc:title>Презентация PowerPoint</dc:title>
</cp:coreProperties>
</file>