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6FD3-0C8F-4600-AAED-552F082F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D883-62AB-4705-A446-229B440E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5FCE-FBAE-49CD-B1ED-E5E9B258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AEC5-10CD-4B38-8157-B70AB41A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F301-5C18-4EBA-9FB7-5F8C033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6AB3-B585-42FB-872E-6D568AB2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3E0F-C91C-498B-850B-757C1233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8427-7C0B-4CC1-92C0-9FAE63D2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B101-360C-46CF-B46A-23F6383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50CF-09A7-4884-9CA5-F05CBF2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14FB-4DC0-4D71-9E96-F70A328E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3F44-07D7-4313-9F2D-D65CDC8E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457D-C06F-4A2A-A31B-147290B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A5BB-96B4-4D86-923E-F4D1E56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18D6-2915-46BF-AE1B-F49268A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5253-833C-43DB-99F5-FADDD5A2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5F35-568C-462C-8FCA-916A5005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C9A2-E6AB-40E1-936E-E6E791AC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74F2-6C6A-44A5-9BFF-793F340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8EFC-5D64-4C1C-9379-2BE8AEB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408C-ED55-49AC-B5B0-CE9DCDB7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568C-9C7C-492F-A470-7E3D9A0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56DE-2599-403F-9727-7A55E2B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2E16-5D4F-4437-88E3-87DFDD3B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78A9-A68F-45BC-BA7E-901E213BFD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BBD-944B-4F05-988F-3CE1F0DADA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агические квадрат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724280"/>
            <a:ext cx="624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к исследовательско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:  ученик 10 класса Кирьяков Кирил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 Лонская Т.А., учитель мате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жем еще шесть дополнительных свойств приведенного н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стнадцатиклеточного магического квад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а чисел, расположенных по углам наше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ического квадрата, равна 34, то есть тому же числу, что и сумма чисел вдоль каждого ряда квадр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47242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65530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631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51814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87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059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56386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60958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267080"/>
            <a:ext cx="6750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ы чисел в каждом из маленьких квадратов (в 4 клетки), примыкающих к вершинам данного квадрата, и в таком же центральном квадрате тоже одинаковы и каждая из них равна 3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47242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65530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1814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4724280"/>
            <a:ext cx="0" cy="1828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56386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4320" y="6095880"/>
            <a:ext cx="1828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988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568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6484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63600" y="3505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5560" y="34322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-763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5000">
    <p:zoom dir="ou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42">
                                  <p:stCondLst>
                                    <p:cond delay="7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92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1.02706E-006 L -0.60833 -0.18876 E">
                                      <p:cBhvr>
                                        <p:cTn id="50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1.02706E-006 L -0.68333 -0.18876 E">
                                      <p:cBhvr>
                                        <p:cTn id="50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2.23456E-006 L -0.45833 -0.38862 E">
                                      <p:cBhvr>
                                        <p:cTn id="50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-3.33333E-006 -2.23456E-006 L -0.525 -0.38862 E">
                                      <p:cBhvr>
                                        <p:cTn id="507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9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9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210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3700"/>
                            </p:stCondLst>
                            <p:childTnLst>
                              <p:par>
                                <p:cTn id="546" nodeType="after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767"/>
                                      </p:to>
                                    </p:animClr>
                                    <p:set>
                                      <p:cBhvr>
                                        <p:cTn id="5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5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5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9000"/>
                                  </p:stCondLst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4700"/>
                            </p:stCondLst>
                            <p:childTnLst>
                              <p:par>
                                <p:cTn id="640" nodeType="after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65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6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жд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е квадрата есть пара рядом стоящих чисел, сумма котор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, и еще пара тоже рядом стоящих чисел, сумма котор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4724280"/>
          <a:ext cx="1828800" cy="18288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83059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6095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5638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4724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0" y="182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0" y="1752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2680" y="1828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4680" y="1752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191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йте-ка теперь сумму квадратов чисел отдельно в двух крайних строках и в двух средни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4680" y="2057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4680" y="2362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4680" y="2666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2680" y="21477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2680" y="243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268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320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0" y="243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0" y="20574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0" y="2362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0" y="2666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30240" y="17524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1880" y="1752480"/>
            <a:ext cx="131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lang="en-US" sz="8000" spc="-1" strike="noStrike">
                <a:solidFill>
                  <a:srgbClr val="0099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5045040"/>
            <a:ext cx="6095880" cy="822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75680" y="6157080"/>
            <a:ext cx="65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ак видите, получились попарно равные сум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400"/>
                            </p:stCondLst>
                            <p:childTnLst>
                              <p:par>
                                <p:cTn id="8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71666 -0.43303 E">
                                      <p:cBhvr>
                                        <p:cTn id="80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70833 -0.43303 E">
                                      <p:cBhvr>
                                        <p:cTn id="81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2400"/>
                            </p:stCondLst>
                            <p:childTnLst>
                              <p:par>
                                <p:cTn id="8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31666 -0.44413 E">
                                      <p:cBhvr>
                                        <p:cTn id="81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2706E-006 L -0.3 -0.44413 E">
                                      <p:cBhvr>
                                        <p:cTn id="81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400"/>
                            </p:stCondLst>
                            <p:childTnLst>
                              <p:par>
                                <p:cTn id="8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21666 -0.46634 E">
                                      <p:cBhvr>
                                        <p:cTn id="81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2 -0.46634 E">
                                      <p:cBhvr>
                                        <p:cTn id="82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81666 -0.45524 E">
                                      <p:cBhvr>
                                        <p:cTn id="82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2956E-006 L -0.80833 -0.45524 E">
                                      <p:cBhvr>
                                        <p:cTn id="82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8400"/>
                            </p:stCondLst>
                            <p:childTnLst>
                              <p:par>
                                <p:cTn id="8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21666 -0.48855 E">
                                      <p:cBhvr>
                                        <p:cTn id="82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2 -0.48855 E">
                                      <p:cBhvr>
                                        <p:cTn id="83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400"/>
                            </p:stCondLst>
                            <p:childTnLst>
                              <p:par>
                                <p:cTn id="8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81666 -0.47744 E">
                                      <p:cBhvr>
                                        <p:cTn id="833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3206E-006 L -0.80833 -0.47744 E">
                                      <p:cBhvr>
                                        <p:cTn id="83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2400"/>
                            </p:stCondLst>
                            <p:childTnLst>
                              <p:par>
                                <p:cTn id="8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71666 -0.49965 E">
                                      <p:cBhvr>
                                        <p:cTn id="83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70833 -0.49965 E">
                                      <p:cBhvr>
                                        <p:cTn id="840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4400"/>
                            </p:stCondLst>
                            <p:childTnLst>
                              <p:par>
                                <p:cTn id="8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31666 -0.51075 E">
                                      <p:cBhvr>
                                        <p:cTn id="84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3456E-006 L -0.3 -0.51075 E">
                                      <p:cBhvr>
                                        <p:cTn id="84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6400"/>
                            </p:stCondLst>
                            <p:childTnLst>
                              <p:par>
                                <p:cTn id="847" nodeType="afterEffect" fill="hold" presetClass="entr" presetID="3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8300"/>
                            </p:stCondLst>
                            <p:childTnLst>
                              <p:par>
                                <p:cTn id="860" nodeType="afterEffect" fill="hold" presetClass="entr" presetID="4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6" nodeType="afterEffect" fill="hold" presetClass="entr" presetID="49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210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0666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рудно убедиться, что аналогичным свойством обладают и столбцы чисел. Суммы квадратов чисел двух крайних столбцов равны между собой, и суммы квадратов чисел двух средних столбцов тоже одинако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80988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данный квадрат вписать еще один квадрат с вершинами в серединах сторон данного квадрата, получим то, что показано на рисунке а, выш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умма чисел, расположенных вдоль одной пары противоположных сторон вписанного квадрата, равна сумме чисел, расположенных вдоль другой пары противоположных его сторон, и каждая из этих сумм равна опять-таки числу 3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2+14+3+5 = 15+9+8+2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еще интереснее то, что равны между собой даже суммы квадратов и суммы кубов этих чисел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_Pic1" descr=""/>
          <p:cNvPicPr/>
          <p:nvPr/>
        </p:nvPicPr>
        <p:blipFill>
          <a:blip r:embed="rId1"/>
          <a:srcRect l="0" t="0" r="51069" b="0"/>
          <a:stretch/>
        </p:blipFill>
        <p:spPr>
          <a:xfrm>
            <a:off x="3809880" y="1955880"/>
            <a:ext cx="1752840" cy="1930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390760" y="6019920"/>
            <a:ext cx="4924440" cy="8157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42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200"/>
                            </p:stCondLst>
                            <p:childTnLst>
                              <p:par>
                                <p:cTn id="894" nodeType="afterEffect" fill="hold" presetClass="entr" presetID="29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5400"/>
                            </p:stCondLst>
                            <p:childTnLst>
                              <p:par>
                                <p:cTn id="900" nodeType="after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8300"/>
                            </p:stCondLst>
                            <p:childTnLst>
                              <p:par>
                                <p:cTn id="906" nodeType="afterEffect" fill="hold" presetClass="entr" presetID="42">
                                  <p:stCondLst>
                                    <p:cond delay="149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4200"/>
                            </p:stCondLst>
                            <p:childTnLst>
                              <p:par>
                                <p:cTn id="912" nodeType="after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7200"/>
                            </p:stCondLst>
                            <p:childTnLst>
                              <p:par>
                                <p:cTn id="918" nodeType="afterEffect" fill="hold" presetClass="entr" presetID="49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9907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ли все столбцы магического квадрата сделать строками, сохраняя их чередование, то есть - числа первого столбца в той же последовательности расположить в виде первой строки, числа второго столбца в виде второй строки и т.д., то квадрат останется магическим с теми же его свойствам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127400"/>
            <a:ext cx="9067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ы чисел вдоль строк и столбцов, конечно, не изменились, но суммы чисел вдоль диагоналей стали иными, не равными 34. Магический квадрат потерял часть своих основных свойств, стал «неполным» магическим квадратом (полумагическим квадрат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я обменивать местами строки и столбцы квадрата, вы будете получать все новые и новые магические и полумагические квадраты из 16 чис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4868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3424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19800" y="354960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354960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4868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3424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19800" y="307332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307332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4868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3424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19800" y="259704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259704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4868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3424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19800" y="2120760"/>
            <a:ext cx="51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5720" y="2120760"/>
            <a:ext cx="514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2120760"/>
            <a:ext cx="2057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25970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3073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35496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4025880"/>
            <a:ext cx="2057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2120760"/>
            <a:ext cx="0" cy="190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1980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3424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48680" y="212076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63120" y="2133720"/>
            <a:ext cx="0" cy="1904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057400"/>
            <a:ext cx="65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бмене местами отдельных строк или столбцов магического квадрата некоторые из вышеперечисленных его свойств могут исчезнуть, но могут и все сохраниться и даже появиться новые. Например, поменяем, местами первую и вторую строки данного квадрата, получим то, что показано на рисунке справ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2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940" nodeType="after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8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0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37900"/>
                            </p:stCondLst>
                            <p:childTnLst>
                              <p:par>
                                <p:cTn id="1149" nodeType="after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0.00312 0.06705 E">
                                      <p:cBhvr>
                                        <p:cTn id="115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0.00104 0.06705 E">
                                      <p:cBhvr>
                                        <p:cTn id="11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4.45087E-006 L -0.00104 0.06705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0.00277 L -0.00313 0.06983 E">
                                      <p:cBhvr>
                                        <p:cTn id="115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5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 0 L 0 -0.06659 E">
                                      <p:cBhvr>
                                        <p:cTn id="1164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43100"/>
                            </p:stCondLst>
                            <p:childTnLst>
                              <p:par>
                                <p:cTn id="1166" nodeType="after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72" nodeType="afterEffect" fill="hold" presetClass="entr" presetID="42">
                                  <p:stCondLst>
                                    <p:cond delay="188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самому составить магический квадр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76320" y="990720"/>
            <a:ext cx="9296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которое количество порядковых чисел, например, все целые числа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до 16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9, или от 1 до 25, или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 д., расположены в форме квадрата так, что суммы чисел вдоль каждой строки, каждого столбца и каждой диагонали квадрат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инаковы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такой квадрат, как было сказано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гическим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лш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м клеток (чисел) в каждом ряд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ого квадрата определяет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рядо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ий квадр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етьего поряд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в каждом ряду 3 клетки, магический квадр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твертого поряд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в каждом ряду 4 клетки и т. 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zoom dir="out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2800"/>
                            </p:stCondLst>
                            <p:childTnLst>
                              <p:par>
                                <p:cTn id="1187" nodeType="afterEffect" fill="hold" presetClass="entr" presetID="42">
                                  <p:stCondLst>
                                    <p:cond delay="3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вадраты нечетного поря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им, квадр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5 клетками и временно дополняем его до, симметричной ступенчатой фигу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ступеньками в одну клет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ученной фигуре располагаем по порядку косыми рядами сверху вниз - направо 25 целых чисел от 1до 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еперь каждое число, оказавшееся вне квад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ледует перенести вдоль того же ряда или столбца ровно на столько клеток от той клетки, которую оно занимает, каков порядок квадрата, в нашем примере - на пять. Так, в соответствии с этим правилом переносим эти чис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489096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1919160"/>
            <a:ext cx="608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4890960"/>
            <a:ext cx="61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0512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89096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2973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2240" y="429732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1295280"/>
            <a:ext cx="6109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429732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42973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10280" y="370368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0368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703680"/>
            <a:ext cx="6109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9600" y="370368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70368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311004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2240" y="311004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6111720"/>
            <a:ext cx="6109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1480" y="311004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0120" y="311004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251460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2240" y="5500800"/>
            <a:ext cx="608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91320" y="2514600"/>
            <a:ext cx="6109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550080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251460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251460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1100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7036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973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48909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48640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251460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224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0280" y="2514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251460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18148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1295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18148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6705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357720" y="4300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352320" y="3701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614720" y="4300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610040" y="3710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310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4886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3114720"/>
            <a:ext cx="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701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0120" y="3095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29600" y="3105000"/>
            <a:ext cx="0" cy="17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839080" y="369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14800" y="220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0120" y="2209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14800" y="5257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0">
    <p:zoom dir="out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9" nodeType="after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42">
                                  <p:stCondLst>
                                    <p:cond delay="9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3100"/>
                            </p:stCondLst>
                            <p:childTnLst>
                              <p:par>
                                <p:cTn id="1240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100"/>
                            </p:stCondLst>
                            <p:childTnLst>
                              <p:par>
                                <p:cTn id="132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7100"/>
                            </p:stCondLst>
                            <p:childTnLst>
                              <p:par>
                                <p:cTn id="1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8100"/>
                            </p:stCondLst>
                            <p:childTnLst>
                              <p:par>
                                <p:cTn id="1362" nodeType="afterEffect" fill="hold" presetClass="entr" presetID="27">
                                  <p:stCondLst>
                                    <p:cond delay="7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4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5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4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600"/>
                            </p:stCondLst>
                            <p:childTnLst>
                              <p:par>
                                <p:cTn id="1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0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1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4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6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7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4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6400"/>
                            </p:stCondLst>
                            <p:childTnLst>
                              <p:par>
                                <p:cTn id="1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2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3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4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6800"/>
                            </p:stCondLst>
                            <p:childTnLst>
                              <p:par>
                                <p:cTn id="1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8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9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0" dur="4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7200"/>
                            </p:stCondLst>
                            <p:childTnLst>
                              <p:par>
                                <p:cTn id="13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4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6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7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8" dur="4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8400"/>
                            </p:stCondLst>
                            <p:childTnLst>
                              <p:par>
                                <p:cTn id="1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2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3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4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4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940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4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4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0600"/>
                            </p:stCondLst>
                            <p:childTnLst>
                              <p:par>
                                <p:cTn id="1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6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7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8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31200"/>
                            </p:stCondLst>
                            <p:childTnLst>
                              <p:par>
                                <p:cTn id="1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2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3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4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31800"/>
                            </p:stCondLst>
                            <p:childTnLst>
                              <p:par>
                                <p:cTn id="1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8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9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0" dur="4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2400"/>
                            </p:stCondLst>
                            <p:childTnLst>
                              <p:par>
                                <p:cTn id="1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4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4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360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4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4200"/>
                            </p:stCondLst>
                            <p:childTnLst>
                              <p:par>
                                <p:cTn id="1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2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3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4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4800"/>
                            </p:stCondLst>
                            <p:childTnLst>
                              <p:par>
                                <p:cTn id="1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4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354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4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0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1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2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36600"/>
                            </p:stCondLst>
                            <p:childTnLst>
                              <p:par>
                                <p:cTn id="1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37200"/>
                            </p:stCondLst>
                            <p:childTnLst>
                              <p:par>
                                <p:cTn id="15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2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3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4" dur="4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7800"/>
                            </p:stCondLst>
                            <p:childTnLst>
                              <p:par>
                                <p:cTn id="1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8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9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0" dur="4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8400"/>
                            </p:stCondLst>
                            <p:childTnLst>
                              <p:par>
                                <p:cTn id="1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39400"/>
                            </p:stCondLst>
                            <p:childTnLst>
                              <p:par>
                                <p:cTn id="1518" nodeType="afterEffect" fill="hold" presetClass="path" presetID="42">
                                  <p:stCondLst>
                                    <p:cond delay="19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07407E-006 L 3.33333E-006 0.43449 E">
                                      <p:cBhvr>
                                        <p:cTn id="1519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60900"/>
                            </p:stCondLst>
                            <p:childTnLst>
                              <p:par>
                                <p:cTn id="152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1.85185E-006 L -3.33333E-006 0.43241 E">
                                      <p:cBhvr>
                                        <p:cTn id="152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62900"/>
                            </p:stCondLst>
                            <p:childTnLst>
                              <p:par>
                                <p:cTn id="1524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7.40741E-007 L -0.33334 7.40741E-007 E">
                                      <p:cBhvr>
                                        <p:cTn id="152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4900"/>
                            </p:stCondLst>
                            <p:childTnLst>
                              <p:par>
                                <p:cTn id="1527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-0.33333 -3.33333E-006 E">
                                      <p:cBhvr>
                                        <p:cTn id="1528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66900"/>
                            </p:stCondLst>
                            <p:childTnLst>
                              <p:par>
                                <p:cTn id="1530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2.59259E-006 L -0.33334 -0.00255 E">
                                      <p:cBhvr>
                                        <p:cTn id="1531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68900"/>
                            </p:stCondLst>
                            <p:childTnLst>
                              <p:par>
                                <p:cTn id="1533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7037E-007 L -3.33333E-006 -0.43426 E">
                                      <p:cBhvr>
                                        <p:cTn id="153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70900"/>
                            </p:stCondLst>
                            <p:childTnLst>
                              <p:par>
                                <p:cTn id="153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7.40741E-007 L 3.33333E-006 -0.43449 E">
                                      <p:cBhvr>
                                        <p:cTn id="1537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72900"/>
                            </p:stCondLst>
                            <p:childTnLst>
                              <p:par>
                                <p:cTn id="1539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022E-016 -3.7037E-007 L 1.11022E-016 -0.43426 E">
                                      <p:cBhvr>
                                        <p:cTn id="154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4900"/>
                            </p:stCondLst>
                            <p:childTnLst>
                              <p:par>
                                <p:cTn id="1542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2.59259E-006 L 0.33333 2.59259E-006 E">
                                      <p:cBhvr>
                                        <p:cTn id="1543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76900"/>
                            </p:stCondLst>
                            <p:childTnLst>
                              <p:par>
                                <p:cTn id="1545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33333E-006 L 0.3335 -3.33333E-006 E">
                                      <p:cBhvr>
                                        <p:cTn id="154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8900"/>
                            </p:stCondLst>
                            <p:childTnLst>
                              <p:par>
                                <p:cTn id="1548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7.40741E-007 L 0.33333 7.40741E-007 E">
                                      <p:cBhvr>
                                        <p:cTn id="1549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80900"/>
                            </p:stCondLst>
                            <p:childTnLst>
                              <p:par>
                                <p:cTn id="1551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022E-016 -4.81481E-006 L 1.11022E-016 0.4345 E">
                                      <p:cBhvr>
                                        <p:cTn id="1552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900"/>
                            </p:stCondLst>
                            <p:childTnLst>
                              <p:par>
                                <p:cTn id="1554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1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7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79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8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1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9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3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1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3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9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45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1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57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3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9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7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7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93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Как самому составить магический квадра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-76680" y="990720"/>
            <a:ext cx="5867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у получившегося квадрата обнаруживается и дополнительное свойство: все пары чисел, расположенные симметрично относительно центральной клетки, дают одинаковые сум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+25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9+7=18+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3+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+20=2+24=4+2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 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ие квадраты, обладающие таким свойством, 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мметр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05920" y="3443400"/>
            <a:ext cx="6094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97880" y="3443400"/>
            <a:ext cx="608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3443400"/>
            <a:ext cx="6112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342900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3443400"/>
            <a:ext cx="6098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2849400"/>
            <a:ext cx="609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97880" y="2849400"/>
            <a:ext cx="6080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284472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77120" y="2849400"/>
            <a:ext cx="6094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2849400"/>
            <a:ext cx="60984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05920" y="225576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97880" y="225576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225576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25576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225576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16621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7880" y="1662120"/>
            <a:ext cx="6080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1657440"/>
            <a:ext cx="6112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77120" y="1662120"/>
            <a:ext cx="6094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1662120"/>
            <a:ext cx="609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05920" y="106668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7880" y="1062000"/>
            <a:ext cx="6080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1066680"/>
            <a:ext cx="611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7120" y="1066680"/>
            <a:ext cx="6094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1066680"/>
            <a:ext cx="60984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106668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16621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2557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2849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3443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4038480"/>
            <a:ext cx="3048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7712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788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05920" y="10666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915400" y="1066680"/>
            <a:ext cx="0" cy="297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26280" y="4419720"/>
            <a:ext cx="224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=26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2000">
    <p:zoom dir="out"/>
  </p:transition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8" nodeType="afterEffect" fill="hold" presetClass="entr" presetID="4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5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6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9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3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1733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e77f"/>
                                      </p:to>
                                    </p:animClr>
                                    <p:set>
                                      <p:cBhvr>
                                        <p:cTn id="173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3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9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740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74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174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9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8d0de"/>
                                      </p:to>
                                    </p:animClr>
                                    <p:set>
                                      <p:cBhvr>
                                        <p:cTn id="1750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7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3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754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6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75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5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0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761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3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764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7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68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771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73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8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8300"/>
                            </p:stCondLst>
                            <p:childTnLst>
                              <p:par>
                                <p:cTn id="1780" nodeType="after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вадрат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атного четыр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-76320" y="9144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оставления какого-либо магического квадрата порядк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4, 8, 12, ...,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добна, например, такая простая 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стить числа в клетках заданного квадрата в порядке их возрастания (в натуральном порядк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делить по углам заданного квадрата четыре квадрата со сторонам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/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в центре один квадрат со сторон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/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яти выделенных квадратах обменять местами числа, расположенные симметрично относительно центра заданного квадрата; это значит, что в натуральном расположении чисел квадрат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твертог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надо поменять местам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6, 4 и 13, 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адраты, составленные по указанной схеме, будут всегда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гическими симметрическ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71840" y="588636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90640" y="588636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09800" y="588636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" y="588636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71840" y="5143680"/>
            <a:ext cx="780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90640" y="5143680"/>
            <a:ext cx="781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9800" y="5143680"/>
            <a:ext cx="780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5143680"/>
            <a:ext cx="7812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1840" y="440064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90640" y="440064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09800" y="440064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440064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71840" y="365760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90640" y="365760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09800" y="3657600"/>
            <a:ext cx="78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657600"/>
            <a:ext cx="781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36576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440064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143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90720" y="6629400"/>
            <a:ext cx="1600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419720"/>
            <a:ext cx="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90640" y="365760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4400640"/>
            <a:ext cx="0" cy="14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5867280"/>
            <a:ext cx="3124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90920" y="365724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90720" y="365724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6576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352680" y="36572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28600" y="36572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6576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" y="66294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66294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58669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28600" y="586692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5000">
    <p:zoom dir="out"/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0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5" nodeType="afterEffect" fill="hold" presetClass="entr" presetID="4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1" nodeType="afterEffect" fill="hold" presetClass="entr" presetID="4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8300"/>
                            </p:stCondLst>
                            <p:childTnLst>
                              <p:par>
                                <p:cTn id="1807" nodeType="after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08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809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e6"/>
                                      </p:to>
                                    </p:animClr>
                                    <p:set>
                                      <p:cBhvr>
                                        <p:cTn id="181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4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fe68"/>
                                      </p:to>
                                    </p:animClr>
                                    <p:set>
                                      <p:cBhvr>
                                        <p:cTn id="181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1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fc6a"/>
                                      </p:to>
                                    </p:animClr>
                                    <p:set>
                                      <p:cBhvr>
                                        <p:cTn id="181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0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1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2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mph" presetID="1" presetSubtype="2">
                                  <p:stCondLst>
                                    <p:cond delay="9700"/>
                                  </p:stCondLst>
                                  <p:childTnLst>
                                    <p:animClr clrSpc="rgb">
                                      <p:cBhvr>
                                        <p:cTn id="182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3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32" nodeType="after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3400"/>
                            </p:stCondLst>
                            <p:childTnLst>
                              <p:par>
                                <p:cTn id="1838" nodeType="after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938 -0.00972 L 0.25729 0.32361 E">
                                      <p:cBhvr>
                                        <p:cTn id="183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0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25729 -0.32361 L 1.66667E-006 -1.11022E-016 E">
                                      <p:cBhvr>
                                        <p:cTn id="1841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2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1.66667E-006 -1.11022E-016 L 0.25729 -0.32361 E">
                                      <p:cBhvr>
                                        <p:cTn id="1843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25729 0.32361 L 1.66667E-006 0 E">
                                      <p:cBhvr>
                                        <p:cTn id="184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6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8541 -0.1088 L 0.00313 0.00648 E">
                                      <p:cBhvr>
                                        <p:cTn id="1847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8" nodeType="withEffect" fill="hold" presetClass="path" presetID="49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138 -0.00694 L 0.08716 0.10811 E">
                                      <p:cBhvr>
                                        <p:cTn id="1849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0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0208 -0.00232 L 0.08646 -0.10648 E">
                                      <p:cBhvr>
                                        <p:cTn id="1851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2" nodeType="withEffect" fill="hold" presetClass="path" presetID="56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-0.08576 0.10811 L 0.00278 -0.00555 E">
                                      <p:cBhvr>
                                        <p:cTn id="1853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2900"/>
                            </p:stCondLst>
                            <p:childTnLst>
                              <p:par>
                                <p:cTn id="1855" nodeType="after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67080" y="1828800"/>
            <a:ext cx="3657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наиболее древних и наиболее совершенных видов кросс-сумм является так называемый магический (или волшебный)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ны магические квадраты впервые, по-видимому, китайцами, так как самое ранее упоминание о них встречается в китайской книге, написанной за 4000-5000 лет до нашей э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xit" presetID="25">
                                  <p:stCondLst>
                                    <p:cond delay="1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5">
                                  <p:stCondLst>
                                    <p:cond delay="1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ейший в мире магический квадрат представлен выше. Черными кружками  в этом квадрате изображены четные (женственные) числа, белыми – нечетные (мужественные)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ычной записи он не так эффект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6185" b="0"/>
          <a:stretch/>
        </p:blipFill>
        <p:spPr>
          <a:xfrm>
            <a:off x="2895480" y="1523880"/>
            <a:ext cx="3216240" cy="302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52880" y="1752480"/>
          <a:ext cx="2513520" cy="2513880"/>
        </p:xfrm>
        <a:graphic>
          <a:graphicData uri="http://schemas.openxmlformats.org/drawingml/2006/table">
            <a:tbl>
              <a:tblPr/>
              <a:tblGrid>
                <a:gridCol w="837720"/>
                <a:gridCol w="838080"/>
                <a:gridCol w="83772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1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ё же это великолепный образец кросс-сумм! Девять порядковых чисел размещены в девяти клетках квадрата так, что суммы чисел вдоль каждой строки, каждого столбца и каждой из двух диагоналей одинаковы (основное свойство магического квадр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поздние сведения о магических квадратах относящиеся уже к 1 веку, получены из Индии. Вот один из таких древнеиндийских памятников почти 2000-летней дав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715000" y="4038480"/>
          <a:ext cx="2743200" cy="27432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16 порядковых чисел размещены в шестнадцати клетках квадрата так, что выполняется основное свойство магического квад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530"/>
          <a:stretch/>
        </p:blipFill>
        <p:spPr>
          <a:xfrm>
            <a:off x="3886200" y="3532320"/>
            <a:ext cx="4876920" cy="31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е число магического квадрата участвует в двух суммах, а числа расположенные по диагоналям даже в трёх, и все эти суммы равны между соб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аром в ту далёкую эпоху суеверий индийцы, а следом за ними и арабы приписывали этим числовым сочетаниям таинственные и магические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 эта своеобразная мозаика чисел с её  постоянством сумм действительно придаёт квадрату «волшебную» силу произведения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агические квадраты вошли в искус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«Фаусте» Гете есть сцена приготовления колдуньей омолаживающего зел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, которыми колдунья сопровождает свои манипуляции, обычно воспринимаются читателями «Фауста» как тарабарщина, бессмыс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280" y="2666880"/>
          <a:ext cx="8991360" cy="4544640"/>
        </p:xfrm>
        <a:graphic>
          <a:graphicData uri="http://schemas.openxmlformats.org/drawingml/2006/table">
            <a:tbl>
              <a:tblPr/>
              <a:tblGrid>
                <a:gridCol w="4608720"/>
                <a:gridCol w="4382640"/>
              </a:tblGrid>
              <a:tr h="45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 must verstehen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 Eins mach’ Ze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Zwei lass geh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Drei mach’ glei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bist 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lier die Vi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 Fünf und Sech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sagt die Hex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h’ Sieben und Ach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 its’s vollbrach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Neun ist Ei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 Zehn ist kei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s ist das Hexen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nmal-Eins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единицы делаешь 10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ускаешь 2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также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ркиваешь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5 и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ешь 7 и 8 (и наоборо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 го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……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9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7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7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6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8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3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7" nodeType="afterEffect" fill="hold" presetClass="exit" presetID="7" presetSubtype="1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8" dur="7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6700"/>
                            </p:stCondLst>
                            <p:childTnLst>
                              <p:par>
                                <p:cTn id="172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7200"/>
                            </p:stCondLst>
                            <p:childTnLst>
                              <p:par>
                                <p:cTn id="177" nodeType="afterEffect" fill="hold" presetClass="exit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700"/>
                            </p:stCondLst>
                            <p:childTnLst>
                              <p:par>
                                <p:cTn id="182" nodeType="afterEffect" fill="hold" presetClass="exit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8200"/>
                            </p:stCondLst>
                            <p:childTnLst>
                              <p:par>
                                <p:cTn id="187" nodeType="after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8700"/>
                            </p:stCondLst>
                            <p:childTnLst>
                              <p:par>
                                <p:cTn id="192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-2.96091E-006 L -0.00365 -0.5244 E">
                                      <p:cBhvr>
                                        <p:cTn id="193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мог же Гете потерять чувство художественной меры и отдать абракадабре целых 13 строк поэтического тек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ые комментаторы и исследователи бесплодно тратили усилия на поиски с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, скрытого в этом тринадцатистишии: Очевидно, y них не возникала мысль попытаться воспроизвести на бумаге рекомендации колдун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1932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вайте это сделаем. построим квадрат из девяти ячеек и разместим в ячейках 9 первых натуральных чисел в порядке их следования. Выполним указания колдунь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делаешь 10 — 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ячейке заменяем ЧИСЛО 1 числом 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а 2 и 3 оставляем на своих местах, так как сказано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пускаешь 2, a также 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черкиваеш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— это значит заменяем нулем число 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яем 5 и 6 числами 7 и 8, а в ячейки, занятые числами 7 и 8, вписываем 5 и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27680" y="58611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6320" y="58611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58611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27680" y="51404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6320" y="514044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51404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2768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6320" y="44197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4419720"/>
            <a:ext cx="2133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514044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586116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6581880"/>
            <a:ext cx="2133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41972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6320" y="441972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7680" y="441972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41972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441972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514656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8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5" nodeType="afterEffect" fill="hold" presetClass="exit" presetID="37">
                                  <p:stCondLst>
                                    <p:cond delay="12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800"/>
                            </p:stCondLst>
                            <p:childTnLst>
                              <p:par>
                                <p:cTn id="222" nodeType="afterEffect" fill="hold" presetClass="exit" presetID="37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2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73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80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4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78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67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72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130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7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56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674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8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83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1000"/>
                            </p:stCondLst>
                            <p:childTnLst>
                              <p:par>
                                <p:cTn id="344" nodeType="after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5.55112E-017 4.56627E-006 L 0.075 -0.09994 E">
                                      <p:cBhvr>
                                        <p:cTn id="3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1.16586E-006 L 0.075 -0.09993 E">
                                      <p:cBhvr>
                                        <p:cTn id="34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9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2.22222E-006 3.28244E-006 L -0.07778 0.10895 E">
                                      <p:cBhvr>
                                        <p:cTn id="34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56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0.00278 0.00509 L -0.07778 0.10294 E">
                                      <p:cBhvr>
                                        <p:cTn id="35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0666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дунья говорит: «Квадрат готов», но тут она хитрит. Ей еще надо в последней ячейке квадрата заменить девятку числом 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еперь формирование «талисмана» окончено и последние три строки тринадцатистишия уже ничего не добавляют к пониманию смысла «заклинаний» колдуньи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ь получившегося квадрата состоит в том, что магическая константа (15) получается только при сложении чисел вдоль любой строки и любого столбца, но не вдоль диагонал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 с таким свойством чисел, занимающих его ячейки, принято называ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лумагическ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вращением начального квадрата в полумагический Гете символизировал процесс омoложeния Фау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69360" y="582624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9456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244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4664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94560" y="583236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69360" y="4384800"/>
            <a:ext cx="711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438480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6640" y="438480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46640" y="5105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46640" y="582624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46640" y="6546960"/>
            <a:ext cx="2133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46640" y="438480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0" y="438480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69360" y="4384800"/>
            <a:ext cx="0" cy="21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4384800"/>
            <a:ext cx="0" cy="216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46640" y="438480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46640" y="5105520"/>
            <a:ext cx="711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763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шельцы из Китая и И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38">
                                  <p:stCondLst>
                                    <p:cond delay="84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9400"/>
                            </p:stCondLst>
                            <p:childTnLst>
                              <p:par>
                                <p:cTn id="4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99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9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11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магического квадрата А.Дюр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Европу магические квадраты проникли лишь в начале XV века. A в начале XVI века один из них был увековечен выдающимся немецким художником, гравером и немного математиком А. Дюрером в его лучшей гравюре «Меланхолия» (1514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юрер воспроизвел на гравюре (в несколько измененном виде) тот самый магический квадрат, составленный из 16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934320" y="4724280"/>
          <a:ext cx="1828800" cy="18288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57200" y="426708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арование этого магического квадрата не только в постоянстве сумм, которое является лишь его основным свойством. Подобно тому, как в истинно художественн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едении находишь тем больше новых привлекательных сторон, чем больше в него вглядываешься, так и в этом произведении математического искусства таи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ло красивых свойств, помимо основ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0"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2">
                                  <p:stCondLst>
                                    <p:cond delay="16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82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0-03-27T15:25:12Z</dcterms:modified>
  <cp:revision>3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