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15027-7FFA-4B18-A298-E22DED42D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D74EC-5E62-41C8-B0BC-9F79E1BA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E5660-7D3F-406A-BE49-4B6D72CD2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33A5B-2C0D-4AFF-BB3B-BB1AAB871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EE4B-C7E7-4FF3-907B-4A0089E82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D137-95BB-4C69-8855-14A21140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9C5A-5DB8-4897-A30A-6C6AE889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7810-6ADA-4BE6-B2A5-F0C7A4FF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9F93-9619-4020-AFF9-8C0B90B4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7575-0594-4683-87D7-CEC46FE3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CB8D-4768-49AA-94C3-0C524DB3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BC8FB-1807-4987-B116-C04C10BE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8FFC-C03F-4B7B-8DD8-F87F0321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4573-8424-4281-90B9-62EFE62D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FBB0-8397-4CB6-9D2A-C3088A92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3FA7-FE78-402C-B5F7-2661BFC5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61E7-CF17-45BE-9588-3C2017A8E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ED095-B1C6-44A0-9CC7-CE0D3BA9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5141F-6BBB-40D3-A744-479CD279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06BD1-0B5C-4D57-A1D5-12185BCE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F4369-7657-4A74-B078-D7FEB9F8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E3D43-4D5D-4BCB-ACD8-B034102A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A3866-74A2-4563-9C3B-9FC9FD64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209C5-BEFA-497E-8D12-0E885305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B416-6C00-4B5B-8E9C-3D1E8F59CBA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FD63-C848-407D-B4B2-B97E94A4D3B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Магические квадраты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4724280"/>
            <a:ext cx="6248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зентация к исследовательской рабо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:  ученик 10 класса Кирьяков Кирил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водитель:  Лонская Т.А., учитель математ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28240" y="144756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кажем еще шесть дополнительных свойств приведенного на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естнадцатиклеточного магического квадра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мма чисел, расположенных по углам нашег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гического квадрата, равна 34, то есть тому же числу, что и сумма чисел вдоль каждого ряда квадра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4872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9152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3432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05920" y="5638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848720" y="5638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5638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34320" y="5638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0592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4872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3432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05920" y="4724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848720" y="4724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91520" y="4724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4724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34320" y="4724280"/>
            <a:ext cx="18288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34320" y="6553080"/>
            <a:ext cx="18288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934320" y="4724280"/>
            <a:ext cx="0" cy="1828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763120" y="4724280"/>
            <a:ext cx="0" cy="1828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34320" y="5181480"/>
            <a:ext cx="18288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91520" y="4724280"/>
            <a:ext cx="0" cy="1828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48720" y="4724280"/>
            <a:ext cx="0" cy="1828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05920" y="4724280"/>
            <a:ext cx="0" cy="1828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34320" y="5638680"/>
            <a:ext cx="18288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34320" y="6095880"/>
            <a:ext cx="18288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4267080"/>
            <a:ext cx="6750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ммы чисел в каждом из маленьких квадратов (в 4 клетки), примыкающих к вершинам данного квадрата, и в таком же центральном квадрате тоже одинаковы и каждая из них равна 3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0592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4872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9152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3432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05920" y="5638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8720" y="5638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391520" y="5638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34320" y="5638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0592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84872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9152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93432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05920" y="4724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848720" y="4724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91520" y="4724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34320" y="4724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4724280"/>
            <a:ext cx="18288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34320" y="6553080"/>
            <a:ext cx="18288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724280"/>
            <a:ext cx="0" cy="1828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763120" y="4724280"/>
            <a:ext cx="0" cy="1828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934320" y="5181480"/>
            <a:ext cx="18288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91520" y="4724280"/>
            <a:ext cx="0" cy="1828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848720" y="4724280"/>
            <a:ext cx="0" cy="1828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05920" y="4724280"/>
            <a:ext cx="0" cy="1828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34320" y="5638680"/>
            <a:ext cx="18288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34320" y="6095880"/>
            <a:ext cx="18288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934320" y="4724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05920" y="4724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3432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29880" y="35053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5680" y="35053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64840" y="35053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63600" y="35053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45560" y="34322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-76320"/>
            <a:ext cx="8458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Свойства магического квадрата А.Дюрер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5000">
    <p:zoom dir="out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42">
                                  <p:stCondLst>
                                    <p:cond delay="7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9200"/>
                            </p:stCondLst>
                            <p:childTnLst>
                              <p:par>
                                <p:cTn id="500" nodeType="afterEffect" fill="hold" presetClass="path" presetID="0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-3.33333E-006 -1.02706E-006 L -0.60833 -0.18876 E">
                                      <p:cBhvr>
                                        <p:cTn id="501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0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-3.33333E-006 -1.02706E-006 L -0.68333 -0.18876 E">
                                      <p:cBhvr>
                                        <p:cTn id="503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4" nodeType="withEffect" fill="hold" presetClass="path" presetID="0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-3.33333E-006 -2.23456E-006 L -0.45833 -0.38862 E">
                                      <p:cBhvr>
                                        <p:cTn id="505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6" nodeType="withEffect" fill="hold" presetClass="path" presetID="0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-3.33333E-006 -2.23456E-006 L -0.525 -0.38862 E">
                                      <p:cBhvr>
                                        <p:cTn id="507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49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9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9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9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9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9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9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49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1000"/>
                            </p:stCondLst>
                            <p:childTnLst>
                              <p:par>
                                <p:cTn id="53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2100"/>
                            </p:stCondLst>
                            <p:childTnLst>
                              <p:par>
                                <p:cTn id="540" nodeType="afterEffect" fill="hold" presetClass="entr" presetID="42">
                                  <p:stCondLst>
                                    <p:cond delay="106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3700"/>
                            </p:stCondLst>
                            <p:childTnLst>
                              <p:par>
                                <p:cTn id="546" nodeType="after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4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767"/>
                                      </p:to>
                                    </p:animClr>
                                    <p:set>
                                      <p:cBhvr>
                                        <p:cTn id="54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5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767"/>
                                      </p:to>
                                    </p:animClr>
                                    <p:set>
                                      <p:cBhvr>
                                        <p:cTn id="55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5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767"/>
                                      </p:to>
                                    </p:animClr>
                                    <p:set>
                                      <p:cBhvr>
                                        <p:cTn id="55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5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767"/>
                                      </p:to>
                                    </p:animClr>
                                    <p:set>
                                      <p:cBhvr>
                                        <p:cTn id="55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5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767"/>
                                      </p:to>
                                    </p:animClr>
                                    <p:set>
                                      <p:cBhvr>
                                        <p:cTn id="56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6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767"/>
                                      </p:to>
                                    </p:animClr>
                                    <p:set>
                                      <p:cBhvr>
                                        <p:cTn id="56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6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767"/>
                                      </p:to>
                                    </p:animClr>
                                    <p:set>
                                      <p:cBhvr>
                                        <p:cTn id="56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6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767"/>
                                      </p:to>
                                    </p:animClr>
                                    <p:set>
                                      <p:cBhvr>
                                        <p:cTn id="56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7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fe68"/>
                                      </p:to>
                                    </p:animClr>
                                    <p:set>
                                      <p:cBhvr>
                                        <p:cTn id="57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7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fe68"/>
                                      </p:to>
                                    </p:animClr>
                                    <p:set>
                                      <p:cBhvr>
                                        <p:cTn id="57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7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fe68"/>
                                      </p:to>
                                    </p:animClr>
                                    <p:set>
                                      <p:cBhvr>
                                        <p:cTn id="57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8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fe68"/>
                                      </p:to>
                                    </p:animClr>
                                    <p:set>
                                      <p:cBhvr>
                                        <p:cTn id="58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8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fe68"/>
                                      </p:to>
                                    </p:animClr>
                                    <p:set>
                                      <p:cBhvr>
                                        <p:cTn id="58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8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fe68"/>
                                      </p:to>
                                    </p:animClr>
                                    <p:set>
                                      <p:cBhvr>
                                        <p:cTn id="58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8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fe68"/>
                                      </p:to>
                                    </p:animClr>
                                    <p:set>
                                      <p:cBhvr>
                                        <p:cTn id="59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9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fe68"/>
                                      </p:to>
                                    </p:animClr>
                                    <p:set>
                                      <p:cBhvr>
                                        <p:cTn id="59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9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59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9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59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60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60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60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60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60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608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61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61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61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61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61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e77f"/>
                                      </p:to>
                                    </p:animClr>
                                    <p:set>
                                      <p:cBhvr>
                                        <p:cTn id="61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61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e77f"/>
                                      </p:to>
                                    </p:animClr>
                                    <p:set>
                                      <p:cBhvr>
                                        <p:cTn id="62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62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e77f"/>
                                      </p:to>
                                    </p:animClr>
                                    <p:set>
                                      <p:cBhvr>
                                        <p:cTn id="62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62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e77f"/>
                                      </p:to>
                                    </p:animClr>
                                    <p:set>
                                      <p:cBhvr>
                                        <p:cTn id="62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62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e77f"/>
                                      </p:to>
                                    </p:animClr>
                                    <p:set>
                                      <p:cBhvr>
                                        <p:cTn id="62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63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e77f"/>
                                      </p:to>
                                    </p:animClr>
                                    <p:set>
                                      <p:cBhvr>
                                        <p:cTn id="63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63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e77f"/>
                                      </p:to>
                                    </p:animClr>
                                    <p:set>
                                      <p:cBhvr>
                                        <p:cTn id="63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63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e77f"/>
                                      </p:to>
                                    </p:animClr>
                                    <p:set>
                                      <p:cBhvr>
                                        <p:cTn id="63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44700"/>
                            </p:stCondLst>
                            <p:childTnLst>
                              <p:par>
                                <p:cTn id="640" nodeType="after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64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8d0de"/>
                                      </p:to>
                                    </p:animClr>
                                    <p:set>
                                      <p:cBhvr>
                                        <p:cTn id="64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64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8d0de"/>
                                      </p:to>
                                    </p:animClr>
                                    <p:set>
                                      <p:cBhvr>
                                        <p:cTn id="64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64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8d0de"/>
                                      </p:to>
                                    </p:animClr>
                                    <p:set>
                                      <p:cBhvr>
                                        <p:cTn id="64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65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8d0de"/>
                                      </p:to>
                                    </p:animClr>
                                    <p:set>
                                      <p:cBhvr>
                                        <p:cTn id="65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ждо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оке квадрата есть пара рядом стоящих чисел, сумма которых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5, и еще пара тоже рядом стоящих чисел, сумма которых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934320" y="4724280"/>
          <a:ext cx="1828800" cy="182880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"/>
          <p:cNvSpPr/>
          <p:nvPr/>
        </p:nvSpPr>
        <p:spPr>
          <a:xfrm>
            <a:off x="830592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4872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39152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3432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05920" y="5638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848720" y="5638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91520" y="5638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934320" y="5638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0592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4872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152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93432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05920" y="4724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48720" y="4724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91520" y="4724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34320" y="4724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3200" y="18288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0" y="1752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72680" y="18288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44680" y="1752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41911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читайте-ка теперь сумму квадратов чисел отдельно в двух крайних строках и в двух средни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44680" y="20574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44680" y="23623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44680" y="26668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72680" y="21477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72680" y="2438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372680" y="2743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3200" y="2133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3200" y="2438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3200" y="2743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0" y="20574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0" y="23623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0" y="26668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30240" y="175248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01880" y="1752480"/>
            <a:ext cx="1311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ff"/>
                </a:solidFill>
                <a:latin typeface="Arial"/>
              </a:rPr>
              <a:t>1</a:t>
            </a:r>
            <a:r>
              <a:rPr b="1" lang="en-US" sz="8000" spc="-1" strike="noStrike">
                <a:solidFill>
                  <a:srgbClr val="0099ff"/>
                </a:solidFill>
                <a:latin typeface="Arial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33520" y="5045040"/>
            <a:ext cx="6095880" cy="8222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75680" y="6157080"/>
            <a:ext cx="65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Как видите, получились попарно равные суммы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3520" y="-763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Свойства магического квадрата А.Дюрер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400"/>
                            </p:stCondLst>
                            <p:childTnLst>
                              <p:par>
                                <p:cTn id="8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02706E-006 L -0.71666 -0.43303 E">
                                      <p:cBhvr>
                                        <p:cTn id="808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02706E-006 L -0.70833 -0.43303 E">
                                      <p:cBhvr>
                                        <p:cTn id="810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2400"/>
                            </p:stCondLst>
                            <p:childTnLst>
                              <p:par>
                                <p:cTn id="8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02706E-006 L -0.31666 -0.44413 E">
                                      <p:cBhvr>
                                        <p:cTn id="813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02706E-006 L -0.3 -0.44413 E">
                                      <p:cBhvr>
                                        <p:cTn id="815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4400"/>
                            </p:stCondLst>
                            <p:childTnLst>
                              <p:par>
                                <p:cTn id="8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42956E-006 L -0.21666 -0.46634 E">
                                      <p:cBhvr>
                                        <p:cTn id="818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42956E-006 L -0.2 -0.46634 E">
                                      <p:cBhvr>
                                        <p:cTn id="820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6400"/>
                            </p:stCondLst>
                            <p:childTnLst>
                              <p:par>
                                <p:cTn id="8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42956E-006 L -0.81666 -0.45524 E">
                                      <p:cBhvr>
                                        <p:cTn id="823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42956E-006 L -0.80833 -0.45524 E">
                                      <p:cBhvr>
                                        <p:cTn id="825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8400"/>
                            </p:stCondLst>
                            <p:childTnLst>
                              <p:par>
                                <p:cTn id="8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83206E-006 L -0.21666 -0.48855 E">
                                      <p:cBhvr>
                                        <p:cTn id="828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83206E-006 L -0.2 -0.48855 E">
                                      <p:cBhvr>
                                        <p:cTn id="830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20400"/>
                            </p:stCondLst>
                            <p:childTnLst>
                              <p:par>
                                <p:cTn id="8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83206E-006 L -0.81666 -0.47744 E">
                                      <p:cBhvr>
                                        <p:cTn id="833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83206E-006 L -0.80833 -0.47744 E">
                                      <p:cBhvr>
                                        <p:cTn id="835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2400"/>
                            </p:stCondLst>
                            <p:childTnLst>
                              <p:par>
                                <p:cTn id="8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3456E-006 L -0.71666 -0.49965 E">
                                      <p:cBhvr>
                                        <p:cTn id="838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3456E-006 L -0.70833 -0.49965 E">
                                      <p:cBhvr>
                                        <p:cTn id="840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4400"/>
                            </p:stCondLst>
                            <p:childTnLst>
                              <p:par>
                                <p:cTn id="8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3456E-006 L -0.31666 -0.51075 E">
                                      <p:cBhvr>
                                        <p:cTn id="843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3456E-006 L -0.3 -0.51075 E">
                                      <p:cBhvr>
                                        <p:cTn id="845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26400"/>
                            </p:stCondLst>
                            <p:childTnLst>
                              <p:par>
                                <p:cTn id="847" nodeType="afterEffect" fill="hold" presetClass="entr" presetID="3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3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28300"/>
                            </p:stCondLst>
                            <p:childTnLst>
                              <p:par>
                                <p:cTn id="860" nodeType="afterEffect" fill="hold" presetClass="entr" presetID="42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35000"/>
                            </p:stCondLst>
                            <p:childTnLst>
                              <p:par>
                                <p:cTn id="866" nodeType="afterEffect" fill="hold" presetClass="entr" presetID="49">
                                  <p:stCondLst>
                                    <p:cond delay="66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42100"/>
                            </p:stCondLst>
                            <p:childTnLst>
                              <p:par>
                                <p:cTn id="873" nodeType="afterEffect" fill="hold" presetClass="entr" presetID="29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1066680"/>
            <a:ext cx="9144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рудно убедиться, что аналогичным свойством обладают и столбцы чисел. Суммы квадратов чисел двух крайних столбцов равны между собой, и суммы квадратов чисел двух средних столбцов тоже одинаков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809880"/>
            <a:ext cx="91440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 данный квадрат вписать еще один квадрат с вершинами в серединах сторон данного квадрата, получим то, что показано на рисунке а, выш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сумма чисел, расположенных вдоль одной пары противоположных сторон вписанного квадрата, равна сумме чисел, расположенных вдоль другой пары противоположных его сторон, и каждая из этих сумм равна опять-таки числу 3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2+14+3+5 = 15+9+8+2 = 3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еще интереснее то, что равны между собой даже суммы квадратов и суммы кубов этих чисел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_Pic1" descr=""/>
          <p:cNvPicPr/>
          <p:nvPr/>
        </p:nvPicPr>
        <p:blipFill>
          <a:blip r:embed="rId1"/>
          <a:srcRect l="0" t="0" r="51069" b="0"/>
          <a:stretch/>
        </p:blipFill>
        <p:spPr>
          <a:xfrm>
            <a:off x="3809880" y="1955880"/>
            <a:ext cx="1752840" cy="19303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2390760" y="6019920"/>
            <a:ext cx="4924440" cy="81576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520" y="-7632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Свойства магического квадрата А.Дюрер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42">
                                  <p:stCondLst>
                                    <p:cond delay="132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5200"/>
                            </p:stCondLst>
                            <p:childTnLst>
                              <p:par>
                                <p:cTn id="894" nodeType="afterEffect" fill="hold" presetClass="entr" presetID="29">
                                  <p:stCondLst>
                                    <p:cond delay="92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25400"/>
                            </p:stCondLst>
                            <p:childTnLst>
                              <p:par>
                                <p:cTn id="900" nodeType="afterEffect" fill="hold" presetClass="entr" presetID="42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8300"/>
                            </p:stCondLst>
                            <p:childTnLst>
                              <p:par>
                                <p:cTn id="906" nodeType="afterEffect" fill="hold" presetClass="entr" presetID="42">
                                  <p:stCondLst>
                                    <p:cond delay="149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44200"/>
                            </p:stCondLst>
                            <p:childTnLst>
                              <p:par>
                                <p:cTn id="912" nodeType="afterEffect" fill="hold" presetClass="entr" presetID="42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57200"/>
                            </p:stCondLst>
                            <p:childTnLst>
                              <p:par>
                                <p:cTn id="918" nodeType="afterEffect" fill="hold" presetClass="entr" presetID="49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99072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Если все столбцы магического квадрата сделать строками, сохраняя их чередование, то есть - числа первого столбца в той же последовательности расположить в виде первой строки, числа второго столбца в виде второй строки и т.д., то квадрат останется магическим с теми же его свойствами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4127400"/>
            <a:ext cx="9067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ммы чисел вдоль строк и столбцов, конечно, не изменились, но суммы чисел вдоль диагоналей стали иными, не равными 34. Магический квадрат потерял часть своих основных свойств, стал «неполным» магическим квадратом (полумагическим квадратом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олжая обменивать местами строки и столбцы квадрата, вы будете получать все новые и новые магические и полумагические квадраты из 16 чисе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248680" y="354960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734240" y="354960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19800" y="354960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705720" y="3549600"/>
            <a:ext cx="514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248680" y="307332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734240" y="307332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19800" y="307332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05720" y="3073320"/>
            <a:ext cx="514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248680" y="259704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734240" y="259704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219800" y="259704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705720" y="2597040"/>
            <a:ext cx="514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48680" y="212076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734240" y="212076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219800" y="212076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705720" y="2120760"/>
            <a:ext cx="514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2120760"/>
            <a:ext cx="20574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705720" y="259704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705720" y="30733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705720" y="35496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705720" y="4025880"/>
            <a:ext cx="20574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05720" y="2120760"/>
            <a:ext cx="0" cy="1905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219800" y="212076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34240" y="212076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248680" y="212076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763120" y="2133720"/>
            <a:ext cx="0" cy="19047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2057400"/>
            <a:ext cx="655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обмене местами отдельных строк или столбцов магического квадрата некоторые из вышеперечисленных его свойств могут исчезнуть, но могут и все сохраниться и даже появиться новые. Например, поменяем, местами первую и вторую строки данного квадрата, получим то, что показано на рисунке справ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-7632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Свойства магического квадрата А.Дюрер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0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1000"/>
                            </p:stCondLst>
                            <p:childTnLst>
                              <p:par>
                                <p:cTn id="934" nodeType="afterEffect" fill="hold" presetClass="entr" presetID="42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8500"/>
                            </p:stCondLst>
                            <p:childTnLst>
                              <p:par>
                                <p:cTn id="940" nodeType="after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8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8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8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8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8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8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3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8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8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8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8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8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8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8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8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8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8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8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8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8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8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8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8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8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8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8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8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8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8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8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8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8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8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8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8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8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8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8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5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8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8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8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9" dur="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8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7" dur="8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8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8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8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8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37900"/>
                            </p:stCondLst>
                            <p:childTnLst>
                              <p:par>
                                <p:cTn id="1149" nodeType="afterEffect" fill="hold" presetClass="path" presetID="42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1.66667E-006 4.45087E-006 L 0.00312 0.06705 E">
                                      <p:cBhvr>
                                        <p:cTn id="1150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1" nodeType="withEffect" fill="hold" presetClass="path" presetID="42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1.66667E-006 4.45087E-006 L 0.00104 0.06705 E">
                                      <p:cBhvr>
                                        <p:cTn id="1152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3" nodeType="withEffect" fill="hold" presetClass="path" presetID="42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1.66667E-006 4.45087E-006 L -0.00104 0.06705 E">
                                      <p:cBhvr>
                                        <p:cTn id="1154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5" nodeType="withEffect" fill="hold" presetClass="path" presetID="42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1.66667E-006 0.00277 L -0.00313 0.06983 E">
                                      <p:cBhvr>
                                        <p:cTn id="1156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7" nodeType="withEffect" fill="hold" presetClass="path" presetID="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0 0 L 0 -0.06659 E">
                                      <p:cBhvr>
                                        <p:cTn id="1158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9" nodeType="withEffect" fill="hold" presetClass="path" presetID="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0 0 L 0 -0.06659 E">
                                      <p:cBhvr>
                                        <p:cTn id="1160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1" nodeType="withEffect" fill="hold" presetClass="path" presetID="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0 0 L 0 -0.06659 E">
                                      <p:cBhvr>
                                        <p:cTn id="1162" dur="2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3" nodeType="withEffect" fill="hold" presetClass="path" presetID="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0 0 L 0 -0.06659 E">
                                      <p:cBhvr>
                                        <p:cTn id="1164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43100"/>
                            </p:stCondLst>
                            <p:childTnLst>
                              <p:par>
                                <p:cTn id="1166" nodeType="afterEffect" fill="hold" presetClass="entr" presetID="42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46000"/>
                            </p:stCondLst>
                            <p:childTnLst>
                              <p:par>
                                <p:cTn id="1172" nodeType="afterEffect" fill="hold" presetClass="entr" presetID="42">
                                  <p:stCondLst>
                                    <p:cond delay="188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1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Как самому составить магический квадра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-76320" y="990720"/>
            <a:ext cx="92966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некоторое количество порядковых чисел, например, все целые числа о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 до 16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о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9, или от 1 до 25, или о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т д., расположены в форме квадрата так, что суммы чисел вдоль каждой строки, каждого столбца и каждой диагонали квадрата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динаковы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такой квадрат, как было сказано, называетс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агическим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лшеб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ом клеток (чисел) в каждом ряду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гического квадрата определяет его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рядок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гический квадра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ретьего поряд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ет в каждом ряду 3 клетки, магический квадра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етвертого поряд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ет в каждом ряду 4 клетки и т. 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5000">
    <p:zoom dir="out"/>
  </p:transition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0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afterEffect" fill="hold" presetClass="entr" presetID="4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2800"/>
                            </p:stCondLst>
                            <p:childTnLst>
                              <p:par>
                                <p:cTn id="1187" nodeType="afterEffect" fill="hold" presetClass="entr" presetID="42">
                                  <p:stCondLst>
                                    <p:cond delay="3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9" dur="1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вадраты нечетного поряд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-76680" y="1066320"/>
            <a:ext cx="3429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им, квадра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25 клетками и временно дополняем его до, симметричной ступенчатой фигу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 ступеньками в одну клет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лученной фигуре располагаем по порядку косыми рядами сверху вниз - направо 25 целых чисел от 1до 2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теперь каждое число, оказавшееся вне квадра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ледует перенести вдоль того же ряда или столбца ровно на столько клеток от той клетки, которую оно занимает, каков порядок квадрата, в нашем примере - на пять. Так, в соответствии с этим правилом переносим эти числ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010280" y="4890960"/>
            <a:ext cx="60984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1919160"/>
            <a:ext cx="60804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91320" y="4890960"/>
            <a:ext cx="6109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1905120"/>
            <a:ext cx="60984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0" y="4890960"/>
            <a:ext cx="6094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62520" y="4297320"/>
            <a:ext cx="6094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402240" y="4297320"/>
            <a:ext cx="6080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91320" y="1295280"/>
            <a:ext cx="61092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81480" y="4297320"/>
            <a:ext cx="6098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20120" y="4297320"/>
            <a:ext cx="6094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010280" y="3703680"/>
            <a:ext cx="6098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52680" y="3703680"/>
            <a:ext cx="6080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91320" y="3703680"/>
            <a:ext cx="61092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229600" y="3703680"/>
            <a:ext cx="6094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3703680"/>
            <a:ext cx="6094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62520" y="3110040"/>
            <a:ext cx="6094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2240" y="3110040"/>
            <a:ext cx="6080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91320" y="6111720"/>
            <a:ext cx="61092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81480" y="3110040"/>
            <a:ext cx="6098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20120" y="3110040"/>
            <a:ext cx="6094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010280" y="2514600"/>
            <a:ext cx="60984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402240" y="5500800"/>
            <a:ext cx="60804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791320" y="2514600"/>
            <a:ext cx="6109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81480" y="5500800"/>
            <a:ext cx="60984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0" y="2514600"/>
            <a:ext cx="6094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0" y="2514600"/>
            <a:ext cx="3048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0" y="311004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0" y="370368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0" y="429732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0" y="489096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0" y="5486400"/>
            <a:ext cx="3048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2514600"/>
            <a:ext cx="0" cy="297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81480" y="251460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91320" y="251460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402240" y="251460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010280" y="251460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2514600"/>
            <a:ext cx="0" cy="297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010280" y="1905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181480" y="1905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5181480" y="1905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91320" y="1295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400800" y="1295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91320" y="1295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010280" y="5486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81480" y="5486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518148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791320" y="5486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00800" y="5486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91320" y="6705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357720" y="43005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352320" y="3701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7614720" y="43005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7610040" y="37101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3105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962520" y="4886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3114720"/>
            <a:ext cx="0" cy="176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52680" y="3701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620120" y="30956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2012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229600" y="3105000"/>
            <a:ext cx="0" cy="176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839080" y="3699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114800" y="2209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620120" y="2209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543800" y="5257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114800" y="5257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90000">
    <p:zoom dir="out"/>
  </p:transition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0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500"/>
                            </p:stCondLst>
                            <p:childTnLst>
                              <p:par>
                                <p:cTn id="12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9" nodeType="afterEffect" fill="hold" presetClass="entr" presetID="42">
                                  <p:stCondLst>
                                    <p:cond delay="96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2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42">
                                  <p:stCondLst>
                                    <p:cond delay="96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7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42">
                                  <p:stCondLst>
                                    <p:cond delay="96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2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42">
                                  <p:stCondLst>
                                    <p:cond delay="96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7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42">
                                  <p:stCondLst>
                                    <p:cond delay="96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42">
                                  <p:stCondLst>
                                    <p:cond delay="96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13100"/>
                            </p:stCondLst>
                            <p:childTnLst>
                              <p:par>
                                <p:cTn id="1240" nodeType="after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2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8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8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2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0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2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7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3" dur="2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4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0" dur="2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1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2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2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5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2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2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8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8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2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2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3" dur="8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8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2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0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15100"/>
                            </p:stCondLst>
                            <p:childTnLst>
                              <p:par>
                                <p:cTn id="1325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7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8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8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3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8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3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17100"/>
                            </p:stCondLst>
                            <p:childTnLst>
                              <p:par>
                                <p:cTn id="13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1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18100"/>
                            </p:stCondLst>
                            <p:childTnLst>
                              <p:par>
                                <p:cTn id="1362" nodeType="afterEffect" fill="hold" presetClass="entr" presetID="27">
                                  <p:stCondLst>
                                    <p:cond delay="71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4" dur="4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5" dur="4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6" dur="4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25600"/>
                            </p:stCondLst>
                            <p:childTnLst>
                              <p:par>
                                <p:cTn id="13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0" dur="4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1" dur="4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2" dur="4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26000"/>
                            </p:stCondLst>
                            <p:childTnLst>
                              <p:par>
                                <p:cTn id="1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6" dur="4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7" dur="4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8" dur="4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26400"/>
                            </p:stCondLst>
                            <p:childTnLst>
                              <p:par>
                                <p:cTn id="13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2" dur="4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3" dur="4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4" dur="4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26800"/>
                            </p:stCondLst>
                            <p:childTnLst>
                              <p:par>
                                <p:cTn id="13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8" dur="4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9" dur="4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0" dur="4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27200"/>
                            </p:stCondLst>
                            <p:childTnLst>
                              <p:par>
                                <p:cTn id="13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4" dur="4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5" dur="4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6" dur="4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27600"/>
                            </p:stCondLst>
                            <p:childTnLst>
                              <p:par>
                                <p:cTn id="13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0" dur="4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1" dur="4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2" dur="4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28000"/>
                            </p:stCondLst>
                            <p:childTnLst>
                              <p:par>
                                <p:cTn id="14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6" dur="4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7" dur="4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8" dur="4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28400"/>
                            </p:stCondLst>
                            <p:childTnLst>
                              <p:par>
                                <p:cTn id="14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2" dur="4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3" dur="4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4" dur="4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28800"/>
                            </p:stCondLst>
                            <p:childTnLst>
                              <p:par>
                                <p:cTn id="14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8" dur="4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9" dur="4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0" dur="4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29400"/>
                            </p:stCondLst>
                            <p:childTnLst>
                              <p:par>
                                <p:cTn id="14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4" dur="4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5" dur="4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6" dur="4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30000"/>
                            </p:stCondLst>
                            <p:childTnLst>
                              <p:par>
                                <p:cTn id="14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0" dur="4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1" dur="4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2" dur="4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30600"/>
                            </p:stCondLst>
                            <p:childTnLst>
                              <p:par>
                                <p:cTn id="14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6" dur="4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7" dur="4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8" dur="4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31200"/>
                            </p:stCondLst>
                            <p:childTnLst>
                              <p:par>
                                <p:cTn id="14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2" dur="4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3" dur="4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4" dur="4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31800"/>
                            </p:stCondLst>
                            <p:childTnLst>
                              <p:par>
                                <p:cTn id="14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8" dur="4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9" dur="4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0" dur="4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32400"/>
                            </p:stCondLst>
                            <p:childTnLst>
                              <p:par>
                                <p:cTn id="14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4" dur="4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5" dur="4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6" dur="4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33000"/>
                            </p:stCondLst>
                            <p:childTnLst>
                              <p:par>
                                <p:cTn id="14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0" dur="4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1" dur="4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2" dur="4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33600"/>
                            </p:stCondLst>
                            <p:childTnLst>
                              <p:par>
                                <p:cTn id="1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6" dur="4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7" dur="4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8" dur="4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34200"/>
                            </p:stCondLst>
                            <p:childTnLst>
                              <p:par>
                                <p:cTn id="14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2" dur="4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3" dur="4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4" dur="4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34800"/>
                            </p:stCondLst>
                            <p:childTnLst>
                              <p:par>
                                <p:cTn id="14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8" dur="4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9" dur="4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0" dur="4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35400"/>
                            </p:stCondLst>
                            <p:childTnLst>
                              <p:par>
                                <p:cTn id="14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4" dur="4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5" dur="4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6" dur="4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36000"/>
                            </p:stCondLst>
                            <p:childTnLst>
                              <p:par>
                                <p:cTn id="14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0" dur="4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1" dur="4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2" dur="4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36600"/>
                            </p:stCondLst>
                            <p:childTnLst>
                              <p:par>
                                <p:cTn id="14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6" dur="4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7" dur="4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8" dur="4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37200"/>
                            </p:stCondLst>
                            <p:childTnLst>
                              <p:par>
                                <p:cTn id="15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2" dur="4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3" dur="4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4" dur="4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fill="hold">
                            <p:stCondLst>
                              <p:cond delay="37800"/>
                            </p:stCondLst>
                            <p:childTnLst>
                              <p:par>
                                <p:cTn id="15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8" dur="4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9" dur="4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0" dur="4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38400"/>
                            </p:stCondLst>
                            <p:childTnLst>
                              <p:par>
                                <p:cTn id="15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1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39400"/>
                            </p:stCondLst>
                            <p:childTnLst>
                              <p:par>
                                <p:cTn id="1518" nodeType="afterEffect" fill="hold" presetClass="path" presetID="42">
                                  <p:stCondLst>
                                    <p:cond delay="19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33333E-006 4.07407E-006 L 3.33333E-006 0.43449 E">
                                      <p:cBhvr>
                                        <p:cTn id="1519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60900"/>
                            </p:stCondLst>
                            <p:childTnLst>
                              <p:par>
                                <p:cTn id="1521" nodeType="after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33333E-006 1.85185E-006 L -3.33333E-006 0.43241 E">
                                      <p:cBhvr>
                                        <p:cTn id="1522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62900"/>
                            </p:stCondLst>
                            <p:childTnLst>
                              <p:par>
                                <p:cTn id="1524" nodeType="after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33333E-006 7.40741E-007 L -0.33334 7.40741E-007 E">
                                      <p:cBhvr>
                                        <p:cTn id="1525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64900"/>
                            </p:stCondLst>
                            <p:childTnLst>
                              <p:par>
                                <p:cTn id="1527" nodeType="after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33333E-006 -3.33333E-006 L -0.33333 -3.33333E-006 E">
                                      <p:cBhvr>
                                        <p:cTn id="1528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66900"/>
                            </p:stCondLst>
                            <p:childTnLst>
                              <p:par>
                                <p:cTn id="1530" nodeType="after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33333E-006 2.59259E-006 L -0.33334 -0.00255 E">
                                      <p:cBhvr>
                                        <p:cTn id="1531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68900"/>
                            </p:stCondLst>
                            <p:childTnLst>
                              <p:par>
                                <p:cTn id="1533" nodeType="after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33333E-006 -3.7037E-007 L -3.33333E-006 -0.43426 E">
                                      <p:cBhvr>
                                        <p:cTn id="1534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fill="hold">
                            <p:stCondLst>
                              <p:cond delay="70900"/>
                            </p:stCondLst>
                            <p:childTnLst>
                              <p:par>
                                <p:cTn id="1536" nodeType="after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33333E-006 -7.40741E-007 L 3.33333E-006 -0.43449 E">
                                      <p:cBhvr>
                                        <p:cTn id="1537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72900"/>
                            </p:stCondLst>
                            <p:childTnLst>
                              <p:par>
                                <p:cTn id="1539" nodeType="after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1.11022E-016 -3.7037E-007 L 1.11022E-016 -0.43426 E">
                                      <p:cBhvr>
                                        <p:cTn id="1540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74900"/>
                            </p:stCondLst>
                            <p:childTnLst>
                              <p:par>
                                <p:cTn id="1542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33333E-006 2.59259E-006 L 0.33333 2.59259E-006 E">
                                      <p:cBhvr>
                                        <p:cTn id="1543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76900"/>
                            </p:stCondLst>
                            <p:childTnLst>
                              <p:par>
                                <p:cTn id="1545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61111E-006 -3.33333E-006 L 0.3335 -3.33333E-006 E">
                                      <p:cBhvr>
                                        <p:cTn id="1546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78900"/>
                            </p:stCondLst>
                            <p:childTnLst>
                              <p:par>
                                <p:cTn id="1548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33333E-006 7.40741E-007 L 0.33333 7.40741E-007 E">
                                      <p:cBhvr>
                                        <p:cTn id="1549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80900"/>
                            </p:stCondLst>
                            <p:childTnLst>
                              <p:par>
                                <p:cTn id="1551" nodeType="after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1.11022E-016 -4.81481E-006 L 1.11022E-016 0.4345 E">
                                      <p:cBhvr>
                                        <p:cTn id="1552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82900"/>
                            </p:stCondLst>
                            <p:childTnLst>
                              <p:par>
                                <p:cTn id="1554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55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61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67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73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79" dur="1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1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1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85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91" dur="10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10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10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9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97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0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03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09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15" dur="1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21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27" dur="1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1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33" dur="10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10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10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39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2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45" dur="1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1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1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51" dur="1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1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1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4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57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0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2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63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69" dur="1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1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75" dur="1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1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1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81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87" dur="1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1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1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93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Как самому составить магический квадра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-76680" y="990720"/>
            <a:ext cx="58676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у получившегося квадрата обнаруживается и дополнительное свойство: все пары чисел, расположенные симметрично относительно центральной клетки, дают одинаковые сум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+25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9+7=18+8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3+3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6+20=2+24=4+2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т. д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гические квадраты, обладающие таким свойством, называютс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имметрич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305920" y="3443400"/>
            <a:ext cx="60948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697880" y="3443400"/>
            <a:ext cx="60804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086600" y="3443400"/>
            <a:ext cx="61128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77120" y="3429000"/>
            <a:ext cx="6094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867280" y="3443400"/>
            <a:ext cx="60984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305920" y="2849400"/>
            <a:ext cx="6094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697880" y="2849400"/>
            <a:ext cx="60804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86600" y="2844720"/>
            <a:ext cx="6112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477120" y="2849400"/>
            <a:ext cx="6094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67280" y="2849400"/>
            <a:ext cx="60984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305920" y="2255760"/>
            <a:ext cx="6094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697880" y="2255760"/>
            <a:ext cx="6080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086600" y="2255760"/>
            <a:ext cx="6112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77120" y="2255760"/>
            <a:ext cx="6094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867280" y="2255760"/>
            <a:ext cx="6098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305920" y="1662120"/>
            <a:ext cx="6094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697880" y="1662120"/>
            <a:ext cx="6080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086600" y="1657440"/>
            <a:ext cx="6112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477120" y="1662120"/>
            <a:ext cx="6094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67280" y="1662120"/>
            <a:ext cx="6098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305920" y="1066680"/>
            <a:ext cx="6094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97880" y="1062000"/>
            <a:ext cx="60804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086600" y="1066680"/>
            <a:ext cx="611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77120" y="1066680"/>
            <a:ext cx="6094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867280" y="1066680"/>
            <a:ext cx="60984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867280" y="1066680"/>
            <a:ext cx="3048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867280" y="166212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867280" y="225576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867280" y="284940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867280" y="344340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867280" y="4038480"/>
            <a:ext cx="3048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0" cy="297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477120" y="106668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86600" y="106668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97880" y="106668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305920" y="106668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915400" y="1066680"/>
            <a:ext cx="0" cy="297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326280" y="4419720"/>
            <a:ext cx="224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=26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2000">
    <p:zoom dir="out"/>
  </p:transition>
  <p:timing>
    <p:tnLst>
      <p:par>
        <p:cTn id="1698" dur="indefinite" restart="never" nodeType="tmRoot">
          <p:childTnLst>
            <p:seq>
              <p:cTn id="1699" dur="indefinite" nodeType="mainSeq">
                <p:childTnLst>
                  <p:par>
                    <p:cTn id="1700" fill="hold">
                      <p:stCondLst>
                        <p:cond delay="0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4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8" nodeType="afterEffect" fill="hold" presetClass="entr" presetID="42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0" dur="1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1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42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5" dur="1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6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42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0" dur="1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2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5" dur="3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26" dur="3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8" dur="3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29" dur="3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0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3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2" dur="3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e77f"/>
                                      </p:to>
                                    </p:animClr>
                                    <p:set>
                                      <p:cBhvr>
                                        <p:cTn id="1733" dur="3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5" dur="3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e77f"/>
                                      </p:to>
                                    </p:animClr>
                                    <p:set>
                                      <p:cBhvr>
                                        <p:cTn id="1736" dur="3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3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9" dur="3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fe68"/>
                                      </p:to>
                                    </p:animClr>
                                    <p:set>
                                      <p:cBhvr>
                                        <p:cTn id="1740" dur="3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2" dur="3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fe68"/>
                                      </p:to>
                                    </p:animClr>
                                    <p:set>
                                      <p:cBhvr>
                                        <p:cTn id="1743" dur="3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74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6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8d0de"/>
                                      </p:to>
                                    </p:animClr>
                                    <p:set>
                                      <p:cBhvr>
                                        <p:cTn id="1747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9" dur="3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8d0de"/>
                                      </p:to>
                                    </p:animClr>
                                    <p:set>
                                      <p:cBhvr>
                                        <p:cTn id="1750" dur="3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1" fill="hold">
                            <p:stCondLst>
                              <p:cond delay="28000"/>
                            </p:stCondLst>
                            <p:childTnLst>
                              <p:par>
                                <p:cTn id="175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3" dur="3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1754" dur="3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6" dur="3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1757" dur="3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fill="hold">
                            <p:stCondLst>
                              <p:cond delay="31000"/>
                            </p:stCondLst>
                            <p:childTnLst>
                              <p:par>
                                <p:cTn id="175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0" dur="3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1761" dur="3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3" dur="3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1764" dur="3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5" fill="hold">
                            <p:stCondLst>
                              <p:cond delay="34000"/>
                            </p:stCondLst>
                            <p:childTnLst>
                              <p:par>
                                <p:cTn id="176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7" dur="3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768" dur="3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0" dur="3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771" dur="3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37000"/>
                            </p:stCondLst>
                            <p:childTnLst>
                              <p:par>
                                <p:cTn id="1773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8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8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8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8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9" fill="hold">
                            <p:stCondLst>
                              <p:cond delay="38300"/>
                            </p:stCondLst>
                            <p:childTnLst>
                              <p:par>
                                <p:cTn id="1780" nodeType="afterEffect" fill="hold" presetClass="entr" presetID="4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2" dur="10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3" dur="10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вадраты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ядка,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ратного четыре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-76320" y="91440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составления какого-либо магического квадрата порядк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=4, 8, 12, ..., 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добна, например, такая простая схем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местить числа в клетках заданного квадрата в порядке их возрастания (в натуральном порядке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делить по углам заданного квадрата четыре квадрата со сторонам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/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и в центре один квадрат со стороно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/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яти выделенных квадратах обменять местами числа, расположенные симметрично относительно центра заданного квадрата; это значит, что в натуральном расположении чисел квадрата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етвертого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рядка надо поменять местам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16, 4 и 13, 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вадраты, составленные по указанной схеме, будут всегда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агическими симметрически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571840" y="5886360"/>
            <a:ext cx="7808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790640" y="5886360"/>
            <a:ext cx="7812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009800" y="5886360"/>
            <a:ext cx="7808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28600" y="5886360"/>
            <a:ext cx="7812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71840" y="5143680"/>
            <a:ext cx="7808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790640" y="5143680"/>
            <a:ext cx="78120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009800" y="5143680"/>
            <a:ext cx="7808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28600" y="5143680"/>
            <a:ext cx="78120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71840" y="4400640"/>
            <a:ext cx="7808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790640" y="4400640"/>
            <a:ext cx="7812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009800" y="4400640"/>
            <a:ext cx="7808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" y="4400640"/>
            <a:ext cx="7812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571840" y="3657600"/>
            <a:ext cx="7808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790640" y="3657600"/>
            <a:ext cx="7812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009800" y="3657600"/>
            <a:ext cx="7808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28600" y="3657600"/>
            <a:ext cx="7812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90720" y="3657600"/>
            <a:ext cx="16002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8600" y="4400640"/>
            <a:ext cx="3124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5143680"/>
            <a:ext cx="31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90720" y="6629400"/>
            <a:ext cx="16002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4419720"/>
            <a:ext cx="0" cy="14475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790640" y="365760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352680" y="4400640"/>
            <a:ext cx="0" cy="1476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28600" y="5867280"/>
            <a:ext cx="3124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2590920" y="3657240"/>
            <a:ext cx="0" cy="297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990720" y="3657240"/>
            <a:ext cx="0" cy="297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65760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352680" y="365724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228600" y="365724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8600" y="36576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28600" y="66294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662940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352680" y="586692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228600" y="586692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5000">
    <p:zoom dir="out"/>
  </p:transition>
  <p:timing>
    <p:tnLst>
      <p:par>
        <p:cTn id="1785" dur="indefinite" restart="never" nodeType="tmRoot">
          <p:childTnLst>
            <p:seq>
              <p:cTn id="1786" dur="indefinite" nodeType="mainSeq">
                <p:childTnLst>
                  <p:par>
                    <p:cTn id="1787" fill="hold">
                      <p:stCondLst>
                        <p:cond delay="0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1" dur="1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5" nodeType="afterEffect" fill="hold" presetClass="entr" presetID="42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7" dur="10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01" nodeType="afterEffect" fill="hold" presetClass="entr" presetID="42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3" dur="10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4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18300"/>
                            </p:stCondLst>
                            <p:childTnLst>
                              <p:par>
                                <p:cTn id="1807" nodeType="afterEffect" fill="hold" presetClass="emph" presetID="1" presetSubtype="2">
                                  <p:stCondLst>
                                    <p:cond delay="9700"/>
                                  </p:stCondLst>
                                  <p:childTnLst>
                                    <p:animClr clrSpc="rgb">
                                      <p:cBhvr>
                                        <p:cTn id="1808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set>
                                      <p:cBhvr>
                                        <p:cTn id="1809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0" nodeType="withEffect" fill="hold" presetClass="emph" presetID="1" presetSubtype="2">
                                  <p:stCondLst>
                                    <p:cond delay="9700"/>
                                  </p:stCondLst>
                                  <p:childTnLst>
                                    <p:animClr clrSpc="rgb">
                                      <p:cBhvr>
                                        <p:cTn id="1811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e6"/>
                                      </p:to>
                                    </p:animClr>
                                    <p:set>
                                      <p:cBhvr>
                                        <p:cTn id="1812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3" nodeType="withEffect" fill="hold" presetClass="emph" presetID="1" presetSubtype="2">
                                  <p:stCondLst>
                                    <p:cond delay="9700"/>
                                  </p:stCondLst>
                                  <p:childTnLst>
                                    <p:animClr clrSpc="rgb">
                                      <p:cBhvr>
                                        <p:cTn id="1814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fe68"/>
                                      </p:to>
                                    </p:animClr>
                                    <p:set>
                                      <p:cBhvr>
                                        <p:cTn id="1815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6" nodeType="withEffect" fill="hold" presetClass="emph" presetID="1" presetSubtype="2">
                                  <p:stCondLst>
                                    <p:cond delay="9700"/>
                                  </p:stCondLst>
                                  <p:childTnLst>
                                    <p:animClr clrSpc="rgb">
                                      <p:cBhvr>
                                        <p:cTn id="1817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1fc6a"/>
                                      </p:to>
                                    </p:animClr>
                                    <p:set>
                                      <p:cBhvr>
                                        <p:cTn id="1818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9" nodeType="withEffect" fill="hold" presetClass="emph" presetID="1" presetSubtype="2">
                                  <p:stCondLst>
                                    <p:cond delay="9700"/>
                                  </p:stCondLst>
                                  <p:childTnLst>
                                    <p:animClr clrSpc="rgb">
                                      <p:cBhvr>
                                        <p:cTn id="1820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21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2" nodeType="withEffect" fill="hold" presetClass="emph" presetID="1" presetSubtype="2">
                                  <p:stCondLst>
                                    <p:cond delay="9700"/>
                                  </p:stCondLst>
                                  <p:childTnLst>
                                    <p:animClr clrSpc="rgb">
                                      <p:cBhvr>
                                        <p:cTn id="1823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24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5" nodeType="withEffect" fill="hold" presetClass="emph" presetID="1" presetSubtype="2">
                                  <p:stCondLst>
                                    <p:cond delay="9700"/>
                                  </p:stCondLst>
                                  <p:childTnLst>
                                    <p:animClr clrSpc="rgb">
                                      <p:cBhvr>
                                        <p:cTn id="1826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27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8" nodeType="withEffect" fill="hold" presetClass="emph" presetID="1" presetSubtype="2">
                                  <p:stCondLst>
                                    <p:cond delay="9700"/>
                                  </p:stCondLst>
                                  <p:childTnLst>
                                    <p:animClr clrSpc="rgb">
                                      <p:cBhvr>
                                        <p:cTn id="1829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30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30000"/>
                            </p:stCondLst>
                            <p:childTnLst>
                              <p:par>
                                <p:cTn id="1832" nodeType="afterEffect" fill="hold" presetClass="entr" presetID="42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4" dur="10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5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7" fill="hold">
                            <p:stCondLst>
                              <p:cond delay="33400"/>
                            </p:stCondLst>
                            <p:childTnLst>
                              <p:par>
                                <p:cTn id="1838" nodeType="afterEffect" fill="hold" presetClass="path" presetID="49">
                                  <p:stCondLst>
                                    <p:cond delay="17500"/>
                                  </p:stCondLst>
                                  <p:childTnLst>
                                    <p:animMotion origin="layout" path="M -0.00938 -0.00972 L 0.25729 0.32361 E">
                                      <p:cBhvr>
                                        <p:cTn id="1839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0" nodeType="withEffect" fill="hold" presetClass="path" presetID="49">
                                  <p:stCondLst>
                                    <p:cond delay="17500"/>
                                  </p:stCondLst>
                                  <p:childTnLst>
                                    <p:animMotion origin="layout" path="M -0.25729 -0.32361 L 1.66667E-006 -1.11022E-016 E">
                                      <p:cBhvr>
                                        <p:cTn id="1841" dur="2000" fill="hold"/>
                                        <p:tgtEl>
                                          <p:spTgt spid="4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2" nodeType="withEffect" fill="hold" presetClass="path" presetID="56">
                                  <p:stCondLst>
                                    <p:cond delay="17500"/>
                                  </p:stCondLst>
                                  <p:childTnLst>
                                    <p:animMotion origin="layout" path="M 1.66667E-006 -1.11022E-016 L 0.25729 -0.32361 E">
                                      <p:cBhvr>
                                        <p:cTn id="1843" dur="2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4" nodeType="withEffect" fill="hold" presetClass="path" presetID="56">
                                  <p:stCondLst>
                                    <p:cond delay="17500"/>
                                  </p:stCondLst>
                                  <p:childTnLst>
                                    <p:animMotion origin="layout" path="M -0.25729 0.32361 L 1.66667E-006 0 E">
                                      <p:cBhvr>
                                        <p:cTn id="1845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6" nodeType="withEffect" fill="hold" presetClass="path" presetID="49">
                                  <p:stCondLst>
                                    <p:cond delay="17500"/>
                                  </p:stCondLst>
                                  <p:childTnLst>
                                    <p:animMotion origin="layout" path="M -0.08541 -0.1088 L 0.00313 0.00648 E">
                                      <p:cBhvr>
                                        <p:cTn id="1847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8" nodeType="withEffect" fill="hold" presetClass="path" presetID="49">
                                  <p:stCondLst>
                                    <p:cond delay="17500"/>
                                  </p:stCondLst>
                                  <p:childTnLst>
                                    <p:animMotion origin="layout" path="M -0.00138 -0.00694 L 0.08716 0.10811 E">
                                      <p:cBhvr>
                                        <p:cTn id="1849" dur="2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0" nodeType="withEffect" fill="hold" presetClass="path" presetID="56">
                                  <p:stCondLst>
                                    <p:cond delay="17500"/>
                                  </p:stCondLst>
                                  <p:childTnLst>
                                    <p:animMotion origin="layout" path="M -0.00208 -0.00232 L 0.08646 -0.10648 E">
                                      <p:cBhvr>
                                        <p:cTn id="1851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2" nodeType="withEffect" fill="hold" presetClass="path" presetID="56">
                                  <p:stCondLst>
                                    <p:cond delay="17500"/>
                                  </p:stCondLst>
                                  <p:childTnLst>
                                    <p:animMotion origin="layout" path="M -0.08576 0.10811 L 0.00278 -0.00555 E">
                                      <p:cBhvr>
                                        <p:cTn id="1853" dur="2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52900"/>
                            </p:stCondLst>
                            <p:childTnLst>
                              <p:par>
                                <p:cTn id="1855" nodeType="afterEffect" fill="hold" presetClass="entr" presetID="4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7" dur="100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8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267080" y="1828800"/>
            <a:ext cx="3657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шельцы из Китая и Инд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им из наиболее древних и наиболее совершенных видов кросс-сумм является так называемый магический (или волшебный) квадр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думаны магические квадраты впервые, по-видимому, китайцами, так как самое ранее упоминание о них встречается в китайской книге, написанной за 4000-5000 лет до нашей э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xit" presetID="25">
                                  <p:stCondLst>
                                    <p:cond delay="1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25">
                                  <p:stCondLst>
                                    <p:cond delay="1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шельцы из Китая и Инд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4876560"/>
            <a:ext cx="8763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рейший в мире магический квадрат представлен выше. Черными кружками  в этом квадрате изображены четные (женственные) числа, белыми – нечетные (мужественные) чис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обычной записи он не так эффекте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0" r="6185" b="0"/>
          <a:stretch/>
        </p:blipFill>
        <p:spPr>
          <a:xfrm>
            <a:off x="2895480" y="1523880"/>
            <a:ext cx="3216240" cy="302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4952880" y="1752480"/>
          <a:ext cx="2513520" cy="2513880"/>
        </p:xfrm>
        <a:graphic>
          <a:graphicData uri="http://schemas.openxmlformats.org/drawingml/2006/table">
            <a:tbl>
              <a:tblPr/>
              <a:tblGrid>
                <a:gridCol w="837720"/>
                <a:gridCol w="838080"/>
                <a:gridCol w="837720"/>
              </a:tblGrid>
              <a:tr h="837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14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7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шельцы из Китая и Инд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сё же это великолепный образец кросс-сумм! Девять порядковых чисел размещены в девяти клетках квадрата так, что суммы чисел вдоль каждой строки, каждого столбца и каждой из двух диагоналей одинаковы (основное свойство магического квадрат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 поздние сведения о магических квадратах относящиеся уже к 1 веку, получены из Индии. Вот один из таких древнеиндийских памятников почти 2000-летней дав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715000" y="4038480"/>
          <a:ext cx="2743200" cy="274320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6000"/>
                            </p:stCondLst>
                            <p:childTnLst>
                              <p:par>
                                <p:cTn id="9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шельцы из Китая и Инд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есь 16 порядковых чисел размещены в шестнадцати клетках квадрата так, что выполняется основное свойство магического квадр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йствитель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530"/>
          <a:stretch/>
        </p:blipFill>
        <p:spPr>
          <a:xfrm>
            <a:off x="3886200" y="3532320"/>
            <a:ext cx="4876920" cy="31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шельцы из Китая и Инд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ое число магического квадрата участвует в двух суммах, а числа расположенные по диагоналям даже в трёх, и все эти суммы равны между соб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даром в ту далёкую эпоху суеверий индийцы, а следом за ними и арабы приписывали этим числовым сочетаниям таинственные и магические свой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я эта своеобразная мозаика чисел с её  постоянством сумм действительно придаёт квадрату «волшебную» силу произведения искус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магические квадраты вошли в искус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«Фаусте» Гете есть сцена приготовления колдуньей омолаживающего зель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а, которыми колдунья сопровождает свои манипуляции, обычно воспринимаются читателями «Фауста» как тарабарщина, бессмыслиц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52280" y="2666880"/>
          <a:ext cx="8991360" cy="4544640"/>
        </p:xfrm>
        <a:graphic>
          <a:graphicData uri="http://schemas.openxmlformats.org/drawingml/2006/table">
            <a:tbl>
              <a:tblPr/>
              <a:tblGrid>
                <a:gridCol w="4608720"/>
                <a:gridCol w="4382640"/>
              </a:tblGrid>
              <a:tr h="45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 must verstehen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s Eins mach’ Zeh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 Zwei lass gehn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 Drei mach’ gleich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 bist rei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lier die Vier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s Fünf und Sech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 sagt die Hex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h’ Sieben und Acht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 its’s vollbrach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 Neun ist Ein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 Zehn ist kein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s ist das Hexen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nmal-Eins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……………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единицы делаешь 10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пускаешь 2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 также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……………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еркиваешь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5 и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……………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аешь 7 и 8 (и наоборо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драт го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……………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……………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……………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……………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42">
                                  <p:stCondLst>
                                    <p:cond delay="98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18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79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700"/>
                            </p:stCondLst>
                            <p:childTnLst>
                              <p:par>
                                <p:cTn id="149" nodeType="afterEffect" fill="hold" presetClass="entr" presetID="42">
                                  <p:stCondLst>
                                    <p:cond delay="6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780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3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20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7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0"/>
                            </p:stCondLst>
                            <p:childTnLst>
                              <p:par>
                                <p:cTn id="167" nodeType="afterEffect" fill="hold" presetClass="exit" presetID="7" presetSubtype="1">
                                  <p:stCondLst>
                                    <p:cond delay="6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68" dur="7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7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6700"/>
                            </p:stCondLst>
                            <p:childTnLst>
                              <p:par>
                                <p:cTn id="172" nodeType="afterEffect" fill="hold" presetClass="exit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7200"/>
                            </p:stCondLst>
                            <p:childTnLst>
                              <p:par>
                                <p:cTn id="177" nodeType="afterEffect" fill="hold" presetClass="exit" presetID="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7700"/>
                            </p:stCondLst>
                            <p:childTnLst>
                              <p:par>
                                <p:cTn id="182" nodeType="afterEffect" fill="hold" presetClass="exit" presetID="7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8200"/>
                            </p:stCondLst>
                            <p:childTnLst>
                              <p:par>
                                <p:cTn id="187" nodeType="afterEffect" fill="hold" presetClass="exit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8700"/>
                            </p:stCondLst>
                            <p:childTnLst>
                              <p:par>
                                <p:cTn id="192" nodeType="after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8.33333E-007 -2.96091E-006 L -0.00365 -0.5244 E">
                                      <p:cBhvr>
                                        <p:cTn id="193" dur="2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шельцы из Китая и Инд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не мог же Гете потерять чувство художественной меры и отдать абракадабре целых 13 строк поэтического текс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тературные комментаторы и исследователи бесплодно тратили усилия на поиски см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, скрытого в этом тринадцатистишии: Очевидно, y них не возникала мысль попытаться воспроизвести на бумаге рекомендации колдунь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21932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вайте это сделаем. построим квадрат из девяти ячеек и разместим в ячейках 9 первых натуральных чисел в порядке их следования. Выполним указания колдунь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делаешь 10 — 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й ячейке заменяем ЧИСЛО 1 числом 1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а 2 и 3 оставляем на своих местах, так как сказано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пускаешь 2, a также 3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черкиваеш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— это значит заменяем нулем число 4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меняем 5 и 6 числами 7 и 8, а в ячейки, занятые числами 7 и 8, вписываем 5 и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27680" y="5861160"/>
            <a:ext cx="711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16320" y="5861160"/>
            <a:ext cx="711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5861160"/>
            <a:ext cx="711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27680" y="5140440"/>
            <a:ext cx="711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16320" y="5140440"/>
            <a:ext cx="711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05320" y="5140440"/>
            <a:ext cx="711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27680" y="4419720"/>
            <a:ext cx="711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16320" y="4419720"/>
            <a:ext cx="711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4419720"/>
            <a:ext cx="711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4419720"/>
            <a:ext cx="2133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05320" y="514044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05320" y="586116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05320" y="6581880"/>
            <a:ext cx="2133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4419720"/>
            <a:ext cx="0" cy="2162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16320" y="4419720"/>
            <a:ext cx="0" cy="21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27680" y="4419720"/>
            <a:ext cx="0" cy="21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38680" y="4419720"/>
            <a:ext cx="0" cy="2162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4419720"/>
            <a:ext cx="711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05320" y="5146560"/>
            <a:ext cx="711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8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5" nodeType="afterEffect" fill="hold" presetClass="exit" presetID="37">
                                  <p:stCondLst>
                                    <p:cond delay="123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6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3800"/>
                            </p:stCondLst>
                            <p:childTnLst>
                              <p:par>
                                <p:cTn id="222" nodeType="afterEffect" fill="hold" presetClass="exit" presetID="37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3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52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73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7800"/>
                            </p:stCondLst>
                            <p:childTnLst>
                              <p:par>
                                <p:cTn id="304" nodeType="afterEffect" fill="hold" presetClass="entr" presetID="42">
                                  <p:stCondLst>
                                    <p:cond delay="96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8400"/>
                            </p:stCondLst>
                            <p:childTnLst>
                              <p:par>
                                <p:cTn id="310" nodeType="afterEffect" fill="hold" presetClass="exit" presetID="9">
                                  <p:stCondLst>
                                    <p:cond delay="7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6700"/>
                            </p:stCondLst>
                            <p:childTnLst>
                              <p:par>
                                <p:cTn id="3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7200"/>
                            </p:stCondLst>
                            <p:childTnLst>
                              <p:par>
                                <p:cTn id="318" nodeType="afterEffect" fill="hold" presetClass="entr" presetID="42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1300"/>
                            </p:stCondLst>
                            <p:childTnLst>
                              <p:par>
                                <p:cTn id="324" nodeType="afterEffect" fill="hold" presetClass="entr" presetID="27">
                                  <p:stCondLst>
                                    <p:cond delay="7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60560"/>
                            </p:stCondLst>
                            <p:childTnLst>
                              <p:par>
                                <p:cTn id="330" nodeType="afterEffect" fill="hold" presetClass="exit" presetID="9">
                                  <p:stCondLst>
                                    <p:cond delay="674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678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68300"/>
                            </p:stCondLst>
                            <p:childTnLst>
                              <p:par>
                                <p:cTn id="338" nodeType="afterEffect" fill="hold" presetClass="entr" presetID="42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71000"/>
                            </p:stCondLst>
                            <p:childTnLst>
                              <p:par>
                                <p:cTn id="344" nodeType="afterEffect" fill="hold" presetClass="path" presetID="56">
                                  <p:stCondLst>
                                    <p:cond delay="10700"/>
                                  </p:stCondLst>
                                  <p:childTnLst>
                                    <p:animMotion origin="layout" path="M 5.55112E-017 4.56627E-006 L 0.075 -0.09994 E">
                                      <p:cBhvr>
                                        <p:cTn id="345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path" presetID="56">
                                  <p:stCondLst>
                                    <p:cond delay="10700"/>
                                  </p:stCondLst>
                                  <p:childTnLst>
                                    <p:animMotion origin="layout" path="M 0 1.16586E-006 L 0.075 -0.09993 E">
                                      <p:cBhvr>
                                        <p:cTn id="347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49">
                                  <p:stCondLst>
                                    <p:cond delay="10700"/>
                                  </p:stCondLst>
                                  <p:childTnLst>
                                    <p:animMotion origin="layout" path="M 2.22222E-006 3.28244E-006 L -0.07778 0.10895 E">
                                      <p:cBhvr>
                                        <p:cTn id="349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56">
                                  <p:stCondLst>
                                    <p:cond delay="10700"/>
                                  </p:stCondLst>
                                  <p:childTnLst>
                                    <p:animMotion origin="layout" path="M -0.00278 0.00509 L -0.07778 0.10294 E">
                                      <p:cBhvr>
                                        <p:cTn id="351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06668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дунья говорит: «Квадрат готов», но тут она хитрит. Ей еще надо в последней ячейке квадрата заменить девятку числом 4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т теперь формирование «талисмана» окончено и последние три строки тринадцатистишия уже ничего не добавляют к пониманию смысла «заклинаний» колдуньи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енность получившегося квадрата состоит в том, что магическая константа (15) получается только при сложении чисел вдоль любой строки и любого столбца, но не вдоль диагонале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вадрат с таким свойством чисел, занимающих его ячейки, принято называть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лумагически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вращением начального квадрата в полумагический Гете символизировал процесс омoложeния Фаус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69360" y="5826240"/>
            <a:ext cx="711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94560" y="5105520"/>
            <a:ext cx="711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32440" y="5105520"/>
            <a:ext cx="711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0" y="5832360"/>
            <a:ext cx="711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46640" y="5832360"/>
            <a:ext cx="711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94560" y="5832360"/>
            <a:ext cx="711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69360" y="4384800"/>
            <a:ext cx="711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4384800"/>
            <a:ext cx="711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46640" y="4384800"/>
            <a:ext cx="2133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46640" y="51055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46640" y="582624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46640" y="6546960"/>
            <a:ext cx="2133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46640" y="4384800"/>
            <a:ext cx="0" cy="2162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0" y="4384800"/>
            <a:ext cx="0" cy="21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69360" y="4384800"/>
            <a:ext cx="0" cy="21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4384800"/>
            <a:ext cx="0" cy="2162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46640" y="4384800"/>
            <a:ext cx="711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46640" y="5105520"/>
            <a:ext cx="711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-7632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шельцы из Китая и Инд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4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38">
                                  <p:stCondLst>
                                    <p:cond delay="84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9400"/>
                            </p:stCondLst>
                            <p:childTnLst>
                              <p:par>
                                <p:cTn id="43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9900"/>
                            </p:stCondLst>
                            <p:childTnLst>
                              <p:par>
                                <p:cTn id="4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90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192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11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войства магического квадрата А.Дюр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Европу магические квадраты проникли лишь в начале XV века. A в начале XVI века один из них был увековечен выдающимся немецким художником, гравером и немного математиком А. Дюрером в его лучшей гравюре «Меланхолия» (1514 г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юрер воспроизвел на гравюре (в несколько измененном виде) тот самый магический квадрат, составленный из 16 чис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934320" y="4724280"/>
          <a:ext cx="1828800" cy="182880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457200" y="4267080"/>
            <a:ext cx="6553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чарование этого магического квадрата не только в постоянстве сумм, которое является лишь его основным свойством. Подобно тому, как в истинно художественно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ведении находишь тем больше новых привлекательных сторон, чем больше в него вглядываешься, так и в этом произведении математического искусства таитс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мало красивых свойств, помимо основн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0">
    <p:zoom dir="out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42">
                                  <p:stCondLst>
                                    <p:cond delay="16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8200"/>
                            </p:stCondLst>
                            <p:childTnLst>
                              <p:par>
                                <p:cTn id="479" nodeType="afterEffect" fill="hold" presetClass="entr" presetID="42">
                                  <p:stCondLst>
                                    <p:cond delay="97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mLab.ws</cp:lastModifiedBy>
  <dcterms:modified xsi:type="dcterms:W3CDTF">2010-03-27T15:25:12Z</dcterms:modified>
  <cp:revision>30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