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8065-1B6E-42BF-8C30-BDB1F847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1193-79FF-458B-A3E0-962FBD78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2FB0-C132-40B7-AD8D-C16DBF07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965C-75F1-4F44-878D-2ED03820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9E43-CA8D-483A-BA53-287AF076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B707-0E5D-4545-835B-668F42AD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7EB-3C2C-49CD-A03F-178C898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09B-CC8A-4259-983D-938289C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E01C-8D47-4010-A4C1-7FBFC66B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382E-DEB8-40D7-99E3-37EC149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92D1-E243-4A7E-872F-0203829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8B72-C6F8-47EB-9739-8CDDE2C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2F3-97AD-4F64-861B-3F792B3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690E-F43A-4C0B-BD24-BECFB64F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CB2-D36D-44F0-9D7D-F0B8FFF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7217-9A17-464B-B5CB-B29633BA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BA19-75B8-470E-8120-BC023C0B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802D-6F18-426F-A078-B7A879D6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E502-A55B-48A0-9933-D084223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8799-EFDB-48F5-9495-ABBEAC6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771B-93FC-4526-B47E-037F6617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C174-227C-4487-8BD0-C398211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1763-E555-4E2F-8241-A1C6F61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90E6-C6D7-4331-AFE0-4BEA5A6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AB2-A98B-4D22-BCC2-3938D1B4B0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9AF-AE7C-4FE5-A38F-D7059ED5D1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агические квадрат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724280"/>
            <a:ext cx="624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к исследовательско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 ученик 10 класса Кирьяков Кирил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 Лонская Т.А., учитель мате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ем еще шесть дополнительных свойств приведенного 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надцатиклеточного магического квад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 чисел, расположенных по углам наше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ического квадрата, равна 34, то есть тому же числу, что и сумма чисел вдоль каждого ряда квадр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267080"/>
            <a:ext cx="675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ы чисел в каждом из маленьких квадратов (в 4 клетки), примыкающих к вершинам данного квадрата, и в таком же центральном квадрате тоже одинаковы и каждая из них равна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98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56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484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360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5560" y="3432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-763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5000"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7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2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0833 -0.18876 E">
                                      <p:cBhvr>
                                        <p:cTn id="50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8333 -0.18876 E">
                                      <p:cBhvr>
                                        <p:cTn id="50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45833 -0.38862 E">
                                      <p:cBhvr>
                                        <p:cTn id="50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525 -0.38862 E">
                                      <p:cBhvr>
                                        <p:cTn id="50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9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21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3700"/>
                            </p:stCondLst>
                            <p:childTnLst>
                              <p:par>
                                <p:cTn id="546" nodeType="after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4700"/>
                            </p:stCondLst>
                            <p:childTnLst>
                              <p:par>
                                <p:cTn id="64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жд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е квадрата есть пара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, и еще пара тоже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268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468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191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йте-ка теперь сумму квадратов чисел отдельно в двух крайних строках и в двух средни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468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468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468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2680" y="2147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268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268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0240" y="17524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1880" y="1752480"/>
            <a:ext cx="131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en-US" sz="8000" spc="-1" strike="noStrike">
                <a:solidFill>
                  <a:srgbClr val="0099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5045040"/>
            <a:ext cx="6095880" cy="822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5680" y="615708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видите, получились попарно равные сум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400"/>
                            </p:stCondLst>
                            <p:childTnLst>
                              <p:par>
                                <p:cTn id="8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1666 -0.43303 E">
                                      <p:cBhvr>
                                        <p:cTn id="8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0833 -0.43303 E">
                                      <p:cBhvr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2400"/>
                            </p:stCondLst>
                            <p:childTnLst>
                              <p:par>
                                <p:cTn id="8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1666 -0.44413 E">
                                      <p:cBhvr>
                                        <p:cTn id="81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 -0.44413 E">
                                      <p:cBhvr>
                                        <p:cTn id="81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1666 -0.46634 E">
                                      <p:cBhvr>
                                        <p:cTn id="81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 -0.46634 E">
                                      <p:cBhvr>
                                        <p:cTn id="82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1666 -0.45524 E">
                                      <p:cBhvr>
                                        <p:cTn id="82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0833 -0.45524 E">
                                      <p:cBhvr>
                                        <p:cTn id="82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8400"/>
                            </p:stCondLst>
                            <p:childTnLst>
                              <p:par>
                                <p:cTn id="8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1666 -0.48855 E">
                                      <p:cBhvr>
                                        <p:cTn id="82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 -0.48855 E">
                                      <p:cBhvr>
                                        <p:cTn id="83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400"/>
                            </p:stCondLst>
                            <p:childTnLst>
                              <p:par>
                                <p:cTn id="8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1666 -0.47744 E">
                                      <p:cBhvr>
                                        <p:cTn id="833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0833 -0.47744 E">
                                      <p:cBhvr>
                                        <p:cTn id="83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2400"/>
                            </p:stCondLst>
                            <p:childTnLst>
                              <p:par>
                                <p:cTn id="8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1666 -0.49965 E">
                                      <p:cBhvr>
                                        <p:cTn id="83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0833 -0.49965 E">
                                      <p:cBhvr>
                                        <p:cTn id="84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4400"/>
                            </p:stCondLst>
                            <p:childTnLst>
                              <p:par>
                                <p:cTn id="8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1666 -0.51075 E">
                                      <p:cBhvr>
                                        <p:cTn id="84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 -0.51075 E">
                                      <p:cBhvr>
                                        <p:cTn id="84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6400"/>
                            </p:stCondLst>
                            <p:childTnLst>
                              <p:par>
                                <p:cTn id="847" nodeType="after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8300"/>
                            </p:stCondLst>
                            <p:childTnLst>
                              <p:par>
                                <p:cTn id="860" nodeType="after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6" nodeType="afterEffect" fill="hold" presetClass="entr" presetID="49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21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0666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рудно убедиться, что аналогичным свойством обладают и столбцы чисел. Суммы квадратов чисел двух крайних столбцов равны между собой, и суммы квадратов чисел двух средних столбцов тоже одинако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данный квадрат вписать еще один квадрат с вершинами в серединах сторон данного квадрата, получим то, что показано на рисунке а, выш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умма чисел, расположенных вдоль одной пары противоположных сторон вписанного квадрата, равна сумме чисел, расположенных вдоль другой пары противоположных его сторон, и каждая из этих сумм равна опять-таки числу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2+14+3+5 = 15+9+8+2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еще интереснее то, что равны между собой даже суммы квадратов и суммы кубов этих чисел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_Pic1" descr=""/>
          <p:cNvPicPr/>
          <p:nvPr/>
        </p:nvPicPr>
        <p:blipFill>
          <a:blip r:embed="rId1"/>
          <a:srcRect l="0" t="0" r="51069" b="0"/>
          <a:stretch/>
        </p:blipFill>
        <p:spPr>
          <a:xfrm>
            <a:off x="3809880" y="1955880"/>
            <a:ext cx="1752840" cy="193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90760" y="6019920"/>
            <a:ext cx="4924440" cy="8157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42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200"/>
                            </p:stCondLst>
                            <p:childTnLst>
                              <p:par>
                                <p:cTn id="894" nodeType="afterEffect" fill="hold" presetClass="entr" presetID="29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4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8300"/>
                            </p:stCondLst>
                            <p:childTnLst>
                              <p:par>
                                <p:cTn id="906" nodeType="afterEffect" fill="hold" presetClass="entr" presetID="42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42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7200"/>
                            </p:stCondLst>
                            <p:childTnLst>
                              <p:par>
                                <p:cTn id="918" nodeType="afterEffect" fill="hold" presetClass="entr" presetID="49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9907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ли все столбцы магического квадрата сделать строками, сохраняя их чередование, то есть - числа первого столбца в той же последовательности расположить в виде первой строки, числа второго столбца в виде второй строки и т.д., то квадрат останется магическим с теми же его свойствам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127400"/>
            <a:ext cx="906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ы чисел вдоль строк и столбцов, конечно, не изменились, но суммы чисел вдоль диагоналей стали иными, не равными 34. Магический квадрат потерял часть своих основных свойств, стал «неполным» магическим квадратом (полумагическим квадрат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я обменивать местами строки и столбцы квадрата, вы будете получать все новые и новые магические и полумагические квадраты из 16 чи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4868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3424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1980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354960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4868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3424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1980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307332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4868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3424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1980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259704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868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3424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1980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212076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212076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25970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073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35496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402588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120760"/>
            <a:ext cx="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1980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3424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4868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63120" y="2133720"/>
            <a:ext cx="0" cy="1904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0574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бмене местами отдельных строк или столбцов магического квадрата некоторые из вышеперечисленных его свойств могут исчезнуть, но могут и все сохраниться и даже появиться новые. Например, поменяем, местами первую и вторую строки данного квадрата, получим то, что показано на рисунке справ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940" nodeType="after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7900"/>
                            </p:stCondLst>
                            <p:childTnLst>
                              <p:par>
                                <p:cTn id="1149" nodeType="after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312 0.06705 E">
                                      <p:cBhvr>
                                        <p:cTn id="115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104 0.06705 E">
                                      <p:cBhvr>
                                        <p:cTn id="11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-0.00104 0.06705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0.00277 L -0.00313 0.06983 E">
                                      <p:cBhvr>
                                        <p:cTn id="115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5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4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31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72" nodeType="afterEffect" fill="hold" presetClass="entr" presetID="42">
                                  <p:stCondLst>
                                    <p:cond delay="188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76320" y="990720"/>
            <a:ext cx="9296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которое количество порядковых чисел, например, все целые числа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до 16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9, или от 1 до 25, 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 д., расположены в форме квадрата так, что суммы чисел вдоль каждой строки, каждого столбца и каждой диагонали квадрат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инаковы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такой квадрат, как было сказано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гическим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ш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м клеток (чисел) в каждом ряд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ого квадрата определяет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етье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3 клетки, 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тверто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4 клетки 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7" nodeType="afterEffect" fill="hold" presetClass="entr" presetID="42">
                                  <p:stCondLst>
                                    <p:cond delay="3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вадраты нечетного поря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, квадр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5 клетками и временно дополняем его до, симметричной ступенчатой фиг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тупеньками в одну кле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ученной фигуре располагаем по порядку косыми рядами сверху вниз - направо 25 целых чисел от 1до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каждое число, оказавшееся вне квад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едует перенести вдоль того же ряда или столбца ровно на столько клеток от той клетки, которую оно занимает, каков порядок квадрата, в нашем примере - на пять. Так, в соответствии с этим правилом переносим эти чис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489096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191916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89096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0512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89096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2240" y="42973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129528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42973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370368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0368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703680"/>
            <a:ext cx="610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2240" y="311004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611172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311004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251460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2240" y="55008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251460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55008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25146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25146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1100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7036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973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48909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4864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224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1814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18148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6705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357720" y="4300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352320" y="3701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614720" y="4300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610040" y="3710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310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4886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311472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701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3095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29600" y="310500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39080" y="369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480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012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4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0">
    <p:zoom dir="ou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4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32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7100"/>
                            </p:stCondLst>
                            <p:childTnLst>
                              <p:par>
                                <p:cTn id="1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8100"/>
                            </p:stCondLst>
                            <p:childTnLst>
                              <p:par>
                                <p:cTn id="1362" nodeType="afterEffect" fill="hold" presetClass="entr" presetID="27">
                                  <p:stCondLst>
                                    <p:cond delay="7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600"/>
                            </p:stCondLst>
                            <p:childTnLst>
                              <p:par>
                                <p:cTn id="1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0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1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6400"/>
                            </p:stCondLst>
                            <p:childTnLst>
                              <p:par>
                                <p:cTn id="1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2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3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680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7200"/>
                            </p:stCondLst>
                            <p:childTnLst>
                              <p:par>
                                <p:cTn id="1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6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7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8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8400"/>
                            </p:stCondLst>
                            <p:childTnLst>
                              <p:par>
                                <p:cTn id="1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2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3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940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0600"/>
                            </p:stCondLst>
                            <p:childTnLst>
                              <p:par>
                                <p:cTn id="1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6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7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3120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1800"/>
                            </p:stCondLst>
                            <p:childTnLst>
                              <p:par>
                                <p:cTn id="1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8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9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2400"/>
                            </p:stCondLst>
                            <p:childTnLst>
                              <p:par>
                                <p:cTn id="1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360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4200"/>
                            </p:stCondLst>
                            <p:childTnLst>
                              <p:par>
                                <p:cTn id="1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2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3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4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4800"/>
                            </p:stCondLst>
                            <p:childTnLst>
                              <p:par>
                                <p:cTn id="1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54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36600"/>
                            </p:stCondLst>
                            <p:childTnLst>
                              <p:par>
                                <p:cTn id="1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372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7800"/>
                            </p:stCondLst>
                            <p:childTnLst>
                              <p:par>
                                <p:cTn id="1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8400"/>
                            </p:stCondLst>
                            <p:childTnLst>
                              <p:par>
                                <p:cTn id="1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9400"/>
                            </p:stCondLst>
                            <p:childTnLst>
                              <p:par>
                                <p:cTn id="1518" nodeType="afterEffect" fill="hold" presetClass="path" presetID="42">
                                  <p:stCondLst>
                                    <p:cond delay="19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07407E-006 L 3.33333E-006 0.43449 E">
                                      <p:cBhvr>
                                        <p:cTn id="151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60900"/>
                            </p:stCondLst>
                            <p:childTnLst>
                              <p:par>
                                <p:cTn id="152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1.85185E-006 L -3.33333E-006 0.43241 E">
                                      <p:cBhvr>
                                        <p:cTn id="152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62900"/>
                            </p:stCondLst>
                            <p:childTnLst>
                              <p:par>
                                <p:cTn id="1524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-0.33334 7.40741E-007 E">
                                      <p:cBhvr>
                                        <p:cTn id="15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4900"/>
                            </p:stCondLst>
                            <p:childTnLst>
                              <p:par>
                                <p:cTn id="1527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33333 -3.33333E-006 E">
                                      <p:cBhvr>
                                        <p:cTn id="1528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66900"/>
                            </p:stCondLst>
                            <p:childTnLst>
                              <p:par>
                                <p:cTn id="153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-0.33334 -0.00255 E">
                                      <p:cBhvr>
                                        <p:cTn id="1531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68900"/>
                            </p:stCondLst>
                            <p:childTnLst>
                              <p:par>
                                <p:cTn id="1533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7037E-007 L -3.33333E-006 -0.43426 E">
                                      <p:cBhvr>
                                        <p:cTn id="153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70900"/>
                            </p:stCondLst>
                            <p:childTnLst>
                              <p:par>
                                <p:cTn id="153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7.40741E-007 L 3.33333E-006 -0.43449 E">
                                      <p:cBhvr>
                                        <p:cTn id="1537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72900"/>
                            </p:stCondLst>
                            <p:childTnLst>
                              <p:par>
                                <p:cTn id="1539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3.7037E-007 L 1.11022E-016 -0.43426 E">
                                      <p:cBhvr>
                                        <p:cTn id="154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4900"/>
                            </p:stCondLst>
                            <p:childTnLst>
                              <p:par>
                                <p:cTn id="1542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0.33333 2.59259E-006 E">
                                      <p:cBhvr>
                                        <p:cTn id="1543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76900"/>
                            </p:stCondLst>
                            <p:childTnLst>
                              <p:par>
                                <p:cTn id="154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33333E-006 L 0.3335 -3.33333E-006 E">
                                      <p:cBhvr>
                                        <p:cTn id="154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8900"/>
                            </p:stCondLst>
                            <p:childTnLst>
                              <p:par>
                                <p:cTn id="154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0.33333 7.40741E-007 E">
                                      <p:cBhvr>
                                        <p:cTn id="154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80900"/>
                            </p:stCondLst>
                            <p:childTnLst>
                              <p:par>
                                <p:cTn id="155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4.81481E-006 L 1.11022E-016 0.4345 E">
                                      <p:cBhvr>
                                        <p:cTn id="155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900"/>
                            </p:stCondLst>
                            <p:childTnLst>
                              <p:par>
                                <p:cTn id="155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9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1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3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9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3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9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7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76680" y="990720"/>
            <a:ext cx="5867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 получившегося квадрата обнаруживается и дополнительное свойство: все пары чисел, расположенные симметрично относительно центральной клетки, дают одинаковые сум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+25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9+7=18+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3+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+20=2+24=4+2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 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е квадраты, обладающие таким свойством,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мметр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05920" y="3443400"/>
            <a:ext cx="6094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97880" y="34434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3443400"/>
            <a:ext cx="611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34290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34434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7880" y="2849400"/>
            <a:ext cx="608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284472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2849400"/>
            <a:ext cx="609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059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97880" y="225576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225576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225576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7880" y="16621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165744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71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16621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059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7880" y="106200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1066680"/>
            <a:ext cx="611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106668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10666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16621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2557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2849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3443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40384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788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059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91540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26280" y="4419720"/>
            <a:ext cx="224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=2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2000">
    <p:zoom dir="out"/>
  </p:transition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5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6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9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3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9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0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4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50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3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4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1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4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6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1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830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тного четыр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оставления какого-либо магического квадрата поряд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4, 8, 12, ...,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добна, например, такая простая 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стить числа в клетках заданного квадрата в порядке их возрастания (в натуральном порядк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ить по углам заданного квадрата четыре квадрата со сторон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в центре один квадрат со сторон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яти выделенных квадратах обменять местами числа, расположенные симметрично относительно центра заданного квадрата; это значит, что в натуральном расположении чисел квадрат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твертог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надо поменять местам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6, 4 и 13, 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драты, составленные по указанной схеме, будут всегд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гическими симметрическ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7184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9064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0980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184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064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980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184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9064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0980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7184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064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0980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36576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440064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143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66294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41972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0640" y="3657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400640"/>
            <a:ext cx="0" cy="14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586728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909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907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6576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35268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2860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6576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66294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66294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860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5000">
    <p:zoom dir="out"/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1" nodeType="afterEffect" fill="hold" presetClass="entr" presetID="4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8300"/>
                            </p:stCondLst>
                            <p:childTnLst>
                              <p:par>
                                <p:cTn id="1807" nodeType="after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0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8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e6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8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fc6a"/>
                                      </p:to>
                                    </p:animClr>
                                    <p:set>
                                      <p:cBhvr>
                                        <p:cTn id="18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2" nodeType="after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400"/>
                            </p:stCondLst>
                            <p:childTnLst>
                              <p:par>
                                <p:cTn id="1838" nodeType="after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938 -0.00972 L 0.25729 0.32361 E">
                                      <p:cBhvr>
                                        <p:cTn id="183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-0.32361 L 1.66667E-006 -1.11022E-016 E">
                                      <p:cBhvr>
                                        <p:cTn id="1841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1.66667E-006 -1.11022E-016 L 0.25729 -0.32361 E">
                                      <p:cBhvr>
                                        <p:cTn id="184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0.32361 L 1.66667E-006 0 E">
                                      <p:cBhvr>
                                        <p:cTn id="184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41 -0.1088 L 0.00313 0.00648 E">
                                      <p:cBhvr>
                                        <p:cTn id="1847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138 -0.00694 L 0.08716 0.10811 E">
                                      <p:cBhvr>
                                        <p:cTn id="1849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208 -0.00232 L 0.08646 -0.10648 E">
                                      <p:cBhvr>
                                        <p:cTn id="1851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76 0.10811 L 0.00278 -0.00555 E">
                                      <p:cBhvr>
                                        <p:cTn id="1853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2900"/>
                            </p:stCondLst>
                            <p:childTnLst>
                              <p:par>
                                <p:cTn id="1855" nodeType="after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67080" y="1828800"/>
            <a:ext cx="3657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наиболее древних и наиболее совершенных видов кросс-сумм является так называемый магический (или волшебный)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ны магические квадраты впервые, по-видимому, китайцами, так как самое ранее упоминание о них встречается в китайской книге, написанной за 4000-5000 лет до нашей э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ейший в мире магический квадрат представлен выше. Черными кружками  в этом квадрате изображены четные (женственные) числа, белыми – нечетные (мужественные)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ычной записи он не так эффект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6185" b="0"/>
          <a:stretch/>
        </p:blipFill>
        <p:spPr>
          <a:xfrm>
            <a:off x="2895480" y="1523880"/>
            <a:ext cx="3216240" cy="302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52880" y="1752480"/>
          <a:ext cx="2513520" cy="2513880"/>
        </p:xfrm>
        <a:graphic>
          <a:graphicData uri="http://schemas.openxmlformats.org/drawingml/2006/table">
            <a:tbl>
              <a:tblPr/>
              <a:tblGrid>
                <a:gridCol w="837720"/>
                <a:gridCol w="838080"/>
                <a:gridCol w="83772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1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ё же это великолепный образец кросс-сумм! Девять порядковых чисел размещены в девяти клетках квадрата так, что суммы чисел вдоль каждой строки, каждого столбца и каждой из двух диагоналей одинаковы (основное свойство магического квадр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поздние сведения о магических квадратах относящиеся уже к 1 веку, получены из Индии. Вот один из таких древнеиндийских памятников почти 2000-летней да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715000" y="4038480"/>
          <a:ext cx="2743200" cy="27432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16 порядковых чисел размещены в шестнадцати клетках квадрата так, что выполняется основное свойство магического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530"/>
          <a:stretch/>
        </p:blipFill>
        <p:spPr>
          <a:xfrm>
            <a:off x="3886200" y="3532320"/>
            <a:ext cx="4876920" cy="31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число магического квадрата участвует в двух суммах, а числа расположенные по диагоналям даже в трёх, и все эти суммы равны между с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аром в ту далёкую эпоху суеверий индийцы, а следом за ними и арабы приписывали этим числовым сочетаниям таинственные и магические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эта своеобразная мозаика чисел с её  постоянством сумм действительно придаёт квадрату «волшебную» силу произвед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агические квадраты вошли в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«Фаусте» Гете есть сцена приготовления колдуньей омолаживающего зел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, которыми колдунья сопровождает свои манипуляции, обычно воспринимаются читателями «Фауста» как тарабарщина, бессмыс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2666880"/>
          <a:ext cx="8991360" cy="4544640"/>
        </p:xfrm>
        <a:graphic>
          <a:graphicData uri="http://schemas.openxmlformats.org/drawingml/2006/table">
            <a:tbl>
              <a:tblPr/>
              <a:tblGrid>
                <a:gridCol w="4608720"/>
                <a:gridCol w="4382640"/>
              </a:tblGrid>
              <a:tr h="45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 must verstehen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Eins mach’ Ze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wei lass geh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Drei mach’ glei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bist 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lier die Vi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Fünf und Sech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sagt die Hex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h’ Sieben und Ach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its’s vollbrach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Neun ist 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ehn ist k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ist das Hexen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mal-Eins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единицы делаешь 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аешь 2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такж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ркиваешь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5 и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шь 7 и 8 (и наобор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 го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9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7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7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6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8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3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xit" presetID="7" presetSubtype="1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8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6700"/>
                            </p:stCondLst>
                            <p:childTnLst>
                              <p:par>
                                <p:cTn id="172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7200"/>
                            </p:stCondLst>
                            <p:childTnLst>
                              <p:par>
                                <p:cTn id="177" nodeType="afterEffect" fill="hold" presetClass="exit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700"/>
                            </p:stCondLst>
                            <p:childTnLst>
                              <p:par>
                                <p:cTn id="182" nodeType="afterEffect" fill="hold" presetClass="exit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8200"/>
                            </p:stCondLst>
                            <p:childTnLst>
                              <p:par>
                                <p:cTn id="187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8700"/>
                            </p:stCondLst>
                            <p:childTnLst>
                              <p:par>
                                <p:cTn id="192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2.96091E-006 L -0.00365 -0.5244 E">
                                      <p:cBhvr>
                                        <p:cTn id="19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мог же Гете потерять чувство художественной меры и отдать абракадабре целых 13 строк поэтического тек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ые комментаторы и исследователи бесплодно тратили усилия на поиски с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, скрытого в этом тринадцатистишии: Очевидно, y них не возникала мысль попытаться воспроизвести на бумаге рекомендации колдун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193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это сделаем. построим квадрат из девяти ячеек и разместим в ячейках 9 первых натуральных чисел в порядке их следования. Выполним указания колдунь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елаешь 10 —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ячейке заменяем ЧИСЛО 1 числом 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2 и 3 оставляем на своих местах, так как сказано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ускаешь 2, a также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черкиваеш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— это значит заменяем нулем число 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м 5 и 6 числами 7 и 8, а в ячейки, занятые числами 7 и 8, вписываем 5 и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768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6320" y="58611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768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6320" y="514044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2768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6320" y="44197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41972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4044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86116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658188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768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1465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8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xit" presetID="37">
                                  <p:stCondLst>
                                    <p:cond delay="12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800"/>
                            </p:stCondLst>
                            <p:childTnLst>
                              <p:par>
                                <p:cTn id="222" nodeType="afterEffect" fill="hold" presetClass="exit" presetID="37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3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8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4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7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67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72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13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7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56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674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8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83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1000"/>
                            </p:stCondLst>
                            <p:childTnLst>
                              <p:par>
                                <p:cTn id="344" nodeType="after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5.55112E-017 4.56627E-006 L 0.075 -0.09994 E">
                                      <p:cBhvr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1.16586E-006 L 0.075 -0.09993 E">
                                      <p:cBhvr>
                                        <p:cTn id="34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9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2.22222E-006 3.28244E-006 L -0.07778 0.10895 E">
                                      <p:cBhvr>
                                        <p:cTn id="34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0.00278 0.00509 L -0.07778 0.10294 E">
                                      <p:cBhvr>
                                        <p:cTn id="35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0666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дунья говорит: «Квадрат готов», но тут она хитрит. Ей еще надо в последней ячейке квадрата заменить девятку числом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еперь формирование «талисмана» окончено и последние три строки тринадцатистишия уже ничего не добавляют к пониманию смысла «заклинаний» колдуньи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ь получившегося квадрата состоит в том, что магическая константа (15) получается только при сложении чисел вдоль любой строки и любого столбца, но не вдоль диагона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 с таким свойством чисел, занимающих его ячейки, принято называ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магическ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вращением начального квадрата в полумагический Гете символизировал процесс омoложeния Фау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9360" y="58262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9456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24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664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9456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69360" y="438480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6640" y="438480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6640" y="5105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6640" y="582624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46640" y="654696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664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6936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4664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466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8">
                                  <p:stCondLst>
                                    <p:cond delay="8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400"/>
                            </p:stCondLst>
                            <p:childTnLst>
                              <p:par>
                                <p:cTn id="4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9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9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11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Европу магические квадраты проникли лишь в начале XV века. A в начале XVI века один из них был увековечен выдающимся немецким художником, гравером и немного математиком А. Дюрером в его лучшей гравюре «Меланхолия» (1514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рер воспроизвел на гравюре (в несколько измененном виде) тот самый магический квадрат, составленный из 16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57200" y="426708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арование этого магического квадрата не только в постоянстве сумм, которое является лишь его основным свойством. Подобно тому, как в истинно художественн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едении находишь тем больше новых привлекательных сторон, чем больше в него вглядываешься, так и в этом произведении математического искусства таи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ло красивых свойств, помимо основ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0"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6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82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3-27T15:25:12Z</dcterms:modified>
  <cp:revision>3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