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589-2031-41F1-A3AE-594AFC2A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71F-70C3-463F-9F8D-43842C10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C107-CDB0-41F3-8D85-59B09401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CEF-1EE3-43C3-9DB2-BCE4CF9F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E05-42D4-4C77-96F5-DD172B5F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674-CE48-4759-B9A7-D1806D63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870-EDEA-48AB-BDCB-D0217DEA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AF0-64A0-447C-A1E4-AACC0D87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3FB-FF5A-4E56-9842-5FAEEBDD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1F9-6AE1-4C7D-AAC1-14C2C635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75E-E6BC-498A-9213-BEDF09FA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48FA-DB5C-4C38-A586-31ED1E21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7DD7-CD21-490E-AB89-9C1B4EFAC4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ЛУЧ И УГО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Подготовлено:</a:t>
            </a:r>
            <a:br>
              <a:rPr sz="3000"/>
            </a:b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учителем математики Еремеевой М.В.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МОУ «СОШ №25» г. Бийс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презентации использова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3-4 учебника Геометрия 7-9 авто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.С. Атанасян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я из Пособия для учащихся общеобразовательных учреждений «Рабочая тетрадь 7 кл.» авто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.С. Атанасян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асть1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ЕШЕНИЕ ЗАДАЧ НА ПОВТОРЕ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йте определение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рез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Какие понятия в геометрии считаются неопределимым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м отличается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орем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ксио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Какое утверждение можно считать определение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одержимое 2"/>
          <p:cNvSpPr/>
          <p:nvPr/>
        </p:nvSpPr>
        <p:spPr>
          <a:xfrm>
            <a:off x="324000" y="1628640"/>
            <a:ext cx="8820000" cy="52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ово взаимное расположение двух прямых на плоскос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Сколько общих точек может быть у двух прямых на плоскос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рно ли, что если прямая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раллельна прямой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пересекает прямую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 то прямая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акже пересекает прямую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1385" t="21516" r="2531" b="2925"/>
          <a:stretch/>
        </p:blipFill>
        <p:spPr>
          <a:xfrm>
            <a:off x="0" y="476280"/>
            <a:ext cx="9144000" cy="230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rcRect l="0" t="19535" r="-5015" b="0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5" descr=""/>
          <p:cNvPicPr/>
          <p:nvPr/>
        </p:nvPicPr>
        <p:blipFill>
          <a:blip r:embed="rId3"/>
          <a:stretch/>
        </p:blipFill>
        <p:spPr>
          <a:xfrm>
            <a:off x="-195120" y="-115920"/>
            <a:ext cx="6930720" cy="7747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6" descr=""/>
          <p:cNvPicPr/>
          <p:nvPr/>
        </p:nvPicPr>
        <p:blipFill>
          <a:blip r:embed="rId4"/>
          <a:stretch/>
        </p:blipFill>
        <p:spPr>
          <a:xfrm>
            <a:off x="-212760" y="3017880"/>
            <a:ext cx="694836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8748720" cy="309564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5" descr=""/>
          <p:cNvPicPr/>
          <p:nvPr/>
        </p:nvPicPr>
        <p:blipFill>
          <a:blip r:embed="rId2"/>
          <a:stretch/>
        </p:blipFill>
        <p:spPr>
          <a:xfrm>
            <a:off x="-268200" y="-115920"/>
            <a:ext cx="6937200" cy="77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0" y="3645000"/>
            <a:ext cx="7740720" cy="321300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6" descr=""/>
          <p:cNvPicPr/>
          <p:nvPr/>
        </p:nvPicPr>
        <p:blipFill>
          <a:blip r:embed="rId4"/>
          <a:stretch/>
        </p:blipFill>
        <p:spPr>
          <a:xfrm>
            <a:off x="-212760" y="3090960"/>
            <a:ext cx="694836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5" descr=""/>
          <p:cNvPicPr/>
          <p:nvPr/>
        </p:nvPicPr>
        <p:blipFill>
          <a:blip r:embed="rId1"/>
          <a:stretch/>
        </p:blipFill>
        <p:spPr>
          <a:xfrm>
            <a:off x="237960" y="-115920"/>
            <a:ext cx="6931080" cy="77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23840" y="765000"/>
            <a:ext cx="90201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асть 2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Лу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5"/>
          <p:cNvSpPr/>
          <p:nvPr/>
        </p:nvSpPr>
        <p:spPr>
          <a:xfrm flipV="1">
            <a:off x="1619280" y="2276640"/>
            <a:ext cx="6192720" cy="324000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042920" y="429264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extBox 8" descr=""/>
          <p:cNvPicPr/>
          <p:nvPr/>
        </p:nvPicPr>
        <p:blipFill>
          <a:blip r:embed="rId1"/>
          <a:stretch/>
        </p:blipFill>
        <p:spPr>
          <a:xfrm>
            <a:off x="3449520" y="2262240"/>
            <a:ext cx="2097360" cy="1712880"/>
          </a:xfrm>
          <a:prstGeom prst="rect">
            <a:avLst/>
          </a:prstGeom>
          <a:ln w="0">
            <a:noFill/>
          </a:ln>
        </p:spPr>
      </p:pic>
      <p:grpSp>
        <p:nvGrpSpPr>
          <p:cNvPr id="60" name="Группа 18"/>
          <p:cNvGrpSpPr/>
          <p:nvPr/>
        </p:nvGrpSpPr>
        <p:grpSpPr>
          <a:xfrm>
            <a:off x="4716360" y="2205000"/>
            <a:ext cx="3901680" cy="2736720"/>
            <a:chOff x="4716360" y="2205000"/>
            <a:chExt cx="3901680" cy="2736720"/>
          </a:xfrm>
        </p:grpSpPr>
        <p:sp>
          <p:nvSpPr>
            <p:cNvPr id="61" name="Прямая соединительная линия 9"/>
            <p:cNvSpPr/>
            <p:nvPr/>
          </p:nvSpPr>
          <p:spPr>
            <a:xfrm flipV="1">
              <a:off x="4716360" y="2205000"/>
              <a:ext cx="3240720" cy="16840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14"/>
            <p:cNvSpPr/>
            <p:nvPr/>
          </p:nvSpPr>
          <p:spPr>
            <a:xfrm rot="19917000">
              <a:off x="5219640" y="3041640"/>
              <a:ext cx="331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Calibri"/>
                </a:rPr>
                <a:t>Луч 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Группа 17"/>
          <p:cNvGrpSpPr/>
          <p:nvPr/>
        </p:nvGrpSpPr>
        <p:grpSpPr>
          <a:xfrm>
            <a:off x="1547640" y="3860640"/>
            <a:ext cx="3626640" cy="2944440"/>
            <a:chOff x="1547640" y="3860640"/>
            <a:chExt cx="3626640" cy="2944440"/>
          </a:xfrm>
        </p:grpSpPr>
        <p:sp>
          <p:nvSpPr>
            <p:cNvPr id="64" name="Прямая соединительная линия 13"/>
            <p:cNvSpPr/>
            <p:nvPr/>
          </p:nvSpPr>
          <p:spPr>
            <a:xfrm flipV="1">
              <a:off x="1547640" y="3860640"/>
              <a:ext cx="3240000" cy="1684080"/>
            </a:xfrm>
            <a:prstGeom prst="line">
              <a:avLst/>
            </a:prstGeom>
            <a:ln w="127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16"/>
            <p:cNvSpPr/>
            <p:nvPr/>
          </p:nvSpPr>
          <p:spPr>
            <a:xfrm rot="19917000">
              <a:off x="1776600" y="4905000"/>
              <a:ext cx="3312000" cy="119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Calibri"/>
                </a:rPr>
                <a:t>Луч 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Овал 7"/>
          <p:cNvGrpSpPr/>
          <p:nvPr/>
        </p:nvGrpSpPr>
        <p:grpSpPr>
          <a:xfrm>
            <a:off x="4584600" y="3754440"/>
            <a:ext cx="328680" cy="324000"/>
            <a:chOff x="4584600" y="3754440"/>
            <a:chExt cx="328680" cy="324000"/>
          </a:xfrm>
        </p:grpSpPr>
        <p:pic>
          <p:nvPicPr>
            <p:cNvPr id="67" name="Овал 7" descr=""/>
            <p:cNvPicPr/>
            <p:nvPr/>
          </p:nvPicPr>
          <p:blipFill>
            <a:blip r:embed="rId2"/>
            <a:stretch/>
          </p:blipFill>
          <p:spPr>
            <a:xfrm>
              <a:off x="4584600" y="3754440"/>
              <a:ext cx="32868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75320" y="3821040"/>
              <a:ext cx="15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Г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TextBox 8" descr=""/>
          <p:cNvPicPr/>
          <p:nvPr/>
        </p:nvPicPr>
        <p:blipFill>
          <a:blip r:embed="rId1"/>
          <a:stretch/>
        </p:blipFill>
        <p:spPr>
          <a:xfrm>
            <a:off x="3524400" y="2262240"/>
            <a:ext cx="2095200" cy="1712880"/>
          </a:xfrm>
          <a:prstGeom prst="rect">
            <a:avLst/>
          </a:prstGeom>
          <a:ln w="0">
            <a:noFill/>
          </a:ln>
        </p:spPr>
      </p:pic>
      <p:grpSp>
        <p:nvGrpSpPr>
          <p:cNvPr id="71" name="Группа 18"/>
          <p:cNvGrpSpPr/>
          <p:nvPr/>
        </p:nvGrpSpPr>
        <p:grpSpPr>
          <a:xfrm>
            <a:off x="4787280" y="2205000"/>
            <a:ext cx="3830760" cy="2736720"/>
            <a:chOff x="4787280" y="2205000"/>
            <a:chExt cx="3830760" cy="2736720"/>
          </a:xfrm>
        </p:grpSpPr>
        <p:sp>
          <p:nvSpPr>
            <p:cNvPr id="72" name="Прямая соединительная линия 9"/>
            <p:cNvSpPr/>
            <p:nvPr/>
          </p:nvSpPr>
          <p:spPr>
            <a:xfrm flipV="1">
              <a:off x="4787280" y="2205000"/>
              <a:ext cx="3241080" cy="16840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14"/>
            <p:cNvSpPr/>
            <p:nvPr/>
          </p:nvSpPr>
          <p:spPr>
            <a:xfrm rot="19917000">
              <a:off x="5219280" y="3041280"/>
              <a:ext cx="331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Calibri"/>
                </a:rPr>
                <a:t>Луч 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Группа 17"/>
          <p:cNvGrpSpPr/>
          <p:nvPr/>
        </p:nvGrpSpPr>
        <p:grpSpPr>
          <a:xfrm>
            <a:off x="1094400" y="3741840"/>
            <a:ext cx="3659040" cy="1531440"/>
            <a:chOff x="1094400" y="3741840"/>
            <a:chExt cx="3659040" cy="1531440"/>
          </a:xfrm>
        </p:grpSpPr>
        <p:sp>
          <p:nvSpPr>
            <p:cNvPr id="75" name="Прямая соединительная линия 13"/>
            <p:cNvSpPr/>
            <p:nvPr/>
          </p:nvSpPr>
          <p:spPr>
            <a:xfrm>
              <a:off x="1104480" y="3741840"/>
              <a:ext cx="3648960" cy="134280"/>
            </a:xfrm>
            <a:prstGeom prst="line">
              <a:avLst/>
            </a:prstGeom>
            <a:ln w="127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16"/>
            <p:cNvSpPr/>
            <p:nvPr/>
          </p:nvSpPr>
          <p:spPr>
            <a:xfrm rot="91200">
              <a:off x="1109520" y="4038120"/>
              <a:ext cx="331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Calibri"/>
                </a:rPr>
                <a:t>Луч 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Овал 7"/>
          <p:cNvGrpSpPr/>
          <p:nvPr/>
        </p:nvGrpSpPr>
        <p:grpSpPr>
          <a:xfrm>
            <a:off x="4584600" y="3754440"/>
            <a:ext cx="328680" cy="324000"/>
            <a:chOff x="4584600" y="3754440"/>
            <a:chExt cx="328680" cy="324000"/>
          </a:xfrm>
        </p:grpSpPr>
        <p:pic>
          <p:nvPicPr>
            <p:cNvPr id="78" name="Овал 7" descr=""/>
            <p:cNvPicPr/>
            <p:nvPr/>
          </p:nvPicPr>
          <p:blipFill>
            <a:blip r:embed="rId2"/>
            <a:stretch/>
          </p:blipFill>
          <p:spPr>
            <a:xfrm>
              <a:off x="4584600" y="3754440"/>
              <a:ext cx="32868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675320" y="3821040"/>
              <a:ext cx="15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Дуга 12"/>
          <p:cNvSpPr/>
          <p:nvPr/>
        </p:nvSpPr>
        <p:spPr>
          <a:xfrm>
            <a:off x="3348000" y="2133720"/>
            <a:ext cx="2376360" cy="2519280"/>
          </a:xfrm>
          <a:custGeom>
            <a:avLst/>
            <a:gdLst>
              <a:gd name="textAreaLeft" fmla="*/ 0 w 2376360"/>
              <a:gd name="textAreaRight" fmla="*/ 2372040 w 2376360"/>
              <a:gd name="textAreaTop" fmla="*/ 0 h 2519280"/>
              <a:gd name="textAreaBottom" fmla="*/ 1581480 h 2519280"/>
            </a:gdLst>
            <a:ahLst/>
            <a:rect l="textAreaLeft" t="textAreaTop" r="textAreaRight" b="textAreaBottom"/>
            <a:pathLst>
              <a:path stroke="0" w="2376264" h="2520280">
                <a:moveTo>
                  <a:pt x="39380" y="1581885"/>
                </a:moveTo>
                <a:lnTo>
                  <a:pt x="39380" y="1581885"/>
                </a:lnTo>
                <a:arcTo wR="1188132" hR="1260140" stAng="9861203" swAng="11423909"/>
                <a:lnTo>
                  <a:pt x="1188132" y="1260140"/>
                </a:lnTo>
                <a:close/>
              </a:path>
              <a:path fill="none" w="2376264" h="2520280">
                <a:moveTo>
                  <a:pt x="39380" y="1581885"/>
                </a:moveTo>
                <a:lnTo>
                  <a:pt x="39380" y="1581885"/>
                </a:lnTo>
                <a:arcTo wR="1188132" hR="1260140" stAng="9861203" swAng="11423909"/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3059280" y="5516640"/>
            <a:ext cx="38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1116000" y="2421000"/>
            <a:ext cx="71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7093080" y="1197000"/>
            <a:ext cx="71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ая соединительная линия 5"/>
          <p:cNvSpPr/>
          <p:nvPr/>
        </p:nvSpPr>
        <p:spPr>
          <a:xfrm flipV="1">
            <a:off x="1619280" y="2276640"/>
            <a:ext cx="6192720" cy="324000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042920" y="429264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TextBox 8" descr=""/>
          <p:cNvPicPr/>
          <p:nvPr/>
        </p:nvPicPr>
        <p:blipFill>
          <a:blip r:embed="rId1"/>
          <a:stretch/>
        </p:blipFill>
        <p:spPr>
          <a:xfrm>
            <a:off x="3449520" y="2262240"/>
            <a:ext cx="2097360" cy="1712880"/>
          </a:xfrm>
          <a:prstGeom prst="rect">
            <a:avLst/>
          </a:prstGeom>
          <a:ln w="0">
            <a:noFill/>
          </a:ln>
        </p:spPr>
      </p:pic>
      <p:grpSp>
        <p:nvGrpSpPr>
          <p:cNvPr id="87" name="Овал 7"/>
          <p:cNvGrpSpPr/>
          <p:nvPr/>
        </p:nvGrpSpPr>
        <p:grpSpPr>
          <a:xfrm>
            <a:off x="4584600" y="3754440"/>
            <a:ext cx="328680" cy="324000"/>
            <a:chOff x="4584600" y="3754440"/>
            <a:chExt cx="328680" cy="324000"/>
          </a:xfrm>
        </p:grpSpPr>
        <p:pic>
          <p:nvPicPr>
            <p:cNvPr id="88" name="Овал 7" descr=""/>
            <p:cNvPicPr/>
            <p:nvPr/>
          </p:nvPicPr>
          <p:blipFill>
            <a:blip r:embed="rId2"/>
            <a:stretch/>
          </p:blipFill>
          <p:spPr>
            <a:xfrm>
              <a:off x="4584600" y="3754440"/>
              <a:ext cx="32868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75320" y="3821040"/>
              <a:ext cx="15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Заголовок 1"/>
          <p:cNvSpPr/>
          <p:nvPr/>
        </p:nvSpPr>
        <p:spPr>
          <a:xfrm>
            <a:off x="539640" y="189000"/>
            <a:ext cx="822960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alibri"/>
              </a:rPr>
              <a:t>Развернутый угол – </a:t>
            </a:r>
            <a:br>
              <a:rPr sz="4900"/>
            </a:br>
            <a:r>
              <a:rPr b="1" lang="ru-RU" sz="4900" spc="-1" strike="noStrike">
                <a:solidFill>
                  <a:srgbClr val="ff0000"/>
                </a:solidFill>
                <a:latin typeface="Calibri"/>
              </a:rPr>
              <a:t>обе его стороны лежат на одной прямой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ласти уг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ирог 15"/>
          <p:cNvSpPr/>
          <p:nvPr/>
        </p:nvSpPr>
        <p:spPr>
          <a:xfrm rot="7398000">
            <a:off x="-449280" y="568080"/>
            <a:ext cx="7881840" cy="7574040"/>
          </a:xfrm>
          <a:custGeom>
            <a:avLst/>
            <a:gdLst>
              <a:gd name="textAreaLeft" fmla="*/ 1154160 w 7881840"/>
              <a:gd name="textAreaRight" fmla="*/ 6727680 w 7881840"/>
              <a:gd name="textAreaTop" fmla="*/ 1109160 h 7574040"/>
              <a:gd name="textAreaBottom" fmla="*/ 6464880 h 7574040"/>
            </a:gdLst>
            <a:ahLst/>
            <a:rect l="textAreaLeft" t="textAreaTop" r="textAreaRight" b="textAreaBottom"/>
            <a:pathLst>
              <a:path w="7881778" h="7572926">
                <a:moveTo>
                  <a:pt x="13256" y="4096765"/>
                </a:moveTo>
                <a:lnTo>
                  <a:pt x="13256" y="4096765"/>
                </a:lnTo>
                <a:arcTo wR="3940889" hR="3786463" stAng="10528964" swAng="6092272"/>
                <a:lnTo>
                  <a:pt x="3940889" y="378646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TextBox 16" descr=""/>
          <p:cNvPicPr/>
          <p:nvPr/>
        </p:nvPicPr>
        <p:blipFill>
          <a:blip r:embed="rId1"/>
          <a:stretch/>
        </p:blipFill>
        <p:spPr>
          <a:xfrm>
            <a:off x="3803760" y="3139920"/>
            <a:ext cx="3760560" cy="159732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17" descr=""/>
          <p:cNvPicPr/>
          <p:nvPr/>
        </p:nvPicPr>
        <p:blipFill>
          <a:blip r:embed="rId2"/>
          <a:stretch/>
        </p:blipFill>
        <p:spPr>
          <a:xfrm>
            <a:off x="66600" y="2073240"/>
            <a:ext cx="37195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1:49:54Z</dcterms:created>
  <dc:creator>Дочь</dc:creator>
  <dc:description/>
  <dc:language>en-US</dc:language>
  <cp:lastModifiedBy>Дочь</cp:lastModifiedBy>
  <dcterms:modified xsi:type="dcterms:W3CDTF">2011-09-05T12:43:27Z</dcterms:modified>
  <cp:revision>11</cp:revision>
  <dc:subject/>
  <dc:title>Слайд 1</dc:title>
</cp:coreProperties>
</file>