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C57-9E60-4456-B994-03E2A402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524-9E86-480E-BD72-291EA2F5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F7C-E5CB-46E4-96C8-FDAC10A7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008-AA4D-4A22-9EFE-169F1D8A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6FB-F907-4B7E-A821-5F24E048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376-B2CB-4D85-8222-DF43D994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E7F-2F18-49B3-9686-A301FDB9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0CF-7072-44B4-BCD2-C8B68B1B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EBD-3453-4D07-A3E3-0F19D84C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0D9-6AA9-4FAD-9CEB-1646C985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FAA-27B1-4222-BF94-8184338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A19-181A-4A1B-9076-3444E329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AD94-E8E7-4153-B32F-7E72AD3A5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ЛУЧ И УГО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Подготовлено:</a:t>
            </a:r>
            <a:br>
              <a:rPr sz="3000"/>
            </a:b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учителем математики Еремеевой М.В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МОУ «СОШ №25» г. Бийс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резентации использова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3-4 учебника Геометрия 7-9 ав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Атанасян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из Пособия для учащихся общеобразовательных учреждений «Рабочая тетрадь 7 кл.» ав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Атанасян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асть1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ШЕНИЕ ЗАДАЧ НА ПОВТОРЕ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йте определение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рез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Какие понятия в геометрии считаются неопределимы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м отличаетс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орем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сио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Какое утверждение можно считать определени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одержимое 2"/>
          <p:cNvSpPr/>
          <p:nvPr/>
        </p:nvSpPr>
        <p:spPr>
          <a:xfrm>
            <a:off x="324000" y="1628640"/>
            <a:ext cx="88200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во взаимное расположение двух прямых на плоск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Сколько общих точек может быть у двух прямых на плоск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рно ли, что если прямая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раллельна прямой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пересекает прямую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то прямая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кже пересекает прямую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1385" t="21516" r="2531" b="2925"/>
          <a:stretch/>
        </p:blipFill>
        <p:spPr>
          <a:xfrm>
            <a:off x="0" y="476280"/>
            <a:ext cx="914400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rcRect l="0" t="19535" r="-5015" b="0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5" descr=""/>
          <p:cNvPicPr/>
          <p:nvPr/>
        </p:nvPicPr>
        <p:blipFill>
          <a:blip r:embed="rId3"/>
          <a:stretch/>
        </p:blipFill>
        <p:spPr>
          <a:xfrm>
            <a:off x="-195120" y="-115920"/>
            <a:ext cx="6930720" cy="7747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6" descr=""/>
          <p:cNvPicPr/>
          <p:nvPr/>
        </p:nvPicPr>
        <p:blipFill>
          <a:blip r:embed="rId4"/>
          <a:stretch/>
        </p:blipFill>
        <p:spPr>
          <a:xfrm>
            <a:off x="-212760" y="3017880"/>
            <a:ext cx="69483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874872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5" descr=""/>
          <p:cNvPicPr/>
          <p:nvPr/>
        </p:nvPicPr>
        <p:blipFill>
          <a:blip r:embed="rId2"/>
          <a:stretch/>
        </p:blipFill>
        <p:spPr>
          <a:xfrm>
            <a:off x="-268200" y="-115920"/>
            <a:ext cx="6937200" cy="77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0" y="3645000"/>
            <a:ext cx="7740720" cy="321300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6" descr=""/>
          <p:cNvPicPr/>
          <p:nvPr/>
        </p:nvPicPr>
        <p:blipFill>
          <a:blip r:embed="rId4"/>
          <a:stretch/>
        </p:blipFill>
        <p:spPr>
          <a:xfrm>
            <a:off x="-212760" y="3090960"/>
            <a:ext cx="69483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5" descr=""/>
          <p:cNvPicPr/>
          <p:nvPr/>
        </p:nvPicPr>
        <p:blipFill>
          <a:blip r:embed="rId1"/>
          <a:stretch/>
        </p:blipFill>
        <p:spPr>
          <a:xfrm>
            <a:off x="237960" y="-115920"/>
            <a:ext cx="6931080" cy="77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23840" y="765000"/>
            <a:ext cx="90201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асть 2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Лу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5"/>
          <p:cNvSpPr/>
          <p:nvPr/>
        </p:nvSpPr>
        <p:spPr>
          <a:xfrm flipV="1">
            <a:off x="1619280" y="2276640"/>
            <a:ext cx="6192720" cy="324000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42920" y="4292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Box 8" descr=""/>
          <p:cNvPicPr/>
          <p:nvPr/>
        </p:nvPicPr>
        <p:blipFill>
          <a:blip r:embed="rId1"/>
          <a:stretch/>
        </p:blipFill>
        <p:spPr>
          <a:xfrm>
            <a:off x="3449520" y="2262240"/>
            <a:ext cx="2097360" cy="171288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18"/>
          <p:cNvGrpSpPr/>
          <p:nvPr/>
        </p:nvGrpSpPr>
        <p:grpSpPr>
          <a:xfrm>
            <a:off x="4716360" y="2205000"/>
            <a:ext cx="3901680" cy="2736720"/>
            <a:chOff x="4716360" y="2205000"/>
            <a:chExt cx="3901680" cy="2736720"/>
          </a:xfrm>
        </p:grpSpPr>
        <p:sp>
          <p:nvSpPr>
            <p:cNvPr id="61" name="Прямая соединительная линия 9"/>
            <p:cNvSpPr/>
            <p:nvPr/>
          </p:nvSpPr>
          <p:spPr>
            <a:xfrm flipV="1">
              <a:off x="4716360" y="2205000"/>
              <a:ext cx="3240720" cy="16840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 rot="19917000">
              <a:off x="5219640" y="3041640"/>
              <a:ext cx="33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Группа 17"/>
          <p:cNvGrpSpPr/>
          <p:nvPr/>
        </p:nvGrpSpPr>
        <p:grpSpPr>
          <a:xfrm>
            <a:off x="1547640" y="3860640"/>
            <a:ext cx="3626640" cy="2944440"/>
            <a:chOff x="1547640" y="3860640"/>
            <a:chExt cx="3626640" cy="2944440"/>
          </a:xfrm>
        </p:grpSpPr>
        <p:sp>
          <p:nvSpPr>
            <p:cNvPr id="64" name="Прямая соединительная линия 13"/>
            <p:cNvSpPr/>
            <p:nvPr/>
          </p:nvSpPr>
          <p:spPr>
            <a:xfrm flipV="1">
              <a:off x="1547640" y="3860640"/>
              <a:ext cx="3240000" cy="168408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6"/>
            <p:cNvSpPr/>
            <p:nvPr/>
          </p:nvSpPr>
          <p:spPr>
            <a:xfrm rot="19917000">
              <a:off x="1776600" y="4905000"/>
              <a:ext cx="3312000" cy="119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Овал 7"/>
          <p:cNvGrpSpPr/>
          <p:nvPr/>
        </p:nvGrpSpPr>
        <p:grpSpPr>
          <a:xfrm>
            <a:off x="4584600" y="3754440"/>
            <a:ext cx="328680" cy="324000"/>
            <a:chOff x="4584600" y="3754440"/>
            <a:chExt cx="328680" cy="324000"/>
          </a:xfrm>
        </p:grpSpPr>
        <p:pic>
          <p:nvPicPr>
            <p:cNvPr id="67" name="Овал 7" descr=""/>
            <p:cNvPicPr/>
            <p:nvPr/>
          </p:nvPicPr>
          <p:blipFill>
            <a:blip r:embed="rId2"/>
            <a:stretch/>
          </p:blipFill>
          <p:spPr>
            <a:xfrm>
              <a:off x="4584600" y="375444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75320" y="3821040"/>
              <a:ext cx="1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Г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extBox 8" descr=""/>
          <p:cNvPicPr/>
          <p:nvPr/>
        </p:nvPicPr>
        <p:blipFill>
          <a:blip r:embed="rId1"/>
          <a:stretch/>
        </p:blipFill>
        <p:spPr>
          <a:xfrm>
            <a:off x="3524400" y="2262240"/>
            <a:ext cx="20952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71" name="Группа 18"/>
          <p:cNvGrpSpPr/>
          <p:nvPr/>
        </p:nvGrpSpPr>
        <p:grpSpPr>
          <a:xfrm>
            <a:off x="4787280" y="2205000"/>
            <a:ext cx="3830760" cy="2736720"/>
            <a:chOff x="4787280" y="2205000"/>
            <a:chExt cx="3830760" cy="2736720"/>
          </a:xfrm>
        </p:grpSpPr>
        <p:sp>
          <p:nvSpPr>
            <p:cNvPr id="72" name="Прямая соединительная линия 9"/>
            <p:cNvSpPr/>
            <p:nvPr/>
          </p:nvSpPr>
          <p:spPr>
            <a:xfrm flipV="1">
              <a:off x="4787280" y="2205000"/>
              <a:ext cx="3241080" cy="16840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14"/>
            <p:cNvSpPr/>
            <p:nvPr/>
          </p:nvSpPr>
          <p:spPr>
            <a:xfrm rot="19917000">
              <a:off x="5219280" y="304128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Группа 17"/>
          <p:cNvGrpSpPr/>
          <p:nvPr/>
        </p:nvGrpSpPr>
        <p:grpSpPr>
          <a:xfrm>
            <a:off x="1094400" y="3741840"/>
            <a:ext cx="3659040" cy="1531440"/>
            <a:chOff x="1094400" y="3741840"/>
            <a:chExt cx="3659040" cy="1531440"/>
          </a:xfrm>
        </p:grpSpPr>
        <p:sp>
          <p:nvSpPr>
            <p:cNvPr id="75" name="Прямая соединительная линия 13"/>
            <p:cNvSpPr/>
            <p:nvPr/>
          </p:nvSpPr>
          <p:spPr>
            <a:xfrm>
              <a:off x="1104480" y="3741840"/>
              <a:ext cx="3648960" cy="13428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 rot="91200">
              <a:off x="1109520" y="4038120"/>
              <a:ext cx="331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Овал 7"/>
          <p:cNvGrpSpPr/>
          <p:nvPr/>
        </p:nvGrpSpPr>
        <p:grpSpPr>
          <a:xfrm>
            <a:off x="4584600" y="3754440"/>
            <a:ext cx="328680" cy="324000"/>
            <a:chOff x="4584600" y="3754440"/>
            <a:chExt cx="328680" cy="324000"/>
          </a:xfrm>
        </p:grpSpPr>
        <p:pic>
          <p:nvPicPr>
            <p:cNvPr id="78" name="Овал 7" descr=""/>
            <p:cNvPicPr/>
            <p:nvPr/>
          </p:nvPicPr>
          <p:blipFill>
            <a:blip r:embed="rId2"/>
            <a:stretch/>
          </p:blipFill>
          <p:spPr>
            <a:xfrm>
              <a:off x="4584600" y="375444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675320" y="3821040"/>
              <a:ext cx="1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Дуга 12"/>
          <p:cNvSpPr/>
          <p:nvPr/>
        </p:nvSpPr>
        <p:spPr>
          <a:xfrm>
            <a:off x="3348000" y="2133720"/>
            <a:ext cx="2376360" cy="2519280"/>
          </a:xfrm>
          <a:custGeom>
            <a:avLst/>
            <a:gdLst>
              <a:gd name="textAreaLeft" fmla="*/ 0 w 2376360"/>
              <a:gd name="textAreaRight" fmla="*/ 2372040 w 2376360"/>
              <a:gd name="textAreaTop" fmla="*/ 0 h 2519280"/>
              <a:gd name="textAreaBottom" fmla="*/ 1581480 h 2519280"/>
            </a:gdLst>
            <a:ahLst/>
            <a:rect l="textAreaLeft" t="textAreaTop" r="textAreaRight" b="textAreaBottom"/>
            <a:pathLst>
              <a:path stroke="0" w="2376264" h="2520280">
                <a:moveTo>
                  <a:pt x="39380" y="1581885"/>
                </a:moveTo>
                <a:lnTo>
                  <a:pt x="39380" y="1581885"/>
                </a:lnTo>
                <a:arcTo wR="1188132" hR="1260140" stAng="9861203" swAng="11423909"/>
                <a:lnTo>
                  <a:pt x="1188132" y="1260140"/>
                </a:lnTo>
                <a:close/>
              </a:path>
              <a:path fill="none" w="2376264" h="2520280">
                <a:moveTo>
                  <a:pt x="39380" y="1581885"/>
                </a:moveTo>
                <a:lnTo>
                  <a:pt x="39380" y="1581885"/>
                </a:lnTo>
                <a:arcTo wR="1188132" hR="1260140" stAng="9861203" swAng="11423909"/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3059280" y="5516640"/>
            <a:ext cx="38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116000" y="2421000"/>
            <a:ext cx="7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7093080" y="1197000"/>
            <a:ext cx="71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я соединительная линия 5"/>
          <p:cNvSpPr/>
          <p:nvPr/>
        </p:nvSpPr>
        <p:spPr>
          <a:xfrm flipV="1">
            <a:off x="1619280" y="2276640"/>
            <a:ext cx="6192720" cy="324000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042920" y="4292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Box 8" descr=""/>
          <p:cNvPicPr/>
          <p:nvPr/>
        </p:nvPicPr>
        <p:blipFill>
          <a:blip r:embed="rId1"/>
          <a:stretch/>
        </p:blipFill>
        <p:spPr>
          <a:xfrm>
            <a:off x="3449520" y="2262240"/>
            <a:ext cx="2097360" cy="1712880"/>
          </a:xfrm>
          <a:prstGeom prst="rect">
            <a:avLst/>
          </a:prstGeom>
          <a:ln w="0">
            <a:noFill/>
          </a:ln>
        </p:spPr>
      </p:pic>
      <p:grpSp>
        <p:nvGrpSpPr>
          <p:cNvPr id="87" name="Овал 7"/>
          <p:cNvGrpSpPr/>
          <p:nvPr/>
        </p:nvGrpSpPr>
        <p:grpSpPr>
          <a:xfrm>
            <a:off x="4584600" y="3754440"/>
            <a:ext cx="328680" cy="324000"/>
            <a:chOff x="4584600" y="3754440"/>
            <a:chExt cx="328680" cy="324000"/>
          </a:xfrm>
        </p:grpSpPr>
        <p:pic>
          <p:nvPicPr>
            <p:cNvPr id="88" name="Овал 7" descr=""/>
            <p:cNvPicPr/>
            <p:nvPr/>
          </p:nvPicPr>
          <p:blipFill>
            <a:blip r:embed="rId2"/>
            <a:stretch/>
          </p:blipFill>
          <p:spPr>
            <a:xfrm>
              <a:off x="4584600" y="375444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75320" y="3821040"/>
              <a:ext cx="1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Заголовок 1"/>
          <p:cNvSpPr/>
          <p:nvPr/>
        </p:nvSpPr>
        <p:spPr>
          <a:xfrm>
            <a:off x="539640" y="189000"/>
            <a:ext cx="82296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Развернутый угол – 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обе его стороны лежат на одной прямой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ласти уг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ирог 15"/>
          <p:cNvSpPr/>
          <p:nvPr/>
        </p:nvSpPr>
        <p:spPr>
          <a:xfrm rot="7398000">
            <a:off x="-449280" y="568080"/>
            <a:ext cx="7881840" cy="7574040"/>
          </a:xfrm>
          <a:custGeom>
            <a:avLst/>
            <a:gdLst>
              <a:gd name="textAreaLeft" fmla="*/ 1154160 w 7881840"/>
              <a:gd name="textAreaRight" fmla="*/ 6727680 w 7881840"/>
              <a:gd name="textAreaTop" fmla="*/ 1109160 h 7574040"/>
              <a:gd name="textAreaBottom" fmla="*/ 6464880 h 7574040"/>
            </a:gdLst>
            <a:ahLst/>
            <a:rect l="textAreaLeft" t="textAreaTop" r="textAreaRight" b="textAreaBottom"/>
            <a:pathLst>
              <a:path w="7881778" h="7572926">
                <a:moveTo>
                  <a:pt x="13256" y="4096765"/>
                </a:moveTo>
                <a:lnTo>
                  <a:pt x="13256" y="4096765"/>
                </a:lnTo>
                <a:arcTo wR="3940889" hR="3786463" stAng="10528964" swAng="6092272"/>
                <a:lnTo>
                  <a:pt x="3940889" y="378646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TextBox 16" descr=""/>
          <p:cNvPicPr/>
          <p:nvPr/>
        </p:nvPicPr>
        <p:blipFill>
          <a:blip r:embed="rId1"/>
          <a:stretch/>
        </p:blipFill>
        <p:spPr>
          <a:xfrm>
            <a:off x="3803760" y="3139920"/>
            <a:ext cx="3760560" cy="159732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7" descr=""/>
          <p:cNvPicPr/>
          <p:nvPr/>
        </p:nvPicPr>
        <p:blipFill>
          <a:blip r:embed="rId2"/>
          <a:stretch/>
        </p:blipFill>
        <p:spPr>
          <a:xfrm>
            <a:off x="66600" y="2073240"/>
            <a:ext cx="37195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1:49:54Z</dcterms:created>
  <dc:creator>Дочь</dc:creator>
  <dc:description/>
  <dc:language>en-US</dc:language>
  <cp:lastModifiedBy>Дочь</cp:lastModifiedBy>
  <dcterms:modified xsi:type="dcterms:W3CDTF">2011-09-05T12:43:27Z</dcterms:modified>
  <cp:revision>11</cp:revision>
  <dc:subject/>
  <dc:title>Слайд 1</dc:title>
</cp:coreProperties>
</file>