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A78-8636-4882-AAE9-BCCA4DD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CCE-25A1-4784-83ED-FF7E487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1C9-E744-4F5D-ACF9-A87A0AEB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D4C-586D-4C60-AD7E-3D39BE75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9923-58C2-4FB1-A2B7-0D094E24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6F9-3DF3-4990-BB54-4BAD793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BE78-9A1C-4C58-9FEA-63A0E92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BF9A-E8A7-4CC8-A46C-B1AB659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0F99-558D-4BB6-9C89-2B187CD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6394-9989-4CAE-B53D-458AED1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F3C7-B760-42D0-8CC2-319D393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CF8-CEE2-41E0-B732-2798A31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ABD-B7A8-4B47-B287-458E3DA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269-5E7A-48C8-9F0C-362ED61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0D2A-CC3E-429C-B240-BD77853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D42-646D-491D-AFB3-038087A0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E18-4BA6-4F4D-BE67-3CC33740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459-442E-4533-902C-DC690EA6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434-EA16-4840-BD9F-B4F2D7D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16D-3957-487B-8232-FF3D1DC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A89-A601-4F26-80D0-44FDE262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FF5-66A8-4D8B-9B45-02332F9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00A-1001-4F1E-8B5A-4953EF3A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2F8-8345-48F7-AA57-D6D6658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CE91-D8A2-4C28-BADB-7BF04C070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9E9-D92B-4A54-9777-A26F0DACF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Пользователь</cp:lastModifiedBy>
  <dcterms:modified xsi:type="dcterms:W3CDTF">2013-12-08T13:29:32Z</dcterms:modified>
  <cp:revision>6</cp:revision>
  <dc:subject/>
  <dc:title>Кластеры компетенций              учителей математики.</dc:title>
</cp:coreProperties>
</file>