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96A-D2A7-4D08-B400-F3ACF0DA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769-A3AB-481A-93CD-4D5AF69E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666-845F-43B6-84E8-E5A5408F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27C-691A-4DD0-83E6-701762B5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224-A796-4D14-9F3B-94E30B25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CF7D-1707-4CEF-9436-81798DE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0BFD-4277-4C9E-B5E9-07C4057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ACA0-6CDF-42A8-BC72-10A9DDD6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EBB-C81C-4B6E-B37D-9790348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0EB-4B78-480B-A76E-6CEA628D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40AA-D43E-479C-9B33-37CD24D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7CD-A04E-4015-B87B-F3614F5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6247-B66A-41DC-980A-9E6F9B3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4AF1-8693-415C-B368-FB6BFA7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F64-B0D6-4A4A-BD91-317B026B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E5B1-DAB7-4776-999D-04D75524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774-3617-49F9-8A71-AC195C93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D6D-0EEE-4FF3-8DFC-BE455E98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E09-DE9A-4A7E-837B-5B149854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BD9-A324-46FD-89A3-48C7C0D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3C1-A4C1-45AA-8C49-E7C6555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E7D-7239-4447-9F1C-A1728D9F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BAE-7D5E-4B49-B523-57036699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533-D828-438D-BBBE-63054F9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6BA-A9A3-4F16-936A-2935680B1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1B1-055B-411B-81AD-689B4F3078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Пользователь</cp:lastModifiedBy>
  <dcterms:modified xsi:type="dcterms:W3CDTF">2013-12-08T13:29:32Z</dcterms:modified>
  <cp:revision>6</cp:revision>
  <dc:subject/>
  <dc:title>Кластеры компетенций              учителей математики.</dc:title>
</cp:coreProperties>
</file>