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3D9-C3DE-4259-BFDD-72A47C32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3E1-F877-491D-9E9C-39A54DBD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E7B-0C1C-402D-8323-32AC4D22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FE0-A85E-4BFE-8DD1-22FD9D50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3672-C5BC-4811-A32D-AA527730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6DB8-F673-48BE-B2E5-4A9B53DB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B21A-E40A-4C5B-B71A-DD081C3D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2C59-83B2-45CE-8372-FE2F0123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3B76-42D3-406C-A6EF-C22447A1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D389-AD2A-4F13-883D-9BDC524E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FAAB-1B72-4E8C-BB6F-C96BF29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3C6-08BA-4A88-A8B5-07C1793E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B27C-BB65-4FFE-9C44-511CCCE8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96DE-F618-4E18-AED1-E5E5CB11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FB00-B684-4EE3-A14F-54E2B96B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3153-A130-4A18-AAA8-519BAAB2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E002-9730-4136-BB55-E8B70B56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46F-DF6B-431B-A647-C5CA5CEC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59C-0516-4C7D-8988-F33FCE9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E99-6061-4BD0-AAB8-45A3E609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8B8-24F1-495F-8DD1-83AEC36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83A-99DE-4DDF-9484-4E0AC874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9C5-1483-4013-99FA-0DE6F8DD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4F7-05D4-4FB8-913D-3709FD31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CB31-F7D0-4203-B0B4-F8A9EC1215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F3B4-3C83-45FF-BA2B-B91F357C94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Кластеры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астер компетенций- набор тесно связанных между собой компетен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Учебные умения. Таблица №3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0160" y="1827360"/>
          <a:ext cx="7313400" cy="4525920"/>
        </p:xfrm>
        <a:graphic>
          <a:graphicData uri="http://schemas.openxmlformats.org/drawingml/2006/table">
            <a:tbl>
              <a:tblPr/>
              <a:tblGrid>
                <a:gridCol w="2554200"/>
                <a:gridCol w="4759200"/>
              </a:tblGrid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адиционная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ование потребности к самообразованию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о-поисковая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целеполагания, анализа, рефлексии, самооценк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юща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овладевать креативными навыками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ючевыми образовательными компетенциями являютс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Ценностно-смысл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Общекультур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Учебно-познаватель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Информацион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Коммуникатив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.Социально- труд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Личностного совершенствова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о-смысловая компетенция предполагает умения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формулировать собственные ценностные ориентиры по отношению к изучаемым предмет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Уметь принимать решения, брать на себя ответственность, брать на себя ответственность за их последств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существлять индивидуальную образовательную траектор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Учебно-познавательные компетенци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ь цель и организовывать ее достижение, уметь пояснить свою ц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ганизовывать планирование, анализ, рефлексию, самооценку своей учебно-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 познавательные задачи и выдвигать гипоте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Иметь опыт восприятия картины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щекультур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ять свое место и роль в окружающем мире, владеть культурными  нормами и традиц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Действовать в сфере трудовых отношений в соответствии с личной и общественной польз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еть представление о системе социальных норм и ценностей в России и других стран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оммуникативные компетен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ть представить себя устно и письменно, написать анкету, заявл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ладеть разными видами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взаимодействия с окружающими и удаленными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работы в груп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он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навыками работы с различными источниками информ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амостоятельно искать, извлекать, систематизировать, анализировать необходимую для решения задач информ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иентироваться в информационных потоках, выделять в них глав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1.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териально-практическая деятельность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0160" y="1827360"/>
          <a:ext cx="7313400" cy="4541760"/>
        </p:xfrm>
        <a:graphic>
          <a:graphicData uri="http://schemas.openxmlformats.org/drawingml/2006/table">
            <a:tbl>
              <a:tblPr/>
              <a:tblGrid>
                <a:gridCol w="2338200"/>
                <a:gridCol w="4975200"/>
              </a:tblGrid>
              <a:tr h="85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ная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т способности к научному творчеству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рнет- урок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Интернет- информацией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КТ-технолог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дение навыками работы с компьютор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грированные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обработкой количественных дан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2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циальная деятельно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1413000"/>
          <a:ext cx="7313760" cy="5452920"/>
        </p:xfrm>
        <a:graphic>
          <a:graphicData uri="http://schemas.openxmlformats.org/drawingml/2006/table">
            <a:tbl>
              <a:tblPr/>
              <a:tblGrid>
                <a:gridCol w="2554200"/>
                <a:gridCol w="4759560"/>
              </a:tblGrid>
              <a:tr h="116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ульная 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в группах, приобретаются навыки коллективн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радиционные уро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ешать проблему новыми способ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взаимодействовать с окружающими, умение представить себ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оровьесберегающие технологи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тие положительных привычек 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13:46Z</dcterms:created>
  <dc:creator>Customer</dc:creator>
  <dc:description/>
  <dc:language>en-US</dc:language>
  <cp:lastModifiedBy>Пользователь</cp:lastModifiedBy>
  <dcterms:modified xsi:type="dcterms:W3CDTF">2013-12-08T13:29:32Z</dcterms:modified>
  <cp:revision>6</cp:revision>
  <dc:subject/>
  <dc:title>Кластеры компетенций              учителей математики.</dc:title>
</cp:coreProperties>
</file>