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C73-9B52-458A-84BD-5AACA3E3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7E3-3486-416F-9A00-E466FC22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3EE-3F4B-4C97-BFB7-8213466A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4131-CA5E-46C9-B1F2-22C5A54A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0C2F-1633-46B2-93E7-10ECD520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7A7E-4542-4284-A89C-A5800141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DB83-1018-4D96-9268-52122E28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CC59-B7D9-42C2-8F59-FF68DFA4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A7F0-F08B-404A-954E-E7C7366C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C599-3D45-4833-8D2F-C4C26966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6BE5-7918-43E3-AA7D-D630537B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590-7393-45FF-B362-6D046B38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B995-B176-4B24-A298-FEE2D4ED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814E-F7A2-465D-ABC8-22F91F9C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6C32-8503-4DBC-A1BE-07DE210F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07B0-9CF0-4399-A007-A3A6FE5F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D3C5-667A-4B06-8F97-F5D2EA71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3C3-78C5-45BA-92C1-CBAF013A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0D2E-82DE-439C-9FA7-A1EB5CA8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748-0365-4787-8D2F-F384C72A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6CFD-A999-42F4-834D-D9A7B314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C556-A809-41F9-8374-76C17E05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061-CBE9-4109-9E9C-1F7B3DF7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07F5-4ACE-40AC-8B5D-293BC432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08D0-28D5-41E1-942E-7FD4301128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5541-6792-4F18-A7F1-938D6FE862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Личность в системе социальных связей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Социологическая периодизация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.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вобытнообщинное стад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д (родовая община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едская общ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ервобытное человеческое стад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небольшой непостоянный коллектив древнейших людей; название начального этапа первобытнообщинного строя, его дородовой стадии (от 3 – 2,5 млн. лет назад до 40-35 тыс. лет назад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Род (родовая община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коллектив родственников, живших и трудившихся сообща и имевших общее имущество. Первая специфически человеческая форма объединения людей (40-35 тыс. лет назад – 10-5 тыс. лет назад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оседская (сельская) общин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форма объединения людей на основе не производственных, а территориальных связей, совместно владеющих землей, но уже имевших свое отдельное хозяйство; третий (последний) этап в истории первобытнообщинного строя, сменивший родовую общину X-V тыс. лет наза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ершина антропогенеза – КРОМАНЬОНЕЦ – человек современного физиологического типа. Появился примерно 30-40 тыс. лет назад и получил в науке названи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o sapiens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человек разумный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cc3300"/>
                </a:solidFill>
                <a:latin typeface="Arial"/>
              </a:rPr>
              <a:t>Индивид</a:t>
            </a:r>
            <a:r>
              <a:rPr b="0" i="1" lang="en-US" sz="3000" spc="-1" strike="noStrike">
                <a:solidFill>
                  <a:srgbClr val="cc3300"/>
                </a:solidFill>
                <a:latin typeface="Arial"/>
              </a:rPr>
              <a:t> – это конкретный человек, во всем многообразии своих физических и физиологических, психических и социальных качеств и свойств; носитель воли, сознания, потребностей, интере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к член социума, индивид обладает стремлением слиться с социальной общностью (идентифицироваться с ней), быть «как все» и вместе с тем, «как никто другой», проявить свое Я, стать творческой индивидуальность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ледует отметить, что индивидуальностью обладают не только люди. Каждый знает, как не похожи друг на друга домашние животные – кошки, собаки – у каждого не только своя внешность, но и свой «нрав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нятие «личность» рассматривает биологическое в единстве с социальным – условиями жизнедеятельности и особенностями индивидуального развития челове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3300"/>
                </a:solidFill>
                <a:latin typeface="Arial"/>
              </a:rPr>
              <a:t>Личность</a:t>
            </a:r>
            <a:r>
              <a:rPr b="0" i="1" lang="en-US" sz="2600" spc="-1" strike="noStrike">
                <a:solidFill>
                  <a:srgbClr val="cc3300"/>
                </a:solidFill>
                <a:latin typeface="Arial"/>
              </a:rPr>
              <a:t> – это социальное качество человека, обретаемое в ходе общественного развития, включения в систему общественных отношений путем активной предметной деятельности и общ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нятие «личность» употребляется по отношению к человеку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начиная лишь с некоторого этапа его развит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Личность – социальная характеристика, она отражает общественные, а не биологические каче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74278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всякого человека можно считать личностью. У новорожденного нет личности. Ребенок неспособен различать собственное «Я» и окружающий мир хотя бы потому, что у него нет своего «Я». Он не знает границ между собой и не-собой, между «Я» и «не-Я». Известно, что ребенок в раннем детстве называет себя собственным именем («Саша хочет пить») и с трудом переходит к личному местоимению «Я хочу пить».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ерез понимание других, через общение ребенок приходит к формированию своего социального «Я» - своей личности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нятия: человек, индивид, лич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cc3300"/>
                </a:solidFill>
                <a:latin typeface="Arial"/>
              </a:rPr>
              <a:t>Человек</a:t>
            </a:r>
            <a:r>
              <a:rPr b="0" i="1" lang="ru-RU" sz="3000" spc="-1" strike="noStrike">
                <a:solidFill>
                  <a:srgbClr val="cc3300"/>
                </a:solidFill>
                <a:latin typeface="Arial"/>
              </a:rPr>
              <a:t> – биологический индивид, высшая ступень живых организмов на Земле, результат сложной и длительной биологической эволюции.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.о. понятие «человек» характеризует присущие всем людям качества и способности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o sapien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тличается от всех других живых существ специфическими способностями разумной деятельности и отнош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оотношение природного и социального в человек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годня ученые приходят к мысли о том, что в структуре личности имеются три составляющие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биологическое, наследственное и социальное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менно они и формируют неповторимый образ каждого человек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35280" y="1773360"/>
            <a:ext cx="2016360" cy="1800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268280"/>
            <a:ext cx="3168720" cy="2737080"/>
          </a:xfrm>
          <a:prstGeom prst="rightArrow">
            <a:avLst>
              <a:gd name="adj1" fmla="val 50000"/>
              <a:gd name="adj2" fmla="val 2894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иологическое (природное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то то, что закладывается н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родой от рожд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о, что является общим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исхождению, но не 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ождественным у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  живот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4360" y="1268280"/>
            <a:ext cx="2808360" cy="2952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ледственно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существ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развивается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е ге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нда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4076640"/>
            <a:ext cx="5184720" cy="2087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обретенное челове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ходе социализ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щени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заимодействия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проблемой личности тесно  связанно понятие "социальность"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Социальность</a:t>
            </a: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 - это особое качество взаимоотношений людей или отношения одного человека к кому-либо или чему-либо, когда они (т.е. и отношения и взаимоотношения) рассматриваются как общественно значимые.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Именно социальность не только отличает человека от животного, но и делает его Человек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оциальность включает в себя четыре основных компонента: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ознание себя членом общества, субъектом взаимодействия с ним, с другими людьми и групп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знательное выполнение норм социального бытия, принятых данным обществ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особность приложить личные усилия для приобщения к социальным ценностям, к их освоению и созидани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ализация познавательной, трудовой, семейной и др. функций на основе гуманизма и духов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 каждого из нас их уровень различен: любой человек индивидуально сочета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общее и особенное в физиологическом  строении (муж. или жен.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общее и особенное в психических процессах и свойствах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общее и особенное в духовном обли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этом следует оговориться, что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неповторимость каждого не исключает, но предполагает схожесть с другим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различным признака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циальному положению и национальной принадлежно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изическим, нравственным, возрастным и профессиональным параметр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иологическая природа человека составляет ту основу, на которой происходит формирование собственно человеческих качест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66"/>
                </a:solidFill>
                <a:latin typeface="Arial"/>
              </a:rPr>
              <a:t>Биологи и философы называют следующие анатомические, физиологические и психологические особенности человеческого организма, которые составляют биологическую основу деятельности человека как существа социального: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) прямая походка как анатомическая особенность, позволяющая человеку шире охватывать взглядом окружающую обстановку, освобождающая передние конечности даже во время передвижения и позволяющая использовать их для труда лучше, чем это могут сделать четвероноги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) цепкие руки с подвижными пальцами и противопоставленным большим пальцем, позволяющие выполнять сложные и тонкие функц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) взгляд, направленный вперед, а не в стороны, позволяющий видеть в трех измерениях и лучше ориентироваться в пространств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) большой мозг и сложная нервная система, дающие возможность высокого развития психической жизни и интеллект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) сложный механизм голосовых связок, строение гортани и губ, способствующие развитию речи, т. е. произнесению определенного количества дифференцированных звуков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) длительная зависимость детей от родителей, а следовательно, долгий период опеки со стороны взрослых, медленный темп роста и биологического созревания и поэтому долгий период обучения и социализац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ж) пластичность врожденных импульсов и потребностей, отсутствие жестких механизмов инстинктов, таких, какие имеют место у других видов, возможность приспособления потребностей к средствам их удовлетворения — все это способствует развитию сложных образцов поведения и адаптирования к различным условиям среды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з) устойчивость сексуального влечения, влияющая на формы семьи и на ряд других социальных явлен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нтропологи проследили биологическую эволюцию от высших приматов до современного человека. Этот процесс называется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АНТРОПОГЕНЕЗ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тропогене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реч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anthropos – человек и genesis – происхождение) – 1) процесс выделения человека из мира животных; 2) процесс историко-эволюционного формирования физического типа человека, первоначального развития его трудовой деятельности, речи. 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0066"/>
                </a:solidFill>
                <a:latin typeface="Arial"/>
              </a:rPr>
              <a:t>Периодизация антропогенеза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.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695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Археологическая (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т</a:t>
            </a: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ехнологическая) периодизация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.  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алеол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зол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оли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леол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гре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palaios – древний и lithos – камень) – ранний, древнейший период каменного ве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лится н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ранний, или нижний, палеол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около 2 млн. лет назад – до 35 тыс. лет назад)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поздний, или верхний, палеол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35 – 10 тыс. лет назад). Поздний палеолит – время существования человека современного типа (неоантропов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Мезоли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гре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mesos средний, промежуточный и litos камень) – средний каменный век, период между концом палеолита и распространением неолитического типа экономи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золитическая эпоха началась примерно 10 тыс. лет назад, но время ее существования различно в разных региона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оли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реч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νεος новый и λιθος камень) – новый каменный век, период (ок. 8 – 3-го тыс. до н. э.) перехода от присваивающего хозяйства (собирательство, охота) к производящему (земледелие, скотоводство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0:02:14Z</dcterms:created>
  <dc:creator>FuckYouBill</dc:creator>
  <dc:description/>
  <dc:language>en-US</dc:language>
  <cp:lastModifiedBy>FuckYouBill</cp:lastModifiedBy>
  <dcterms:modified xsi:type="dcterms:W3CDTF">2011-03-07T11:33:40Z</dcterms:modified>
  <cp:revision>3</cp:revision>
  <dc:subject/>
  <dc:title>Личность в системе социальных связей</dc:title>
</cp:coreProperties>
</file>