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29B-E594-42A8-A635-6A0AF7B3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5A4-3C01-4D38-B7B6-3CF569D3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7F2-9DB0-455C-BC77-A091A864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D04-189B-4A2D-903C-2217936C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0918-6D67-448C-A87C-665AC1AE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1255-13C4-4F3B-A19A-EA80433D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9440-E692-4685-B71E-E6ADFF26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17B0-8904-4A6D-BC84-8E5CF710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40A0-F7F8-44D0-8071-C845E312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2752-CF83-4044-8D99-EFD7CC0F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BDBD-E364-4B99-858A-CCADD7AB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2C1-F1F2-4FF8-A009-371B8D2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17C8-FCF8-4961-9649-1FEA863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0BBD-ECDF-46E5-ACD5-1D77CB3A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4C83-739B-4FBB-949E-CBA8FBC6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4B48-4064-4538-A43B-325BFD54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5189-1B7D-4271-B140-26871931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5EC-D0D1-4B42-9C45-7E148C64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DF0-E043-4ED7-95CB-6B23CA1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37E-7955-4072-9749-09C4564F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4E2-73D9-47A0-82EF-4297958E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426-93DD-41F5-A7EA-E1306C13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2A7-2C31-46DB-8CDA-0A310536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023-943C-40FC-95A7-5A319DEB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B862-318B-46F4-B7D8-4F84DDDEE6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253E-7029-4DE5-97C9-515AB94F6A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Личность в системе социальных связей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Социологическая периодизация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обытнообщинное стад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 (родовая община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едская общ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ервобытное человеческое стад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небольшой непостоянный коллектив древнейших людей; название начального этапа первобытнообщинного строя, его дородовой стадии (от 3 – 2,5 млн. лет назад до 40-35 тыс. лет назад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од (родовая община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коллектив родственников, живших и трудившихся сообща и имевших общее имущество. Первая специфически человеческая форма объединения людей (40-35 тыс. лет назад – 10-5 тыс. лет назад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седская (сельская) общи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форма объединения людей на основе не производственных, а территориальных связей, совместно владеющих землей, но уже имевших свое отдельное хозяйство; третий (последний) этап в истории первобытнообщинного строя, сменивший родовую общину X-V тыс. лет наза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ршина антропогенеза – КРОМАНЬОНЕЦ – человек современного физиологического типа. Появился примерно 30-40 тыс. лет назад и получил в науке названи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o sapiens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человек разумный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cc3300"/>
                </a:solidFill>
                <a:latin typeface="Arial"/>
              </a:rPr>
              <a:t>Индивид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 – это конкретный человек, во всем многообразии своих физических и физиологических, психических и социальных качеств и свойств; носитель воли, сознания, потребностей, интере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к член социума, индивид обладает стремлением слиться с социальной общностью (идентифицироваться с ней), быть «как все» и вместе с тем, «как никто другой», проявить свое Я, стать творческой индивидуальн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едует отметить, что индивидуальностью обладают не только люди. Каждый знает, как не похожи друг на друга домашние животные – кошки, собаки – у каждого не только своя внешность, но и свой «нрав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нятие «личность» рассматривает биологическое в единстве с социальным – условиями жизнедеятельности и особенностями индивидуального развития чело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3300"/>
                </a:solidFill>
                <a:latin typeface="Arial"/>
              </a:rPr>
              <a:t>Личность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 – это социальное качество человека, обретаемое в ходе общественного развития, включения в систему общественных отношений путем активной предметной деятельности и общ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нятие «личность» употребляется по отношению к человеку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начиная лишь с некоторого этапа его развит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ичность – социальная характеристика, она отражает общественные, а не биологические кач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4278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всякого человека можно считать личностью. У новорожденного нет личности. Ребенок неспособен различать собственное «Я» и окружающий мир хотя бы потому, что у него нет своего «Я». Он не знает границ между собой и не-собой, между «Я» и «не-Я». Известно, что ребенок в раннем детстве называет себя собственным именем («Саша хочет пить») и с трудом переходит к личному местоимению «Я хочу пить».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ерез понимание других, через общение ребенок приходит к формированию своего социального «Я» - своей личност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нятия: человек, индивид, лич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cc3300"/>
                </a:solidFill>
                <a:latin typeface="Arial"/>
              </a:rPr>
              <a:t>Человек</a:t>
            </a: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 – биологический индивид, высшая ступень живых организмов на Земле, результат сложной и длительной биологической эволюции.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.о. понятие «человек» характеризует присущие всем людям качества и способности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тличается от всех других живых существ специфическими способностями разумной деятельности и отно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оотношение природного и социального в человек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годня ученые приходят к мысли о том, что в структуре личности имеются три составляющие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биологическое, наследственное и социальное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менно они и формируют неповторимый образ каждого челове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1773360"/>
            <a:ext cx="2016360" cy="1800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268280"/>
            <a:ext cx="3168720" cy="2737080"/>
          </a:xfrm>
          <a:prstGeom prst="rightArrow">
            <a:avLst>
              <a:gd name="adj1" fmla="val 50000"/>
              <a:gd name="adj2" fmla="val 2894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иологическое (природное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 то, что закладывается н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родой от рожд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, что является общим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исхождению, но не 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ждественным у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  живот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1268280"/>
            <a:ext cx="2808360" cy="2952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ледственно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суще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азвиваетс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е г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нда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4076640"/>
            <a:ext cx="5184720" cy="2087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обретенное челове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ходе социализ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щ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заимодействия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проблемой личности тесно  связанно понятие "социальность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оциальность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 - это особое качество взаимоотношений людей или отношения одного человека к кому-либо или чему-либо, когда они (т.е. и отношения и взаимоотношения) рассматриваются как общественно значимые.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Именно социальность не только отличает человека от животного, но и делает его Человек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оциальность включает в себя четыре основных компонента: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знание себя членом общества, субъектом взаимодействия с ним, с другими людьми и групп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знательное выполнение норм социального бытия, принятых данным обществ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приложить личные усилия для приобщения к социальным ценностям, к их освоению и созидани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ализация познавательной, трудовой, семейной и др. функций на основе гуманизма и духов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каждого из нас их уровень различен: любой человек индивидуально сочет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общее и особенное в физиологическом  строении (муж. или жен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общее и особенное в психических процессах и свойства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общее и особенное в духовном обли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этом следует оговориться, что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еповторимость каждого не исключает, но предполагает схожесть с другим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различным признака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циальному положению и национальной принадлеж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изическим, нравственным, возрастным и профессиональным параметр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иологическая природа человека составляет ту основу, на которой происходит формирование собственно человеческих качест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Arial"/>
              </a:rPr>
              <a:t>Биологи и философы называют следующие анатомические, физиологические и психологические особенности человеческого организма, которые составляют биологическую основу деятельности человека как существа социального: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) прямая походка как анатомическая особенность, позволяющая человеку шире охватывать взглядом окружающую обстановку, освобождающая передние конечности даже во время передвижения и позволяющая использовать их для труда лучше, чем это могут сделать четвероноги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) цепкие руки с подвижными пальцами и противопоставленным большим пальцем, позволяющие выполнять сложные и тонкие функ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) взгляд, направленный вперед, а не в стороны, позволяющий видеть в трех измерениях и лучше ориентироваться в пространств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) большой мозг и сложная нервная система, дающие возможность высокого развития психической жизни и интеллек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) сложный механизм голосовых связок, строение гортани и губ, способствующие развитию речи, т. е. произнесению определенного количества дифференцированных звуков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) длительная зависимость детей от родителей, а следовательно, долгий период опеки со стороны взрослых, медленный темп роста и биологического созревания и поэтому долгий период обучения и социализац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ж) пластичность врожденных импульсов и потребностей, отсутствие жестких механизмов инстинктов, таких, какие имеют место у других видов, возможность приспособления потребностей к средствам их удовлетворения — все это способствует развитию сложных образцов поведения и адаптирования к различным условиям сред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) устойчивость сексуального влечения, влияющая на формы семьи и на ряд других социальных явлен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тропологи проследили биологическую эволюцию от высших приматов до современного человека. Этот процесс называетс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НТРОПОГЕНЕЗ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тропогене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anthropos – человек и genesis – происхождение) – 1) процесс выделения человека из мира животных; 2) процесс историко-эволюционного формирования физического типа человека, первоначального развития его трудовой деятельности, речи. 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Периодизация антропогенеза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.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695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Археологическая (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т</a:t>
            </a: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ехнологическая) периодизация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.  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леол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зол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оли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леол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palaios – древний и lithos – камень) – ранний, древнейший период каменного 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лится н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ранний, или нижний, палеол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около 2 млн. лет назад – до 35 тыс. лет назад)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оздний, или верхний, палеол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35 – 10 тыс. лет назад). Поздний палеолит – время существования человека современного типа (неоантропов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езоли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mesos средний, промежуточный и litos камень) – средний каменный век, период между концом палеолита и распространением неолитического типа экономи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золитическая эпоха началась примерно 10 тыс. лет назад, но время ее существования различно в разных региона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оли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νεος новый и λιθος камень) – новый каменный век, период (ок. 8 – 3-го тыс. до н. э.) перехода от присваивающего хозяйства (собирательство, охота) к производящему (земледелие, скотоводство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0:02:14Z</dcterms:created>
  <dc:creator>FuckYouBill</dc:creator>
  <dc:description/>
  <dc:language>en-US</dc:language>
  <cp:lastModifiedBy>FuckYouBill</cp:lastModifiedBy>
  <dcterms:modified xsi:type="dcterms:W3CDTF">2011-03-07T11:33:40Z</dcterms:modified>
  <cp:revision>3</cp:revision>
  <dc:subject/>
  <dc:title>Личность в системе социальных связей</dc:title>
</cp:coreProperties>
</file>