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98D-A0A4-40AE-A5D2-ED0DF819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B3B-F7A0-4D41-A9D9-73EC6B21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480-74A9-44FC-AAF8-FF344B93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3A9-A5BF-4030-9E4F-719B4ECC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79C4-5838-4684-9FF7-396D150C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3E1E-F83F-409E-8A95-8A92210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CAEA-D22A-4CE8-8A3F-D6D13C48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AB7C-546C-40C7-AE76-F702B34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D5FB-5D69-4605-824D-6A9E5BE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C781-FD9E-48BA-B933-FEF6356C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CC4D-D3C1-467D-A55C-E5F78FD1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683-B04A-4E3E-B4A0-664004DF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B4D9-2562-4BA0-A48E-0B2C1868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44A-F0B4-47DA-9F03-EBB91E3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12C-719B-4EF8-8323-E5FCB41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DC85-B0B3-4065-9FBD-0A2718E0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D650-6E84-469B-9F9B-D3C00C9B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93F-D342-442E-B28D-BC2FA652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B91-2B30-4949-B500-127F5E0A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D2A-26FF-4B71-937C-DA97A3A5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756-F637-4983-BEFE-0FC9DBDD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F44-7A2D-4BB2-9E25-A71034B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B8E-FF94-4E60-937A-19FAEE3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726-48C9-4610-8370-EADC4BA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B100-73B5-461A-9562-C58381B8D1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6B32-9ECE-4902-9009-298C9E2040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Личность в системе социальных связе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Социологическая периодизация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бытнообщинное стад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 (родовая общин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едская общ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вобытное человеческое стад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небольшой непостоянный коллектив древнейших людей; название начального этапа первобытнообщинного строя, его дородовой стадии (от 3 – 2,5 млн. лет назад до 40-35 тыс. лет назад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од (родовая община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коллектив родственников, живших и трудившихся сообща и имевших общее имущество. Первая специфически человеческая форма объединения людей (40-35 тыс. лет назад – 10-5 тыс. лет назад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седская (сельская) общи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форма объединения людей на основе не производственных, а территориальных связей, совместно владеющих землей, но уже имевших свое отдельное хозяйство; третий (последний) этап в истории первобытнообщинного строя, сменивший родовую общину X-V тыс. лет наза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шина антропогенеза – КРОМАНЬОНЕЦ – человек современного физиологического типа. Появился примерно 30-40 тыс. лет назад и получил в науке названи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 sapien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человек разумный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cc3300"/>
                </a:solidFill>
                <a:latin typeface="Arial"/>
              </a:rPr>
              <a:t>Индивид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 – это конкретный человек, во всем многообразии своих физических и физиологических, психических и социальных качеств и свойств; носитель воли, сознания, потребностей, интере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 член социума, индивид обладает стремлением слиться с социальной общностью (идентифицироваться с ней), быть «как все» и вместе с тем, «как никто другой», проявить свое Я, стать творческой индивидуальн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едует отметить, что индивидуальностью обладают не только люди. Каждый знает, как не похожи друг на друга домашние животные – кошки, собаки – у каждого не только своя внешность, но и свой «нрав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нятие «личность» рассматривает биологическое в единстве с социальным – условиями жизнедеятельности и особенностями индивидуального развития чело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3300"/>
                </a:solidFill>
                <a:latin typeface="Arial"/>
              </a:rPr>
              <a:t>Личность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 – это социальное качество человека, обретаемое в ходе общественного развития, включения в систему общественных отношений путем активной предметной деятельности и 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нятие «личность» употребляется по отношению к человеку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начиная лишь с некоторого этапа его развит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ичность – социальная характеристика, она отражает общественные, а не биологические кач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4278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всякого человека можно считать личностью. У новорожденного нет личности. Ребенок неспособен различать собственное «Я» и окружающий мир хотя бы потому, что у него нет своего «Я». Он не знает границ между собой и не-собой, между «Я» и «не-Я». Известно, что ребенок в раннем детстве называет себя собственным именем («Саша хочет пить») и с трудом переходит к личному местоимению «Я хочу пить»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ерез понимание других, через общение ребенок приходит к формированию своего социального «Я» - своей личност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нятия: человек, индивид, лич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cc3300"/>
                </a:solidFill>
                <a:latin typeface="Arial"/>
              </a:rPr>
              <a:t>Человек</a:t>
            </a: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 – биологический индивид, высшая ступень живых организмов на Земле, результат сложной и длительной биологической эволюции.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.о. понятие «человек» характеризует присущие всем людям качества и способности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личается от всех других живых существ специфическими способностями разумной деятельности и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отношение природного и социального в человек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ученые приходят к мысли о том, что в структуре личности имеются три составляющие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биологическое, наследственное и социальное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менно они и формируют неповторимый образ каждого челове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773360"/>
            <a:ext cx="2016360" cy="1800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268280"/>
            <a:ext cx="3168720" cy="2737080"/>
          </a:xfrm>
          <a:prstGeom prst="rightArrow">
            <a:avLst>
              <a:gd name="adj1" fmla="val 50000"/>
              <a:gd name="adj2" fmla="val 2894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иологическое (природное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то, что закладывается н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родой от рожд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, что является общим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схождению, но не 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ждественным у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 живо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1268280"/>
            <a:ext cx="2808360" cy="2952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ледственно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суще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азвиваетс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е г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нда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4076640"/>
            <a:ext cx="5184720" cy="208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обретенное челове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ходе социализ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щ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проблемой личности тесно  связанно понятие "социальность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оциальность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 - это особое качество взаимоотношений людей или отношения одного человека к кому-либо или чему-либо, когда они (т.е. и отношения и взаимоотношения) рассматриваются как общественно значимые.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Именно социальность не только отличает человека от животного, но и делает его Человек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оциальность включает в себя четыре основных компонента: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знание себя членом общества, субъектом взаимодействия с ним, с другими людьми и групп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знательное выполнение норм социального бытия, принятых данным общест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приложить личные усилия для приобщения к социальным ценностям, к их освоению и созидани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ализация познавательной, трудовой, семейной и др. функций на основе гуманизма и духов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каждого из нас их уровень различен: любой человек индивидуально сочет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общее и особенное в физиологическом  строении (муж. или жен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общее и особенное в психических процессах и свойства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общее и особенное в духовном обли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этом следует оговориться, что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еповторимость каждого не исключает, но предполагает схожесть с другим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различным признак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циальному положению и национальной принадлеж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изическим, нравственным, возрастным и профессиональным параметр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иологическая природа человека составляет ту основу, на которой происходит формирование собственно человеческих качест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Биологи и философы называют следующие анатомические, физиологические и психологические особенности человеческого организма, которые составляют биологическую основу деятельности человека как существа социального: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) прямая походка как анатомическая особенность, позволяющая человеку шире охватывать взглядом окружающую обстановку, освобождающая передние конечности даже во время передвижения и позволяющая использовать их для труда лучше, чем это могут сделать четвероноги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цепкие руки с подвижными пальцами и противопоставленным большим пальцем, позволяющие выполнять сложные и тонкие функ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) взгляд, направленный вперед, а не в стороны, позволяющий видеть в трех измерениях и лучше ориентироваться в пространств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) большой мозг и сложная нервная система, дающие возможность высокого развития психической жизни и интеллек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) сложный механизм голосовых связок, строение гортани и губ, способствующие развитию речи, т. е. произнесению определенного количества дифференцированных звук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) длительная зависимость детей от родителей, а следовательно, долгий период опеки со стороны взрослых, медленный темп роста и биологического созревания и поэтому долгий период обучения и социал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ж) пластичность врожденных импульсов и потребностей, отсутствие жестких механизмов инстинктов, таких, какие имеют место у других видов, возможность приспособления потребностей к средствам их удовлетворения — все это способствует развитию сложных образцов поведения и адаптирования к различным условиям сред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) устойчивость сексуального влечения, влияющая на формы семьи и на ряд других социальных явлен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ропологи проследили биологическую эволюцию от высших приматов до современного человека. Этот процесс называетс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НТРОПОГЕНЕЗ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ропогене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anthropos – человек и genesis – происхождение) – 1) процесс выделения человека из мира животных; 2) процесс историко-эволюционного формирования физического типа человека, первоначального развития его трудовой деятельности, речи. 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Периодизация антропогенеза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695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Археологическая (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т</a:t>
            </a: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ехнологическая) периодизация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.  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зол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ли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palaios – древний и lithos – камень) – ранний, древнейший период каменного 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лится н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ранний, или нижний, 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около 2 млн. лет назад – до 35 тыс. лет назад)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оздний, или верхний, 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35 – 10 тыс. лет назад). Поздний палеолит – время существования человека современного типа (неоантропов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золи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mesos средний, промежуточный и litos камень) – средний каменный век, период между концом палеолита и распространением неолитического типа эконом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золитическая эпоха началась примерно 10 тыс. лет назад, но время ее существования различно в разных региона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оли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νεος новый и λιθος камень) – новый каменный век, период (ок. 8 – 3-го тыс. до н. э.) перехода от присваивающего хозяйства (собирательство, охота) к производящему (земледелие, скотоводств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02:14Z</dcterms:created>
  <dc:creator>FuckYouBill</dc:creator>
  <dc:description/>
  <dc:language>en-US</dc:language>
  <cp:lastModifiedBy>FuckYouBill</cp:lastModifiedBy>
  <dcterms:modified xsi:type="dcterms:W3CDTF">2011-03-07T11:33:40Z</dcterms:modified>
  <cp:revision>3</cp:revision>
  <dc:subject/>
  <dc:title>Личность в системе социальных связей</dc:title>
</cp:coreProperties>
</file>