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4FC6-2725-46FD-83A0-614F924080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9648-6A75-4B44-8C13-21788FED7D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ED4-7315-48C3-A5C7-9993A63F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3DA-C249-4F68-A611-983042BC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FEF-4CB5-495D-B209-CD27E54A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DAC-7822-41B4-91E3-F18205CB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A182-3E82-4E56-B651-FC177C27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6955-D2BD-44D9-BA6C-E10A618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E88E-0A56-4CB0-AAAC-8553E054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730E-5EE8-4CF7-9094-E36AAE49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C321-8E13-4421-88FD-1944F3FD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619F-DC0B-4DCE-ADC6-496924FE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326E-211E-4ACC-B757-AF7F9A0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16E-8442-4F47-B851-7CDB57E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1A04-2C4C-41FD-BC22-A734FA39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FD69-4D76-4D1C-9EF9-3F27679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EACD-85B5-4B59-8FAB-54C44974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867-AACE-4794-BAD7-3263E1FE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4393-C85C-4A8A-A6BE-5F7FA7D1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EDFFE-4814-49FC-83FA-28F7FB8F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6765C-DD42-4349-9F26-E5F13BC3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483C2-B24B-40DB-AC30-3A3AB4A8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D324C-15DA-49AF-B310-4D6F296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2A223-7D61-4F4A-9901-9E7892C7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766-3878-44EE-AC58-6733C85D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09105-A42D-4473-A2A0-3700BCFF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8529E-76C1-491D-9A68-47DDAA53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D8A47-5645-488E-97BC-528BA985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CA785-C23E-4D19-9696-0F8B560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2BBB7-FCA7-4B67-80E2-93EE118E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4B97F-57F2-4665-8AAC-B205FA6B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0DA65-5017-43F9-8971-E3093B90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21765-E29A-4AA0-BF89-30AD98BE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2E96-9A65-4FA4-9CBE-DD546F5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708A-D10B-4A50-83E5-087D6179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113-378F-41C2-8ABA-DE2CED87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2707-E397-48EF-9B4D-01DCC020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EC68-86B9-4343-997D-034BED1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0386-EECE-40D6-9D28-3293FF4E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016D-7CC5-427B-BB96-7BD7127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6BCF-BC92-4F0B-853A-057CD53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631E-0960-43FE-9467-82A0198F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BE8D-A6BC-49C5-AADE-3CC98112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B020-2FF3-4455-9593-F434AF95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43B2-EA92-487A-89D5-84329C58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3BACB-4ED8-47BB-9D62-C960270A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0CE-0817-4F1C-AE58-8580F6EB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3BF80-F6A1-4EC2-995E-BD02EA6B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7DAD1-1677-4641-BC02-A89B9938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B4063-B09A-4EC1-A864-29CCDB99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C0BF2-A819-4EFC-BD5D-1278ACB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BE908-DE71-4BF2-A07C-F0E28F60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513B4-09F3-4646-9562-8E4AD022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68011-19CD-46D5-96CF-8F697775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05F06-699E-428A-99DA-176AA70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24327-508B-4550-AF27-0820F914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83DC8-A642-4351-B25E-5B8610C1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5A1-3242-4307-804E-9366073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8DCE6-5296-458F-9660-CD65CA6F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C4C03-FB0C-4C0A-A864-1B807AB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4713B-4556-471E-BFB6-B8ED8AD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C81E8-3268-4426-96A0-EA9858F5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B6614-7655-4E32-8F59-5ECAF172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A4BF4-A970-44F1-BB04-4BC2EBE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28F83-AABA-4165-81E4-18485E4A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B6D9C-3FC1-44D2-9621-A69B7571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CD9A5-4893-4C96-8DE4-C614EC0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89C24-0AC4-44F8-8099-CAB57E37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6A8-9213-44C9-8A53-A02D553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044A3-7FCE-4B3A-8CB8-E0DC1A6C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23282-EBC4-4122-B392-4C1795DF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0FAEC-F5B7-4A8C-B0D5-18DEB484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619ED-190B-45B0-8655-1386E7BA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35E3B-90F0-4867-BAC6-E23A952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4DEB3-61C3-4F50-8D01-FFD667D1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FF95E-EFCE-448C-AB2F-4A39E7E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F7B31-6AD2-440F-B463-69C65E9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E5A96-C38B-450C-8125-C19A444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7FC1A-F9B7-49EC-83B0-14AD430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958-8FE3-46A3-AD01-35CDE9E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3F180-65AA-41D7-B041-B0E5D79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5FD76-40FC-4B68-BA14-27183814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73EF0-396B-4BDA-BF2C-4811D48D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EC2FF-F41F-44CC-87E9-9E156D47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B5C98-7567-47E6-BCD3-E94F930E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7AE-BC69-4B05-A94C-5960C7B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24C5-76E5-4D58-8634-CF027A5EAE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32A2-1636-4DAB-B015-89801642D0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D16D-90AA-4718-9381-8D8664E85A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9E0C-212C-4392-8429-FEFF9EEB45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7EF4-D8EC-4099-8C77-1DE3397DD83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10F7-A085-464C-A6FE-FEE7C419E4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CC9D-22E9-4E93-BB35-26966049ED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2730600"/>
            <a:ext cx="6441840" cy="197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СТОЧ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C:\Documents and Settings\Admin\Рабочий стол\ПРЕЗЕНТАЦИИ НА УРОКИ\ПТИЦЫ\ласточка.jpg"/>
          <p:cNvPicPr/>
          <p:nvPr/>
        </p:nvPicPr>
        <p:blipFill>
          <a:blip r:embed="rId1"/>
          <a:stretch/>
        </p:blipFill>
        <p:spPr>
          <a:xfrm>
            <a:off x="357120" y="1417680"/>
            <a:ext cx="76438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АП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C:\Documents and Settings\Admin\Рабочий стол\ПРЕЗЕНТАЦИИ НА УРОКИ\ПТИЦЫ\цапля.jpg"/>
          <p:cNvPicPr/>
          <p:nvPr/>
        </p:nvPicPr>
        <p:blipFill>
          <a:blip r:embed="rId1"/>
          <a:stretch/>
        </p:blipFill>
        <p:spPr>
          <a:xfrm>
            <a:off x="941400" y="1332000"/>
            <a:ext cx="7202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Р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ПРЕЗЕНТАЦИИ НА УРОКИ\ПТИЦЫ\грач.jpg"/>
          <p:cNvPicPr/>
          <p:nvPr/>
        </p:nvPicPr>
        <p:blipFill>
          <a:blip r:embed="rId1"/>
          <a:stretch/>
        </p:blipFill>
        <p:spPr>
          <a:xfrm>
            <a:off x="684360" y="1600200"/>
            <a:ext cx="7013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Admin\Рабочий стол\ПРЕЗЕНТАЦИИ НА УРОКИ\ПТИЦЫ\утка.jpg"/>
          <p:cNvPicPr/>
          <p:nvPr/>
        </p:nvPicPr>
        <p:blipFill>
          <a:blip r:embed="rId1"/>
          <a:stretch/>
        </p:blipFill>
        <p:spPr>
          <a:xfrm>
            <a:off x="642960" y="137628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ВОРЕ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C:\Documents and Settings\Admin\Рабочий стол\ПРЕЗЕНТАЦИИ НА УРОКИ\ПТИЦЫ\СКВОРЕЦ.jpg"/>
          <p:cNvPicPr/>
          <p:nvPr/>
        </p:nvPicPr>
        <p:blipFill>
          <a:blip r:embed="rId1"/>
          <a:stretch/>
        </p:blipFill>
        <p:spPr>
          <a:xfrm>
            <a:off x="157320" y="1500120"/>
            <a:ext cx="795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ИМУЮЩИЕ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ПОЛЗ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Documents and Settings\Admin\Рабочий стол\ПРЕЗЕНТАЦИИ НА УРОКИ\ПТИЦЫ\ПОПОЛЗЕНЬ.jpg"/>
          <p:cNvPicPr/>
          <p:nvPr/>
        </p:nvPicPr>
        <p:blipFill>
          <a:blip r:embed="rId1"/>
          <a:stretch/>
        </p:blipFill>
        <p:spPr>
          <a:xfrm>
            <a:off x="714240" y="1428840"/>
            <a:ext cx="7143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Й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C:\Documents and Settings\Admin\Рабочий стол\ПРЕЗЕНТАЦИИ НА УРОКИ\ПТИЦЫ\СОЙКА.jpg"/>
          <p:cNvPicPr/>
          <p:nvPr/>
        </p:nvPicPr>
        <p:blipFill>
          <a:blip r:embed="rId1"/>
          <a:stretch/>
        </p:blipFill>
        <p:spPr>
          <a:xfrm>
            <a:off x="500040" y="1444680"/>
            <a:ext cx="7572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Documents and Settings\Admin\Рабочий стол\ПРЕЗЕНТАЦИИ НА УРОКИ\ПТИЦЫ\ВОРОНА.jpg"/>
          <p:cNvPicPr/>
          <p:nvPr/>
        </p:nvPicPr>
        <p:blipFill>
          <a:blip r:embed="rId1"/>
          <a:stretch/>
        </p:blipFill>
        <p:spPr>
          <a:xfrm>
            <a:off x="428760" y="1568520"/>
            <a:ext cx="76435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ИНИЦ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ПРЕЗЕНТАЦИИ НА УРОКИ\ПТИЦЫ\CИНИЦА.jpg"/>
          <p:cNvPicPr/>
          <p:nvPr/>
        </p:nvPicPr>
        <p:blipFill>
          <a:blip r:embed="rId1"/>
          <a:stretch/>
        </p:blipFill>
        <p:spPr>
          <a:xfrm>
            <a:off x="414360" y="1500120"/>
            <a:ext cx="7729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ЯТ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ПРЕЗЕНТАЦИИ НА УРОКИ\ПТИЦЫ\ДЯТЕЛ.jpg"/>
          <p:cNvPicPr/>
          <p:nvPr/>
        </p:nvPicPr>
        <p:blipFill>
          <a:blip r:embed="rId1"/>
          <a:stretch/>
        </p:blipFill>
        <p:spPr>
          <a:xfrm>
            <a:off x="714240" y="1428840"/>
            <a:ext cx="70725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28400" y="164304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Куда улетают птицы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09440" y="6480"/>
            <a:ext cx="7834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Documents and Settings\Admin\Рабочий стол\ПРЕЗЕНТАЦИИ НА УРОКИ\ПТИЦЫ\ВОРОБЕЙ.jpg"/>
          <p:cNvPicPr/>
          <p:nvPr/>
        </p:nvPicPr>
        <p:blipFill>
          <a:blip r:embed="rId1"/>
          <a:stretch/>
        </p:blipFill>
        <p:spPr>
          <a:xfrm>
            <a:off x="642960" y="13762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4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480440" cy="123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уда от нас улетают птицы осенью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чему они от нас улетают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таких птиц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птиц, которые проводят зиму у нас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мы должны помогать птицам перезимоват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очему же птицы улетают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15920" y="19080"/>
            <a:ext cx="781524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Как птицы узнают о приближении трудного голодного времени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летят птицы\tema_ptizi7.jpg"/>
          <p:cNvPicPr/>
          <p:nvPr/>
        </p:nvPicPr>
        <p:blipFill>
          <a:blip r:embed="rId1"/>
          <a:stretch/>
        </p:blipFill>
        <p:spPr>
          <a:xfrm>
            <a:off x="1143000" y="114300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Какие особые хлопоты у птиц, которые помогают им выжить зимой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9200" y="19080"/>
            <a:ext cx="78328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«Сыта птаха – и тепло ей под пу-  хом  и перьями»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лётные:                         Зимующ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иж                                  -  дяте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сточка                            -  пополз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апля                                 -  ворона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ч                                     -  син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ка                                     -  вороб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ворец                              -  сой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ЕЛЕТНЫЕ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ИЖ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Admin\Рабочий стол\ПРЕЗЕНТАЦИИ НА УРОКИ\ПТИЦЫ\стриж.jpg"/>
          <p:cNvPicPr/>
          <p:nvPr/>
        </p:nvPicPr>
        <p:blipFill>
          <a:blip r:embed="rId1"/>
          <a:stretch/>
        </p:blipFill>
        <p:spPr>
          <a:xfrm>
            <a:off x="941400" y="1357200"/>
            <a:ext cx="73119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52:13Z</dcterms:created>
  <dc:creator>Admin</dc:creator>
  <dc:description/>
  <dc:language>en-US</dc:language>
  <cp:lastModifiedBy>Admin</cp:lastModifiedBy>
  <dcterms:modified xsi:type="dcterms:W3CDTF">2012-12-10T16:09:23Z</dcterms:modified>
  <cp:revision>24</cp:revision>
  <dc:subject/>
  <dc:title>Тема урока</dc:title>
</cp:coreProperties>
</file>