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71C7-F341-4A17-A113-04507F7ACB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8078-D56B-42EE-A293-22593F29CF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738A-F69A-49A4-822B-DD68B9F1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3B5-543E-4390-8EF9-B0677288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20F-600C-418F-A3C8-C985E956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608-5E9C-40A0-9A05-A80CDF83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DEBC-89D7-44AC-B92E-31D9C62C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0730-82B8-4F73-82AA-A7993B4C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2162-58DB-4089-BE55-C1237EC9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2F00-CF2A-4B89-9C76-D1E19940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FF12-8FBE-4BB7-A189-4B87168E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0253-FF50-4ACC-BB3C-FA4D8CD4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1D23-BD68-4269-9353-D984869E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81E-D69D-4C73-8576-1C9E52FA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DC5B-3499-4151-938F-DA363347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7D7C-EB8A-43E3-82A9-79EA9058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37C7-D413-496C-B362-CBA95547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F6E1-FFB4-4B61-83EA-7307C5F9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119A-AC63-4A76-9B06-D34BA064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EE97E-B490-4285-B374-E831BD37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D9D4F-EDC4-42AD-93A4-CF61D7D8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D2BD7-9F0D-4F1C-B80C-41DF9957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E8320-AEC1-4B5E-9B78-8840FB67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3E7A3-F21C-4575-8A59-9044C4E0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D24-DB32-4C60-AABD-E26C85FC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DF025-D5C0-4ECD-8018-D46C4825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B8C97-DD3E-4B18-B9E9-2A50B133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5C465-B2D9-43EA-BDF3-055E7B86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5B444-EDF9-4CF6-ABFD-93D96A77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FB358-7593-494F-8DE7-94B27392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4D73C-4FD5-4CC5-BF8C-E7D03597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4CB87-8709-4BAB-964B-159F471A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2EC14-9BA1-4F24-8CB1-DEB82847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BE353-45F8-450C-BEC3-89E5DA3B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BB9EB-5C35-48BE-B2B2-8878F837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5A4-3CF7-48D4-895B-B4F1A1FE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E2715-9010-43B3-8759-AF83DEEB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6E62E-7647-491C-90FE-BCCB840C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A2568-E82E-4B7F-A806-54884EF1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4AD41-D217-4211-B481-EE9F11A1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240D4-6083-4CFE-AC8C-DDB9CD5D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A3D3B-8D20-4D49-965B-EECFE643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2F746-CA8D-40F6-A9A9-A27286B7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EB7BD-F8D8-43DE-9118-E603938A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9452B-C89A-4F0B-8EFD-5BCFCEB8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45C80-E813-4D03-8958-DE414933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467-2C79-4E44-936B-DAD47C9A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659BB0-A19B-42C1-8B0A-5051F02F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BB41C-26B7-45C6-9D61-116E1955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06654B-A835-4BBA-9209-5A057A18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143DE-83C7-4CD1-AA73-870A91AC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641B0-08C4-496B-9C9C-96C9A416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CEF7F-31FF-4B49-B79E-DEEC4BFE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546055-5570-43E9-B1C7-99C0BF25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F32E8-3D9B-43D6-970F-8A39BC00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63C27-F826-4A44-8380-1EE83D5E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AFF16-431B-49AD-9386-93AA1DD6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CA3-7550-4AF1-8A2F-94D2A955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85E9F-241F-45F2-B1A4-994C308E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94071-F5E6-4C04-A278-B9CE6E92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534CA1-3DDC-4464-8022-8A629313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104E75-BE25-4C20-A6E3-2DA03D02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A541E-C26C-41C2-B36E-787CA92A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414FB-84CD-4866-A0C0-8D39EC3C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3D63DF-3B45-474B-9625-7A2A40F8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5D320-CEC3-444C-8577-9BC84033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2EE75-6A9F-40BA-AF66-9B05CD46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E991C-CC0A-4CE1-B99F-23F7D4C2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5C3-9BE4-4F92-A31C-9FD33510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803EF-2A45-40C4-BCBD-0022085C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A495F-E58D-4ED6-86C2-C7D1B29E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4A2DF-A77D-4BD8-B74C-DB890665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09FB2A-F959-4303-B1B1-C4F42B27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E0B686-5759-4F47-B22E-8392A040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56F2BC-B6D7-4174-87E8-C89D2240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84B18-F326-473F-B85A-0B952C23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F0A98-9541-4920-8CF0-02816714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69F17-B5ED-48BF-B900-F70B592B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995789-DE79-4CD3-944A-0B49A64B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CF6C-36EF-4C51-B285-ADAE23C2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585DC8-DD6F-4083-93D5-90D8EC4E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9E03E4-0A1C-4940-87AA-77E53915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4D2118-7949-41E8-B581-ACC9096F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59B6A-84F7-40E0-81FF-E2EC8519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A6B88-FE0C-4234-9E87-15007118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8A1-2846-41C3-ABFA-4D168B18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25FF-2923-44E0-88F5-CF0AC3B4FB9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7EEB-2AE4-462F-9C4D-9BF8E1C85B6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450F-0780-4F98-80BF-5E4CFCDD06C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D4A7-4AAF-4D8B-AFA7-7A4E12D3FDC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628E-5E94-412D-A8D7-2D099D08B99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F695-5707-43C0-ABAE-A9B72B94595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6221-BE89-4241-B3C5-1831E5F0681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Прямоугольник 7" descr=""/>
          <p:cNvPicPr/>
          <p:nvPr/>
        </p:nvPicPr>
        <p:blipFill>
          <a:blip r:embed="rId1"/>
          <a:stretch/>
        </p:blipFill>
        <p:spPr>
          <a:xfrm>
            <a:off x="1920960" y="2730600"/>
            <a:ext cx="6441840" cy="1974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АСТОЧ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Picture 2" descr="C:\Documents and Settings\Admin\Рабочий стол\ПРЕЗЕНТАЦИИ НА УРОКИ\ПТИЦЫ\ласточка.jpg"/>
          <p:cNvPicPr/>
          <p:nvPr/>
        </p:nvPicPr>
        <p:blipFill>
          <a:blip r:embed="rId1"/>
          <a:stretch/>
        </p:blipFill>
        <p:spPr>
          <a:xfrm>
            <a:off x="357120" y="1417680"/>
            <a:ext cx="76438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АПЛ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2" descr="C:\Documents and Settings\Admin\Рабочий стол\ПРЕЗЕНТАЦИИ НА УРОКИ\ПТИЦЫ\цапля.jpg"/>
          <p:cNvPicPr/>
          <p:nvPr/>
        </p:nvPicPr>
        <p:blipFill>
          <a:blip r:embed="rId1"/>
          <a:stretch/>
        </p:blipFill>
        <p:spPr>
          <a:xfrm>
            <a:off x="941400" y="1332000"/>
            <a:ext cx="720252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ГРАЧ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Picture 2" descr="C:\Documents and Settings\Admin\Рабочий стол\ПРЕЗЕНТАЦИИ НА УРОКИ\ПТИЦЫ\грач.jpg"/>
          <p:cNvPicPr/>
          <p:nvPr/>
        </p:nvPicPr>
        <p:blipFill>
          <a:blip r:embed="rId1"/>
          <a:stretch/>
        </p:blipFill>
        <p:spPr>
          <a:xfrm>
            <a:off x="684360" y="1600200"/>
            <a:ext cx="7013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УТ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Picture 2" descr="C:\Documents and Settings\Admin\Рабочий стол\ПРЕЗЕНТАЦИИ НА УРОКИ\ПТИЦЫ\утка.jpg"/>
          <p:cNvPicPr/>
          <p:nvPr/>
        </p:nvPicPr>
        <p:blipFill>
          <a:blip r:embed="rId1"/>
          <a:stretch/>
        </p:blipFill>
        <p:spPr>
          <a:xfrm>
            <a:off x="642960" y="1376280"/>
            <a:ext cx="70722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КВОРЕЦ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2" descr="C:\Documents and Settings\Admin\Рабочий стол\ПРЕЗЕНТАЦИИ НА УРОКИ\ПТИЦЫ\СКВОРЕЦ.jpg"/>
          <p:cNvPicPr/>
          <p:nvPr/>
        </p:nvPicPr>
        <p:blipFill>
          <a:blip r:embed="rId1"/>
          <a:stretch/>
        </p:blipFill>
        <p:spPr>
          <a:xfrm>
            <a:off x="157320" y="1500120"/>
            <a:ext cx="7951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ИМУЮЩИЕ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ПОЛЗЕН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Picture 2" descr="C:\Documents and Settings\Admin\Рабочий стол\ПРЕЗЕНТАЦИИ НА УРОКИ\ПТИЦЫ\ПОПОЛЗЕНЬ.jpg"/>
          <p:cNvPicPr/>
          <p:nvPr/>
        </p:nvPicPr>
        <p:blipFill>
          <a:blip r:embed="rId1"/>
          <a:stretch/>
        </p:blipFill>
        <p:spPr>
          <a:xfrm>
            <a:off x="714240" y="1428840"/>
            <a:ext cx="714384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Й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2" descr="C:\Documents and Settings\Admin\Рабочий стол\ПРЕЗЕНТАЦИИ НА УРОКИ\ПТИЦЫ\СОЙКА.jpg"/>
          <p:cNvPicPr/>
          <p:nvPr/>
        </p:nvPicPr>
        <p:blipFill>
          <a:blip r:embed="rId1"/>
          <a:stretch/>
        </p:blipFill>
        <p:spPr>
          <a:xfrm>
            <a:off x="500040" y="1444680"/>
            <a:ext cx="7572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РО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2" descr="C:\Documents and Settings\Admin\Рабочий стол\ПРЕЗЕНТАЦИИ НА УРОКИ\ПТИЦЫ\ВОРОНА.jpg"/>
          <p:cNvPicPr/>
          <p:nvPr/>
        </p:nvPicPr>
        <p:blipFill>
          <a:blip r:embed="rId1"/>
          <a:stretch/>
        </p:blipFill>
        <p:spPr>
          <a:xfrm>
            <a:off x="428760" y="1568520"/>
            <a:ext cx="76435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ИНИЦ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C:\Documents and Settings\Admin\Рабочий стол\ПРЕЗЕНТАЦИИ НА УРОКИ\ПТИЦЫ\CИНИЦА.jpg"/>
          <p:cNvPicPr/>
          <p:nvPr/>
        </p:nvPicPr>
        <p:blipFill>
          <a:blip r:embed="rId1"/>
          <a:stretch/>
        </p:blipFill>
        <p:spPr>
          <a:xfrm>
            <a:off x="414360" y="1500120"/>
            <a:ext cx="77295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ЯТЕ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2" name="Picture 2" descr="C:\Documents and Settings\Admin\Рабочий стол\ПРЕЗЕНТАЦИИ НА УРОКИ\ПТИЦЫ\ДЯТЕЛ.jpg"/>
          <p:cNvPicPr/>
          <p:nvPr/>
        </p:nvPicPr>
        <p:blipFill>
          <a:blip r:embed="rId1"/>
          <a:stretch/>
        </p:blipFill>
        <p:spPr>
          <a:xfrm>
            <a:off x="714240" y="1428840"/>
            <a:ext cx="707256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28400" y="1643040"/>
            <a:ext cx="7467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Куда улетают птицы?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109440" y="6480"/>
            <a:ext cx="78343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РОБЕ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Picture 2" descr="C:\Documents and Settings\Admin\Рабочий стол\ПРЕЗЕНТАЦИИ НА УРОКИ\ПТИЦЫ\ВОРОБЕЙ.jpg"/>
          <p:cNvPicPr/>
          <p:nvPr/>
        </p:nvPicPr>
        <p:blipFill>
          <a:blip r:embed="rId1"/>
          <a:stretch/>
        </p:blipFill>
        <p:spPr>
          <a:xfrm>
            <a:off x="642960" y="137628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4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7480440" cy="1238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уда от нас улетают птицы осенью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очему они от нас улетают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называют таких птиц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называют птиц, которые проводят зиму у нас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мы должны помогать птицам перезимовать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Почему же птицы улетают?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115920" y="19080"/>
            <a:ext cx="7815240" cy="1407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Как птицы узнают о приближении трудного голодного времени?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G:\летят птицы\tema_ptizi7.jpg"/>
          <p:cNvPicPr/>
          <p:nvPr/>
        </p:nvPicPr>
        <p:blipFill>
          <a:blip r:embed="rId1"/>
          <a:stretch/>
        </p:blipFill>
        <p:spPr>
          <a:xfrm>
            <a:off x="1143000" y="1143000"/>
            <a:ext cx="7500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Какие особые хлопоты у птиц, которые помогают им выжить зимой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79200" y="19080"/>
            <a:ext cx="78328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«Сыта птаха – и тепло ей под пу-  хом  и перьями».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лётные:                         Зимующи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риж                                  -  дяте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асточка                            -  поползен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апля                                 -  ворона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ч                                     -  синиц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тка                                     -  вороб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кворец                              -  сой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ЕРЕЛЕТНЫЕ 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ТРИЖ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C:\Documents and Settings\Admin\Рабочий стол\ПРЕЗЕНТАЦИИ НА УРОКИ\ПТИЦЫ\стриж.jpg"/>
          <p:cNvPicPr/>
          <p:nvPr/>
        </p:nvPicPr>
        <p:blipFill>
          <a:blip r:embed="rId1"/>
          <a:stretch/>
        </p:blipFill>
        <p:spPr>
          <a:xfrm>
            <a:off x="941400" y="1357200"/>
            <a:ext cx="73119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5:52:13Z</dcterms:created>
  <dc:creator>Admin</dc:creator>
  <dc:description/>
  <dc:language>en-US</dc:language>
  <cp:lastModifiedBy>Admin</cp:lastModifiedBy>
  <dcterms:modified xsi:type="dcterms:W3CDTF">2012-12-10T16:09:23Z</dcterms:modified>
  <cp:revision>24</cp:revision>
  <dc:subject/>
  <dc:title>Тема урока</dc:title>
</cp:coreProperties>
</file>