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BE9-9CAE-4958-BE79-D749BE41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395-10DF-4D53-B8FD-70A72F3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3F7-FD88-4E06-8DA8-292996F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49A-9FAF-450D-A31C-785D46B9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A96-68CB-41B7-B2E0-7137C9E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591-2A66-4DC8-A16B-E0889FA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AFE-45CB-401D-948D-129CE05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1F0-1268-4F0D-8275-3AF3F28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BBB-B855-400A-9EDA-7C88513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364-AF6E-43F7-B9FB-BA88178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A40-E21E-44CD-ACB0-DAEACCF3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F64-2513-4A07-ACD3-45F08B19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721-71AA-4152-9CA2-12B2246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34F3-3276-4462-9963-C0FF465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1DDB-3944-44DF-A3EF-0E8E5CB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45C7-EC5C-47A6-A411-21A4974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69D-A92C-4F38-9B48-BD730FE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BFC-FB31-4A56-BB38-65EB0310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AD9-FA3F-4C96-B642-0B96333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9FAF-E542-4DF0-9F10-0F02456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8EAE-069D-42B1-A5FC-5191C60A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BEED-6948-4B90-85D2-47553A6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A450-541C-4641-8F48-EB30270C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6FF-75C9-47BB-B45B-876CB947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6CBC-B413-4F96-8886-E6F16A9963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6DEF-648B-4822-AF13-CC6EFAF974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ОТ ЦИФИРНОЙ ШКОЛЫ ДО ЦИФРОВОЙ.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МОСКОВСКИЙ УНИВЕРСИТЕТ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3240000" cy="4421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Основан в 1755 г. по инициативе М. В. Ломоносов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0563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ОБРАЗОВАНИЕ РОССИИ В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XIX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в.</a:t>
            </a: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  </a:t>
            </a: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ГИМНАЗИИ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НАЧАЛЬНЫЕ НАРОДНЫЕ УЧИЛИЩ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ЗЕМСКИЕ ШКОЛЫ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ГИМНАЗИ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12144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НАЧАЛЬНОЕ НАРОДНОЕ УЧИЛИЩ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27280" y="1600200"/>
            <a:ext cx="594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ЗЕМСКАЯ ШКОЛА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6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ПЛАН П. А. СТОЛЫПИНА ПО РЕФОРМАЦИИ СИСТЕМЫ ОБРАЗОВАНИЯ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255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В. В. ПУТИН И НАЦИОНАЛЬНЫЙ ПРОЕКТ «ОБРАЗОВАНИЕ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92520" y="1628640"/>
            <a:ext cx="357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Д. А. МЕДВЕДЕВ И ОБРАЗОВАТЕЛЬНАЯ ИНИЦИАТИВА «НАША НОВАЯ ШКОЛА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35440" y="1628640"/>
            <a:ext cx="329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ЧТО ТАКОЕ ОБРАЗОВАНИЕ ?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ОБРАЗОВАНИЕ – это один из социальных институтов общества. Функцией его является систематическое обучение и воспитание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РВОБЫТНОЕ ОБЩЕСТВО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28600" y="1600200"/>
            <a:ext cx="688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ДРЕВНЯЯ ГРЕЦИЯ И ДРЕВНИЙ МИР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7280" y="160020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48040" y="1600200"/>
            <a:ext cx="38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РЕДНЕВЕКОВОЕ ОБРАЗОВАНИ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908000" y="1434960"/>
            <a:ext cx="54007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ЛАВЯНО – ГРЕКО – ЛАТИНСКАЯ АКАДЕМИЯ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62080" y="1600200"/>
            <a:ext cx="262872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0360" y="1600200"/>
            <a:ext cx="417672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кадемия создана в 1687 г. и разместилась в Заиконоспасском монастыре на Никольской улице в Москве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ЕТР</a:t>
            </a:r>
            <a:r>
              <a:rPr b="1" i="1" lang="en-US" sz="3600" spc="-1" strike="noStrike">
                <a:solidFill>
                  <a:srgbClr val="663300"/>
                </a:solidFill>
                <a:latin typeface="Century Gothic"/>
              </a:rPr>
              <a:t> I</a:t>
            </a: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 И ОТКРЫТИЕ ЦИФИРНЫХ ШКОЛ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847960" y="1600200"/>
            <a:ext cx="344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ТЕРБУРГСКАЯ АКАДЕМИЯ НАУК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58920" y="139860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МОЛЬНЫЙ ИНСТИТУТ БЛАГОРОДНЫХ ДЕВИЦ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1681200"/>
            <a:ext cx="7416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0:17:13Z</dcterms:created>
  <dc:creator>tati</dc:creator>
  <dc:description/>
  <dc:language>en-US</dc:language>
  <cp:lastModifiedBy>tati</cp:lastModifiedBy>
  <dcterms:modified xsi:type="dcterms:W3CDTF">2011-08-16T18:25:16Z</dcterms:modified>
  <cp:revision>14</cp:revision>
  <dc:subject/>
  <dc:title>ДЕНЬ ЗНАНИЙ</dc:title>
</cp:coreProperties>
</file>