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EEA-1F16-4599-8BD0-F2064218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281-26E7-404E-90D1-F4E4D754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E63-9BA8-49B0-B1B2-D41E4D42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77F-4479-4202-8FC0-D1CD1D46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6C2-2CE6-4D81-9E68-49A9AB61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97C-8880-41F8-8401-5144AD24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A44-1CC7-4542-91E7-A55C090F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1F7-1015-4816-82A1-DD26A5C6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A33-E4C1-439F-9F6B-8CA572F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8A8-1285-4FE9-93BA-42F90995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7CE-8ADD-4C13-B96B-98055EC3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251-2316-4D89-B0AB-AF082375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58C1-3B9E-4098-B121-78112DCE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B131-4F35-4A24-AAA2-3C17762A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8E55-DE18-4E07-8B8C-5565F924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AEC2-0906-4A5B-BBEE-E8A782AE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B1EB-9F9B-4B2F-8C5F-BEED164E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F88D-66B7-489C-9CC9-44CAE1EE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6E36-B911-4617-BF2D-552F8B2D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0B46-0F1B-4122-B82B-350B28FC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D5F9-F2AF-4511-98BF-CB3A3B4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C368-F133-458B-B193-1CDD64AD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A7E8-320F-48A7-9707-0858D76D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9441-C17E-479C-B9A1-66E90B57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7187-B2B6-4D5B-ACE4-5DDE5C1F94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36D3-A876-42B8-8FFE-987CA22674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ОТ ЦИФИРНОЙ ШКОЛЫ ДО ЦИФРОВОЙ.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МОСКОВСКИЙ УНИВЕРСИТЕТ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3240000" cy="4421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Основан в 1755 г. по инициативе М. В. Ломоносова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0563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ОБРАЗОВАНИЕ РОССИИ В</a:t>
            </a: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 XIX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в.</a:t>
            </a: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  </a:t>
            </a:r>
            <a:r>
              <a:rPr b="1" i="1" lang="ru-RU" sz="44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ГИМНАЗИИ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НАЧАЛЬНЫЕ НАРОДНЫЕ УЧИЛИЩА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ЗЕМСКИЕ ШКОЛЫ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ГИМНАЗИЯ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612144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НАЧАЛЬНОЕ НАРОДНОЕ УЧИЛИЩЕ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27280" y="1600200"/>
            <a:ext cx="594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ЗЕМСКАЯ ШКОЛА 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6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entury Gothic"/>
              </a:rPr>
              <a:t>ПЛАН П. А. СТОЛЫПИНА ПО РЕФОРМАЦИИ СИСТЕМЫ ОБРАЗОВАНИЯ</a:t>
            </a:r>
            <a:endParaRPr b="1" i="1" lang="en-US" sz="32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255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entury Gothic"/>
              </a:rPr>
              <a:t>В. В. ПУТИН И НАЦИОНАЛЬНЫЙ ПРОЕКТ «ОБРАЗОВАНИЕ»</a:t>
            </a:r>
            <a:endParaRPr b="1" i="1" lang="en-US" sz="32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92520" y="1628640"/>
            <a:ext cx="357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Century Gothic"/>
              </a:rPr>
              <a:t>Д. А. МЕДВЕДЕВ И ОБРАЗОВАТЕЛЬНАЯ ИНИЦИАТИВА «НАША НОВАЯ ШКОЛА»</a:t>
            </a:r>
            <a:endParaRPr b="1" i="1" lang="en-US" sz="32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935440" y="1628640"/>
            <a:ext cx="329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ЧТО ТАКОЕ ОБРАЗОВАНИЕ ?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ОБРАЗОВАНИЕ – это один из социальных институтов общества. Функцией его является систематическое обучение и воспитание 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ПЕРВОБЫТНОЕ ОБЩЕСТВО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28600" y="1600200"/>
            <a:ext cx="6885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ДРЕВНЯЯ ГРЕЦИЯ И ДРЕВНИЙ МИР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7280" y="1600200"/>
            <a:ext cx="383868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48040" y="1600200"/>
            <a:ext cx="3838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СРЕДНЕВЕКОВОЕ ОБРАЗОВАНИЕ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908000" y="1434960"/>
            <a:ext cx="54007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СЛАВЯНО – ГРЕКО – ЛАТИНСКАЯ АКАДЕМИЯ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162080" y="1600200"/>
            <a:ext cx="2628720" cy="4525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40360" y="1600200"/>
            <a:ext cx="417672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Академия создана в 1687 г. и разместилась в Заиконоспасском монастыре на Никольской улице в Москве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ПЕТР</a:t>
            </a:r>
            <a:r>
              <a:rPr b="1" i="1" lang="en-US" sz="3600" spc="-1" strike="noStrike">
                <a:solidFill>
                  <a:srgbClr val="663300"/>
                </a:solidFill>
                <a:latin typeface="Century Gothic"/>
              </a:rPr>
              <a:t> I</a:t>
            </a: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 И ОТКРЫТИЕ ЦИФИРНЫХ ШКОЛ</a:t>
            </a: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 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847960" y="1600200"/>
            <a:ext cx="344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ПЕТЕРБУРГСКАЯ АКАДЕМИЯ НАУК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258920" y="139860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entury Gothic"/>
              </a:rPr>
              <a:t>СМОЛЬНЫЙ ИНСТИТУТ БЛАГОРОДНЫХ ДЕВИЦ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1681200"/>
            <a:ext cx="7416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0:17:13Z</dcterms:created>
  <dc:creator>tati</dc:creator>
  <dc:description/>
  <dc:language>en-US</dc:language>
  <cp:lastModifiedBy>tati</cp:lastModifiedBy>
  <dcterms:modified xsi:type="dcterms:W3CDTF">2011-08-16T18:25:16Z</dcterms:modified>
  <cp:revision>14</cp:revision>
  <dc:subject/>
  <dc:title>ДЕНЬ ЗНАНИЙ</dc:title>
</cp:coreProperties>
</file>