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8E9-0F8E-4F19-B529-9041120C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120-B895-4BDC-8A2C-6F215852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6A5-BAE7-4DAA-A27F-1CC458FB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A76-7E70-4DD0-BDAE-6A6A4B00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207-D9AC-4C2F-87C2-72014748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651-C9D5-4D19-8EE7-12C677B6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B7F-CCA1-43FC-A69D-9B06169F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E0E-529D-4805-9A37-AF33EBB0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38B-39A9-4E54-9A3C-69175BB0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B38-B69D-4011-9906-0037A7FC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1B6-F9E3-4241-B34A-788E54E3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AE8-0656-4EFF-87F6-34A6292E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3857-E89A-4EF1-B621-64D1B2E5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C0E4-0EB9-49D3-9015-7025D165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0B81-DAA9-4512-BD36-E1C8E62F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B9AE-B78E-4BDB-8FA9-3BF2010D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529D-E1D9-40D7-AE4A-E5F0667C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9D1A-12B4-456C-9CE0-3F574C88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4987-74BE-4621-AE4D-E565D28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4DCA-F035-4563-A99D-F5723A2E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3866-F697-4B33-9F5F-F6374D7E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8823-F1C2-4BD5-81F4-492AB636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2B47-76C0-4D46-8DFD-3E65D86E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931D-D9C4-4C75-9CD8-E99C8DD9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0F21-7C17-430D-95AB-2AB4586AE8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6F19-E7EC-43A7-975A-1AB6C8DCAB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ОТ ЦИФИРНОЙ ШКОЛЫ ДО ЦИФРОВОЙ.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МОСКОВСКИЙ УНИВЕРСИТЕТ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3240000" cy="4421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Основан в 1755 г. по инициативе М. В. Ломоносова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0563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ОБРАЗОВАНИЕ РОССИИ В</a:t>
            </a: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 XIX</a:t>
            </a: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 в.</a:t>
            </a: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  </a:t>
            </a: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ГИМНАЗИИ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НАЧАЛЬНЫЕ НАРОДНЫЕ УЧИЛИЩА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ЗЕМСКИЕ ШКОЛЫ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ГИМНАЗИЯ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612144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НАЧАЛЬНОЕ НАРОДНОЕ УЧИЛИЩЕ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27280" y="1600200"/>
            <a:ext cx="594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ЗЕМСКАЯ ШКОЛА 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67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Century Gothic"/>
              </a:rPr>
              <a:t>ПЛАН П. А. СТОЛЫПИНА ПО РЕФОРМАЦИИ СИСТЕМЫ ОБРАЗОВАНИЯ</a:t>
            </a:r>
            <a:endParaRPr b="1" i="1" lang="en-US" sz="32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3255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Century Gothic"/>
              </a:rPr>
              <a:t>В. В. ПУТИН И НАЦИОНАЛЬНЫЙ ПРОЕКТ «ОБРАЗОВАНИЕ»</a:t>
            </a:r>
            <a:endParaRPr b="1" i="1" lang="en-US" sz="32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792520" y="1628640"/>
            <a:ext cx="357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Century Gothic"/>
              </a:rPr>
              <a:t>Д. А. МЕДВЕДЕВ И ОБРАЗОВАТЕЛЬНАЯ ИНИЦИАТИВА «НАША НОВАЯ ШКОЛА»</a:t>
            </a:r>
            <a:endParaRPr b="1" i="1" lang="en-US" sz="32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935440" y="1628640"/>
            <a:ext cx="329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ЧТО ТАКОЕ ОБРАЗОВАНИЕ ?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ОБРАЗОВАНИЕ – это один из социальных институтов общества. Функцией его является систематическое обучение и воспитание 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ПЕРВОБЫТНОЕ ОБЩЕСТВО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28600" y="1600200"/>
            <a:ext cx="6885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ДРЕВНЯЯ ГРЕЦИЯ И ДРЕВНИЙ МИР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57280" y="1600200"/>
            <a:ext cx="383868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748040" y="1600200"/>
            <a:ext cx="3838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СРЕДНЕВЕКОВОЕ ОБРАЗОВАНИЕ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908000" y="1434960"/>
            <a:ext cx="54007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СЛАВЯНО – ГРЕКО – ЛАТИНСКАЯ АКАДЕМИЯ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162080" y="1600200"/>
            <a:ext cx="2628720" cy="4525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40360" y="1600200"/>
            <a:ext cx="417672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Академия создана в 1687 г. и разместилась в Заиконоспасском монастыре на Никольской улице в Москве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ПЕТР</a:t>
            </a:r>
            <a:r>
              <a:rPr b="1" i="1" lang="en-US" sz="3600" spc="-1" strike="noStrike">
                <a:solidFill>
                  <a:srgbClr val="663300"/>
                </a:solidFill>
                <a:latin typeface="Century Gothic"/>
              </a:rPr>
              <a:t> I</a:t>
            </a: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 И ОТКРЫТИЕ ЦИФИРНЫХ ШКОЛ</a:t>
            </a: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 </a:t>
            </a: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847960" y="1600200"/>
            <a:ext cx="3448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ПЕТЕРБУРГСКАЯ АКАДЕМИЯ НАУК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258920" y="139860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СМОЛЬНЫЙ ИНСТИТУТ БЛАГОРОДНЫХ ДЕВИЦ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42920" y="1681200"/>
            <a:ext cx="7416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10:17:13Z</dcterms:created>
  <dc:creator>tati</dc:creator>
  <dc:description/>
  <dc:language>en-US</dc:language>
  <cp:lastModifiedBy>tati</cp:lastModifiedBy>
  <dcterms:modified xsi:type="dcterms:W3CDTF">2011-08-16T18:25:16Z</dcterms:modified>
  <cp:revision>14</cp:revision>
  <dc:subject/>
  <dc:title>ДЕНЬ ЗНАНИЙ</dc:title>
</cp:coreProperties>
</file>