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E2218-E299-4FC4-B7C2-77940752E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5EC1B-06C4-4606-BD82-57CCA4B61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85541-C756-4EA2-B116-8F18A0CC1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03AF3-6313-4CBE-B8D5-4B71CAD01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FB6B4-1E2F-4FED-AA8A-B255A60C9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759DA-4188-41A0-B12D-45832B35D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73277-F171-41AD-BC2C-DB9B7B03A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8E33D-2C4F-4D92-BE95-0EE5ED0C1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568CA-FA50-454C-8B22-7BAA64270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61EFC-1528-4771-A0C8-CDE087AD1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F0804-076D-4AC1-BD90-C327301B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14340-BE20-4781-8F62-C82282D6D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5A717-C77D-4FEB-A338-1E3E4300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61817-ABB9-4422-8913-C8DA83D9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B2B8F-5129-48E3-BA74-FC21FB8D6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3506E-ABC1-4438-9D15-6053194B5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60035-EE35-47C3-829B-217A76DA6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5ECDF-D7CB-482B-9367-FDB0C82B0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087AE-9606-49AC-9820-E26CE5780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144DB-78C2-437B-934D-27F9DD56D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8ACBE-289C-4C17-902B-36D71A6CB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792DC-3778-4BDB-A2C8-5D7718D0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D08B9-6BC7-4FEB-9BF9-6B156A7A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8871B-401E-4D81-929B-1DB904EBB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13F42-91CC-4743-AED2-9F3D6C0BDD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7410F-C182-4DE7-B248-E10F8D473C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600" spc="-1" strike="noStrike">
                <a:solidFill>
                  <a:srgbClr val="ffffff"/>
                </a:solidFill>
                <a:latin typeface="Arial"/>
              </a:rPr>
              <a:t>11 </a:t>
            </a:r>
            <a:r>
              <a:rPr b="0" i="1" lang="ru-RU" sz="4600" spc="-1" strike="noStrike">
                <a:solidFill>
                  <a:srgbClr val="ffffff"/>
                </a:solidFill>
                <a:latin typeface="Arial"/>
              </a:rPr>
              <a:t>класс</a:t>
            </a:r>
            <a:br>
              <a:rPr sz="4600"/>
            </a:br>
            <a:r>
              <a:rPr b="1" i="1" lang="ru-RU" sz="4600" spc="-1" strike="noStrike">
                <a:solidFill>
                  <a:srgbClr val="ffffff"/>
                </a:solidFill>
                <a:latin typeface="Arial"/>
              </a:rPr>
              <a:t>Итоговое повторение курса геометрии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32000" y="4724280"/>
            <a:ext cx="6511680" cy="14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Урок по теме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Векторы в пространстве. Действия над векторами. Скалярное произведение векторов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Arial"/>
              </a:rPr>
              <a:t>Учитель ГОУ СОШ № 648: Алексеева Каролина Евгеньевн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Решение зада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467 (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472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Подсказки к решению зада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75708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467 (а)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ешение задачи желательно записать двумя способ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47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лан решения 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ввести систему координат, найти координаты вект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доказать с помощью скалярного произведения, что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┴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,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┴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делать вывод по признаку перпендикулярности прямой и плоскости, что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NQ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┴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2268360" y="3500280"/>
                <a:ext cx="139248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MQ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547640" y="4149720"/>
                <a:ext cx="43200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2700360" y="4149720"/>
                <a:ext cx="4348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M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419640" y="4149720"/>
                <a:ext cx="431640" cy="3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M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2195640" y="4149720"/>
                <a:ext cx="431640" cy="3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M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462240" y="687600"/>
            <a:ext cx="809568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Подведение итогов и постановка домашнего зад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95280" y="2204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е вектора называю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коллинеарными; б) компланарны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а до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повторить гл. 5, № 46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24160" y="524160"/>
            <a:ext cx="809568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Цели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тор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стематизировать знания учащихся по пройденным тем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Ход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1. Орг. мо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ка домашнего задания, объявление темы и целей уро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2. Актуализация знаний учащих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ащиеся: 1) отвечают на теоретические вопросы; 2) заполняют пропуски в записях с последующей самопровер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3. Индивидуальная работа по карточкам (3 уровня сложност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суждаются неправильные ответы. При необходимости оказывается консультац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4. Решение задач № 467 (а), 4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льный ученик работает самостоятельно. Учитель контролируе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у слабого учащегося, оказывая необходимую помощ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5. Подведение итогов и постановка домашнего задания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вторить гл. 5; задача №46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Кто придумал вектор и скаляр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9440" y="2206800"/>
            <a:ext cx="4038840" cy="35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вёл терм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ектор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(от лат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ector –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несущий»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каляр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(от лат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cale –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шкала»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калярное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оизве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 1845 году ирландский математик и астроном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ильям Гамильтон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072040" y="1981080"/>
            <a:ext cx="319248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24160" y="524160"/>
            <a:ext cx="809568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Ответы на вопро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6840" y="1699920"/>
            <a:ext cx="793116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ение вектор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вные векторы. Длина вектор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ллинеарные вектор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планарные вектор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диничный вект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ординатные вектор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ложить данный векто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координатным вектора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ти длины вектор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ение скалярного произведения двух вектор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ойства скалярного произведен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4356000" y="3645000"/>
                <a:ext cx="77148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t xml:space="preserve">4</m:t>
                    </m:r>
                    <m:r>
                      <m:t xml:space="preserve">;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3995640" y="4292640"/>
                <a:ext cx="88920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5219640" y="4292640"/>
                <a:ext cx="100800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;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524160" y="524160"/>
            <a:ext cx="809568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Задание с пропусками в запися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699920"/>
            <a:ext cx="77868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б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 и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коллинеарны, значит,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 = …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г)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если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    ,   ,    –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еколлинеарные векторы,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то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= …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д)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 = …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е) со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i="1" lang="el-GR" sz="21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= …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ж)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  <a:ea typeface="Arial"/>
              </a:rPr>
              <a:t>┴  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то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 …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з)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  <a:ea typeface="Arial"/>
              </a:rPr>
              <a:t> 0,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Arial"/>
              </a:rPr>
              <a:t>то угол между векторами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  <a:ea typeface="Arial"/>
              </a:rPr>
              <a:t> и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 – …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и)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если угол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Arial"/>
              </a:rPr>
              <a:t>между векторами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  –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стрый, то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116000" y="1628640"/>
                <a:ext cx="144000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</m:acc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M</m:t>
                        </m:r>
                      </m:e>
                    </m:acc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1116000" y="1989000"/>
                <a:ext cx="122400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</m:acc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0</m:t>
                        </m:r>
                      </m:e>
                    </m:acc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1187280" y="3213000"/>
                <a:ext cx="50040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187280" y="4149720"/>
                <a:ext cx="50040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124000" y="2852640"/>
                <a:ext cx="2397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643280" y="2565360"/>
                <a:ext cx="2397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6012000" y="4149720"/>
                <a:ext cx="239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5219640" y="4508640"/>
                <a:ext cx="2397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411280" y="3860640"/>
                <a:ext cx="2397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116000" y="2565360"/>
                <a:ext cx="241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619280" y="2565360"/>
                <a:ext cx="2397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835280" y="2852640"/>
                <a:ext cx="241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1908000" y="3860640"/>
                <a:ext cx="314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5508720" y="4149720"/>
                <a:ext cx="2412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4746600" y="4437000"/>
                <a:ext cx="2826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411280" y="2852640"/>
                <a:ext cx="21780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6659640" y="2924280"/>
                <a:ext cx="24912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Ответы на задание с пропуск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7993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б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ллинеарны, значит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которое числ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г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есл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коллинеарны, т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|   |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|   |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со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                 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е) со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=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,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о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=                                           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ж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сл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┴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= 0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з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0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о угол между векторами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упо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угол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ежду векторам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трый, т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0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2124000" y="3573360"/>
                <a:ext cx="57636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4067280" y="3789360"/>
                <a:ext cx="295272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835280" y="2637000"/>
                <a:ext cx="2412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1258920" y="2349360"/>
                <a:ext cx="241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5364000" y="4869000"/>
                <a:ext cx="3002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4643280" y="5084640"/>
                <a:ext cx="2160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2124000" y="2637000"/>
                <a:ext cx="2397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5867280" y="4797360"/>
                <a:ext cx="2397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5076720" y="5084640"/>
                <a:ext cx="2397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1763640" y="2349360"/>
                <a:ext cx="2397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4284720" y="3284640"/>
                <a:ext cx="500040" cy="40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258920" y="3284640"/>
                <a:ext cx="50472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3059280" y="4508640"/>
                <a:ext cx="500040" cy="40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1332000" y="4797360"/>
                <a:ext cx="50004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6877080" y="5084640"/>
                <a:ext cx="50004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2124000" y="3284640"/>
                <a:ext cx="2412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3635280" y="3284640"/>
                <a:ext cx="241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908000" y="4437000"/>
                <a:ext cx="2415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3924360" y="3284640"/>
                <a:ext cx="2397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2700360" y="3284640"/>
                <a:ext cx="2397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340000" y="4437000"/>
                <a:ext cx="2397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643280" y="2349360"/>
                <a:ext cx="79236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=</m:t>
                    </m:r>
                    <m:r>
                      <m:t xml:space="preserve">k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5148360" y="2708280"/>
                <a:ext cx="188280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r>
                      <m:t xml:space="preserve">k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+</m:t>
                    </m:r>
                    <m:r>
                      <m:t xml:space="preserve">k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+</m:t>
                    </m:r>
                    <m:r>
                      <m:t xml:space="preserve">k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2556000" y="2637000"/>
                <a:ext cx="217440" cy="43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187280" y="1832040"/>
                <a:ext cx="144000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BM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M</m:t>
                        </m:r>
                      </m:e>
                    </m:acc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187280" y="2131920"/>
                <a:ext cx="108108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0</m:t>
                        </m:r>
                      </m:e>
                    </m:acc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4932360" y="3357720"/>
                <a:ext cx="187164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24160" y="524160"/>
            <a:ext cx="809568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Индивидуальная работа по карточка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68360" y="1844640"/>
            <a:ext cx="7632720" cy="40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ычисли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гол между прямым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B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е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(1; 1; 0), B(3; –1; 0), C(4; –1; 2), D(0; 1; 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ано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BCD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раллелограмм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(–6; –4; 6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(6; –6; 2), C(10; 0; 4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й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оординаты вершины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угол межд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кторам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3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ано: МАВС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траэдр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 М(2; 5; 7), А(1; –3; 2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(2; 3; 7), С(3; 6; 2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йт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тояние от точки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М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 точки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О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сечения медиан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∆АВ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908000" y="3933720"/>
                <a:ext cx="41148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2556000" y="3933720"/>
                <a:ext cx="37152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Ответы к индивидуальным задача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15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(–2; 2; 2), 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12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5T11:26:36Z</dcterms:created>
  <dc:creator>Carol</dc:creator>
  <dc:description/>
  <dc:language>en-US</dc:language>
  <cp:lastModifiedBy>Carol</cp:lastModifiedBy>
  <dcterms:modified xsi:type="dcterms:W3CDTF">2010-11-02T19:50:49Z</dcterms:modified>
  <cp:revision>21</cp:revision>
  <dc:subject/>
  <dc:title>Итоговое повторение. Векторы в пространстве. Действия над векторами. Скалярное произведение векторов</dc:title>
</cp:coreProperties>
</file>