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5419F-19D7-4EEC-B692-73DEEDCB0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995C8-272C-4E4E-A62D-4C89BE84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89AF9-116E-4D1A-A695-A202F4EFA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98F5B-96E0-41B1-B1B3-C65B4CE8E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7566-3D2E-4584-906B-A9BF6F41D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6BDF-D6FF-443B-9048-129C514B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BA01-CAD8-4AAC-ACC5-D68A91C9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6F4E-64D8-4508-A28B-7028B333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7546-1886-4FCE-97A3-0BB40B88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A826-A9C8-424B-BA90-75895F23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9ECD-42E5-4A0B-90BB-54EF206E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C61B3-46A9-46B1-8618-420DB5CA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9478-6260-41EC-95B4-6CB6ED3B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A308-12BB-418A-86EE-D4B54476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DE78-9CAA-4E72-BD9C-DE38590D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DF33-EC50-4B89-9F55-EF066A5A3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EF8E-CF09-431C-8530-928A75A61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78DDA-8DA6-472C-90E2-635D8EB6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F46A1-DA09-4C8E-926A-7EEF7CC1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8051C-918D-42D3-8CDA-5A347ABD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C589A-98C4-4FCC-9ECD-40211AEA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9104C-287F-41D6-BBD7-F6ED3ED6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4F17D-949A-4BEA-BB58-45251CF2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B427A-2219-4C66-A9DE-0247F5DC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ACD6-D9C2-49FC-866D-8FE649E744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79D6-A733-458A-8396-5380AC05EC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ffffff"/>
                </a:solidFill>
                <a:latin typeface="Arial"/>
              </a:rPr>
              <a:t>11 </a:t>
            </a:r>
            <a:r>
              <a:rPr b="0" i="1" lang="ru-RU" sz="4600" spc="-1" strike="noStrike">
                <a:solidFill>
                  <a:srgbClr val="ffffff"/>
                </a:solidFill>
                <a:latin typeface="Arial"/>
              </a:rPr>
              <a:t>класс</a:t>
            </a:r>
            <a:br>
              <a:rPr sz="4600"/>
            </a:br>
            <a:r>
              <a:rPr b="1" i="1" lang="ru-RU" sz="4600" spc="-1" strike="noStrike">
                <a:solidFill>
                  <a:srgbClr val="ffffff"/>
                </a:solidFill>
                <a:latin typeface="Arial"/>
              </a:rPr>
              <a:t>Итоговое повторение курса геометрии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32000" y="4724280"/>
            <a:ext cx="6511680" cy="14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рок по теме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Векторы в пространстве. Действия над векторами. Скалярное произведение векторов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Учитель ГОУ СОШ № 648: Алексеева Каролина Евгеньевн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467 (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472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одсказки к решению зада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75708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467 (а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ешение задачи желательно записать двумя способ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47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лан решения 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ввести систему координат, найти координаты век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доказать с помощью скалярного произведения, что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,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делать вывод по признаку перпендикулярности прямой и плоскости, что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NQ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268360" y="3500280"/>
                <a:ext cx="13924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MQ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547640" y="4149720"/>
                <a:ext cx="4320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700360" y="4149720"/>
                <a:ext cx="4348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M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419640" y="4149720"/>
                <a:ext cx="43164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M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195640" y="4149720"/>
                <a:ext cx="43164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M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62240" y="68760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Подведение итогов и постановка домашнего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95280" y="2204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вектора называ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коллинеарными; б) компланарны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 д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повторить гл. 5, № 46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то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стематизировать знания учащихся по пройденным тем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Ход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. Орг. мо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ка домашнего задания, объявление темы и целей уро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. Актуализация знаний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еся: 1) отвечают на теоретические вопросы; 2) заполняют пропуски в записях с последующей самопровер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3. Индивидуальная работа по карточкам (3 уровня слож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уждаются неправильные ответы. При необходимости оказывается консульт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4. Решение задач № 467 (а), 4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ьный ученик работает самостоятельно. Учитель контролиру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у слабого учащегося, оказывая необходимую помощ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5. Подведение итогов и постановка домашнего задан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вторить гл. 5; задача №46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Кто придумал вектор и скаля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9440" y="2206800"/>
            <a:ext cx="403884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вёл терм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ктор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от лат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ctor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несущий»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каляр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от лат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cale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шкала»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калярно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из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1845 году ирландский математик и астроном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ильям Гамильтон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072040" y="1981080"/>
            <a:ext cx="319248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Ответы на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6840" y="1699920"/>
            <a:ext cx="793116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вектор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вные векторы. Длина векто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линеарные векто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ланарные векто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диничный век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ординатные векто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ложить данный векто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координатным вектора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 длины вектор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скалярного произведения двух вектор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ойства скалярного произвед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356000" y="3645000"/>
                <a:ext cx="7714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995640" y="4292640"/>
                <a:ext cx="8892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219640" y="4292640"/>
                <a:ext cx="10080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Задание с пропусками в запис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99920"/>
            <a:ext cx="77868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б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ллинеарны, значит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= …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   ,   ,    –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коллинеарные векторы,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= …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д)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= …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е) со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= …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ж)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┴  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…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з)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 0,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то угол между векторами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 и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– …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и)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если угол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между векторами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 –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стрый, то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116000" y="1628640"/>
                <a:ext cx="14400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</m:e>
                    </m:acc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116000" y="1989000"/>
                <a:ext cx="122400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0</m:t>
                        </m:r>
                      </m:e>
                    </m:acc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187280" y="3213000"/>
                <a:ext cx="5004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187280" y="4149720"/>
                <a:ext cx="5004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124000" y="2852640"/>
                <a:ext cx="239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643280" y="2565360"/>
                <a:ext cx="239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012000" y="4149720"/>
                <a:ext cx="239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219640" y="4508640"/>
                <a:ext cx="239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411280" y="3860640"/>
                <a:ext cx="239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116000" y="2565360"/>
                <a:ext cx="241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619280" y="2565360"/>
                <a:ext cx="239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835280" y="2852640"/>
                <a:ext cx="241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908000" y="3860640"/>
                <a:ext cx="314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508720" y="4149720"/>
                <a:ext cx="241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746600" y="4437000"/>
                <a:ext cx="2826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411280" y="2852640"/>
                <a:ext cx="2178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659640" y="2924280"/>
                <a:ext cx="2491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Ответы на задание с пропус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7993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линеарны, значит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оторое числ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с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оллинеарны, 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|   |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|   |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со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       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е) со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,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=                                          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ж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┴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= 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0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о угол между векторам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уп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угол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ежду вектора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трый, т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0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124000" y="3573360"/>
                <a:ext cx="57636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067280" y="3789360"/>
                <a:ext cx="295272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835280" y="2637000"/>
                <a:ext cx="241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258920" y="2349360"/>
                <a:ext cx="241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5364000" y="4869000"/>
                <a:ext cx="3002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643280" y="5084640"/>
                <a:ext cx="2160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124000" y="2637000"/>
                <a:ext cx="239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867280" y="4797360"/>
                <a:ext cx="239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076720" y="5084640"/>
                <a:ext cx="239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763640" y="2349360"/>
                <a:ext cx="239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284720" y="3284640"/>
                <a:ext cx="50004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258920" y="3284640"/>
                <a:ext cx="50472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059280" y="4508640"/>
                <a:ext cx="50004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332000" y="4797360"/>
                <a:ext cx="5000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877080" y="5084640"/>
                <a:ext cx="5000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124000" y="3284640"/>
                <a:ext cx="241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635280" y="3284640"/>
                <a:ext cx="241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908000" y="4437000"/>
                <a:ext cx="2415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3924360" y="3284640"/>
                <a:ext cx="239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700360" y="3284640"/>
                <a:ext cx="239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340000" y="4437000"/>
                <a:ext cx="239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643280" y="2349360"/>
                <a:ext cx="79236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k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148360" y="2708280"/>
                <a:ext cx="18828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k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k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k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556000" y="2637000"/>
                <a:ext cx="21744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187280" y="1832040"/>
                <a:ext cx="14400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BM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</m:e>
                    </m:acc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187280" y="2131920"/>
                <a:ext cx="108108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0</m:t>
                        </m:r>
                      </m:e>
                    </m:acc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932360" y="3357720"/>
                <a:ext cx="187164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Индивидуальная работа по карточк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763272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ычисли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гол между прямым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B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(1; 1; 0), B(3; –1; 0), C(4; –1; 2), D(0; 1; 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BCD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аллелограмм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(–6; –4; 6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(6; –6; 2), C(10; 0; 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й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ординаты вершины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угол меж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кторам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ано: МАВС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траэдр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М(2; 5; 7), А(1; –3; 2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(2; 3; 7), С(3; 6; 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йт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ояние от точк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М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точк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сечения медиан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∆АВ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908000" y="3933720"/>
                <a:ext cx="4114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556000" y="3933720"/>
                <a:ext cx="37152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Ответы к индивидуальным задач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1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(–2; 2; 2),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1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1:26:36Z</dcterms:created>
  <dc:creator>Carol</dc:creator>
  <dc:description/>
  <dc:language>en-US</dc:language>
  <cp:lastModifiedBy>Carol</cp:lastModifiedBy>
  <dcterms:modified xsi:type="dcterms:W3CDTF">2010-11-02T19:50:49Z</dcterms:modified>
  <cp:revision>21</cp:revision>
  <dc:subject/>
  <dc:title>Итоговое повторение. Векторы в пространстве. Действия над векторами. Скалярное произведение векторов</dc:title>
</cp:coreProperties>
</file>