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41BA-A763-4992-8559-7A971E8B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C211-02C2-4CB0-9074-1FCED35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0054-8222-4E9A-BC82-08F3DD12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CF30-8415-4EED-A2B6-3E118DCC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223C-A19C-4AF9-A5F3-5199ABD8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E4EE-9320-4947-9FFC-F0B72272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5C9F-D736-4B65-92AF-FDBA33A0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6CA6-8BDE-480D-817D-67F1B73A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DA97-A308-4A0B-B070-4D1B10A8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BCA2-B000-40D2-8D93-5679914E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09D8-201B-44DE-8011-FE9009F3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C3F1-FE66-49CE-B7BF-8D0FF76A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4F85-5969-4EB6-A0DC-B07FC3F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A74F-A689-4E9E-A4CD-5D82E60A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1337-B8C1-4E60-941F-7C356F68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F5B1-8D68-4BAF-BFDE-46DDFDE7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5907-912F-478E-8F1A-F7D24187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7DA9-80B8-4B35-AFB3-80B66444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9A60-9381-46EF-BFA3-4FD9E75E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C3AD-DB43-4966-ADDD-02FFD828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712E-0144-424A-9EA4-474D7F9F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05E6-2811-4C41-892D-2D242FBB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E28F-8DDE-4CEA-849A-0F566FCF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5568-BE6A-4AFD-8D7C-19A5502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2127-85DA-4358-B981-0641C6CECD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D2F0-500A-4BED-A333-54F8E4FCFA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i="1" lang="ru-RU" sz="4600" spc="-1" strike="noStrike">
                <a:solidFill>
                  <a:srgbClr val="ffffff"/>
                </a:solidFill>
                <a:latin typeface="Arial"/>
              </a:rPr>
              <a:t>класс</a:t>
            </a:r>
            <a:br>
              <a:rPr sz="4600"/>
            </a:br>
            <a:r>
              <a:rPr b="1" i="1" lang="ru-RU" sz="4600" spc="-1" strike="noStrike">
                <a:solidFill>
                  <a:srgbClr val="ffffff"/>
                </a:solidFill>
                <a:latin typeface="Arial"/>
              </a:rPr>
              <a:t>Итоговое повторение курса геометри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2000" y="4724280"/>
            <a:ext cx="651168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 по тем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Векторы в пространстве. Действия над векторами. Скалярное произведение векторов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читель ГОУ СОШ № 648: Алексеева Каролина Евгеньев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67 (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7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дсказки к решению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75708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67 (а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е задачи желательно записать двумя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7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лан решения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ввести систему координат, найти координат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доказать с помощью скалярного произведения, чт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,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делать вывод по признаку перпендикулярности прямой и плоскости, чт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Q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268360" y="3500280"/>
                <a:ext cx="1392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547640" y="4149720"/>
                <a:ext cx="432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700360" y="4149720"/>
                <a:ext cx="4348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19640" y="4149720"/>
                <a:ext cx="431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95640" y="4149720"/>
                <a:ext cx="431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62240" y="68760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одведение итогов и постанов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вектора называ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оллинеарными; б) компланар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д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повторить гл. 5, № 46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зировать знания учащихся по пройденным те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. Орг. мо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домашнего задания, объявление темы и целей уро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Актуализация знаний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: 1) отвечают на теоретические вопросы; 2) заполняют пропуски в записях с последующей самопровер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Индивидуальная работа по карточкам (3 уровня слож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ются неправильные ответы. При необходимости оказывается консульт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4. Решение задач № 467 (а), 4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ученик работает самостоятельно. Учитель контролиру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слабого учащегося, оказывая необходим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5. Подведение итогов и постановка домашнего зад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торить гл. 5; задача №4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Кто придумал вектор и скаля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9440" y="2206800"/>
            <a:ext cx="403884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вёл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кто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ctor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есущий»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ля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ale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шкала»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лярно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845 году ирландский математик и астроно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ильям Гамильтон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72040" y="1981080"/>
            <a:ext cx="31924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Ответы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99920"/>
            <a:ext cx="79311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ве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ые векторы. Длина век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ине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анарные век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чный ве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ординатные век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ожить данный век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оординатным векто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длины ве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калярного произведения двух векто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йства скалярного произвед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356000" y="3645000"/>
                <a:ext cx="7714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995640" y="4292640"/>
                <a:ext cx="889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219640" y="4292640"/>
                <a:ext cx="100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дание с пропусками в запис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77868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ллинеарны, значит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= …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  ,   ,   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коллинеарные векторы,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=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=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е) со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…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ж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┴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0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то угол между векторам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– …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угол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между векторам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трый, то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116000" y="1628640"/>
                <a:ext cx="1440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16000" y="1989000"/>
                <a:ext cx="12240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87280" y="3213000"/>
                <a:ext cx="500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7280" y="4149720"/>
                <a:ext cx="500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24000" y="285264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643280" y="2565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12000" y="4149720"/>
                <a:ext cx="239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219640" y="450864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11280" y="386064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16000" y="2565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619280" y="2565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35280" y="285264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08000" y="3860640"/>
                <a:ext cx="314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508720" y="4149720"/>
                <a:ext cx="24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746600" y="4437000"/>
                <a:ext cx="282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1280" y="2852640"/>
                <a:ext cx="217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59640" y="2924280"/>
                <a:ext cx="249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веты на задание с пропус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инеарны, значит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ое чис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ллинеарны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   |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   |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) с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,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=                             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┴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 угол между вектора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п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уго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вектор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рый, 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3573360"/>
                <a:ext cx="576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067280" y="3789360"/>
                <a:ext cx="2952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835280" y="2637000"/>
                <a:ext cx="24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58920" y="2349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364000" y="4869000"/>
                <a:ext cx="300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643280" y="5084640"/>
                <a:ext cx="216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24000" y="263700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4797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76720" y="508464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763640" y="234936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284720" y="3284640"/>
                <a:ext cx="500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258920" y="3284640"/>
                <a:ext cx="5047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4508640"/>
                <a:ext cx="500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32000" y="4797360"/>
                <a:ext cx="500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77080" y="5084640"/>
                <a:ext cx="500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124000" y="3284640"/>
                <a:ext cx="24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635280" y="3284640"/>
                <a:ext cx="241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08000" y="4437000"/>
                <a:ext cx="241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924360" y="328464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700360" y="3284640"/>
                <a:ext cx="239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40000" y="4437000"/>
                <a:ext cx="239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43280" y="2349360"/>
                <a:ext cx="792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148360" y="2708280"/>
                <a:ext cx="1882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556000" y="2637000"/>
                <a:ext cx="21744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1832040"/>
                <a:ext cx="1440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87280" y="2131920"/>
                <a:ext cx="10810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32360" y="3357720"/>
                <a:ext cx="1871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24160" y="5241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Индивидуальная работа по карточ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763272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числ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гол между прямы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(1; 1; 0), B(3; –1; 0), C(4; –1; 2), D(0; 1;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(–6; –4; 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(6; –6; 2), C(10; 0; 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ординаты вершин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гол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о: МАВС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М(2; 5; 7), А(1; –3; 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(2; 3; 7), С(3; 6; 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ояние от точ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точ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ечения медиа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∆АВ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908000" y="3933720"/>
                <a:ext cx="4114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56000" y="393372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Ответы к индивидуальным задач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(–2; 2; 2), 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1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26:36Z</dcterms:created>
  <dc:creator>Carol</dc:creator>
  <dc:description/>
  <dc:language>en-US</dc:language>
  <cp:lastModifiedBy>Carol</cp:lastModifiedBy>
  <dcterms:modified xsi:type="dcterms:W3CDTF">2010-11-02T19:50:49Z</dcterms:modified>
  <cp:revision>21</cp:revision>
  <dc:subject/>
  <dc:title>Итоговое повторение. Векторы в пространстве. Действия над векторами. Скалярное произведение векторов</dc:title>
</cp:coreProperties>
</file>