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E20C-E952-42F4-9421-234051CE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70E-9764-4E55-AFE7-449D3AF1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1097-ADB4-4066-A87E-1E03F6B2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C02-3BDE-4858-A0B9-5B496343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0831-0F6D-4F43-88FF-3B51B31F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34D2-4AAE-4AE8-8BE2-52AEA14B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B4F4-5716-438F-A1FE-CB798C60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F333-43FA-4AE2-BAB2-F6AA9693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C736-61F7-4931-A028-81C5E4FF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7E71-D55F-4B29-9A50-DDE60E0A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391C-C619-4DE4-A01F-8DFFB0F2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C36-811C-451E-93FC-799BD633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43CF-166F-4BDC-BE7B-0AEF155A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5AD2-F7B8-4FE8-AB1A-47D80D99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9483-91D1-4F25-A25B-91EA4F84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1FEF-735E-412D-B450-174E6B9B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9122-386E-489F-A788-5E01AC89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433-F457-49F9-A41C-694718AA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0D5-397F-4A06-8B28-032795E3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47C5-6054-4B03-8C7F-1DBC4CDA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D5E-8FDF-4CC1-A503-ABDA2E37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55A-5907-44FE-9BCB-BFD24318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5D40-6328-4AF9-AE0E-19B589B7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790-30B6-40A6-A61B-1C81E667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7497-3059-4EC9-AD51-CC5D014C7EC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EB85-1E5E-4B5A-A7A7-45579151757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48;&#1085;&#1090;&#1077;&#1088;&#1074;&#1072;&#1083;_%28&#1084;&#1091;&#1079;&#1099;&#1082;&#1072;%29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0;&#1091;&#1087;&#1077;&#1085;&#1100;_%28&#1084;&#1091;&#1079;&#1099;&#1082;&#1072;%29" TargetMode="External"/><Relationship Id="rId2" Type="http://schemas.openxmlformats.org/officeDocument/2006/relationships/hyperlink" Target="http://ru.wikipedia.org/wiki/&#1044;&#1080;&#1072;&#1090;&#1086;&#1085;&#1080;&#1095;&#1077;&#1089;&#1082;&#1080;&#1081;_&#1079;&#1074;&#1091;&#1082;&#1086;&#1088;&#1103;&#1076;" TargetMode="Externa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55;&#1088;&#1080;&#1084;&#1072;_%28&#1080;&#1085;&#1090;&#1077;&#1088;&#1074;&#1072;&#1083;%29" TargetMode="External"/><Relationship Id="rId3" Type="http://schemas.openxmlformats.org/officeDocument/2006/relationships/hyperlink" Target="http://ru.wikipedia.org/wiki/&#1057;&#1077;&#1082;&#1091;&#1085;&#1076;&#1072;_%28&#1080;&#1085;&#1090;&#1077;&#1088;&#1074;&#1072;&#1083;%29" TargetMode="External"/><Relationship Id="rId4" Type="http://schemas.openxmlformats.org/officeDocument/2006/relationships/hyperlink" Target="http://ru.wikipedia.org/wiki/&#1058;&#1077;&#1088;&#1094;&#1080;&#1103;_%28&#1080;&#1085;&#1090;&#1077;&#1088;&#1074;&#1072;&#1083;%29" TargetMode="External"/><Relationship Id="rId5" Type="http://schemas.openxmlformats.org/officeDocument/2006/relationships/hyperlink" Target="http://ru.wikipedia.org/wiki/&#1050;&#1074;&#1072;&#1088;&#1090;&#1072;_%28&#1080;&#1085;&#1090;&#1077;&#1088;&#1074;&#1072;&#1083;%29" TargetMode="External"/><Relationship Id="rId6" Type="http://schemas.openxmlformats.org/officeDocument/2006/relationships/hyperlink" Target="http://ru.wikipedia.org/wiki/&#1050;&#1074;&#1080;&#1085;&#1090;&#1072;" TargetMode="External"/><Relationship Id="rId7" Type="http://schemas.openxmlformats.org/officeDocument/2006/relationships/hyperlink" Target="http://ru.wikipedia.org/wiki/&#1057;&#1077;&#1082;&#1089;&#1090;&#1072;" TargetMode="External"/><Relationship Id="rId8" Type="http://schemas.openxmlformats.org/officeDocument/2006/relationships/hyperlink" Target="http://ru.wikipedia.org/wiki/&#1057;&#1077;&#1087;&#1090;&#1080;&#1084;&#1072;" TargetMode="External"/><Relationship Id="rId9" Type="http://schemas.openxmlformats.org/officeDocument/2006/relationships/hyperlink" Target="http://ru.wikipedia.org/wiki/&#1054;&#1082;&#1090;&#1072;&#1074;&#1072;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48;&#1085;&#1090;&#1077;&#1088;&#1074;&#1072;&#1083;_%28&#1084;&#1091;&#1079;&#1099;&#1082;&#1072;%29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48;&#1085;&#1090;&#1077;&#1088;&#1074;&#1072;&#1083;_%28&#1084;&#1091;&#1079;&#1099;&#1082;&#1072;%29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48;&#1085;&#1090;&#1077;&#1088;&#1074;&#1072;&#1083;_%28&#1084;&#1091;&#1079;&#1099;&#1082;&#1072;%29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&#1048;&#1085;&#1090;&#1077;&#1088;&#1074;&#1072;&#1083;_%28&#1084;&#1091;&#1079;&#1099;&#1082;&#1072;%29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Интервал в музыке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ретц Анна Васильевна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ь начальных классов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У «СОШ №17»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Краснотурьинск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ердловская област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ВИН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вал (лат.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quint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  — пятая) — музыкальный интервал, который содержит пять ступеней, обозначается цифрой 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780000" y="4005360"/>
            <a:ext cx="15969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ЕКС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вал (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sext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 — шестая) —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музыкальный интерва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который содержит  шесть ступеней, обозначается цифрой 6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700360" y="4221000"/>
            <a:ext cx="3448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ЕПТИМ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вал (лат.  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septim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— септима) — музыкальный интервал, который содержит семь ступеней, обозначается цифрой 7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492360" y="4149720"/>
            <a:ext cx="230364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КТА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тервал октава охватывает восемь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ступене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диатонического звукоряда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например, от «до» до следующего «до» или от «ре» до следующего «ре» и т. д. Октава обозначается цифрой 8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2700360" y="4797360"/>
            <a:ext cx="3809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россворд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353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нтервал – сердце и душа музыки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03440" y="1695600"/>
            <a:ext cx="4652640" cy="4300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771640" y="6093000"/>
            <a:ext cx="60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00360" y="5877000"/>
            <a:ext cx="432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Леонард Берстайн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8595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нтервал в расстояни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4103640" cy="27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539640" y="981000"/>
          <a:ext cx="4105440" cy="2533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981000"/>
                    <a:ext cx="410544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4788000" y="981000"/>
            <a:ext cx="4176720" cy="25178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4967280" y="3645000"/>
            <a:ext cx="4176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нтерва́л (от </a:t>
            </a:r>
            <a:r>
              <a:rPr b="0" lang="ru-RU" sz="40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лат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Intervallum)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 — промежуток, расстояние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63520" y="1598760"/>
          <a:ext cx="7386480" cy="4488840"/>
        </p:xfrm>
        <a:graphic>
          <a:graphicData uri="http://schemas.openxmlformats.org/drawingml/2006/table">
            <a:tbl>
              <a:tblPr/>
              <a:tblGrid>
                <a:gridCol w="3767760"/>
                <a:gridCol w="361872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оличество ступеней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азвание интервал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2"/>
                        </a:rPr>
                        <a:t>Прим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3"/>
                        </a:rPr>
                        <a:t>Секунд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4"/>
                        </a:rPr>
                        <a:t>Терция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5"/>
                        </a:rPr>
                        <a:t>Кварт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6"/>
                        </a:rPr>
                        <a:t>Квинт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7"/>
                        </a:rPr>
                        <a:t>Секст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8"/>
                        </a:rPr>
                        <a:t>Септим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0b854"/>
                          </a:solidFill>
                          <a:uFillTx/>
                          <a:latin typeface="Arial"/>
                          <a:hlinkClick r:id="rId9"/>
                        </a:rPr>
                        <a:t>Октав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3822840" cy="4608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826920" y="1890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Лесенка» на клавишах фортепиано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М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лат.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im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— первая) —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музыкальный интерва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который содержит одну ступень, обозначается цифрой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1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00360" y="5157720"/>
            <a:ext cx="5886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635280" y="3716280"/>
            <a:ext cx="20163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ЕКУНД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secund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— вторая) —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музыкальный интерва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который содержит две ступени, обозначается цифрой 2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3924360" y="3560760"/>
            <a:ext cx="18000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РЦ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rti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— третья) —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музыкальный интерва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который содержит три ступени, обозначается цифрой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635280" y="4005360"/>
            <a:ext cx="143820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ВАР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вал (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quart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— четвёртая) — </a:t>
            </a: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музыкальный интерва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который содержит четыре ступени, обозначается цифрой 4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924360" y="4221000"/>
            <a:ext cx="14065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43:58Z</dcterms:created>
  <dc:creator>школа</dc:creator>
  <dc:description/>
  <dc:language>en-US</dc:language>
  <cp:lastModifiedBy>Admin</cp:lastModifiedBy>
  <dcterms:modified xsi:type="dcterms:W3CDTF">2011-09-16T14:59:13Z</dcterms:modified>
  <cp:revision>23</cp:revision>
  <dc:subject/>
  <dc:title>Слайд 1</dc:title>
</cp:coreProperties>
</file>