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881-85E0-45AA-87E3-5B866E3D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FF5-E992-41FE-9D18-FA192A12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848-333F-400B-A886-53ED4710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69F-F212-4DEA-83A0-502C3DC5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CAC2-41B2-4F9C-97EC-C5A6D80F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C052-865C-43D0-981A-17875F99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6379-FE69-434C-A43D-F2A8BCE6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047F-7F26-479E-8E30-D5500B24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1ACD-485D-4017-973C-CBF4AAEC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4F66-026A-41A5-B6A1-A7A7E3D7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EE7D-D22F-4CE5-93BF-365CA28E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732-ACBC-4084-91A8-3624930B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4DD5-99D4-47DE-B5E1-D4FF947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A468-C4A6-4A3F-B6FA-423AC00E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988A-5B1D-4968-8135-DDBE2522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F28D-D65F-4FE6-AA42-189103C1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9F30-7482-4FB3-B24E-81B6C148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A3F-E479-4CC0-9468-304FC66E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02F-AC77-4EF3-85CF-ADDE52B5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0D9-A790-4F52-AE7B-7902B2F1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0A4-ADB1-43D2-B6A0-95E2D647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E0D-3D05-4541-A5E4-4E20E66C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1B1-FD04-4887-97AD-1606C468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FC8-3328-4FD3-B7D0-6792A34A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9A64-F323-4F65-8179-EF549BB5F3F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1B27-7E82-4EB6-8803-429536B4481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91;&#1087;&#1077;&#1085;&#1100;_%28&#1084;&#1091;&#1079;&#1099;&#1082;&#1072;%29" TargetMode="External"/><Relationship Id="rId2" Type="http://schemas.openxmlformats.org/officeDocument/2006/relationships/hyperlink" Target="http://ru.wikipedia.org/wiki/&#1044;&#1080;&#1072;&#1090;&#1086;&#1085;&#1080;&#1095;&#1077;&#1089;&#1082;&#1080;&#1081;_&#1079;&#1074;&#1091;&#1082;&#1086;&#1088;&#1103;&#1076;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5;&#1088;&#1080;&#1084;&#1072;_%28&#1080;&#1085;&#1090;&#1077;&#1088;&#1074;&#1072;&#1083;%29" TargetMode="External"/><Relationship Id="rId3" Type="http://schemas.openxmlformats.org/officeDocument/2006/relationships/hyperlink" Target="http://ru.wikipedia.org/wiki/&#1057;&#1077;&#1082;&#1091;&#1085;&#1076;&#1072;_%28&#1080;&#1085;&#1090;&#1077;&#1088;&#1074;&#1072;&#1083;%29" TargetMode="External"/><Relationship Id="rId4" Type="http://schemas.openxmlformats.org/officeDocument/2006/relationships/hyperlink" Target="http://ru.wikipedia.org/wiki/&#1058;&#1077;&#1088;&#1094;&#1080;&#1103;_%28&#1080;&#1085;&#1090;&#1077;&#1088;&#1074;&#1072;&#1083;%29" TargetMode="External"/><Relationship Id="rId5" Type="http://schemas.openxmlformats.org/officeDocument/2006/relationships/hyperlink" Target="http://ru.wikipedia.org/wiki/&#1050;&#1074;&#1072;&#1088;&#1090;&#1072;_%28&#1080;&#1085;&#1090;&#1077;&#1088;&#1074;&#1072;&#1083;%29" TargetMode="External"/><Relationship Id="rId6" Type="http://schemas.openxmlformats.org/officeDocument/2006/relationships/hyperlink" Target="http://ru.wikipedia.org/wiki/&#1050;&#1074;&#1080;&#1085;&#1090;&#1072;" TargetMode="External"/><Relationship Id="rId7" Type="http://schemas.openxmlformats.org/officeDocument/2006/relationships/hyperlink" Target="http://ru.wikipedia.org/wiki/&#1057;&#1077;&#1082;&#1089;&#1090;&#1072;" TargetMode="External"/><Relationship Id="rId8" Type="http://schemas.openxmlformats.org/officeDocument/2006/relationships/hyperlink" Target="http://ru.wikipedia.org/wiki/&#1057;&#1077;&#1087;&#1090;&#1080;&#1084;&#1072;" TargetMode="External"/><Relationship Id="rId9" Type="http://schemas.openxmlformats.org/officeDocument/2006/relationships/hyperlink" Target="http://ru.wikipedia.org/wiki/&#1054;&#1082;&#1090;&#1072;&#1074;&#1072;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нтервал в музыке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рдловская облас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ВИН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лат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quint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— пятая) — музыкальный интервал, который содержит пять ступеней, обозначается цифрой 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780000" y="4005360"/>
            <a:ext cx="159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К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ext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 — шест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 шесть ступеней, обозначается цифрой 6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448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ПТИ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лат.  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eptim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 септима) — музыкальный интервал, который содержит семь ступеней, обозначается цифрой 7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492360" y="4149720"/>
            <a:ext cx="23036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КТА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тервал октава охватывает восемь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ступен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диатонического звукоряд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например, от «до» до следующего «до» или от «ре» до следующего «ре» и т. д. Октава обозначается цифрой 8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2700360" y="4797360"/>
            <a:ext cx="3809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россвор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тервал – сердце и душа музыки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03440" y="1695600"/>
            <a:ext cx="4652640" cy="4300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71640" y="609300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587700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Леонард Берстай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859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тервал в расстоян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4103640" cy="27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539640" y="981000"/>
          <a:ext cx="4105440" cy="253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981000"/>
                    <a:ext cx="410544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788000" y="981000"/>
            <a:ext cx="4176720" cy="2517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967280" y="3645000"/>
            <a:ext cx="4176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нтерва́л (от </a:t>
            </a: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Intervallum)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— промежуток, расстояни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63520" y="1598760"/>
          <a:ext cx="7386480" cy="4488840"/>
        </p:xfrm>
        <a:graphic>
          <a:graphicData uri="http://schemas.openxmlformats.org/drawingml/2006/table">
            <a:tbl>
              <a:tblPr/>
              <a:tblGrid>
                <a:gridCol w="3767760"/>
                <a:gridCol w="361872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личество ступеней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азвание интервал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2"/>
                        </a:rPr>
                        <a:t>Прим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3"/>
                        </a:rPr>
                        <a:t>Секунд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4"/>
                        </a:rPr>
                        <a:t>Терция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5"/>
                        </a:rPr>
                        <a:t>Кварт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6"/>
                        </a:rPr>
                        <a:t>Квинт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7"/>
                        </a:rPr>
                        <a:t>Секст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8"/>
                        </a:rPr>
                        <a:t>Септим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9"/>
                        </a:rPr>
                        <a:t>Октав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3822840" cy="4608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26920" y="189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Лесенка» на клавишах фортепиано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im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— перв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который содержит одну ступень, обозначается цифрой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1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5157720"/>
            <a:ext cx="588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635280" y="3716280"/>
            <a:ext cx="20163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КУНД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ecund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втор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две ступени, обозначается цифрой 2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924360" y="3560760"/>
            <a:ext cx="18000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Р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ti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треть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три ступени, обозначается цифр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635280" y="4005360"/>
            <a:ext cx="14382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ВАР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quart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четвёрт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четыре ступени, обозначается цифрой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924360" y="4221000"/>
            <a:ext cx="14065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43:58Z</dcterms:created>
  <dc:creator>школа</dc:creator>
  <dc:description/>
  <dc:language>en-US</dc:language>
  <cp:lastModifiedBy>Admin</cp:lastModifiedBy>
  <dcterms:modified xsi:type="dcterms:W3CDTF">2011-09-16T14:59:13Z</dcterms:modified>
  <cp:revision>23</cp:revision>
  <dc:subject/>
  <dc:title>Слайд 1</dc:title>
</cp:coreProperties>
</file>