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8A0-765D-4C59-A28E-03D441D1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767-47DE-4D17-9CC5-C4F9E032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2EA-ED20-4491-9145-8B95BF64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0BA-0FFD-420E-875A-F47A7620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1C4-56C8-46CE-8F31-6492E2C8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1946-3DCF-430C-8959-EB7FFEE1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11ED-D751-4B20-894A-2732311B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9702-F414-4EED-99E1-33719F4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CB8-2A7C-444F-96F3-1CDB2C51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4F95-A70C-4644-AD25-5AD0590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478F-3C22-4D54-A9BC-0EC58A1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42C-E764-4280-BBE4-0F7D2C6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FCF-F109-4889-AA7C-07930E5A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452B-EB60-4D04-9A26-FAA967B4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D39-7094-4C77-AADB-1150308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43B-61F2-42B1-9541-E6107FD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B7A-D69E-4745-AE96-28A542D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B89-CE57-402B-98CD-D8D39DF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98A-EC29-42EB-8726-BB1322B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2C8-99C5-4C18-A5F2-32D5A57D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DC5-F293-4AFE-BE22-54FFD9E9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EE8-1097-4830-901F-E35F607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2B9-78A2-4A73-B2A7-052EA0D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727-EA06-4994-905E-F1F08E4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5133-8CCE-48CA-9265-8F63FE7EC3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13C-E8EA-47A3-968E-3CA68E7009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91;&#1087;&#1077;&#1085;&#1100;_%28&#1084;&#1091;&#1079;&#1099;&#1082;&#1072;%29" TargetMode="External"/><Relationship Id="rId2" Type="http://schemas.openxmlformats.org/officeDocument/2006/relationships/hyperlink" Target="http://ru.wikipedia.org/wiki/&#1044;&#1080;&#1072;&#1090;&#1086;&#1085;&#1080;&#1095;&#1077;&#1089;&#1082;&#1080;&#1081;_&#1079;&#1074;&#1091;&#1082;&#1086;&#1088;&#1103;&#1076;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5;&#1088;&#1080;&#1084;&#1072;_%28&#1080;&#1085;&#1090;&#1077;&#1088;&#1074;&#1072;&#1083;%29" TargetMode="External"/><Relationship Id="rId3" Type="http://schemas.openxmlformats.org/officeDocument/2006/relationships/hyperlink" Target="http://ru.wikipedia.org/wiki/&#1057;&#1077;&#1082;&#1091;&#1085;&#1076;&#1072;_%28&#1080;&#1085;&#1090;&#1077;&#1088;&#1074;&#1072;&#1083;%29" TargetMode="External"/><Relationship Id="rId4" Type="http://schemas.openxmlformats.org/officeDocument/2006/relationships/hyperlink" Target="http://ru.wikipedia.org/wiki/&#1058;&#1077;&#1088;&#1094;&#1080;&#1103;_%28&#1080;&#1085;&#1090;&#1077;&#1088;&#1074;&#1072;&#1083;%29" TargetMode="External"/><Relationship Id="rId5" Type="http://schemas.openxmlformats.org/officeDocument/2006/relationships/hyperlink" Target="http://ru.wikipedia.org/wiki/&#1050;&#1074;&#1072;&#1088;&#1090;&#1072;_%28&#1080;&#1085;&#1090;&#1077;&#1088;&#1074;&#1072;&#1083;%29" TargetMode="External"/><Relationship Id="rId6" Type="http://schemas.openxmlformats.org/officeDocument/2006/relationships/hyperlink" Target="http://ru.wikipedia.org/wiki/&#1050;&#1074;&#1080;&#1085;&#1090;&#1072;" TargetMode="External"/><Relationship Id="rId7" Type="http://schemas.openxmlformats.org/officeDocument/2006/relationships/hyperlink" Target="http://ru.wikipedia.org/wiki/&#1057;&#1077;&#1082;&#1089;&#1090;&#1072;" TargetMode="External"/><Relationship Id="rId8" Type="http://schemas.openxmlformats.org/officeDocument/2006/relationships/hyperlink" Target="http://ru.wikipedia.org/wiki/&#1057;&#1077;&#1087;&#1090;&#1080;&#1084;&#1072;" TargetMode="External"/><Relationship Id="rId9" Type="http://schemas.openxmlformats.org/officeDocument/2006/relationships/hyperlink" Target="http://ru.wikipedia.org/wiki/&#1054;&#1082;&#1090;&#1072;&#1074;&#1072;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нтервал в музык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ИН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in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— пятая) — музыкальный интервал, который содержит пять ступеней, обозначается цифрой 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159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x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 — шес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 шесть ступеней, обозначается цифрой 6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448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ПТ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  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ptim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септима) — музыкальный интервал, который содержит семь ступеней, обозначается цифрой 7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3036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КТА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вал октава охватывает восемь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ступен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диатонического звукоряд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например, от «до» до следующего «до» или от «ре» до следующего «ре» и т. д. Октава обозначается цифрой 8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700360" y="4797360"/>
            <a:ext cx="3809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– сердце и душа музыки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03440" y="1695600"/>
            <a:ext cx="4652640" cy="430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609300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587700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Леонард Берстай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5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в расстоян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0364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539640" y="981000"/>
          <a:ext cx="4105440" cy="253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981000"/>
                    <a:ext cx="41054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76720" cy="2517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7280" y="3645000"/>
            <a:ext cx="4176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терва́л (от </a:t>
            </a: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Intervallum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— промежуток, расстоя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63520" y="1598760"/>
          <a:ext cx="7386480" cy="4488840"/>
        </p:xfrm>
        <a:graphic>
          <a:graphicData uri="http://schemas.openxmlformats.org/drawingml/2006/table">
            <a:tbl>
              <a:tblPr/>
              <a:tblGrid>
                <a:gridCol w="3767760"/>
                <a:gridCol w="361872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личество ступене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звание интервал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2"/>
                        </a:rPr>
                        <a:t>Пр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3"/>
                        </a:rPr>
                        <a:t>Секунд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4"/>
                        </a:rPr>
                        <a:t>Терция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5"/>
                        </a:rPr>
                        <a:t>Квар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6"/>
                        </a:rPr>
                        <a:t>Квин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7"/>
                        </a:rPr>
                        <a:t>Секс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8"/>
                        </a:rPr>
                        <a:t>Септ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9"/>
                        </a:rPr>
                        <a:t>Октав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3822840" cy="4608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189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есенка» на клавишах фортепиан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im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— перв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который содержит одну ступень, обозначается цифро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5157720"/>
            <a:ext cx="588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635280" y="3716280"/>
            <a:ext cx="2016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УН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cund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тор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две ступени, обозначается цифрой 2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24360" y="3560760"/>
            <a:ext cx="1800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Р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ti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треть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три ступени, обозначается цифр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005360"/>
            <a:ext cx="14382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А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ar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четвёр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четыре ступени, обозначается цифрой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06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43:58Z</dcterms:created>
  <dc:creator>школа</dc:creator>
  <dc:description/>
  <dc:language>en-US</dc:language>
  <cp:lastModifiedBy>Admin</cp:lastModifiedBy>
  <dcterms:modified xsi:type="dcterms:W3CDTF">2011-09-16T14:59:13Z</dcterms:modified>
  <cp:revision>23</cp:revision>
  <dc:subject/>
  <dc:title>Слайд 1</dc:title>
</cp:coreProperties>
</file>