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C76-9F56-42F6-8F5C-1D01ACFA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C43-B0E0-40BD-8AE9-CCFF025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33B-968A-469F-A24D-CF44CC91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517-9E66-4190-9895-96FED226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1498-D2F8-477F-89C9-C8DBAC7E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4536-6F58-4005-9C28-9098F7C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54BF-AC6D-42E3-9CB5-863D0BC7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65CE-0812-4F8F-B734-D8088C9B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439C-847A-4F85-93BC-D1A3A1BF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0319-A607-41E1-9F19-AAFAA875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CF64-73D5-473F-8866-85EEDA45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D15-574C-4E37-AA38-97E0B36F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C8C4-7518-4C61-9D40-4E87E385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32BF-CE42-445C-B888-768024E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6B70-A8BD-408D-BE4D-A84E2967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B65A-0527-47FA-8AAE-8A1BD572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ECA6-AAE8-4225-9874-C8B6E81E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EC9-51BC-4537-834D-2CD4D33B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363-C333-4628-BEA5-23420D94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A66-5A0F-4180-B205-86168F11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EB9-C970-46EE-9E70-3AEC99BE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893-0199-4C9C-882D-A077BCF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E73-9317-4427-96EA-B6D206F5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CC3-87FA-46FE-A7B5-02743E90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933A-D1DC-47E6-ABEC-C5F20CA93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164-CA60-4E88-BBDE-8CDFCFD02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78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Формы работы классного руководителя с семьё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84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вто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итель начальных классов МОУ "СОШ с. Ездочное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ягуш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одительский рин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дварительная подготовка к родительскому рин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учение проблемного поля воспитательных затруднений родителей и педагогических запросов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ссный руководитель беседует со  школьным психологом и социальным педагогом, которые могут предложить  ситуации для обсуждения, связанные с проблемами в школе, в параллели и так да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числа педагогов, работающих в школе, приглашенных специалистов, врача (если это необходимо) создается группа экспертов, которая будет анализировать точки зр6ения родителей на различные проблемы и определять правильность принятия решения в той или иной ситу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тельский ринг начинается с обсуждения точек зрения на проблемы воспитания в целом, а затем происходит переход к обсуждению конкретных воспитательных ситу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Участие родителей в работе родительского комитет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1600200"/>
            <a:ext cx="8228160" cy="5068440"/>
            <a:chOff x="457200" y="1600200"/>
            <a:chExt cx="8228160" cy="5068440"/>
          </a:xfrm>
        </p:grpSpPr>
        <p:cxnSp>
          <p:nvCxnSpPr>
            <p:cNvPr id="256" name="_s37910"/>
            <p:cNvCxnSpPr>
              <a:stCxn id="257" idx="1"/>
              <a:endCxn id="258" idx="2"/>
            </p:cNvCxnSpPr>
            <p:nvPr/>
          </p:nvCxnSpPr>
          <p:spPr>
            <a:xfrm rot="10800000">
              <a:off x="2925000" y="2195640"/>
              <a:ext cx="82332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37908"/>
            <p:cNvCxnSpPr>
              <a:stCxn id="260" idx="1"/>
              <a:endCxn id="258" idx="2"/>
            </p:cNvCxnSpPr>
            <p:nvPr/>
          </p:nvCxnSpPr>
          <p:spPr>
            <a:xfrm rot="10800000">
              <a:off x="2925000" y="2195640"/>
              <a:ext cx="82332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37903"/>
            <p:cNvCxnSpPr>
              <a:stCxn id="262" idx="1"/>
              <a:endCxn id="258" idx="2"/>
            </p:cNvCxnSpPr>
            <p:nvPr/>
          </p:nvCxnSpPr>
          <p:spPr>
            <a:xfrm rot="10800000">
              <a:off x="2925000" y="2195640"/>
              <a:ext cx="82332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3" name="_s37902"/>
            <p:cNvCxnSpPr>
              <a:stCxn id="264" idx="1"/>
              <a:endCxn id="258" idx="2"/>
            </p:cNvCxnSpPr>
            <p:nvPr/>
          </p:nvCxnSpPr>
          <p:spPr>
            <a:xfrm rot="10800000">
              <a:off x="2925000" y="2195640"/>
              <a:ext cx="82332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5" name="_s37901"/>
            <p:cNvCxnSpPr>
              <a:stCxn id="266" idx="1"/>
              <a:endCxn id="258" idx="2"/>
            </p:cNvCxnSpPr>
            <p:nvPr/>
          </p:nvCxnSpPr>
          <p:spPr>
            <a:xfrm rot="10800000">
              <a:off x="2925000" y="2195640"/>
              <a:ext cx="82332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8" name="_s37897"/>
            <p:cNvSpPr/>
            <p:nvPr/>
          </p:nvSpPr>
          <p:spPr>
            <a:xfrm>
              <a:off x="457200" y="160020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бязанности 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одительском комите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37898"/>
            <p:cNvSpPr/>
            <p:nvPr/>
          </p:nvSpPr>
          <p:spPr>
            <a:xfrm>
              <a:off x="3748320" y="249444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Председатель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37899"/>
            <p:cNvSpPr/>
            <p:nvPr/>
          </p:nvSpPr>
          <p:spPr>
            <a:xfrm>
              <a:off x="3748320" y="338904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азначе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37900"/>
            <p:cNvSpPr/>
            <p:nvPr/>
          </p:nvSpPr>
          <p:spPr>
            <a:xfrm>
              <a:off x="3748320" y="428328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Ответственный за учебную работу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37907"/>
            <p:cNvSpPr/>
            <p:nvPr/>
          </p:nvSpPr>
          <p:spPr>
            <a:xfrm>
              <a:off x="3748320" y="517788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Ответственный за хозяйственную работу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37909"/>
            <p:cNvSpPr/>
            <p:nvPr/>
          </p:nvSpPr>
          <p:spPr>
            <a:xfrm>
              <a:off x="3748320" y="607248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Ответственный за культмассовую работу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ормы работы с семьё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ни творчества детей и их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рытые уроки и внеклассные меропри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тельское общественное  патрул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фская помощ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езентации опыта семейного воспитания в СМ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чера вопросов и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спут, дискус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тречи родительской общественности с администрацией школы, уч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Формы познавательной деятель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ественные форумы знан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ворческие отчеты по предмет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ни открытых уро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здники знаний и творч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урниры знато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местные олимпиа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уск предметных газ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седания, отчеты научных обществ учащихся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Формы трудовой деятель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формление кабине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ла­гоустройство и озеленение школьного дво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адка ал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ние классной библиоте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рмарка-распродажа семейных подел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ставки «Мир наших увлечений»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Формы досуг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местные праздн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ка концертов, спектак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смотр и обсуждение фильмов и спектак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рев­нов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курс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В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уристические походы и сле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курсионные поезд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емейные праздники и фестивал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нь матери, День отца, День бабушек и дедушек, День моего ребенка, День взаимного благода­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ровые семейные конкурсы: "Спортивная семья", "Музыкальная семья", конкурс семейных альбомов, конкурс хозяек, конкурс "Мужчины на поверке" (соревнования между отцами и сыновьями)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местная деятельность в творческих объединениях различной направленности, музеях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к разговорить родителей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339640" y="2565000"/>
            <a:ext cx="4546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пка вопро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 по картинк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шебная пал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Шапка вопро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3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ервый ти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вопрос "формальный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3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торой ти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основан на конструкции: "Я думаю то-то и так-то, а вы?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3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ретий ти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я не знаю: "Я не знаю, как мне укладывать сына спать вовремя"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сихолого-педагогическое просвещение родител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4000" y="1773360"/>
            <a:ext cx="8639280" cy="4894920"/>
            <a:chOff x="324000" y="1773360"/>
            <a:chExt cx="8639280" cy="4894920"/>
          </a:xfrm>
        </p:grpSpPr>
        <p:cxnSp>
          <p:nvCxnSpPr>
            <p:cNvPr id="215" name="_s20504"/>
            <p:cNvCxnSpPr>
              <a:stCxn id="216" idx="1"/>
              <a:endCxn id="217" idx="2"/>
            </p:cNvCxnSpPr>
            <p:nvPr/>
          </p:nvCxnSpPr>
          <p:spPr>
            <a:xfrm rot="10800000">
              <a:off x="2914920" y="2348280"/>
              <a:ext cx="864360" cy="4032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20500"/>
            <p:cNvCxnSpPr>
              <a:stCxn id="219" idx="1"/>
              <a:endCxn id="217" idx="2"/>
            </p:cNvCxnSpPr>
            <p:nvPr/>
          </p:nvCxnSpPr>
          <p:spPr>
            <a:xfrm rot="10800000">
              <a:off x="2914920" y="2348280"/>
              <a:ext cx="864360" cy="317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20497"/>
            <p:cNvCxnSpPr>
              <a:stCxn id="221" idx="1"/>
              <a:endCxn id="217" idx="2"/>
            </p:cNvCxnSpPr>
            <p:nvPr/>
          </p:nvCxnSpPr>
          <p:spPr>
            <a:xfrm rot="10800000">
              <a:off x="2914920" y="2348280"/>
              <a:ext cx="864360" cy="230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20496"/>
            <p:cNvCxnSpPr>
              <a:stCxn id="223" idx="1"/>
              <a:endCxn id="217" idx="2"/>
            </p:cNvCxnSpPr>
            <p:nvPr/>
          </p:nvCxnSpPr>
          <p:spPr>
            <a:xfrm rot="10800000">
              <a:off x="2914920" y="2348280"/>
              <a:ext cx="864360" cy="1440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20495"/>
            <p:cNvCxnSpPr>
              <a:stCxn id="225" idx="1"/>
              <a:endCxn id="217" idx="2"/>
            </p:cNvCxnSpPr>
            <p:nvPr/>
          </p:nvCxnSpPr>
          <p:spPr>
            <a:xfrm rot="10800000">
              <a:off x="2914920" y="2348280"/>
              <a:ext cx="864360" cy="57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7" name="_s20491"/>
            <p:cNvSpPr/>
            <p:nvPr/>
          </p:nvSpPr>
          <p:spPr>
            <a:xfrm>
              <a:off x="324000" y="177336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Родительское собр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20492"/>
            <p:cNvSpPr/>
            <p:nvPr/>
          </p:nvSpPr>
          <p:spPr>
            <a:xfrm>
              <a:off x="3779640" y="2637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организацион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20493"/>
            <p:cNvSpPr/>
            <p:nvPr/>
          </p:nvSpPr>
          <p:spPr>
            <a:xfrm>
              <a:off x="3779640" y="3501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текущее или тематическ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20494"/>
            <p:cNvSpPr/>
            <p:nvPr/>
          </p:nvSpPr>
          <p:spPr>
            <a:xfrm>
              <a:off x="3779640" y="4365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итогов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20499"/>
            <p:cNvSpPr/>
            <p:nvPr/>
          </p:nvSpPr>
          <p:spPr>
            <a:xfrm>
              <a:off x="3779640" y="5229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общешколь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20503"/>
            <p:cNvSpPr/>
            <p:nvPr/>
          </p:nvSpPr>
          <p:spPr>
            <a:xfrm>
              <a:off x="3779640" y="609264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класс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икторина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 родителя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 почерку определить листок своего сына или дочер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ссказ по картинк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ать о том, что изобразил ребенок своим рисун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комментировать, как исполнение рисунка соотносится с особенностями характера ребе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ать о двух самых интересных моментах в рассказе-комментарии своего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лшебная палочк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ервы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азываются положитель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торо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азываются отрицатель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рети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в руки дается кусочек мела, родитель подходит к доске и слева записывает на ней одно из прозвучавших отрицательных качеств, а справа – одно из положи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Четверты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ужно подойти к доске и стрелкой соединить эти качества, поставив рядом со стрелкой свои иници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яты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взаимные консультации родителей по воспитательным проблем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иды приглашений на родительские собран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1773360"/>
            <a:ext cx="5486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Пригла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Уважаемые родител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Если Вас интересует тема  «Воспитание детей в современной семье», приходите на родительское собрание, и Вы узнаете, правильна ли Ваша позиция по отношению к детя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Классный руководитель ________________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4508640"/>
            <a:ext cx="613440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риглашаю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Вас к диалогу ___________________ чис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У семьи и школы одни беды и проблемы. Давайте искать совместные пути решения на родительском собран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С уважением, классный руководитель 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авила подготовки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лассного родительского собр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ждое родительское собрание должно иметь конкретную воспитательную тему. Тема родительского собрания должна быть актуальн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ьское собрание должно проводиться в удобное для родителей 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н родительского собрания должен быть извес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ение классного руководителя и родителей должно быть тактичным и выдержан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следует превращать родительские собрания в место критики матерей и отцов "трудных"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суждая на собраниях актуальные вопросы развития учащихся, просить поделиться опытом семейного воспитания родителей хорошо воспитанны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нообразить форму проведения родительских собраний, организуя встречи со специалистами, вечера вопросов и ответов, «круглые столы» с участием учителей-предметников, обзор новой педагогической литературы и периодических изданий по вопросам семейного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одительские университ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52280" y="1608120"/>
            <a:ext cx="8892000" cy="5113080"/>
            <a:chOff x="152280" y="1608120"/>
            <a:chExt cx="8892000" cy="5113080"/>
          </a:xfrm>
        </p:grpSpPr>
        <p:cxnSp>
          <p:nvCxnSpPr>
            <p:cNvPr id="233" name="_s28689"/>
            <p:cNvCxnSpPr>
              <a:stCxn id="234" idx="1"/>
              <a:endCxn id="235" idx="2"/>
            </p:cNvCxnSpPr>
            <p:nvPr/>
          </p:nvCxnSpPr>
          <p:spPr>
            <a:xfrm rot="10800000">
              <a:off x="2819160" y="2208960"/>
              <a:ext cx="889920" cy="3309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28687"/>
            <p:cNvCxnSpPr>
              <a:stCxn id="237" idx="1"/>
              <a:endCxn id="235" idx="2"/>
            </p:cNvCxnSpPr>
            <p:nvPr/>
          </p:nvCxnSpPr>
          <p:spPr>
            <a:xfrm rot="10800000">
              <a:off x="2819160" y="2208960"/>
              <a:ext cx="889920" cy="4213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8" name="_s28684"/>
            <p:cNvCxnSpPr>
              <a:stCxn id="239" idx="1"/>
              <a:endCxn id="235" idx="2"/>
            </p:cNvCxnSpPr>
            <p:nvPr/>
          </p:nvCxnSpPr>
          <p:spPr>
            <a:xfrm rot="10800000">
              <a:off x="2819160" y="2208960"/>
              <a:ext cx="889920" cy="240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0" name="_s28683"/>
            <p:cNvCxnSpPr>
              <a:stCxn id="241" idx="1"/>
              <a:endCxn id="235" idx="2"/>
            </p:cNvCxnSpPr>
            <p:nvPr/>
          </p:nvCxnSpPr>
          <p:spPr>
            <a:xfrm rot="10800000">
              <a:off x="2819160" y="2208960"/>
              <a:ext cx="889920" cy="150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2" name="_s28682"/>
            <p:cNvCxnSpPr>
              <a:stCxn id="243" idx="1"/>
              <a:endCxn id="235" idx="2"/>
            </p:cNvCxnSpPr>
            <p:nvPr/>
          </p:nvCxnSpPr>
          <p:spPr>
            <a:xfrm rot="10800000">
              <a:off x="2819160" y="2208960"/>
              <a:ext cx="889920" cy="60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28678"/>
            <p:cNvSpPr/>
            <p:nvPr/>
          </p:nvSpPr>
          <p:spPr>
            <a:xfrm>
              <a:off x="152280" y="160812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Формы занятий в родительском университет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28679"/>
            <p:cNvSpPr/>
            <p:nvPr/>
          </p:nvSpPr>
          <p:spPr>
            <a:xfrm>
              <a:off x="3709080" y="251028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конференц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28680"/>
            <p:cNvSpPr/>
            <p:nvPr/>
          </p:nvSpPr>
          <p:spPr>
            <a:xfrm>
              <a:off x="3709080" y="341280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час вопросов и ответов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на актуальную тему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28681"/>
            <p:cNvSpPr/>
            <p:nvPr/>
          </p:nvSpPr>
          <p:spPr>
            <a:xfrm>
              <a:off x="3709080" y="431496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лекции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28686"/>
            <p:cNvSpPr/>
            <p:nvPr/>
          </p:nvSpPr>
          <p:spPr>
            <a:xfrm>
              <a:off x="3709080" y="611964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родительские ринги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28688"/>
            <p:cNvSpPr/>
            <p:nvPr/>
          </p:nvSpPr>
          <p:spPr>
            <a:xfrm>
              <a:off x="3709080" y="521748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рактикумы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фер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ематика родительских конферен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ш малыш – школьник. Режим дня  первокласс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зическое здоровье ребенка – залог успешности учебн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равственные уроки семьи – нравственные законы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и внешняя культура ребенка. От чего он зависи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 в жизни реб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а и обязанности ребенка в семье, в школе, в социу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льтура общения с компьют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нига и ее роль в жизни сем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едные привычки и как с ними боро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е не дети, ещё не взрос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овые различия и проблемы п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чины детских суици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ематические и индивидуальные консульт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ребования к проведению консуль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по запросам родителей, ребенка и классного руковод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блема хорошо известна классному руководителю и рассматривалась им с различных позиций: ребенка, родителей,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бходимо дать возможность заинтересованным сторонам высказывать свое мнение и свое отношение к пробл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ники консультации должны быть компетентны в решаемой пробл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я должна проходить в доброжелательной атмосф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ачала необходимо обратить внимание на все хорошее и положительное, что есть в ребенке и только потом говорить о проблем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уместно сравнивать детей друг с другом, можно лишь говорить о прежних качествах, успехах и недостатках в сравнении с сегодняшним дн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я должна дать родителям реальные рекомендации по проблеме специалистов, педагогов, классного руковод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я должна быть перспективной и способствовать реальным изменениям в семье и в лучшую стор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ы консультации не должны стать темой обсуждения посторонних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енин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нинги как форма коррекции взаимоотношений детей и родителей находится в ведении школьного психолога. Классный руководитель беседует с учащимися и их родителями и предлагает принять участие в тренинге. Участие детей и родителей в совместном тренинге возможно только на добровольной основе. Тренинговые  занятия детей и их родителей позволяют по-новому строить взаимоотношения, изменяют я – позицию детей и взрослых; способствуют пониманию интересов и потребностей детей и требований родителей, изменяют значимость авторитета обоих родителей и каждого из них  в отдельности. Однако очень важно помнить, что тренинги имеет право организовать и проводить только специалист, имеющий специальное для этого разреш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Бес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авила профессионального та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педагогической беседе с родител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апевтический мо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чать разговор о ребенке обязательно с хорош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пеливо выслушать роди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ректно, спокойно, без пафоса и лишних эмоций, скажите о недостатках школьника, что смущает сегодня учителей в его характере и повед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учетом индивидуальных особенностей ученика и его родителей выскажите свои соображения и педагогические рекомендации по развитию школьника, преодолению негативных сторон его лич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седа завершается этическим момент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4:04:03Z</dcterms:created>
  <dc:creator>Мама</dc:creator>
  <dc:description/>
  <dc:language>en-US</dc:language>
  <cp:lastModifiedBy>Мама</cp:lastModifiedBy>
  <dcterms:modified xsi:type="dcterms:W3CDTF">2008-03-23T16:13:00Z</dcterms:modified>
  <cp:revision>18</cp:revision>
  <dc:subject/>
  <dc:title>Формы работы классного руководителя с семьёй</dc:title>
</cp:coreProperties>
</file>