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AD39-2173-4858-B5D4-2730977F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941C-42EF-4505-B569-BBFC39C9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2A4-3397-43B6-9A01-3296C462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B856-C69F-4CDE-B727-B28FF27C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3E00-72C2-4700-A6FD-78789BB6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13C1-1B17-4CC4-B164-843EE750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F087-92BC-4F5F-8E9F-71CB5118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FA08-5B40-4043-BE74-0E0621DE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B82F-8F71-4D12-A41E-69C5CA36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B175-25E9-4376-A3FD-EE1611BE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D51A-765C-43A0-9C28-F561C53F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2F3-A85C-41F1-B6B3-BF8F1E07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22E4-39B0-4897-A8B2-0FDB242A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71F1-884B-4757-96AB-2390695C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D8B3-4C20-4E48-A0DA-8361FC74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0C3E-4729-4F2C-A7AB-7B38FCB8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8DF0-78CC-43B9-BB05-0769AE09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352-DBD2-4B7E-B0C8-A47BAF34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8D3-9083-4CF7-B1CE-E52DED38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AE9-E3D9-44DE-A3B4-80EB7F1C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D99-2BCD-4068-A048-8E3E71AF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8B33-FEB9-4ECD-BE5B-3F1F2277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C4CB-DF14-4706-A28E-AD6FDE9B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FA74-0A2D-4651-86C4-2ACEA2DA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6210-E76F-45DE-B4B0-E617205F5C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E1CC-6050-44F9-BC70-9C455EA07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278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Формы работы классного руководителя с семьёй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484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втор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читель начальных классов МОУ "СОШ с. Ездочное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ягуша И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одительский рин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едварительная подготовка к родительскому рин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учение проблемного поля воспитательных затруднений родителей и педагогических запросов род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ассный руководитель беседует со  школьным психологом и социальным педагогом, которые могут предложить  ситуации для обсуждения, связанные с проблемами в школе, в параллели и так дал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 числа педагогов, работающих в школе, приглашенных специалистов, врача (если это необходимо) создается группа экспертов, которая будет анализировать точки зр6ения родителей на различные проблемы и определять правильность принятия решения в той или иной ситу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дительский ринг начинается с обсуждения точек зрения на проблемы воспитания в целом, а затем происходит переход к обсуждению конкретных воспитательных ситу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Участие родителей в работе родительского комитет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57200" y="1600200"/>
            <a:ext cx="8228160" cy="5068440"/>
            <a:chOff x="457200" y="1600200"/>
            <a:chExt cx="8228160" cy="5068440"/>
          </a:xfrm>
        </p:grpSpPr>
        <p:cxnSp>
          <p:nvCxnSpPr>
            <p:cNvPr id="256" name="_s37910"/>
            <p:cNvCxnSpPr>
              <a:stCxn id="257" idx="1"/>
              <a:endCxn id="258" idx="2"/>
            </p:cNvCxnSpPr>
            <p:nvPr/>
          </p:nvCxnSpPr>
          <p:spPr>
            <a:xfrm rot="10800000">
              <a:off x="2925000" y="2195640"/>
              <a:ext cx="823320" cy="4174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9" name="_s37908"/>
            <p:cNvCxnSpPr>
              <a:stCxn id="260" idx="1"/>
              <a:endCxn id="258" idx="2"/>
            </p:cNvCxnSpPr>
            <p:nvPr/>
          </p:nvCxnSpPr>
          <p:spPr>
            <a:xfrm rot="10800000">
              <a:off x="2925000" y="2195640"/>
              <a:ext cx="823320" cy="328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1" name="_s37903"/>
            <p:cNvCxnSpPr>
              <a:stCxn id="262" idx="1"/>
              <a:endCxn id="258" idx="2"/>
            </p:cNvCxnSpPr>
            <p:nvPr/>
          </p:nvCxnSpPr>
          <p:spPr>
            <a:xfrm rot="10800000">
              <a:off x="2925000" y="2195640"/>
              <a:ext cx="823320" cy="2385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3" name="_s37902"/>
            <p:cNvCxnSpPr>
              <a:stCxn id="264" idx="1"/>
              <a:endCxn id="258" idx="2"/>
            </p:cNvCxnSpPr>
            <p:nvPr/>
          </p:nvCxnSpPr>
          <p:spPr>
            <a:xfrm rot="10800000">
              <a:off x="2925000" y="2195640"/>
              <a:ext cx="823320" cy="1491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5" name="_s37901"/>
            <p:cNvCxnSpPr>
              <a:stCxn id="266" idx="1"/>
              <a:endCxn id="258" idx="2"/>
            </p:cNvCxnSpPr>
            <p:nvPr/>
          </p:nvCxnSpPr>
          <p:spPr>
            <a:xfrm rot="10800000">
              <a:off x="2925000" y="2195640"/>
              <a:ext cx="823320" cy="596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58" name="_s37897"/>
            <p:cNvSpPr/>
            <p:nvPr/>
          </p:nvSpPr>
          <p:spPr>
            <a:xfrm>
              <a:off x="457200" y="1600200"/>
              <a:ext cx="4937040" cy="596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Обязанности в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родительском комите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_s37898"/>
            <p:cNvSpPr/>
            <p:nvPr/>
          </p:nvSpPr>
          <p:spPr>
            <a:xfrm>
              <a:off x="3748320" y="2494440"/>
              <a:ext cx="4937040" cy="596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Председатель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_s37899"/>
            <p:cNvSpPr/>
            <p:nvPr/>
          </p:nvSpPr>
          <p:spPr>
            <a:xfrm>
              <a:off x="3748320" y="3389040"/>
              <a:ext cx="4937040" cy="596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Казначе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_s37900"/>
            <p:cNvSpPr/>
            <p:nvPr/>
          </p:nvSpPr>
          <p:spPr>
            <a:xfrm>
              <a:off x="3748320" y="4283280"/>
              <a:ext cx="4937040" cy="596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Ответственный за учебную работу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37907"/>
            <p:cNvSpPr/>
            <p:nvPr/>
          </p:nvSpPr>
          <p:spPr>
            <a:xfrm>
              <a:off x="3748320" y="5177880"/>
              <a:ext cx="4937040" cy="596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Ответственный за хозяйственную работу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_s37909"/>
            <p:cNvSpPr/>
            <p:nvPr/>
          </p:nvSpPr>
          <p:spPr>
            <a:xfrm>
              <a:off x="3748320" y="6072480"/>
              <a:ext cx="4937040" cy="596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Ответственный за культмассовую работу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Формы работы с семьё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ни творчества детей и их род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крытые уроки и внеклассные мероприя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ительское общественное  патрулир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ефская помощ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Презентации опыта семейного воспитания в СМИ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4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чера вопросов и отв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спут, дискус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тречи родительской общественности с администрацией школы, учител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Формы познавательной деятельност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щественные форумы знани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ворческие отчеты по предмета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ни открытых урок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здники знаний и творчест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урниры знаток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вместные олимпиа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пуск предметных газе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седания, отчеты научных обществ учащихся и т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Формы трудовой деятельност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формление кабине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ла­гоустройство и озеленение школьного двор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адка алл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здание классной библиоте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рмарка-распродажа семейных подело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ставки «Мир наших увлечений»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Формы досуг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вместные праздни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готовка концертов, спектакл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смотр и обсуждение фильмов и спектакл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рев­нов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курс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ВН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уристические походы и слет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скурсионные поезд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емейные праздники и фестивал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нь матери, День отца, День бабушек и дедушек, День моего ребенка, День взаимного благода­р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гровые семейные конкурсы: "Спортивная семья", "Музыкальная семья", конкурс семейных альбомов, конкурс хозяек, конкурс "Мужчины на поверке" (соревнования между отцами и сыновьями)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вместная деятельность в творческих объединениях различной направленности, музеях и т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ак разговорить родителей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339640" y="2565000"/>
            <a:ext cx="4546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апка вопро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каз по картинк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лшебная пало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Шапка вопрос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3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ервый ти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вопрос "формальный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3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торой ти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основан на конструкции: "Я думаю то-то и так-то, а вы?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3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Третий ти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я не знаю: "Я не знаю, как мне укладывать сына спать вовремя" и т.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сихолого-педагогическое просвещение родител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24000" y="1773360"/>
            <a:ext cx="8639280" cy="4894920"/>
            <a:chOff x="324000" y="1773360"/>
            <a:chExt cx="8639280" cy="4894920"/>
          </a:xfrm>
        </p:grpSpPr>
        <p:cxnSp>
          <p:nvCxnSpPr>
            <p:cNvPr id="215" name="_s20504"/>
            <p:cNvCxnSpPr>
              <a:stCxn id="216" idx="1"/>
              <a:endCxn id="217" idx="2"/>
            </p:cNvCxnSpPr>
            <p:nvPr/>
          </p:nvCxnSpPr>
          <p:spPr>
            <a:xfrm rot="10800000">
              <a:off x="2914920" y="2348280"/>
              <a:ext cx="864360" cy="4032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8" name="_s20500"/>
            <p:cNvCxnSpPr>
              <a:stCxn id="219" idx="1"/>
              <a:endCxn id="217" idx="2"/>
            </p:cNvCxnSpPr>
            <p:nvPr/>
          </p:nvCxnSpPr>
          <p:spPr>
            <a:xfrm rot="10800000">
              <a:off x="2914920" y="2348280"/>
              <a:ext cx="864360" cy="3170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0" name="_s20497"/>
            <p:cNvCxnSpPr>
              <a:stCxn id="221" idx="1"/>
              <a:endCxn id="217" idx="2"/>
            </p:cNvCxnSpPr>
            <p:nvPr/>
          </p:nvCxnSpPr>
          <p:spPr>
            <a:xfrm rot="10800000">
              <a:off x="2914920" y="2348280"/>
              <a:ext cx="864360" cy="2306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2" name="_s20496"/>
            <p:cNvCxnSpPr>
              <a:stCxn id="223" idx="1"/>
              <a:endCxn id="217" idx="2"/>
            </p:cNvCxnSpPr>
            <p:nvPr/>
          </p:nvCxnSpPr>
          <p:spPr>
            <a:xfrm rot="10800000">
              <a:off x="2914920" y="2348280"/>
              <a:ext cx="864360" cy="1440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4" name="_s20495"/>
            <p:cNvCxnSpPr>
              <a:stCxn id="225" idx="1"/>
              <a:endCxn id="217" idx="2"/>
            </p:cNvCxnSpPr>
            <p:nvPr/>
          </p:nvCxnSpPr>
          <p:spPr>
            <a:xfrm rot="10800000">
              <a:off x="2914920" y="2348280"/>
              <a:ext cx="864360" cy="57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7" name="_s20491"/>
            <p:cNvSpPr/>
            <p:nvPr/>
          </p:nvSpPr>
          <p:spPr>
            <a:xfrm>
              <a:off x="324000" y="1773360"/>
              <a:ext cx="5183640" cy="57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Родительское собр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20492"/>
            <p:cNvSpPr/>
            <p:nvPr/>
          </p:nvSpPr>
          <p:spPr>
            <a:xfrm>
              <a:off x="3779640" y="2637000"/>
              <a:ext cx="5183640" cy="57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организационн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20493"/>
            <p:cNvSpPr/>
            <p:nvPr/>
          </p:nvSpPr>
          <p:spPr>
            <a:xfrm>
              <a:off x="3779640" y="3501000"/>
              <a:ext cx="5183640" cy="57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текущее или тематическ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20494"/>
            <p:cNvSpPr/>
            <p:nvPr/>
          </p:nvSpPr>
          <p:spPr>
            <a:xfrm>
              <a:off x="3779640" y="4365000"/>
              <a:ext cx="5183640" cy="57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итогов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_s20499"/>
            <p:cNvSpPr/>
            <p:nvPr/>
          </p:nvSpPr>
          <p:spPr>
            <a:xfrm>
              <a:off x="3779640" y="5229000"/>
              <a:ext cx="5183640" cy="57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общешкольн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_s20503"/>
            <p:cNvSpPr/>
            <p:nvPr/>
          </p:nvSpPr>
          <p:spPr>
            <a:xfrm>
              <a:off x="3779640" y="6092640"/>
              <a:ext cx="5183640" cy="57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классн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Викторина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3716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ние родителям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 почерку определить листок своего сына или дочер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ссказ по картинке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казать о том, что изобразил ребенок своим рисун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комментировать, как исполнение рисунка соотносится с особенностями характера ребе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казать о двух самых интересных моментах в рассказе-комментарии своего собесед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лшебная палочк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ервый ко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называются положительные ка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Второй ко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называются отрицательные ка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ретий ко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в руки дается кусочек мела, родитель подходит к доске и слева записывает на ней одно из прозвучавших отрицательных качеств, а справа – одно из положите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Четвертый ко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нужно подойти к доске и стрелкой соединить эти качества, поставив рядом со стрелкой свои инициа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ятый ко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взаимные консультации родителей по воспитательным проблем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иды приглашений на родительские собрания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1773360"/>
            <a:ext cx="54864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Приглаш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Уважаемые родители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Если Вас интересует тема  «Воспитание детей в современной семье», приходите на родительское собрание, и Вы узнаете, правильна ли Ваша позиция по отношению к детя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Классный руководитель ________________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1640" y="4508640"/>
            <a:ext cx="613440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риглашаю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Вас к диалогу ___________________ чис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У семьи и школы одни беды и проблемы. Давайте искать совместные пути решения на родительском собран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С уважением, классный руководитель _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авила подготовки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лассного родительского собр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ждое родительское собрание должно иметь конкретную воспитательную тему. Тема родительского собрания должна быть актуальна для род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дительское собрание должно проводиться в удобное для родителей врем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ан родительского собрания должен быть извест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щение классного руководителя и родителей должно быть тактичным и выдержанн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следует превращать родительские собрания в место критики матерей и отцов "трудных" уча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суждая на собраниях актуальные вопросы развития учащихся, просить поделиться опытом семейного воспитания родителей хорошо воспитанных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нообразить форму проведения родительских собраний, организуя встречи со специалистами, вечера вопросов и ответов, «круглые столы» с участием учителей-предметников, обзор новой педагогической литературы и периодических изданий по вопросам семейного вос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одительские университе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52280" y="1608120"/>
            <a:ext cx="8892000" cy="5113080"/>
            <a:chOff x="152280" y="1608120"/>
            <a:chExt cx="8892000" cy="5113080"/>
          </a:xfrm>
        </p:grpSpPr>
        <p:cxnSp>
          <p:nvCxnSpPr>
            <p:cNvPr id="233" name="_s28689"/>
            <p:cNvCxnSpPr>
              <a:stCxn id="234" idx="1"/>
              <a:endCxn id="235" idx="2"/>
            </p:cNvCxnSpPr>
            <p:nvPr/>
          </p:nvCxnSpPr>
          <p:spPr>
            <a:xfrm rot="10800000">
              <a:off x="2819160" y="2208960"/>
              <a:ext cx="889920" cy="3309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6" name="_s28687"/>
            <p:cNvCxnSpPr>
              <a:stCxn id="237" idx="1"/>
              <a:endCxn id="235" idx="2"/>
            </p:cNvCxnSpPr>
            <p:nvPr/>
          </p:nvCxnSpPr>
          <p:spPr>
            <a:xfrm rot="10800000">
              <a:off x="2819160" y="2208960"/>
              <a:ext cx="889920" cy="4213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8" name="_s28684"/>
            <p:cNvCxnSpPr>
              <a:stCxn id="239" idx="1"/>
              <a:endCxn id="235" idx="2"/>
            </p:cNvCxnSpPr>
            <p:nvPr/>
          </p:nvCxnSpPr>
          <p:spPr>
            <a:xfrm rot="10800000">
              <a:off x="2819160" y="2208960"/>
              <a:ext cx="889920" cy="2406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0" name="_s28683"/>
            <p:cNvCxnSpPr>
              <a:stCxn id="241" idx="1"/>
              <a:endCxn id="235" idx="2"/>
            </p:cNvCxnSpPr>
            <p:nvPr/>
          </p:nvCxnSpPr>
          <p:spPr>
            <a:xfrm rot="10800000">
              <a:off x="2819160" y="2208960"/>
              <a:ext cx="889920" cy="150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2" name="_s28682"/>
            <p:cNvCxnSpPr>
              <a:stCxn id="243" idx="1"/>
              <a:endCxn id="235" idx="2"/>
            </p:cNvCxnSpPr>
            <p:nvPr/>
          </p:nvCxnSpPr>
          <p:spPr>
            <a:xfrm rot="10800000">
              <a:off x="2819160" y="2208960"/>
              <a:ext cx="889920" cy="602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5" name="_s28678"/>
            <p:cNvSpPr/>
            <p:nvPr/>
          </p:nvSpPr>
          <p:spPr>
            <a:xfrm>
              <a:off x="152280" y="1608120"/>
              <a:ext cx="5335200" cy="601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Формы занятий в родительском университет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28679"/>
            <p:cNvSpPr/>
            <p:nvPr/>
          </p:nvSpPr>
          <p:spPr>
            <a:xfrm>
              <a:off x="3709080" y="2510280"/>
              <a:ext cx="5335200" cy="601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конференци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28680"/>
            <p:cNvSpPr/>
            <p:nvPr/>
          </p:nvSpPr>
          <p:spPr>
            <a:xfrm>
              <a:off x="3709080" y="3412800"/>
              <a:ext cx="5335200" cy="601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час вопросов и ответов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на актуальную тему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28681"/>
            <p:cNvSpPr/>
            <p:nvPr/>
          </p:nvSpPr>
          <p:spPr>
            <a:xfrm>
              <a:off x="3709080" y="4314960"/>
              <a:ext cx="5335200" cy="601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лекции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_s28686"/>
            <p:cNvSpPr/>
            <p:nvPr/>
          </p:nvSpPr>
          <p:spPr>
            <a:xfrm>
              <a:off x="3709080" y="6119640"/>
              <a:ext cx="5335200" cy="601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родительские ринги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28688"/>
            <p:cNvSpPr/>
            <p:nvPr/>
          </p:nvSpPr>
          <p:spPr>
            <a:xfrm>
              <a:off x="3709080" y="5217480"/>
              <a:ext cx="5335200" cy="601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практикумы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нферен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Тематика родительских конференц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аш малыш – школьник. Режим дня  первокласс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изическое здоровье ребенка – залог успешности учебной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равственные уроки семьи – нравственные законы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енняя и внешняя культура ребенка. От чего он зависи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 в жизни ребе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а и обязанности ребенка в семье, в школе, в социу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льтура общения с компьюте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нига и ее роль в жизни семь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едные привычки и как с ними бороть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же не дети, ещё не взросл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овые различия и проблемы п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чины детских суици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ематические и индивидуальные консультац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Требования к проведению консульт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одится по запросам родителей, ребенка и классного руковод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блема хорошо известна классному руководителю и рассматривалась им с различных позиций: ребенка, родителей, педаго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обходимо дать возможность заинтересованным сторонам высказывать свое мнение и свое отношение к пробле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астники консультации должны быть компетентны в решаемой пробле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сультация должна проходить в доброжелательной атмосфе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начала необходимо обратить внимание на все хорошее и положительное, что есть в ребенке и только потом говорить о проблем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уместно сравнивать детей друг с другом, можно лишь говорить о прежних качествах, успехах и недостатках в сравнении с сегодняшним дн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сультация должна дать родителям реальные рекомендации по проблеме специалистов, педагогов, классного руководи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сультация должна быть перспективной и способствовать реальным изменениям в семье и в лучшую сторо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зультаты консультации не должны стать темой обсуждения посторонних люд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ренинг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нинги как форма коррекции взаимоотношений детей и родителей находится в ведении школьного психолога. Классный руководитель беседует с учащимися и их родителями и предлагает принять участие в тренинге. Участие детей и родителей в совместном тренинге возможно только на добровольной основе. Тренинговые  занятия детей и их родителей позволяют по-новому строить взаимоотношения, изменяют я – позицию детей и взрослых; способствуют пониманию интересов и потребностей детей и требований родителей, изменяют значимость авторитета обоих родителей и каждого из них  в отдельности. Однако очень важно помнить, что тренинги имеет право организовать и проводить только специалист, имеющий специальное для этого разреш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Бесе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авила профессионального та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педагогической беседе с родител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рапевтический мом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чать разговор о ребенке обязательно с хорош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рпеливо выслушать родите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рректно, спокойно, без пафоса и лишних эмоций, скажите о недостатках школьника, что смущает сегодня учителей в его характере и повед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учетом индивидуальных особенностей ученика и его родителей выскажите свои соображения и педагогические рекомендации по развитию школьника, преодолению негативных сторон его лич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еседа завершается этическим момент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4:04:03Z</dcterms:created>
  <dc:creator>Мама</dc:creator>
  <dc:description/>
  <dc:language>en-US</dc:language>
  <cp:lastModifiedBy>Мама</cp:lastModifiedBy>
  <dcterms:modified xsi:type="dcterms:W3CDTF">2008-03-23T16:13:00Z</dcterms:modified>
  <cp:revision>18</cp:revision>
  <dc:subject/>
  <dc:title>Формы работы классного руководителя с семьёй</dc:title>
</cp:coreProperties>
</file>