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E67B-BBFF-44AE-80F8-D8DB8B2B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1E0F-32B4-40CF-8418-7B468882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4A78-0F17-4987-A6F9-403B91BB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7008-B648-48B9-9EFD-4B217037E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0203-A378-448B-B31E-75BDF2294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BBED-A82D-4454-863B-C3505784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A491-4704-479E-90D8-334D6C2E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BB19-36D0-44AA-84E6-7D6BC6CC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E267-0407-4A33-8396-1CA060C3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7AE2-ABA3-436C-BB07-7F7475D0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96E8-7942-40BA-845E-653CCCA9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AA60-8AEB-475C-A7FF-48D61221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7C35-93F7-4266-809E-524C15E3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9134-152F-4450-95E8-C8FC1D54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6079-EE00-4760-8DE3-219FB3AD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A8F8-1A39-4409-8758-78C8B8F3B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00E3-9492-4F75-9ACA-E6BC03A5B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5909-A75D-48D4-9E3C-DF5C3D05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BD3A-7E78-4AB1-B0EB-6BAE33A1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AEE8-8256-4110-85BB-8E79BF05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4ADD-EEE9-498F-8A74-D1FC81F5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3652-D80F-40FD-9297-8306DC49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D6DB-5658-46E3-83E5-4AA449FE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DC65-F5E8-49E1-8FED-B63FFC17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3F71-F38D-45A4-8121-DECE1DE232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C4A1-DE22-46F2-A859-7043BB95B1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278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Формы работы классного руководителя с семьёй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48436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Автор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учитель начальных классов МОУ "СОШ с. Ездочное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ягуша И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одительский рин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едварительная подготовка к родительскому ринг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учение проблемного поля воспитательных затруднений родителей и педагогических запросов родит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лассный руководитель беседует со  школьным психологом и социальным педагогом, которые могут предложить  ситуации для обсуждения, связанные с проблемами в школе, в параллели и так дале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 числа педагогов, работающих в школе, приглашенных специалистов, врача (если это необходимо) создается группа экспертов, которая будет анализировать точки зр6ения родителей на различные проблемы и определять правильность принятия решения в той или иной ситуац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одительский ринг начинается с обсуждения точек зрения на проблемы воспитания в целом, а затем происходит переход к обсуждению конкретных воспитательных ситуа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Участие родителей в работе родительского комитета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57200" y="1600200"/>
            <a:ext cx="8228160" cy="5068440"/>
            <a:chOff x="457200" y="1600200"/>
            <a:chExt cx="8228160" cy="5068440"/>
          </a:xfrm>
        </p:grpSpPr>
        <p:cxnSp>
          <p:nvCxnSpPr>
            <p:cNvPr id="256" name="_s37910"/>
            <p:cNvCxnSpPr>
              <a:stCxn id="257" idx="1"/>
              <a:endCxn id="258" idx="2"/>
            </p:cNvCxnSpPr>
            <p:nvPr/>
          </p:nvCxnSpPr>
          <p:spPr>
            <a:xfrm rot="10800000">
              <a:off x="2925000" y="2195640"/>
              <a:ext cx="823320" cy="4174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9" name="_s37908"/>
            <p:cNvCxnSpPr>
              <a:stCxn id="260" idx="1"/>
              <a:endCxn id="258" idx="2"/>
            </p:cNvCxnSpPr>
            <p:nvPr/>
          </p:nvCxnSpPr>
          <p:spPr>
            <a:xfrm rot="10800000">
              <a:off x="2925000" y="2195640"/>
              <a:ext cx="823320" cy="3280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1" name="_s37903"/>
            <p:cNvCxnSpPr>
              <a:stCxn id="262" idx="1"/>
              <a:endCxn id="258" idx="2"/>
            </p:cNvCxnSpPr>
            <p:nvPr/>
          </p:nvCxnSpPr>
          <p:spPr>
            <a:xfrm rot="10800000">
              <a:off x="2925000" y="2195640"/>
              <a:ext cx="823320" cy="2385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3" name="_s37902"/>
            <p:cNvCxnSpPr>
              <a:stCxn id="264" idx="1"/>
              <a:endCxn id="258" idx="2"/>
            </p:cNvCxnSpPr>
            <p:nvPr/>
          </p:nvCxnSpPr>
          <p:spPr>
            <a:xfrm rot="10800000">
              <a:off x="2925000" y="2195640"/>
              <a:ext cx="823320" cy="1491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5" name="_s37901"/>
            <p:cNvCxnSpPr>
              <a:stCxn id="266" idx="1"/>
              <a:endCxn id="258" idx="2"/>
            </p:cNvCxnSpPr>
            <p:nvPr/>
          </p:nvCxnSpPr>
          <p:spPr>
            <a:xfrm rot="10800000">
              <a:off x="2925000" y="2195640"/>
              <a:ext cx="823320" cy="596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58" name="_s37897"/>
            <p:cNvSpPr/>
            <p:nvPr/>
          </p:nvSpPr>
          <p:spPr>
            <a:xfrm>
              <a:off x="457200" y="1600200"/>
              <a:ext cx="4937040" cy="5961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Обязанности в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родительском комитет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_s37898"/>
            <p:cNvSpPr/>
            <p:nvPr/>
          </p:nvSpPr>
          <p:spPr>
            <a:xfrm>
              <a:off x="3748320" y="2494440"/>
              <a:ext cx="4937040" cy="5961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Председатель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_s37899"/>
            <p:cNvSpPr/>
            <p:nvPr/>
          </p:nvSpPr>
          <p:spPr>
            <a:xfrm>
              <a:off x="3748320" y="3389040"/>
              <a:ext cx="4937040" cy="5961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Казначей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_s37900"/>
            <p:cNvSpPr/>
            <p:nvPr/>
          </p:nvSpPr>
          <p:spPr>
            <a:xfrm>
              <a:off x="3748320" y="4283280"/>
              <a:ext cx="4937040" cy="5961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Ответственный за учебную работу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_s37907"/>
            <p:cNvSpPr/>
            <p:nvPr/>
          </p:nvSpPr>
          <p:spPr>
            <a:xfrm>
              <a:off x="3748320" y="5177880"/>
              <a:ext cx="4937040" cy="5961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Ответственный за хозяйственную работу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_s37909"/>
            <p:cNvSpPr/>
            <p:nvPr/>
          </p:nvSpPr>
          <p:spPr>
            <a:xfrm>
              <a:off x="3748320" y="6072480"/>
              <a:ext cx="4937040" cy="5961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Ответственный за культмассовую работу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Формы работы с семьё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ни творчества детей и их родите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крытые уроки и внеклассные мероприя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дительское общественное  патрулир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ефская помощ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Презентации опыта семейного воспитания в СМИ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4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чера вопросов и отве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испут, дискусс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тречи родительской общественности с администрацией школы, учителя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Формы познавательной деятельност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щественные форумы знани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ворческие отчеты по предмета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ни открытых урок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аздники знаний и творчеств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урниры знаток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вместные олимпиад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пуск предметных газет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седания, отчеты научных обществ учащихся и т. 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Формы трудовой деятельност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формление кабинет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ла­гоустройство и озеленение школьного двор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адка алле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здание классной библиотек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рмарка-распродажа семейных поделок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ставки «Мир наших увлечений» 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Формы досуг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8964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вместные праздник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готовка концертов, спектакле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смотр и обсуждение фильмов и спектакле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рев­нова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курс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ВН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уристические походы и слет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кскурсионные поезд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Семейные праздники и фестивал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нь матери, День отца, День бабушек и дедушек, День моего ребенка, День взаимного благода­р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гровые семейные конкурсы: "Спортивная семья", "Музыкальная семья", конкурс семейных альбомов, конкурс хозяек, конкурс "Мужчины на поверке" (соревнования между отцами и сыновьями) 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вместная деятельность в творческих объединениях различной направленности, музеях и т.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ак разговорить родителей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339640" y="2565000"/>
            <a:ext cx="454644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апка вопрос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иктор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сказ по картинк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лшебная палоч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Шапка вопрос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3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ервый тип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вопрос "формальный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13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торой тип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основан на конструкции: "Я думаю то-то и так-то, а вы?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13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Третий тип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я не знаю: "Я не знаю, как мне укладывать сына спать вовремя" и т.д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сихолого-педагогическое просвещение родителе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24000" y="1773360"/>
            <a:ext cx="8639280" cy="4894920"/>
            <a:chOff x="324000" y="1773360"/>
            <a:chExt cx="8639280" cy="4894920"/>
          </a:xfrm>
        </p:grpSpPr>
        <p:cxnSp>
          <p:nvCxnSpPr>
            <p:cNvPr id="215" name="_s20504"/>
            <p:cNvCxnSpPr>
              <a:stCxn id="216" idx="1"/>
              <a:endCxn id="217" idx="2"/>
            </p:cNvCxnSpPr>
            <p:nvPr/>
          </p:nvCxnSpPr>
          <p:spPr>
            <a:xfrm rot="10800000">
              <a:off x="2914920" y="2348280"/>
              <a:ext cx="864360" cy="4032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8" name="_s20500"/>
            <p:cNvCxnSpPr>
              <a:stCxn id="219" idx="1"/>
              <a:endCxn id="217" idx="2"/>
            </p:cNvCxnSpPr>
            <p:nvPr/>
          </p:nvCxnSpPr>
          <p:spPr>
            <a:xfrm rot="10800000">
              <a:off x="2914920" y="2348280"/>
              <a:ext cx="864360" cy="3170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0" name="_s20497"/>
            <p:cNvCxnSpPr>
              <a:stCxn id="221" idx="1"/>
              <a:endCxn id="217" idx="2"/>
            </p:cNvCxnSpPr>
            <p:nvPr/>
          </p:nvCxnSpPr>
          <p:spPr>
            <a:xfrm rot="10800000">
              <a:off x="2914920" y="2348280"/>
              <a:ext cx="864360" cy="2306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2" name="_s20496"/>
            <p:cNvCxnSpPr>
              <a:stCxn id="223" idx="1"/>
              <a:endCxn id="217" idx="2"/>
            </p:cNvCxnSpPr>
            <p:nvPr/>
          </p:nvCxnSpPr>
          <p:spPr>
            <a:xfrm rot="10800000">
              <a:off x="2914920" y="2348280"/>
              <a:ext cx="864360" cy="1440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4" name="_s20495"/>
            <p:cNvCxnSpPr>
              <a:stCxn id="225" idx="1"/>
              <a:endCxn id="217" idx="2"/>
            </p:cNvCxnSpPr>
            <p:nvPr/>
          </p:nvCxnSpPr>
          <p:spPr>
            <a:xfrm rot="10800000">
              <a:off x="2914920" y="2348280"/>
              <a:ext cx="864360" cy="57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17" name="_s20491"/>
            <p:cNvSpPr/>
            <p:nvPr/>
          </p:nvSpPr>
          <p:spPr>
            <a:xfrm>
              <a:off x="324000" y="1773360"/>
              <a:ext cx="5183640" cy="575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Родительское собра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20492"/>
            <p:cNvSpPr/>
            <p:nvPr/>
          </p:nvSpPr>
          <p:spPr>
            <a:xfrm>
              <a:off x="3779640" y="2637000"/>
              <a:ext cx="5183640" cy="575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организационно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_s20493"/>
            <p:cNvSpPr/>
            <p:nvPr/>
          </p:nvSpPr>
          <p:spPr>
            <a:xfrm>
              <a:off x="3779640" y="3501000"/>
              <a:ext cx="5183640" cy="575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текущее или тематическо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_s20494"/>
            <p:cNvSpPr/>
            <p:nvPr/>
          </p:nvSpPr>
          <p:spPr>
            <a:xfrm>
              <a:off x="3779640" y="4365000"/>
              <a:ext cx="5183640" cy="575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итогово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_s20499"/>
            <p:cNvSpPr/>
            <p:nvPr/>
          </p:nvSpPr>
          <p:spPr>
            <a:xfrm>
              <a:off x="3779640" y="5229000"/>
              <a:ext cx="5183640" cy="575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общешкольно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_s20503"/>
            <p:cNvSpPr/>
            <p:nvPr/>
          </p:nvSpPr>
          <p:spPr>
            <a:xfrm>
              <a:off x="3779640" y="6092640"/>
              <a:ext cx="5183640" cy="575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классно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Викторина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37160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дание родителям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 почерку определить листок своего сына или дочер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ассказ по картинке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сказать о том, что изобразил ребенок своим рисунк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комментировать, как исполнение рисунка соотносится с особенностями характера ребе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сказать о двух самых интересных моментах в рассказе-комментарии своего собесед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олшебная палочка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Первый ко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называются положительные ка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Второй ко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называются отрицательные ка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ретий ко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в руки дается кусочек мела, родитель подходит к доске и слева записывает на ней одно из прозвучавших отрицательных качеств, а справа – одно из положитель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Четвертый ко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нужно подойти к доске и стрелкой соединить эти качества, поставив рядом со стрелкой свои инициа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Пятый ко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взаимные консультации родителей по воспитательным проблем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иды приглашений на родительские собрания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9280" y="1773360"/>
            <a:ext cx="54864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Приглаш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Уважаемые родители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Если Вас интересует тема  «Воспитание детей в современной семье», приходите на родительское собрание, и Вы узнаете, правильна ли Ваша позиция по отношению к детя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Классный руководитель ________________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71640" y="4508640"/>
            <a:ext cx="613440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Приглашаю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Вас к диалогу ___________________ чис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У семьи и школы одни беды и проблемы. Давайте искать совместные пути решения на родительском собран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С уважением, классный руководитель _____________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равила подготовки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классного родительского собра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ждое родительское собрание должно иметь конкретную воспитательную тему. Тема родительского собрания должна быть актуальна для родит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одительское собрание должно проводиться в удобное для родителей врем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лан родительского собрания должен быть извест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щение классного руководителя и родителей должно быть тактичным и выдержанн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 следует превращать родительские собрания в место критики матерей и отцов "трудных" учащих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суждая на собраниях актуальные вопросы развития учащихся, просить поделиться опытом семейного воспитания родителей хорошо воспитанных де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знообразить форму проведения родительских собраний, организуя встречи со специалистами, вечера вопросов и ответов, «круглые столы» с участием учителей-предметников, обзор новой педагогической литературы и периодических изданий по вопросам семейного воспит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одительские университе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52280" y="1608120"/>
            <a:ext cx="8892000" cy="5113080"/>
            <a:chOff x="152280" y="1608120"/>
            <a:chExt cx="8892000" cy="5113080"/>
          </a:xfrm>
        </p:grpSpPr>
        <p:cxnSp>
          <p:nvCxnSpPr>
            <p:cNvPr id="233" name="_s28689"/>
            <p:cNvCxnSpPr>
              <a:stCxn id="234" idx="1"/>
              <a:endCxn id="235" idx="2"/>
            </p:cNvCxnSpPr>
            <p:nvPr/>
          </p:nvCxnSpPr>
          <p:spPr>
            <a:xfrm rot="10800000">
              <a:off x="2819160" y="2208960"/>
              <a:ext cx="889920" cy="3309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6" name="_s28687"/>
            <p:cNvCxnSpPr>
              <a:stCxn id="237" idx="1"/>
              <a:endCxn id="235" idx="2"/>
            </p:cNvCxnSpPr>
            <p:nvPr/>
          </p:nvCxnSpPr>
          <p:spPr>
            <a:xfrm rot="10800000">
              <a:off x="2819160" y="2208960"/>
              <a:ext cx="889920" cy="4213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8" name="_s28684"/>
            <p:cNvCxnSpPr>
              <a:stCxn id="239" idx="1"/>
              <a:endCxn id="235" idx="2"/>
            </p:cNvCxnSpPr>
            <p:nvPr/>
          </p:nvCxnSpPr>
          <p:spPr>
            <a:xfrm rot="10800000">
              <a:off x="2819160" y="2208960"/>
              <a:ext cx="889920" cy="2406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0" name="_s28683"/>
            <p:cNvCxnSpPr>
              <a:stCxn id="241" idx="1"/>
              <a:endCxn id="235" idx="2"/>
            </p:cNvCxnSpPr>
            <p:nvPr/>
          </p:nvCxnSpPr>
          <p:spPr>
            <a:xfrm rot="10800000">
              <a:off x="2819160" y="2208960"/>
              <a:ext cx="889920" cy="1504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2" name="_s28682"/>
            <p:cNvCxnSpPr>
              <a:stCxn id="243" idx="1"/>
              <a:endCxn id="235" idx="2"/>
            </p:cNvCxnSpPr>
            <p:nvPr/>
          </p:nvCxnSpPr>
          <p:spPr>
            <a:xfrm rot="10800000">
              <a:off x="2819160" y="2208960"/>
              <a:ext cx="889920" cy="602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35" name="_s28678"/>
            <p:cNvSpPr/>
            <p:nvPr/>
          </p:nvSpPr>
          <p:spPr>
            <a:xfrm>
              <a:off x="152280" y="1608120"/>
              <a:ext cx="5335200" cy="6015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Формы занятий в родительском университет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_s28679"/>
            <p:cNvSpPr/>
            <p:nvPr/>
          </p:nvSpPr>
          <p:spPr>
            <a:xfrm>
              <a:off x="3709080" y="2510280"/>
              <a:ext cx="5335200" cy="6015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конференции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_s28680"/>
            <p:cNvSpPr/>
            <p:nvPr/>
          </p:nvSpPr>
          <p:spPr>
            <a:xfrm>
              <a:off x="3709080" y="3412800"/>
              <a:ext cx="5335200" cy="6015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час вопросов и ответов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на актуальную тему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_s28681"/>
            <p:cNvSpPr/>
            <p:nvPr/>
          </p:nvSpPr>
          <p:spPr>
            <a:xfrm>
              <a:off x="3709080" y="4314960"/>
              <a:ext cx="5335200" cy="6015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лекции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_s28686"/>
            <p:cNvSpPr/>
            <p:nvPr/>
          </p:nvSpPr>
          <p:spPr>
            <a:xfrm>
              <a:off x="3709080" y="6119640"/>
              <a:ext cx="5335200" cy="6015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родительские ринги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_s28688"/>
            <p:cNvSpPr/>
            <p:nvPr/>
          </p:nvSpPr>
          <p:spPr>
            <a:xfrm>
              <a:off x="3709080" y="5217480"/>
              <a:ext cx="5335200" cy="6015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практикумы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онферен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86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Тематика родительских конференци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аш малыш – школьник. Режим дня  первокласс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изическое здоровье ребенка – залог успешности учебной деятель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равственные уроки семьи – нравственные законы жи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утренняя и внешняя культура ребенка. От чего он зависит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гра в жизни ребе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а и обязанности ребенка в семье, в школе, в социум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ультура общения с компьютер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нига и ее роль в жизни семь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редные привычки и как с ними бороть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же не дети, ещё не взросл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ловые различия и проблемы по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чины детских суици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Тематические и индивидуальные консультац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Требования к проведению консульт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водится по запросам родителей, ребенка и классного руководи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блема хорошо известна классному руководителю и рассматривалась им с различных позиций: ребенка, родителей, педагог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обходимо дать возможность заинтересованным сторонам высказывать свое мнение и свое отношение к проблем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астники консультации должны быть компетентны в решаемой проблем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нсультация должна проходить в доброжелательной атмосфе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начала необходимо обратить внимание на все хорошее и положительное, что есть в ребенке и только потом говорить о проблем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уместно сравнивать детей друг с другом, можно лишь говорить о прежних качествах, успехах и недостатках в сравнении с сегодняшним дн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нсультация должна дать родителям реальные рекомендации по проблеме специалистов, педагогов, классного руководите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нсультация должна быть перспективной и способствовать реальным изменениям в семье и в лучшую сторо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зультаты консультации не должны стать темой обсуждения посторонних люд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ренинг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енинги как форма коррекции взаимоотношений детей и родителей находится в ведении школьного психолога. Классный руководитель беседует с учащимися и их родителями и предлагает принять участие в тренинге. Участие детей и родителей в совместном тренинге возможно только на добровольной основе. Тренинговые  занятия детей и их родителей позволяют по-новому строить взаимоотношения, изменяют я – позицию детей и взрослых; способствуют пониманию интересов и потребностей детей и требований родителей, изменяют значимость авторитета обоих родителей и каждого из них  в отдельности. Однако очень важно помнить, что тренинги имеет право организовать и проводить только специалист, имеющий специальное для этого разреш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Бесед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авила профессионального так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педагогической беседе с родителя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рапевтический моме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чать разговор о ребенке обязательно с хороше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рпеливо выслушать родител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рректно, спокойно, без пафоса и лишних эмоций, скажите о недостатках школьника, что смущает сегодня учителей в его характере и поведен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 учетом индивидуальных особенностей ученика и его родителей выскажите свои соображения и педагогические рекомендации по развитию школьника, преодолению негативных сторон его лич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еседа завершается этическим момент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14:04:03Z</dcterms:created>
  <dc:creator>Мама</dc:creator>
  <dc:description/>
  <dc:language>en-US</dc:language>
  <cp:lastModifiedBy>Мама</cp:lastModifiedBy>
  <dcterms:modified xsi:type="dcterms:W3CDTF">2008-03-23T16:13:00Z</dcterms:modified>
  <cp:revision>18</cp:revision>
  <dc:subject/>
  <dc:title>Формы работы классного руководителя с семьёй</dc:title>
</cp:coreProperties>
</file>