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gif" ContentType="image/gif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ACF6-8423-4514-ADD8-34EFA6101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7DDF-445D-49D2-851D-9711F13E5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55CB-1EC1-475F-9001-F1B106D6C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9764-3041-4F1A-BE90-8084B3FF5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EADBC-3291-4085-95F4-75DB6CC74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5A72D-9ADB-4150-91C7-0E2936012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0A0E7-5AB4-4400-99FE-134F32A6C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4E520-43A7-41C8-96D8-00316F25B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D7A63-E7A7-4612-B581-CDEA6D40E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12095-E43D-48AD-9331-A3F28B0ED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09872-E924-4238-8756-C056CBFC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074B-3B49-4E4A-8C46-BE1F3A842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7E09A-EFD3-403A-AD36-25CBB07F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206F8-0FCC-496B-8CD6-0E3891D2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5E38A-AB4C-4797-A31D-27A0FAB50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94E2D-88C8-48F2-AF94-42F0B3A94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972D7-B96A-40D8-832F-98D8F8C3E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88906-2D49-4533-AD36-F63F69340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00CCB-C4A7-4CA6-A2B4-0B36F9DC4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962EE-1474-456A-A06E-483E14A4D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F708F-BA7A-4098-9083-D5AD67BF5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2DF27-69D3-499F-AB4D-D0889E69F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2E1E-D757-40CF-9535-AD13204D8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9DCF5-7FE7-4C99-AB32-63EF14591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F68E1-9CEE-425C-A3EF-F5E75315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6796C-F629-4DCE-90E6-5E805BB4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F1C23-8CE5-4241-8A7E-58D878CD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41DD4-78D0-4B9B-AF8B-E1F8FF20D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5522A-FA85-4033-9694-22B4AED37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31388-5999-4353-A4BC-7F488AD6D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CB287-3E57-4F9D-A9B3-A674D4581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90B8C-D207-41D1-9791-6ED63BD86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4A453-1AD6-4E06-86A6-8D232DD7E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48D2-D4A6-4273-BCA3-5E873DD21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A63C4-0486-4F8B-B130-6F102A946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1D2B1-1703-49F8-AD63-F28B19BDB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4F932-F63A-4913-BE90-B28E5FF5E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D5D1E-0B1B-4568-8DBB-56DC6E3D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6746B-7D49-44BD-B281-8972D5A3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1CE09-EB7E-44DD-9FC5-72BA15C4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AB01C-F17B-4873-9320-46FB3ABD4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40F6A-1399-45E7-A26C-B7E051341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74D2F-6867-4D3E-8139-66B53B8C0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9BAE-CCC1-4B52-8A19-3E65CC076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054B-96DB-410D-BC3D-42C6D2A3D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E9B4-299C-4A91-8D4E-C8C6F7F6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0144-D944-483A-A88C-879F329F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9351-CD1B-4F45-BDD5-6961BB7E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0C5C3-B37B-4B47-828B-743FF573B2E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94338-C36C-4969-BA35-976109864E1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C46E2-AFD9-4D87-B769-0EA3D8F7B33F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A13E6-7F3C-46A9-9221-77F05DB93A5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6" descr="sport046"/>
          <p:cNvPicPr/>
          <p:nvPr/>
        </p:nvPicPr>
        <p:blipFill>
          <a:blip r:embed="rId1"/>
          <a:stretch/>
        </p:blipFill>
        <p:spPr>
          <a:xfrm>
            <a:off x="5072040" y="3435480"/>
            <a:ext cx="3571920" cy="3422520"/>
          </a:xfrm>
          <a:prstGeom prst="rect">
            <a:avLst/>
          </a:prstGeom>
          <a:ln w="0">
            <a:noFill/>
          </a:ln>
        </p:spPr>
      </p:pic>
      <p:pic>
        <p:nvPicPr>
          <p:cNvPr id="196" name="Прямоугольник 4" descr=""/>
          <p:cNvPicPr/>
          <p:nvPr/>
        </p:nvPicPr>
        <p:blipFill>
          <a:blip r:embed="rId2"/>
          <a:stretch/>
        </p:blipFill>
        <p:spPr>
          <a:xfrm>
            <a:off x="993600" y="835200"/>
            <a:ext cx="749808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Уроки окружающего мир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85480" y="1428480"/>
            <a:ext cx="26146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b5395"/>
                </a:solidFill>
                <a:latin typeface="Constantia"/>
              </a:rPr>
              <a:t>У оленя дом большой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b5395"/>
                </a:solidFill>
                <a:latin typeface="Constantia"/>
              </a:rPr>
              <a:t>У оленя дом большой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b5395"/>
                </a:solidFill>
                <a:latin typeface="Constantia"/>
              </a:rPr>
              <a:t>(Руки через стороны вверх.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b5395"/>
                </a:solidFill>
                <a:latin typeface="Constantia"/>
              </a:rPr>
              <a:t>Смотрит он в своё окошко,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b5395"/>
                </a:solidFill>
                <a:latin typeface="Constantia"/>
              </a:rPr>
              <a:t>(Руки на пояс.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b5395"/>
                </a:solidFill>
                <a:latin typeface="Constantia"/>
              </a:rPr>
              <a:t>Зайка по лесу бежит,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b5395"/>
                </a:solidFill>
                <a:latin typeface="Constantia"/>
              </a:rPr>
              <a:t>(Прыжки на месте.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b5395"/>
                </a:solidFill>
                <a:latin typeface="Constantia"/>
              </a:rPr>
              <a:t>Лапой в дверь стучит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b5395"/>
                </a:solidFill>
                <a:latin typeface="Constantia"/>
              </a:rPr>
              <a:t>«Стук, стук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b5395"/>
                </a:solidFill>
                <a:latin typeface="Constantia"/>
              </a:rPr>
              <a:t>(Хлопки в ладоши.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b5395"/>
                </a:solidFill>
                <a:latin typeface="Constantia"/>
              </a:rPr>
              <a:t>Дверь открой!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b5395"/>
                </a:solidFill>
                <a:latin typeface="Constantia"/>
              </a:rPr>
              <a:t>Там в лесу охотник злой»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b5395"/>
                </a:solidFill>
                <a:latin typeface="Constantia"/>
              </a:rPr>
              <a:t>(Топаем ногами.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b5395"/>
                </a:solidFill>
                <a:latin typeface="Constantia"/>
              </a:rPr>
              <a:t>«Зайка, зайка, забегай,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b5395"/>
                </a:solidFill>
                <a:latin typeface="Constantia"/>
              </a:rPr>
              <a:t>Лапу мне давай»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b5395"/>
                </a:solidFill>
                <a:latin typeface="Constantia"/>
              </a:rPr>
              <a:t>(Хлопки в ладоши.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Прямоугольник 3"/>
          <p:cNvSpPr/>
          <p:nvPr/>
        </p:nvSpPr>
        <p:spPr>
          <a:xfrm>
            <a:off x="2928960" y="1428840"/>
            <a:ext cx="29289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Утром встал гусак на лап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Утром встал гусак на лапки, </a:t>
            </a: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(Потянулись, руки вверх — вдох-выдох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риготовился к зарядке. </a:t>
            </a: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(Рывки рук перед грудью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вернулся влево, вправо, </a:t>
            </a: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(Повороты влево-вправо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риседанье сделал справ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(Приседания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лювиком почистил пух, (</a:t>
            </a: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Наклоны головы влево-вправо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скорей за парту - плюх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(Присели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4"/>
          <p:cNvSpPr/>
          <p:nvPr/>
        </p:nvSpPr>
        <p:spPr>
          <a:xfrm>
            <a:off x="5929200" y="1428840"/>
            <a:ext cx="3214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onstantia"/>
              </a:rPr>
              <a:t>Хомка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onstantia"/>
              </a:rPr>
              <a:t>Хомка, хомка, хомячок, </a:t>
            </a:r>
            <a:r>
              <a:rPr b="0" i="1" lang="ru-RU" sz="1800" spc="-1" strike="noStrike">
                <a:solidFill>
                  <a:srgbClr val="c00000"/>
                </a:solidFill>
                <a:latin typeface="Constantia"/>
              </a:rPr>
              <a:t>(Хлопки в ладоши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onstantia"/>
              </a:rPr>
              <a:t>Полосатенький бочок. </a:t>
            </a:r>
            <a:r>
              <a:rPr b="0" i="1" lang="ru-RU" sz="1800" spc="-1" strike="noStrike">
                <a:solidFill>
                  <a:srgbClr val="c00000"/>
                </a:solidFill>
                <a:latin typeface="Constantia"/>
              </a:rPr>
              <a:t>(Повороты туловища влево-вправо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onstantia"/>
              </a:rPr>
              <a:t>Хомка раненько встает, </a:t>
            </a:r>
            <a:r>
              <a:rPr b="0" i="1" lang="ru-RU" sz="1800" spc="-1" strike="noStrike">
                <a:solidFill>
                  <a:srgbClr val="c00000"/>
                </a:solidFill>
                <a:latin typeface="Constantia"/>
              </a:rPr>
              <a:t>(Руки вверх — потянулись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onstantia"/>
              </a:rPr>
              <a:t>Щечки моет, шейку трет. </a:t>
            </a:r>
            <a:r>
              <a:rPr b="0" i="1" lang="ru-RU" sz="1800" spc="-1" strike="noStrike">
                <a:solidFill>
                  <a:srgbClr val="c00000"/>
                </a:solidFill>
                <a:latin typeface="Constantia"/>
              </a:rPr>
              <a:t>(Массаж лица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onstantia"/>
              </a:rPr>
              <a:t>Подметает хомка хатку </a:t>
            </a:r>
            <a:r>
              <a:rPr b="0" i="1" lang="ru-RU" sz="1800" spc="-1" strike="noStrike">
                <a:solidFill>
                  <a:srgbClr val="c00000"/>
                </a:solidFill>
                <a:latin typeface="Constantia"/>
              </a:rPr>
              <a:t>(Наклоны вперед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onstantia"/>
              </a:rPr>
              <a:t>И выходит на зарядку. </a:t>
            </a:r>
            <a:r>
              <a:rPr b="0" i="1" lang="ru-RU" sz="1800" spc="-1" strike="noStrike">
                <a:solidFill>
                  <a:srgbClr val="c00000"/>
                </a:solidFill>
                <a:latin typeface="Constantia"/>
              </a:rPr>
              <a:t>(Ходьба на месте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onstantia"/>
              </a:rPr>
              <a:t>Раз, два, три, четыре, пять. </a:t>
            </a:r>
            <a:r>
              <a:rPr b="0" i="1" lang="ru-RU" sz="1800" spc="-1" strike="noStrike">
                <a:solidFill>
                  <a:srgbClr val="c00000"/>
                </a:solidFill>
                <a:latin typeface="Constantia"/>
              </a:rPr>
              <a:t>(Прыжки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onstantia"/>
              </a:rPr>
              <a:t>Хомка хочет сильным стать. </a:t>
            </a:r>
            <a:r>
              <a:rPr b="0" i="1" lang="ru-RU" sz="1800" spc="-1" strike="noStrike">
                <a:solidFill>
                  <a:srgbClr val="c00000"/>
                </a:solidFill>
                <a:latin typeface="Constantia"/>
              </a:rPr>
              <a:t>(Хлопки в ладоши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4296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onstantia"/>
              </a:rPr>
              <a:t>Спасибо за внимание</a:t>
            </a:r>
            <a:r>
              <a:rPr b="0" lang="en-US" sz="4800" spc="-1" strike="noStrike">
                <a:solidFill>
                  <a:srgbClr val="ff0000"/>
                </a:solidFill>
                <a:latin typeface="Constantia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46422"/>
            </a:gs>
            <a:gs pos="100000">
              <a:srgbClr val="fee7f2">
                <a:alpha val="28235"/>
              </a:srgbClr>
            </a:gs>
          </a:gsLst>
          <a:lin ang="4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Урок - основная форма учебного труда школьников.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За период обучения в школе каждый ученик проходит через </a:t>
            </a:r>
            <a:r>
              <a:rPr b="0" lang="ru-RU" sz="4000" spc="-1" strike="noStrike">
                <a:solidFill>
                  <a:srgbClr val="ff0000"/>
                </a:solidFill>
                <a:latin typeface="Constantia"/>
              </a:rPr>
              <a:t>10 000 уроков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500040" y="9284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равильно организованный учебно-воспитательный процесс способствует не только качественному овладению общеучебными умениями и навыками для школьника, но и благоприятному росту и развитию ученика, </a:t>
            </a:r>
            <a:r>
              <a:rPr b="0" lang="ru-RU" sz="3200" spc="-1" strike="noStrike">
                <a:solidFill>
                  <a:srgbClr val="ff0000"/>
                </a:solidFill>
                <a:latin typeface="Constantia"/>
              </a:rPr>
              <a:t>укреплению его здоровья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57200" y="856800"/>
            <a:ext cx="8229600" cy="54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ctr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Учеными установлено, что два урок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физической культуры в школе компенсируют всего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11 % необходимой двигательной активност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отребность в движениях у учащихся 7-10 лет должна составлять 4 ч в день, а в неделю —от 18 до 24 ч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Физкультурные минутк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еспечивают активный отдых учащихс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ереключают внимание с одного вида деятельности на другой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могают ликвидировать застойные явления в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рганах и системах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лучшают обменные процесс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пособствуют повышению внимания и активности детей на последующем этапе урок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Задачи физкульт. минуток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нять психическое напряжение у учащихся путем переключения  на другой вид деятельнос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обиться рекреативного эффекта от использования физических упражнени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озбудить у детей интерес к занятиям физическими упражнениям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формировать простейшие представления о влиянии физических упражнений на самочувствие и первоначальные знания по  самостоятельному выполнению физических упражнени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физкультминутки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Прямоугольник 3"/>
          <p:cNvSpPr/>
          <p:nvPr/>
        </p:nvSpPr>
        <p:spPr>
          <a:xfrm>
            <a:off x="558360" y="2643120"/>
            <a:ext cx="2242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не встав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со сту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4"/>
          <p:cNvSpPr/>
          <p:nvPr/>
        </p:nvSpPr>
        <p:spPr>
          <a:xfrm>
            <a:off x="3429000" y="2786040"/>
            <a:ext cx="228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вставая со стул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но, не отход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от сто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5"/>
          <p:cNvSpPr/>
          <p:nvPr/>
        </p:nvSpPr>
        <p:spPr>
          <a:xfrm>
            <a:off x="6111720" y="2786040"/>
            <a:ext cx="259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передвигаяс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по класс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8" name="Прямая со стрелкой 7"/>
          <p:cNvCxnSpPr/>
          <p:nvPr/>
        </p:nvCxnSpPr>
        <p:spPr>
          <a:xfrm flipH="1">
            <a:off x="1999440" y="1784880"/>
            <a:ext cx="2358360" cy="7866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09" name="Прямая со стрелкой 9"/>
          <p:cNvCxnSpPr/>
          <p:nvPr/>
        </p:nvCxnSpPr>
        <p:spPr>
          <a:xfrm flipH="1">
            <a:off x="4355280" y="1785960"/>
            <a:ext cx="2520" cy="10008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10" name="Прямая со стрелкой 11"/>
          <p:cNvCxnSpPr/>
          <p:nvPr/>
        </p:nvCxnSpPr>
        <p:spPr>
          <a:xfrm>
            <a:off x="4357800" y="1785960"/>
            <a:ext cx="2715120" cy="10008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0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Уроки русского языка и чтени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285480" y="1356840"/>
            <a:ext cx="3429000" cy="30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Буквой Л расставим ноги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Буквой Л расставим ноги, Словно в пляске — руки в боки. Наклонились влево, вправо, Влево, вправо... Получается на славу. Молодцы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лево - вправо, влево - вправо..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(Расставили ноги, руки на поясе; наклоны влево, вправо.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Прямоугольник 3"/>
          <p:cNvSpPr/>
          <p:nvPr/>
        </p:nvSpPr>
        <p:spPr>
          <a:xfrm>
            <a:off x="4572000" y="1214280"/>
            <a:ext cx="4572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Вновь у нас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ф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изкультмину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новь у нас физкультминут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Наклонились, ну-ка, ну-к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Распрямились, потянулис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А теперь назад прогнулис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(Наклоны вперёд и назад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Разминаем руки, плеч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Чтоб сидеть нам было легч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Чтоб писать, читать, счит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 совсем не устава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( </a:t>
            </a: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Рывки руками перед грудью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Голова устала тож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Так давайте ей поможе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право-влево, раз и д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Думай, думай, гол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(Вращение головой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Хоть зарядка корот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тдохнули мы слег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( дети садятся за парты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4"/>
          <p:cNvSpPr/>
          <p:nvPr/>
        </p:nvSpPr>
        <p:spPr>
          <a:xfrm>
            <a:off x="285840" y="4286160"/>
            <a:ext cx="4286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Большая бу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Если названные мною слова надо писать с большой буквы - поднимайте руки вверх, если с маленькой - приседайте: </a:t>
            </a: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Барсик, котёнок город, Воронеж, Никита, третьеклассник, река, Дон, Волга, собака, корова, Дружок, Зорька, воробей, ур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0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Уроки математик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99680" y="1143000"/>
            <a:ext cx="30718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Ну-ка проверь, дружок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у-ка проверь, дружок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Ты готов начать урок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се ль на месте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се ль в порядке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учка, книжка и тетрадка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(Учитель усаживает детей.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Беритесь, ребята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корей за работу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Учитесь считать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Чтоб не сбиться со счет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Прямоугольник 3"/>
          <p:cNvSpPr/>
          <p:nvPr/>
        </p:nvSpPr>
        <p:spPr>
          <a:xfrm>
            <a:off x="4071960" y="1643040"/>
            <a:ext cx="457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Мы семь раз в ладоши хлопн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Мы семь раз в ладоши хлопне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осемь раз ногами топн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ибавляем три к семи 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только мы присесть долж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(7хлопков, по 4раза топнуть каждой ногой, 10 приседаний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09:14:58Z</dcterms:created>
  <dc:creator>Наташа</dc:creator>
  <dc:description/>
  <dc:language>en-US</dc:language>
  <cp:lastModifiedBy>Admin</cp:lastModifiedBy>
  <dcterms:modified xsi:type="dcterms:W3CDTF">2013-08-06T07:52:59Z</dcterms:modified>
  <cp:revision>8</cp:revision>
  <dc:subject/>
  <dc:title>Слайд 1</dc:title>
</cp:coreProperties>
</file>