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3EF-E7A8-4380-811A-DB3F5224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0A0-ED7A-428C-AAB7-B3BC1BB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6CC-9B63-4ADD-AC22-7A61E96C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B38-1EAF-48E7-AC51-D6AF6E6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952-B38D-4DEB-A678-F43F7D0D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279E-B7B9-4997-9284-233D14A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5268-EED9-42B4-BD30-B86C8F76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E21-CAEC-47F0-B0B3-5F24ACD6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FA23-2CBD-4B5D-B74E-87D9D726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BAD-5344-4810-A546-8314EDF5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8820-E6E5-4BA3-A2EA-17F1FC01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0FC-197A-41C3-809C-1CF9BED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EA78-9258-44A9-A974-09090EC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2546-4750-468C-8D1A-439BEF7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992E-9CA5-4A43-8A22-6C7773B2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37A-D634-4B11-A307-F212D259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1583-F649-4F8C-801C-200E7353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D41B-54FF-43DA-9799-27405C43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574F-2300-4AB2-9670-06BD66B8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71E4-C928-4258-8E3E-FEB8C9D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B388-D5D5-4210-81C4-FCCE9E96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4D0A-77CE-4412-AEBE-3C456327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A3F-BE27-4F9E-8A9C-EBC4BEEC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84DD-B3FE-4AF4-8484-1C843C4D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A5B2-CCFE-415E-828A-A5444672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7DD2-B707-46A5-9A42-8B052F4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340D-7201-4712-A56D-A1D31068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8D60-7AE4-4B88-A1C7-CB7A7CF7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E979-5F7C-425C-97DD-1483F1C3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D2F9-054C-446B-8370-18EA3DE9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75F5-5871-4EEB-9A9A-544DABF3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88BB-B48D-4298-AC4E-C370455E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7570-8AB2-49C3-97E4-F76AFE82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42F-E01A-4EF0-90A0-4A909D8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4C32-D922-4DA6-9DAC-100754E2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FBA1-2619-4623-B63B-A0289480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A7E9-2888-4176-BC40-6C94F68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9206-9B57-479B-B62A-13934D2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0708-4BA7-4541-ABC7-0299FF7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6C9CC-BEAF-4CB6-8CC3-1DBDE20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56383-789F-4C13-B7CB-AC11A371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0359-D8A5-408D-A8EE-C0E88E18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B8EF-8CB3-430E-BA47-1279E2A4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16F-0E63-438A-8894-7D1012F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946-ACC5-46EA-AB7F-94546ABF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76D-24AD-4AA3-A047-C93B3DE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CD7-FBA1-4C07-BB37-4475D741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231-487A-4E18-BBE7-837FA555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EC13-9CAC-4624-B574-C146259CDE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E403-8618-4F9B-AF4B-A1AC53CB6F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0AF-9477-4076-AC38-7C9B2526895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D087-ECC7-4A09-AE5E-7274D5BF32A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sport046"/>
          <p:cNvPicPr/>
          <p:nvPr/>
        </p:nvPicPr>
        <p:blipFill>
          <a:blip r:embed="rId1"/>
          <a:stretch/>
        </p:blipFill>
        <p:spPr>
          <a:xfrm>
            <a:off x="5072040" y="3435480"/>
            <a:ext cx="3571920" cy="34225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835200"/>
            <a:ext cx="74980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окружающего ми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480" y="1428480"/>
            <a:ext cx="2614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Constantia"/>
              </a:rPr>
              <a:t>У оленя дом большо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У оленя дом большо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Руки через стороны вверх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Смотрит он в своё окошко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Руки на пояс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Зайка по лесу бежи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Прыжки на месте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Лапой в дверь стучит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«Стук, стук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Хлопки в ладош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Дверь открой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Там в лесу охотник злой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Топаем ногам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«Зайка, зайка, забегай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Лапу мне давай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Хлопки в ладош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928960" y="1428840"/>
            <a:ext cx="2928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тром встал гусак на ла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тром встал гусак на лапки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отянулись, руки вверх — вдох-выдох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готовился к зарядке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Рывки рук перед грудью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вернулся влево, вправо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овороты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седанье сделал спр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риседани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лювиком почистил пух, (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Наклоны головы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корей за парту - плю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рисел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5929200" y="1428840"/>
            <a:ext cx="3214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Хом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, хомка, хомячок,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лопки в ладош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Полосатенький бочок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Повороты туловища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 раненько встает,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Руки вверх — потянулись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Щечки моет, шейку трет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Массаж лиц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Подметает хомка хатку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Наклоны впере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И выходит на зарядку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одьба на мест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Раз, два, три, четыре, пять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Прыж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 хочет сильным стать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лопки в ладош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429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Спасибо за внимание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22"/>
            </a:gs>
            <a:gs pos="100000">
              <a:srgbClr val="fee7f2">
                <a:alpha val="28235"/>
              </a:srgbClr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рок - основная форма учебного труда школьников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 период обучения в школе каждый ученик проходит через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10 000 уро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004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авильно организованный учебно-воспитательный процесс способствует не только качественному овладению общеучебными умениями и навыками для школьника, но и благоприятному росту и развитию ученика,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укреплению его здоровь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еными установлено, что два уро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физической культуры в школе компенсируют всег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1 % необходимой двигательной актив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требность в движениях у учащихся 7-10 лет должна составлять 4 ч в день, а в неделю —от 18 до 24 ч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урные минут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вают активный отдых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ключают внимание с одного вида деятельности на друг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ают ликвидировать застойные явления в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ах и система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лучшают обменные процес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уют повышению внимания и активности детей на последующем этапе ур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чи физкульт. минуто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ять психическое напряжение у учащихся путем переключения  на другой вид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иться рекреативного эффекта от использования физических упражн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будить у детей интерес к занятиям физическими упражнен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ть простейшие представления о влиянии физических упражнений на самочувствие и первоначальные знания по  самостоятельному выполнению физических упражн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минутк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558360" y="2643120"/>
            <a:ext cx="224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е вста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со с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429000" y="278604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вставая со сту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, не отход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от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6111720" y="2786040"/>
            <a:ext cx="25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ередвигая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о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7"/>
          <p:cNvCxnSpPr/>
          <p:nvPr/>
        </p:nvCxnSpPr>
        <p:spPr>
          <a:xfrm flipH="1">
            <a:off x="1999440" y="1784880"/>
            <a:ext cx="235836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9"/>
          <p:cNvCxnSpPr/>
          <p:nvPr/>
        </p:nvCxnSpPr>
        <p:spPr>
          <a:xfrm flipH="1">
            <a:off x="4355280" y="1785960"/>
            <a:ext cx="2520" cy="1000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0" name="Прямая со стрелкой 11"/>
          <p:cNvCxnSpPr/>
          <p:nvPr/>
        </p:nvCxnSpPr>
        <p:spPr>
          <a:xfrm>
            <a:off x="4357800" y="1785960"/>
            <a:ext cx="2715120" cy="1000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русского языка и чт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85480" y="1356840"/>
            <a:ext cx="34290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уквой Л расставим ног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квой Л расставим ноги, Словно в пляске — руки в боки. Наклонились влево, вправо, Влево, вправо... Получается на славу. Молодц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лево - вправо, влево - вправо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Расставили ноги, руки на поясе; наклоны влево, вправо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572000" y="1214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новь у нас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новь у нас физкультмину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клонились, ну-ка, ну-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прямились, потяну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 теперь назад прогну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Наклоны вперёд и наз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минаем руки, пл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сидеть нам было лег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писать, читать, счи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совсем не уст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ывки руками перед грудью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лова устала т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к давайте ей помож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право-влево, раз и д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умай, думай, го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Вращение голово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оть зарядка коро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дохнули мы слег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 дети садятся за парты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285840" y="428616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ольш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сли названные мною слова надо писать с большой буквы - поднимайте руки вверх, если с маленькой - приседайте: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Барсик, котёнок город, Воронеж, Никита, третьеклассник, река, Дон, Волга, собака, корова, Дружок, Зорька, воробей,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матема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9680" y="1143000"/>
            <a:ext cx="3071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у-ка проверь, дружо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у-ка проверь, дружок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ы готов начать урок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ль на месте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ль в порядке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чка, книжка и тетрадка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Учитель усаживает детей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еритесь, ребят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орей за работ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сь считать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об не сбиться со сче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4071960" y="16430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ы семь раз в ладоши хлоп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семь раз в ладоши хлопн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емь раз ногами топ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бавляем три к семи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олько мы присесть долж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(7хлопков, по 4раза топнуть каждой ногой, 10 приседани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9:14:58Z</dcterms:created>
  <dc:creator>Наташа</dc:creator>
  <dc:description/>
  <dc:language>en-US</dc:language>
  <cp:lastModifiedBy>Admin</cp:lastModifiedBy>
  <dcterms:modified xsi:type="dcterms:W3CDTF">2013-08-06T07:52:59Z</dcterms:modified>
  <cp:revision>8</cp:revision>
  <dc:subject/>
  <dc:title>Слайд 1</dc:title>
</cp:coreProperties>
</file>