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495-DACF-431B-998D-191C2DEC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000-9468-4667-8CB3-942CD7BB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7B9-F50A-463D-8EC6-CC5773C7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492-D6ED-4EE5-9604-D40BCB22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549-1636-4F23-BD75-7A7C5399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0639-C614-4A9B-B74D-80EFDBD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1FB-AB2C-4552-AAAE-B8DC53D8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3733-5F35-4CD8-9673-D78BB84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202-038B-46EB-984E-D29EA08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C2FA-5BE8-4514-9C99-2CC84376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7E14-D57F-49D4-A2E6-E8B1CE2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9DB-C355-4E20-B38F-B28BDB3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5400-7F33-4A58-AE67-92CF49D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6F3-302F-4302-A3EC-E976BE6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5CC4-F246-489A-9871-DC5DE63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848-8AE1-4EBC-8E3A-921AA42C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49E4-DB9C-4B81-99A3-35816537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D67D-8D9D-427D-9DEB-53E3D91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9DCD-4026-4CE1-B19C-93A02CC6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EF76-842E-433B-96B1-041326F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1C82-521F-4D29-BB08-C9BD1F43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2247-B783-4C70-8E80-12CA7BB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157-68E6-43DC-87B7-AEC4F53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9463-CA89-4F46-94A8-32C47B3E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8941-3E1B-4662-8737-BB87149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B30B-5741-441A-9263-5095B83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5186-1F8B-4A82-8EAF-050BC29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BE03-C638-496B-8BE8-7455628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ED1B-C0A6-4747-96A4-940B042C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D890-052A-41E6-BF90-1C2C5C82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9763-E4BF-49B3-B217-15B7D45E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70FB-2272-4C3C-BD1A-D3408F45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8391-4847-461A-AD90-64B6A79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49A-8244-4A4D-9BD1-CE816DCE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5425-87BE-4061-96AC-0332E60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0E56-CD17-4173-B94F-FC527D79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5692-4D08-4E7D-B436-A3F4A8C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2E9F-AAF4-41BE-AE00-5A4123E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D9DD-134A-4449-A468-897E3C62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8FC6D-2E0A-40C1-BD9A-EEE7F53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2B12-670C-4B43-A1CF-3A79278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B351-BD74-4A31-9C21-A33E4C52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46B3-6A43-425F-AABA-3CDAA3BD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AE0-8F42-4190-BBF5-B479FB67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58E-1EC4-4382-910C-3BEB840F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C5F-1F46-467B-988A-744997E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2D4-8B10-40B9-823D-429F26A5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2EF-5301-424E-9A1F-6EEBB30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E96-F012-4D8C-B4D1-F01FB56920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8CF2-F0DA-4BBB-A980-65D5958BB7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6D6-248D-43F7-9F3D-283CE76A39E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310A-A733-4173-8DFC-37F8163EF13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sport046"/>
          <p:cNvPicPr/>
          <p:nvPr/>
        </p:nvPicPr>
        <p:blipFill>
          <a:blip r:embed="rId1"/>
          <a:stretch/>
        </p:blipFill>
        <p:spPr>
          <a:xfrm>
            <a:off x="5072040" y="3435480"/>
            <a:ext cx="3571920" cy="34225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835200"/>
            <a:ext cx="7498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окружающего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480" y="1428480"/>
            <a:ext cx="261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через стороны вверх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Смотрит он в своё окошко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на пояс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Зайка по лесу бежи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Прыжки на месте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ой в дверь стучи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Стук, стук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Дверь откро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Там в лесу охотник злой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Топаем ногам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Зайка, зайка, забега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у мне давай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928960" y="1428840"/>
            <a:ext cx="2928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тянулись, руки вверх — вдох-выдо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готовился к зарядке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ывки рук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вернулся влево, вправо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ворот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седанье сделал спр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дани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лювиком почистил пух, (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аклоны голов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корей за парту - плю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л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929200" y="1428840"/>
            <a:ext cx="321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Хом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, хомка, хомячок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лосатенький бочок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овороты туловища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раненько встает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Руки вверх — потянулис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Щечки моет, шейку трет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Массаж лиц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дметает хомка хатку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Наклоны впере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И выходит на зарядку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Раз, два, три, четыре, пя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рыж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хочет сильным ста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429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Спасибо за внимание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22"/>
            </a:gs>
            <a:gs pos="100000">
              <a:srgbClr val="fee7f2">
                <a:alpha val="28235"/>
              </a:srgbClr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рок - основная форма учебного труда школьников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 период обучения в школе каждый ученик проходит через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10 000 уро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004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авильно организованный учебно-воспитательный процесс способствует не только качественному овладению общеучебными умениями и навыками для школьника, но и благоприятному росту и развитию ученика,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укреплению его здоровь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еными установлено, что два уро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изической культуры в школе компенсируют всег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1 % необходимой двигательной актив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требность в движениях у учащихся 7-10 лет должна составлять 4 ч в день, а в неделю —от 18 до 24 ч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урные минут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вают активный отдых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ючают внимание с одного вида деятельности на друг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ют ликвидировать застойные явления в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ах и систем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ают обменные процес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ют повышению внимания и активности детей на последующем этапе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чи физкульт. минуто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ь психическое напряжение у учащихся путем переключения  на другой вид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иться рекреативного эффекта от использования физических упражн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будить у детей интерес к занятиям физическими упражнен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простейшие представления о влиянии физических упражнений на самочувствие и первоначальные знания по  самостоятельному выполнению физических упражн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558360" y="2643120"/>
            <a:ext cx="22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вста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со с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429000" y="278604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ставая со ст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, не отход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т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6111720" y="278604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редвиг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о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7"/>
          <p:cNvCxnSpPr/>
          <p:nvPr/>
        </p:nvCxnSpPr>
        <p:spPr>
          <a:xfrm flipH="1">
            <a:off x="1999440" y="1784880"/>
            <a:ext cx="235836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9"/>
          <p:cNvCxnSpPr/>
          <p:nvPr/>
        </p:nvCxnSpPr>
        <p:spPr>
          <a:xfrm flipH="1">
            <a:off x="4355280" y="1785960"/>
            <a:ext cx="25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1"/>
          <p:cNvCxnSpPr/>
          <p:nvPr/>
        </p:nvCxnSpPr>
        <p:spPr>
          <a:xfrm>
            <a:off x="4357800" y="1785960"/>
            <a:ext cx="27151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русского языка и чт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5480" y="1356840"/>
            <a:ext cx="34290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, Словно в пляске — руки в боки. Наклонились влево, вправо, Влево, вправо... Получается на славу. Молодц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лево - вправо, влево - вправо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асставили ноги, руки на поясе; наклоны влево, вправо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572000" y="121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новь у нас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овь у нас физкультмину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клонились, ну-ка, ну-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прямились, потяну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теперь назад прогну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Наклоны вперёд и наз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минаем руки, пл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сидеть нам было лег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писать, читать, с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совсем не уст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ывки руками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лова устала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 давайте ей помож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раво-влево, раз и 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май, думай, го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Вращение голово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оть зарядка коро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дохнули мы слег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 дети садятся за парт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285840" y="428616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ольш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сли названные мною слова надо писать с большой буквы - поднимайте руки вверх, если с маленькой - приседайте: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Барсик, котёнок город, Воронеж, Никита, третьеклассник, река, Дон, Волга, собака, корова, Дружок, Зорька, воробей,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матема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9680" y="1143000"/>
            <a:ext cx="3071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ы готов начать урок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на мест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в порядк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чка, книжка и тетрад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Учитель усаживает детей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еритесь, ребят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рей за рабо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сь считать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б не сбиться со сч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4071960" y="16430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емь раз ногами топ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бавляем три к семи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олько мы присесть дол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(7хлопков, по 4раза топнуть каждой ногой, 10 приседан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9:14:58Z</dcterms:created>
  <dc:creator>Наташа</dc:creator>
  <dc:description/>
  <dc:language>en-US</dc:language>
  <cp:lastModifiedBy>Admin</cp:lastModifiedBy>
  <dcterms:modified xsi:type="dcterms:W3CDTF">2013-08-06T07:52:59Z</dcterms:modified>
  <cp:revision>8</cp:revision>
  <dc:subject/>
  <dc:title>Слайд 1</dc:title>
</cp:coreProperties>
</file>