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36B-4A5C-41BC-8652-59AFD8DB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F3F-9513-4FBC-875C-172FB812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A6F-E501-466F-AD92-1B1B1918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340-FC36-4D6A-A82F-84404B2C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BAA-9CAF-48AD-B035-162C70E5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E9F-FB35-4EB6-ADEF-BBD944EE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364-4CE3-4B51-AC7B-D3F6A7FD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197-477F-4428-A6C1-C9918660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B3C-AF49-40B7-AF16-B6392716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09B-CDF6-4E02-B082-2426EE22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C05-35F6-4A42-B767-CCD6F324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C18A-44A5-415B-AA91-CF9F4716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610A-7577-40D3-8805-B6080B0862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0;&#1086;&#1085;&#1089;&#1087;&#1077;&#1082;&#1090;%20&#1091;&#1088;&#1086;&#1082;&#1072;.docx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2;&#1077;&#1090;&#1086;&#1076;&#1080;&#1082;&#1072;%20&#1064;&#1072;&#1076;&#1088;&#1080;&#1082;&#1086;&#1074;&#1072;_20.10.doc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69;&#1082;&#1089;&#1087;&#1077;&#1088;&#1090;&#1085;&#1086;&#1077;%20&#1079;&#1072;&#1082;&#1083;&#1102;&#1095;&#1077;&#1085;&#1080;&#1077;.doc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8001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У «Институт развития образования Ивановской обла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7858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Экспертная оценк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конспекта урока по методике В.Д. Шадрик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ы кафед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ых дисципл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илян Н.Р., Аверьянова И.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6439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Первый вариант.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Подготовка конспекта урока как форма квалификационного испытания с целью подтверждения соответствия занимаемой должности учителя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2920" y="1600200"/>
            <a:ext cx="8786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53735"/>
                </a:solidFill>
                <a:latin typeface="Calibri"/>
              </a:rPr>
              <a:t>Цель: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ценка уровня сформированности профессиональных педагогических компетенций, на основе которой выносится суждение о соответствии педагога занимаемой долж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53735"/>
                </a:solidFill>
                <a:latin typeface="Calibri"/>
              </a:rPr>
              <a:t>Задача педагога в ходе написания конспекта уро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демонстрировать владение материалом по преподаваемому предмету и достаточный уровень сформированности педагогических компетенций, позволяющих ему эффективно решать педагогические задачи при реализации учебной программ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бщие требования к написанию конспек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135684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Педагогу заранее предлагается определить учебный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предмет и программ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рамках которой будет выполняться письменная раб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При проведении письменного квалификационного испытания  педагогу предлагается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инструкц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одержащая цель работы, тему урока, по которой должен быть составлен конспект,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критерии оцен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В случае необходимости, педагог имеет право исключить ряд тем, представленных в программе, и по субъективным причинам для него не желательных (не более пят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Время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едоставляемое аттестуемому педагогу на написание конспекта урока, составляет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1,5 – 2 ча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бщие требования к написанию 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онспек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2560" y="1500120"/>
            <a:ext cx="9001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Конспект урока должен быть связан с освоением </a:t>
            </a:r>
            <a:r>
              <a:rPr b="1" lang="ru-RU" sz="2400" spc="-1" strike="noStrike">
                <a:solidFill>
                  <a:srgbClr val="953735"/>
                </a:solidFill>
                <a:latin typeface="TimesNewRoman"/>
              </a:rPr>
              <a:t>новой темы  </a:t>
            </a:r>
            <a:r>
              <a:rPr b="1" lang="ru-RU" sz="2400" spc="-1" strike="noStrike">
                <a:solidFill>
                  <a:srgbClr val="953735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953735"/>
                </a:solidFill>
                <a:latin typeface="TimesNewRoman"/>
              </a:rPr>
              <a:t>нового учебного материала</a:t>
            </a:r>
            <a:r>
              <a:rPr b="1" lang="ru-RU" sz="2400" spc="-1" strike="noStrike">
                <a:solidFill>
                  <a:srgbClr val="953735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Конспект предполагает </a:t>
            </a:r>
            <a:r>
              <a:rPr b="1" lang="ru-RU" sz="2400" spc="-1" strike="noStrike">
                <a:solidFill>
                  <a:srgbClr val="953735"/>
                </a:solidFill>
                <a:latin typeface="TimesNewRoman"/>
              </a:rPr>
              <a:t>отражение основных этапов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ур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организационный моме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опрос учащихся по заданному на дом матери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объяснение нового матери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закрепление учебного матери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задание на д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При написании конспекта педагог может пропустить отдельные этапы или изменить структуру урока в соответствии со своим индивидуальным видением его постро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2400" spc="-1" strike="noStrike">
                <a:solidFill>
                  <a:srgbClr val="953735"/>
                </a:solidFill>
                <a:latin typeface="TimesNewRoman"/>
              </a:rPr>
              <a:t>Педагогу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 должны быть заранее </a:t>
            </a:r>
            <a:r>
              <a:rPr b="1" lang="ru-RU" sz="2400" spc="-1" strike="noStrike">
                <a:solidFill>
                  <a:srgbClr val="953735"/>
                </a:solidFill>
                <a:latin typeface="TimesNewRoman"/>
              </a:rPr>
              <a:t>известны критер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по которым будет оцениваться его раб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бработка результатов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928440"/>
            <a:ext cx="83296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alibri"/>
              </a:rPr>
              <a:t>Оценка выполненной письменной работы производится по двум основным показателя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ровень владения учебным материалом: насколько глубоко и полно раскрыта заданная тема уро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ровень развития базовых педагогических компетенций. </a:t>
            </a: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Оценка уровня квалификаци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одится </a:t>
            </a: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на основе следующих компетенций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агогической деятельности (подробное описание профессиональных компетенций педагогической деятельности представлено в приложении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тность в области постановки целей и задач педагогической деятель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тность в области мотивации учебной деятель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тность в области информационной основой педагог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тность в области разработки программ и принятия педагогических реше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тность в области организации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010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ценка и интерпретация полученных результатов</a:t>
            </a:r>
            <a:br>
              <a:rPr sz="4000"/>
            </a:b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Конспект урока оценивается экспертом по системе </a:t>
            </a:r>
            <a:r>
              <a:rPr b="0" i="1" lang="ru-RU" sz="2400" spc="-1" strike="noStrike">
                <a:solidFill>
                  <a:srgbClr val="953735"/>
                </a:solidFill>
                <a:latin typeface="Calibri"/>
              </a:rPr>
              <a:t>«да/нет»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400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«Да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– соответствие занимаемой должности: педагог продемонстрировал владение основным содержанием предмета и владение базовыми педагогическими компетенциями (умение ставить цели и задачи и эффективно организовать учебную и педагогическую деятельность, направленную на их достижени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«Нет»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 не соответствие занимаемой должности: учитель не продемонстрировал знания учебного предмета, не владеет базовыми педагогическими компетенци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воей деятельности эксперт пользуется критериями, представленными в 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аблице 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зможна ситуация, когда аттестуемый учитель будет </a:t>
            </a: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частичн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ответствовать занимаемой должности. В этом случае на основе анализа результатов выполненной письменной работы будут разработаны предложения по индивидуальной программе повышения квалификации, направленной на развитие наиболее слабо представленных педагогических компетенц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5712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ценка письменной работы эксперт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2920" y="714240"/>
          <a:ext cx="8858160" cy="5918400"/>
        </p:xfrm>
        <a:graphic>
          <a:graphicData uri="http://schemas.openxmlformats.org/drawingml/2006/table">
            <a:tbl>
              <a:tblPr/>
              <a:tblGrid>
                <a:gridCol w="1356840"/>
                <a:gridCol w="216000"/>
                <a:gridCol w="1642680"/>
                <a:gridCol w="1398240"/>
                <a:gridCol w="1244160"/>
                <a:gridCol w="1142640"/>
                <a:gridCol w="1642680"/>
                <a:gridCol w="2160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етенции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БПК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ы уро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области постановки целей и задач  пед.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области мотивации учеб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области обеспечения информационной основ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области разработки программ деятельности и принятия педагогических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области организационной учеб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онный мо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ос учащихся по  заданному на дом материа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ение нового учебн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репление учебн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на 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оце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е значение по оценкам базовых педагогических компетен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бработка результат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6760" y="571680"/>
            <a:ext cx="86439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вый показатель может варьироваться в пределах от 0 до 5 баллов. Он интерпретируе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От 2 до 5 балл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соответствие занимаемой должности: педагог продемонстрировал владение основным содержанием предмета и владение базовыми педагогическими компетенц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От 0 до 2 балл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несоответствие занимаемой должности: учитель не продемонстрировал знания учебного предмета, недостаточно владеет базовыми педагогическими компетенц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ми являются оценки, отражающие уровень развития базовых педагогических компетенций. На их основе подсчит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тоговый балл, представляющий собой среднее значение по оценкам базовых педагогических компетен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Экспертное заклю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9:45:42Z</dcterms:created>
  <dc:creator>k201-21</dc:creator>
  <dc:description/>
  <dc:language>en-US</dc:language>
  <cp:lastModifiedBy>k305-36</cp:lastModifiedBy>
  <dcterms:modified xsi:type="dcterms:W3CDTF">2011-04-26T11:52:38Z</dcterms:modified>
  <cp:revision>67</cp:revision>
  <dc:subject/>
  <dc:title>Экспертная оценка конспекта урока</dc:title>
</cp:coreProperties>
</file>