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84B-1620-4FCB-9780-DFA89500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598-67A2-4306-89C2-1FEC7ADA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0C9-4D7C-4E40-86DE-8D9EAD36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E32-F3E0-4A9E-857A-1F64295A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8F0-FD5C-4C56-8810-8F795316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952-FBD2-422D-B5BA-D6381247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967-3796-4B2E-8CF0-FD834D6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485-C3F5-4701-89C2-64974589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369-37BC-41EA-83E0-B9F50E5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C5C-91B9-4ABE-B4AB-9C7BE00D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A75-0464-45B2-A161-DE0A3B9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A8F-23BC-4C29-83EC-DDACA41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4D23-BFAF-4792-A701-577EAFA2B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89;&#1087;&#1077;&#1082;&#1090;%20&#1091;&#1088;&#1086;&#1082;&#1072;.docx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80;&#1082;&#1072;%20&#1064;&#1072;&#1076;&#1088;&#1080;&#1082;&#1086;&#1074;&#1072;_20.10.do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9;&#1082;&#1089;&#1087;&#1077;&#1088;&#1090;&#1085;&#1086;&#1077;%20&#1079;&#1072;&#1082;&#1083;&#1102;&#1095;&#1077;&#1085;&#1080;&#1077;.doc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 «Институт развития образования Ивановской обла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7858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Экспертная оцен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онспекта урока по методике В.Д. Шадри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ы кафед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дисцип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илян Н.Р., Аверьянова И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6439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Первый вариант.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одготовка конспекта урока как форма квалификационного испытания с целью подтверждения соответствия занимаемой должности учител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53735"/>
                </a:solidFill>
                <a:latin typeface="Calibri"/>
              </a:rPr>
              <a:t>Цель: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ка уровня сформированности профессиональных педагогических компетенций, на основе которой выносится суждение о соответствии педагога занимаемой долж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53735"/>
                </a:solidFill>
                <a:latin typeface="Calibri"/>
              </a:rPr>
              <a:t>Задача педагога в ходе написания конспекта уро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емонстрировать владение материалом по преподаваемому предмету и достаточный уровень сформированности педагогических компетенций, позволяющих ему эффективно решать педагогические задачи при реализации учебной програм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щие требования к написанию консп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35684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едагогу заранее предлагается определить учебный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редмет и программ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рамках которой будет выполняться письменн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ри проведении письменного квалификационного испытания  педагогу предлагается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инструк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держащая цель работы, тему урока, по которой должен быть составлен конспект,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критерии оцен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 случае необходимости, педагог имеет право исключить ряд тем, представленных в программе, и по субъективным причинам для него не желательных (не более пят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Время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оставляемое аттестуемому педагогу на написание конспекта урока, составляет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1,5 – 2 ча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щие требования к написанию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онсп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50012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Конспект урока должен быть связан с освоением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новой темы  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нового учебного материала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Конспект предполагает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отражение основных этапов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рганизационный мо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прос учащихся по заданному на дом матери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бъяснение нового 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закрепление учебного 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задание на д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При написании конспекта педагог может пропустить отдельные этапы или изменить структуру урока в соответствии со своим индивидуальным видением его постро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Педагогу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должны быть заранее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известны крите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по которым будет оцениваться его ра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работка результатов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928440"/>
            <a:ext cx="83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Оценка выполненной письменной работы производится по двум основным показателя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вень владения учебным материалом: насколько глубоко и полно раскрыта заданная тема уро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вень развития базовых педагогических компетенций.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Оценка уровня квалификаци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ся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на основе следующих компетенци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ой деятельности (подробное описание профессиональных компетенций педагогической деятельности представлено в приложени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постановки целей и задач педагогическ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мотивации учебн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информационной основой педагог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разработки программ и принятия педагогических реш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организации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010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ценка и интерпретация полученных результатов</a:t>
            </a:r>
            <a:br>
              <a:rPr sz="4000"/>
            </a:b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Конспект урока оценивается экспертом по системе </a:t>
            </a: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«да/нет»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«Да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– соответствие занимаемой должности: педагог продемонстрировал владение основным содержанием предмета и владение базовыми педагогическими компетенциями (умение ставить цели и задачи и эффективно организовать учебную и педагогическую деятельность, направленную на их достижени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«Нет»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 не соответствие занимаемой должности: учитель не продемонстрировал знания учебного предмета, не владеет базовыми педагогическими компетенц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воей деятельности эксперт пользуется критериями, представленными в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аблице 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можна ситуация, когда аттестуемый учитель будет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частич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овать занимаемой должности. В этом случае на основе анализа результатов выполненной письменной работы будут разработаны предложения по индивидуальной программе повышения квалификации, направленной на развитие наиболее слабо представленных педагогических компетен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5712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ценка письменной работы экспер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2920" y="714240"/>
          <a:ext cx="8858160" cy="5918400"/>
        </p:xfrm>
        <a:graphic>
          <a:graphicData uri="http://schemas.openxmlformats.org/drawingml/2006/table">
            <a:tbl>
              <a:tblPr/>
              <a:tblGrid>
                <a:gridCol w="1356840"/>
                <a:gridCol w="216000"/>
                <a:gridCol w="1642680"/>
                <a:gridCol w="1398240"/>
                <a:gridCol w="1244160"/>
                <a:gridCol w="1142640"/>
                <a:gridCol w="1642680"/>
                <a:gridCol w="216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етенции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БП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ы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постановки целей и задач  пед.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мотивации учеб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обеспечения информационной основ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разработки программ деятельности и принятия педагогических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организационной учеб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ос учащихся по  заданному на дом матери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нового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епление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на 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оце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значение по оценкам базовых педагогических компетен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работка результа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6760" y="57168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вый показатель может варьироваться в пределах от 0 до 5 баллов. Он интерпретируе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т 2 до 5 балл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оответствие занимаемой должности: педагог продемонстрировал владение основным содержанием предмета и владение базовыми педагогическими компетен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т 0 до 2 балл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соответствие занимаемой должности: учитель не продемонстрировал знания учебного предмета, недостаточно владеет базовыми педагогическими компетен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ми являются оценки, отражающие уровень развития базовых педагогических компетенций. На их основе подсчит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тоговый балл, представляющий собой среднее значение по оценкам базовых педагогических компетен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Экспертное 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9:45:42Z</dcterms:created>
  <dc:creator>k201-21</dc:creator>
  <dc:description/>
  <dc:language>en-US</dc:language>
  <cp:lastModifiedBy>k305-36</cp:lastModifiedBy>
  <dcterms:modified xsi:type="dcterms:W3CDTF">2011-04-26T11:52:38Z</dcterms:modified>
  <cp:revision>67</cp:revision>
  <dc:subject/>
  <dc:title>Экспертная оценка конспекта урока</dc:title>
</cp:coreProperties>
</file>