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gif" ContentType="image/gif"/>
  <Override PartName="/ppt/media/image20.png" ContentType="image/png"/>
  <Override PartName="/ppt/media/image36.jpeg" ContentType="image/jpeg"/>
  <Override PartName="/ppt/media/image19.gif" ContentType="image/gif"/>
  <Override PartName="/ppt/media/image41.jpeg" ContentType="image/jpeg"/>
  <Override PartName="/ppt/media/image18.jpeg" ContentType="image/jpeg"/>
  <Override PartName="/ppt/media/image15.png" ContentType="image/png"/>
  <Override PartName="/ppt/media/image59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21.png" ContentType="image/png"/>
  <Override PartName="/ppt/media/image16.gif" ContentType="image/gif"/>
  <Override PartName="/ppt/media/image12.wmf" ContentType="image/x-wmf"/>
  <Override PartName="/ppt/media/image14.gif" ContentType="image/gif"/>
  <Override PartName="/ppt/media/image31.jpeg" ContentType="image/jpeg"/>
  <Override PartName="/ppt/media/image2.png" ContentType="image/png"/>
  <Override PartName="/ppt/media/image32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7.gif" ContentType="image/gif"/>
  <Override PartName="/ppt/media/image52.jpeg" ContentType="image/jpeg"/>
  <Override PartName="/ppt/media/image28.gif" ContentType="image/gif"/>
  <Override PartName="/ppt/media/image8.png" ContentType="image/png"/>
  <Override PartName="/ppt/media/image39.jpeg" ContentType="image/jpeg"/>
  <Override PartName="/ppt/media/image37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57.gif" ContentType="image/gif"/>
  <Override PartName="/ppt/media/image58.jpeg" ContentType="image/jpeg"/>
  <Override PartName="/ppt/media/image35.jpeg" ContentType="image/jpeg"/>
  <Override PartName="/ppt/media/image25.gif" ContentType="image/gif"/>
  <Override PartName="/ppt/media/image34.jpeg" ContentType="image/jpeg"/>
  <Override PartName="/ppt/media/image11.wmf" ContentType="image/x-wmf"/>
  <Override PartName="/ppt/media/image55.jpeg" ContentType="image/jpeg"/>
  <Override PartName="/ppt/media/image30.gif" ContentType="image/gif"/>
  <Override PartName="/ppt/media/image3.png" ContentType="image/png"/>
  <Override PartName="/ppt/media/image56.jpeg" ContentType="image/jpeg"/>
  <Override PartName="/ppt/media/image5.png" ContentType="image/png"/>
  <Override PartName="/ppt/media/image43.jpeg" ContentType="image/jpeg"/>
  <Override PartName="/ppt/media/image10.gif" ContentType="image/gif"/>
  <Override PartName="/ppt/media/image53.jpeg" ContentType="image/jpe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FF0-730F-4A5A-BCEF-F45EDFCB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CC4-B033-4932-B9BB-26A7D6C7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A72-BA50-4358-889A-43BE77FF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C53-8DFD-4B23-946D-B25FEB3C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0C7-6D8C-480C-9311-6F85A24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095-1138-44EA-8D5C-04871058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5B8-17B5-4CFB-8C72-3F9C8910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217-6354-450A-8BC6-88D1F7F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851-96B3-4CD8-B92F-BAED48E0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EE3-B4E4-417E-B496-B641E59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F93-ED35-4184-B60C-08B5A7F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5C1-5EB3-472B-A61D-03BEC36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13E-7E80-4C26-80A9-0268EA223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" Target="slide11.xml"/><Relationship Id="rId9" Type="http://schemas.openxmlformats.org/officeDocument/2006/relationships/image" Target="../media/image17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7.gi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image" Target="../media/image24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16.gi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8.jpeg"/><Relationship Id="rId7" Type="http://schemas.openxmlformats.org/officeDocument/2006/relationships/image" Target="../media/image7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404640"/>
            <a:ext cx="7632720" cy="388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й построи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7280" y="314172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4653000"/>
            <a:ext cx="49622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ный час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ентябр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2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то много чит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Ученье – св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расна птица п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Чтен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рамоте учиться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3280" y="1341360"/>
            <a:ext cx="414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тот много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а неученье –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а человек 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т лучшее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сегда пригод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34936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МУДР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2843280" y="692280"/>
            <a:ext cx="2016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05000"/>
            <a:ext cx="223200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05360"/>
            <a:ext cx="223236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640" y="1484280"/>
            <a:ext cx="1944720" cy="6494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4720" y="4581000"/>
            <a:ext cx="2663640" cy="15116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3789360"/>
            <a:ext cx="2879640" cy="719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3280" y="1196640"/>
            <a:ext cx="2592720" cy="158436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997360"/>
            <a:ext cx="1656000" cy="2808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76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149720"/>
            <a:ext cx="3240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508360" y="3284640"/>
            <a:ext cx="2087640" cy="5032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492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Г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340000" y="260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17080" y="162864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вода стоит столб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24000" y="2276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17440" y="2276640"/>
            <a:ext cx="56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уки бывают местоим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15640" y="3789360"/>
            <a:ext cx="61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случается с вороной через 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50920" y="4508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14920" y="458136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ывают реки без воды, города без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0920" y="5229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7640" y="530064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чего нельзя испечь хле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16560" y="1695600"/>
            <a:ext cx="1409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стак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4200" y="2708280"/>
            <a:ext cx="1503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-мы-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7600" y="4221000"/>
            <a:ext cx="21574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дёт пят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4941720"/>
            <a:ext cx="12690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5445000"/>
            <a:ext cx="1425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з к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250920" y="2924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314172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акому городу течёт кров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720" y="3284640"/>
            <a:ext cx="1211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250920" y="59500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3840" y="6021360"/>
            <a:ext cx="46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чему часто ходят и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 не ез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3280" y="6461280"/>
            <a:ext cx="1768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лест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476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05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flipH="1" rot="10800000">
            <a:off x="0" y="162828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916280"/>
            <a:ext cx="60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только с пар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только с парохо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надцать недель гостили на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сколько это д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итай-ка побыст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508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236000" y="2565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7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80360" y="458136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708280"/>
            <a:ext cx="273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3 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 100 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16360" y="2708280"/>
            <a:ext cx="30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1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100 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00360" y="1700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НАХОДЧИВ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ЧУВСТВО ЮМ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2130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ХОЗЯЙСТВ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ТРУДОЛЮБ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0" y="5365800"/>
            <a:ext cx="154764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95640" y="2421000"/>
            <a:ext cx="6696000" cy="417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жите руки на ко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ведущий скажет «Поехали…», все похлопывают себя по кол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ведущий называет какой-то предмет вокруг вас, дотрагиваетесь до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24000" y="260280"/>
            <a:ext cx="683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"Поехал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слови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6093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3525840"/>
            <a:ext cx="2519280" cy="2414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2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0920" y="18900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flipH="1" rot="10800000">
            <a:off x="0" y="111240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86920" y="155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может парить в воздух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88000" y="227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самый сердит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8840" y="285264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Европы стоит на самом мягк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16000" y="364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ая птица, потеряв одну букву, станет самой большой в Европе ре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5092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16000" y="4581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вание какого города состоит из птицы и живот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50920" y="5589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5445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какими двумя одинаковыми буквами нужно поставить маленькую лошадь, чтобы получить название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155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21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7800" y="3213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ариж на С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6520" y="40766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волга - 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720" y="4941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рон -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6200" y="6400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Я – пони -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723600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7093080" y="0"/>
            <a:ext cx="1908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18900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593720" cy="23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27280" y="4259160"/>
            <a:ext cx="3457440" cy="2598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х зверей называют так: косой, сохатый, косолапый, серый, рыж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565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у кузнечика у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30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зверь самый чистоплот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160" y="386064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божью коровку птицы не клю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йца, лося, медведя, волка, л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4520" y="2637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н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880" y="3284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арс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7336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на выделяет едкую жидкость. Раз попробовав, птица запоминает яркого ж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85080" y="616572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3240" y="4941720"/>
            <a:ext cx="52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СМЕКА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6491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рестьянский дом в украинской или белорусской дерев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ак называется ДОМ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1125360"/>
            <a:ext cx="14396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773360"/>
            <a:ext cx="55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двигающееся жилище у цыг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773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иб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349360"/>
            <a:ext cx="561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Хижина из ветвей, кож, коры у индейцев Северной Америки, о которой упоминает Шарик в мультфильме «Зима в Простокваши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59640" y="270828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г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386064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чевой шалаш у киргизского народа, а также у народов Азии и Южной Сиби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3789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ю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869000"/>
            <a:ext cx="56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ворец, жилище, крепость феодала, рыц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5013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602136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тройка из жердей, покрытых ветками, соломой, трав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6021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ал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4875120" cy="3640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76760" cy="420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90640" y="2060640"/>
            <a:ext cx="401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40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ДРУЖ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4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ПО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ЗАИМОПОМОЩ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357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ЛЮБОВ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ши учителя-предме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424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сский язык,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тематика каб. № 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тория каб. № 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род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0" y="549360"/>
            <a:ext cx="4572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Рыбкина Наталия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Ярлыкова Татьяна Людви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елезенева Валент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арфёнова Анна Семё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Девочки  - Васильева Ольга Ивановна (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альчики – Дьячков Анатолий Иванович (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99120" y="0"/>
            <a:ext cx="2144880" cy="3213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872320" y="836640"/>
            <a:ext cx="2739960" cy="4105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32440" y="1484280"/>
            <a:ext cx="2685960" cy="4032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2554200" y="1628640"/>
            <a:ext cx="2786040" cy="4176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3004920" cy="4508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408720" y="2754360"/>
            <a:ext cx="2735280" cy="410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465280"/>
            <a:ext cx="3546360" cy="439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56000" y="2492280"/>
            <a:ext cx="5976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325080" y="4264200"/>
            <a:ext cx="5940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9653E-006 L -0.66354 -0.00647 E"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ши учителя-предме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424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з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глий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1640" y="549000"/>
            <a:ext cx="4321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рхипова Галина Васильевна (3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вакимян Галина Суреновна (2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Барченкова Ирина Павловна (3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ушной Виктор Олегович (спортз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 группа - Зиборова Александра Леонидовна (3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 группа – Лейко Елена Викторовна (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48200" y="0"/>
            <a:ext cx="3295800" cy="4941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00120" y="476280"/>
            <a:ext cx="3265560" cy="489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5545440" cy="3181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689280" y="333360"/>
            <a:ext cx="3855960" cy="532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427640" y="1557360"/>
            <a:ext cx="3317760" cy="482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2322360"/>
            <a:ext cx="3837240" cy="453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ПИСАНИ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67680" y="6372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ОБЯЗАТЕЛЬ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flipV="1">
            <a:off x="250920" y="404280"/>
            <a:ext cx="3673440" cy="15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404640"/>
            <a:ext cx="360036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2060640"/>
          <a:ext cx="8785440" cy="46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У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К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УЖ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УВСТВО ЮМ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ЯЗА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РУДОЛЮ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4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354672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00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 rot="21162000">
            <a:off x="3995280" y="2923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127584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тром рано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Хорошенько умывай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ы в школе не зе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осом в парту не кле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Schbook Win95BT"/>
              </a:rPr>
              <a:t>Одевайся аккуратно,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entSchbook Win95BT"/>
              </a:rPr>
              <a:t>Чтоб смотреть было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0" y="4456080"/>
            <a:ext cx="3600360" cy="24019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7020000" y="1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904000" y="3753000"/>
            <a:ext cx="3240000" cy="3105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55840" y="13644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каз старших товарищ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2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4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06436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а уроках не хихик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Стол туда – сюда не дви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тель спросит- надо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Когда он сесть позволит –ся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Ответить хочешь – не шу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А только руку под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Сначала подум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Потом отве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е дразнись, не зазнавайся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В школе всем помочь стара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entSchbook Win95BT"/>
              </a:rPr>
              <a:t>Зря не хмурься, будь с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entSchbook Win95BT"/>
              </a:rPr>
              <a:t>И найдешь себе друз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Все о школе расскажи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Честью школы дор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сь писать, читать, 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 получать отметку «ПЯ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1403280" cy="2806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43120" y="5722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9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4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Итоги классного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понравилось сего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не понрав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ть ли 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о ли ещё проводить такие классные ча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альбомный лист приклеить свою фотографию, а ниже написать небольшой рассказ о себе, своей семье, о своих увлечениях и друз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ожить лист в файл и сдать классному руководителю не позднее пя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будут первые 24 страницы нашего классного альбома-лет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2411640" cy="222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7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3213000"/>
            <a:ext cx="5904000" cy="3311640"/>
          </a:xfrm>
          <a:prstGeom prst="rect">
            <a:avLst/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1628280"/>
            <a:ext cx="3024360" cy="1513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628640"/>
            <a:ext cx="273708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3645000"/>
            <a:ext cx="410508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645000"/>
            <a:ext cx="0" cy="230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869000"/>
            <a:ext cx="4105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5950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 К О Л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421000"/>
            <a:ext cx="22096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 Г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8480" y="765000"/>
            <a:ext cx="807552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М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Мозговой штур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24080"/>
            <a:ext cx="74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дание, в котором живут 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емейный оч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сто, где всег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ихая прист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ерритория для дружеских тус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алая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V="1">
            <a:off x="179280" y="404640"/>
            <a:ext cx="3745080" cy="1656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404640"/>
            <a:ext cx="367200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2060640"/>
          <a:ext cx="8785440" cy="4464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а “Именной алфави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А» - 8 человек – Анастасия, Алина, Александр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дрей, Аркадий, Антон, Антон,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В» - 3 человека – Виктория, Владимир, Вад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34936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Г» - 1 человек – Г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78136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Д» - 2 человека – Дарья, Ден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21300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Е» - 1 человек –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4500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И» - 1 человек –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7664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К» - 1 человек – Ками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50864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М» - 4 человека – Марина, Мария, Мария, Ма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01336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Н» - 2 человека – Нина, Ник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51664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С» - 1 человек -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20856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льчиков – 12. Девочек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а “Собери слов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341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ВЕСЁЛ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2100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НАХОДЧИ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573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УСПЕШ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2374920" cy="2565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227640" y="4597560"/>
            <a:ext cx="2916360" cy="2260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5668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534120" y="5042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работы в коллектив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аботаю активно сам, даю работать друг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казываю все свои лучшие качества, вижу их у друг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се, что сейчас узнаю – для всех, кроме нас, секр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твечаю честно, задаю вопросы если непон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ыполняю все свои обещ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22:33Z</dcterms:created>
  <dc:creator>User</dc:creator>
  <dc:description/>
  <dc:language>en-US</dc:language>
  <cp:lastModifiedBy>Рыбкин Алекс</cp:lastModifiedBy>
  <dcterms:modified xsi:type="dcterms:W3CDTF">2011-08-15T13:34:15Z</dcterms:modified>
  <cp:revision>123</cp:revision>
  <dc:subject/>
  <dc:title>Слайд 1</dc:title>
</cp:coreProperties>
</file>