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6.gif" ContentType="image/gif"/>
  <Override PartName="/ppt/media/image20.png" ContentType="image/png"/>
  <Override PartName="/ppt/media/image36.jpeg" ContentType="image/jpeg"/>
  <Override PartName="/ppt/media/image19.gif" ContentType="image/gif"/>
  <Override PartName="/ppt/media/image41.jpeg" ContentType="image/jpeg"/>
  <Override PartName="/ppt/media/image18.jpeg" ContentType="image/jpeg"/>
  <Override PartName="/ppt/media/image15.png" ContentType="image/png"/>
  <Override PartName="/ppt/media/image59.gif" ContentType="image/gif"/>
  <Override PartName="/ppt/media/image22.png" ContentType="image/png"/>
  <Override PartName="/ppt/media/image17.gif" ContentType="image/gif"/>
  <Override PartName="/ppt/media/image13.wmf" ContentType="image/x-wmf"/>
  <Override PartName="/ppt/media/image50.jpeg" ContentType="image/jpeg"/>
  <Override PartName="/ppt/media/image21.png" ContentType="image/png"/>
  <Override PartName="/ppt/media/image16.gif" ContentType="image/gif"/>
  <Override PartName="/ppt/media/image12.wmf" ContentType="image/x-wmf"/>
  <Override PartName="/ppt/media/image14.gif" ContentType="image/gif"/>
  <Override PartName="/ppt/media/image31.jpeg" ContentType="image/jpeg"/>
  <Override PartName="/ppt/media/image2.png" ContentType="image/png"/>
  <Override PartName="/ppt/media/image32.png" ContentType="image/png"/>
  <Override PartName="/ppt/media/image23.wmf" ContentType="image/x-wmf"/>
  <Override PartName="/ppt/media/image51.jpeg" ContentType="image/jpeg"/>
  <Override PartName="/ppt/media/image9.jpeg" ContentType="image/jpeg"/>
  <Override PartName="/ppt/media/image7.gif" ContentType="image/gif"/>
  <Override PartName="/ppt/media/image52.jpeg" ContentType="image/jpeg"/>
  <Override PartName="/ppt/media/image28.gif" ContentType="image/gif"/>
  <Override PartName="/ppt/media/image8.png" ContentType="image/png"/>
  <Override PartName="/ppt/media/image39.jpeg" ContentType="image/jpeg"/>
  <Override PartName="/ppt/media/image37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42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.png" ContentType="image/png"/>
  <Override PartName="/ppt/media/image1.gif" ContentType="image/gif"/>
  <Override PartName="/ppt/media/image24.gif" ContentType="image/gif"/>
  <Override PartName="/ppt/media/image48.jpeg" ContentType="image/jpeg"/>
  <Override PartName="/ppt/media/image49.jpeg" ContentType="image/jpeg"/>
  <Override PartName="/ppt/media/image54.jpeg" ContentType="image/jpeg"/>
  <Override PartName="/ppt/media/image57.gif" ContentType="image/gif"/>
  <Override PartName="/ppt/media/image58.jpeg" ContentType="image/jpeg"/>
  <Override PartName="/ppt/media/image35.jpeg" ContentType="image/jpeg"/>
  <Override PartName="/ppt/media/image25.gif" ContentType="image/gif"/>
  <Override PartName="/ppt/media/image34.jpeg" ContentType="image/jpeg"/>
  <Override PartName="/ppt/media/image11.wmf" ContentType="image/x-wmf"/>
  <Override PartName="/ppt/media/image55.jpeg" ContentType="image/jpeg"/>
  <Override PartName="/ppt/media/image30.gif" ContentType="image/gif"/>
  <Override PartName="/ppt/media/image3.png" ContentType="image/png"/>
  <Override PartName="/ppt/media/image56.jpeg" ContentType="image/jpeg"/>
  <Override PartName="/ppt/media/image5.png" ContentType="image/png"/>
  <Override PartName="/ppt/media/image43.jpeg" ContentType="image/jpeg"/>
  <Override PartName="/ppt/media/image10.gif" ContentType="image/gif"/>
  <Override PartName="/ppt/media/image53.jpeg" ContentType="image/jpe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C6D-1F48-421B-A2DD-5E402D2E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93E-0858-48F3-A131-174F36F3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BB3-D00C-4975-860F-5122826B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8D9-0892-4120-BF4C-D4001A33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24C-C312-46FA-8978-1389B2B2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C95-5486-4F96-92DF-D72D6EFC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2EB2-E0DB-4868-8AF4-47EB1817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316-7F95-4F35-8BD9-7EDC268D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7BA-1B0B-42C1-AD7A-E2E3F241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FE2-400A-4DAF-AD9A-B9BD2AD8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012-BE59-45ED-BBFA-F70FE4CC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43D0-0DF9-464B-9079-654BA42C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BC90-06B2-45E3-AB3D-887466FFE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slide" Target="slide11.xml"/><Relationship Id="rId9" Type="http://schemas.openxmlformats.org/officeDocument/2006/relationships/image" Target="../media/image17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17.gif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gif"/><Relationship Id="rId3" Type="http://schemas.openxmlformats.org/officeDocument/2006/relationships/image" Target="../media/image24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16.gif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4.pn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image" Target="../media/image52.jpeg"/><Relationship Id="rId11" Type="http://schemas.openxmlformats.org/officeDocument/2006/relationships/image" Target="../media/image53.jpeg"/><Relationship Id="rId12" Type="http://schemas.openxmlformats.org/officeDocument/2006/relationships/image" Target="../media/image54.jpeg"/><Relationship Id="rId13" Type="http://schemas.openxmlformats.org/officeDocument/2006/relationships/image" Target="../media/image55.jpeg"/><Relationship Id="rId14" Type="http://schemas.openxmlformats.org/officeDocument/2006/relationships/image" Target="../media/image56.jpeg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image" Target="../media/image57.gif"/><Relationship Id="rId3" Type="http://schemas.openxmlformats.org/officeDocument/2006/relationships/image" Target="../media/image57.gif"/><Relationship Id="rId4" Type="http://schemas.openxmlformats.org/officeDocument/2006/relationships/image" Target="../media/image57.gif"/><Relationship Id="rId5" Type="http://schemas.openxmlformats.org/officeDocument/2006/relationships/image" Target="../media/image57.gif"/><Relationship Id="rId6" Type="http://schemas.openxmlformats.org/officeDocument/2006/relationships/image" Target="../media/image58.jpeg"/><Relationship Id="rId7" Type="http://schemas.openxmlformats.org/officeDocument/2006/relationships/image" Target="../media/image7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404640"/>
            <a:ext cx="7632720" cy="388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торый построим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07280" y="314172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84360" y="4653000"/>
            <a:ext cx="4962240" cy="19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ный час в 5 класс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сентябр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53272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Продолжите фраз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493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то много чита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Ученье – св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расна птица пер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Чтенье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Грамоте учиться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03280" y="1341360"/>
            <a:ext cx="4140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тот много зн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а неученье – т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а человек ум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вот лучшее уч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всегда пригод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349360"/>
            <a:ext cx="82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МУДРОСТ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2843280" y="692280"/>
            <a:ext cx="2016000" cy="792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2205000"/>
            <a:ext cx="2232000" cy="7923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5805360"/>
            <a:ext cx="2232360" cy="7923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547640" y="1484280"/>
            <a:ext cx="1944720" cy="64944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84720" y="4581000"/>
            <a:ext cx="2663640" cy="151164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3789360"/>
            <a:ext cx="2879640" cy="7192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И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43280" y="1196640"/>
            <a:ext cx="2592720" cy="158436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2997360"/>
            <a:ext cx="1656000" cy="280800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24360" y="476280"/>
            <a:ext cx="2519640" cy="72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Е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4149720"/>
            <a:ext cx="3240000" cy="792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508360" y="3284640"/>
            <a:ext cx="2087640" cy="50328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492280"/>
            <a:ext cx="2519640" cy="72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Г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340000" y="260280"/>
            <a:ext cx="63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змин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9000" cy="2924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17080" y="162864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вода стоит столб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124000" y="15573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124000" y="227664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917440" y="2276640"/>
            <a:ext cx="564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 руки бывают местоим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50920" y="371628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15640" y="3789360"/>
            <a:ext cx="61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случается с вороной через 4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50920" y="450864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14920" y="458136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бывают реки без воды, города без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250920" y="522936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87640" y="530064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 чего нельзя испечь хлеб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8" action="ppaction://hlinksldjump"/>
          </p:cNvPr>
          <p:cNvSpPr/>
          <p:nvPr/>
        </p:nvSpPr>
        <p:spPr>
          <a:xfrm>
            <a:off x="7812000" y="602136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16560" y="1695600"/>
            <a:ext cx="14090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стак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4200" y="2708280"/>
            <a:ext cx="150372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-мы-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87600" y="4221000"/>
            <a:ext cx="21574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дёт пят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51640" y="4941720"/>
            <a:ext cx="12690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 ка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5445000"/>
            <a:ext cx="142596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ез к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>
            <a:off x="250920" y="292428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58920" y="3141720"/>
            <a:ext cx="49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акому городу течёт кров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720" y="3284640"/>
            <a:ext cx="12110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 В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250920" y="595008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13840" y="6021360"/>
            <a:ext cx="46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чему часто ходят и поч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огда не езд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63280" y="6461280"/>
            <a:ext cx="17686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 лест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24000" y="476280"/>
            <a:ext cx="63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темати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2055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flipH="1" rot="10800000">
            <a:off x="0" y="1628280"/>
            <a:ext cx="9144000" cy="154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8360" y="1916280"/>
            <a:ext cx="603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ы только с парох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ы только с пароход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иннадцать недель гостили на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сколько это д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читай-ка побыстр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508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а лошадей пробежала 40 км. Сколько километров пробежала каждая лошад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236000" y="2565360"/>
            <a:ext cx="100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7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380360" y="4581360"/>
            <a:ext cx="10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0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5280" y="2708280"/>
            <a:ext cx="2736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3 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 100 ч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16360" y="2708280"/>
            <a:ext cx="3097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 1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100 в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700360" y="170028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бу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3141720"/>
            <a:ext cx="82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НАХОДЧИВОС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ЧУВСТВО ЮМО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12000" y="602136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3213000"/>
            <a:ext cx="81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ХОЗЯЙСТВЕННО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ТРУДОЛЮБ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0" y="5365800"/>
            <a:ext cx="154764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195640" y="2421000"/>
            <a:ext cx="6696000" cy="4176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ожите руки на кол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гда ведущий скажет «Поехали…», все похлопывают себя по колен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гда ведущий называет какой-то предмет вокруг вас, дотрагиваетесь до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124000" y="260280"/>
            <a:ext cx="6838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ГРА "Поехали...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9000" cy="2924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Условие игр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6093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3525840"/>
            <a:ext cx="2519280" cy="2414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2400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1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250920" y="189000"/>
            <a:ext cx="63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ограф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 flipH="1" rot="10800000">
            <a:off x="0" y="111240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186920" y="155736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й город может парить в воздух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50920" y="213372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188000" y="2276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й город самый сердит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8840" y="2852640"/>
            <a:ext cx="80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й город Европы стоит на самом мягком ме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250920" y="3716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16000" y="36450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ая птица, потеряв одну букву, станет самой большой в Европе ре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250920" y="4581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116000" y="45813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вание какого города состоит из птицы и животн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250920" y="558972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71640" y="5445000"/>
            <a:ext cx="79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жду какими двумя одинаковыми буквами нужно поставить маленькую лошадь, чтобы получить название государ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7440" y="155736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р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2160" y="220500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Гроз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57800" y="321300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ариж на С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6520" y="407664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Иволга - Вол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56720" y="494172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орон - 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6200" y="640080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Я – пони -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7236000" y="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7093080" y="0"/>
            <a:ext cx="19080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50920" y="189000"/>
            <a:ext cx="676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ологическ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1593720" cy="2376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627280" y="4259160"/>
            <a:ext cx="3457440" cy="2598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413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их зверей называют так: косой, сохатый, косолапый, серый, рыж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60" y="256536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у кузнечика ух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213000"/>
            <a:ext cx="56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й зверь самый чистоплотн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2160" y="386064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ему божью коровку птицы не клю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184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Зайца, лося, медведя, волка, ли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4520" y="26370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а но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10880" y="3284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арсу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73360"/>
            <a:ext cx="223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Она выделяет едкую жидкость. Раз попробовав, птица запоминает яркого жу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885080" y="616572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3240" y="4941720"/>
            <a:ext cx="528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СМЕКАЛ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6491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рестьянский дом в украинской или белорусской дерев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Как называется ДОМ у разных народ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32720" y="1125360"/>
            <a:ext cx="14396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х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1773360"/>
            <a:ext cx="554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двигающееся жилище у цыг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1773360"/>
            <a:ext cx="165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иби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349360"/>
            <a:ext cx="5616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Хижина из ветвей, кож, коры у индейцев Северной Америки, о которой упоминает Шарик в мультфильме «Зима в Простокваши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59640" y="2708280"/>
            <a:ext cx="165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игв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3860640"/>
            <a:ext cx="56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очевой шалаш у киргизского народа, а также у народов Азии и Южной Сибир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88000" y="3789360"/>
            <a:ext cx="165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ю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4869000"/>
            <a:ext cx="561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ворец, жилище, крепость феодала, рыцар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5013360"/>
            <a:ext cx="16570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м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6021360"/>
            <a:ext cx="56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стройка из жердей, покрытых ветками, соломой, трав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6021360"/>
            <a:ext cx="16570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шал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51280" y="1268280"/>
            <a:ext cx="4875120" cy="3640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776760" cy="4203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790640" y="2060640"/>
            <a:ext cx="4011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24000" y="40464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ДРУЖБ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184464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ПОНИМ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ВЗАИМОПОМОЩ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335772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ЛЮБОВ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Наши учителя-предмет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4248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усский язык,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тематика каб. № 3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тория каб. № 2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род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х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0" y="549360"/>
            <a:ext cx="4572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Рыбкина Наталия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Ярлыкова Татьяна Людвиг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елезенева Валент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арфёнова Анна Семё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Девочки  - Васильева Ольга Ивановна (1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альчики – Дьячков Анатолий Иванович (1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999120" y="0"/>
            <a:ext cx="2144880" cy="3213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872320" y="836640"/>
            <a:ext cx="2739960" cy="4105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032440" y="1484280"/>
            <a:ext cx="2685960" cy="4032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2554200" y="1628640"/>
            <a:ext cx="2786040" cy="4176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24000" y="2133720"/>
            <a:ext cx="3004920" cy="4508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408720" y="2754360"/>
            <a:ext cx="2735280" cy="4103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-46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12000" y="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465280"/>
            <a:ext cx="3546360" cy="4392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556000" y="2492280"/>
            <a:ext cx="597672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кольная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9325080" y="4264200"/>
            <a:ext cx="594036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19653E-006 L -0.66354 -0.00647 E">
                                      <p:cBhvr>
                                        <p:cTn id="25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Наши учителя-предмет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4248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З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у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из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нглий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1640" y="549000"/>
            <a:ext cx="4321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Архипова Галина Васильевна (3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вакимян Галина Суреновна (2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Барченкова Ирина Павловна (3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ушной Виктор Олегович (спортз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1 группа - Зиборова Александра Леонидовна (3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2 группа – Лейко Елена Викторовна (2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848200" y="0"/>
            <a:ext cx="3295800" cy="4941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500120" y="476280"/>
            <a:ext cx="3265560" cy="48974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132000" y="2060640"/>
            <a:ext cx="5545440" cy="3181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3689280" y="333360"/>
            <a:ext cx="3855960" cy="5327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4427640" y="1557360"/>
            <a:ext cx="3317760" cy="4824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179280" y="2322360"/>
            <a:ext cx="3837240" cy="4535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ПИСАНИЕ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ОТВЕТСТВЕН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167680" y="637236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ОБЯЗАТЕЛЬ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 flipV="1">
            <a:off x="250920" y="404280"/>
            <a:ext cx="3673440" cy="15116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92720" y="404640"/>
            <a:ext cx="3600360" cy="15843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24360" y="404640"/>
            <a:ext cx="136836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79280" y="2060640"/>
          <a:ext cx="8785440" cy="46800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МУД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МЕКА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БОВ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ХОДЧИВ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ДРУЖ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ТВЕТСТВЕ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ЧУВСТВО ЮМ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ОНИМ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ЯЗА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ДОРОВ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АИМО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Щ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РУДОЛЮБ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2416680" y="97956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Р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ХОРОШЕГО НАСТР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4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435640" y="26028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179280" y="1989000"/>
            <a:ext cx="3546720" cy="4392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900000" y="476280"/>
            <a:ext cx="460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КОЛЬНАЯ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 rot="21162000">
            <a:off x="3995280" y="2923920"/>
            <a:ext cx="4392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ана</a:t>
            </a:r>
            <a:endParaRPr b="1" lang="en-US" sz="1800" spc="1" strike="noStrike">
              <a:ln w="414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95280" y="1275840"/>
            <a:ext cx="82296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Утром рано просыпа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Хорошенько умывай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Чтобы в школе не зе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Носом в парту не клев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Schbook Win95BT"/>
              </a:rPr>
              <a:t>Одевайся аккуратно,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CentSchbook Win95BT"/>
              </a:rPr>
              <a:t>Чтоб смотреть было прия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0" y="4456080"/>
            <a:ext cx="3600360" cy="240192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7020000" y="189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8"/>
          <a:stretch/>
        </p:blipFill>
        <p:spPr>
          <a:xfrm>
            <a:off x="5904000" y="3753000"/>
            <a:ext cx="3240000" cy="3105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455840" y="136440"/>
            <a:ext cx="520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Наказ старших товарищ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2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2" dur="3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3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4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06436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На уроках не хихик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Стол туда – сюда не двиг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Учитель спросит- надо вс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Когда он сесть позволит –ся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entSchbook Win95BT"/>
              </a:rPr>
              <a:t>Ответить хочешь – не шу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entSchbook Win95BT"/>
              </a:rPr>
              <a:t>А только руку под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entSchbook Win95BT"/>
              </a:rPr>
              <a:t>Сначала подум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entSchbook Win95BT"/>
              </a:rPr>
              <a:t>Потом отвеч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Не дразнись, не зазнавайся,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В школе всем помочь старай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entSchbook Win95BT"/>
              </a:rPr>
              <a:t>Зря не хмурься, будь см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entSchbook Win95BT"/>
              </a:rPr>
              <a:t>И найдешь себе друз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Schbook Win95BT"/>
              </a:rPr>
              <a:t>Все о школе расскажи,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CentSchbook Win95BT"/>
              </a:rPr>
              <a:t>Честью школы доро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Учись писать, читать,  счи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Чтоб получать отметку «ПЯ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780000" y="3284640"/>
            <a:ext cx="1403280" cy="2806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43120" y="5722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9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4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Итоги классного ча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понравилось сегод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не понравило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сть ли 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до ли ещё проводить такие классные ча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24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 альбомный лист приклеить свою фотографию, а ниже написать небольшой рассказ о себе, своей семье, о своих увлечениях и друзь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ложить лист в файл и сдать классному руководителю не позднее пят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то будут первые 24 страницы нашего классного альбома-лето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2411640" cy="2227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241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500720" y="3284640"/>
            <a:ext cx="309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279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3213000"/>
            <a:ext cx="5904000" cy="3311640"/>
          </a:xfrm>
          <a:prstGeom prst="rect">
            <a:avLst/>
          </a:prstGeom>
          <a:solidFill>
            <a:srgbClr val="00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900000" y="1628280"/>
            <a:ext cx="3024360" cy="15130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1628640"/>
            <a:ext cx="2737080" cy="15843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3645000"/>
            <a:ext cx="4105080" cy="230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3645000"/>
            <a:ext cx="0" cy="2305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4869000"/>
            <a:ext cx="4105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59500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Ш К О Л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2421000"/>
            <a:ext cx="2209680" cy="368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 Г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588000" y="4302000"/>
            <a:ext cx="2556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068480" y="765000"/>
            <a:ext cx="807552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одолжите фраз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ОМ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91440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Мозговой штур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224080"/>
            <a:ext cx="74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здание, в котором живут лю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семейный оч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кре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место, где всегда жд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тихая прист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территория для дружеских тус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малая р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255600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flipV="1">
            <a:off x="179280" y="404640"/>
            <a:ext cx="3745080" cy="1656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404640"/>
            <a:ext cx="3672000" cy="15843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24360" y="404640"/>
            <a:ext cx="136836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9280" y="2060640"/>
          <a:ext cx="8785440" cy="44640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2416680" y="97956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Р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ХОРОШЕГО НАСТР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гра “Именной алфави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А» - 8 человек – Анастасия, Алина, Александр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ндрей, Аркадий, Антон, Антон, Анд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989000"/>
            <a:ext cx="87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В» - 3 человека – Виктория, Владимир, Вад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349360"/>
            <a:ext cx="87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Г» - 1 человек – Г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781360"/>
            <a:ext cx="874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Д» - 2 человека – Дарья, Ден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3213000"/>
            <a:ext cx="87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Е» - 1 человек – Екате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645000"/>
            <a:ext cx="874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И» - 1 человек – 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076640"/>
            <a:ext cx="87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К» - 1 человек – Ками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4508640"/>
            <a:ext cx="874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М» - 4 человека – Марина, Мария, Мария, Макс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013360"/>
            <a:ext cx="874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Н» - 2 человека – Нина, Ники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5516640"/>
            <a:ext cx="874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С» - 1 человек - Свет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6208560"/>
            <a:ext cx="87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альчиков – 12. Девочек –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гра “Собери слова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34136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ВЕСЁЛ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42100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НАХОДЧИВ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357336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00"/>
                </a:solidFill>
                <a:latin typeface="Arial"/>
              </a:rPr>
              <a:t>УСПЕШН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2374920" cy="2565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0920" cy="187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227640" y="4597560"/>
            <a:ext cx="2916360" cy="2260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40000" y="566892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М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534120" y="50425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Правила работы в коллектив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Работаю активно сам, даю работать други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оказываю все свои лучшие качества, вижу их у други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Все, что сейчас узнаю – для всех, кроме нас, секр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Отвечаю честно, задаю вопросы если непоня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Выполняю все свои обеща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22:33Z</dcterms:created>
  <dc:creator>User</dc:creator>
  <dc:description/>
  <dc:language>en-US</dc:language>
  <cp:lastModifiedBy>Рыбкин Алекс</cp:lastModifiedBy>
  <dcterms:modified xsi:type="dcterms:W3CDTF">2011-08-15T13:34:15Z</dcterms:modified>
  <cp:revision>123</cp:revision>
  <dc:subject/>
  <dc:title>Слайд 1</dc:title>
</cp:coreProperties>
</file>