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54A-C907-4D11-AED2-23CAF971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CB3-003B-4AE7-BC43-5ACD3DF8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AB2-6165-4C11-80EF-368E1344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561-51D8-47A8-BE6E-49CF5CD1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E4FF-DB22-4FFC-AEA6-80A946C9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B89F9-ABAC-496B-8A2C-7EAC6DD3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25F19-C5E0-4882-B74D-42C1942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4264C-5EE3-46A3-A99A-76C9F61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7B0A7-5A09-41C9-A276-A208E5B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94C9-7B06-400A-9348-A4B5C285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A098-2CA1-44B3-9C65-858FA9CE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098-C5D1-4ADC-89B3-6791416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ADFB7-B884-42F7-86A4-7A58C9E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D2A2-FE75-42FC-B562-17A4D2A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5773-2185-4B2F-A4DC-DF305841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07EE1-903D-4EE3-8C13-89E382BA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A9099-1A8A-45A4-8251-ADFC59C9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822-EF2A-447F-93CC-F3FEA8FC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501-181D-46F4-BF97-7B92B90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D86-14FA-4B2B-B257-013F72D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B64-91F4-450E-87A4-A41F3A7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2F4-3D0B-41A7-9C52-35E4851B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DCA-2DF7-442B-A7CD-F9AA0AC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4F3-2D08-4661-9455-3EE2202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B14F-9A65-47B6-A9D4-FB0826B4B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5A43-F637-46EC-9FD6-5BA380A651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.В. Лисовский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аботка положения по оформлению и представлению квалификационной работы инженер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ами дипломного проектирования являю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уд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пускающая кафед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уководител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нсульт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ормоконтрол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еценз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миссия по предварительной защите дипломного проекта (по решению кафед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осударственная аттестационная комиссия по защите дипломного проекта (ГА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бязанности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одобрать литературу дл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развернутый план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дипломного проекта (работы) график индивидуальных консульт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брать в период преддипломной практики исходные данные для выполнени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отчет и зачет по преддипломной практике в установленные сро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зложить в соответствии с заданием разделы дипломного проекта (работы) в виде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формить пояснительную записку и демонстрационный материал в соответствии с СТП УГТУ-УПИ 1-96 [3]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проверку нормоконтролеру пояснительную записку в сброшюрованном виде и демонстрационный материал с подписями руководителя и консультант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странить выявленные нормоконтролером недостатки по оформлению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текст доклада не более чем на 10 ми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полнять график дипломного проектиров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нформировать руководителя, кафедру и деканат об отклонениях от графика по уважительным причин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езависимо от возникающих вопросов не реже одного раза в неделю информировать руководителя о ходе выполнения дипломного проекта (работы) и один раз в две недели отчитываться перед ним о выполнении проекта (работы) соответственно утвержденному график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ередать дипломный проект (работу) руководителю не позднее трех-четырех дней до предварительной защиты, а после предварительной защиты - на внешнюю рецензи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выпускающую кафедру не позднее двух дней до заседания АК пояснительную записку со всеми подписями, реценз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Пра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бирать тему дипломного проекта (работы) вплоть до предложения своей тематики с необходимым обоснованием целесообразности ее разработ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требовать от выпускающей кафедры предоставления своевременной информации о тематике дипломного проекта (работы), предполагаемых руководителях дипломного проектирования, графике защит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едставлять на предварительную защиту дипломный проект (работу) при получении отрицательного отзыва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амостоятельно определять содержание разделов дипломного проекта (работы), демонстрационного материала, докл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сказывать на заседании ГАК мнение, отличное от мнения руководителя и реценз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организационные собрания по ознакомлению студентов с формой и условиями итоговых испыт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рабатывать тематику дипломных проектов (работ), утверждать ее и своевременно доводить до сведения студентов и руков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бирать квалифицированных руководителей, консультантов, нормоконтролера, членов ГАК, реценз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беспечивать студентов и руководителей методическими указаниями для дипломного проектирования, бланками задания по дипломному проекту (работе), отзыва руководителя, реценз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тверждать и выдавать задания на дипломное проектирова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контролировать выполнение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варительно оповещать студентов и членов ГАК о времени и месте защиты (за 2 недел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предварительную защиту дипломных проек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 решению кафед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рганизовать защиты дипломных проектов (работ) на заседаниях ГАК согласно графику, утвержденному директором Институ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формлять документы по результатам защ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руководителей дипломного проекта (работы) и количество студентов у каждого из них, исходя из загруженности и квалификации преподава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лагать перенос сроков защиты (в рамках нормативного срока обучения) при невыполнении студентом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е допускать к защите студентов, не прошедших предварительную защит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на предварительную защиту представление студентом пояснительной записки и демонстрационного материала, подписанных руководителем, консультантами, нормоконтролер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авать рекомендации студенту по улучшению структуры и содержания доклада, оформлению демонстрационного матер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аменять руководителя дипломного проекта (работы) при представлении аргументированного заявления со стороны студента или руководителя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ыдавать задание, принимать отчет и зачет по преддипломной практике (в случае руководства преддипломной практикой студента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структуру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оставлять совместно со студентом развернутый план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участвовать в составлении задания на дипломный проект (работу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роводить квалифицированные консультации по дипломному проекту (работ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контролировать соблюдение графика дипломного проектирования (отмечая выполнение этапов дипломного проектирования в календарном план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выполнения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длительном отсутствии студента в период дипломного проектиро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ое проектирование и другие документы, необходимые для допуска студента к защите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авать отзыв на дипломный проект (работу)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работы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ыбирать темы дипломных проектов (работ) и студентов в соответствии с научными интерес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накомиться с содержанием доклада до предварительной защиты на кафед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тказываться от руководства, представив аргументированное заключение о ходе дипломного проектирования не позднее одного месяца до окончания сро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от студента проведения анализа или расчета нескольких вариантов решения тех или иных вопро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и ГАК и зачитывать отзыв на дипломный проект (работу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ультант по специальным разделам дипломного проекта (работ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содержание и структуру специального раздела (вопроса) в дипломном проекте (работ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ый проект (работу) и другие документы, необходимые для допуска студента к защите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казывать консультации по разделу (вопросу)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ести контроль за соблюдением графика (расписываться за выполнение раздел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диплом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своем длительном отсутствии в период дипломного проектир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ях ГА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ормоконтролер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 поручению выпускающей кафедры консультировать студентов по оформлению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водить нормоконтроль дипломного проекта (работы) в соответствии с графиком в присутствии студ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вать устные пояснения к замечаниям по оформлению пояснительной записки и демонстрационного матери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ринимать к рассмотрению пояснительную записку в несброшюрованном виде, без подписей: студента, консультантов,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одписывать пояснительную записку и демонстрационный материал, оформленные с нарушениями ЕСК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цензен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тражать в рецензии актуальность темы, положительные и отрицательные стороны, практическую значимост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авать общую оценку дипломного проекта (рабо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ребовать сброшюрованный экземпляр пояснительной записки и демонстрационный матер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и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пломное проектирование - одно из важнейших этапов итоговой аттестации студентов и является заключительным этапом обучения студентов, направленным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истематизацию, закрепление и расширение теоретических зн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витие навыков практического применения полученных знаний, умений анализировать и находить решения актуальных производственных проблем, творчески подходить к решению инженерных, экономических, научных и организационных зада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становление уровня подготовленности выпускника к выполнению профессиональных задач в соответствии с требованиями ФГОС ВПО к квалификационной характеристике и уровню подготовки выпускника по конкретному направлению подгото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миссия по предварительной защите дипломного проекта (работы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ерять наличие необходимых подписей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соответствие пояснительной записки и демонстрационного материала заданию на дипломный проект (работу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писывать решение комиссии предварительной защиты в протокол заседания кафедры («допустить к защите в ГАК», «допустить после устранения замечаний», «перенести защиту»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азначать рецензента на дипломный проект (работ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сматривать пояснительную записку, демонстрационный материал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слушивать доклад студен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давать вопросы по теме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держанию доклада, демонстрационных материал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ребовать устранения замечаний в пояснительной записке, демонстрационном материале, доклад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тавить вопрос о переносе защиты на другой срок или не допускать студента к защ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ударственная аттестационная комиссия (ГАК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одить заседания ГАК в соответствии с график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комплексно оценивать уровень подготовки студентов и соответствие их подготовки требованиям Государственного образовательного стандарта и квалификационным требования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итоги защиты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шать вопрос о присвоении квалификации по результатам итоговой аттестации и выдаче студенту соответствующего диплома о высшем образован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едставить отчет председателя АК по итогам защит дипломных проектов (рабо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вершенствованию подготовки студентов на основании результатов работы А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тменять (переносить) заседание АК в случае отсутствия более 30% ее соста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продолжение обучения студента в аспирантур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дипломный проект (работу) к внедрению в народном хозяйств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мечания председателей ГА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формление пояснительных записок дипломных проектов и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вышенный объем графического матер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Формулировка тем дипломных проектов и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формление выпускной квалификационной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, общие требования оформления пояснительных записок изложены в            СтП РО-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оформления приложений и графической части дипломных работ различных специальностей и направлений подготовки, должна соответствовать ГОСТ и отражаться в методических указаниях по дипломному проектированию, разрабатываемых на выпускающих кафед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ение квалификационной работы к защ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ществующие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катов и чертеж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аточного материала с иллюстраци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проекционной тех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компьютерной презен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е 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лакатов и чертеж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спользования компьютерной презентации, с обязательной раздачей представленного на презентации материала всем участникам защиты дипломного проектир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ленам и председателю ГАК, руководителю проекта, присутствующим на защите рецензенту и консультанта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емлемость использования фор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752480"/>
          <a:ext cx="9144000" cy="4876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ая раб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ый прое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я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 дополни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е компьютерной презентаци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согласованию целесообразности с заведующим кафед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й объе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3809880"/>
          <a:ext cx="8305920" cy="1905120"/>
        </p:xfrm>
        <a:graphic>
          <a:graphicData uri="http://schemas.openxmlformats.org/drawingml/2006/table">
            <a:tbl>
              <a:tblPr/>
              <a:tblGrid>
                <a:gridCol w="3721320"/>
                <a:gridCol w="4584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йдов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12листов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ждый документ в соответствии с ГОСТ 2.201-80 должен иметь обозначение. Обозначение курсовых и дипломных проектов состоит из 8 индексов. Первая группа – первые три индекса, вторая группа включает четвертый и пятый индексы, третья группа – 6, 7 и 8 индекс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овательность индексов: 1 2 3 4 5 6 7 8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 – индекс кафедры или секции по филиалу (даны в приложении 6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 – индекс дисциплины на кафедре (по классификатору кафедры); на документах дипломного проекта указывается 0 (нуль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 – вид работы, для дипломного проекта – Д, для курсового проекта – К, для курсовой работы – 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 – год выполнения (только последние две цифры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 – порядковый регистрационный номер задания на проект по секции, кафед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 – индексация характеристики сборочной единицы или детали: для общего вида машины, планировки оборудования, разреза цеха, электрических и гидравлических схем – обозначение 0 (нуль), для сборочных  единиц, специфицируемых в общем виде – обозначени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я обозначения единиц, входящих в первую сборочную единицу – обозначение 2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 – индексация порядковых номеров сборочных единиц, входящих в общий вид, первую сборочную единицу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 – шифр документа (указывается для сборочных единиц по данным приложения 6, для деталей – порядковый номер в сборочной единице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дачи дипломного проекта (работ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актуальности и значимости темы для теории и (или) практ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еоретическое исследование заданной проблемы или задачи, раскрытие сущности категорий, явл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анализ состояния объекта исследования (отрасли, района, объединения, предприятия и т.п.) за определенный период, выявление динамики изменения показателей объекта исследования, их тенденций на перспективу и проблем, требующих своего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спользование современных методик решения вопросов, поставленных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бщение полученных в результате проведенных исследований материалов и формулирование выв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практической направленности рекомендаций и предложений, в том числе конкретных управленческих решений, разработанных автором, и оценка их экономической эффектив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явление умения самостоятельно работать с литературой, правильно цитировать и делать ссылки на источн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мение грамотно и логически обоснованно излагать, обобщать и систематизировать результаты исследов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дексация кафедр и секций ЭПИ МИСи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автоматизации технологических процессов и производст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 – кафедра технологии и оборудования прокатного производ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 – кафедра металлур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4 – кафедра технологии машиностроения и конструировани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1 – кафедра промышленного и гражданского строитель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2 – кафедра безопасности жизнедеятельности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эколо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3 – кафедра теоретической и прикладной механ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1 – кафедра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2 -  кафедра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3 – кафедра прикладной инфор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гуманитарных наук и межкультурных коммуникац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1 – кафедра высшей мате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2 – кафедра физ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3 – кафедра хим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4 – кафедра физической культуры и здоровь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5667480"/>
                <a:gridCol w="2562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Наименование докум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Ш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ороч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Чертеж общ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абарит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онтаж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хемы: кине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лектр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идравл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нев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тика дипломных проек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улировка темы должна включать в себя в виде ключевы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бъекты проектирования (цех, участок, технологический процесс и др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дачу проектирования (строительство, реконструкция, перепрофилирование, разработ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значение объекта проектирования(производства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ид продукции (трубы, профили, детали, непрерывнолитая заготов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пособ производ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проектирования (повышение технико-экономической эффективности, повышение рентабельности, повышение конкурентоспособности, повышение качества и .т.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 перечисленных выше учебно-методических задач обусловливает выполнение соответствующих требований к дипломному проекту (работе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ктическая значимость (ценность) рабо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менение современной передовой методолог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мплексный и системный подходы к решению 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личие элементов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ктическая значим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ое требование сводится к тому, что дипломный проект (работа) должен выполняться на основе конкретных материалов, собранных студентом во время преддипломной практики. Главным является не просто анализ, обобщение и использование конкретных материалов организации, а постановка и решение реальных задач, стоящих перед данной организацией. Именно этим условиям должна отвечать разработка дипломного проекта (работы). Она дает возможность студенту не только показать свою подготовленность и навыки практической работы, но и оказать практическую помощь реальному предприят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менение современной передовой методолог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ыполнении дипломного проекта (работы) необходимо опираться на передовые достижения науки и техники, последние статистические данные, публикации отечественной и зарубежной специальной литера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в передовой отечественный и зарубежный опыт в исследуемой области по литературным источникам, методическим и статистическим материалам, представив его результаты в виде краткого аналитического обзора, студент должен сделать заключение - собственный вывод о соответствии данного объекта исследования современным требованиям. Предложения и рекомендации, выдвигаемые в дипломном проекте (работе), следует обосн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мплексный и системный подх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ая объект исследования, решая задачи, поставленные в дипломном проекте (работе), необходимо применять комплексный и системный подходы. Это позволит выявить все многообразие структурных составляющих сложных объектов, рассмотреть все возможные типы связей между ними и оперировать объектом с позиций его цело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личие элементов творче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ипломном проекте (работе) студент должен показать наряду с глубокими теоретическими знаниями по специальности и практическими навыками по решению поставленных задач умение творчески мыслить, способность к научно-исследовательской работе, самостоятельному решению практических вопросов с учетом новейших достижений науки, методики и прак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бязанности, права, ответственность участников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3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