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3CB-33DD-468B-9D3C-A3CDBA10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51E-9DAE-46BE-AF1C-B959B60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8AC-107F-42B3-A85A-7C83CEA9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858-7E61-47D1-A830-8BAF67CE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7D7CD-F593-42E3-83EF-0146B99D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017B-2B17-4864-9BFD-5E74BCB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2085E-490E-4FA5-B230-7F4A6CEC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7184-2DDF-4E26-8FD7-EFB6780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A8DE7-0BC4-4FCA-902D-D761F99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0EAE1-19E2-4302-A546-EE211CE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0861-083A-4E4C-83A8-9A147E17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882-BD31-454A-A684-F418DCC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E32C-93C8-4304-8803-A55FDAC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6D3C-F204-425F-8CBF-61A5BCC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E0ED-B940-4A94-8B8F-FBBA356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F7FB5-2DB3-470D-87B6-44403729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4B922-5AA8-4DAC-8A46-F275BE9A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5A7-CE74-49A8-8E3B-0AE0228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1D4-66DD-4026-A8B4-0D0402F5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0DF-29C0-464B-AEE2-9B802663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793-8254-4F24-9A46-39C60CE5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EF2-7288-45C3-9722-FEF0E7C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3F8-5467-42AD-9890-F6EA2AB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8A8-F89D-452D-ADEA-D347A88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996-0253-4EA2-B683-D5E2E91E8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EC6C-C257-49B0-8910-EED1788125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.В. Лисовский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аботка положения по оформлению и представлению квалификационной работы инженер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ами дипломного проектирования являю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уд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пускающая кафед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уководител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нсульт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ормоконтрол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еценз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миссия по предварительной защите дипломного проекта (по решению кафед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осударственная аттестационная комиссия по защите дипломного проекта (ГА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бязанности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одобрать литературу дл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развернутый план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совместно с руководителем дипломного проекта (работы) график индивидуальных консульт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брать в период преддипломной практики исходные данные для выполнения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отчет и зачет по преддипломной практике в установленные сро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зложить в соответствии с заданием разделы дипломного проекта (работы) в виде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формить пояснительную записку и демонстрационный материал в соответствии с СТП УГТУ-УПИ 1-96 [3]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проверку нормоконтролеру пояснительную записку в сброшюрованном виде и демонстрационный материал с подписями руководителя и консультант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странить выявленные нормоконтролером недостатки по оформлению пояснительной запис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оставить текст доклада не более чем на 10 ми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полнять график дипломного проектиров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нформировать руководителя, кафедру и деканат об отклонениях от графика по уважительным причин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езависимо от возникающих вопросов не реже одного раза в неделю информировать руководителя о ходе выполнения дипломного проекта (работы) и один раз в две недели отчитываться перед ним о выполнении проекта (работы) соответственно утвержденному график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ередать дипломный проект (работу) руководителю не позднее трех-четырех дней до предварительной защиты, а после предварительной защиты - на внешнюю рецензи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ать на выпускающую кафедру не позднее двух дней до заседания АК пояснительную записку со всеми подписями, реценз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уден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Пра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бирать тему дипломного проекта (работы) вплоть до предложения своей тематики с необходимым обоснованием целесообразности ее разработ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требовать от выпускающей кафедры предоставления своевременной информации о тематике дипломного проекта (работы), предполагаемых руководителях дипломного проектирования, графике защит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едставлять на предварительную защиту дипломный проект (работу) при получении отрицательного отзыва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амостоятельно определять содержание разделов дипломного проекта (работы), демонстрационного материала, докл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ысказывать на заседании ГАК мнение, отличное от мнения руководителя и реценз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организационные собрания по ознакомлению студентов с формой и условиями итоговых испыт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рабатывать тематику дипломных проектов (работ), утверждать ее и своевременно доводить до сведения студентов и руков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бирать квалифицированных руководителей, консультантов, нормоконтролера, членов ГАК, реценз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беспечивать студентов и руководителей методическими указаниями для дипломного проектирования, бланками задания по дипломному проекту (работе), отзыва руководителя, реценз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тверждать и выдавать задания на дипломное проектирова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контролировать выполнение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варительно оповещать студентов и членов ГАК о времени и месте защиты (за 2 недел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одить предварительную защиту дипломных проек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 решению кафед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рганизовать защиты дипломных проектов (работ) на заседаниях ГАК согласно графику, утвержденному директором Институ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формлять документы по результатам защ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ающая кафедр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руководителей дипломного проекта (работы) и количество студентов у каждого из них, исходя из загруженности и квалификации преподава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едлагать перенос сроков защиты (в рамках нормативного срока обучения) при невыполнении студентом графи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е допускать к защите студентов, не прошедших предварительную защит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на предварительную защиту представление студентом пояснительной записки и демонстрационного материала, подписанных руководителем, консультантами, нормоконтролер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авать рекомендации студенту по улучшению структуры и содержания доклада, оформлению демонстрационного матер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аменять руководителя дипломного проекта (работы) при представлении аргументированного заявления со стороны студента или руководителя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ыдавать задание, принимать отчет и зачет по преддипломной практике (в случае руководства преддипломной практикой студента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структуру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оставлять совместно со студентом развернутый план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участвовать в составлении задания на дипломный проект (работу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роводить квалифицированные консультации по дипломному проекту (работ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контролировать соблюдение графика дипломного проектирования (отмечая выполнение этапов дипломного проектирования в календарном план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выполнения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длительном отсутствии студента в период дипломного проектиро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ое проектирование и другие документы, необходимые для допуска студента к защите дипломного проекта (работы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давать отзыв на дипломный проект (работу)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дипломного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работы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ав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ыбирать темы дипломных проектов (работ) и студентов в соответствии с научными интерес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знакомиться с содержанием доклада до предварительной защиты на кафед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тказываться от руководства, представив аргументированное заключение о ходе дипломного проектирования не позднее одного месяца до окончания срока дипломного проект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ребовать от студента проведения анализа или расчета нескольких вариантов решения тех или иных вопро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и ГАК и зачитывать отзыв на дипломный проект (работу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ультант по специальным разделам дипломного проекта (работ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содержание и структуру специального раздела (вопроса) в дипломном проекте (работ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писывать задание на дипломный проект (работу) и другие документы, необходимые для допуска студента к защите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оводить до студента порядок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комендовать перечень необходимой литерату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казывать консультации по разделу (вопросу) дипломного проекта (работ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ести контроль за соблюдением графика (расписываться за выполнение раздел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критических отклонениях от графика дипломир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информировать выпускающую кафедру о своем длительном отсутствии в период дипломного проектир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пределять порядок проведения индивидуальных консультац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сутствовать на заседаниях ГА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ормоконтролер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о поручению выпускающей кафедры консультировать студентов по оформлению дипломного проекта (работ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водить нормоконтроль дипломного проекта (работы) в соответствии с графиком в присутствии студен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вать устные пояснения к замечаниям по оформлению пояснительной записки и демонстрационного матери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ринимать к рассмотрению пояснительную записку в несброшюрованном виде, без подписей: студента, консультантов, руковод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подписывать пояснительную записку и демонстрационный материал, оформленные с нарушениями ЕСК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цензен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тражать в рецензии актуальность темы, положительные и отрицательные стороны, практическую значимость дипломного проекта (работ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авать общую оценку дипломного проекта (рабо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ребовать сброшюрованный экземпляр пояснительной записки и демонстрационный матер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и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пломное проектирование - одно из важнейших этапов итоговой аттестации студентов и является заключительным этапом обучения студентов, направленным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истематизацию, закрепление и расширение теоретических зна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витие навыков практического применения полученных знаний, умений анализировать и находить решения актуальных производственных проблем, творчески подходить к решению инженерных, экономических, научных и организационных зада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установление уровня подготовленности выпускника к выполнению профессиональных задач в соответствии с требованиями ФГОС ВПО к квалификационной характеристике и уровню подготовки выпускника по конкретному направлению подготов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миссия по предварительной защите дипломного проекта (работы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ерять наличие необходимых подписей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соответствие пояснительной записки и демонстрационного материала заданию на дипломный проект (работу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писывать решение комиссии предварительной защиты в протокол заседания кафедры («допустить к защите в ГАК», «допустить после устранения замечаний», «перенести защиту»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азначать рецензента на дипломный проект (работу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сматривать пояснительную записку, демонстрационный материал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слушивать доклад студен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задавать вопросы по теме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держанию доклада, демонстрационных материал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ребовать устранения замечаний в пояснительной записке, демонстрационном материале, доклад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тавить вопрос о переносе защиты на другой срок или не допускать студента к защ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ударственная аттестационная комиссия (ГАК)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оводить заседания ГАК в соответствии с график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комплексно оценивать уровень подготовки студентов и соответствие их подготовки требованиям Государственного образовательного стандарта и квалификационным требования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ценивать итоги защиты дипломного проекта (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шать вопрос о присвоении квалификации по результатам итоговой аттестации и выдаче студенту соответствующего диплома о высшем образован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представить отчет председателя АК по итогам защит дипломных проектов (рабо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авать рекомендации по совершенствованию подготовки студентов на основании результатов работы А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тменять (переносить) заседание АК в случае отсутствия более 30% ее соста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продолжение обучения студента в аспирантур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рекомендовать дипломный проект (работу) к внедрению в народном хозяйств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мечания председателей ГА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формление пояснительных записок дипломных проектов и рабо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вышенный объем графического матер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Формулировка тем дипломных проектов и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формление выпускной квалификационной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, общие требования оформления пояснительных записок изложены в            СтП РО-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оформления приложений и графической части дипломных работ различных специальностей и направлений подготовки, должна соответствовать ГОСТ и отражаться в методических указаниях по дипломному проектированию, разрабатываемых на выпускающих кафед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ение квалификационной работы к защ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ществующие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катов и чертеж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аточного материала с иллюстраци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проекционной тех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я компьютерной презен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е  формы Представление иллюстративного материала к публичной защ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лакатов и чертеж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спользования компьютерной презентации, с обязательной раздачей представленного на презентации материала всем участникам защиты дипломного проектир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ленам и председателю ГАК, руководителю проекта, присутствующим на защите рецензенту и консультанта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емлемость использования фор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752480"/>
          <a:ext cx="9144000" cy="4876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ая раб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ный прое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я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 дополни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ование компьютерной презентаци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согласованию целесообразности с заведующим кафед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омендуемый объем иллюстративного материа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3809880"/>
          <a:ext cx="8305920" cy="1905120"/>
        </p:xfrm>
        <a:graphic>
          <a:graphicData uri="http://schemas.openxmlformats.org/drawingml/2006/table">
            <a:tbl>
              <a:tblPr/>
              <a:tblGrid>
                <a:gridCol w="3721320"/>
                <a:gridCol w="4584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катов и чертеж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йдов компьютерно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12листов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е более 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ждый документ в соответствии с ГОСТ 2.201-80 должен иметь обозначение. Обозначение курсовых и дипломных проектов состоит из 8 индексов. Первая группа – первые три индекса, вторая группа включает четвертый и пятый индексы, третья группа – 6, 7 и 8 индекс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овательность индексов: 1 2 3 4 5 6 7 8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 – индекс кафедры или секции по филиалу (даны в приложении 6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 – индекс дисциплины на кафедре (по классификатору кафедры); на документах дипломного проекта указывается 0 (нуль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 – вид работы, для дипломного проекта – Д, для курсового проекта – К, для курсовой работы – 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 – год выполнения (только последние две цифры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 – порядковый регистрационный номер задания на проект по секции, кафед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 – индексация характеристики сборочной единицы или детали: для общего вида машины, планировки оборудования, разреза цеха, электрических и гидравлических схем – обозначение 0 (нуль), для сборочных  единиц, специфицируемых в общем виде – обозначени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я обозначения единиц, входящих в первую сборочную единицу – обозначение 2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 – индексация порядковых номеров сборочных единиц, входящих в общий вид, первую сборочную единицу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 – шифр документа (указывается для сборочных единиц по данным приложения 6, для деталей – порядковый номер в сборочной единице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задачи дипломного проекта (работ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актуальности и значимости темы для теории и (или) практ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еоретическое исследование заданной проблемы или задачи, раскрытие сущности категорий, явл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анализ состояния объекта исследования (отрасли, района, объединения, предприятия и т.п.) за определенный период, выявление динамики изменения показателей объекта исследования, их тенденций на перспективу и проблем, требующих своего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использование современных методик решения вопросов, поставленных в дипломном проекте (работе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бщение полученных в результате проведенных исследований материалов и формулирование вывод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обоснование практической направленности рекомендаций и предложений, в том числе конкретных управленческих решений, разработанных автором, и оценка их экономической эффектив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выявление умения самостоятельно работать с литературой, правильно цитировать и делать ссылки на источн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умение грамотно и логически обоснованно излагать, обобщать и систематизировать результаты исследов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ндексация кафедр и секций ЭПИ МИСи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автоматизации технологических процессов и производств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 – кафедра технологии и оборудования прокатного производ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 – кафедра металлур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4 – кафедра технологии машиностроения и конструировани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1 – кафедра промышленного и гражданского строительств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2 – кафедра безопасности жизнедеятельности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эколог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3 – кафедра теоретической и прикладной механ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1 – кафедра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2 -  кафедра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3 – кафедра прикладной инфор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кафедра гуманитарных наук и межкультурных коммуникаци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1 – кафедра высшей математ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2 – кафедра физ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3 – кафедра хими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4 – кафедра физической культуры и здоровь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 обозначению документации в курсовых, дипломных проектах и работ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5667480"/>
                <a:gridCol w="2562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Наименование докум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Ш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ороч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Чертеж общего 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абарит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онтажный чер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хемы: кине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лектр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идравл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невматическ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тика дипломных проек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улировка темы должна включать в себя в виде ключевы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бъекты проектирования (цех, участок, технологический процесс и др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задачу проектирования (строительство, реконструкция, перепрофилирование, разработ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значение объекта проектирования(производства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ид продукции (трубы, профили, детали, непрерывнолитая заготовка и т.п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пособ производ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проектирования (повышение технико-экономической эффективности, повышение рентабельности, повышение конкурентоспособности, повышение качества и .т.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 перечисленных выше учебно-методических задач обусловливает выполнение соответствующих требований к дипломному проекту (работе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ктическая значимость (ценность) рабо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менение современной передовой методолог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омплексный и системный подходы к решению 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личие элементов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ктическая значим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ое требование сводится к тому, что дипломный проект (работа) должен выполняться на основе конкретных материалов, собранных студентом во время преддипломной практики. Главным является не просто анализ, обобщение и использование конкретных материалов организации, а постановка и решение реальных задач, стоящих перед данной организацией. Именно этим условиям должна отвечать разработка дипломного проекта (работы). Она дает возможность студенту не только показать свою подготовленность и навыки практической работы, но и оказать практическую помощь реальному предприят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менение современной передовой методолог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ыполнении дипломного проекта (работы) необходимо опираться на передовые достижения науки и техники, последние статистические данные, публикации отечественной и зарубежной специальной литера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в передовой отечественный и зарубежный опыт в исследуемой области по литературным источникам, методическим и статистическим материалам, представив его результаты в виде краткого аналитического обзора, студент должен сделать заключение - собственный вывод о соответствии данного объекта исследования современным требованиям. Предложения и рекомендации, выдвигаемые в дипломном проекте (работе), следует обосн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мплексный и системный подх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ая объект исследования, решая задачи, поставленные в дипломном проекте (работе), необходимо применять комплексный и системный подходы. Это позволит выявить все многообразие структурных составляющих сложных объектов, рассмотреть все возможные типы связей между ними и оперировать объектом с позиций его цело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личие элементов творче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ипломном проекте (работе) студент должен показать наряду с глубокими теоретическими знаниями по специальности и практическими навыками по решению поставленных задач умение творчески мыслить, способность к научно-исследовательской работе, самостоятельному решению практических вопросов с учетом новейших достижений науки, методики и прак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бязанности, права, ответственность участников дипломного проек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3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