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FE7C-E1CB-45FB-BA94-B0C3EB6F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D6A-40BB-421B-B7F1-AD342A2B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4E7-1380-4EB9-B078-BE3B3990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EA54-522D-493B-AF2D-02DB074E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B182-F978-4A7D-9FBA-030553AB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BAF3-88A4-4B08-8C38-76574287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DDE0-6A6C-4447-81D4-53CE8FC7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5404-FCBF-46D6-8705-398C8B5F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492F-0AC9-462C-9F93-7078DBE8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5C45-DF9D-4B42-B831-4EF19523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E4F8-7906-4CD5-BDC0-6418CA1B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D7F-8438-485E-A3A8-9429AECA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4498-92A3-49D2-A4B7-C9B0B037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7331-6B17-4DC9-8BCF-FE3230A7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0812-2B1E-475A-8B05-54538B87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E63E-743D-4FDB-9999-AA9290C1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902E-4205-43D4-A38D-97AAA490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AE7D-6101-445A-8D1F-9FF82C95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9EE-554E-4A8A-9329-B40133C6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93D-FA3C-41D0-A7FE-CECFA32E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9CCF-2FAC-493A-BC65-A929975C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4AB-157D-4337-A6A4-989A50B3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0BE-8079-4973-8EE7-53AD16D2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A01-EFE1-42C2-BB67-98C264A4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8095-1F05-4B8F-B78C-C9CB2624958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1792-FF4A-4E71-81F8-4C449AC9D02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2b2b2"/>
                </a:solidFill>
                <a:latin typeface="Arial"/>
              </a:rPr>
              <a:t>«</a:t>
            </a:r>
            <a:r>
              <a:rPr b="0" lang="ru-RU" sz="6000" spc="-1" strike="noStrike">
                <a:solidFill>
                  <a:srgbClr val="b2b2b2"/>
                </a:solidFill>
                <a:latin typeface="Times New Roman"/>
              </a:rPr>
              <a:t>БИТЛЗ» (Beatles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7200"/>
            <a:ext cx="403848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Английска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рок-группа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4249800" cy="504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1965 Леннон и Маккартни уже не писали песни вместе, хотя по условиям контракта (и по взаимной договоренности) песня каждого из них считалась совместным творчеством. В 1965 The Beatles побывали с концертами в Европе, Северной Америке, Австралии и Юго-Восточной Аз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5 августа 1965 состояло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андиозное выступл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Beatles перед 55 тыся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рителей на нью-йоркск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дионе «Ши». Записанная 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т период композиция По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ккартни Yesterday (перв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сто, 1965) до сих по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вляется самой популяр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сней в репертуаре боле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м 500 исполнит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июне 1965 «за выдающийся вклад в дело процвет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ликобритании» английская королева наградила музыкан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рденом Британской империи. Церемония награж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оялась 26 октября в Букингемском дворце (в 1969 год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жон Леннон вернул свой орден в знак протеста проти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обрения Великобританией войны во Вьетнаме). Летом 1966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еннон стал причиной грандиозного скандала в американск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ественности, заявив: «Христианство рано или поздно изжи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бя. Оно съежится и исчезнет. Спорить по этому пов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ссмысленно — я прав, и будущее покажет, что я прав. Мы у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йчас популярнее Иисуса Христа». Последняя фраза привела 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ссовым сожжениям пластинок группы в США, и спуст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которое время Леннон был вынужден принести свои изви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ем, чьи чувства он оскорбил. 29 августа 1966 в Сан-Франциск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Beatles дали свой последний концерт и сосредоточились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удийных экспериментах с разными звуками и инструмен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9636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сей день исследователи спорят об истинных причинах распада «великолеп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тверки». Одни считают ключевой смерть Брайана Эпстайна, другие винят во вс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торую жену Леннона, сильно влиявшую на жизнь и взгляды мужа; третьи твердят 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померно раздувшихся деловых амбициях Маккартни; четвертые списывают все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потребление музыкантами наркотиков... Скорее всего, все они правы. Но главная причи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верное, в том, что Beatles просто устали друг от друга и от той невыносимо тяжел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уговерти, в которую превратилась их жизнь в качестве мегазвезд поп- и рок-музы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8861" t="8381" r="16034" b="16048"/>
          <a:stretch/>
        </p:blipFill>
        <p:spPr>
          <a:xfrm>
            <a:off x="900000" y="1989000"/>
            <a:ext cx="73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распадом группы, казалось, заканчивалась и эра  Beatles. Но эмоциональное воздействие их музыки оказалось неожиданным даже для самих музыкантов, настолько масштабным, что Beatles стали явлением в жизни чуть ли не всей планеты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200720" cy="583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334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10920" y="476280"/>
            <a:ext cx="8002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Была образована в Ливерпуле в 1959 году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3939840"/>
            <a:ext cx="8229600" cy="2190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842472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209080" cy="45784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оста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 Маккартни вокал, бас-гитара, клавишны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жон Леннон вокал, гитара, гармоника, клавишны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жордж Харрис вокал, гитара, ситар, клавишны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инго Старр  начал выступать в составе группе c 1962;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кал, ударные, перкуссия, клавишны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удущие участники легендарной группы родились и выросли в Ливерпуле, где в конце 1950-х годов влияние американской популярной музыки было едва ли не сильнее, чем в столице Великобритани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3939840"/>
            <a:ext cx="4038480" cy="2190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427640" y="620640"/>
            <a:ext cx="44654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3790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1960 The Beatles совершают свои первые поездки в Гамбург, где с успехом выступают в тамошних пивных. Их репертуар состоял главным образом из вещей Чака Берри, Литл Ричарда, Карла Перкинса и Бадди Хол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24360" y="549360"/>
            <a:ext cx="496872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28828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 начале 1961 Леннон и Ко. дебютируют в клубе «Каверна» в своем родном Ливерпуле и за два года дают там более 300 концерт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конце 1961 менеджером группы стал Брайан Эпстайн, который изменил имид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узыкантов: вместо черных кожаных курток в стиле teddy boys музыкан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лачились в пиджаки без воротников от Пьера Кардена (получившие назв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битловки»), а взбитые «коки» а-ля Элвис Пресли сменились длинными чел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280360" cy="49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ентябре 1962  Beatles выпустили свой первый сингл. В начале 1963 одна из композиций  заняла в хит-параде Великобритании второе место, тогда же в рекордно короткие сроки (за 13 часов) был записан дебютный альбом. На волне успеха третий сингл занял в чартах первое место. Летом 1963  Beatles, которые должны были открывать британские концерты американского певца Роя Орбисона, оказались по рейтингу на порядок выше американца — именно тогда появились первые признаки явления, получившего название «битломания». Официально этот термин был употреблен в прессе 14 октября 1963, на следующий день после триумфального выступления группы в ТВ-шоу. В октябре 1963 по окончании первых европейских гастролей  Beatles перебрались в Лондон. Преследуемые толпами поклонников, Beatles появлялись на публике только под охраной полиции. В конце октября того же года появляется самая тиражируемая пластинка в истории граммофонной промышленности Великобритании, а в ноябре 1963 группа выступает перед королевой-матерью и высшим светом в Лондонском театре принца Уэльского. Тогда же выходит в свет второй альбом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8592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смотря на оглушительный успе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Европе, американская  фирм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неслась к группе настороженно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выпустила ни одной пластин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тированной 1963, рискну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епечатать только четверт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нгл. Вопреки всяческим ожидания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итиков, успех вышел ошеломляющ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тни тысяч американских тинейдже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ебовали «привезти великолепну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тверку» в США. Начинали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иумфальные гастроли  Beatles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ругую сторону Атлантики. В феврал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964 более 70 миллионов американски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лезрителей смотрели выступл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ппы в знаменитом шоу. В апрел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964 композиция Can't Buy Me Lo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овременно возглавила хит-парад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ликобритании и США; в том ж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сяце Beatles заняли все верхние пя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очек в хит-параде журнала Billboar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3280" y="189000"/>
            <a:ext cx="4249800" cy="302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4249800" cy="309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2:32:04Z</dcterms:created>
  <dc:creator>Серёга</dc:creator>
  <dc:description/>
  <dc:language>en-US</dc:language>
  <cp:lastModifiedBy>Сергей</cp:lastModifiedBy>
  <dcterms:modified xsi:type="dcterms:W3CDTF">2008-11-16T12:24:07Z</dcterms:modified>
  <cp:revision>12</cp:revision>
  <dc:subject/>
  <dc:title>Слайд 1</dc:title>
</cp:coreProperties>
</file>