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C3E-DF2B-42EE-A018-124B0C80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FCB-50DE-4563-AF1E-993322D2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8CE-02D3-4977-9CBA-8E23577C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BF8-7485-49A5-B8CE-D6D6DB50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4173-599C-408B-97BF-3E696E61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74B-E4BE-44C0-A6B5-A042E43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DFC5-3CC3-4D2A-9599-B0D6749C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2D6B-7028-4BE2-8CC4-C76EB3A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B9EE-3247-4A4E-BBD2-AE413B0D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2065-96BF-437D-9935-F02D23FD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AA81-0281-4A3C-B997-E8E792A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B99-571C-4672-82C5-DD918DB7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7867-BE42-4240-8505-D0C588E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6FC2-80CF-4CD9-A721-054B097B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26E6-10AC-4938-B592-384A6F6D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62A6-0795-41AF-9604-DA798118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F1CF-4FB1-432B-A503-6A55C41E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49C-1196-43C8-AE9E-84EC6DC9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3A5-D3A5-402A-9881-DF88A220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9FD-2247-466C-BF96-1CC44A2E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AA8-A83B-4C11-B834-4071EC1D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6D1-6DD6-4A6C-9A31-B9CA5463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DCA-68B0-4142-9088-BAC3F542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E1E-337E-4892-937C-6F6B969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0251-F558-4003-9BF9-6C0AB24406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FF6-4B68-487F-9955-54F1D6E3D2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«</a:t>
            </a:r>
            <a:r>
              <a:rPr b="0" lang="ru-RU" sz="6000" spc="-1" strike="noStrike">
                <a:solidFill>
                  <a:srgbClr val="b2b2b2"/>
                </a:solidFill>
                <a:latin typeface="Times New Roman"/>
              </a:rPr>
              <a:t>БИТЛЗ» (Beatles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40384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Английск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рок-группа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1965 Леннон и Маккартни уже не писали песни вместе, хотя по условиям контракта (и по взаимной договоренности) песня каждого из них считалась совместным творчеством. В 1965 The Beatles побывали с концертами в Европе, Северной Америке, Австралии и Юго-Восточной Аз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5 августа 1965 состоя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ндиозное выступл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Beatles перед 55 тыся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рителей на нью-йоркс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дионе «Ши». Записанная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т период композиция По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ккартни Yesterday (перв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, 1965) до сих п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вляется самой популяр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сней в репертуаре бол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м 500 исполн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юне 1965 «за выдающийся вклад в дело процве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ликобритании» английская королева наградила музыкан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деном Британской империи. Церемония награж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ялась 26 октября в Букингемском дворце (в 1969 г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н Леннон вернул свой орден в знак протеста проти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обрения Великобританией войны во Вьетнаме). Летом 1966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ннон стал причиной грандиозного скандала в американ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ости, заявив: «Христианство рано или поздно изжи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бя. Оно съежится и исчезнет. Спорить по этому пов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смысленно — я прав, и будущее покажет, что я прав. Мы у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йчас популярнее Иисуса Христа». Последняя фраза привела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овым сожжениям пластинок группы в США, и спуст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которое время Леннон был вынужден принести свои изви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м, чьи чувства он оскорбил. 29 августа 1966 в Сан-Францис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Beatles дали свой последний концерт и сосредоточились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удийных экспериментах с разными звуками и инструмен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сей день исследователи спорят об истинных причинах распада «великолеп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тверки». Одни считают ключевой смерть Брайана Эпстайна, другие винят во вс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торую жену Леннона, сильно влиявшую на жизнь и взгляды мужа; третьи твердят 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мерно раздувшихся деловых амбициях Маккартни; четвертые списывают вс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отребление музыкантами наркотиков... Скорее всего, все они правы. Но главная причи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верное, в том, что Beatles просто устали друг от друга и от той невыносимо тяжел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уговерти, в которую превратилась их жизнь в качестве мегазвезд поп- и рок-музы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8861" t="8381" r="16034" b="16048"/>
          <a:stretch/>
        </p:blipFill>
        <p:spPr>
          <a:xfrm>
            <a:off x="900000" y="1989000"/>
            <a:ext cx="73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распадом группы, казалось, заканчивалась и эра  Beatles. Но эмоциональное воздействие их музыки оказалось неожиданным даже для самих музыкантов, настолько масштабным, что Beatles стали явлением в жизни чуть ли не всей планеты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0072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33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8002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Была образована в Ливерпуле в 1959 году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8424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578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ста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 Маккартни вокал, бас-гитара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н Леннон вокал, гитара, гармоника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дж Харрис вокал, гитара, ситар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нго Старр  начал выступать в составе группе c 1962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ал, ударные, перкуссия, клавишны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удущие участники легендарной группы родились и выросли в Ливерпуле, где в конце 1950-х годов влияние американской популярной музыки было едва ли не сильнее, чем в столице Великобритан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3939840"/>
            <a:ext cx="4038480" cy="21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27640" y="620640"/>
            <a:ext cx="4465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3790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60 The Beatles совершают свои первые поездки в Гамбург, где с успехом выступают в тамошних пивных. Их репертуар состоял главным образом из вещей Чака Берри, Литл Ричарда, Карла Перкинса и Бадди Хол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49687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2882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начале 1961 Леннон и Ко. дебютируют в клубе «Каверна» в своем родном Ливерпуле и за два года дают там более 300 концер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онце 1961 менеджером группы стал Брайан Эпстайн, который изменил имид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зыкантов: вместо черных кожаных курток в стиле teddy boys музыкан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чились в пиджаки без воротников от Пьера Кардена (получившие наз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битловки»), а взбитые «коки» а-ля Элвис Пресли сменились длинными чел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8036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нтябре 1962  Beatles выпустили свой первый сингл. В начале 1963 одна из композиций  заняла в хит-параде Великобритании второе место, тогда же в рекордно короткие сроки (за 13 часов) был записан дебютный альбом. На волне успеха третий сингл занял в чартах первое место. Летом 1963  Beatles, которые должны были открывать британские концерты американского певца Роя Орбисона, оказались по рейтингу на порядок выше американца — именно тогда появились первые признаки явления, получившего название «битломания». Официально этот термин был употреблен в прессе 14 октября 1963, на следующий день после триумфального выступления группы в ТВ-шоу. В октябре 1963 по окончании первых европейских гастролей  Beatles перебрались в Лондон. Преследуемые толпами поклонников, Beatles появлялись на публике только под охраной полиции. В конце октября того же года появляется самая тиражируемая пластинка в истории граммофонной промышленности Великобритании, а в ноябре 1963 группа выступает перед королевой-матерью и высшим светом в Лондонском театре принца Уэльского. Тогда же выходит в свет второй альбом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859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мотря на оглушительный успе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Европе, американская  фирм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неслась к группе настороженно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выпустила ни одной пластин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тированной 1963, рискну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печатать только четвер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гл. Вопреки всяческим ожидан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итиков, успех вышел ошеломляющ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тни тысяч американских тинейдже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бовали «привезти великолепн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ерку» в США. Начина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умфальные гастроли  Beatles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ую сторону Атлантики. В февра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64 более 70 миллионов американс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езрителей смотрели выступ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в знаменитом шоу. В апре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64 композиция Can't Buy Me Lo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временно возглавила хит-пар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ликобритании и США; в том ж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яце Beatles заняли все верхние пя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чек в хит-параде журнала Billboar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249800" cy="30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249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32:04Z</dcterms:created>
  <dc:creator>Серёга</dc:creator>
  <dc:description/>
  <dc:language>en-US</dc:language>
  <cp:lastModifiedBy>Сергей</cp:lastModifiedBy>
  <dcterms:modified xsi:type="dcterms:W3CDTF">2008-11-16T12:24:07Z</dcterms:modified>
  <cp:revision>12</cp:revision>
  <dc:subject/>
  <dc:title>Слайд 1</dc:title>
</cp:coreProperties>
</file>