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61E-EF87-4A9B-8F2D-08E7687C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86A-61E8-4A82-BBEB-6AC4624F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58C-2089-4F60-8A82-6A067BC6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EB9-A6F9-434E-BB9D-F34FC8AB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A88C-2C29-47B1-9F02-3F51CE27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964F-CAC0-447C-8205-0DD199F8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7948-9FB5-4089-8565-EDC7E067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E925-73B5-40E8-94F9-38D246F6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898C-AA35-444F-97FB-5062D910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6539-2D2C-4806-803F-83E140C0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0200-3447-4F25-9981-DDEE10AA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65D-14E1-43CA-BD51-FD54D122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431F-1833-4FF8-996A-B3AD86B5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54DD-FA8E-4385-A0E4-5D0F129B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92F3-EF77-4EDE-B931-2CDEF3CE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6BFC-83D7-4A4C-AFE9-5458890B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9FB5-2B87-40A7-8C6C-D39E5027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73E-DBCD-4262-9A6A-4CECAE32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57F-D80F-4EBC-8F00-80439E08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B7A-2D03-41C4-AAA8-E56BEE8C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C3C-80F6-4B05-A336-A2B08036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5E6-F426-436F-93B1-2622CF9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2CD-F96B-4422-A8C6-D9867DB0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6F0-D4D9-4E35-B893-54B19096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E489-E82A-4682-9E9C-5FE401ACA8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155E-C9B9-4C5E-AD25-AB4FFF3ECA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b2b2"/>
                </a:solidFill>
                <a:latin typeface="Arial"/>
              </a:rPr>
              <a:t>«</a:t>
            </a:r>
            <a:r>
              <a:rPr b="0" lang="ru-RU" sz="6000" spc="-1" strike="noStrike">
                <a:solidFill>
                  <a:srgbClr val="b2b2b2"/>
                </a:solidFill>
                <a:latin typeface="Times New Roman"/>
              </a:rPr>
              <a:t>БИТЛЗ» (Beatles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7200"/>
            <a:ext cx="40384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Английск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рок-группа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249800" cy="504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1965 Леннон и Маккартни уже не писали песни вместе, хотя по условиям контракта (и по взаимной договоренности) песня каждого из них считалась совместным творчеством. В 1965 The Beatles побывали с концертами в Европе, Северной Америке, Австралии и Юго-Восточной Аз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5 августа 1965 состоя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ндиозное выступл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Beatles перед 55 тыся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рителей на нью-йоркс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дионе «Ши». Записанная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т период композиция По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ккартни Yesterday (перв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сто, 1965) до сих п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вляется самой популяр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сней в репертуаре боле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м 500 исполн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юне 1965 «за выдающийся вклад в дело процве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ликобритании» английская королева наградила музыкан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рденом Британской империи. Церемония награж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оялась 26 октября в Букингемском дворце (в 1969 го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н Леннон вернул свой орден в знак протеста проти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обрения Великобританией войны во Вьетнаме). Летом 1966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ннон стал причиной грандиозного скандала в американ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ости, заявив: «Христианство рано или поздно изжи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бя. Оно съежится и исчезнет. Спорить по этому пов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ссмысленно — я прав, и будущее покажет, что я прав. Мы у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йчас популярнее Иисуса Христа». Последняя фраза привела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овым сожжениям пластинок группы в США, и спуст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которое время Леннон был вынужден принести свои изви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м, чьи чувства он оскорбил. 29 августа 1966 в Сан-Францис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Beatles дали свой последний концерт и сосредоточились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удийных экспериментах с разными звуками и инструмен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сей день исследователи спорят об истинных причинах распада «великолеп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тверки». Одни считают ключевой смерть Брайана Эпстайна, другие винят во вс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торую жену Леннона, сильно влиявшую на жизнь и взгляды мужа; третьи твердят 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мерно раздувшихся деловых амбициях Маккартни; четвертые списывают все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отребление музыкантами наркотиков... Скорее всего, все они правы. Но главная причи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верное, в том, что Beatles просто устали друг от друга и от той невыносимо тяжел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уговерти, в которую превратилась их жизнь в качестве мегазвезд поп- и рок-музы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8861" t="8381" r="16034" b="16048"/>
          <a:stretch/>
        </p:blipFill>
        <p:spPr>
          <a:xfrm>
            <a:off x="900000" y="1989000"/>
            <a:ext cx="73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распадом группы, казалось, заканчивалась и эра  Beatles. Но эмоциональное воздействие их музыки оказалось неожиданным даже для самих музыкантов, настолько масштабным, что Beatles стали явлением в жизни чуть ли не всей планеты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0072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33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8002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Была образована в Ливерпуле в 1959 году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939840"/>
            <a:ext cx="8229600" cy="219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84247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09080" cy="4578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ста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 Маккартни вокал, бас-гитара, клавиш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н Леннон вокал, гитара, гармоника, клавиш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рдж Харрис вокал, гитара, ситар, клавиш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инго Старр  начал выступать в составе группе c 1962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кал, ударные, перкуссия, клавишны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удущие участники легендарной группы родились и выросли в Ливерпуле, где в конце 1950-х годов влияние американской популярной музыки было едва ли не сильнее, чем в столице Великобритан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3939840"/>
            <a:ext cx="4038480" cy="219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27640" y="620640"/>
            <a:ext cx="44654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3790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960 The Beatles совершают свои первые поездки в Гамбург, где с успехом выступают в тамошних пивных. Их репертуар состоял главным образом из вещей Чака Берри, Литл Ричарда, Карла Перкинса и Бадди Хол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49687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2882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начале 1961 Леннон и Ко. дебютируют в клубе «Каверна» в своем родном Ливерпуле и за два года дают там более 300 концерт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конце 1961 менеджером группы стал Брайан Эпстайн, который изменил имид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зыкантов: вместо черных кожаных курток в стиле teddy boys музыкан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лачились в пиджаки без воротников от Пьера Кардена (получившие наз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битловки»), а взбитые «коки» а-ля Элвис Пресли сменились длинными чел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80360" cy="49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нтябре 1962  Beatles выпустили свой первый сингл. В начале 1963 одна из композиций  заняла в хит-параде Великобритании второе место, тогда же в рекордно короткие сроки (за 13 часов) был записан дебютный альбом. На волне успеха третий сингл занял в чартах первое место. Летом 1963  Beatles, которые должны были открывать британские концерты американского певца Роя Орбисона, оказались по рейтингу на порядок выше американца — именно тогда появились первые признаки явления, получившего название «битломания». Официально этот термин был употреблен в прессе 14 октября 1963, на следующий день после триумфального выступления группы в ТВ-шоу. В октябре 1963 по окончании первых европейских гастролей  Beatles перебрались в Лондон. Преследуемые толпами поклонников, Beatles появлялись на публике только под охраной полиции. В конце октября того же года появляется самая тиражируемая пластинка в истории граммофонной промышленности Великобритании, а в ноябре 1963 группа выступает перед королевой-матерью и высшим светом в Лондонском театре принца Уэльского. Тогда же выходит в свет второй альбом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8592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мотря на оглушительный успе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Европе, американская  фирм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неслась к группе настороженно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выпустила ни одной пластин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тированной 1963, рискну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печатать только четвер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гл. Вопреки всяческим ожидани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итиков, успех вышел ошеломляющ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тни тысяч американских тинейдже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ебовали «привезти великолепн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тверку» в США. Начинал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умфальные гастроли  Beatles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ую сторону Атлантики. В февра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964 более 70 миллионов американск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лезрителей смотрели выступл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в знаменитом шоу. В апре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964 композиция Can't Buy Me Lo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временно возглавила хит-пара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ликобритании и США; в том ж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яце Beatles заняли все верхние пя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чек в хит-параде журнала Billboar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249800" cy="302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42498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32:04Z</dcterms:created>
  <dc:creator>Серёга</dc:creator>
  <dc:description/>
  <dc:language>en-US</dc:language>
  <cp:lastModifiedBy>Сергей</cp:lastModifiedBy>
  <dcterms:modified xsi:type="dcterms:W3CDTF">2008-11-16T12:24:07Z</dcterms:modified>
  <cp:revision>12</cp:revision>
  <dc:subject/>
  <dc:title>Слайд 1</dc:title>
</cp:coreProperties>
</file>