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F89-66A6-4784-82E6-325311E5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37D-1002-4A88-8CFB-4F7D3CAB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B62-3F9A-4F92-A243-180FDD21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394-CCDA-4E06-A1FA-040511B5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C3B-EB25-4B08-A3A7-A57CE711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701-AA50-4C36-A404-A6EEE2B4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B56-644C-472D-857A-724D2024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495-C6E9-422D-A1F8-5C567C6A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CD32-1982-4D1C-B5F0-339FBCD8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04-C405-4A78-B88E-F42E44C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D80-D155-4EF0-A5CE-B70BFC7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9BD-D356-41C5-A17B-D3AF578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FCF2-8B7E-49D7-AE58-718566F31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857160" y="785880"/>
            <a:ext cx="74883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Анализ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етодической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боты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85840" y="200016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мотивации учеб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 у школьников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родителей      – 46% (1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общества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и собственные педагог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уднения     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ившиеся в школе традиции организаци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го процесса                        – 11% (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41128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причины педагогических затруд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826920" y="1916280"/>
            <a:ext cx="810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ю свою работу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 рабочий день в це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0% (14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урок удаё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ть                                   – 36% (10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у уроков по разде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ценивают       – 32% (9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уроков в целом в одном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071960" y="6429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Самоанализ</a:t>
            </a:r>
            <a:r>
              <a:rPr b="0" lang="ru-RU" sz="1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28760" y="235728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занятость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25% (7 че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-за постоянного контроля за систе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учебно-воспитатель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очное владении технолог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моанализе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771640" y="42876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рич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тсутствия само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35280" y="26028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Рост педагогическ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аст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286000" y="31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92888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-396720" y="1341360"/>
          <a:ext cx="9540720" cy="55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1341360"/>
                    <a:ext cx="9540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58920" y="191124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оригинальных ф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1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методической работы в школе недостато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но и не в полной мере способствует ро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го мастерства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едагогов сомневаются в том, что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обеспеч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ивность самой работы, деятельности учител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 в целом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 указывают на недостаточную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х советов по включению учител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поиск, творчество и опыт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ую деятельность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8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844720" y="115920"/>
            <a:ext cx="62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рганизации и содержани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26920" y="102996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Утвер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«Цель и задачи методической работы в школе объективно необходимы и ясны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получило оценку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3,6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бал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4143240" y="142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Уров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едагогического 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357120" y="228600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трудничество        – 73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авление               – 3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дифферентность  – 32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11280" y="2924280"/>
            <a:ext cx="7993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пасибо  за  внимание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139680" y="987480"/>
            <a:ext cx="93283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85840" y="1452600"/>
          <a:ext cx="8572320" cy="540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452600"/>
                    <a:ext cx="8572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Box 7"/>
          <p:cNvSpPr/>
          <p:nvPr/>
        </p:nvSpPr>
        <p:spPr>
          <a:xfrm>
            <a:off x="4356000" y="260280"/>
            <a:ext cx="459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Использу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9"/>
          <p:cNvSpPr/>
          <p:nvPr/>
        </p:nvSpPr>
        <p:spPr>
          <a:xfrm>
            <a:off x="3780000" y="40464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используе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-642960" y="1857240"/>
          <a:ext cx="9786960" cy="52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2960" y="1857240"/>
                    <a:ext cx="97869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6"/>
          <p:cNvSpPr/>
          <p:nvPr/>
        </p:nvSpPr>
        <p:spPr>
          <a:xfrm>
            <a:off x="3214800" y="7142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Выбор формы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-500040" y="1500120"/>
          <a:ext cx="9852120" cy="568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500120"/>
                    <a:ext cx="98521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Box 6"/>
          <p:cNvSpPr/>
          <p:nvPr/>
        </p:nvSpPr>
        <p:spPr>
          <a:xfrm>
            <a:off x="2987640" y="3571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ри выборе формы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-428760" y="1643040"/>
          <a:ext cx="9572760" cy="55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28760" y="1643040"/>
                    <a:ext cx="9572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Box 8"/>
          <p:cNvSpPr/>
          <p:nvPr/>
        </p:nvSpPr>
        <p:spPr>
          <a:xfrm>
            <a:off x="3995640" y="476280"/>
            <a:ext cx="478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Дифференциация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-500040" y="1785960"/>
          <a:ext cx="9644040" cy="52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785960"/>
                    <a:ext cx="96440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8"/>
          <p:cNvSpPr/>
          <p:nvPr/>
        </p:nvSpPr>
        <p:spPr>
          <a:xfrm>
            <a:off x="277164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важности приё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дифференци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9640" y="191772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родителями           – 21% (6 чел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бъективность оценки учеб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достижений учащихся           – 18% (5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преподавания       – 14% (4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воспитания            – 11% (3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ызов мотивации к учению   – 7% (2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учащимися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ллегами                               – 4% (1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48436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едагогические затруд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2:58Z</dcterms:created>
  <dc:creator>Светик</dc:creator>
  <dc:description/>
  <dc:language>en-US</dc:language>
  <cp:lastModifiedBy>Koynjhf !</cp:lastModifiedBy>
  <dcterms:modified xsi:type="dcterms:W3CDTF">2009-03-24T12:23:02Z</dcterms:modified>
  <cp:revision>24</cp:revision>
  <dc:subject/>
  <dc:title>Слайд 1</dc:title>
</cp:coreProperties>
</file>