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07E-11EC-448F-B43E-ED087847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3FB-469F-4CEF-96E6-7E419AF8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960-F197-45C8-AD92-04F95C8B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EE9-F08B-4D91-964C-7A9FAE75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156-78CC-461D-AB79-AD6A91D3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560-48AE-400B-B729-8E3E97A6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32C-F364-4E55-9FBB-354957E8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48AA-05EA-47E8-89D3-F508255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574-EA6F-46AB-9DE3-C7C670BE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4F4-D8AC-4B02-8AD4-CAEE6D0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643-D921-4495-BB36-AE7CF14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0D0-95CF-4C70-8E78-8DEA94E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8D71-E752-4AD4-96E1-16A93AD4D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857160" y="785880"/>
            <a:ext cx="748836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Анализ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етодической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боты </a:t>
            </a:r>
            <a:endParaRPr b="1" i="1" lang="en-US" sz="18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85840" y="200016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мотивации учеб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 у школьников         – 54% (15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ддержки педагогических ус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со стороны родителей      – 46% (13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ддержки педагогических ус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 со стороны общества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и собственные педагог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уднения                            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ившиеся в школе традиции организаци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го процесса                        – 11% (3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411280" y="620640"/>
            <a:ext cx="65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сновные причины педагогических затруд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826920" y="1916280"/>
            <a:ext cx="810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ю свою работу в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54% (15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 рабочий день в це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50% (14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урок удаё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ть                                   – 36% (10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у уроков по разде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ценивают       – 32% (9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уроков в целом в одном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ивают                              – 21% (6 чел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071960" y="6429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Самоанализ</a:t>
            </a:r>
            <a:r>
              <a:rPr b="0" lang="ru-RU" sz="1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28760" y="2357280"/>
            <a:ext cx="850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занятость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25% (7 чел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-за постоянного контроля за систем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учебно-воспитатель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очное владении технолог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14% (4чел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моанализе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– 14% (4чел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771640" y="42876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Прич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отсутствия само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635280" y="26028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Рост педагогическо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аст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286000" y="3105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928880" y="4714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-396720" y="1341360"/>
          <a:ext cx="9540720" cy="55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96720" y="1341360"/>
                    <a:ext cx="95407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58920" y="191124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оригинальных фор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боты в школе   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1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методической работы в школе недостато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есно и не в полной мере способствует ро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го мастерства    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едагогов сомневаются в том, что 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боты в школе обеспечи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ивность самой работы, деятельности учител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ого процесса в целом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7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 указывают на недостаточную 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х советов по включению учителей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ий поиск, творчество и опыт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альную деятельность    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2,8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844720" y="115920"/>
            <a:ext cx="629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рганизации и содержани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26920" y="102996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Утвер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«Цель и задачи методической работы в школе объективно необходимы и ясны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получило оценку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3,6</a:t>
            </a:r>
            <a:r>
              <a:rPr b="0" lang="ru-RU" sz="4000" spc="-1" strike="noStrike">
                <a:solidFill>
                  <a:srgbClr val="000099"/>
                </a:solidFill>
                <a:latin typeface="Georgia"/>
              </a:rPr>
              <a:t> бал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4143240" y="1429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Уров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педагогического взаимо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357120" y="2286000"/>
            <a:ext cx="8501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трудничество        – 73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давление               – 3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дифферентность  – 32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611280" y="2924280"/>
            <a:ext cx="79930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Спасибо  за  внимание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pic>
        <p:nvPicPr>
          <p:cNvPr id="45" name="Прямоугольник 6" descr=""/>
          <p:cNvPicPr/>
          <p:nvPr/>
        </p:nvPicPr>
        <p:blipFill>
          <a:blip r:embed="rId2"/>
          <a:stretch/>
        </p:blipFill>
        <p:spPr>
          <a:xfrm>
            <a:off x="139680" y="987480"/>
            <a:ext cx="93283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6"/>
          <p:cNvGraphicFramePr/>
          <p:nvPr/>
        </p:nvGraphicFramePr>
        <p:xfrm>
          <a:off x="285840" y="1452600"/>
          <a:ext cx="8572320" cy="540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1452600"/>
                    <a:ext cx="8572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Box 7"/>
          <p:cNvSpPr/>
          <p:nvPr/>
        </p:nvSpPr>
        <p:spPr>
          <a:xfrm>
            <a:off x="4356000" y="260280"/>
            <a:ext cx="459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Используе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0" y="1571760"/>
          <a:ext cx="914400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71760"/>
                    <a:ext cx="91440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9"/>
          <p:cNvSpPr/>
          <p:nvPr/>
        </p:nvSpPr>
        <p:spPr>
          <a:xfrm>
            <a:off x="3780000" y="40464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используем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метод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-642960" y="1857240"/>
          <a:ext cx="9786960" cy="521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42960" y="1857240"/>
                    <a:ext cx="97869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Box 6"/>
          <p:cNvSpPr/>
          <p:nvPr/>
        </p:nvSpPr>
        <p:spPr>
          <a:xfrm>
            <a:off x="3214800" y="71424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Выбор формы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graphicFrame>
        <p:nvGraphicFramePr>
          <p:cNvPr id="65" name="Object 5"/>
          <p:cNvGraphicFramePr/>
          <p:nvPr/>
        </p:nvGraphicFramePr>
        <p:xfrm>
          <a:off x="-500040" y="1500120"/>
          <a:ext cx="9852120" cy="568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00040" y="1500120"/>
                    <a:ext cx="985212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Box 6"/>
          <p:cNvSpPr/>
          <p:nvPr/>
        </p:nvSpPr>
        <p:spPr>
          <a:xfrm>
            <a:off x="2987640" y="35712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фа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при выборе формы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-428760" y="1643040"/>
          <a:ext cx="9572760" cy="55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28760" y="1643040"/>
                    <a:ext cx="957276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Box 8"/>
          <p:cNvSpPr/>
          <p:nvPr/>
        </p:nvSpPr>
        <p:spPr>
          <a:xfrm>
            <a:off x="3995640" y="476280"/>
            <a:ext cx="478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Дифференциация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-500040" y="1785960"/>
          <a:ext cx="9644040" cy="52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00040" y="1785960"/>
                    <a:ext cx="964404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Box 8"/>
          <p:cNvSpPr/>
          <p:nvPr/>
        </p:nvSpPr>
        <p:spPr>
          <a:xfrm>
            <a:off x="2771640" y="620640"/>
            <a:ext cx="65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ценка важности приё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дифференци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539640" y="191772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нтакт с родителями           – 21% (6 чел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бъективность оценки учеб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достижений учащихся           – 18% (5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тодика преподавания       – 14% (4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тодика воспитания            – 11% (3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ызов мотивации к учению   – 7% (2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нтакт с учащимися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оллегами                               – 4% (1 чел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 rot="19626000">
            <a:off x="-110880" y="905040"/>
            <a:ext cx="3381480" cy="552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7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ccff"/>
                </a:solidFill>
                <a:latin typeface="Book Antiqua"/>
              </a:rPr>
              <a:t>Анкетирование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99ccff"/>
              </a:solidFill>
              <a:latin typeface="Book Antiqua"/>
              <a:ea typeface="Book Antiqua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248436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Осно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педагогические затруд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02:58Z</dcterms:created>
  <dc:creator>Светик</dc:creator>
  <dc:description/>
  <dc:language>en-US</dc:language>
  <cp:lastModifiedBy>Koynjhf !</cp:lastModifiedBy>
  <dcterms:modified xsi:type="dcterms:W3CDTF">2009-03-24T12:23:02Z</dcterms:modified>
  <cp:revision>24</cp:revision>
  <dc:subject/>
  <dc:title>Слайд 1</dc:title>
</cp:coreProperties>
</file>