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987-0CA9-4D77-8C4A-DAB01C2E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C2A-D398-408F-81B5-727E8FF0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CB7-EB61-4FA2-801A-CF5D1A60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D1B-22ED-44F2-A8FE-3D9529B6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F29-8E2D-4AFB-B7BB-087C3783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72E-B2B3-4F8D-B0AB-44AAAB51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909-B4E7-4EEA-8351-5AFB19C5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46F-C864-41B6-8631-A9ED339A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A00-5AC4-4E5C-A6D9-BE990C07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4BE-9411-42B3-B95B-8EB763C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A24-3C3A-45BD-A407-719865B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D34-B7A2-4282-A0BA-80E4D74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51E4-FED8-4261-974C-E23454C0B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857160" y="785880"/>
            <a:ext cx="748836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Анализ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етодической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аботы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285840" y="200016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мотивации учеб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 у школьников         – 54% (15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ддержки педагогических ус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 со стороны родителей      – 46% (13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ддержки педагогических ус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 со стороны общества       – 21% (6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и собственные педагог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уднения                                   – 21% (6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ившиеся в школе традиции организаци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го процесса                        – 11% (3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2411280" y="620640"/>
            <a:ext cx="65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сновные причины педагогических затруд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826920" y="1916280"/>
            <a:ext cx="8104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ю свою работу в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                              – 54% (15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 рабочий день в це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                              – 50% (14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урок удаё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ть                                   – 36% (10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у уроков по разде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ценивают       – 32% (9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уроков в целом в одном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                              – 21% (6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071960" y="6429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Самоанализ</a:t>
            </a:r>
            <a:r>
              <a:rPr b="0" lang="ru-RU" sz="1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428760" y="2357280"/>
            <a:ext cx="8501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занятость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 25% (7 чел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-за постоянного контроля за систе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 учебно-воспитатель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очное владении технолог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а       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 14% (4чел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потре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моанализе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 14% (4чел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771640" y="42876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Прич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отсутствия само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635280" y="260280"/>
            <a:ext cx="53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Рост педагогическо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асте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286000" y="310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928880" y="4714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-396720" y="1341360"/>
          <a:ext cx="9540720" cy="55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720" y="1341360"/>
                    <a:ext cx="9540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58920" y="1911240"/>
            <a:ext cx="87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оригинальных фор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работы в школе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1,7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методической работы в школе недостаточ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но и не в полной мере способствует ро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го мастерства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2,7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едагогов сомневаются в том, что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работы в школе обеспечи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ивность самой работы, деятельности учител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ого процесса в целом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2,7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 указывают на недостаточную 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х советов по включению учителе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поиск, творчество и опыт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альную деятельность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2,8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844720" y="115920"/>
            <a:ext cx="629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рганизации и содержани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етод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826920" y="1029960"/>
            <a:ext cx="7705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Утвер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«Цель и задачи методической работы в школе объективно необходимы и ясны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получило оценку 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3,6</a:t>
            </a: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 бал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4143240" y="142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Уров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педагогического взаимо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357120" y="2286000"/>
            <a:ext cx="8501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трудничество        – 73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давление               – 3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дифферентность  – 32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611280" y="2924280"/>
            <a:ext cx="79930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Спасибо  за  внимание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139680" y="987480"/>
            <a:ext cx="93283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285840" y="1452600"/>
          <a:ext cx="8572320" cy="540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1452600"/>
                    <a:ext cx="8572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Box 7"/>
          <p:cNvSpPr/>
          <p:nvPr/>
        </p:nvSpPr>
        <p:spPr>
          <a:xfrm>
            <a:off x="4356000" y="260280"/>
            <a:ext cx="459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Используе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0" y="1571760"/>
          <a:ext cx="914400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71760"/>
                    <a:ext cx="914400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Box 9"/>
          <p:cNvSpPr/>
          <p:nvPr/>
        </p:nvSpPr>
        <p:spPr>
          <a:xfrm>
            <a:off x="3780000" y="404640"/>
            <a:ext cx="51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используе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етод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-642960" y="1857240"/>
          <a:ext cx="9786960" cy="521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42960" y="1857240"/>
                    <a:ext cx="97869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6"/>
          <p:cNvSpPr/>
          <p:nvPr/>
        </p:nvSpPr>
        <p:spPr>
          <a:xfrm>
            <a:off x="3214800" y="71424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Выбор формы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-500040" y="1500120"/>
          <a:ext cx="9852120" cy="568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00040" y="1500120"/>
                    <a:ext cx="985212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Box 6"/>
          <p:cNvSpPr/>
          <p:nvPr/>
        </p:nvSpPr>
        <p:spPr>
          <a:xfrm>
            <a:off x="2987640" y="35712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фа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при выборе формы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-428760" y="1643040"/>
          <a:ext cx="9572760" cy="550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28760" y="1643040"/>
                    <a:ext cx="95727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Box 8"/>
          <p:cNvSpPr/>
          <p:nvPr/>
        </p:nvSpPr>
        <p:spPr>
          <a:xfrm>
            <a:off x="3995640" y="476280"/>
            <a:ext cx="478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Дифференциация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-500040" y="1785960"/>
          <a:ext cx="9644040" cy="527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00040" y="1785960"/>
                    <a:ext cx="964404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Box 8"/>
          <p:cNvSpPr/>
          <p:nvPr/>
        </p:nvSpPr>
        <p:spPr>
          <a:xfrm>
            <a:off x="2771640" y="620640"/>
            <a:ext cx="65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важности приё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дифференциаци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539640" y="1917720"/>
            <a:ext cx="83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онтакт с родителями           – 21% (6 чел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бъективность оценки учеб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достижений учащихся           – 18% (5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тодика преподавания       – 14% (4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тодика воспитания            – 11% (3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ызов мотивации к учению   – 7% (2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онтакт с учащимися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оллегами                               – 4% (1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48436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сно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педагогические затруд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6:02:58Z</dcterms:created>
  <dc:creator>Светик</dc:creator>
  <dc:description/>
  <dc:language>en-US</dc:language>
  <cp:lastModifiedBy>Koynjhf !</cp:lastModifiedBy>
  <dcterms:modified xsi:type="dcterms:W3CDTF">2009-03-24T12:23:02Z</dcterms:modified>
  <cp:revision>24</cp:revision>
  <dc:subject/>
  <dc:title>Слайд 1</dc:title>
</cp:coreProperties>
</file>