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0A5E-A00E-4128-93D9-88DBF7D8E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16E8-E1F0-4067-B6D0-D0EEF057D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F624-D1E5-48A7-8810-443F38342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A7A3-5DBD-4246-9885-23EFCB8F9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1DAFD-C097-40C7-8F7C-24B59D014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881BB-5E4D-4C2F-A892-A8518F0EC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C6E49-B438-4212-964C-53DB45ED3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1DB42-8DDF-4967-9384-0989BEE19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D8300-E476-477C-9003-6FC2B2A7B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DBBC9-AF78-4975-AAF7-9CAF56F57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2012D-D1B0-4F37-A5C0-C7AB2A0E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E67A-E5DD-4EC6-82FD-F821FBC1C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4DFA6-1CAF-4B72-9E91-3728897F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A3E31-4ED8-4A83-B64B-6FAAE84D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310A9-522E-4212-BD48-0C652B52C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D526A-5BEF-4F86-9203-FEDB614BE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04112-8B3B-4C71-8515-7FC0D75F7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08A3-5562-4F05-AD4A-3985A37F4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80D9-7BCF-48E3-A24D-86B56A28E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4B24-089E-4398-95F0-ECFBDB21C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8997-7066-4AEC-891C-27C18025B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402E-49EC-4F19-9755-F8A0D65B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1E71-600A-42B9-8C5F-EC945047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51AB-BD0A-4060-8D2A-18F7312E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9CF4D-6590-48FC-9BD0-EF2BC151B8F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8ECC9-081F-4C9C-954B-E8E1B4ACF7C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38280" y="76464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c0039"/>
                </a:solidFill>
                <a:latin typeface="Verdana"/>
              </a:rPr>
              <a:t>Электронное сопровождение лекционно- практического занятия</a:t>
            </a:r>
            <a:br>
              <a:rPr sz="2400"/>
            </a:b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438280" y="2565000"/>
            <a:ext cx="640080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тарцуевой Жаргалмы Цырендоржиевн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подавате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ИПКиП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c0039"/>
                </a:solidFill>
                <a:latin typeface="Arial"/>
              </a:rPr>
              <a:t>Положения учебной программы на основе метода проектов</a:t>
            </a: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епенное увеличение объема знаний и навы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Выполнение проектов в различных областях, начиная от более знакомых (дом, школа, места отдыха) и заканчивая более сложными (общество, бизнес, индустрия и др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оянное усложнение требований, предъявляемых к решению проблем (испытание комплексного подхода, учет большого количества воздействующих факторов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Постепенно учащиеся осознают собственные способности и возможности для удовлетворения потребностей личности и обще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можность акцентировать внимание на местных условиях, так как проблемы для проектов выбираются в основном из окружающей жиз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тод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от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p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o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путь, способ исследования, обучение, изложения) - совокупность приемов и операций познания и практического преобразования действительности; способ достижения определенных результатов в познании и практик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роектный метод обучения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тод проектов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от греч. – путь исследования) – это система обучения, при которой учащиеся приобретают знания в процессе планирования и выполнения постепенно усложняющихся практических заданий 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ек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ект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это совокупность документов (расчетов, чертежей, пояснительной записки и т.д.) для создания каких – либо изделий, технических устройств, сооруж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Цель применения проектного метода обучения: 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бщение ЗУН для организации самостоятельной деятельности по изготовлению изделий из любых материал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3316"/>
                </a:solidFill>
                <a:latin typeface="Arial"/>
              </a:rPr>
              <a:t>Развитие творческого мышления, исследовательских навыков, умений интегрировать свои зн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у учащихся качеств творчески думающей, активно действующей и адаптирующейся личности, которые необходимы для деятельности в новых социально – экономических условиях, начиная от определения потребностей в продукции до ее реализаци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Учебный проект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27280" y="1557360"/>
            <a:ext cx="3137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 учебным проект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нимается самостоятельная творческая завершенная работа, соответствующая уровню подготовки и возрастным особенностям учащих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j0217698"/>
          <p:cNvPicPr/>
          <p:nvPr/>
        </p:nvPicPr>
        <p:blipFill>
          <a:blip r:embed="rId1"/>
          <a:stretch/>
        </p:blipFill>
        <p:spPr>
          <a:xfrm>
            <a:off x="6300720" y="2133720"/>
            <a:ext cx="2373480" cy="25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11280" y="259920"/>
            <a:ext cx="64008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11cc8"/>
                </a:solidFill>
                <a:latin typeface="Arial"/>
              </a:rPr>
              <a:t>Учебный проект</a:t>
            </a:r>
            <a:r>
              <a:rPr b="0" lang="ru-RU" sz="2400" spc="-1" strike="noStrike">
                <a:solidFill>
                  <a:srgbClr val="8c0039"/>
                </a:solidFill>
                <a:latin typeface="Arial"/>
              </a:rPr>
              <a:t> - это творческая, в значительной мере самостоятельная деятельность учащихся, </a:t>
            </a:r>
            <a:r>
              <a:rPr b="0" lang="ru-RU" sz="1600" spc="-1" strike="noStrike">
                <a:solidFill>
                  <a:srgbClr val="8c0039"/>
                </a:solidFill>
                <a:latin typeface="Arial"/>
              </a:rPr>
              <a:t>подразумевающая:</a:t>
            </a:r>
            <a:endParaRPr b="0" lang="en-US" sz="1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10920" y="1915920"/>
            <a:ext cx="6427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иск информации, необходимой для реализации идей проекта или вспомогательных задач, анализ и обобщение собранного материал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Выработку гипотез собственных исследований, экспериментальную проверку или сбор экспериментальных данных, теоретическое обоснование выдвигаемых ид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циально значимую практическую деятельность по результатам проведенных исследований, отражающих личностно – индивидуальную пози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019920" y="1600200"/>
            <a:ext cx="3124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971640" y="907920"/>
            <a:ext cx="5111640" cy="102096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Реализация учебного проекта учащимися связа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с практическим использование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ранее приобретенных ЗУ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3203640" y="1928880"/>
            <a:ext cx="5616360" cy="85716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В психологии этот процесс связывают с переносом ЗУ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971640" y="2786040"/>
            <a:ext cx="5111640" cy="107172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Но перено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не есть простое прилож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шлых знаний и опыта к решению новых задач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3348000" y="3857760"/>
            <a:ext cx="5400720" cy="71424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Использование знаний носит поисковый характ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971640" y="4572000"/>
            <a:ext cx="5327640" cy="64296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и является, по существу, приобретением новых знани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3635280" y="5214960"/>
            <a:ext cx="5112000" cy="116820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поскольку в процессе работы над учебным проект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учащийся открывает и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неизвестные стороны, взаимосвязи, отнош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Проектное обучение – развитие творческих способностей личности 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438280" y="1854360"/>
            <a:ext cx="6400800" cy="42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о "творчество" происходит от слова "творить", т.е. в общественном смысле это означает "искать", изобретать и создавать нечто такое, что не встречалось в прошлом опыте – индивидуальном или общественном. В психолого – педагогическом определении творчества отражается момент субъективной значимости этого процесса, т.е. творчество есть деятельность, способствующая созданию, открытию чего – либо ранее неизвестного для данного субъек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Творческий проект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37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 творческим проектом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имается учебно – трудовое задание, активизирующее деятельность учащихся, в результате которого ими создается продукт, обладающий субъективной, а иногда и объективной новиз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j0291984"/>
          <p:cNvPicPr/>
          <p:nvPr/>
        </p:nvPicPr>
        <p:blipFill>
          <a:blip r:embed="rId1"/>
          <a:stretch/>
        </p:blipFill>
        <p:spPr>
          <a:xfrm>
            <a:off x="6099120" y="1774800"/>
            <a:ext cx="2135160" cy="361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ворчество – это исследовани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00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ехнологический подход к жизненным и производственным задачам требует постоянного развития, тренировки такого свойства (качества) ума, как «творческость», т.е. способность не теряться в любой ситуации, преодолевать возникшие затруд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2411280" y="377100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Monotype Corsiva"/>
              </a:rPr>
              <a:t>Проектный метод обучения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нания устаревают весьма быстро, тогда как способы деятельности – значительно медленн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.И. Шам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716360" y="9079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Творческие способности присущи любому человеку, любому нормальному ребенку, только нужно вовремя их раскрыть и разв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j0195812"/>
          <p:cNvPicPr/>
          <p:nvPr/>
        </p:nvPicPr>
        <p:blipFill>
          <a:blip r:embed="rId1"/>
          <a:stretch/>
        </p:blipFill>
        <p:spPr>
          <a:xfrm>
            <a:off x="2955960" y="2089080"/>
            <a:ext cx="1992240" cy="34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555640" y="691920"/>
            <a:ext cx="59036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меты творчеств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ледует рассматривать не только  как предметы, обучающие каким-то трудовым и конструктивно-художественным навыкам и знания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как предметы, формирующие мышление, эмоциональную деятельн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и связаны с природой, этикой, эстетикой, наукой, техникой и другими сферами деятельности, окружающими челове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j0285444"/>
          <p:cNvPicPr/>
          <p:nvPr/>
        </p:nvPicPr>
        <p:blipFill>
          <a:blip r:embed="rId1"/>
          <a:stretch/>
        </p:blipFill>
        <p:spPr>
          <a:xfrm>
            <a:off x="5724360" y="4653000"/>
            <a:ext cx="3164040" cy="220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реимущества метода проектов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ет возможность организовать учебную деятельность учащегося, соблюдая разумный баланс между теорией и практикой, между академическими знаниями и прагматическими умени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реимущества метода проектов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изуется идея профессиональной ориентации на всех уровнях обучения, так как создание системы проектов в школе инициируется желанием найти такие формы организации учебного процесса, которые позволяли бы погрузить учащихся в учебно – профессиональную деятельность с первых дней обучения, повышая тем самым уровень мотивации учащихся к процессу обучения и эффективность учебного процесса, создавая возможности реализации личностно - ориентированного подхода в обуч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реимущества метода проектов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ект – модель обстановки реальной профессиональной деятельности (ставится проблема и ее надо решить в заданный сро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реимущества метода проектов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ектный метод относится к педагогическим технологиям, которые могут успешно интегрироваться в учебный проце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реимущества метода проектов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полагаемый результат итогов внедрения проектной методики – повышение уровня активности школьников и качества знаний учащихся в предметных област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Историко–педагогический анализ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11280" y="1844640"/>
            <a:ext cx="6400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Этап доминирования метода проектов в образовательном процессе (начало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ека). Данный метод рассматривался в качестве новой формы и универсального средства обучения, предполагающего гуманистическую направленность деятельности педагога, построение учебного процесса на активной, деятельностной и интрегративной основе (Дж. Дьюи, У. Килпатрик, Э. Коллингс, С. Левин, Е.Г. Кагаров, С.Т. Шацкий и др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Этап переосмысления концепции метода проектов (70-80-е гг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). Метод проектов использовался наряду с другими методами. Учащиеся выбирали и выполняли проекты под руководством педагог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Этап полифункциональной ориентации представлений о сущности метода проектов (конец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). Этот метод рассматривается как новая педагогическая технология (В.В. Гузеев, Е.С. Полат, Г.К. Селевко), как самостоятельная система обучения и метод познания учащимися социума (Дж. Питт, М.Б. Павлова, М.И. Гуревич, В.Д, Симоненко, И.А. Сасова и др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10920" y="260280"/>
            <a:ext cx="6427800" cy="168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c0039"/>
                </a:solidFill>
                <a:latin typeface="Arial"/>
              </a:rPr>
              <a:t>Дж. Дьюи, Лай, Торндайк (США)</a:t>
            </a:r>
            <a:br>
              <a:rPr sz="2000"/>
            </a:br>
            <a:r>
              <a:rPr b="0" lang="ru-RU" sz="2000" spc="-1" strike="noStrike">
                <a:solidFill>
                  <a:srgbClr val="8c0039"/>
                </a:solidFill>
                <a:latin typeface="Arial"/>
              </a:rPr>
              <a:t>В.Х.Килпатрик «Метод проектов. Применение целевой установки в педагогическом процессе» (1925)</a:t>
            </a:r>
            <a:br>
              <a:rPr sz="2000"/>
            </a:br>
            <a:r>
              <a:rPr b="0" i="1" lang="ru-RU" sz="2000" spc="-1" strike="noStrike">
                <a:solidFill>
                  <a:srgbClr val="660066"/>
                </a:solidFill>
                <a:latin typeface="Arial"/>
              </a:rPr>
              <a:t>Главные идеи</a:t>
            </a:r>
            <a:r>
              <a:rPr b="0" i="1" lang="ru-RU" sz="2000" spc="-1" strike="noStrike">
                <a:solidFill>
                  <a:srgbClr val="411cc8"/>
                </a:solidFill>
                <a:latin typeface="Arial"/>
              </a:rPr>
              <a:t>: «Все из жизни, все для жизни»</a:t>
            </a:r>
            <a:endParaRPr b="0" lang="en-US" sz="2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2205000"/>
            <a:ext cx="640080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большим увлечением выполняется ребенком только та деятельность, которая им выбрана свободно сами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Деятельность строится не в русле учебного предме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а основана на сиюминутных увлечениях де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Истинное обучение никогда не бывает односторонним, важны и побочные сведения и д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db49">
            <a:alpha val="6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28920" y="428400"/>
            <a:ext cx="6400800" cy="11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4000" spc="-1" strike="noStrike">
                <a:solidFill>
                  <a:srgbClr val="411cc8"/>
                </a:solidFill>
                <a:latin typeface="Arial"/>
              </a:rPr>
              <a:t>Проект –</a:t>
            </a: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с лат.  «выступающий вперед»</a:t>
            </a: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предварительный, предположительный текст какого – либо акта, документа и т.п., замысел (Словарь иностранных слов. –М., 195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аботка плана сооружения, постройки, изготовления или реконструкции чего – либ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>
            <a:alpha val="5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29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c003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11cc8"/>
                </a:solidFill>
                <a:latin typeface="Arial"/>
              </a:rPr>
              <a:t>Проект</a:t>
            </a:r>
            <a:r>
              <a:rPr b="0" lang="ru-RU" sz="3200" spc="-1" strike="noStrike">
                <a:solidFill>
                  <a:srgbClr val="53cd81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это ограниченное во времени целенаправленное изменение отдельной системы с установленными требованиями к качеству результатов, возможными рамками расхода средств и ресурсов и специфической организаци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db49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Метод проектов -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целенаправленная учебная или внешкольная деятельность с определенной целью, по определенной программе для решения учебных, поисковых, исследовательских, практических задач на предметной, межпредметной, интегрированной надпредметной осно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>
            <a:alpha val="5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28920" y="214200"/>
            <a:ext cx="64008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8c0039"/>
                </a:solidFill>
                <a:uFillTx/>
                <a:latin typeface="Arial"/>
              </a:rPr>
              <a:t>Метод проектов </a:t>
            </a:r>
            <a:br>
              <a:rPr sz="36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(от греч. – путь исследования) 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система обучения, при которой учащиеся приобретают знания в процессе планирования и выполнения постепенно усложняющихся практических заданий – </a:t>
            </a:r>
            <a:r>
              <a:rPr b="1" lang="ru-RU" sz="3200" spc="-1" strike="noStrike">
                <a:solidFill>
                  <a:srgbClr val="411cc8"/>
                </a:solidFill>
                <a:latin typeface="Arial"/>
              </a:rPr>
              <a:t>прое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Условия применения метода проектов</a:t>
            </a: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8280" y="1484280"/>
            <a:ext cx="64008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ществование некой значимой проблемы, требующей решения путем исследовательского (творческого) поиска и применения интегрированного 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Значимость предполагаемых результатов (практическая, теоретическая, познавательна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нение исследовательских (творческих) методов при проектиров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Структурирование этапов выполнения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остоятельная деятельность учащихся в ситуации выб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0T20:22:51Z</dcterms:created>
  <dc:creator>User</dc:creator>
  <dc:description/>
  <dc:language>en-US</dc:language>
  <cp:lastModifiedBy>x</cp:lastModifiedBy>
  <dcterms:modified xsi:type="dcterms:W3CDTF">2007-11-19T20:50:14Z</dcterms:modified>
  <cp:revision>20</cp:revision>
  <dc:subject/>
  <dc:title>Организация проектной деятельнос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