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398-9A2C-4DD8-BCEB-B9A8E6AC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29C-43BA-4E6F-AE53-EA8331C4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2B5-DFC7-4339-BA0B-C3DC4410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1B6-C7E0-4663-87AD-02675A25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BEFC-DFFA-4219-BA97-BB33DCB5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408D-7869-45C1-A876-7CE699E8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D85-81BB-4352-BC06-FA18B59C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4079-84BD-4E7D-B7C6-F717EE43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0CB3-AE54-4216-8A2E-3171E845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8F65-6D78-4E4C-BF62-4F40AC4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74D5-CBAD-4113-84AA-7AB1AB0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AF0-318D-444D-B251-38637462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E271-8A95-41CD-8487-75D63677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6992-B9BA-4292-801B-644F04A2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67A5-85F6-4CC7-B465-63FA3449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5FF0-4C4F-4A86-9FEB-DD4E61CE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F04C-FB40-4E47-85F7-B3A0D058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2D1-E5B4-47BD-9C26-F3B33393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16E-060C-41AC-B55D-AA84B067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C24-374B-494D-9884-C30FA0DC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2B2-52AD-4DF7-9618-C82D538D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702-234A-42A4-8037-8B44B29B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C39-E537-4904-900B-47090B67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8B8-C6BE-4D82-AD43-BC0B4D54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B745-42D5-4CB8-91A4-74FB092981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F30B-D4FC-426E-B3EB-8795919BAA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764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Verdana"/>
              </a:rPr>
              <a:t>Электронное сопровождение лекционно- практического занятия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2565000"/>
            <a:ext cx="6400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рцуевой Жаргалмы Цырендоржиев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подава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ИПКиП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Положения учебной программы на основе метода проектов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епенное увеличение объема знаний и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ыполнение проектов в различных областях, начиная от более знакомых (дом, школа, места отдыха) и заканчивая более сложными (общество, бизнес, индустри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усложнение требований, предъявляемых к решению проблем (испытание комплексного подхода, учет большого количества воздействующих фактор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Постепенно учащиеся осознают собственные способности и возможности для удовлетворения потребностей личности и об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акцентировать внимание на местных условиях, так как проблемы для проектов выбираются в основном из окружающей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уть, способ исследования, обучение, изложения) - совокупность приемов и операций познания и практического преобразования действительности; способ достижения определенных результатов в познании и практ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ектный метод обуче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проек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– путь исследования) – это система обучения, при которой учащиеся приобретают знания в процессе планирования и выполнения постепенно усложняющихся практических заданий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документов (расчетов, чертежей, пояснительной записки и т.д.) для создания каких – либо изделий, технических устройств, соору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Цель применения проектного метода обучения: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ЗУН для организации самостоятельной деятельности по изготовлению изделий из любы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3316"/>
                </a:solidFill>
                <a:latin typeface="Arial"/>
              </a:rPr>
              <a:t>Развитие творческого мышления, исследовательских навыков, умений интегрировать свои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учащихся качеств творчески думающей, активно действующей и адаптирующейся личности, которые необходимы для деятельности в новых социально – экономических условиях, начиная от определения потребностей в продукции до ее реализ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чебный проек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31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учебным прое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нимается самостоятельная творческая завершенная работа, соответствующая уровню подготовки и возрастным особенностям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17698"/>
          <p:cNvPicPr/>
          <p:nvPr/>
        </p:nvPicPr>
        <p:blipFill>
          <a:blip r:embed="rId1"/>
          <a:stretch/>
        </p:blipFill>
        <p:spPr>
          <a:xfrm>
            <a:off x="6300720" y="2133720"/>
            <a:ext cx="23734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cc8"/>
                </a:solidFill>
                <a:latin typeface="Arial"/>
              </a:rPr>
              <a:t>Учебный проект</a:t>
            </a: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- это творческая, в значительной мере самостоятельная деятельность учащихся, </a:t>
            </a: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подразумевающая:</a:t>
            </a: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0920" y="1915920"/>
            <a:ext cx="642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нформации, необходимой для реализации идей проекта или вспомогательных задач, анализ и обобщение собранн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работку гипотез собственных исследований, экспериментальную проверку или сбор экспериментальных данных, теоретическое обоснование выдвигаемых и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 значимую практическую деятельность по результатам проведенных исследований, отражающих личностно – индивидуальную пози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971640" y="907920"/>
            <a:ext cx="5111640" cy="10209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еализация учебного проекта учащимися связ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 практическим использов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нее приобретенных 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203640" y="1928880"/>
            <a:ext cx="5616360" cy="857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психологии этот процесс связывают с переносом ЗУ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2786040"/>
            <a:ext cx="5111640" cy="10717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о перен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е есть простое при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шлых знаний и опыта к решению новых зада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348000" y="3857760"/>
            <a:ext cx="5400720" cy="7142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ользование знаний носит поисков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971640" y="4572000"/>
            <a:ext cx="5327640" cy="6429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является, по существу, приобретением новых зна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635280" y="5214960"/>
            <a:ext cx="5112000" cy="11682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кольку в процессе работы над учебным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чащийся открывает 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еизвестные стороны, взаимосвязи, 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оектное обучение – развитие творческих способностей личности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854360"/>
            <a:ext cx="640080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"творчество" происходит от слова "творить", т.е. в общественном смысле это означает "искать", изобретать и создавать нечто такое, что не встречалось в прошлом опыте – индивидуальном или общественном. В психолого – педагогическом определении творчества отражается момент субъективной значимости этого процесса, т.е. творчество есть деятельность, способствующая созданию, открытию чего – либо ранее неизвестного для данного субъ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ворческий проек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творческим проект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ется учебно – трудовое задание, активизирующее деятельность учащихся, в результате которого ими создается продукт, обладающий субъективной, а иногда и объективной новиз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91984"/>
          <p:cNvPicPr/>
          <p:nvPr/>
        </p:nvPicPr>
        <p:blipFill>
          <a:blip r:embed="rId1"/>
          <a:stretch/>
        </p:blipFill>
        <p:spPr>
          <a:xfrm>
            <a:off x="6099120" y="1774800"/>
            <a:ext cx="213516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ворчество – это исследов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ологический подход к жизненным и производственным задачам требует постоянного развития, тренировки такого свойства (качества) ума, как «творческость», т.е. способность не теряться в любой ситуации, преодолевать возникшие затруд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411280" y="3771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Проектный метод обучения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я устаревают весьма быстро, тогда как способы деятельности – значительно медлен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.И. Ша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1636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ворческие способности присущи любому человеку, любому нормальному ребенку, только нужно вовремя их раскрыть и разв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j0195812"/>
          <p:cNvPicPr/>
          <p:nvPr/>
        </p:nvPicPr>
        <p:blipFill>
          <a:blip r:embed="rId1"/>
          <a:stretch/>
        </p:blipFill>
        <p:spPr>
          <a:xfrm>
            <a:off x="2955960" y="2089080"/>
            <a:ext cx="19922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55640" y="691920"/>
            <a:ext cx="59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ы творче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рассматривать не только  как предметы, обучающие каким-то трудовым и конструктивно-художественным навыкам и знания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как предметы, формирующие мышление, эмоциональную 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вязаны с природой, этикой, эстетикой, наукой, техникой и другими сферами деятельности, окружающим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j0285444"/>
          <p:cNvPicPr/>
          <p:nvPr/>
        </p:nvPicPr>
        <p:blipFill>
          <a:blip r:embed="rId1"/>
          <a:stretch/>
        </p:blipFill>
        <p:spPr>
          <a:xfrm>
            <a:off x="5724360" y="4653000"/>
            <a:ext cx="316404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ет возможность организовать учебную деятельность учащегося, соблюдая разумный баланс между теорией и практикой, между академическими знаниями и прагматическими ум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ся идея профессиональной ориентации на всех уровнях обучения, так как создание системы проектов в школе инициируется желанием найти такие формы организации учебного процесса, которые позволяли бы погрузить учащихся в учебно – профессиональную деятельность с первых дней обучения, повышая тем самым уровень мотивации учащихся к процессу обучения и эффективность учебного процесса, создавая возможности реализации личностно - ориентированного подхода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– модель обстановки реальной профессиональной деятельности (ставится проблема и ее надо решить в заданный с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ый метод относится к педагогическим технологиям, которые могут успешно интегрироваться в учебный проц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мый результат итогов внедрения проектной методики – повышение уровня активности школьников и качества знаний учащихся в предметных обла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Историко–педагогический анализ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11280" y="184464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ап доминирования метода проектов в образовательном процессе (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ека). Данный метод рассматривался в качестве новой формы и универсального средства обучения, предполагающего гуманистическую направленность деятельности педагога, построение учебного процесса на активной, деятельностной и интрегративной основе (Дж. Дьюи, У. Килпатрик, Э. Коллингс, С. Левин, Е.Г. Кагаров, С.Т. Шацкий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ап переосмысления концепции метода проектов (70-80-е г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). Метод проектов использовался наряду с другими методами. Учащиеся выбирали и выполняли проекты под руководством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ап полифункциональной ориентации представлений о сущности метода проектов (кон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). Этот метод рассматривается как новая педагогическая технология (В.В. Гузеев, Е.С. Полат, Г.К. Селевко), как самостоятельная система обучения и метод познания учащимися социума (Дж. Питт, М.Б. Павлова, М.И. Гуревич, В.Д, Симоненко, И.А. Сасова и д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642780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Дж. Дьюи, Лай, Торндайк (США)</a:t>
            </a:r>
            <a:br>
              <a:rPr sz="2000"/>
            </a:b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В.Х.Килпатрик «Метод проектов. Применение целевой установки в педагогическом процессе» (1925)</a:t>
            </a:r>
            <a:br>
              <a:rPr sz="2000"/>
            </a:b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Главные идеи</a:t>
            </a:r>
            <a:r>
              <a:rPr b="0" i="1" lang="ru-RU" sz="2000" spc="-1" strike="noStrike">
                <a:solidFill>
                  <a:srgbClr val="411cc8"/>
                </a:solidFill>
                <a:latin typeface="Arial"/>
              </a:rPr>
              <a:t>: «Все из жизни, все для жизни»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2205000"/>
            <a:ext cx="6400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ьшим увлечением выполняется ребенком только та деятельность, которая им выбрана свободно сам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еятельность строится не в русле учебного предм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основана на сиюминутных увлечениях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стинное обучение никогда не бывает односторонним, важны и побочные сведения и 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db49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28920" y="428400"/>
            <a:ext cx="64008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000" spc="-1" strike="noStrike">
                <a:solidFill>
                  <a:srgbClr val="411cc8"/>
                </a:solidFill>
                <a:latin typeface="Arial"/>
              </a:rPr>
              <a:t>Проект –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 лат.  «выступающий вперед»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едварительный, предположительный текст какого – либо акта, документа и т.п., замысел (Словарь иностранных слов. –М., 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плана сооружения, постройки, изготовления или реконструкции чего – 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9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cc8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53cd8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граниченное во времени целенаправленное изменение отдельной системы с установленными требованиями к качеству результатов, возможными рамками расхода средств и ресурсов и специфической организ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db49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 проектов -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еленаправленная учебная или внешкольная деятельность с определенной целью, по определенной программе для решения учебных, поисковых, исследовательских, практических задач на предметной, межпредметной, интегрированной надпредмет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28920" y="214200"/>
            <a:ext cx="6400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Метод проектов </a:t>
            </a:r>
            <a:br>
              <a:rPr sz="36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(от греч. – путь исследования)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а обучения, при которой учащиеся приобретают знания в процессе планирования и выполнения постепенно усложняющихся практических заданий – </a:t>
            </a:r>
            <a:r>
              <a:rPr b="1" lang="ru-RU" sz="3200" spc="-1" strike="noStrike">
                <a:solidFill>
                  <a:srgbClr val="411cc8"/>
                </a:solidFill>
                <a:latin typeface="Arial"/>
              </a:rPr>
              <a:t>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Условия применения метода проектов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484280"/>
            <a:ext cx="6400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ование некой значимой проблемы, требующей решения путем исследовательского (творческого) поиска и применения интегрирован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Значимость предполагаемых результатов (практическая, теоретическая, познаватель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исследовательских (творческих) методов при проектир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Структурирование этапов выполнения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деятельность учащихся в ситуации вы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20:22:51Z</dcterms:created>
  <dc:creator>User</dc:creator>
  <dc:description/>
  <dc:language>en-US</dc:language>
  <cp:lastModifiedBy>x</cp:lastModifiedBy>
  <dcterms:modified xsi:type="dcterms:W3CDTF">2007-11-19T20:50:14Z</dcterms:modified>
  <cp:revision>20</cp:revision>
  <dc:subject/>
  <dc:title>Организация проектной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