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DC4C-64A2-411D-9B7E-99840521E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6B6C-E38D-4BDC-AB2F-EE0799AA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E92F-8212-48BE-90B7-68D1F48C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3C20-B716-4B6D-BFD6-4F91CDD7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829C-F286-49CF-A68C-016D1167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FED9-BE00-4C57-8658-5A7C6FA1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E9D6-6BEE-450B-A46E-B37ABFB0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CB3A-BE91-4800-93EC-887187F4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B136-91A4-4A11-9E9E-437EFECB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367E-1522-478B-9517-FCEC55BC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CBF1-9B19-4E17-9DC7-C3D066C9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1A24-4F14-4C1D-80BD-0F3C1F97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EF9A-5F18-494D-9374-721461C139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4280"/>
            <a:ext cx="8029440" cy="27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сихолого-педагогическая характеристика детей, обучающихся по специальной (коррекционной) программе школы </a:t>
            </a:r>
            <a:r>
              <a:rPr b="0" lang="en-US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VIII</a:t>
            </a: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ви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1071720" y="928800"/>
            <a:ext cx="7429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несмотря на существенные недостатки в интеллектуальном и личностном развитии, у детей имеются предпосылки для усвоения учебного материала по специальным (коррекционным) программам при условии индивидуального и дифференцированного подхода к ни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642960" y="785880"/>
            <a:ext cx="7858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школьного возраст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ыраженной умственной отсталостью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низкий уровень развития арифметических навык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осознанного понимания числового ряд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ние даже простейшими счётными операциями только на конкретном материал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ересчёте предметов -не могут назвать итогового числ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держивают в памяти инструкци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 не эффектив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642960" y="642960"/>
            <a:ext cx="8143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младшего школьного возраст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легкой умственной отсталостью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т пересчитать предметы в пределах 3-10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лучайном расположение предметов им необходима организующая помощ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нство детей испытывают трудности при воспроизведении числового ряда до заданного числа, особенно в обратном поряд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ы счётные операции с переходом через разряд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1071720" y="714240"/>
            <a:ext cx="7358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ые проблемы возникают при решении арифметических задач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держивают в памяти задач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контролируют ход решения и не умеют проверить правильность реш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1071720" y="857160"/>
            <a:ext cx="7643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ьшие трудности в понимании текста и овладение навыками чтения наблюдаются 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с выраженной умственной отсталостью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к 7-8 годам они не могут запомнить букв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рудняются объяснить знакомые слова и соотнести их с картин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1000080" y="571680"/>
            <a:ext cx="7500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легкой умственной отсталостью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7-8 годам могут усвоить алфавит при специальном обучении, но для них сложно научиться сливать буквы и слог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чтение долгое время остаётся побуквенны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статочно понимают прочитанно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гут пересказать текст в необходимой последователь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ступно понимание скрытых причинных зависимос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1214280" y="500040"/>
            <a:ext cx="685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выраженными интеллектуальными нарушения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7-8 годам не могут научиться писа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нимают цели зада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чается грубое недоразвитие моторики и общей координации движ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щиеся пространственные нарушения затрудняют выполнение даже элементарных заданий (ориентировка в тетрад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"/>
          <p:cNvSpPr/>
          <p:nvPr/>
        </p:nvSpPr>
        <p:spPr>
          <a:xfrm>
            <a:off x="857160" y="357120"/>
            <a:ext cx="7572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легкой умственной отсталостью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ывают значительные трудности в овладении письм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гут выделить клетку, не соблюдают строк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писывают элементы букв, иногда пишут буквы зеркальн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арительно не прочитывают слова перед списыванием, что приводит к ошибка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ывают трудности в звуковом анализе сло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сегда различают начало и конец предложен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928800" y="642960"/>
            <a:ext cx="76438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трудняются понимать правила правописания, особенно безударных гласных, звонких и глухих согласны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4:28:47Z</dcterms:created>
  <dc:creator>Дмитрий</dc:creator>
  <dc:description/>
  <dc:language>en-US</dc:language>
  <cp:lastModifiedBy>Дмитрий</cp:lastModifiedBy>
  <dcterms:modified xsi:type="dcterms:W3CDTF">2009-04-21T14:58:11Z</dcterms:modified>
  <cp:revision>4</cp:revision>
  <dc:subject/>
  <dc:title>Психолого-педагогическая характеристика детей, обучающихся по специальной (коррекционной) программе школы VIII вида</dc:title>
</cp:coreProperties>
</file>