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500-7569-446C-89D5-FC2F71D6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061-6721-46D0-B00F-612CE26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54F-77A3-4100-923B-923A72B5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E84-6899-4C99-BB4F-78D59D2A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587-1B75-4D23-A1F6-2E0AF2B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AF3-B978-4820-B131-D1D6FE7A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FF6-1D14-4A3F-83DC-8E145FC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E86-71E0-4404-988E-F37BB8D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FD0-587B-487F-9241-C0878834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7E4-600B-4EF6-B2AB-7ECDCB1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473-BDAD-42A2-A039-5B986F5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307-4D28-4FAD-BF22-69175D1D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999-DC70-421F-9AAD-326759E5C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8029440" cy="27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сихолого-педагогическая характеристика детей, обучающихся по специальной (коррекционной) программе школы 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II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в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92880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смотря на существенные недостатки в интеллектуальном и личностном развитии, у детей имеются предпосылки для усвоения учебного материала по специальным (коррекционным) программам при условии индивидуального и дифференцированного подхода к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642960" y="78588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изкий уровень развития арифметических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сознанного понимания числового ря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даже простейшими счётными операциями только на конкретном материа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чёте предметов -не могут назвать итогового чис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инструк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не эффекти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42960" y="64296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ладшего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ересчитать предметы в пределах 3-1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лучайном расположение предметов им необходима организующая 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детей испытывают трудности при воспроизведении числового ряда до заданного числа, особенно в обратном поряд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 счётные операции с переходом через разря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071720" y="7142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проблемы возникают при решении арифмети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зада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онтролируют ход решения и не умеют проверить правильность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71720" y="857160"/>
            <a:ext cx="764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е трудности в понимании текста и овладение навыками чтения наблюдаются 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к 7-8 годам они не могут запомнить бук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ся объяснить знакомые слова и соотнести их с карти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000080" y="57168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могут усвоить алфавит при специальном обучении, но для них сложно научиться сливать буквы и сло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чтение долгое время остаётся побуквенн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очно понимают прочитан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пересказать текст в необходимой последова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упно понимание скрытых причинных зависим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214280" y="50004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ыраженными интеллектуальными нарушен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не могут научиться пис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нимают цели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грубое недоразвитие моторики и общей координации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ся пространственные нарушения затрудняют выполнение даже элементарных заданий (ориентировка в тетрад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57160" y="357120"/>
            <a:ext cx="75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значительные трудности в овладении письм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выделить клетку, не соблюдают стро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исывают элементы букв, иногда пишут буквы зерка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 не прочитывают слова перед списыванием, что приводит к ошиб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трудности в звуковом анализе сл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различают начало и конец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28800" y="642960"/>
            <a:ext cx="7643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рудняются понимать правила правописания, особенно безударных гласных, звонких и глухих соглас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28:47Z</dcterms:created>
  <dc:creator>Дмитрий</dc:creator>
  <dc:description/>
  <dc:language>en-US</dc:language>
  <cp:lastModifiedBy>Дмитрий</cp:lastModifiedBy>
  <dcterms:modified xsi:type="dcterms:W3CDTF">2009-04-21T14:58:11Z</dcterms:modified>
  <cp:revision>4</cp:revision>
  <dc:subject/>
  <dc:title>Психолого-педагогическая характеристика детей, обучающихся по специальной (коррекционной) программе школы VIII вида</dc:title>
</cp:coreProperties>
</file>