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FBC-1F0B-4C37-B0F6-17FE80D7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55E-D023-4A5B-B52E-02E4D280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AA0-02BB-4BC6-883B-FAC52538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388-EEE4-45E3-803A-6A5BE367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638-00CA-4FAA-A1F2-AE362762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94F-8134-4832-BA7F-D8ADAB62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3F8-7B49-4218-8039-E84E27CA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5EF-94F5-4753-A7B0-FBE26BB0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A46-A01F-4F43-B5FD-19A45881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B8A-14C1-4A1D-899B-85A12205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D44-4EF6-4B93-ABC9-DB896A8E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00F-78A5-4761-AA8A-8B77F759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706D-2765-47C0-9EE5-850C55F110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8029440" cy="27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сихолого-педагогическая характеристика детей, обучающихся по специальной (коррекционной) программе школы 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III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в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071720" y="928800"/>
            <a:ext cx="742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смотря на существенные недостатки в интеллектуальном и личностном развитии, у детей имеются предпосылки для усвоения учебного материала по специальным (коррекционным) программам при условии индивидуального и дифференцированного подхода к 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642960" y="785880"/>
            <a:ext cx="7858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школьного возрас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раженн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низкий уровень развития арифметических навы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осознанного понимания числового ря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даже простейшими счётными операциями только на конкретном материал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счёте предметов -не могут назвать итогового чис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держивают в памяти инструк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не эффекти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642960" y="642960"/>
            <a:ext cx="8143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младшего школьного возрас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егк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ересчитать предметы в пределах 3-1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лучайном расположение предметов им необходима организующая помощ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детей испытывают трудности при воспроизведении числового ряда до заданного числа, особенно в обратном поряд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ы счётные операции с переходом через разря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071720" y="71424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ые проблемы возникают при решении арифметических задач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держивают в памяти задач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онтролируют ход решения и не умеют проверить правильность ре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071720" y="857160"/>
            <a:ext cx="764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е трудности в понимании текста и овладение навыками чтения наблюдаются 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с выраженн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к 7-8 годам они не могут запомнить букв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яются объяснить знакомые слова и соотнести их с картин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000080" y="571680"/>
            <a:ext cx="7500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легк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7-8 годам могут усвоить алфавит при специальном обучении, но для них сложно научиться сливать буквы и слог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чтение долгое время остаётся побуквенны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статочно понимают прочитан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пересказать текст в необходимой последова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ступно понимание скрытых причинных зависим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214280" y="50004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выраженными интеллектуальными нарушения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7-8 годам не могут научиться пис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нимают цели зада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грубое недоразвитие моторики и общей координации движ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ся пространственные нарушения затрудняют выполнение даже элементарных заданий (ориентировка в тетрад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857160" y="357120"/>
            <a:ext cx="757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легкой умственной отсталост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значительные трудности в овладении письм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выделить клетку, не соблюдают стро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исывают элементы букв, иногда пишут буквы зеркальн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 не прочитывают слова перед списыванием, что приводит к ошибк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трудности в звуковом анализе сло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сегда различают начало и конец предлож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928800" y="642960"/>
            <a:ext cx="7643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трудняются понимать правила правописания, особенно безударных гласных, звонких и глухих согласн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4:28:47Z</dcterms:created>
  <dc:creator>Дмитрий</dc:creator>
  <dc:description/>
  <dc:language>en-US</dc:language>
  <cp:lastModifiedBy>Дмитрий</cp:lastModifiedBy>
  <dcterms:modified xsi:type="dcterms:W3CDTF">2009-04-21T14:58:11Z</dcterms:modified>
  <cp:revision>4</cp:revision>
  <dc:subject/>
  <dc:title>Психолого-педагогическая характеристика детей, обучающихся по специальной (коррекционной) программе школы VIII вида</dc:title>
</cp:coreProperties>
</file>