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5.jpeg" ContentType="image/jpeg"/>
  <Override PartName="/ppt/media/image22.jpeg" ContentType="image/jpeg"/>
  <Override PartName="/ppt/media/image7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3.jpeg" ContentType="image/jpeg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322E-9D35-4B6C-AE22-BA8654B5E0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F7F7-2BD2-4A62-9A1A-3EB46A412B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AD2-F18D-4D14-BEAF-DB8D82CB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80F-3F5B-4B3B-80D3-41DB8BCD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F9A-3FC8-40E7-A516-77B39CFD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C0D-8282-4ADA-835D-08F6D9EF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6633-D604-4ABD-B7A2-43A645A1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7477-9F95-46EF-B6B4-8B53A860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3106-6A3A-4B56-BA42-A5A080E9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B695-2425-4CC8-83E8-D7348B49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47B6-E867-485D-B3FE-C7E56FAD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B54-05BC-4E2D-82F2-41FF58ED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4B9E-D49B-47EA-B109-7BB30A1A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570-2EE5-48F3-973B-A6A9D80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6C87-7A6F-4326-90D0-7FEB8978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13BF-ECC2-41FF-9304-4AECC31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CB51-D225-4913-8C33-7A2F7441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40D6-13AA-44BD-975E-4D1CFC8E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F5AA-4FC1-406D-9CA8-DF5B20C9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2C5-D56E-4FED-82FE-E23D6B92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C0F-61CA-487B-8435-5C985DA2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EDA-439A-4933-8606-9691CB90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ADA-6C4C-44EA-A8CC-21D4AA2A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F4D-17EB-4919-B633-B86AD5D5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7F0-679C-4C08-83F0-DAAF14B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70C-78FA-4E3D-BD4A-49781AF8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DD1-EE84-4C08-9B24-363725189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87AF-E2E1-4273-8233-90365AAF89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начение музыки в жизни человека прошлого и настоящег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308480" cy="6086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400720" cy="5888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332000" y="31680"/>
            <a:ext cx="6862680" cy="6826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4897440" cy="5019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840200" cy="4124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5985000" cy="4308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Grigoriev_Meierhold"/>
          <p:cNvPicPr/>
          <p:nvPr/>
        </p:nvPicPr>
        <p:blipFill>
          <a:blip r:embed="rId1"/>
          <a:stretch/>
        </p:blipFill>
        <p:spPr>
          <a:xfrm>
            <a:off x="0" y="-9360"/>
            <a:ext cx="4638600" cy="6867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Korovin_Dyagilev"/>
          <p:cNvPicPr/>
          <p:nvPr/>
        </p:nvPicPr>
        <p:blipFill>
          <a:blip r:embed="rId2"/>
          <a:stretch/>
        </p:blipFill>
        <p:spPr>
          <a:xfrm>
            <a:off x="3684600" y="1197000"/>
            <a:ext cx="545940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rush Script MT"/>
              </a:rPr>
              <a:t>Что же такое музык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4720" y="1699920"/>
            <a:ext cx="48592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Искусство,отражающее действительность в звуковых художественных образах, а также сами произведения этого искус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Исполнение таких произведений на инструментах, а также само звучание этих произве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BD00028_"/>
          <p:cNvPicPr/>
          <p:nvPr/>
        </p:nvPicPr>
        <p:blipFill>
          <a:blip r:embed="rId2"/>
          <a:stretch/>
        </p:blipFill>
        <p:spPr>
          <a:xfrm>
            <a:off x="539640" y="2060640"/>
            <a:ext cx="3581640" cy="350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ernard MT Condensed"/>
              </a:rPr>
              <a:t>Какое значение имеет музыка в жизни челове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но, что музыка занимает очень важную часть человеческ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повышает настроение и самооценку личности, помогает раскрыться талант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зыка является необходимым атрибутом отдыха, она помогает расслабиться и заряжает энергией на весь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музыкальным пристрастиям человека мы можем очень многое о нем узнат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характер,  привычки, чувства и даже образ жизни. Это очень важно при общ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EN00354_"/>
          <p:cNvPicPr/>
          <p:nvPr/>
        </p:nvPicPr>
        <p:blipFill>
          <a:blip r:embed="rId1"/>
          <a:stretch/>
        </p:blipFill>
        <p:spPr>
          <a:xfrm>
            <a:off x="457200" y="2284560"/>
            <a:ext cx="403848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3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181320" cy="61675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4695840" y="1289160"/>
            <a:ext cx="340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851280" y="1268280"/>
            <a:ext cx="48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Из множества неразгаданных тайн мира самой глубокой и сокровенной остается тайна творчества.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фан Цвей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119480" y="352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995640" y="33764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узыка воодушевляет весь мир, снабжает душу крыльями, способствует полету воображения…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ernard MT Condensed"/>
              </a:rPr>
              <a:t>Объясните значение музыки в жизни человека прошлого и настоящего</a:t>
            </a: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ivaldi"/>
              </a:rPr>
              <a:t>Так художники разных веков изображали музы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8480" cy="482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03884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этой картины, художни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а М.Меньков, отразил свои личные впечатления от встреч с музыкой. Картину он назвал «Симфония (скрипка)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Вы думаете,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ernard MT Condensed"/>
              </a:rPr>
              <a:t>Какое значение в вашей жизни играет музы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275200" y="478440"/>
            <a:ext cx="5028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, музыка! Ты крик ду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– чувства, выразить которые не смею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, очень много значишь для любв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помогаешь выстоять потер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и понять и ободри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 трудную минуту не забу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юбимую я музыку включи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ердцем вновь поверить в чуд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то же в ней таког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чаровательного и родно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каждый сможет дать отв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если кто и смо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видим, что слова и чув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вовсе не похож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 этом музыки секр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каждый, несмотря на внешно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раст, кожи цв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ходит в ней ту грань, те чувст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у, свою, любовь к искусст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List_Grezy_Lubvi.wma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lackadder ITC"/>
              </a:rPr>
              <a:t>Есть повод задуматьс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PG1_P009"/>
          <p:cNvPicPr/>
          <p:nvPr/>
        </p:nvPicPr>
        <p:blipFill>
          <a:blip r:embed="rId1"/>
          <a:stretch/>
        </p:blipFill>
        <p:spPr>
          <a:xfrm>
            <a:off x="900000" y="1341360"/>
            <a:ext cx="2984760" cy="45309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4140360" y="1197000"/>
            <a:ext cx="5003640" cy="63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Музыка-  это искусство, отражающее действительность в звуковых художественных образ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Музыка, как один из видов искусства, направлена прежде всего на душу человека, на его сознание. Именно по этой причине сходятся иногда совершенно разные люди, которым нравится одна  и та же му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По музыкальным пристрастиям человека мы можем очень многое о нем узнать</a:t>
            </a:r>
            <a:r>
              <a:rPr b="1" lang="en-US" sz="2000" spc="-1" strike="noStrike">
                <a:solidFill>
                  <a:srgbClr val="ffffff"/>
                </a:solidFill>
                <a:latin typeface="comic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 его характер,  привычки, чувства и даже образ жиз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Когда бы и где бы не жил человек  музыка всегда играла и играет огромное значение в его жизни и судьб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3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 rot="20624400">
            <a:off x="826920" y="691920"/>
            <a:ext cx="3598920" cy="4329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4751280" y="1197000"/>
            <a:ext cx="43927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На серебряной  тонкой бума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Под серебряной мглой обла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Музыканты - извечные ма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Вызывают виденья ве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проходят века верениц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валторна и скрипки звуча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То былое в мелодиях сни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То в грядущее тянется взгл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то грозно, то ласково медля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Словно вечность заполнят соб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Вздохи бронзы и выдохи мед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И напевы струны золо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А всего-то в высокой отва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Мгле забвения наперек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На серебряной тонкой бума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Образ музыки вывел грав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Blackadder ITC"/>
              </a:rPr>
              <a:t>Б.Дубровин</a:t>
            </a:r>
            <a:r>
              <a:rPr b="1" i="1" lang="ru-RU" sz="2800" spc="-1" strike="noStrike">
                <a:solidFill>
                  <a:srgbClr val="ff3300"/>
                </a:solidFill>
                <a:latin typeface="Blackadder IT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j0336739"/>
          <p:cNvPicPr/>
          <p:nvPr/>
        </p:nvPicPr>
        <p:blipFill>
          <a:blip r:embed="rId2"/>
          <a:stretch/>
        </p:blipFill>
        <p:spPr>
          <a:xfrm>
            <a:off x="4356000" y="1052640"/>
            <a:ext cx="847800" cy="72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Vladimir Script"/>
              </a:rPr>
              <a:t>Что же такое музык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25 Каччини (Caccini) Ave Maria (Sumi Jo).mp3" descr=""/>
          <p:cNvPicPr/>
          <p:nvPr/>
        </p:nvPicPr>
        <p:blipFill>
          <a:blip r:embed="rId1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 rot="20860200">
            <a:off x="610920" y="836280"/>
            <a:ext cx="3178080" cy="460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 rot="1002000">
            <a:off x="5795640" y="333360"/>
            <a:ext cx="2155680" cy="6075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891320" cy="6483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lyutnya_1"/>
          <p:cNvPicPr/>
          <p:nvPr/>
        </p:nvPicPr>
        <p:blipFill>
          <a:blip r:embed="rId1"/>
          <a:stretch/>
        </p:blipFill>
        <p:spPr>
          <a:xfrm>
            <a:off x="468360" y="189000"/>
            <a:ext cx="8305920" cy="6164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47120" cy="5969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3:52:34Z</dcterms:created>
  <dc:creator>Марина</dc:creator>
  <dc:description/>
  <dc:language>en-US</dc:language>
  <cp:lastModifiedBy>Артем</cp:lastModifiedBy>
  <dcterms:modified xsi:type="dcterms:W3CDTF">2011-11-16T05:42:01Z</dcterms:modified>
  <cp:revision>11</cp:revision>
  <dc:subject/>
  <dc:title>Значение музыки в жизни человека прошлого и настоящего.</dc:title>
</cp:coreProperties>
</file>