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5.jpeg" ContentType="image/jpeg"/>
  <Override PartName="/ppt/media/image22.jpeg" ContentType="image/jpeg"/>
  <Override PartName="/ppt/media/image7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3.jpeg" ContentType="image/jpeg"/>
  <Override PartName="/ppt/media/image25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BB3F-8253-48CF-B0E8-15FCBB35F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FCBD-032E-4A3B-BB38-207673BF76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657-2096-4843-A8E3-2CB7BDCE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8E4-C71B-44A5-87F4-92F316EB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665-A630-4DB5-A5CD-537D512A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2CB-D09A-4315-8C30-BC1FD254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DDBF-C2B6-4736-8959-3B1EBB7D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B9B8-144F-4EDB-93A1-DF8CD2D9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FD39-8C2F-46A6-B917-20B415B0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D4FC-2384-4FE3-A746-B4C97E90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F028-0AAA-40AC-8D82-5A1015E5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3321-1059-4B09-9CCC-66734D60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A0A3-18C3-47F0-B46D-4C8DDAF0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5BC-1888-4DF6-8BB1-C13C5A3D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0C3E-A7B9-411B-83F9-DEC27179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3EBA-F35C-46C6-88F4-258B93CA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6B3A-FF31-410B-A629-16C7D937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265C-A646-47A8-B03E-459F37B8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5F6C-62B3-4C8B-9B65-DEF46189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053-CA24-4460-AA3C-F810DE84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9DE-7F54-42FB-B6D7-E98E1E25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342-3E83-484B-AC96-8A0C3C97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3C79-4FB6-43EC-B2DE-D51A97A8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98C-FF2B-43BE-B28D-8E1D265A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71F-4435-4D37-814E-B56F148A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624-0628-47F2-90EC-E8734D19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DA86-D75C-4D78-8BFB-C660FFA835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0ABF-F698-459F-83B0-AA00614D2E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242064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начение музыки в жизни человека прошлого и настоящего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430848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-79200" y="0"/>
            <a:ext cx="9223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400720" cy="588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06436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332000" y="31680"/>
            <a:ext cx="6862680" cy="6826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4897440" cy="5019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840200" cy="4124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5985000" cy="4308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Grigoriev_Meierhold"/>
          <p:cNvPicPr/>
          <p:nvPr/>
        </p:nvPicPr>
        <p:blipFill>
          <a:blip r:embed="rId1"/>
          <a:stretch/>
        </p:blipFill>
        <p:spPr>
          <a:xfrm>
            <a:off x="0" y="-9360"/>
            <a:ext cx="4638600" cy="6867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Korovin_Dyagilev"/>
          <p:cNvPicPr/>
          <p:nvPr/>
        </p:nvPicPr>
        <p:blipFill>
          <a:blip r:embed="rId2"/>
          <a:stretch/>
        </p:blipFill>
        <p:spPr>
          <a:xfrm>
            <a:off x="3684600" y="1197000"/>
            <a:ext cx="545940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rush Script MT"/>
              </a:rPr>
              <a:t>Что же такое музыка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4720" y="1699920"/>
            <a:ext cx="48592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.Искусство,отражающее действительность в звуковых художественных образах, а также сами произведения этого искус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.Исполнение таких произведений на инструментах, а также само звучание этих произвед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BD00028_"/>
          <p:cNvPicPr/>
          <p:nvPr/>
        </p:nvPicPr>
        <p:blipFill>
          <a:blip r:embed="rId2"/>
          <a:stretch/>
        </p:blipFill>
        <p:spPr>
          <a:xfrm>
            <a:off x="539640" y="2060640"/>
            <a:ext cx="3581640" cy="3508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ernard MT Condensed"/>
              </a:rPr>
              <a:t>Какое значение имеет музыка в жизни челове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но, что музыка занимает очень важную часть человеческой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повышает настроение и самооценку личности, помогает раскрыться талант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зыка является необходимым атрибутом отдыха, она помогает расслабиться и заряжает энергией на весь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музыкальным пристрастиям человека мы можем очень многое о нем узнат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характер,  привычки, чувства и даже образ жизни. Это очень важно при общ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EN00354_"/>
          <p:cNvPicPr/>
          <p:nvPr/>
        </p:nvPicPr>
        <p:blipFill>
          <a:blip r:embed="rId1"/>
          <a:stretch/>
        </p:blipFill>
        <p:spPr>
          <a:xfrm>
            <a:off x="457200" y="2284560"/>
            <a:ext cx="403848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3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181320" cy="61675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4695840" y="1289160"/>
            <a:ext cx="340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851280" y="1268280"/>
            <a:ext cx="486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"Из множества неразгаданных тайн мира самой глубокой и сокровенной остается тайна творчества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фан Цвей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11948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995640" y="337644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узыка воодушевляет весь мир, снабжает душу крыльями, способствует полету воображения…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ernard MT Condensed"/>
              </a:rPr>
              <a:t>Объясните значение музыки в жизни человека прошлого и настоящего</a:t>
            </a: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ivaldi"/>
              </a:rPr>
              <a:t>Так художники разных веков изображали музы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038480" cy="482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03884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 этой картины, художни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ка М.Меньков, отразил свои личные впечатления от встреч с музыкой. Картину он назвал «Симфония (скрипка)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Вы думаете, почем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ernard MT Condensed"/>
              </a:rPr>
              <a:t>Какое значение в вашей жизни играет музы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275200" y="478440"/>
            <a:ext cx="5028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, музыка! Ты крик душ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– чувства, выразить которые не смею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, очень много значишь для любв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помогаешь выстоять потер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можешь и понять и ободри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 трудную минуту не забу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юбимую я музыку включи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ердцем вновь поверить в чуд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что же в ней таког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чаровательного и родног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каждый сможет дать отв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если кто и смож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видим, что слова и чув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х вовсе не похож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 этом музыки секр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каждый, несмотря на внешн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раст, кожи цв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ходит в ней ту грань, те чувств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ту, свою, любовь к искусст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List_Grezy_Lubvi.wma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lackadder ITC"/>
              </a:rPr>
              <a:t>Есть повод задуматься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PG1_P009"/>
          <p:cNvPicPr/>
          <p:nvPr/>
        </p:nvPicPr>
        <p:blipFill>
          <a:blip r:embed="rId1"/>
          <a:stretch/>
        </p:blipFill>
        <p:spPr>
          <a:xfrm>
            <a:off x="900000" y="1341360"/>
            <a:ext cx="2984760" cy="45309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4140360" y="1197000"/>
            <a:ext cx="5003640" cy="63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Музыка-  это искусство, отражающее действительность в звуковых художественных образ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Музыка, как один из видов искусства, направлена прежде всего на душу человека, на его сознание. Именно по этой причине сходятся иногда совершенно разные люди, которым нравится одна  и та же му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По музыкальным пристрастиям человека мы можем очень многое о нем узнать</a:t>
            </a:r>
            <a:r>
              <a:rPr b="1" lang="en-US" sz="2000" spc="-1" strike="noStrike">
                <a:solidFill>
                  <a:srgbClr val="ffffff"/>
                </a:solidFill>
                <a:latin typeface="comic"/>
              </a:rPr>
              <a:t>:</a:t>
            </a: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 его характер,  привычки, чувства и даже образ жиз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Когда бы и где бы не жил человек  музыка всегда играла и играет огромное значение в его жизни и судьб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3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3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3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 rot="20624400">
            <a:off x="826920" y="691920"/>
            <a:ext cx="3598920" cy="4329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4751280" y="1197000"/>
            <a:ext cx="439272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На серебряной  тонкой бума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Под серебряной мглой обла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Музыканты - извечные ма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Вызывают виденья ве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И проходят века верениц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И валторна и скрипки звуча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То былое в мелодиях сни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То в грядущее тянется взгля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И то грозно, то ласково медля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Словно вечность заполнят соб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Вздохи бронзы и выдохи мед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И напевы струны золо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А всего-то в высокой отва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Мгле забвения наперек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На серебряной тонкой бума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Образ музыки вывел грав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           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Б.Дубровин</a:t>
            </a:r>
            <a:r>
              <a:rPr b="1" i="1" lang="ru-RU" sz="2800" spc="-1" strike="noStrike">
                <a:solidFill>
                  <a:srgbClr val="ff3300"/>
                </a:solidFill>
                <a:latin typeface="Blackadder IT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j0336739"/>
          <p:cNvPicPr/>
          <p:nvPr/>
        </p:nvPicPr>
        <p:blipFill>
          <a:blip r:embed="rId2"/>
          <a:stretch/>
        </p:blipFill>
        <p:spPr>
          <a:xfrm>
            <a:off x="4356000" y="1052640"/>
            <a:ext cx="847800" cy="72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Vladimir Script"/>
              </a:rPr>
              <a:t>Что же такое музыка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25 Каччини (Caccini) Ave Maria (Sumi Jo).mp3" descr=""/>
          <p:cNvPicPr/>
          <p:nvPr/>
        </p:nvPicPr>
        <p:blipFill>
          <a:blip r:embed="rId1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 rot="20860200">
            <a:off x="610920" y="836280"/>
            <a:ext cx="3178080" cy="4608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 rot="1002000">
            <a:off x="5795640" y="333360"/>
            <a:ext cx="2155680" cy="6075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891320" cy="6483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yutnya_1"/>
          <p:cNvPicPr/>
          <p:nvPr/>
        </p:nvPicPr>
        <p:blipFill>
          <a:blip r:embed="rId1"/>
          <a:stretch/>
        </p:blipFill>
        <p:spPr>
          <a:xfrm>
            <a:off x="468360" y="189000"/>
            <a:ext cx="8305920" cy="6164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47120" cy="5969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3:52:34Z</dcterms:created>
  <dc:creator>Марина</dc:creator>
  <dc:description/>
  <dc:language>en-US</dc:language>
  <cp:lastModifiedBy>Артем</cp:lastModifiedBy>
  <dcterms:modified xsi:type="dcterms:W3CDTF">2011-11-16T05:42:01Z</dcterms:modified>
  <cp:revision>11</cp:revision>
  <dc:subject/>
  <dc:title>Значение музыки в жизни человека прошлого и настоящего.</dc:title>
</cp:coreProperties>
</file>