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22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3.jpeg" ContentType="image/jpeg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7B66-7684-4744-B764-514C5E185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4217-858F-4605-B33B-82184DC970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A9E8-3B9E-49D4-BCD5-8D060A05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5B5-0D2F-472E-9D53-9A05ECB9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AC3-248E-4DFE-93A0-FE0BDCEB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4A7-D545-403F-9CF5-0AC3585F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4CC-5A03-4887-A45B-4ABED2E4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F4EA-E323-4A8B-A537-2EBCD145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F805-4D5F-47EC-A5DB-125F96A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A857-7E59-4A4D-A39A-333D250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D6BF-74A4-4D5A-98D3-6BAB19D1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206-7252-469B-A010-B649C41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57CB-2A62-42FB-9F27-36D05816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E2F-DC01-4BB2-8FDB-CF302861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31E7-F65C-4006-8FD3-0A6F3DD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BD7-321C-45C8-8018-AFD2407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E7F8-8C15-44D5-9F54-3B88D8CD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9B4F-AC7A-4817-8A88-93DF7091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6A86-F950-4264-901F-00F88B7D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C93-4A90-4207-856F-CF85F2FE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BB2-E560-4F90-8A2B-8C28D840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29E-D70F-48A6-AA70-93833835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22E-C9C4-428C-BF78-A894ABB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929-7FD4-4B8A-9E67-B0BBFFF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3DE-19D6-44FF-925F-9B2EC11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9CB-922C-4109-BC1B-7B12D091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BBC5-29A7-4AA2-A277-119354636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81D7-22D4-427D-9EC8-77EE676943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чение музыки в жизни человека прошлого и настоящег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3084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400720" cy="588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332000" y="31680"/>
            <a:ext cx="6862680" cy="6826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897440" cy="5019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840200" cy="412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5985000" cy="4308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rigoriev_Meierhold"/>
          <p:cNvPicPr/>
          <p:nvPr/>
        </p:nvPicPr>
        <p:blipFill>
          <a:blip r:embed="rId1"/>
          <a:stretch/>
        </p:blipFill>
        <p:spPr>
          <a:xfrm>
            <a:off x="0" y="-9360"/>
            <a:ext cx="4638600" cy="686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Korovin_Dyagilev"/>
          <p:cNvPicPr/>
          <p:nvPr/>
        </p:nvPicPr>
        <p:blipFill>
          <a:blip r:embed="rId2"/>
          <a:stretch/>
        </p:blipFill>
        <p:spPr>
          <a:xfrm>
            <a:off x="3684600" y="1197000"/>
            <a:ext cx="545940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rush Script MT"/>
              </a:rPr>
              <a:t>Что же такое музык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4720" y="1699920"/>
            <a:ext cx="48592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Искусство,отражающее действительность в звуковых художественных образах, а также сами произведения этого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Исполнение таких произведений на инструментах, а также само звучание этих произве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BD00028_"/>
          <p:cNvPicPr/>
          <p:nvPr/>
        </p:nvPicPr>
        <p:blipFill>
          <a:blip r:embed="rId2"/>
          <a:stretch/>
        </p:blipFill>
        <p:spPr>
          <a:xfrm>
            <a:off x="539640" y="2060640"/>
            <a:ext cx="358164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Какое значение имеет музыка в жизни челове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но, что музыка занимает очень важную часть человеческ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повышает настроение и самооценку личности, помогает раскрыться талант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зыка является необходимым атрибутом отдыха, она помогает расслабиться и заряжает энергией на весь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музыкальным пристрастиям человека мы можем очень многое о нем узнат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характер,  привычки, чувства и даже образ жизни. Это очень важно при общ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EN00354_"/>
          <p:cNvPicPr/>
          <p:nvPr/>
        </p:nvPicPr>
        <p:blipFill>
          <a:blip r:embed="rId1"/>
          <a:stretch/>
        </p:blipFill>
        <p:spPr>
          <a:xfrm>
            <a:off x="457200" y="2284560"/>
            <a:ext cx="40384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181320" cy="6167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695840" y="1289160"/>
            <a:ext cx="340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851280" y="1268280"/>
            <a:ext cx="48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Из множества неразгаданных тайн мира самой глубокой и сокровенной остается тайна творчества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н Цвей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119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995640" y="33764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узыка воодушевляет весь мир, снабжает душу крыльями, способствует полету воображения…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Объясните значение музыки в жизни человека прошлого и настоящего</a:t>
            </a: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ivaldi"/>
              </a:rPr>
              <a:t>Так художники разных веков изображали музы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8480" cy="482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0388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этой картины, художни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 М.Меньков, отразил свои личные впечатления от встреч с музыкой. Картину он назвал «Симфония (скрипка)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ы думаете,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Какое значение в вашей жизни играет музы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275200" y="478440"/>
            <a:ext cx="5028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, музыка! Ты крик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– чувства, выразить которые не смею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, очень много значишь для любв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помогаешь выстоять поте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и понять и ободри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 трудную минуту не забу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юбимую я музыку включи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ердцем вновь поверить в чуд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то же в ней таког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аровательного и родно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каждый сможет дать отв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сли кто и смо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идим, что слова и чув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вовсе не похож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 этом музыки секр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каждый, несмотря на внеш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раст, кожи цв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ходит в ней ту грань, те чув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у, свою, любовь к искус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List_Grezy_Lubvi.wma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lackadder ITC"/>
              </a:rPr>
              <a:t>Есть повод задуматьс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PG1_P009"/>
          <p:cNvPicPr/>
          <p:nvPr/>
        </p:nvPicPr>
        <p:blipFill>
          <a:blip r:embed="rId1"/>
          <a:stretch/>
        </p:blipFill>
        <p:spPr>
          <a:xfrm>
            <a:off x="900000" y="1341360"/>
            <a:ext cx="2984760" cy="4530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4140360" y="1197000"/>
            <a:ext cx="5003640" cy="63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Музыка-  это искусство, отражающее действительность в звуковых художественных образ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Музыка, как один из видов искусства, направлена прежде всего на душу человека, на его сознание. Именно по этой причине сходятся иногда совершенно разные люди, которым нравится одна  и та же му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По музыкальным пристрастиям человека мы можем очень многое о нем узнать</a:t>
            </a:r>
            <a:r>
              <a:rPr b="1" lang="en-US" sz="2000" spc="-1" strike="noStrike">
                <a:solidFill>
                  <a:srgbClr val="ffffff"/>
                </a:solidFill>
                <a:latin typeface="comic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 его характер,  привычки, чувства и даже образ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Когда бы и где бы не жил человек  музыка всегда играла и играет огромное значение в его жизни и судь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20624400">
            <a:off x="826920" y="691920"/>
            <a:ext cx="3598920" cy="4329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4751280" y="1197000"/>
            <a:ext cx="4392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На серебряной  тонкой бум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Под серебряной мглой обла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Музыканты - извечные ма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Вызывают виденья ве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проходят века верениц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валторна и скрипки звуча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То былое в мелодиях сн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То в грядущее тянется взгл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то грозно, то ласково медля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Словно вечность заполнят соб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Вздохи бронзы и выдохи ме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напевы струны золо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А всего-то в высокой отв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Мгле забвения наперек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На серебряной тонкой бум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Образ музыки вывел грав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Б.Дубровин</a:t>
            </a:r>
            <a:r>
              <a:rPr b="1" i="1" lang="ru-RU" sz="2800" spc="-1" strike="noStrike">
                <a:solidFill>
                  <a:srgbClr val="ff3300"/>
                </a:solidFill>
                <a:latin typeface="Blackadder IT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j0336739"/>
          <p:cNvPicPr/>
          <p:nvPr/>
        </p:nvPicPr>
        <p:blipFill>
          <a:blip r:embed="rId2"/>
          <a:stretch/>
        </p:blipFill>
        <p:spPr>
          <a:xfrm>
            <a:off x="4356000" y="1052640"/>
            <a:ext cx="84780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Vladimir Script"/>
              </a:rPr>
              <a:t>Что же такое музы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25 Каччини (Caccini) Ave Maria (Sumi Jo).mp3" descr=""/>
          <p:cNvPicPr/>
          <p:nvPr/>
        </p:nvPicPr>
        <p:blipFill>
          <a:blip r:embed="rId1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 rot="20860200">
            <a:off x="610920" y="836280"/>
            <a:ext cx="3178080" cy="460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 rot="1002000">
            <a:off x="5795640" y="333360"/>
            <a:ext cx="2155680" cy="607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891320" cy="6483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yutnya_1"/>
          <p:cNvPicPr/>
          <p:nvPr/>
        </p:nvPicPr>
        <p:blipFill>
          <a:blip r:embed="rId1"/>
          <a:stretch/>
        </p:blipFill>
        <p:spPr>
          <a:xfrm>
            <a:off x="468360" y="189000"/>
            <a:ext cx="8305920" cy="616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47120" cy="5969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3:52:34Z</dcterms:created>
  <dc:creator>Марина</dc:creator>
  <dc:description/>
  <dc:language>en-US</dc:language>
  <cp:lastModifiedBy>Артем</cp:lastModifiedBy>
  <dcterms:modified xsi:type="dcterms:W3CDTF">2011-11-16T05:42:01Z</dcterms:modified>
  <cp:revision>11</cp:revision>
  <dc:subject/>
  <dc:title>Значение музыки в жизни человека прошлого и настоящего.</dc:title>
</cp:coreProperties>
</file>