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7.png" ContentType="image/png"/>
  <Override PartName="/ppt/media/image15.jpeg" ContentType="image/jpeg"/>
  <Override PartName="/ppt/media/image14.png" ContentType="image/png"/>
  <Override PartName="/ppt/media/image1.wmf" ContentType="image/x-wmf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1741-779C-4D90-8357-E01DF391A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FFF7-ECC2-442D-B106-57304D92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F2F1-AC40-4FAF-B2AD-13C9088B7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F8D7-7325-4AD6-AED3-C93CBA56D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67AF-AAC3-49C6-BC83-80AD4C632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63FB-9867-4358-9EF3-DA70624D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EBEF-3865-46FA-A414-8E7AAFB3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9EE2-66D2-4742-A162-9407A81E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ADEA-7459-4969-A044-448F9E28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5884-A68C-4E97-985A-896C6CF2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C8B7-548C-4773-997F-08A7973B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8269-5810-4E69-BD25-4E9B4AD7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23E7-E47D-4191-82BD-89A48725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4652-F54C-49B4-A6B6-DE2CAF2E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2B45-AC96-435C-AE5A-ABB8757E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A4C8-D866-45D3-A1E5-7120927BD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DF3D-B715-4179-A36A-DD13CAFB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DDAE-B3AE-46C0-A4B7-E94E9948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0A7C-631F-45AA-8334-54977192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0806-5915-499F-A169-59227039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995E-F124-49BF-9C3F-CD9A3DCB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8E96-06F7-469D-A9BE-109CBE4D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CCD7-33E3-4BB3-BDD4-33D02C60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0A29-27F1-47E6-900E-4ED013A6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2ECA-E35B-4FD0-8BE4-7E0CB957D519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9CF1-DA0E-4B23-A70E-200CB65971EA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3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3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7afd"/>
                </a:solidFill>
                <a:latin typeface="Arial"/>
              </a:rPr>
              <a:t>Женские образы в «Горе от ума» и «Евгении Онегине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Подготовила ученица 9 класса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МОУ СОШ п. Мирный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Макеева Анастасия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Руководитель: Джумакулова Самига Талеповн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1295280" cy="15242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464832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400800" y="304920"/>
            <a:ext cx="1181160" cy="15238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505320" y="6172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4"/>
          <a:srcRect l="6194" t="1345" r="5149" b="39758"/>
          <a:stretch/>
        </p:blipFill>
        <p:spPr>
          <a:xfrm>
            <a:off x="6248520" y="4724280"/>
            <a:ext cx="1371600" cy="19051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rcRect l="32033" t="29195" r="4717" b="4952"/>
          <a:stretch/>
        </p:blipFill>
        <p:spPr>
          <a:xfrm>
            <a:off x="3505320" y="228600"/>
            <a:ext cx="990360" cy="1600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4724280" y="5257800"/>
            <a:ext cx="1117800" cy="13208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7"/>
          <a:stretch/>
        </p:blipFill>
        <p:spPr>
          <a:xfrm>
            <a:off x="0" y="2971800"/>
            <a:ext cx="1523880" cy="16765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8"/>
          <a:stretch/>
        </p:blipFill>
        <p:spPr>
          <a:xfrm>
            <a:off x="6705720" y="3352680"/>
            <a:ext cx="863640" cy="12319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9"/>
          <a:stretch/>
        </p:blipFill>
        <p:spPr>
          <a:xfrm>
            <a:off x="20574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412.0)">
                                      <p:cBhvr>
                                        <p:cTn id="10" dur="1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0"/>
                            </p:stCondLst>
                            <p:childTnLst>
                              <p:par>
                                <p:cTn id="3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0"/>
                            </p:stCondLst>
                            <p:childTnLst>
                              <p:par>
                                <p:cTn id="3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0"/>
                            </p:stCondLst>
                            <p:childTnLst>
                              <p:par>
                                <p:cTn id="4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0"/>
                            </p:stCondLst>
                            <p:childTnLst>
                              <p:par>
                                <p:cTn id="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200"/>
                            </p:stCondLst>
                            <p:childTnLst>
                              <p:par>
                                <p:cTn id="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2200"/>
                            </p:stCondLst>
                            <p:childTnLst>
                              <p:par>
                                <p:cTn id="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42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4876920"/>
            <a:ext cx="1447920" cy="17524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rcRect l="30513" t="23187" r="9164" b="24436"/>
          <a:stretch/>
        </p:blipFill>
        <p:spPr>
          <a:xfrm>
            <a:off x="5943600" y="228600"/>
            <a:ext cx="1676520" cy="20574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7d47d"/>
                </a:solidFill>
                <a:latin typeface="Times New Roman"/>
              </a:rPr>
              <a:t>Нет ничего на свете прекраснее женщины.</a:t>
            </a:r>
            <a:br>
              <a:rPr sz="2800"/>
            </a:br>
            <a:r>
              <a:rPr b="0" i="1" lang="en-US" sz="3600" spc="-1" strike="noStrike">
                <a:solidFill>
                  <a:srgbClr val="f7d47d"/>
                </a:solidFill>
                <a:latin typeface="Times New Roman"/>
              </a:rPr>
              <a:t>Тютчев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73566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Комедия А.С. Грибоедова "Горе от ума" и роман А.С. Пушкина "Евгений Онегин" - грандиозные по замыслу и содержанию произведения. Особое внимание в этих произведениях уделяется женским образам. Женщину, несомненно, ценили во все времена, писали ей стихи, защищали, дарили цветы. О женских образах в романе девятнадцатого столетия принято говорить "пленительные"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 rot="20936400">
            <a:off x="1752480" y="5943240"/>
            <a:ext cx="281952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Татьяна Ларина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5000">
    <p:comb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9000"/>
                            </p:stCondLst>
                            <p:childTnLst>
                              <p:par>
                                <p:cTn id="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2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1000"/>
                            </p:stCondLst>
                            <p:childTnLst>
                              <p:par>
                                <p:cTn id="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rcRect l="72445" t="1922" r="2118" b="69900"/>
          <a:stretch/>
        </p:blipFill>
        <p:spPr>
          <a:xfrm>
            <a:off x="3733920" y="3276720"/>
            <a:ext cx="3886200" cy="33526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Мне кажется, что Софье Фамусовой (главная героиня в "Горе от ума") и Татьяне Лариной (главная героиня "Евгения Онегина") подходит именно это определение. Эти девушки - олицетворение любви, жизни, счастья, молодости и женской прелести. Однако характеры у этих героинь довольно разные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5000">
    <p:comb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rcRect l="20137" t="45913" r="11494" b="0"/>
          <a:stretch/>
        </p:blipFill>
        <p:spPr>
          <a:xfrm>
            <a:off x="0" y="152280"/>
            <a:ext cx="3429000" cy="40006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4325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Софья - сложный для понимания человек. Противоречивость ее характера отметил Гончаров. Он писал, что Софья - это "...смесь хороших инстинктов с ложью, живого ума с отсутствием всякого намека на идеи и убеждения. "...В собственной, личной ее физиономии прячется что-то горячее, нежное, даже мечтательное"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429000" y="685800"/>
            <a:ext cx="4038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cc99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офья Фамусова и Молчалин</a:t>
            </a:r>
            <a:endParaRPr b="0" lang="en-US" sz="1000" spc="1" strike="noStrike">
              <a:ln w="12600">
                <a:solidFill>
                  <a:srgbClr val="b2b2b2"/>
                </a:solidFill>
                <a:miter/>
              </a:ln>
              <a:solidFill>
                <a:srgbClr val="ffcc99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032000" y="1598760"/>
            <a:ext cx="3617640" cy="44971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4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4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" dur="2000" fill="hold"/>
                                        <p:tgtEl>
                                          <p:spTgt spid="2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809880" y="3886200"/>
            <a:ext cx="3810240" cy="28321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4325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Татьяна же была женским идеалом для А.С. Пушкина: Простите мне, я так люблю Татьяну милую мою! В ней не было ничего не понятного читателю и поэтому она сразу вызывала симпатию. Глубокой основой ее образа является народность. Именно это помогло Татьяне победить высший свет, и в этой победе залог победы духа народности над всем, ему противостоящим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480" y="594360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атьяна</a:t>
            </a:r>
            <a:endParaRPr b="0" lang="en-US" sz="1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4032000" y="1598760"/>
            <a:ext cx="3617640" cy="44971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1000" autoRev="1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Arial"/>
              </a:rPr>
              <a:t>Эта неопределенность Софьи и делает ее образ бесконечно трудным для понимания. По мнению Пушкина, Софья начертана неясно. Неясность ее в том, что в ней совмещается, казалось бы, несовместимое: мечтательность и практичность, сентиментальность и властность, наивность и холодная расчетливость, способность на истинное страдание и ядовитая насмешливость над страдающим Чацким. 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124080" y="609480"/>
            <a:ext cx="228600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Татьяна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 advTm="5000">
    <p:comb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257800" y="228600"/>
            <a:ext cx="2286000" cy="34164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2857680" cy="18003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rcRect l="3882" t="2624" r="27477" b="0"/>
          <a:stretch/>
        </p:blipFill>
        <p:spPr>
          <a:xfrm>
            <a:off x="0" y="228600"/>
            <a:ext cx="2438280" cy="44578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73566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Monotype Corsiva"/>
              </a:rPr>
              <a:t>Анализируя прочитанные произведения, я с уверенностью могу сказать, что женские образы в литературе первой половины XIX века имеют поистине непреходящее значение. Они учат нас жить, поступать по совести, пробуждают в нас лучшие чувства и желание делать добро, и всегда оставаться такими, какими нас сделала природа. И мне хочется верить, что хоть кто-нибудь из нас, читающих и любящих русских писателей, будет воспитываться на их произведениях, и изо дня в день, из месяца в месяц, из года в год, будет творить маленькое, бескорыстное добро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4032000" y="1598760"/>
            <a:ext cx="3617640" cy="44971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.5">
                                      <p:cBhvr additive="repl">
                                        <p:cTn id="157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мига</cp:lastModifiedBy>
  <dcterms:modified xsi:type="dcterms:W3CDTF">2013-08-07T13:49:19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