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7.png" ContentType="image/png"/>
  <Override PartName="/ppt/media/image15.jpeg" ContentType="image/jpeg"/>
  <Override PartName="/ppt/media/image14.png" ContentType="image/png"/>
  <Override PartName="/ppt/media/image1.wmf" ContentType="image/x-wmf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5915-227C-4571-AFFB-2E93547F1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0437-9856-4BAB-B251-1F608663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B688-BCA5-4453-935A-32E79D0E6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F314-5CA3-43E0-9FFC-9F5E39AD9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64A2-E0C9-4883-8B38-6DCDDC86B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48E5-690A-436D-95DF-5D0B241F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1FC3-3BFE-41E3-A476-AB374C5E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D6E3-2126-4911-AD80-3A6283F7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4A7E-1F52-4306-B222-1CC971F4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DF7B-C48F-420F-A212-32726C4B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CED1-4E05-4857-9E04-959C5FE4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B849-7490-4766-99DA-63E4AE5B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F594-A94C-45AA-9D31-E72C3707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42C3-11D0-4758-A8A2-B171B249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9032-57C9-448E-8BBB-F32028EC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5A4A-1351-4CCF-8554-B59ACEF36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888B-8CE9-4BF2-A8AE-237EBAF4C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8ED2-F289-4E62-9E41-172485F0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3D26-496F-4E70-A118-FA1C08FC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BC02-929E-49E7-8F6F-FF6C9E83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6C65-9B18-491E-8331-120B4A39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1920-680E-41D6-9303-1E6A0F10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64B2-17EA-4F15-AC56-A6B52CB4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7B87-69E8-4303-A0DE-93B04AC1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B783-3C81-4F2E-BE04-A814859CBF27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DA18-45A9-4970-9CC4-D1569AA33375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3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3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7afd"/>
                </a:solidFill>
                <a:latin typeface="Arial"/>
              </a:rPr>
              <a:t>Женские образы в «Горе от ума» и «Евгении Онегине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Подготовила ученица 9 класса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МОУ СОШ п. Мирный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Макеева Анастасия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Руководитель: Джумакулова Самига Талеповн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1295280" cy="15242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464832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400800" y="304920"/>
            <a:ext cx="1181160" cy="15238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505320" y="6172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4"/>
          <a:srcRect l="6194" t="1345" r="5149" b="39758"/>
          <a:stretch/>
        </p:blipFill>
        <p:spPr>
          <a:xfrm>
            <a:off x="6248520" y="4724280"/>
            <a:ext cx="1371600" cy="19051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rcRect l="32033" t="29195" r="4717" b="4952"/>
          <a:stretch/>
        </p:blipFill>
        <p:spPr>
          <a:xfrm>
            <a:off x="3505320" y="228600"/>
            <a:ext cx="990360" cy="1600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4724280" y="5257800"/>
            <a:ext cx="1117800" cy="13208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7"/>
          <a:stretch/>
        </p:blipFill>
        <p:spPr>
          <a:xfrm>
            <a:off x="0" y="2971800"/>
            <a:ext cx="1523880" cy="16765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8"/>
          <a:stretch/>
        </p:blipFill>
        <p:spPr>
          <a:xfrm>
            <a:off x="6705720" y="3352680"/>
            <a:ext cx="863640" cy="12319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9"/>
          <a:stretch/>
        </p:blipFill>
        <p:spPr>
          <a:xfrm>
            <a:off x="20574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412.0)">
                                      <p:cBhvr>
                                        <p:cTn id="10" dur="1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0"/>
                            </p:stCondLst>
                            <p:childTnLst>
                              <p:par>
                                <p:cTn id="3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0"/>
                            </p:stCondLst>
                            <p:childTnLst>
                              <p:par>
                                <p:cTn id="3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5000"/>
                            </p:stCondLst>
                            <p:childTnLst>
                              <p:par>
                                <p:cTn id="4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0"/>
                            </p:stCondLst>
                            <p:childTnLst>
                              <p:par>
                                <p:cTn id="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200"/>
                            </p:stCondLst>
                            <p:childTnLst>
                              <p:par>
                                <p:cTn id="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2200"/>
                            </p:stCondLst>
                            <p:childTnLst>
                              <p:par>
                                <p:cTn id="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42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4876920"/>
            <a:ext cx="1447920" cy="17524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rcRect l="30513" t="23187" r="9164" b="24436"/>
          <a:stretch/>
        </p:blipFill>
        <p:spPr>
          <a:xfrm>
            <a:off x="5943600" y="228600"/>
            <a:ext cx="1676520" cy="20574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7d47d"/>
                </a:solidFill>
                <a:latin typeface="Times New Roman"/>
              </a:rPr>
              <a:t>Нет ничего на свете прекраснее женщины.</a:t>
            </a:r>
            <a:br>
              <a:rPr sz="2800"/>
            </a:br>
            <a:r>
              <a:rPr b="0" i="1" lang="en-US" sz="3600" spc="-1" strike="noStrike">
                <a:solidFill>
                  <a:srgbClr val="f7d47d"/>
                </a:solidFill>
                <a:latin typeface="Times New Roman"/>
              </a:rPr>
              <a:t>Тютчев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73566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Комедия А.С. Грибоедова "Горе от ума" и роман А.С. Пушкина "Евгений Онегин" - грандиозные по замыслу и содержанию произведения. Особое внимание в этих произведениях уделяется женским образам. Женщину, несомненно, ценили во все времена, писали ей стихи, защищали, дарили цветы. О женских образах в романе девятнадцатого столетия принято говорить "пленительные"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 rot="20936400">
            <a:off x="1752480" y="5943240"/>
            <a:ext cx="281952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Татьяна Ларина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 advTm="5000">
    <p:comb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9000"/>
                            </p:stCondLst>
                            <p:childTnLst>
                              <p:par>
                                <p:cTn id="8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2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1000"/>
                            </p:stCondLst>
                            <p:childTnLst>
                              <p:par>
                                <p:cTn id="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rcRect l="72445" t="1922" r="2118" b="69900"/>
          <a:stretch/>
        </p:blipFill>
        <p:spPr>
          <a:xfrm>
            <a:off x="3733920" y="3276720"/>
            <a:ext cx="3886200" cy="33526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Мне кажется, что Софье Фамусовой (главная героиня в "Горе от ума") и Татьяне Лариной (главная героиня "Евгения Онегина") подходит именно это определение. Эти девушки - олицетворение любви, жизни, счастья, молодости и женской прелести. Однако характеры у этих героинь довольно разные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 advTm="5000">
    <p:comb dir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rcRect l="20137" t="45913" r="11494" b="0"/>
          <a:stretch/>
        </p:blipFill>
        <p:spPr>
          <a:xfrm>
            <a:off x="0" y="152280"/>
            <a:ext cx="3429000" cy="40006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4325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Софья - сложный для понимания человек. Противоречивость ее характера отметил Гончаров. Он писал, что Софья - это "...смесь хороших инстинктов с ложью, живого ума с отсутствием всякого намека на идеи и убеждения. "...В собственной, личной ее физиономии прячется что-то горячее, нежное, даже мечтательное"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429000" y="685800"/>
            <a:ext cx="4038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cc99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офья Фамусова и Молчалин</a:t>
            </a:r>
            <a:endParaRPr b="0" lang="en-US" sz="1000" spc="1" strike="noStrike">
              <a:ln w="12600">
                <a:solidFill>
                  <a:srgbClr val="b2b2b2"/>
                </a:solidFill>
                <a:miter/>
              </a:ln>
              <a:solidFill>
                <a:srgbClr val="ffcc99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032000" y="1598760"/>
            <a:ext cx="3617640" cy="44971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mb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" dur="2000" fill="hold"/>
                                        <p:tgtEl>
                                          <p:spTgt spid="2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809880" y="3886200"/>
            <a:ext cx="3810240" cy="28321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4325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Татьяна же была женским идеалом для А.С. Пушкина: Простите мне, я так люблю Татьяну милую мою! В ней не было ничего не понятного читателю и поэтому она сразу вызывала симпатию. Глубокой основой ее образа является народность. Именно это помогло Татьяне победить высший свет, и в этой победе залог победы духа народности над всем, ему противостоящим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480" y="594360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атьяна</a:t>
            </a:r>
            <a:endParaRPr b="0" lang="en-US" sz="1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4032000" y="1598760"/>
            <a:ext cx="3617640" cy="44971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mb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1000" autoRev="1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311"/>
                </a:solidFill>
                <a:latin typeface="Arial"/>
              </a:rPr>
              <a:t>Эта неопределенность Софьи и делает ее образ бесконечно трудным для понимания. По мнению Пушкина, Софья начертана неясно. Неясность ее в том, что в ней совмещается, казалось бы, несовместимое: мечтательность и практичность, сентиментальность и властность, наивность и холодная расчетливость, способность на истинное страдание и ядовитая насмешливость над страдающим Чацким. 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124080" y="609480"/>
            <a:ext cx="228600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Татьяна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 spd="slow" advTm="5000">
    <p:comb dir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257800" y="228600"/>
            <a:ext cx="2286000" cy="34164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2857680" cy="18003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rcRect l="3882" t="2624" r="27477" b="0"/>
          <a:stretch/>
        </p:blipFill>
        <p:spPr>
          <a:xfrm>
            <a:off x="0" y="228600"/>
            <a:ext cx="2438280" cy="44578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73566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Monotype Corsiva"/>
              </a:rPr>
              <a:t>Анализируя прочитанные произведения, я с уверенностью могу сказать, что женские образы в литературе первой половины XIX века имеют поистине непреходящее значение. Они учат нас жить, поступать по совести, пробуждают в нас лучшие чувства и желание делать добро, и всегда оставаться такими, какими нас сделала природа. И мне хочется верить, что хоть кто-нибудь из нас, читающих и любящих русских писателей, будет воспитываться на их произведениях, и изо дня в день, из месяца в месяц, из года в год, будет творить маленькое, бескорыстное добро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4032000" y="1598760"/>
            <a:ext cx="3617640" cy="44971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mb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.5">
                                      <p:cBhvr additive="repl">
                                        <p:cTn id="153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мига</cp:lastModifiedBy>
  <dcterms:modified xsi:type="dcterms:W3CDTF">2013-08-07T13:49:19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