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592-8B4A-407C-82ED-85E9E7B7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E3A-7939-4F58-9E1B-68BF63B9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8F1-6658-46BF-9D76-FBA69F76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43A-4041-4EC7-A839-35C1E8D6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0564-6227-42D6-AA8D-8A2CC2D6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6A2-BBB5-4965-BD67-0E52FAD4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C560-43FD-4797-BB81-FD150A27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856F-1365-4DF1-939D-9386C49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7FFA-8756-44C3-8BA5-81EA046B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E22-876A-4199-8539-ADE4069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AA1E-5524-46FA-969C-28A458A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DF2-105F-4832-BB42-5FE6441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546B-C128-4DEC-8EC2-00B95B8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C148-0970-4B42-9DE9-D98D23D9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8DA1-0EB5-472A-A146-2DC55D1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0184-1164-4901-A8C3-ECB71B75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F089-0A66-46E2-B65F-5FD14F69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0B8-EDFB-4E9A-AB89-31B4C52D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4B8-DE03-4D09-BFB9-FAE0F69E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D8B-D2AB-4FFC-BBD8-711BA7E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4C4-F530-47BD-9E00-B22DF34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ACD-30E1-4B04-81CF-B5C23778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427-8F5E-42D4-BC9B-01C3B9AC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05B-E77F-40D0-B553-3D9ED76D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55C-E32E-41CC-A993-4E050392DBB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5B4-DCDB-46C9-BC3C-7250C826A0A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afd"/>
                </a:solidFill>
                <a:latin typeface="Arial"/>
              </a:rPr>
              <a:t>Женские образы в «Горе от ума» и «Евгении Онегине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одготовила ученица 9 класс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МОУ СОШ п. Мирны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Макеева Анастас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Руководитель: Джумакулова Самига Талепов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5280" cy="1524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00800" y="304920"/>
            <a:ext cx="1181160" cy="1523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505320" y="6172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rcRect l="6194" t="1345" r="5149" b="39758"/>
          <a:stretch/>
        </p:blipFill>
        <p:spPr>
          <a:xfrm>
            <a:off x="6248520" y="47242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rcRect l="32033" t="29195" r="4717" b="4952"/>
          <a:stretch/>
        </p:blipFill>
        <p:spPr>
          <a:xfrm>
            <a:off x="3505320" y="228600"/>
            <a:ext cx="99036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724280" y="5257800"/>
            <a:ext cx="111780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0" y="29718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705720" y="3352680"/>
            <a:ext cx="863640" cy="123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2057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12.0)">
                                      <p:cBhvr>
                                        <p:cTn id="10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2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22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42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30513" t="23187" r="9164" b="24436"/>
          <a:stretch/>
        </p:blipFill>
        <p:spPr>
          <a:xfrm>
            <a:off x="5943600" y="2286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7d47d"/>
                </a:solidFill>
                <a:latin typeface="Times New Roman"/>
              </a:rPr>
              <a:t>Нет ничего на свете прекраснее женщины.</a:t>
            </a:r>
            <a:br>
              <a:rPr sz="2800"/>
            </a:br>
            <a:r>
              <a:rPr b="0" i="1" lang="en-US" sz="3600" spc="-1" strike="noStrike">
                <a:solidFill>
                  <a:srgbClr val="f7d47d"/>
                </a:solidFill>
                <a:latin typeface="Times New Roman"/>
              </a:rPr>
              <a:t>Тютчев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медия А.С. Грибоедова "Горе от ума" и роман А.С. Пушкина "Евгений Онегин" - грандиозные по замыслу и содержанию произведения. Особое внимание в этих произведениях уделяется женским образам. Женщину, несомненно, ценили во все времена, писали ей стихи, защищали, дарили цветы. О женских образах в романе девятнадцатого столетия принято говорить "пленительные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 rot="20936400">
            <a:off x="1752480" y="5943240"/>
            <a:ext cx="281952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Татьяна Ларин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72445" t="1922" r="2118" b="69900"/>
          <a:stretch/>
        </p:blipFill>
        <p:spPr>
          <a:xfrm>
            <a:off x="3733920" y="3276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не кажется, что Софье Фамусовой (главная героиня в "Горе от ума") и Татьяне Лариной (главная героиня "Евгения Онегина") подходит именно это определение. Эти девушки - олицетворение любви, жизни, счастья, молодости и женской прелести. Однако характеры у этих героинь довольно разны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20137" t="45913" r="11494" b="0"/>
          <a:stretch/>
        </p:blipFill>
        <p:spPr>
          <a:xfrm>
            <a:off x="0" y="152280"/>
            <a:ext cx="3429000" cy="4000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43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Софья - сложный для понимания человек. Противоречивость ее характера отметил Гончаров. Он писал, что Софья - это "...смесь хороших инстинктов с ложью, живого ума с отсутствием всякого намека на идеи и убеждения. "...В собственной, личной ее физиономии прячется что-то горячее, нежное, даже мечтательное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429000" y="68580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фья Фамусова и Молчалин</a:t>
            </a:r>
            <a:endParaRPr b="0" lang="en-US" sz="10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3810240" cy="2832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3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Татьяна же была женским идеалом для А.С. Пушкина: Простите мне, я так люблю Татьяну милую мою! В ней не было ничего не понятного читателю и поэтому она сразу вызывала симпатию. Глубокой основой ее образа является народность. Именно это помогло Татьяне победить высший свет, и в этой победе залог победы духа народности над всем, ему противостоящи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5943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тьяна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000" autoRev="1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Эта неопределенность Софьи и делает ее образ бесконечно трудным для понимания. По мнению Пушкина, Софья начертана неясно. Неясность ее в том, что в ней совмещается, казалось бы, несовместимое: мечтательность и практичность, сентиментальность и властность, наивность и холодная расчетливость, способность на истинное страдание и ядовитая насмешливость над страдающим Чацким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124080" y="609480"/>
            <a:ext cx="22860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атьян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5000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2286000" cy="3416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857680" cy="180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rcRect l="3882" t="2624" r="27477" b="0"/>
          <a:stretch/>
        </p:blipFill>
        <p:spPr>
          <a:xfrm>
            <a:off x="0" y="228600"/>
            <a:ext cx="2438280" cy="4457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Анализируя прочитанные произведения, я с уверенностью могу сказать, что женские образы в литературе первой половины XIX века имеют поистине непреходящее значение. Они учат нас жить, поступать по совести, пробуждают в нас лучшие чувства и желание делать добро, и всегда оставаться такими, какими нас сделала природа. И мне хочется верить, что хоть кто-нибудь из нас, читающих и любящих русских писателей, будет воспитываться на их произведениях, и изо дня в день, из месяца в месяц, из года в год, будет творить маленькое, бескорыстное добр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.5">
                                      <p:cBhvr additive="repl">
                                        <p:cTn id="15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ига</cp:lastModifiedBy>
  <dcterms:modified xsi:type="dcterms:W3CDTF">2013-08-07T13:49:1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