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60B-645B-48CC-9BBC-D9F3F797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C22-9040-4AAD-BCE4-712D5B52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F2D-9615-4944-8ED2-90B4AF3E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A5F-FC79-4FCF-BA29-D12431DD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067B-3388-4D60-A210-67F0E1B8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22B6-81D2-48A8-B38E-EEA25C0D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E690-E8FF-403F-9A82-520D125E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3FFA-CFE6-4D28-85CD-909253D6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F113-51F1-4244-90EC-CE8FD5BA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CD48-D792-46AF-84B5-39C10A6F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3B45-B486-4A7B-9582-7E18FC1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F6E-E3BF-47A0-A482-3617808C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FA57-0C5D-46E8-90DC-1F214A38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A757-8C4C-452E-B10E-E165E22F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C2F2-EBC1-4854-94D2-A1233269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8A3-B2C2-4252-A96D-540FE0B5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90F-B6CE-48FC-80CF-04DB9B94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933-AD5B-41B4-8F17-D42CA546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E05-8061-4102-8D6B-A663C6E1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E1C-66EA-40E3-BC60-4D9FEC4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B69-7F48-4584-998A-C89F6F6C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D0E-4FEE-4216-A88C-CF4C247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CEA-B3A2-4642-9A9A-7460A72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795-7DC4-424F-A2A6-99909F0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3AA4-50F5-4D79-8871-74984031E0C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7AE9-765C-4777-A889-19B8C8A68E7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svetaeva.narod.ru/WIN/writer/mochulsk/index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svetaeva.narod.ru/WIN/silverage/blok/index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енская поэзия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хматова Анна Андреев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ят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ветаева Марина Иванов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шиб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448000" cy="318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2476440" cy="312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24000" y="3366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сказал о поэтическом и психологическом различии той и другой известный русский эмигрантский исследователь литературы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Константин Мочуль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еще в 1923 год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ева всегда в движении; в ее ритмах — учащенное дыхание от быстрого бега. Она как будто рассказывает о чем-то второпях, запыхавшись и размахивая руками. Кончит — и умчится дальше. Она — непоседа. Ахматова — говорит медленно, очень тихим голосом; полулежит неподвижно; зябкие руки прячет под «ложноклассическую» (по выражению Мандельштама) шаль. Только в едва заметной интонации проскальзывает сдержанное чувство. Она — аристократична в своих усталых позах. Цветаева — вихрь, Ахматова — тишина... Цветаева вся в действии — Ахматова в созерцании...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2224080" cy="214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582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СМЯТЕНИЕ</a:t>
            </a: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 Было душно от жгучего света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 взгляды его - как лучи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Я только вздрогнула: этот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ожет меня приручит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клонился - он что-то скажет..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 лица отхлынула кровь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усть камнем надгробным ляжет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жизни моей любов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 Не любишь, не хочешь смотреть?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, как ты красив, проклятый!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я не могу взлетет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 с детства была крылатой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не очи застит туман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ливаются вещи и лица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олько красный тюльпан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юльпан у тебя в петлице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3 Как велит простая учтивость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дошел ко мне, улыбнулся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луласково, полулениво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целуем руки коснулся –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загадочных, древних ликов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меня посмотрели очи..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сять лет замираний и криков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се мои бессонные ноч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Я вложила в тихое слово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казала его - напрасно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ошел ты, и стало снова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душе и пусто и ясно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1913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Ошибка.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снежинку, что легко летает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ак звездочка упавшая скользя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ерешь рукой -- она слезинкой тает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возвратить воздушность ей нельз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пленясь прозрачностью медузы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е коснемся мы капризом рук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а, как пленник, заключенный в узы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друг побледнеет и погибнет вдр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хотим мы в мотыльках-скитальцах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дать не грезу, а земную был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-- Где их наряд? От них на наших пальцах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дна зарей раскрашенная пыль!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ставь полет снежинкам с мотыльками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не губи медузу на песках!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мечту свою хватать руками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мечту свою держать в руках!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льзя тому, что было грустью зыбкой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казать: "Будь страсть! Горя безумствуй, рдей!"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воя любовь была такой ошибкой,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- Но без любви мы гибнем. Чародей!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910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 XIX века принес России четыре удивительных г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89-м родилась Анна Ахмато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0-м - Борис Пастерна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1-м - Осип Мандельшта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В 1892-м - Марина Цветае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  Каждый год выдавал по гению. И что, может быть, самое удивительное: судьба распорядилась поровну - из четырех поэтов - две женщины, женщины - ПОЭТЫ, а не поэтессы. На этом настаивали обе: и Анна Ахматова, и Марина Цветаева. (Поэтесса - понятие психологическое, и вовсе не зависит от величины таланта..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0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981000"/>
          <a:ext cx="4038480" cy="5329440"/>
        </p:xfrm>
        <a:graphic>
          <a:graphicData uri="http://schemas.openxmlformats.org/drawingml/2006/table">
            <a:tbl>
              <a:tblPr/>
              <a:tblGrid>
                <a:gridCol w="2027160"/>
                <a:gridCol w="2011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рическая герои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е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уш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гуч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дрогн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хлынула 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мнем надгроб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могу взлет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ыла крыла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ст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ираний и кр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со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уст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люби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хоче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ты кра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кля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ласк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лен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ки коснул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гляды-как лу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ошё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716360" y="765000"/>
          <a:ext cx="4038840" cy="5943600"/>
        </p:xfrm>
        <a:graphic>
          <a:graphicData uri="http://schemas.openxmlformats.org/drawingml/2006/table">
            <a:tbl>
              <a:tblPr/>
              <a:tblGrid>
                <a:gridCol w="2019240"/>
                <a:gridCol w="201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омант.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неж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г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звёзд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зр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еня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тылё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итал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рё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ч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та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Гру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з люб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ро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пл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ключё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бледне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гиб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емная 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ру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шиб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иб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6240" cy="4581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н- 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неж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тылё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ро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мо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доу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ча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по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сил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п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рд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де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ч неразделённой люб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еловек обречён на любовь. Любовь- неподвластное чув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95280" y="333360"/>
          <a:ext cx="8209080" cy="6515280"/>
        </p:xfrm>
        <a:graphic>
          <a:graphicData uri="http://schemas.openxmlformats.org/drawingml/2006/table">
            <a:tbl>
              <a:tblPr/>
              <a:tblGrid>
                <a:gridCol w="1971720"/>
                <a:gridCol w="3500280"/>
                <a:gridCol w="2737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к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йтральная(установка на разговорную реч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тонимы(в том числе контекстуаль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аголы в повелительном  наклон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о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питеты: тихое слово, загадочных, древних ликов, жгучий свет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: взгляды=лучи, любовь= камень надгроб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ора: очи застит ту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равнения: снежинка= звёздочка, тает слезинкой, медуза= пл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оры: каприз рук, зарёй раскрашенная п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питет: грусть зыб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гуры ре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втор(тюльпан-тюльпан)-усилительная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тит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нтакс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склиц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многото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восклиц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50920" y="1268280"/>
          <a:ext cx="8497800" cy="4851360"/>
        </p:xfrm>
        <a:graphic>
          <a:graphicData uri="http://schemas.openxmlformats.org/drawingml/2006/table">
            <a:tbl>
              <a:tblPr/>
              <a:tblGrid>
                <a:gridCol w="2833560"/>
                <a:gridCol w="2832120"/>
                <a:gridCol w="283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личительные свойства поэ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таль-красный тюльпан (все сосредоточилось, как в красном гаршинском цветке зла, именно в тюльпане: ослепительный и надменный, маячащий как раз на уровне глаз влюбленной женщины, он один высокомерно торжествует в пустынном и застланном пеленою слез, безнадежно обесцветившемся мире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моциональная напряжённость, энергия чув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1371600" cy="187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24000" y="1397160"/>
          <a:ext cx="8424720" cy="2392200"/>
        </p:xfrm>
        <a:graphic>
          <a:graphicData uri="http://schemas.openxmlformats.org/drawingml/2006/table">
            <a:tbl>
              <a:tblPr/>
              <a:tblGrid>
                <a:gridCol w="2376360"/>
                <a:gridCol w="2879640"/>
                <a:gridCol w="31687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хмат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-стопный дактиль , анапест, амфибрах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-стопный ямб с пиррих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иф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енская и муж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енская и муж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соб рифм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крёс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крёс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вук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,з,с(скользя,нельзя,пленяс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113" name="Picture 28" descr=""/>
          <p:cNvPicPr/>
          <p:nvPr/>
        </p:nvPicPr>
        <p:blipFill>
          <a:blip r:embed="rId1"/>
          <a:stretch/>
        </p:blipFill>
        <p:spPr>
          <a:xfrm>
            <a:off x="2604960" y="3500280"/>
            <a:ext cx="2443320" cy="302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9" descr=""/>
          <p:cNvPicPr/>
          <p:nvPr/>
        </p:nvPicPr>
        <p:blipFill>
          <a:blip r:embed="rId2"/>
          <a:stretch/>
        </p:blipFill>
        <p:spPr>
          <a:xfrm>
            <a:off x="6012000" y="3498840"/>
            <a:ext cx="194472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тношение к любв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смиренница»- ведом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хматова познала в юности сладкую отраву безответной любви, а с другой стороны — любовь к себе, на которую не могла ответить. С ранних лет у нее было множество поклонников, но, пожалуй, никто не смог вызвать в ней костер «тайного жара», подобного цветаевском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Анны Ахматовой мужчины всегда оставались «поклонниками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83664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ительница»- вожат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ово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юбов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для Марины Цветаевой ассоциировалось со словам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Александра Бло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тайный жар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Тайный жар — это состояние сердца, души, — всего существа человека. Это — горение, служение, непрекращающееся волнение, смятение чувств. Но самое всеобъемлющее слово все-таки — любов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на не скрывала, что считает мужчин слабыми, неспособными к сильным чувства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9:08:18Z</dcterms:created>
  <dc:creator>j</dc:creator>
  <dc:description/>
  <dc:language>en-US</dc:language>
  <cp:lastModifiedBy>j</cp:lastModifiedBy>
  <dcterms:modified xsi:type="dcterms:W3CDTF">2011-03-30T10:49:13Z</dcterms:modified>
  <cp:revision>24</cp:revision>
  <dc:subject/>
  <dc:title>Женская поэзия.</dc:title>
</cp:coreProperties>
</file>