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11BE-3D21-4B16-BC82-85BE10BB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FECD-F014-4F4C-AEA5-05804AC2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578D-27E6-4859-B012-29208F235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4609-DE57-42E3-B4C5-42C52B9B0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055E-CCC1-4122-B7A1-4A692172D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E3AE-A71F-44C3-B84A-91538074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B210-F50B-4571-92F3-C73D50AF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E811-81B7-434C-9633-DD45F7D6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527C-DCD0-41D0-9BB3-AC348EB3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0704-5DDC-436C-A822-5F5ECD93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6A93-1F1D-4EBC-96CC-1BEB8CF8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F309-F949-44B9-AB7F-0015F154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DC90-06DF-46BB-82C5-FD045943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B4FC-CA3A-4B94-9639-49818A26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A1E2-1442-4714-B043-1BA2AC83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91E5-1D1C-4B89-90C4-A5DFFECF0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C362-A1B5-4484-9657-A99743FB2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7879-B223-4705-98D6-FBCC7891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8D72-AA1D-4D77-BE05-DA6864F9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251D-10E6-4BE7-834D-40FD5A56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3FB9-FE3A-4377-B791-CA762FAD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345A-ECE8-4CD6-82C9-B052C487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73C5-DF3E-4FFA-A34B-CD0C110F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FEB1-86CC-4B9A-93EE-90D7C219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D335-FE0E-4ECF-A98D-6148F638AE66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C1C5-2501-4A42-A05C-7F59A41051AB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tsvetaeva.narod.ru/WIN/writer/mochulsk/index.html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svetaeva.narod.ru/WIN/silverage/blok/index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Женская поэзия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хматова Анна Андреевн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мят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Цветаева Марина Ивановн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шиб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5867280" y="3429000"/>
            <a:ext cx="2448000" cy="3187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1332000" y="3500280"/>
            <a:ext cx="2476440" cy="3121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324000" y="336600"/>
            <a:ext cx="80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рошо сказал о поэтическом и психологическом различии той и другой известный русский эмигрантский исследователь литературы </a:t>
            </a:r>
            <a:r>
              <a:rPr b="0" lang="ru-RU" sz="1800" spc="-1" strike="noStrike" u="sng">
                <a:solidFill>
                  <a:srgbClr val="e2d700"/>
                </a:solidFill>
                <a:uFillTx/>
                <a:latin typeface="Arial"/>
                <a:hlinkClick r:id="rId1"/>
              </a:rPr>
              <a:t>Константин Мочуль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еще в 1923 году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Цветаева всегда в движении; в ее ритмах — учащенное дыхание от быстрого бега. Она как будто рассказывает о чем-то второпях, запыхавшись и размахивая руками. Кончит — и умчится дальше. Она — непоседа. Ахматова — говорит медленно, очень тихим голосом; полулежит неподвижно; зябкие руки прячет под «ложноклассическую» (по выражению Мандельштама) шаль. Только в едва заметной интонации проскальзывает сдержанное чувство. Она — аристократична в своих усталых позах. Цветаева — вихрь, Ахматова — тишина... Цветаева вся в действии — Ахматова в созерцании...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6227640" y="3933720"/>
            <a:ext cx="2224080" cy="2146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45828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60280"/>
            <a:ext cx="40384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Constantia"/>
              </a:rPr>
              <a:t>СМЯТЕНИЕ</a:t>
            </a:r>
            <a:r>
              <a:rPr b="0" lang="ru-RU" sz="7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1 Было душно от жгучего света,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А взгляды его - как лучи.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Я только вздрогнула: этот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Может меня приручить.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Наклонился - он что-то скажет...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От лица отхлынула кровь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усть камнем надгробным ляжет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На жизни моей любовь.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2 Не любишь, не хочешь смотреть?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О, как ты красив, проклятый!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 я не могу взлететь,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А с детства была крылатой.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Мне очи застит туман,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Сливаются вещи и лица,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 только красный тюльпан,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Тюльпан у тебя в петлице.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3 Как велит простая учтивость,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одошел ко мне, улыбнулся,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олуласково, полулениво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оцелуем руки коснулся –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 загадочных, древних ликов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На меня посмотрели очи...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Десять лет замираний и криков,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се мои бессонные ночи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Я вложила в тихое слово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 сказала его - напрасно.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Отошел ты, и стало снова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На душе и пусто и ясно.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onstantia"/>
              </a:rPr>
              <a:t>1913</a:t>
            </a: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8320" y="260280"/>
            <a:ext cx="40384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Constantia"/>
              </a:rPr>
              <a:t>Ошибка.</a:t>
            </a: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Когда снежинку, что легко летает,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Как звездочка упавшая скользя,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Берешь рукой -- она слезинкой тает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И возвратить воздушность ей нельзя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Когда пленясь прозрачностью медузы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Ее коснемся мы капризом рук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на, как пленник, заключенный в узы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Вдруг побледнеет и погибнет вдруг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Когда хотим мы в мотыльках-скитальцах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Видать не грезу, а земную быль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-- Где их наряд? От них на наших пальцах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дна зарей раскрашенная пыль!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ставь полет снежинкам с мотыльками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И не губи медузу на песках!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Нельзя мечту свою хватать руками,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Нельзя мечту свою держать в руках!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Нельзя тому, что было грустью зыбкой,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казать: "Будь страсть! Горя безумствуй, рдей!"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Твоя любовь была такой ошибкой,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- Но без любви мы гибнем. Чародей!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1910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нец XIX века принес России четыре удивительных год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   В 1889-м родилась Анна Ахматов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   В 1890-м - Борис Пастернак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   В 1891-м - Осип Мандельштам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   В 1892-м - Марина Цветаев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   Каждый год выдавал по гению. И что, может быть, самое удивительное: судьба распорядилась поровну - из четырех поэтов - две женщины, женщины - ПОЭТЫ, а не поэтессы. На этом настаивали обе: и Анна Ахматова, и Марина Цветаева. (Поэтесса - понятие психологическое, и вовсе не зависит от величины таланта...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4068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68360" y="981000"/>
          <a:ext cx="4038480" cy="5329440"/>
        </p:xfrm>
        <a:graphic>
          <a:graphicData uri="http://schemas.openxmlformats.org/drawingml/2006/table">
            <a:tbl>
              <a:tblPr/>
              <a:tblGrid>
                <a:gridCol w="2027160"/>
                <a:gridCol w="2011320"/>
              </a:tblGrid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Лирическая герои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ер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53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уш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Жгуч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здрогн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тхлынула кров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амнем надгробны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 могу взлете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ыла крылат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асти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амираний и кр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ессо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уст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 любиш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 хочеш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ак ты краси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окля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луласко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лулени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уки коснул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згляды-как лу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тошё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4716360" y="765000"/>
          <a:ext cx="4038840" cy="5943600"/>
        </p:xfrm>
        <a:graphic>
          <a:graphicData uri="http://schemas.openxmlformats.org/drawingml/2006/table">
            <a:tbl>
              <a:tblPr/>
              <a:tblGrid>
                <a:gridCol w="2019240"/>
                <a:gridCol w="2019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омант.м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еа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58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нежи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ег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ак звёздоч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ду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озра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леня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отылё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китале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рё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ря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ч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став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Гру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юбов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ез люб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Чарод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льз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ак плен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аключё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бледне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гиб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емная бы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ы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 рук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тр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шиб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ибн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523880" y="1397160"/>
          <a:ext cx="6096240" cy="45813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Ахмат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Цвета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юбов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юбов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браз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н- 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нежи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ду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отылё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чарод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мо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доум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тчая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еспомощ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ессил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п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орд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де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лач неразделённой люб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Человек обречён на любовь. Любовь- неподвластное чувств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395280" y="333360"/>
          <a:ext cx="8209080" cy="6515280"/>
        </p:xfrm>
        <a:graphic>
          <a:graphicData uri="http://schemas.openxmlformats.org/drawingml/2006/table">
            <a:tbl>
              <a:tblPr/>
              <a:tblGrid>
                <a:gridCol w="1971720"/>
                <a:gridCol w="3500280"/>
                <a:gridCol w="2737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Ахмат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Цвета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екс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йтральная(установка на разговорную реч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нтонимы(в том числе контекстуальные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лаголы в повелительном  наклонен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льз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ро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питеты: тихое слово, загадочных, древних ликов, жгучий свет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равнения: взгляды=лучи, любовь= камень надгроб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тафора: очи застит тум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равнения: снежинка= звёздочка, тает слезинкой, медуза= плен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тафоры: каприз рук, зарёй раскрашенная пы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питет: грусть зыб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игуры реч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втор(тюльпан-тюльпан)-усилительная фун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наф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нтите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нтакс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вопр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восклиц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 многоточ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 ти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вопр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 восклиц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 ти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250920" y="1268280"/>
          <a:ext cx="8497800" cy="4851360"/>
        </p:xfrm>
        <a:graphic>
          <a:graphicData uri="http://schemas.openxmlformats.org/drawingml/2006/table">
            <a:tbl>
              <a:tblPr/>
              <a:tblGrid>
                <a:gridCol w="2833560"/>
                <a:gridCol w="2832120"/>
                <a:gridCol w="2832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Ахмато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Цветае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8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тличительные свойства поэз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еталь-красный тюльпан (все сосредоточилось, как в красном гаршинском цветке зла, именно в тюльпане: ослепительный и надменный, маячащий как раз на уровне глаз влюбленной женщины, он один высокомерно торжествует в пустынном и застланном пеленою слез, безнадежно обесцветившемся мире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моциональная напряжённость, энергия чувст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042920" y="3284640"/>
            <a:ext cx="1371600" cy="187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324000" y="1397160"/>
          <a:ext cx="8424720" cy="2392200"/>
        </p:xfrm>
        <a:graphic>
          <a:graphicData uri="http://schemas.openxmlformats.org/drawingml/2006/table">
            <a:tbl>
              <a:tblPr/>
              <a:tblGrid>
                <a:gridCol w="2376360"/>
                <a:gridCol w="2879640"/>
                <a:gridCol w="3168720"/>
              </a:tblGrid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Ахмат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Цвета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-стопный дактиль , анапест, амфибрах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-стопный ямб с пиррихи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иф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Женская и мужс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Женская и муж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пособ рифмов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ерекрёст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ерекрёст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вукопи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,з,с(скользя,нельзя,пленяс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pic>
        <p:nvPicPr>
          <p:cNvPr id="113" name="Picture 28" descr=""/>
          <p:cNvPicPr/>
          <p:nvPr/>
        </p:nvPicPr>
        <p:blipFill>
          <a:blip r:embed="rId1"/>
          <a:stretch/>
        </p:blipFill>
        <p:spPr>
          <a:xfrm>
            <a:off x="2604960" y="3500280"/>
            <a:ext cx="2443320" cy="3024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9" descr=""/>
          <p:cNvPicPr/>
          <p:nvPr/>
        </p:nvPicPr>
        <p:blipFill>
          <a:blip r:embed="rId2"/>
          <a:stretch/>
        </p:blipFill>
        <p:spPr>
          <a:xfrm>
            <a:off x="6012000" y="3498840"/>
            <a:ext cx="1944720" cy="3124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Отношение к любв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«смиренница»- ведомы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Ахматова познала в юности сладкую отраву безответной любви, а с другой стороны — любовь к себе, на которую не могла ответить. С ранних лет у нее было множество поклонников, но, пожалуй, никто не смог вызвать в ней костер «тайного жара», подобного цветаевскому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ля Анны Ахматовой мужчины всегда оставались «поклонниками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48320" y="836640"/>
            <a:ext cx="40384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«воительница»- вожаты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лово 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любовь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для Марины Цветаевой ассоциировалось со словами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Александра Блок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тайный жар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Тайный жар — это состояние сердца, души, — всего существа человека. Это — горение, служение, непрекращающееся волнение, смятение чувств. Но самое всеобъемлющее слово все-таки — любовь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на не скрывала, что считает мужчин слабыми, неспособными к сильным чувствам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09:08:18Z</dcterms:created>
  <dc:creator>j</dc:creator>
  <dc:description/>
  <dc:language>en-US</dc:language>
  <cp:lastModifiedBy>j</cp:lastModifiedBy>
  <dcterms:modified xsi:type="dcterms:W3CDTF">2011-03-30T10:49:13Z</dcterms:modified>
  <cp:revision>24</cp:revision>
  <dc:subject/>
  <dc:title>Женская поэзия.</dc:title>
</cp:coreProperties>
</file>