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B80-B72B-4AB9-B3A8-064D0772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858-0D1F-4F71-97DD-E79F58A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144-F8DE-44E8-A661-3D2C0F2F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53F-1D0F-4572-8024-36F0D7E9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0C42-0B1C-4580-B03A-6854F0B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2A4-D76D-4524-9724-AF3F6055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9FA-D976-43B2-B702-B47D939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5F9A-6A4C-48E3-94A3-53624E43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3DBF-11AE-44E5-AD88-5E3A357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69E5-2BB2-4926-AE25-1938E59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48A4-0BC2-4E40-9F0C-ADA231B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F82-13BE-417B-96FE-10165ABF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D138-4763-408F-A762-B3F8D2A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3483-0F7C-4F81-A484-243BF86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9E91-984D-427F-B106-753F5598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E289-7EA9-44FE-B72F-788C0640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D96C-5753-480C-B50A-25CA50FD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D94-2FB6-42F8-8EEC-16B54E6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392-3420-48DA-8172-0E17723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D47-EF1F-410C-AEA8-8611B0E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F7F-71A1-4759-88C7-1CC3D769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2A7-D949-4CB4-8270-710AC0D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D85-ADEF-4FD9-828B-3CBF4E2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2E3-8D6B-4A12-A709-83EF816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208-C2C4-4732-AA4C-521354FCC6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DE4-102E-436F-BE01-22139FA889E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writer/mochulsk/index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silverage/blok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енская поэзи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хматова Анна Андреев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ят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таева Марина Иванов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4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476440" cy="31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24000" y="3366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сказал о поэтическом и психологическом различии той и другой известный русский эмигрантский исследователь литературы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Константин Мочуль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еще в 1923 год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ева всегда в движении; в ее ритмах — учащенное дыхание от быстрого бега. Она как будто рассказывает о чем-то второпях, запыхавшись и размахивая руками. Кончит — и умчится дальше. Она — непоседа. Ахматова — говорит медленно, очень тихим голосом; полулежит неподвижно; зябкие руки прячет под «ложноклассическую» (по выражению Мандельштама) шаль. Только в едва заметной интонации проскальзывает сдержанное чувство. Она — аристократична в своих усталых позах. Цветаева — вихрь, Ахматова — тишина... Цветаева вся в действии — Ахматова в созерцании..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224080" cy="214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СМЯТЕНИЕ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 Было душно от жгучего свет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взгляды его - как лучи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только вздрогнула: это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жет меня приручи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клонился - он что-то скажет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лица отхлынула кровь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усть камнем надгробным ляже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жизни моей любов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 Не любишь, не хочешь смотреть?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, как ты красив, проклятый!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я не могу взлете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с детства была крылатой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не очи застит тум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ливаются вещи и лиц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олько красный тюльп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юльпан у тебя в петлице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 Как велит простая учтивость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дошел ко мне, улыбнулся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луласково, полулени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целуем руки коснулся –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загадочных, древних лико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меня посмотрели очи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сять лет замираний и криков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мои бессонные ноч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вложила в тихое сло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казала его - напра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ошел ты, и стало снова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душе и пусто и я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191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снежинку, что легко летае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звездочка упавшая скольз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ерешь рукой -- она слезинкой тает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возвратить воздушность ей нельз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пленясь прозрачностью мед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е коснемся мы капризом рук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а, как пленник, заключенный в 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друг побледнеет и погибнет вдр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хотим мы в мотыльках-скит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дать не грезу, а земную был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- Где их наряд? От них на наших п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дна зарей раскрашенная пыль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ставь полет снежинкам с мотыльками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е губи медузу на песках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хватать рукам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держать в руках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тому, что было грустью зыбкой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казать: "Будь страсть! Горя безумствуй, рдей!"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воя любовь была такой ошибкой,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 Но без любви мы гибнем. Чародей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910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 XIX века принес России четыре удивительных г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89-м родилась Анна Ахмато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0-м - Борис Пастерна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1-м - Осип Мандельшта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2-м - Марина Цветае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Каждый год выдавал по гению. И что, может быть, самое удивительное: судьба распорядилась поровну - из четырех поэтов - две женщины, женщины - ПОЭТЫ, а не поэтессы. На этом настаивали обе: и Анна Ахматова, и Марина Цветаева. (Поэтесса - понятие психологическое, и вовсе не зависит от величины таланта..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0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981000"/>
          <a:ext cx="4038480" cy="5329440"/>
        </p:xfrm>
        <a:graphic>
          <a:graphicData uri="http://schemas.openxmlformats.org/drawingml/2006/table">
            <a:tbl>
              <a:tblPr/>
              <a:tblGrid>
                <a:gridCol w="2027160"/>
                <a:gridCol w="2011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рическая герои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е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уш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гуч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дрогн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хлынула 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мнем надгроб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гу взлет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ла крыл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ст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ираний и кр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у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люби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хоч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ты кра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кля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ас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е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ки косну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гляды-как л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ошё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16360" y="765000"/>
          <a:ext cx="4038840" cy="594360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омант.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г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вёзд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еня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итал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ё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ч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та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Гру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з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ключё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бледн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гиб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мная 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ру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шиб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иб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6240" cy="4581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н- 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о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ча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по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ил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рд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де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ч неразделённой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ловек обречён на любовь. Любовь- неподвластное чув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95280" y="333360"/>
          <a:ext cx="8209080" cy="6515280"/>
        </p:xfrm>
        <a:graphic>
          <a:graphicData uri="http://schemas.openxmlformats.org/drawingml/2006/table">
            <a:tbl>
              <a:tblPr/>
              <a:tblGrid>
                <a:gridCol w="1971720"/>
                <a:gridCol w="3500280"/>
                <a:gridCol w="273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йтральная(установка на разговорную реч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онимы(в том числе контекстуаль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голы в повелительном  наклон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ы: тихое слово, загадочных, древних ликов, жгучий све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взгляды=лучи, любовь= камень надгро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а: очи застит ту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снежинка= звёздочка, тает слезинкой, медуза=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ы: каприз рук, зарёй раскрашенная 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: грусть зыб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гуры ре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втор(тюльпан-тюльпан)-усилительная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и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нтакс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склиц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многото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восклиц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50920" y="1268280"/>
          <a:ext cx="8497800" cy="4851360"/>
        </p:xfrm>
        <a:graphic>
          <a:graphicData uri="http://schemas.openxmlformats.org/drawingml/2006/table">
            <a:tbl>
              <a:tblPr/>
              <a:tblGrid>
                <a:gridCol w="2833560"/>
                <a:gridCol w="2832120"/>
                <a:gridCol w="283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личительные свойства поэ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таль-красный тюльпан (все сосредоточилось, как в красном гаршинском цветке зла, именно в тюльпане: ослепительный и надменный, маячащий как раз на уровне глаз влюбленной женщины, он один высокомерно торжествует в пустынном и застланном пеленою слез, безнадежно обесцветившемся мире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ональная напряжённость, энергия чув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137160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1397160"/>
          <a:ext cx="8424720" cy="239220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1687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-стопный дактиль , анапест, амфибра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-стопный ямб с пиррих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иф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соб рифм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вук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,з,с(скользя,нельзя,пленяс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28" descr=""/>
          <p:cNvPicPr/>
          <p:nvPr/>
        </p:nvPicPr>
        <p:blipFill>
          <a:blip r:embed="rId1"/>
          <a:stretch/>
        </p:blipFill>
        <p:spPr>
          <a:xfrm>
            <a:off x="2604960" y="3500280"/>
            <a:ext cx="244332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"/>
          <p:cNvPicPr/>
          <p:nvPr/>
        </p:nvPicPr>
        <p:blipFill>
          <a:blip r:embed="rId2"/>
          <a:stretch/>
        </p:blipFill>
        <p:spPr>
          <a:xfrm>
            <a:off x="6012000" y="3498840"/>
            <a:ext cx="194472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тношение к люб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смиренница»- ведом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хматова познала в юности сладкую отраву безответной любви, а с другой стороны — любовь к себе, на которую не могла ответить. С ранних лет у нее было множество поклонников, но, пожалуй, никто не смог вызвать в ней костер «тайного жара», подобного цветаевском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Анны Ахматовой мужчины всегда оставались «поклонникам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836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ительница»- вожат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во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для Марины Цветаевой ассоциировалось со словам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лександра Бло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тайный жар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айный жар — это состояние сердца, души, — всего существа человека. Это — горение, служение, непрекращающееся волнение, смятение чувств. Но самое всеобъемлющее слово все-таки — любов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на не скрывала, что считает мужчин слабыми, неспособными к сильным чувства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9:08:18Z</dcterms:created>
  <dc:creator>j</dc:creator>
  <dc:description/>
  <dc:language>en-US</dc:language>
  <cp:lastModifiedBy>j</cp:lastModifiedBy>
  <dcterms:modified xsi:type="dcterms:W3CDTF">2011-03-30T10:49:13Z</dcterms:modified>
  <cp:revision>24</cp:revision>
  <dc:subject/>
  <dc:title>Женская поэзия.</dc:title>
</cp:coreProperties>
</file>