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4D8-5629-4CBD-9636-3D1329D9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BB5-3C5A-4470-9759-6ABF7F7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202-80AD-46BB-AB55-E1A0FBF5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5BF-71CB-44A4-9FAC-BFA1E21E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121B-B4FC-4028-98A1-D0FB03D6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AB1-E632-4608-8F02-899F3A2F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5A72-35BF-4A4D-946E-E83B9714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B3A8-368C-4608-97E8-02D203A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0B4-868B-463D-AEA7-7733F74E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00D9-E6CB-4E63-83B9-1D43086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7D33-51D3-47D8-98EC-2B2A9534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62F-BDC5-4C6A-9946-548FF57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B169-9388-47E0-9F7B-F33B607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04D6-58C0-4292-A37C-D9F17DE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EAD-C3CE-4B9F-AEE0-1971C28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E646-A5BF-42BA-9B2B-1C6531F8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E8E-86F0-4AA9-A413-9371AC1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5AB-ABE5-4E4A-A077-D0A8EE56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D7C-643B-496C-9745-1C76D0C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03F4-C2F2-4A59-A313-C68DDEA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B06-8F22-4592-A96A-7ECF9A0F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934-517F-4E8E-AFDB-6887DDA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3D9-6E21-4685-B47A-AA79B6F0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E90-8C20-4EAA-A7E8-903BAC9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C63B-D3BF-4923-9233-D34B697335D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342-C478-4977-A741-812A3469B2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«Здоровье детей </a:t>
            </a:r>
            <a:br>
              <a:rPr sz="6000"/>
            </a:b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в наших руках»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563640" y="5229000"/>
            <a:ext cx="5127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тельское собр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лаешь ли  зарядк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шь ли  уроки физкультур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бе нравится ходить на лыжа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проводишь выходны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 гуля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акторы сохранения  физического здоровь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жим дн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ение иммунной сист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жим дня способствует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ьному росту и развитию организма дете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их здоров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вает полезные привычки, навы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йствует укреплению их во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Укрепление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иммунной системы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54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активнос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алив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блюдение правил личной гигиен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ные процедур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каз от вредных привыче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е пита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Безымянный 11"/>
          <p:cNvPicPr/>
          <p:nvPr/>
        </p:nvPicPr>
        <p:blipFill>
          <a:blip r:embed="rId1"/>
          <a:stretch/>
        </p:blipFill>
        <p:spPr>
          <a:xfrm>
            <a:off x="5724360" y="4508640"/>
            <a:ext cx="3240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каливание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крепляет защитные силы организм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ет тонус центральной нервной систем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учшает кровоснабжение и работу мышц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рмализует обмен вещест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нимаешься ли ты закаливание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 моешь ру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 чистишь зуб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времени проводишь у телевизор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овестка дн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доровый образ жизни на примере родителе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второго тримес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 мероприятий на третий тримес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н – здоровь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26920" y="1773000"/>
            <a:ext cx="80661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Сон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 — естественный физиологический процесс пребывания в состоянии с минимальным уровнем мозговой деятельности и пониженной реакцией на окружающий мир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2" descr="http://aulita.ru/wp-content/uploads/2011/06/detskiy-son.jpg"/>
          <p:cNvPicPr/>
          <p:nvPr/>
        </p:nvPicPr>
        <p:blipFill>
          <a:blip r:embed="rId1"/>
          <a:stretch/>
        </p:blipFill>
        <p:spPr>
          <a:xfrm>
            <a:off x="4716360" y="3933720"/>
            <a:ext cx="395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колько спат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26920" y="1844280"/>
            <a:ext cx="80661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ы рекомендуют следующее количество часов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ладенцы (3 - 11 мес.) -   14 - 15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школьники -  11 - 13 ча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и школьного возраста - 10 - 11 ч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2" descr="http://cdn.sheknows.com/articles/image/P&amp;B/girl-asleep-alarm-clock.jpg"/>
          <p:cNvPicPr/>
          <p:nvPr/>
        </p:nvPicPr>
        <p:blipFill>
          <a:blip r:embed="rId1"/>
          <a:stretch/>
        </p:blipFill>
        <p:spPr>
          <a:xfrm>
            <a:off x="5651640" y="4797360"/>
            <a:ext cx="28350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Функции сна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отдых 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ствует переработке и хранению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приспособление организма к изменению освещённости (день-ночь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авливает иммун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064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aeaea"/>
                </a:solidFill>
                <a:latin typeface="Tahoma"/>
              </a:rPr>
              <a:t>Здоровый сон = удачный день?</a:t>
            </a:r>
            <a:endParaRPr b="1" lang="en-US" sz="37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1844280"/>
            <a:ext cx="8208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ительно ли имеет значение, высыпается Ваш ребенок или нет? Абсолютно! Важно не только количество сна, но и качество сна также велик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гими словами, как хорошо ребенок себя чувствует и занимается повседневной деятельностью на следующий день после ночи, зависит от времени его с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263664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сколько ложишься спа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просыпаешься не выспавшис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2" descr="http://www.java2phone.ru/logo/pict/b95.gif"/>
          <p:cNvPicPr/>
          <p:nvPr/>
        </p:nvPicPr>
        <p:blipFill>
          <a:blip r:embed="rId1"/>
          <a:stretch/>
        </p:blipFill>
        <p:spPr>
          <a:xfrm>
            <a:off x="7380360" y="5229360"/>
            <a:ext cx="1546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итание – это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овление тканей организ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ение его энерги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возможности восстанавливаться после болезни, двигаться, работать, и т. 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Питание должно быть разнообразным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6560" y="1700280"/>
            <a:ext cx="8137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ки – обеспечивают строительство организма; составляют 20% веса нашего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иры – запасной источник эне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воды – дают энерг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тамины – актив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2" descr="http://www.empirebeauty.ru/uploads/posts/2009-10/1255274560_20090311-vegpiramida-01.jpg"/>
          <p:cNvPicPr/>
          <p:nvPr/>
        </p:nvPicPr>
        <p:blipFill>
          <a:blip r:embed="rId1"/>
          <a:stretch/>
        </p:blipFill>
        <p:spPr>
          <a:xfrm>
            <a:off x="6084720" y="3500280"/>
            <a:ext cx="28083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достаток любог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з питательных веществ ослабляет организм ребенка,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амедляет его рост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2" descr="http://kackest.com/wp-content/uploads/2011/04/1.jpg"/>
          <p:cNvPicPr/>
          <p:nvPr/>
        </p:nvPicPr>
        <p:blipFill>
          <a:blip r:embed="rId1"/>
          <a:stretch/>
        </p:blipFill>
        <p:spPr>
          <a:xfrm>
            <a:off x="4500720" y="3645000"/>
            <a:ext cx="40798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езультаты анкетирования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раз в день еш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чего состоит твой завтра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часто ешь слад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41300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Здоровый человек есть самое драгоценные произведение природы"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ы детей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Содержимое 3" descr=""/>
          <p:cNvPicPr/>
          <p:nvPr/>
        </p:nvPicPr>
        <p:blipFill>
          <a:blip r:embed="rId1"/>
          <a:stretch/>
        </p:blipFill>
        <p:spPr>
          <a:xfrm>
            <a:off x="1015920" y="1930320"/>
            <a:ext cx="764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слабление организма приводит к малоподвижному образу жизни ребенк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320" y="2349000"/>
            <a:ext cx="75438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Обездвиженность 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олезнь цивилизаци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http://tub.rutube.ru/thumbs/bc/7d/bc7d6f23837952cf89c0a5198dbf82ce-1-1.jpg"/>
          <p:cNvPicPr/>
          <p:nvPr/>
        </p:nvPicPr>
        <p:blipFill>
          <a:blip r:embed="rId1"/>
          <a:stretch/>
        </p:blipFill>
        <p:spPr>
          <a:xfrm>
            <a:off x="5364000" y="4005360"/>
            <a:ext cx="31687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еляйте как можно больше внимания своему ребенк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казывайте о себе, своей жизн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авайте хороший пример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тог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16280"/>
            <a:ext cx="7826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тделяйте здоровый образ жизни ребенка от здорового образа жизни взрослого, ведь только в здоровой семье воспитывается здоровый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6" descr="http://www.zimaletta.com.ua/ufiles/Image/4718.jpg"/>
          <p:cNvPicPr/>
          <p:nvPr/>
        </p:nvPicPr>
        <p:blipFill>
          <a:blip r:embed="rId1"/>
          <a:stretch/>
        </p:blipFill>
        <p:spPr>
          <a:xfrm>
            <a:off x="4716360" y="4005360"/>
            <a:ext cx="39448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Желаю вам здоровья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5" descr="http://i.i.ua/cards/pic/5/1/33415.jpg"/>
          <p:cNvPicPr/>
          <p:nvPr/>
        </p:nvPicPr>
        <p:blipFill>
          <a:blip r:embed="rId1"/>
          <a:stretch/>
        </p:blipFill>
        <p:spPr>
          <a:xfrm>
            <a:off x="1042920" y="1989000"/>
            <a:ext cx="7274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подготовле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ем начальных класс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БОУ СОШ №534 г. Моск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аровой Ириной Валерье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12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доровье = 100 %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наследственные фактор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0% - факторы внешней среды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0% - деятельность системы  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       здравоохранения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50 % - образ жизни человек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Левая фигурная скобка 2"/>
          <p:cNvSpPr/>
          <p:nvPr/>
        </p:nvSpPr>
        <p:spPr>
          <a:xfrm rot="16200000">
            <a:off x="4103640" y="1736640"/>
            <a:ext cx="720720" cy="6553440"/>
          </a:xfrm>
          <a:custGeom>
            <a:avLst/>
            <a:gdLst>
              <a:gd name="textAreaLeft" fmla="*/ 460440 w 720720"/>
              <a:gd name="textAreaRight" fmla="*/ 721080 w 720720"/>
              <a:gd name="textAreaTop" fmla="*/ 18720 h 6553440"/>
              <a:gd name="textAreaBottom" fmla="*/ 653472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9"/>
                  <a:pt x="10800" y="198"/>
                </a:cubicBezTo>
                <a:lnTo>
                  <a:pt x="10800" y="10602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899"/>
                  <a:pt x="10800" y="10998"/>
                </a:cubicBezTo>
                <a:lnTo>
                  <a:pt x="10800" y="21402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384720" y="5589720"/>
            <a:ext cx="212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отив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мотивации к здоровому образу жизни зависит прежде всего от родителей. Именно родители вместе со школой должны способствовать воспитанию у детей привычки, а затем и потребности в здоровом образе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«Учи показом, </a:t>
            </a:r>
            <a:br>
              <a:rPr sz="4800"/>
            </a:br>
            <a:r>
              <a:rPr b="1" lang="ru-RU" sz="4800" spc="-1" strike="noStrike">
                <a:solidFill>
                  <a:srgbClr val="eaeaea"/>
                </a:solidFill>
                <a:latin typeface="Tahoma"/>
              </a:rPr>
              <a:t>а не рассказом!»</a:t>
            </a:r>
            <a:br>
              <a:rPr sz="60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http://afisha.webrostov.ru/pictures/posters/17933/17933_big.jpg"/>
          <p:cNvPicPr/>
          <p:nvPr/>
        </p:nvPicPr>
        <p:blipFill>
          <a:blip r:embed="rId1"/>
          <a:stretch/>
        </p:blipFill>
        <p:spPr>
          <a:xfrm>
            <a:off x="6443640" y="2565360"/>
            <a:ext cx="211788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3.bp.blogspot.com/_qznYNzjeuT4/R1wvCyFRcqI/AAAAAAAAAdM/HLRXwyxO5aQ/s400/untitled.jpg"/>
          <p:cNvPicPr/>
          <p:nvPr/>
        </p:nvPicPr>
        <p:blipFill>
          <a:blip r:embed="rId2"/>
          <a:stretch/>
        </p:blipFill>
        <p:spPr>
          <a:xfrm>
            <a:off x="1042920" y="2565360"/>
            <a:ext cx="172872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3.bp.blogspot.com/_qznYNzjeuT4/TOEtOwRIaSI/AAAAAAAADF8/RYh0hvJ1yYk/s400/momdadme.jpg"/>
          <p:cNvPicPr/>
          <p:nvPr/>
        </p:nvPicPr>
        <p:blipFill>
          <a:blip r:embed="rId3"/>
          <a:stretch/>
        </p:blipFill>
        <p:spPr>
          <a:xfrm>
            <a:off x="3276720" y="4076640"/>
            <a:ext cx="27352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04560"/>
            <a:ext cx="8137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Три важнейшие потребности детей в возрасте 6 – 10 лет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вижение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н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та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вижение - жизн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99640" y="1844280"/>
            <a:ext cx="7775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ние человека начинается еще задолго до его рождения. В утробе матери происходит чудо, развивается человек. Человек потягивается, переворачивается, а иной раз даже очень активно толкает ножками, как бы торопится уже беж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http://i034.radikal.ru/0811/26/8d16b97788d7.jpg"/>
          <p:cNvPicPr/>
          <p:nvPr/>
        </p:nvPicPr>
        <p:blipFill>
          <a:blip r:embed="rId1"/>
          <a:stretch/>
        </p:blipFill>
        <p:spPr>
          <a:xfrm>
            <a:off x="5580000" y="4653000"/>
            <a:ext cx="295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раст от 3 до 10 лет считается активным, наиболее благоприятным для развития врожденных и приобретенных в первые годы жизни ребенка двигательные способности. В более поздние сроки эти способности - подвижность, гибкость, ловкость - оказываются утраченными, и их приходится зано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http://1.bp.blogspot.com/_2lhUV4OoEsg/TLqg1gtI9GI/AAAAAAAAAVM/VzRebrFrg0s/s1600/%D0%B4%D0%B5%D1%82%D0%B8+%D0%BF%D1%80%D1%8B%D0%B3%D0%B0%D1%8E%D1%82.jpg"/>
          <p:cNvPicPr/>
          <p:nvPr/>
        </p:nvPicPr>
        <p:blipFill>
          <a:blip r:embed="rId1"/>
          <a:stretch/>
        </p:blipFill>
        <p:spPr>
          <a:xfrm>
            <a:off x="3851280" y="3789360"/>
            <a:ext cx="4753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56:05Z</dcterms:created>
  <dc:creator>Учитель</dc:creator>
  <dc:description/>
  <dc:language>en-US</dc:language>
  <cp:lastModifiedBy>ZooM</cp:lastModifiedBy>
  <dcterms:modified xsi:type="dcterms:W3CDTF">2013-12-03T20:25:40Z</dcterms:modified>
  <cp:revision>49</cp:revision>
  <dc:subject/>
  <dc:title>Родительское собрание</dc:title>
</cp:coreProperties>
</file>