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2.png" ContentType="image/png"/>
  <Override PartName="/ppt/media/image19.jpeg" ContentType="image/jpeg"/>
  <Override PartName="/ppt/media/image18.jpeg" ContentType="image/jpeg"/>
  <Override PartName="/ppt/media/image1.jpeg" ContentType="image/jpeg"/>
  <Override PartName="/ppt/media/image7.png" ContentType="image/png"/>
  <Override PartName="/ppt/media/image17.jpeg" ContentType="image/jpeg"/>
  <Override PartName="/ppt/media/image16.png" ContentType="image/png"/>
  <Override PartName="/ppt/media/image15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2FE26-D516-4519-A4EF-F9DB9A652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FE8A3-8084-4F04-BDDE-3FBB5CA5B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B039E-C39E-4371-BA77-7363523E6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CC189-1C3E-4552-8717-EC53FCF41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1141B-782B-4A38-A0F2-EDEECEA08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4BDF3-0A1D-4D93-B262-8FA4EFBAE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B4744-FCA7-45C7-8864-422CFAC63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52AF0-6CEA-4653-95CB-D0B308325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7FF3F-04D6-4386-8309-AB7539E3C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D7E39-827C-420C-BB8A-BE3AD0C95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AC097-C198-455B-AFD7-88C596093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13EF2-D2C9-49BF-B24F-949965D6E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08FF3-0785-48B3-9660-477160EE0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A0199-7CB9-4B22-8523-14400BFB4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25E21-F214-422B-AB03-82ECE8ADE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A1425-659A-48B0-9C40-D9129F977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86B2C-7B06-419D-BA11-F41DF1959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35C42-896C-4DE6-8EDA-FAE3E9092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242F5-513C-4D0E-B436-0487E1E40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C82D6-DC4B-4B59-990A-55CDF09B1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364A2-76AF-48F3-8ACD-3E9FCDEE3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5BF9C-C8D6-4D8F-A85A-A37A6A50B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1F7F6-2081-440B-8C57-D2786ADB3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B8F83-FD92-45C8-BE8F-B9B61A359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7F13C-80F3-40F4-B9C2-D62F8BEB959C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1EBF0-1A96-4B49-8CD5-F5D2B441D797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4360" y="1915920"/>
            <a:ext cx="7920000" cy="208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eaeaea"/>
                </a:solidFill>
                <a:latin typeface="Tahoma"/>
              </a:rPr>
              <a:t>«Здоровье детей </a:t>
            </a:r>
            <a:br>
              <a:rPr sz="6000"/>
            </a:br>
            <a:r>
              <a:rPr b="1" lang="ru-RU" sz="6000" spc="-1" strike="noStrike">
                <a:solidFill>
                  <a:srgbClr val="eaeaea"/>
                </a:solidFill>
                <a:latin typeface="Tahoma"/>
              </a:rPr>
              <a:t>в наших руках»</a:t>
            </a:r>
            <a:endParaRPr b="1" lang="en-US" sz="6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3563640" y="5229000"/>
            <a:ext cx="5127480" cy="62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одительское собрани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71280" y="304560"/>
            <a:ext cx="799308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aeaea"/>
                </a:solidFill>
                <a:latin typeface="Tahoma"/>
              </a:rPr>
              <a:t>Результаты анкетирования.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елаешь ли  зарядку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Любишь ли  уроки физкультуры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Тебе нравится ходить на лыжах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ак  проводишь выходные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колько  гуляешь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aeaea"/>
                </a:solidFill>
                <a:latin typeface="Tahoma"/>
              </a:rPr>
              <a:t>Ответы детей: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35" name="Содержимое 3" descr=""/>
          <p:cNvPicPr/>
          <p:nvPr/>
        </p:nvPicPr>
        <p:blipFill>
          <a:blip r:embed="rId1"/>
          <a:stretch/>
        </p:blipFill>
        <p:spPr>
          <a:xfrm>
            <a:off x="1015920" y="1930320"/>
            <a:ext cx="7645320" cy="42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aeaea"/>
                </a:solidFill>
                <a:latin typeface="Tahoma"/>
              </a:rPr>
              <a:t>Факторы сохранения  физического здоровья: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ежим дня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крепление иммунной системы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закаливание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тказ от вредных привычек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лноценное питани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aeaea"/>
                </a:solidFill>
                <a:latin typeface="Tahoma"/>
              </a:rPr>
              <a:t>Режим дня способствует:</a:t>
            </a: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ормальному росту и развитию организма детей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крепляет их здоровье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ививает полезные привычки, навыки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одействует укреплению их воли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aeaea"/>
                </a:solidFill>
                <a:latin typeface="Tahoma"/>
              </a:rPr>
              <a:t>Укрепление</a:t>
            </a:r>
            <a:br>
              <a:rPr sz="3600"/>
            </a:br>
            <a:r>
              <a:rPr b="1" lang="ru-RU" sz="3600" spc="-1" strike="noStrike">
                <a:solidFill>
                  <a:srgbClr val="eaeaea"/>
                </a:solidFill>
                <a:latin typeface="Tahoma"/>
              </a:rPr>
              <a:t> иммунной системы</a:t>
            </a:r>
            <a:r>
              <a:rPr b="1" lang="ru-RU" sz="40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66320" y="1557360"/>
            <a:ext cx="754380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физическая активность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закаливание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облюдение правил личной гигиены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одные процедуры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тказ от вредных привычек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авильное питание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2" name="Picture 4" descr="Безымянный 11"/>
          <p:cNvPicPr/>
          <p:nvPr/>
        </p:nvPicPr>
        <p:blipFill>
          <a:blip r:embed="rId1"/>
          <a:stretch/>
        </p:blipFill>
        <p:spPr>
          <a:xfrm>
            <a:off x="5724360" y="4508640"/>
            <a:ext cx="3240360" cy="20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Закаливание: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крепляет защитные силы организма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вышает тонус центральной нервной системы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лучшает кровоснабжение и работу мышц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ормализует обмен веществ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8264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aeaea"/>
                </a:solidFill>
                <a:latin typeface="Tahoma"/>
              </a:rPr>
              <a:t>Результаты анкетирования.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1066320" y="2708280"/>
            <a:ext cx="7543800" cy="338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Занимаешься ли ты закаливанием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aeaea"/>
                </a:solidFill>
                <a:latin typeface="Tahoma"/>
              </a:rPr>
              <a:t>Ответы детей: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48" name="Содержимое 3" descr=""/>
          <p:cNvPicPr/>
          <p:nvPr/>
        </p:nvPicPr>
        <p:blipFill>
          <a:blip r:embed="rId1"/>
          <a:stretch/>
        </p:blipFill>
        <p:spPr>
          <a:xfrm>
            <a:off x="1015920" y="1930320"/>
            <a:ext cx="7645320" cy="42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71640" y="304560"/>
            <a:ext cx="792144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aeaea"/>
                </a:solidFill>
                <a:latin typeface="Tahoma"/>
              </a:rPr>
              <a:t>Результаты анкетирования: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ак часто  моешь руки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колько раз  чистишь зубы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колько времени проводишь у телевизора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aeaea"/>
                </a:solidFill>
                <a:latin typeface="Tahoma"/>
              </a:rPr>
              <a:t>Ответы детей: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52" name="Содержимое 3" descr=""/>
          <p:cNvPicPr/>
          <p:nvPr/>
        </p:nvPicPr>
        <p:blipFill>
          <a:blip r:embed="rId1"/>
          <a:stretch/>
        </p:blipFill>
        <p:spPr>
          <a:xfrm>
            <a:off x="1015920" y="1930320"/>
            <a:ext cx="7645320" cy="42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Повестка дня: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«Здоровый образ жизни на примере родителей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тоги второго триместр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лан мероприятий на третий триместр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азно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66320" y="304920"/>
            <a:ext cx="7543800" cy="110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Сон – здоровье.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826920" y="1773000"/>
            <a:ext cx="8066160" cy="432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1" lang="ru-RU" sz="3000" spc="-1" strike="noStrike">
                <a:solidFill>
                  <a:srgbClr val="ffffff"/>
                </a:solidFill>
                <a:latin typeface="Tahoma"/>
              </a:rPr>
              <a:t>Сон</a:t>
            </a:r>
            <a:r>
              <a:rPr b="0" lang="ru-RU" sz="3000" spc="-1" strike="noStrike">
                <a:solidFill>
                  <a:srgbClr val="ffffff"/>
                </a:solidFill>
                <a:latin typeface="Tahoma"/>
              </a:rPr>
              <a:t> — естественный физиологический процесс пребывания в состоянии с минимальным уровнем мозговой деятельности и пониженной реакцией на окружающий мир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5" name="Picture 2" descr="http://aulita.ru/wp-content/uploads/2011/06/detskiy-son.jpg"/>
          <p:cNvPicPr/>
          <p:nvPr/>
        </p:nvPicPr>
        <p:blipFill>
          <a:blip r:embed="rId1"/>
          <a:stretch/>
        </p:blipFill>
        <p:spPr>
          <a:xfrm>
            <a:off x="4716360" y="3933720"/>
            <a:ext cx="395928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Сколько спать?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826920" y="1844280"/>
            <a:ext cx="8066160" cy="425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пециалисты рекомендуют следующее количество часов 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14440" indent="-51444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514440" indent="-51444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ладенцы (3 - 11 мес.) -   14 - 15 часов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14440" indent="-51444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ошкольники -  11 - 13 часов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14440" indent="-51444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ети школьного возраста - 10 - 11 часо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Picture 2" descr="http://cdn.sheknows.com/articles/image/P&amp;B/girl-asleep-alarm-clock.jpg"/>
          <p:cNvPicPr/>
          <p:nvPr/>
        </p:nvPicPr>
        <p:blipFill>
          <a:blip r:embed="rId1"/>
          <a:stretch/>
        </p:blipFill>
        <p:spPr>
          <a:xfrm>
            <a:off x="5651640" y="4797360"/>
            <a:ext cx="283500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aeaea"/>
                </a:solidFill>
                <a:latin typeface="Tahoma"/>
              </a:rPr>
              <a:t>Функции сна: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беспечивает отдых организма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пособствует переработке и хранению информации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это приспособление организма к изменению освещённости (день-ночь)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осстанавливает иммунитет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00000" y="304560"/>
            <a:ext cx="806472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eaeaea"/>
                </a:solidFill>
                <a:latin typeface="Tahoma"/>
              </a:rPr>
              <a:t>Здоровый сон = удачный день?</a:t>
            </a:r>
            <a:endParaRPr b="1" lang="en-US" sz="37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684360" y="1844280"/>
            <a:ext cx="8208720" cy="425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ействительно ли имеет значение, высыпается Ваш ребенок или нет? Абсолютно! Важно не только количество сна, но и качество сна также велико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ругими словами, как хорошо ребенок себя чувствует и занимается повседневной деятельностью на следующий день после ночи, зависит от времени его сн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8264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aeaea"/>
                </a:solidFill>
                <a:latin typeface="Tahoma"/>
              </a:rPr>
              <a:t>Результаты анкетирования.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1042560" y="2636640"/>
            <a:ext cx="7543800" cy="35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о сколько ложишься спать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ак часто просыпаешься не выспавшись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5" name="Picture 2" descr="http://www.java2phone.ru/logo/pict/b95.gif"/>
          <p:cNvPicPr/>
          <p:nvPr/>
        </p:nvPicPr>
        <p:blipFill>
          <a:blip r:embed="rId1"/>
          <a:stretch/>
        </p:blipFill>
        <p:spPr>
          <a:xfrm>
            <a:off x="7380360" y="5229360"/>
            <a:ext cx="154620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aeaea"/>
                </a:solidFill>
                <a:latin typeface="Tahoma"/>
              </a:rPr>
              <a:t>Ответы детей: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67" name="Содержимое 3" descr=""/>
          <p:cNvPicPr/>
          <p:nvPr/>
        </p:nvPicPr>
        <p:blipFill>
          <a:blip r:embed="rId1"/>
          <a:stretch/>
        </p:blipFill>
        <p:spPr>
          <a:xfrm>
            <a:off x="1015920" y="1930320"/>
            <a:ext cx="7645320" cy="42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Питание – это: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осстановление тканей организма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набжение его энергией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беспечение возможности восстанавливаться после болезни, двигаться, работать, и т. д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aeaea"/>
                </a:solidFill>
                <a:latin typeface="Tahoma"/>
              </a:rPr>
              <a:t>Питание должно быть разнообразным.</a:t>
            </a:r>
            <a:br>
              <a:rPr sz="4000"/>
            </a:b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826560" y="1700280"/>
            <a:ext cx="8137800" cy="439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Белки – обеспечивают строительство организма; составляют 20% веса нашего тел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Жиры – запасной источник энерги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Углеводы – дают энергию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итамины – активность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2" name="Picture 2" descr="http://www.empirebeauty.ru/uploads/posts/2009-10/1255274560_20090311-vegpiramida-01.jpg"/>
          <p:cNvPicPr/>
          <p:nvPr/>
        </p:nvPicPr>
        <p:blipFill>
          <a:blip r:embed="rId1"/>
          <a:stretch/>
        </p:blipFill>
        <p:spPr>
          <a:xfrm>
            <a:off x="6084720" y="3500280"/>
            <a:ext cx="2808360" cy="317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4000" y="549000"/>
            <a:ext cx="8280360" cy="28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     </a:t>
            </a:r>
            <a:r>
              <a:rPr b="1" lang="ru-RU" sz="4000" spc="-1" strike="noStrike">
                <a:solidFill>
                  <a:srgbClr val="eaeaea"/>
                </a:solidFill>
                <a:latin typeface="Tahoma"/>
              </a:rPr>
              <a:t>Недостаток любого </a:t>
            </a:r>
            <a:br>
              <a:rPr sz="4000"/>
            </a:br>
            <a:r>
              <a:rPr b="1" lang="ru-RU" sz="4000" spc="-1" strike="noStrike">
                <a:solidFill>
                  <a:srgbClr val="eaeaea"/>
                </a:solidFill>
                <a:latin typeface="Tahoma"/>
              </a:rPr>
              <a:t>из питательных веществ ослабляет организм ребенка, </a:t>
            </a:r>
            <a:br>
              <a:rPr sz="4000"/>
            </a:br>
            <a:r>
              <a:rPr b="1" lang="ru-RU" sz="4000" spc="-1" strike="noStrike">
                <a:solidFill>
                  <a:srgbClr val="eaeaea"/>
                </a:solidFill>
                <a:latin typeface="Tahoma"/>
              </a:rPr>
              <a:t>замедляет его рост.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5" name="Picture 2" descr="http://kackest.com/wp-content/uploads/2011/04/1.jpg"/>
          <p:cNvPicPr/>
          <p:nvPr/>
        </p:nvPicPr>
        <p:blipFill>
          <a:blip r:embed="rId1"/>
          <a:stretch/>
        </p:blipFill>
        <p:spPr>
          <a:xfrm>
            <a:off x="4500720" y="3645000"/>
            <a:ext cx="4079880" cy="291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8264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aeaea"/>
                </a:solidFill>
                <a:latin typeface="Tahoma"/>
              </a:rPr>
              <a:t>Результаты анкетирования.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колько раз в день ешь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з чего состоит твой завтрак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ак часто ешь сладости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320" y="1413000"/>
            <a:ext cx="7543800" cy="468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eaeaea"/>
                </a:solidFill>
                <a:latin typeface="Tahoma"/>
              </a:rPr>
              <a:t>“</a:t>
            </a:r>
            <a:r>
              <a:rPr b="1" i="1" lang="ru-RU" sz="4000" spc="-1" strike="noStrike">
                <a:solidFill>
                  <a:srgbClr val="eaeaea"/>
                </a:solidFill>
                <a:latin typeface="Tahoma"/>
              </a:rPr>
              <a:t>Здоровый человек есть самое драгоценные произведение природы". </a:t>
            </a: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aeaea"/>
                </a:solidFill>
                <a:latin typeface="Tahoma"/>
              </a:rPr>
              <a:t>Ответы детей: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79" name="Содержимое 3" descr=""/>
          <p:cNvPicPr/>
          <p:nvPr/>
        </p:nvPicPr>
        <p:blipFill>
          <a:blip r:embed="rId1"/>
          <a:stretch/>
        </p:blipFill>
        <p:spPr>
          <a:xfrm>
            <a:off x="1015920" y="1930320"/>
            <a:ext cx="7645320" cy="42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aeaea"/>
                </a:solidFill>
                <a:latin typeface="Tahoma"/>
              </a:rPr>
              <a:t>Ослабление организма приводит к малоподвижному образу жизни ребенка.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1066320" y="2349000"/>
            <a:ext cx="7543800" cy="37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«Обездвиженность –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болезнь цивилизации»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2" name="Picture 2" descr="http://tub.rutube.ru/thumbs/bc/7d/bc7d6f23837952cf89c0a5198dbf82ce-1-1.jpg"/>
          <p:cNvPicPr/>
          <p:nvPr/>
        </p:nvPicPr>
        <p:blipFill>
          <a:blip r:embed="rId1"/>
          <a:stretch/>
        </p:blipFill>
        <p:spPr>
          <a:xfrm>
            <a:off x="5364000" y="4005360"/>
            <a:ext cx="3168720" cy="23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Итог: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деляйте как можно больше внимания своему ребенку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ассказывайте о себе, своей жизни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давайте хороший пример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320" y="304920"/>
            <a:ext cx="7543800" cy="117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aeaea"/>
                </a:solidFill>
                <a:latin typeface="Tahoma"/>
              </a:rPr>
              <a:t>Итог: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916280"/>
            <a:ext cx="7826400" cy="417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е отделяйте здоровый образ жизни ребенка от здорового образа жизни взрослого, ведь только в здоровой семье воспитывается здоровый человек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7" name="Picture 6" descr="http://www.zimaletta.com.ua/ufiles/Image/4718.jpg"/>
          <p:cNvPicPr/>
          <p:nvPr/>
        </p:nvPicPr>
        <p:blipFill>
          <a:blip r:embed="rId1"/>
          <a:stretch/>
        </p:blipFill>
        <p:spPr>
          <a:xfrm>
            <a:off x="4716360" y="4005360"/>
            <a:ext cx="394488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042560" y="304920"/>
            <a:ext cx="7567560" cy="139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Желаю вам здоровья!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042560" y="1628280"/>
            <a:ext cx="75438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6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0" name="Picture 5" descr="http://i.i.ua/cards/pic/5/1/33415.jpg"/>
          <p:cNvPicPr/>
          <p:nvPr/>
        </p:nvPicPr>
        <p:blipFill>
          <a:blip r:embed="rId1"/>
          <a:stretch/>
        </p:blipFill>
        <p:spPr>
          <a:xfrm>
            <a:off x="1042920" y="1989000"/>
            <a:ext cx="727416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042560" y="259920"/>
            <a:ext cx="75438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езентация подготовлен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чителем начальных классов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ГБОУ СОШ №534 г. Москв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акаровой Ириной Валерьевно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2012 год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86920" y="260280"/>
            <a:ext cx="7543800" cy="540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   </a:t>
            </a: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Здоровье = 100 %</a:t>
            </a:r>
            <a:br>
              <a:rPr sz="4400"/>
            </a:br>
            <a:br>
              <a:rPr sz="4400"/>
            </a:br>
            <a:r>
              <a:rPr b="1" lang="ru-RU" sz="2800" spc="-1" strike="noStrike">
                <a:solidFill>
                  <a:srgbClr val="eaeaea"/>
                </a:solidFill>
                <a:latin typeface="Tahoma"/>
              </a:rPr>
              <a:t>20% - наследственные факторы</a:t>
            </a:r>
            <a:br>
              <a:rPr sz="2800"/>
            </a:br>
            <a:r>
              <a:rPr b="1" lang="ru-RU" sz="2800" spc="-1" strike="noStrike">
                <a:solidFill>
                  <a:srgbClr val="eaeaea"/>
                </a:solidFill>
                <a:latin typeface="Tahoma"/>
              </a:rPr>
              <a:t>20% - факторы внешней среды</a:t>
            </a:r>
            <a:br>
              <a:rPr sz="2800"/>
            </a:br>
            <a:r>
              <a:rPr b="1" lang="ru-RU" sz="2800" spc="-1" strike="noStrike">
                <a:solidFill>
                  <a:srgbClr val="eaeaea"/>
                </a:solidFill>
                <a:latin typeface="Tahoma"/>
              </a:rPr>
              <a:t>10% - деятельность системы   </a:t>
            </a:r>
            <a:br>
              <a:rPr sz="2800"/>
            </a:br>
            <a:r>
              <a:rPr b="1" lang="ru-RU" sz="2800" spc="-1" strike="noStrike">
                <a:solidFill>
                  <a:srgbClr val="eaeaea"/>
                </a:solidFill>
                <a:latin typeface="Tahoma"/>
              </a:rPr>
              <a:t>            здравоохранения</a:t>
            </a:r>
            <a:br>
              <a:rPr sz="2800"/>
            </a:br>
            <a:r>
              <a:rPr b="1" lang="ru-RU" sz="2800" spc="-1" strike="noStrike">
                <a:solidFill>
                  <a:srgbClr val="eaeaea"/>
                </a:solidFill>
                <a:latin typeface="Tahoma"/>
              </a:rPr>
              <a:t>50 % - образ жизни человека</a:t>
            </a:r>
            <a:br>
              <a:rPr sz="2800"/>
            </a:b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5" name="Левая фигурная скобка 2"/>
          <p:cNvSpPr/>
          <p:nvPr/>
        </p:nvSpPr>
        <p:spPr>
          <a:xfrm rot="16200000">
            <a:off x="4103640" y="1736640"/>
            <a:ext cx="720720" cy="6553440"/>
          </a:xfrm>
          <a:custGeom>
            <a:avLst/>
            <a:gdLst>
              <a:gd name="textAreaLeft" fmla="*/ 460440 w 720720"/>
              <a:gd name="textAreaRight" fmla="*/ 721080 w 720720"/>
              <a:gd name="textAreaTop" fmla="*/ 18720 h 6553440"/>
              <a:gd name="textAreaBottom" fmla="*/ 6534720 h 6553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9"/>
                  <a:pt x="10800" y="198"/>
                </a:cubicBezTo>
                <a:lnTo>
                  <a:pt x="10800" y="10602"/>
                </a:lnTo>
                <a:cubicBezTo>
                  <a:pt x="10800" y="10701"/>
                  <a:pt x="5400" y="10800"/>
                  <a:pt x="0" y="10800"/>
                </a:cubicBezTo>
                <a:cubicBezTo>
                  <a:pt x="5400" y="10800"/>
                  <a:pt x="10800" y="10899"/>
                  <a:pt x="10800" y="10998"/>
                </a:cubicBezTo>
                <a:lnTo>
                  <a:pt x="10800" y="21402"/>
                </a:lnTo>
                <a:cubicBezTo>
                  <a:pt x="10800" y="21501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TextBox 3"/>
          <p:cNvSpPr/>
          <p:nvPr/>
        </p:nvSpPr>
        <p:spPr>
          <a:xfrm>
            <a:off x="3384720" y="5589720"/>
            <a:ext cx="2122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Tahoma"/>
              </a:rPr>
              <a:t>100%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Мотивация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Формирование мотивации к здоровому образу жизни зависит прежде всего от родителей. Именно родители вместе со школой должны способствовать воспитанию у детей привычки, а затем и потребности в здоровом образе жизн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24000" y="30492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eaeaea"/>
                </a:solidFill>
                <a:latin typeface="Tahoma"/>
              </a:rPr>
              <a:t>«Учи показом, </a:t>
            </a:r>
            <a:br>
              <a:rPr sz="4800"/>
            </a:br>
            <a:r>
              <a:rPr b="1" lang="ru-RU" sz="4800" spc="-1" strike="noStrike">
                <a:solidFill>
                  <a:srgbClr val="eaeaea"/>
                </a:solidFill>
                <a:latin typeface="Tahoma"/>
              </a:rPr>
              <a:t>а не рассказом!»</a:t>
            </a:r>
            <a:br>
              <a:rPr sz="6000"/>
            </a:br>
            <a:endParaRPr b="1" lang="en-US" sz="4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1" name="Picture 6" descr="http://afisha.webrostov.ru/pictures/posters/17933/17933_big.jpg"/>
          <p:cNvPicPr/>
          <p:nvPr/>
        </p:nvPicPr>
        <p:blipFill>
          <a:blip r:embed="rId1"/>
          <a:stretch/>
        </p:blipFill>
        <p:spPr>
          <a:xfrm>
            <a:off x="6443640" y="2565360"/>
            <a:ext cx="2117880" cy="20160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8" descr="http://3.bp.blogspot.com/_qznYNzjeuT4/R1wvCyFRcqI/AAAAAAAAAdM/HLRXwyxO5aQ/s400/untitled.jpg"/>
          <p:cNvPicPr/>
          <p:nvPr/>
        </p:nvPicPr>
        <p:blipFill>
          <a:blip r:embed="rId2"/>
          <a:stretch/>
        </p:blipFill>
        <p:spPr>
          <a:xfrm>
            <a:off x="1042920" y="2565360"/>
            <a:ext cx="1728720" cy="20876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0" descr="http://3.bp.blogspot.com/_qznYNzjeuT4/TOEtOwRIaSI/AAAAAAAADF8/RYh0hvJ1yYk/s400/momdadme.jpg"/>
          <p:cNvPicPr/>
          <p:nvPr/>
        </p:nvPicPr>
        <p:blipFill>
          <a:blip r:embed="rId3"/>
          <a:stretch/>
        </p:blipFill>
        <p:spPr>
          <a:xfrm>
            <a:off x="3276720" y="4076640"/>
            <a:ext cx="2735280" cy="20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55640" y="304560"/>
            <a:ext cx="813744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aeaea"/>
                </a:solidFill>
                <a:latin typeface="Tahoma"/>
              </a:rPr>
              <a:t>Три важнейшие потребности детей в возрасте 6 – 10 лет: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1066320" y="2565000"/>
            <a:ext cx="7543800" cy="35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движение;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сон;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питание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Движение - жизнь.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899640" y="1844280"/>
            <a:ext cx="7775640" cy="425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вижение человека начинается еще задолго до его рождения. В утробе матери происходит чудо, развивается человек. Человек потягивается, переворачивается, а иной раз даже очень активно толкает ножками, как бы торопится уже бежать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8" name="Picture 2" descr="http://i034.radikal.ru/0811/26/8d16b97788d7.jpg"/>
          <p:cNvPicPr/>
          <p:nvPr/>
        </p:nvPicPr>
        <p:blipFill>
          <a:blip r:embed="rId1"/>
          <a:stretch/>
        </p:blipFill>
        <p:spPr>
          <a:xfrm>
            <a:off x="5580000" y="4653000"/>
            <a:ext cx="2952720" cy="20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066320" y="907560"/>
            <a:ext cx="7543800" cy="518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озраст от 3 до 10 лет считается активным, наиболее благоприятным для развития врожденных и приобретенных в первые годы жизни ребенка двигательные способности. В более поздние сроки эти способности - подвижность, гибкость, ловкость - оказываются утраченными, и их приходится заново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формировать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1" name="Picture 2" descr="http://1.bp.blogspot.com/_2lhUV4OoEsg/TLqg1gtI9GI/AAAAAAAAAVM/VzRebrFrg0s/s1600/%D0%B4%D0%B5%D1%82%D0%B8+%D0%BF%D1%80%D1%8B%D0%B3%D0%B0%D1%8E%D1%82.jpg"/>
          <p:cNvPicPr/>
          <p:nvPr/>
        </p:nvPicPr>
        <p:blipFill>
          <a:blip r:embed="rId1"/>
          <a:stretch/>
        </p:blipFill>
        <p:spPr>
          <a:xfrm>
            <a:off x="3851280" y="3789360"/>
            <a:ext cx="475308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9T05:56:05Z</dcterms:created>
  <dc:creator>Учитель</dc:creator>
  <dc:description/>
  <dc:language>en-US</dc:language>
  <cp:lastModifiedBy>ZooM</cp:lastModifiedBy>
  <dcterms:modified xsi:type="dcterms:W3CDTF">2013-12-03T20:25:40Z</dcterms:modified>
  <cp:revision>49</cp:revision>
  <dc:subject/>
  <dc:title>Родительское собрание</dc:title>
</cp:coreProperties>
</file>