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8D8-B677-4500-AB98-CAFE30EA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BC4-2EED-401F-9798-7C7CCA62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71D-9A4F-4409-B0A7-9CC457AB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891-61A6-4A9F-B984-0C89E892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BA71-CE5D-4F31-81CA-BF99E23B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3B50-DB5C-4ACF-8546-580C2C7B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5251-8484-4574-8693-C2735DDD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9943-377F-4855-BD6F-DA7382A3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2F9A-F17C-4B83-B918-4F9CBECA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0715-A671-422F-B6A1-DC9AD223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E2F1-B73D-48E1-91C1-3F8A1F82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C3A-DBA2-4415-992C-D729120D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42D9-16B8-4AD1-B84E-9BD1C046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D9E2-E419-4593-B6FA-EC4674EA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3E40-7F88-4FEF-9CE5-B391AC3C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A4D3-3435-46E0-8AE1-DC80140C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BF7A-8A98-40EE-9CF0-0E203B09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7C8-B07E-4EDB-AA08-12F7F677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C1D-8DB7-4C0D-B44B-4C89DD97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595-5F15-402D-B12A-014C548D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CC9-32E0-4463-9884-3005AE6C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B1A-83E2-4AF2-869C-DF5FE0EE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3AD-E5B9-43CF-ABE6-33492098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BFC-2FC9-43E2-8F1C-768B0AB6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02E0-61EB-487F-8DBD-DD171CEA2FF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B4F9-E451-460F-B24D-31E77CCB138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92000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Tahoma"/>
              </a:rPr>
              <a:t>«Здоровье детей </a:t>
            </a:r>
            <a:br>
              <a:rPr sz="6000"/>
            </a:br>
            <a:r>
              <a:rPr b="1" lang="ru-RU" sz="6000" spc="-1" strike="noStrike">
                <a:solidFill>
                  <a:srgbClr val="eaeaea"/>
                </a:solidFill>
                <a:latin typeface="Tahoma"/>
              </a:rPr>
              <a:t>в наших руках»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563640" y="5229000"/>
            <a:ext cx="512748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ительское собр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993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езультаты анкетирования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лаешь ли  зарядк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ишь ли  уроки физкультур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бе нравится ходить на лыжа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 проводишь выходны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 гуляеш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тветы детей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Содержимое 3" descr=""/>
          <p:cNvPicPr/>
          <p:nvPr/>
        </p:nvPicPr>
        <p:blipFill>
          <a:blip r:embed="rId1"/>
          <a:stretch/>
        </p:blipFill>
        <p:spPr>
          <a:xfrm>
            <a:off x="1015920" y="1930320"/>
            <a:ext cx="7645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Факторы сохранения  физического здоровья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жим дн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крепление иммунной систе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алива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аз от вредных привыче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ежим дня способствует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рмальному росту и развитию организма дет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крепляет их здоровь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ивает полезные привычки, навык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действует укреплению их вол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Укрепление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иммунной системы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543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ческая активност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аливани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блюдение правил личной гигиен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ные процедур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аз от вредных привыче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ьное пита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Безымянный 11"/>
          <p:cNvPicPr/>
          <p:nvPr/>
        </p:nvPicPr>
        <p:blipFill>
          <a:blip r:embed="rId1"/>
          <a:stretch/>
        </p:blipFill>
        <p:spPr>
          <a:xfrm>
            <a:off x="5724360" y="4508640"/>
            <a:ext cx="324036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каливание: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крепляет защитные силы организм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ает тонус центральной нервной систем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лучшает кровоснабжение и работу мышц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рмализует обмен вещест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езультаты анкетирования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320" y="2708280"/>
            <a:ext cx="75438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нимаешься ли ты закаливание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тветы детей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Содержимое 3" descr=""/>
          <p:cNvPicPr/>
          <p:nvPr/>
        </p:nvPicPr>
        <p:blipFill>
          <a:blip r:embed="rId1"/>
          <a:stretch/>
        </p:blipFill>
        <p:spPr>
          <a:xfrm>
            <a:off x="1015920" y="1930320"/>
            <a:ext cx="7645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640" y="304560"/>
            <a:ext cx="79214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езультаты анкетирования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часто  моешь ру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раз  чистишь зуб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времени проводишь у телевизо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тветы детей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2" name="Содержимое 3" descr=""/>
          <p:cNvPicPr/>
          <p:nvPr/>
        </p:nvPicPr>
        <p:blipFill>
          <a:blip r:embed="rId1"/>
          <a:stretch/>
        </p:blipFill>
        <p:spPr>
          <a:xfrm>
            <a:off x="1015920" y="1930320"/>
            <a:ext cx="7645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вестка дня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Здоровый образ жизни на примере родителе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тоги второго тримест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н мероприятий на третий тримест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он – здоровье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26920" y="1773000"/>
            <a:ext cx="80661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Сон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 — естественный физиологический процесс пребывания в состоянии с минимальным уровнем мозговой деятельности и пониженной реакцией на окружающий мир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2" descr="http://aulita.ru/wp-content/uploads/2011/06/detskiy-son.jpg"/>
          <p:cNvPicPr/>
          <p:nvPr/>
        </p:nvPicPr>
        <p:blipFill>
          <a:blip r:embed="rId1"/>
          <a:stretch/>
        </p:blipFill>
        <p:spPr>
          <a:xfrm>
            <a:off x="4716360" y="3933720"/>
            <a:ext cx="3959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колько спать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26920" y="1844280"/>
            <a:ext cx="80661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алисты рекомендуют следующее количество часов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ладенцы (3 - 11 мес.) -   14 - 15 час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школьники -  11 - 13 час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и школьного возраста - 10 - 11 час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2" descr="http://cdn.sheknows.com/articles/image/P&amp;B/girl-asleep-alarm-clock.jpg"/>
          <p:cNvPicPr/>
          <p:nvPr/>
        </p:nvPicPr>
        <p:blipFill>
          <a:blip r:embed="rId1"/>
          <a:stretch/>
        </p:blipFill>
        <p:spPr>
          <a:xfrm>
            <a:off x="5651640" y="4797360"/>
            <a:ext cx="28350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Функции сна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ивает отдых организ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ствует переработке и хранению информа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приспособление организма к изменению освещённости (день-ночь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авливает иммунит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304560"/>
            <a:ext cx="8064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eaeaea"/>
                </a:solidFill>
                <a:latin typeface="Tahoma"/>
              </a:rPr>
              <a:t>Здоровый сон = удачный день?</a:t>
            </a:r>
            <a:endParaRPr b="1" lang="en-US" sz="37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4360" y="1844280"/>
            <a:ext cx="82087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ительно ли имеет значение, высыпается Ваш ребенок или нет? Абсолютно! Важно не только количество сна, но и качество сна также велик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ми словами, как хорошо ребенок себя чувствует и занимается повседневной деятельностью на следующий день после ночи, зависит от времени его с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езультаты анкетирования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42560" y="2636640"/>
            <a:ext cx="75438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сколько ложишься спа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часто просыпаешься не выспавшис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2" descr="http://www.java2phone.ru/logo/pict/b95.gif"/>
          <p:cNvPicPr/>
          <p:nvPr/>
        </p:nvPicPr>
        <p:blipFill>
          <a:blip r:embed="rId1"/>
          <a:stretch/>
        </p:blipFill>
        <p:spPr>
          <a:xfrm>
            <a:off x="7380360" y="5229360"/>
            <a:ext cx="1546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тветы детей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7" name="Содержимое 3" descr=""/>
          <p:cNvPicPr/>
          <p:nvPr/>
        </p:nvPicPr>
        <p:blipFill>
          <a:blip r:embed="rId1"/>
          <a:stretch/>
        </p:blipFill>
        <p:spPr>
          <a:xfrm>
            <a:off x="1015920" y="1930320"/>
            <a:ext cx="7645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итание – это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овление тканей организ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абжение его энерги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возможности восстанавливаться после болезни, двигаться, работать, и т. 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Питание должно быть разнообразным.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26560" y="1700280"/>
            <a:ext cx="8137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лки – обеспечивают строительство организма; составляют 20% веса нашего те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иры – запасной источник энер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леводы – дают энерг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тамины – актив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2" descr="http://www.empirebeauty.ru/uploads/posts/2009-10/1255274560_20090311-vegpiramida-01.jpg"/>
          <p:cNvPicPr/>
          <p:nvPr/>
        </p:nvPicPr>
        <p:blipFill>
          <a:blip r:embed="rId1"/>
          <a:stretch/>
        </p:blipFill>
        <p:spPr>
          <a:xfrm>
            <a:off x="6084720" y="3500280"/>
            <a:ext cx="280836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28036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достаток любого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из питательных веществ ослабляет организм ребенка,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замедляет его рост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2" descr="http://kackest.com/wp-content/uploads/2011/04/1.jpg"/>
          <p:cNvPicPr/>
          <p:nvPr/>
        </p:nvPicPr>
        <p:blipFill>
          <a:blip r:embed="rId1"/>
          <a:stretch/>
        </p:blipFill>
        <p:spPr>
          <a:xfrm>
            <a:off x="4500720" y="3645000"/>
            <a:ext cx="40798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езультаты анкетирования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раз в день еш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чего состоит твой завтрак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часто ешь сладост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41300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i="1" lang="ru-RU" sz="4000" spc="-1" strike="noStrike">
                <a:solidFill>
                  <a:srgbClr val="eaeaea"/>
                </a:solidFill>
                <a:latin typeface="Tahoma"/>
              </a:rPr>
              <a:t>Здоровый человек есть самое драгоценные произведение природы".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тветы детей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9" name="Содержимое 3" descr=""/>
          <p:cNvPicPr/>
          <p:nvPr/>
        </p:nvPicPr>
        <p:blipFill>
          <a:blip r:embed="rId1"/>
          <a:stretch/>
        </p:blipFill>
        <p:spPr>
          <a:xfrm>
            <a:off x="1015920" y="1930320"/>
            <a:ext cx="7645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Ослабление организма приводит к малоподвижному образу жизни ребенка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66320" y="2349000"/>
            <a:ext cx="75438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Обездвиженность 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олезнь цивилизации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2" descr="http://tub.rutube.ru/thumbs/bc/7d/bc7d6f23837952cf89c0a5198dbf82ce-1-1.jpg"/>
          <p:cNvPicPr/>
          <p:nvPr/>
        </p:nvPicPr>
        <p:blipFill>
          <a:blip r:embed="rId1"/>
          <a:stretch/>
        </p:blipFill>
        <p:spPr>
          <a:xfrm>
            <a:off x="5364000" y="4005360"/>
            <a:ext cx="316872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ог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деляйте как можно больше внимания своему ребенк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казывайте о себе, своей жиз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авайте хороший пример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Итог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916280"/>
            <a:ext cx="7826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отделяйте здоровый образ жизни ребенка от здорового образа жизни взрослого, ведь только в здоровой семье воспитывается здоровый челов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6" descr="http://www.zimaletta.com.ua/ufiles/Image/4718.jpg"/>
          <p:cNvPicPr/>
          <p:nvPr/>
        </p:nvPicPr>
        <p:blipFill>
          <a:blip r:embed="rId1"/>
          <a:stretch/>
        </p:blipFill>
        <p:spPr>
          <a:xfrm>
            <a:off x="4716360" y="4005360"/>
            <a:ext cx="39448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304920"/>
            <a:ext cx="75675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Желаю вам здоровья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5" descr="http://i.i.ua/cards/pic/5/1/33415.jpg"/>
          <p:cNvPicPr/>
          <p:nvPr/>
        </p:nvPicPr>
        <p:blipFill>
          <a:blip r:embed="rId1"/>
          <a:stretch/>
        </p:blipFill>
        <p:spPr>
          <a:xfrm>
            <a:off x="1042920" y="1989000"/>
            <a:ext cx="7274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подготовле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ем начальных класс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БОУ СОШ №534 г. Моск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аровой Ириной Валерьев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12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доровье = 100 %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20% - наследственные факторы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20% - факторы внешней среды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10% - деятельность системы   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           здравоохранения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50 % - образ жизни человека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Левая фигурная скобка 2"/>
          <p:cNvSpPr/>
          <p:nvPr/>
        </p:nvSpPr>
        <p:spPr>
          <a:xfrm rot="16200000">
            <a:off x="4103640" y="1736640"/>
            <a:ext cx="720720" cy="6553440"/>
          </a:xfrm>
          <a:custGeom>
            <a:avLst/>
            <a:gdLst>
              <a:gd name="textAreaLeft" fmla="*/ 460440 w 720720"/>
              <a:gd name="textAreaRight" fmla="*/ 721080 w 720720"/>
              <a:gd name="textAreaTop" fmla="*/ 18720 h 6553440"/>
              <a:gd name="textAreaBottom" fmla="*/ 6534720 h 655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9"/>
                  <a:pt x="10800" y="198"/>
                </a:cubicBezTo>
                <a:lnTo>
                  <a:pt x="10800" y="10602"/>
                </a:lnTo>
                <a:cubicBezTo>
                  <a:pt x="10800" y="10701"/>
                  <a:pt x="5400" y="10800"/>
                  <a:pt x="0" y="10800"/>
                </a:cubicBezTo>
                <a:cubicBezTo>
                  <a:pt x="5400" y="10800"/>
                  <a:pt x="10800" y="10899"/>
                  <a:pt x="10800" y="10998"/>
                </a:cubicBezTo>
                <a:lnTo>
                  <a:pt x="10800" y="21402"/>
                </a:lnTo>
                <a:cubicBezTo>
                  <a:pt x="10800" y="215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384720" y="5589720"/>
            <a:ext cx="212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100%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отивац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мотивации к здоровому образу жизни зависит прежде всего от родителей. Именно родители вместе со школой должны способствовать воспитанию у детей привычки, а затем и потребности в здоровом образе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ahoma"/>
              </a:rPr>
              <a:t>«Учи показом, </a:t>
            </a:r>
            <a:br>
              <a:rPr sz="4800"/>
            </a:br>
            <a:r>
              <a:rPr b="1" lang="ru-RU" sz="4800" spc="-1" strike="noStrike">
                <a:solidFill>
                  <a:srgbClr val="eaeaea"/>
                </a:solidFill>
                <a:latin typeface="Tahoma"/>
              </a:rPr>
              <a:t>а не рассказом!»</a:t>
            </a:r>
            <a:br>
              <a:rPr sz="60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http://afisha.webrostov.ru/pictures/posters/17933/17933_big.jpg"/>
          <p:cNvPicPr/>
          <p:nvPr/>
        </p:nvPicPr>
        <p:blipFill>
          <a:blip r:embed="rId1"/>
          <a:stretch/>
        </p:blipFill>
        <p:spPr>
          <a:xfrm>
            <a:off x="6443640" y="2565360"/>
            <a:ext cx="2117880" cy="201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http://3.bp.blogspot.com/_qznYNzjeuT4/R1wvCyFRcqI/AAAAAAAAAdM/HLRXwyxO5aQ/s400/untitled.jpg"/>
          <p:cNvPicPr/>
          <p:nvPr/>
        </p:nvPicPr>
        <p:blipFill>
          <a:blip r:embed="rId2"/>
          <a:stretch/>
        </p:blipFill>
        <p:spPr>
          <a:xfrm>
            <a:off x="1042920" y="2565360"/>
            <a:ext cx="1728720" cy="208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ttp://3.bp.blogspot.com/_qznYNzjeuT4/TOEtOwRIaSI/AAAAAAAADF8/RYh0hvJ1yYk/s400/momdadme.jpg"/>
          <p:cNvPicPr/>
          <p:nvPr/>
        </p:nvPicPr>
        <p:blipFill>
          <a:blip r:embed="rId3"/>
          <a:stretch/>
        </p:blipFill>
        <p:spPr>
          <a:xfrm>
            <a:off x="3276720" y="4076640"/>
            <a:ext cx="273528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81374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Три важнейшие потребности детей в возрасте 6 – 10 лет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2565000"/>
            <a:ext cx="75438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вижение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н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ита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Движение - жизнь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99640" y="1844280"/>
            <a:ext cx="777564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ижение человека начинается еще задолго до его рождения. В утробе матери происходит чудо, развивается человек. Человек потягивается, переворачивается, а иной раз даже очень активно толкает ножками, как бы торопится уже беж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2" descr="http://i034.radikal.ru/0811/26/8d16b97788d7.jpg"/>
          <p:cNvPicPr/>
          <p:nvPr/>
        </p:nvPicPr>
        <p:blipFill>
          <a:blip r:embed="rId1"/>
          <a:stretch/>
        </p:blipFill>
        <p:spPr>
          <a:xfrm>
            <a:off x="5580000" y="4653000"/>
            <a:ext cx="29527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66320" y="907560"/>
            <a:ext cx="7543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раст от 3 до 10 лет считается активным, наиболее благоприятным для развития врожденных и приобретенных в первые годы жизни ребенка двигательные способности. В более поздние сроки эти способности - подвижность, гибкость, ловкость - оказываются утраченными, и их приходится зано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иров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2" descr="http://1.bp.blogspot.com/_2lhUV4OoEsg/TLqg1gtI9GI/AAAAAAAAAVM/VzRebrFrg0s/s1600/%D0%B4%D0%B5%D1%82%D0%B8+%D0%BF%D1%80%D1%8B%D0%B3%D0%B0%D1%8E%D1%82.jpg"/>
          <p:cNvPicPr/>
          <p:nvPr/>
        </p:nvPicPr>
        <p:blipFill>
          <a:blip r:embed="rId1"/>
          <a:stretch/>
        </p:blipFill>
        <p:spPr>
          <a:xfrm>
            <a:off x="3851280" y="3789360"/>
            <a:ext cx="4753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56:05Z</dcterms:created>
  <dc:creator>Учитель</dc:creator>
  <dc:description/>
  <dc:language>en-US</dc:language>
  <cp:lastModifiedBy>ZooM</cp:lastModifiedBy>
  <dcterms:modified xsi:type="dcterms:W3CDTF">2013-12-03T20:25:40Z</dcterms:modified>
  <cp:revision>49</cp:revision>
  <dc:subject/>
  <dc:title>Родительское собрание</dc:title>
</cp:coreProperties>
</file>