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149-1C2E-4871-8647-082A6563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C29-FCDC-4CD1-ABD8-DE800475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FB3-3B84-45C1-9788-9970BBF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ACE-9132-4908-AA9F-43DEA0C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D41-B00F-45B7-BDB6-D89645E0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A069-1544-4951-9F7D-9067448B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E34-D318-4EF9-8858-3E6918D2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9AA5-29D6-45D8-91D3-9213D1B3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ABC5-1870-4910-BD9A-BA3EB31C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D079-BF1A-4118-9FEE-4943B98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8278-D603-480A-BFD5-8EFF746E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86F-2661-4948-9CDB-0359A06E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DC8-4807-45B9-9377-36584FC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7FDE-A10C-4460-9910-5E6083D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4A1-DDED-40DE-B3B4-DCB48DC5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85F-609D-4F83-ABF7-CCD6ED39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EABB-2A50-4D4C-9225-CA9AE2E7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915-C4B8-4EFE-BD51-4AB9F3F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D4D-6E70-42AA-B448-676D0FA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6F9-8DAF-4300-8B05-7E7543F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27F-7C01-478E-8FE1-190D08D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F32-8E6B-4E9C-9451-A3044FE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2F4-5853-4A2E-9BAF-221FA7A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97B-062A-4CFC-9A6A-9D1BE7C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BDF-E94C-4266-87EB-B928B344AC8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6DA-0A66-4B21-BD3F-D56B4F1061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N00790_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5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5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6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7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8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>
              <a:gd name="textAreaLeft" fmla="*/ 0 w 577800"/>
              <a:gd name="textAreaRight" fmla="*/ 578160 w 577800"/>
              <a:gd name="textAreaTop" fmla="*/ 0 h 2254320"/>
              <a:gd name="textAreaBottom" fmla="*/ 2254680 h 2254320"/>
            </a:gdLst>
            <a:ahLst/>
            <a:rect l="textAreaLeft" t="textAreaTop" r="textAreaRight" b="textAreaBottom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0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2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24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6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7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8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9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>
              <a:gd name="textAreaLeft" fmla="*/ 0 w 2179440"/>
              <a:gd name="textAreaRight" fmla="*/ 2179800 w 217944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0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1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2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34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 Box 36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8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>
              <a:gd name="textAreaLeft" fmla="*/ 0 w 669600"/>
              <a:gd name="textAreaRight" fmla="*/ 669600 w 669600"/>
              <a:gd name="textAreaTop" fmla="*/ 0 h 3565440"/>
              <a:gd name="textAreaBottom" fmla="*/ 3565800 h 3565440"/>
            </a:gdLst>
            <a:ahLst/>
            <a:rect l="textAreaLeft" t="textAreaTop" r="textAreaRight" b="textAreaBottom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9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>
              <a:gd name="textAreaLeft" fmla="*/ 0 w 1845000"/>
              <a:gd name="textAreaRight" fmla="*/ 1845360 w 1845000"/>
              <a:gd name="textAreaTop" fmla="*/ 0 h 2332080"/>
              <a:gd name="textAreaBottom" fmla="*/ 2332440 h 2332080"/>
            </a:gdLst>
            <a:ahLst/>
            <a:rect l="textAreaLeft" t="textAreaTop" r="textAreaRight" b="textAreaBottom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0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8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8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8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8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9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9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9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3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Freeform 4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>
              <a:gd name="textAreaLeft" fmla="*/ 0 w 3535200"/>
              <a:gd name="textAreaRight" fmla="*/ 3535560 w 35352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>
              <a:gd name="textAreaLeft" fmla="*/ 0 w 1082520"/>
              <a:gd name="textAreaRight" fmla="*/ 1082520 w 10825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546280"/>
              <a:gd name="textAreaBottom" fmla="*/ 2546640 h 2546280"/>
            </a:gdLst>
            <a:ahLst/>
            <a:rect l="textAreaLeft" t="textAreaTop" r="textAreaRight" b="textAreaBottom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22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5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8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9"/>
          <p:cNvSpPr/>
          <p:nvPr/>
        </p:nvSpPr>
        <p:spPr>
          <a:xfrm>
            <a:off x="762120" y="4525920"/>
            <a:ext cx="3322440" cy="4608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0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2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33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ru-RU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40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41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>
              <a:gd name="textAreaLeft" fmla="*/ 0 w 2101680"/>
              <a:gd name="textAreaRight" fmla="*/ 2102040 w 2101680"/>
              <a:gd name="textAreaTop" fmla="*/ 0 h 1416240"/>
              <a:gd name="textAreaBottom" fmla="*/ 1416240 h 1416240"/>
            </a:gdLst>
            <a:ahLst/>
            <a:rect l="textAreaLeft" t="textAreaTop" r="textAreaRight" b="textAreaBottom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3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4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45"/>
          <p:cNvSpPr/>
          <p:nvPr/>
        </p:nvSpPr>
        <p:spPr>
          <a:xfrm>
            <a:off x="731880" y="4525920"/>
            <a:ext cx="3336840" cy="3024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6"/>
          <p:cNvSpPr/>
          <p:nvPr/>
        </p:nvSpPr>
        <p:spPr>
          <a:xfrm>
            <a:off x="1279440" y="3336840"/>
            <a:ext cx="1768680" cy="158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49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>
              <a:gd name="textAreaLeft" fmla="*/ 0 w 290520"/>
              <a:gd name="textAreaRight" fmla="*/ 290520 w 29052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1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52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>
              <a:gd name="textAreaLeft" fmla="*/ 0 w 579600"/>
              <a:gd name="textAreaRight" fmla="*/ 579960 w 579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53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>
              <a:gd name="textAreaLeft" fmla="*/ 0 w 1203480"/>
              <a:gd name="textAreaRight" fmla="*/ 1203840 w 120348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Picture 4" descr="AN00790_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>
            <a:off x="6172200" y="476280"/>
            <a:ext cx="407880" cy="2160720"/>
          </a:xfrm>
          <a:custGeom>
            <a:avLst/>
            <a:gdLst>
              <a:gd name="textAreaLeft" fmla="*/ 0 w 407880"/>
              <a:gd name="textAreaRight" fmla="*/ 408240 w 407880"/>
              <a:gd name="textAreaTop" fmla="*/ 0 h 2160720"/>
              <a:gd name="textAreaBottom" fmla="*/ 2161080 h 2160720"/>
            </a:gdLst>
            <a:ahLst/>
            <a:rect l="textAreaLeft" t="textAreaTop" r="textAreaRight" b="textAreaBottom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>
              <a:gd name="textAreaLeft" fmla="*/ 0 w 320760"/>
              <a:gd name="textAreaRight" fmla="*/ 321120 w 3207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>
              <a:gd name="textAreaLeft" fmla="*/ 0 w 330480"/>
              <a:gd name="textAreaRight" fmla="*/ 330840 w 330480"/>
              <a:gd name="textAreaTop" fmla="*/ 0 h 1656000"/>
              <a:gd name="textAreaBottom" fmla="*/ 1656360 h 1656000"/>
            </a:gdLst>
            <a:ahLst/>
            <a:rect l="textAreaLeft" t="textAreaTop" r="textAreaRight" b="textAreaBottom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0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00790_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5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3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5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Line 5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9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1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5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6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2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4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6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746280" y="2027160"/>
            <a:ext cx="1440" cy="2027160"/>
          </a:xfrm>
          <a:custGeom>
            <a:avLst/>
            <a:gdLst>
              <a:gd name="textAreaLeft" fmla="*/ 0 w 1440"/>
              <a:gd name="textAreaRight" fmla="*/ 1800 w 1440"/>
              <a:gd name="textAreaTop" fmla="*/ 0 h 2027160"/>
              <a:gd name="textAreaBottom" fmla="*/ 2027520 h 2027160"/>
            </a:gdLst>
            <a:ahLst/>
            <a:rect l="textAreaLeft" t="textAreaTop" r="textAreaRight" b="textAreaBottom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2759040" y="1996920"/>
            <a:ext cx="1800" cy="2071800"/>
          </a:xfrm>
          <a:custGeom>
            <a:avLst/>
            <a:gdLst>
              <a:gd name="textAreaLeft" fmla="*/ 0 w 1800"/>
              <a:gd name="textAreaRight" fmla="*/ 2160 w 180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3276720" y="1341360"/>
            <a:ext cx="1440" cy="2224080"/>
          </a:xfrm>
          <a:custGeom>
            <a:avLst/>
            <a:gdLst>
              <a:gd name="textAreaLeft" fmla="*/ 0 w 1440"/>
              <a:gd name="textAreaRight" fmla="*/ 1800 w 1440"/>
              <a:gd name="textAreaTop" fmla="*/ 0 h 2224080"/>
              <a:gd name="textAreaBottom" fmla="*/ 2224440 h 2224080"/>
            </a:gdLst>
            <a:ahLst/>
            <a:rect l="textAreaLeft" t="textAreaTop" r="textAreaRight" b="textAreaBottom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2773440" y="35812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762120" y="1996920"/>
            <a:ext cx="1440" cy="2057400"/>
          </a:xfrm>
          <a:custGeom>
            <a:avLst/>
            <a:gdLst>
              <a:gd name="textAreaLeft" fmla="*/ 0 w 1440"/>
              <a:gd name="textAreaRight" fmla="*/ 1800 w 144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900360"/>
              <a:gd name="textAreaBottom" fmla="*/ 900720 h 900360"/>
            </a:gdLst>
            <a:ahLst/>
            <a:rect l="textAreaLeft" t="textAreaTop" r="textAreaRight" b="textAreaBottom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Text Box 20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2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24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"/>
          <p:cNvSpPr/>
          <p:nvPr/>
        </p:nvSpPr>
        <p:spPr>
          <a:xfrm>
            <a:off x="3276720" y="4365720"/>
            <a:ext cx="1440" cy="907920"/>
          </a:xfrm>
          <a:custGeom>
            <a:avLst/>
            <a:gdLst>
              <a:gd name="textAreaLeft" fmla="*/ 0 w 1440"/>
              <a:gd name="textAreaRight" fmla="*/ 1800 w 144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0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1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2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Text Box 5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2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0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2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3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25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7802640" y="4145040"/>
            <a:ext cx="519120" cy="519120"/>
          </a:xfrm>
          <a:custGeom>
            <a:avLst/>
            <a:gdLst>
              <a:gd name="textAreaLeft" fmla="*/ 0 w 519120"/>
              <a:gd name="textAreaRight" fmla="*/ 519480 w 51912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>
              <a:gd name="textAreaLeft" fmla="*/ 0 w 563400"/>
              <a:gd name="textAreaRight" fmla="*/ 563760 w 563400"/>
              <a:gd name="textAreaTop" fmla="*/ 0 h 2697480"/>
              <a:gd name="textAreaBottom" fmla="*/ 2697840 h 2697480"/>
            </a:gdLst>
            <a:ahLst/>
            <a:rect l="textAreaLeft" t="textAreaTop" r="textAreaRight" b="textAreaBottom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>
              <a:gd name="textAreaLeft" fmla="*/ 0 w 547560"/>
              <a:gd name="textAreaRight" fmla="*/ 547920 w 54756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5791320" y="2560680"/>
            <a:ext cx="777600" cy="14400"/>
          </a:xfrm>
          <a:custGeom>
            <a:avLst/>
            <a:gdLst>
              <a:gd name="textAreaLeft" fmla="*/ 0 w 777600"/>
              <a:gd name="textAreaRight" fmla="*/ 777960 w 777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1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>
              <a:gd name="textAreaLeft" fmla="*/ 0 w 595080"/>
              <a:gd name="textAreaRight" fmla="*/ 595440 w 59508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3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>
              <a:gd name="textAreaLeft" fmla="*/ 0 w 471600"/>
              <a:gd name="textAreaRight" fmla="*/ 471960 w 471600"/>
              <a:gd name="textAreaTop" fmla="*/ 0 h 2643480"/>
              <a:gd name="textAreaBottom" fmla="*/ 2643840 h 2643480"/>
            </a:gdLst>
            <a:ahLst/>
            <a:rect l="textAreaLeft" t="textAreaTop" r="textAreaRight" b="textAreaBottom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Freeform 8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>
              <a:gd name="textAreaLeft" fmla="*/ 0 w 1279800"/>
              <a:gd name="textAreaRight" fmla="*/ 1280160 w 127980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8321760" y="2179800"/>
            <a:ext cx="14040" cy="3627360"/>
          </a:xfrm>
          <a:custGeom>
            <a:avLst/>
            <a:gdLst>
              <a:gd name="textAreaLeft" fmla="*/ 0 w 14040"/>
              <a:gd name="textAreaRight" fmla="*/ 14400 w 14040"/>
              <a:gd name="textAreaTop" fmla="*/ 0 h 3627360"/>
              <a:gd name="textAreaBottom" fmla="*/ 3627720 h 3627360"/>
            </a:gdLst>
            <a:ahLst/>
            <a:rect l="textAreaLeft" t="textAreaTop" r="textAreaRight" b="textAreaBottom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6370560" y="3124080"/>
            <a:ext cx="14400" cy="2667240"/>
          </a:xfrm>
          <a:custGeom>
            <a:avLst/>
            <a:gdLst>
              <a:gd name="textAreaLeft" fmla="*/ 0 w 14400"/>
              <a:gd name="textAreaRight" fmla="*/ 14760 w 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 Box 30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1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2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24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27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1509840"/>
              <a:gd name="textAreaBottom" fmla="*/ 1510200 h 1509840"/>
            </a:gdLst>
            <a:ahLst/>
            <a:rect l="textAreaLeft" t="textAreaTop" r="textAreaRight" b="textAreaBottom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>
              <a:gd name="textAreaLeft" fmla="*/ 0 w 863640"/>
              <a:gd name="textAreaRight" fmla="*/ 864000 w 86364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1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Коля</cp:lastModifiedBy>
  <dcterms:modified xsi:type="dcterms:W3CDTF">2013-03-30T22:10:46Z</dcterms:modified>
  <cp:revision>10</cp:revision>
  <dc:subject/>
  <dc:title>Взаимное расположение прямых в пространстве.</dc:title>
</cp:coreProperties>
</file>