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604B-1B38-4360-9AFE-82CFBD7BDF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8A0D-5E90-4235-807A-6BF8DE9B71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A730-4AFB-4124-8706-B451B7B2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0884-C989-4947-A74F-180F00D4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6887-49C5-41BA-A2AF-B3C56A2B8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2C6F-81BC-464A-9D19-46BB5A7E0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DBFA-D13C-4939-A748-89ED6FC5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3FC2-4CAE-4FAD-9E0E-C869035F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2E2E-BE0A-4BBE-9218-8BC72C93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45B9-3777-402D-B026-E0A1DCA9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7C43-238F-449E-8C37-AE5E3AB7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2BA8-B058-4FC4-B970-4D783EC4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1791-F4D9-43BC-B9C8-58DBE480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AD1C-0990-4718-A3EE-63514BF0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0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272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3512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4E12-2E9D-4763-9C40-8BC56684D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ПОЛЬЗОВАНИЕ СИНОНИМОВ В ПОЭМЕ Н.А. НЕКРАСОВА «ДЕДУШ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полнила: ученица 9а кла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ыгунова Евг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ерила: учитель рус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.А. КАЧЕ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371600" y="457200"/>
            <a:ext cx="6705720" cy="1219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У «Кузнецовская средня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ни Героя Советского Союза М.Н. Логин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3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нонимы возникают в русском языке  и в результате того, что хорошо развитая структура языка позволяет использовать разные словообразующие морфемы для сходных по значению слов: невинный – невиновный, необидный – безобидный, вспомнить – припомн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видим, появление у слов нового значения не только расширяет, но и обновляет границы его лексической сочетаем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3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ряду с пополнением синонимических рядов наблюдается и обратное явление – их сокращение, обусловленное тем, что некоторые слова выходят из активного употребления, попадая в число устаревш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огда носители языка прибегают к использованию синонимов-эвфемизмов, которые изменяют окраску слова, придают ему более мягкое выражение: уборная – туалет, высморкаться – использовать носовой пла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0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еди синонимов могут быть выделены так называемые синонимы-конверсивы – такие слова, которые называют близкие по значению понятия о предметах, явлениях, качествах, действиях, но не в прямом порядке, а в обратном. К ним относятся однокоренные синонимы: Я опекаю младшую сестру – Младшая сестра опекается мною; так и разнокорневые: Я покупаю книгу – Книга приобретается мно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0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бсолютные синонимы – это слова, тождественные по своим основным значениям, что проявляется в совпадении  толкования этих значений в словарях, а также в том, что  такие слова часто используются в словарях как взаимные определители друг друга,  например: бросать – кид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0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нонимические ресурсы русского языка могут быть рассмотрены с разных точек зрения, так, по своей лексико-грамматической соотнесенности в синонимические ряды могут быть объединены слова только одной части речи. В таком ряду вместе с отдельными словами могут объединяться сочетания разных типов: знаменательные слова и сочетания знаменательного слова со служебным (назло – в пику, много – по горло); слово и другие сочетания (здоровый – кровь с молоком). Но и в этом случае каждый член ряда выполнять сходные грамматические функции. С точки зрения структуры данные ряды неоднородны: одни из них непроизводные, а другие производные, могут употребляться в одном синонимическом ряду. По количеству слов данные ряды могут состоять из двух слов, а могут исчисляться десятками. С точки зрения постоянства состава слов синонимические ряды характеризуются относительной незамкнутостью, в них возможны изменения и допол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0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ль лексических синонимов весьма разнообразна и значительна, они помогают уточнить и дополнить представления о явлениях, предметах, признаках, действиях и т.д., ярче и разностороннее охарактеризовать их. Богатство синонимических рядов влияет на широту их границ, возможности творческого исполь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инонимические отношения вступают далеко не все слова. Не синонимизируются в литературном языке имена собственные, названия жителей, многие конкретные наименования предметов быта, терм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3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и лексических синоним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ыслоразличительная (оттеночно-смысловая, уточняющая), служащая для дифференциации значений: вопль, рев, кри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леразличительная – синонимы указывают на стиль, сферу их употребления. Подобные синонимы называются стилевыми: уехать – отбыть, укатить, смы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ственно стилистическая функция – к денотативному значению присоединяется эмоционально-экспрессивное (вылечить, исцелить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 синонимы в поэме Н.А. Некрасова «Дедушка» можно разделить на две групп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нонимы, связанные с судьбой главного героя – ссыльного декаб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нонимы, имеющие целью показать жизнь России конца 19 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нонимы, определяющие состояние людей, например в рассказе о тревоге отца за деда употребляются синонимы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твернулся – поник головой – вздыха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08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нонимы в поэме служат для характеристики героев: дед: недобрый, таинственный (мнение Саши), добрый и смелый, только несчастный (мнение родителей), бодр и красив, зубы у дедушки целы, поступь, осанка тверда, кудри пушисты и белы, как серебро борода, строен, высокого роста (авторское описание); Саша: румяный – «Экой красавчик какой!» (мнение дедуш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08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оме того, автор использует синонимию суффиксов (уменьшительно-ласкательный суффикс употребляется для описания бедной крестьянской жизни): скотина мелка – песенка где-то поется – сто деревенек крестьянск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1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ма исследовательск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ИСПОЛЬЗОВАНИЕ СИНОНИМОВ В ПОЭМЕ Н.А. НЕКРАСОВА «ДЕДУШ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а привлекла внимание тем, что система синонимических ресурсов вел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оэме Н.А. Некрасова «Дедушка» широко используется интересное языковое явление – синонимия, позволяющая читателям убедиться в лексическом богатстве русского языка, в широких возможностях и функциях лексики. Стремление автора найти в уже известных предметах, явлениях окружающего мира какие-то новые черты, оттенки, т.е. углубить и расширить существующие понятия окружающей действительности. Новый признак, который находит автор для характеристики героя, окружающей природы, образа действия героев называется новым словом, сходным или тождественным по значению с уже имеющимися наименовани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им образом, автор избегает повторов, обогащает характеристику героев новыми качествами, тем самым расширяя лексическое богатство языка. Использование синонимии в поэме позволяет читателям обогатить словарный запас, избежать ненужных повторов в реч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1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ктуальность выбранной 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тим обосновать тем, что на уроках русского языка материал по теме «Синонимы» изложен в доступной форме, но совсем не полно. Эту тему нужно изучать подробно, так как очень часто обучающие допускают ошибки, свидетельствующие о незнании синонимических ресурсов язы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6553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бъектом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вляется поэма Н.А. НЕКРАСОВА «Деду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1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елью нашего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вляется выявление интересного языкового явления – синонимии, позволяющей читателям убедиться в лексическом богатстве русского языка, в широких возможностях и функциях лексики поэмы Н.А. Некрасова «Дедуш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1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дачи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64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ить теоретический материал по этой проблем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ить, какую роль играют синонимы в произведении Н. Некрасо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явить, какова цель использования синонимов в поэме Н.А. Некрасова «Дедушка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ти в тексте синонимы разных тип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120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3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пособы реализации темы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ализ через сопоставительный мет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тературный обз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учая теорию, мы использовали учебник «Современный русский литературный язык» Гвоздева А.Н. и «Современный русский литературный язык» под редакцией П.А. Леканта. За справками обращались к «Словарю русского языка» Ожегова С. И. и к «Словарю современного русского литературного язык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1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атериал и методы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64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тод сравн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сравнивали оттенки падежных значений имен существительны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Технология критического мышл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) Вызов (На этом этапе работы у нас происходила актуализация предыдущего опыта и обозначилась проблема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) Осмысление (На этом этапе работы у нас произошел контакт с новой информацией, ее сопоставление с уже имеющимся опытом. Мы акцентировали внимание на поисках ответов к возникшим ранее вопросам. Обращали внимание на неясности, которые возникали в процессе работы с новой информацией)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) Рефлексия (На этом этапе работы мы целостно осмысливали и обобщали полученную информацию, анализировали весь процесс изучения материала, вырабатывали собственное отношение к изученному материалу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ноним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ова, близкие или тождественные по своему значению, выражающие одно и то же понятие, но различающиеся или оттенками значения, или стилистической окраской, или и тем и другим. Синонимы, как правило, принадлежат к одной и той же части речи и выступают как взаимозаменяемые элементы высказыв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09-07-05T11:48:2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