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873-FA14-4D96-A06A-521A35222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05A-56E9-4652-8FB1-E0FD51119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663-52BD-455B-B7F6-60EC548F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48D-4216-4C78-8921-46FD74C8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C0B-01A9-4CDB-B90A-A8A783B9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F31-FDC9-4A0F-856D-5AA4C556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DD9-4915-4FAB-A9A6-5CEFD5F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386-D071-4464-8958-CFDE5280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226-CEA4-4C32-9305-AD1E5AE5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E1B-2505-43B6-BD4F-2CD05C54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119-50C8-4CA7-A0EB-79503A0E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36A-D2F8-42F6-8C47-68DF869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6D3-45F4-4F37-9CF5-8C6DFEDF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4D2-AFA2-49B8-B2F1-E5443EA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272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3512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04A8-43EA-4AF5-BA94-E71183F66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ИЕ СИНОНИМОВ В ПОЭМЕ Н.А. НЕКРАСОВА «ДЕДУ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а: ученица 9а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гунова Евг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ила: 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.А. КАЧ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371600" y="457200"/>
            <a:ext cx="67057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«Кузнец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и Героя Советского Союза М.Н. Логи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онимы возникают в русском языке  и в результате того, что хорошо развитая структура языка позволяет использовать разные словообразующие морфемы для сходных по значению слов: невинный – невиновный, необидный – безобидный, вспомнить – припом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идим, появление у слов нового значения не только расширяет, но и обновляет границы его лексической сочетае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яду с пополнением синонимических рядов наблюдается и обратное явление – их сокращение, обусловленное тем, что некоторые слова выходят из активного употребления, попадая в число устарев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носители языка прибегают к использованию синонимов-эвфемизмов, которые изменяют окраску слова, придают ему более мягкое выражение: уборная – туалет, высморкаться – использовать носовой пл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и синонимов могут быть выделены так называемые синонимы-конверсивы – такие слова, которые называют близкие по значению понятия о предметах, явлениях, качествах, действиях, но не в прямом порядке, а в обратном. К ним относятся однокоренные синонимы: Я опекаю младшую сестру – Младшая сестра опекается мною; так и разнокорневые: Я покупаю книгу – Книга приобретается мн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ые синонимы – это слова, тождественные по своим основным значениям, что проявляется в совпадении  толкования этих значений в словарях, а также в том, что  такие слова часто используются в словарях как взаимные определители друг друга,  например: бросать – к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онимические ресурсы русского языка могут быть рассмотрены с разных точек зрения, так, по своей лексико-грамматической соотнесенности в синонимические ряды могут быть объединены слова только одной части речи. В таком ряду вместе с отдельными словами могут объединяться сочетания разных типов: знаменательные слова и сочетания знаменательного слова со служебным (назло – в пику, много – по горло); слово и другие сочетания (здоровый – кровь с молоком). Но и в этом случае каждый член ряда выполнять сходные грамматические функции. С точки зрения структуры данные ряды неоднородны: одни из них непроизводные, а другие производные, могут употребляться в одном синонимическом ряду. По количеству слов данные ряды могут состоять из двух слов, а могут исчисляться десятками. С точки зрения постоянства состава слов синонимические ряды характеризуются относительной незамкнутостью, в них возможны изменения и до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лексических синонимов весьма разнообразна и значительна, они помогают уточнить и дополнить представления о явлениях, предметах, признаках, действиях и т.д., ярче и разностороннее охарактеризовать их. Богатство синонимических рядов влияет на широту их границ, возможности творческого исполь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инонимические отношения вступают далеко не все слова. Не синонимизируются в литературном языке имена собственные, названия жителей, многие конкретные наименования предметов быта, терм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лексических синоним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ыслоразличительная (оттеночно-смысловая, уточняющая), служащая для дифференциации значений: вопль, рев, кр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леразличительная – синонимы указывают на стиль, сферу их употребления. Подобные синонимы называются стилевыми: уехать – отбыть, укатить, смы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о стилистическая функция – к денотативному значению присоединяется эмоционально-экспрессивное (вылечить, исцели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синонимы в поэме Н.А. Некрасова «Дедушка» можно разделить на дв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онимы, связанные с судьбой главного героя – ссыльного декаб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онимы, имеющие целью показать жизнь России конца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онимы, определяющие состояние людей, например в рассказе о тревоге отца за деда употребляются синоним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вернулся – поник головой – вздых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онимы в поэме служат для характеристики героев: дед: недобрый, таинственный (мнение Саши), добрый и смелый, только несчастный (мнение родителей), бодр и красив, зубы у дедушки целы, поступь, осанка тверда, кудри пушисты и белы, как серебро борода, строен, высокого роста (авторское описание); Саша: румяный – «Экой красавчик какой!» (мнение дедуш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ме того, автор использует синонимию суффиксов (уменьшительно-ласкательный суффикс употребляется для описания бедной крестьянской жизни): скотина мелка – песенка где-то поется – сто деревенек крестьян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ИСПОЛЬЗОВАНИЕ СИНОНИМОВ В ПОЭМЕ Н.А. НЕКРАСОВА «ДЕДУШ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 привлекла внимание тем, что система синонимических ресурсов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эме Н.А. Некрасова «Дедушка» широко используется интересное языковое явление – синонимия, позволяющая читателям убедиться в лексическом богатстве русского языка, в широких возможностях и функциях лексики. Стремление автора найти в уже известных предметах, явлениях окружающего мира какие-то новые черты, оттенки, т.е. углубить и расширить существующие понятия окружающей действительности. Новый признак, который находит автор для характеристики героя, окружающей природы, образа действия героев называется новым словом, сходным или тождественным по значению с уже имеющимися наименова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им образом, автор избегает повторов, обогащает характеристику героев новыми качествами, тем самым расширяя лексическое богатство языка. Использование синонимии в поэме позволяет читателям обогатить словарный запас, избежать ненужных повторов в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выбранной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тим обосновать тем, что на уроках русского языка материал по теме «Синонимы» изложен в доступной форме, но совсем не полно. Эту тему нужно изучать подробно, так как очень часто обучающие допускают ошибки, свидетельствующие о незнании синонимических ресурсов язы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655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ъектом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яется поэма Н.А. НЕКРАСОВА «Дед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ю наше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яется выявление интересного языкового явления – синонимии, позволяющей читателям убедиться в лексическом богатстве русского языка, в широких возможностях и функциях лексики поэмы Н.А. Некрасова «Дедуш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теоретический материал по этой пробл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, какую роль играют синонимы в произведении Н. Некрас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ить, какова цель использования синонимов в поэме Н.А. Некрасова «Дедушк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в тексте синонимы разных ти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ы реализации темы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через сопоставительны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тературный обз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ая теорию, мы использовали учебник «Современный русский литературный язык» Гвоздева А.Н. и «Современный русский литературный язык» под редакцией П.А. Леканта. За справками обращались к «Словарю русского языка» Ожегова С. И. и к «Словарю современного русского литературного язы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териал и 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срав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равнивали оттенки падежных значений имен существительны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ехнология критического мыш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Вызов (На этом этапе работы у нас происходила актуализация предыдущего опыта и обозначилась пробле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Осмысление (На этом этапе работы у нас произошел контакт с новой информацией, ее сопоставление с уже имеющимся опытом. Мы акцентировали внимание на поисках ответов к возникшим ранее вопросам. Обращали внимание на неясности, которые возникали в процессе работы с новой информацией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) Рефлексия (На этом этапе работы мы целостно осмысливали и обобщали полученную информацию, анализировали весь процесс изучения материала, вырабатывали собственное отношение к изученному материал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ижний колонтитул 4"/>
          <p:cNvSpPr/>
          <p:nvPr/>
        </p:nvSpPr>
        <p:spPr>
          <a:xfrm>
            <a:off x="3276720" y="6095880"/>
            <a:ext cx="2743200" cy="62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ыгунов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.А. Кач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они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, близкие или тождественные по своему значению, выражающие одно и то же понятие, но различающиеся или оттенками значения, или стилистической окраской, или и тем и другим. Синонимы, как правило, принадлежат к одной и той же части речи и выступают как взаимозаменяемые элементы высказы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9-07-05T11:48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