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B814-91E6-424A-93FF-73429C91BA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63B0-2CE7-430E-8D9A-70B0E1B6FD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B6CD-85D1-4C97-B4F9-04B3CCA423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32B6-9DE1-4730-A602-BDF7E968EA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4F57-9C4E-497C-9A4B-21F83FBDA6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013E-2434-4653-B43C-E84FB23648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0F2D-7200-4849-9808-23961B3409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919D-9EDE-41AF-9199-6E6D5627D8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2492-50D1-455D-ABD8-4AB5BF6B89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6A67-0B81-430D-8A4D-21197F7BA7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85D3-157E-4F4D-8691-ABC5D2B824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829B-04F0-428F-ACBC-88EAEFFE4F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08E7-80AE-457A-ACF4-4832BFA34A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F619-CF5F-4DA6-A5A4-4B4272C7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98E4-C911-4944-A520-F47EBB6C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5485-1759-4085-A80B-65FF90D7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AE53-40FB-4D0F-9405-E1BCB563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A4A5-E2FD-41B6-9F7D-BE8C927D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8A53-7B81-4ECB-B2B8-B9A04F89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D03C-8919-45ED-BE44-3AA0AFFB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E869-5E12-416B-92C6-D14F0D76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D3CD-2E1E-443A-9319-B5853769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7A3C-B439-4DEF-B139-104804E5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5939-F50C-43E2-93DF-E235B10E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9BCA-FCEB-4BC8-AAF4-5D12A4F9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4858-7B52-47AA-BF2F-B982B908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D7D1-649E-4B10-A94F-2B9D5B1F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3C85-44A9-45A1-9F53-07CC2C02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09DE-D7DF-4650-90BB-8CC2DCC7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AD43-73D7-4AC7-B640-898AD316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5BE4-53A0-4CD0-9FB2-DCF9468C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EFA5-EEA2-4D51-9583-9DD7D777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8A62-0522-4126-A35C-984512F6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FD12-086F-4AAB-8617-CB729C52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F49C-DEFC-4EBA-A49A-D4ACA2DB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72D-D9C4-46C8-96E8-EDDF6F78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0F88-D4EF-482B-8FAE-7776784F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3226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4D05-526E-46A1-A0C0-AD1E0D65BB80}" type="slidenum">
              <a:rPr b="0" lang="ru-RU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3226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4F8A-5120-425E-BFB1-CA439CF6A08D}" type="slidenum">
              <a:rPr b="0" lang="ru-RU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749160" y="901800"/>
            <a:ext cx="8004240" cy="1481040"/>
          </a:xfrm>
          <a:prstGeom prst="rect">
            <a:avLst/>
          </a:prstGeom>
          <a:ln w="0">
            <a:noFill/>
          </a:ln>
        </p:spPr>
      </p:pic>
      <p:pic>
        <p:nvPicPr>
          <p:cNvPr id="90" name="Subtitle 2" descr=""/>
          <p:cNvPicPr/>
          <p:nvPr/>
        </p:nvPicPr>
        <p:blipFill>
          <a:blip r:embed="rId2"/>
          <a:stretch/>
        </p:blipFill>
        <p:spPr>
          <a:xfrm>
            <a:off x="706320" y="5675400"/>
            <a:ext cx="8321760" cy="974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ОРОДСКОЙ ОТДЕЛ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ШАХТЕРСКОГО ГОРОДСКОГО СОВЕТА ДОНЕЦ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ШАХТЕРСКАЯ ОБЩЕОБРАЗОВАТЕЛЬНАЯ ШКОЛА </a:t>
            </a:r>
            <a:r>
              <a:rPr b="1" lang="uk-UA" sz="1800" spc="-1" strike="noStrike">
                <a:solidFill>
                  <a:srgbClr val="002060"/>
                </a:solidFill>
                <a:latin typeface="Arial"/>
                <a:ea typeface="Arial"/>
              </a:rPr>
              <a:t>І-ІІІ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СТУПЕНЕЙ№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179280" y="2133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Воспитание  — 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целенаправленное управление развитием личности шк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285840" y="79200"/>
            <a:ext cx="8675640" cy="1256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24000" y="1699920"/>
            <a:ext cx="8572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104031"/>
                </a:solidFill>
                <a:latin typeface="Verdana"/>
              </a:rPr>
              <a:t>Задачи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создание благоприятных условий для физического и физиологического развития учащихся, для формирования здорового образа жизни.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создание здоровьесберегающей образовательной среды.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предупреждение втягивания детей в нездоровый образ жизни      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104031"/>
                </a:solidFill>
                <a:latin typeface="Verdana"/>
              </a:rPr>
              <a:t>Формы и методы работы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классные часы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работа спортивных секций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турниры, состязания, первенство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спортивные праздники, дни здоровья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104031"/>
                </a:solidFill>
                <a:latin typeface="Verdana"/>
              </a:rPr>
              <a:t>Мероприятия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работа спортивных секций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проведение  Дня здоровья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спартакиада школьников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соревнования по футболу, баскетболу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спортивный турнир «Веселые старты»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дружеские  матчевые встречи  с командами школ  города 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профилактические беседы школьного медика по предупреждению распространения заболеваний 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104031"/>
                </a:solidFill>
                <a:latin typeface="Verdana"/>
              </a:rPr>
              <a:t>Ожидаемый результат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     </a:t>
            </a: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уважение к своему здоровью, здоровью своего народа; подготовка  школьников к физическому труду, закрепление в психике ребенка стремления к здоровому образу жизни и здоровому развитию тела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6E10-3744-45BD-905A-3BCBF744095A}" type="slidenum">
              <a:rPr b="0" lang="ru-RU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Rectangle 2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42560" y="2000160"/>
            <a:ext cx="262404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Arial Black"/>
              </a:rPr>
              <a:t>КАК</a:t>
            </a:r>
            <a:r>
              <a:rPr b="0" lang="ru-RU" sz="5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50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755640" y="260280"/>
            <a:ext cx="5270400" cy="12193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Verdana"/>
              </a:rPr>
              <a:t>Учить без двое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Verdana"/>
              </a:rPr>
              <a:t>и принужд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AutoShape 7"/>
          <p:cNvGrpSpPr/>
          <p:nvPr/>
        </p:nvGrpSpPr>
        <p:grpSpPr>
          <a:xfrm>
            <a:off x="353880" y="3571920"/>
            <a:ext cx="5791320" cy="1512720"/>
            <a:chOff x="353880" y="3571920"/>
            <a:chExt cx="5791320" cy="1512720"/>
          </a:xfrm>
        </p:grpSpPr>
        <p:pic>
          <p:nvPicPr>
            <p:cNvPr id="125" name="AutoShape 7" descr=""/>
            <p:cNvPicPr/>
            <p:nvPr/>
          </p:nvPicPr>
          <p:blipFill>
            <a:blip r:embed="rId2"/>
            <a:stretch/>
          </p:blipFill>
          <p:spPr>
            <a:xfrm>
              <a:off x="353880" y="3571920"/>
              <a:ext cx="579132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00120" y="3816360"/>
              <a:ext cx="529740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2060"/>
                  </a:solidFill>
                  <a:latin typeface="Verdana"/>
                </a:rPr>
                <a:t>Сделать учение радостным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AutoShape 8"/>
          <p:cNvGrpSpPr/>
          <p:nvPr/>
        </p:nvGrpSpPr>
        <p:grpSpPr>
          <a:xfrm>
            <a:off x="2987640" y="5157720"/>
            <a:ext cx="5559480" cy="1414440"/>
            <a:chOff x="2987640" y="5157720"/>
            <a:chExt cx="5559480" cy="1414440"/>
          </a:xfrm>
        </p:grpSpPr>
        <p:pic>
          <p:nvPicPr>
            <p:cNvPr id="128" name="AutoShape 8" descr=""/>
            <p:cNvPicPr/>
            <p:nvPr/>
          </p:nvPicPr>
          <p:blipFill>
            <a:blip r:embed="rId3"/>
            <a:stretch/>
          </p:blipFill>
          <p:spPr>
            <a:xfrm>
              <a:off x="2987640" y="5157720"/>
              <a:ext cx="55594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218040" y="5388120"/>
              <a:ext cx="509400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Verdana"/>
                </a:rPr>
                <a:t>Развивать творчески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Verdana"/>
                </a:rPr>
                <a:t>способности учащихс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Овал 7"/>
          <p:cNvSpPr/>
          <p:nvPr/>
        </p:nvSpPr>
        <p:spPr>
          <a:xfrm>
            <a:off x="4071960" y="2286000"/>
            <a:ext cx="21420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748f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AutoShape 6"/>
          <p:cNvGrpSpPr/>
          <p:nvPr/>
        </p:nvGrpSpPr>
        <p:grpSpPr>
          <a:xfrm>
            <a:off x="2712960" y="1700280"/>
            <a:ext cx="6504120" cy="1871640"/>
            <a:chOff x="2712960" y="1700280"/>
            <a:chExt cx="6504120" cy="1871640"/>
          </a:xfrm>
        </p:grpSpPr>
        <p:pic>
          <p:nvPicPr>
            <p:cNvPr id="132" name="AutoShape 6" descr=""/>
            <p:cNvPicPr/>
            <p:nvPr/>
          </p:nvPicPr>
          <p:blipFill>
            <a:blip r:embed="rId4"/>
            <a:stretch/>
          </p:blipFill>
          <p:spPr>
            <a:xfrm>
              <a:off x="2712960" y="1700280"/>
              <a:ext cx="65041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002040" y="1989000"/>
              <a:ext cx="59259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2060"/>
                  </a:solidFill>
                  <a:latin typeface="Verdana"/>
                </a:rPr>
                <a:t>Развивать устойчивый интерес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2060"/>
                  </a:solidFill>
                  <a:latin typeface="Verdana"/>
                </a:rPr>
                <a:t>к знаниям и потребность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2060"/>
                  </a:solidFill>
                  <a:latin typeface="Verdana"/>
                </a:rPr>
                <a:t>в их самостоятельном поиск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575"/>
              </a:spcBef>
              <a:buSzPct val="1432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575"/>
              </a:spcBef>
              <a:buSzPct val="1432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04031"/>
                </a:solidFill>
                <a:latin typeface="Verdana"/>
              </a:rPr>
              <a:t>Если мы хотим, чтобы ребенок стал умным и образованным, необходимо прежде всего  заботиться о его духовном и телесном здоровье.</a:t>
            </a:r>
            <a:endParaRPr b="0" lang="en-US" sz="2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575"/>
              </a:spcBef>
              <a:buSzPct val="1432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04031"/>
                </a:solidFill>
                <a:latin typeface="Verdana"/>
              </a:rPr>
              <a:t>Если мы хотим, чтобы ребенок любил учиться, надо сделать учение веселым и  радостным.</a:t>
            </a:r>
            <a:endParaRPr b="0" lang="en-US" sz="2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575"/>
              </a:spcBef>
              <a:buSzPct val="1432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04031"/>
                </a:solidFill>
                <a:latin typeface="Verdana"/>
              </a:rPr>
              <a:t>Если мы  хотим, чтобы ребенок вырос сильной личностью, надо сохранять и развивать его уникальность и неповторимость.</a:t>
            </a:r>
            <a:endParaRPr b="0" lang="en-US" sz="2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575"/>
              </a:spcBef>
              <a:buSzPct val="1432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1214280" y="260280"/>
            <a:ext cx="728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ПЕДАГОГИЧЕСК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АКСИО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2116-3750-4DBC-A4F1-92563C513EE9}" type="slidenum">
              <a:rPr b="0" lang="ru-RU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285840" y="21420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AutoShape 3"/>
          <p:cNvGrpSpPr/>
          <p:nvPr/>
        </p:nvGrpSpPr>
        <p:grpSpPr>
          <a:xfrm>
            <a:off x="2309760" y="1603440"/>
            <a:ext cx="3726000" cy="4022640"/>
            <a:chOff x="2309760" y="1603440"/>
            <a:chExt cx="3726000" cy="4022640"/>
          </a:xfrm>
        </p:grpSpPr>
        <p:pic>
          <p:nvPicPr>
            <p:cNvPr id="96" name="AutoShape 3" descr=""/>
            <p:cNvPicPr/>
            <p:nvPr/>
          </p:nvPicPr>
          <p:blipFill>
            <a:blip r:embed="rId1"/>
            <a:stretch/>
          </p:blipFill>
          <p:spPr>
            <a:xfrm>
              <a:off x="2309760" y="1603440"/>
              <a:ext cx="3726000" cy="40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238560" y="2608200"/>
              <a:ext cx="1865160" cy="20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0000"/>
                  </a:solidFill>
                  <a:latin typeface="Stylo"/>
                </a:rPr>
                <a:t>ОБЩЕЕ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0000"/>
                  </a:solidFill>
                  <a:latin typeface="Stylo"/>
                </a:rPr>
                <a:t>РАЗВИТИЕ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0000"/>
                  </a:solidFill>
                  <a:latin typeface="Stylo"/>
                </a:rPr>
                <a:t>КАЖДОГО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0000"/>
                  </a:solidFill>
                  <a:latin typeface="Stylo"/>
                </a:rPr>
                <a:t>РЕБЕНКА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4"/>
          <p:cNvSpPr/>
          <p:nvPr/>
        </p:nvSpPr>
        <p:spPr>
          <a:xfrm>
            <a:off x="250920" y="404640"/>
            <a:ext cx="3986280" cy="914400"/>
          </a:xfrm>
          <a:prstGeom prst="cloudCallout">
            <a:avLst>
              <a:gd name="adj1" fmla="val 29194"/>
              <a:gd name="adj2" fmla="val 16665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Stylo"/>
              </a:rPr>
              <a:t>интелл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179280" y="2819520"/>
            <a:ext cx="1878120" cy="1218960"/>
          </a:xfrm>
          <a:prstGeom prst="cloudCallout">
            <a:avLst>
              <a:gd name="adj1" fmla="val 92606"/>
              <a:gd name="adj2" fmla="val -8768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tylo"/>
              </a:rPr>
              <a:t>в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250920" y="5373720"/>
            <a:ext cx="2814480" cy="1285920"/>
          </a:xfrm>
          <a:prstGeom prst="cloudCallout">
            <a:avLst>
              <a:gd name="adj1" fmla="val 58097"/>
              <a:gd name="adj2" fmla="val -64935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Stylo"/>
              </a:rPr>
              <a:t>чув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6227640" y="2924280"/>
            <a:ext cx="2667240" cy="990360"/>
          </a:xfrm>
          <a:prstGeom prst="cloudCallout">
            <a:avLst>
              <a:gd name="adj1" fmla="val -77449"/>
              <a:gd name="adj2" fmla="val -9490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tylo"/>
              </a:rPr>
              <a:t>ум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6019920" y="457200"/>
            <a:ext cx="2743200" cy="1143000"/>
          </a:xfrm>
          <a:prstGeom prst="cloudCallout">
            <a:avLst>
              <a:gd name="adj1" fmla="val -74814"/>
              <a:gd name="adj2" fmla="val 155726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tylo"/>
              </a:rPr>
              <a:t>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6156360" y="5373720"/>
            <a:ext cx="2590920" cy="914400"/>
          </a:xfrm>
          <a:prstGeom prst="cloudCallout">
            <a:avLst>
              <a:gd name="adj1" fmla="val -83680"/>
              <a:gd name="adj2" fmla="val -151069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tylo"/>
              </a:rPr>
              <a:t>навыки</a:t>
            </a:r>
            <a:r>
              <a:rPr b="1" lang="ru-RU" sz="2400" spc="-1" strike="noStrike">
                <a:solidFill>
                  <a:srgbClr val="000000"/>
                </a:solidFill>
                <a:latin typeface="Styl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79280" y="1617840"/>
            <a:ext cx="871560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4031"/>
                </a:solidFill>
                <a:latin typeface="Verdana"/>
              </a:rPr>
              <a:t>Задачи: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 algn="just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4031"/>
                </a:solidFill>
                <a:latin typeface="Verdana"/>
              </a:rPr>
              <a:t>создать условия для развития образовательных способностей личности;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 algn="just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4031"/>
                </a:solidFill>
                <a:latin typeface="Verdana"/>
              </a:rPr>
              <a:t>повысить интерес к творчеству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4031"/>
                </a:solidFill>
                <a:latin typeface="Verdana"/>
              </a:rPr>
              <a:t>Формы и методы работы: 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 algn="just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4031"/>
                </a:solidFill>
                <a:latin typeface="Verdana"/>
              </a:rPr>
              <a:t>уроки окружающего мира, литературы, изо, музыки, физической культуры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 algn="just"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4031"/>
                </a:solidFill>
                <a:latin typeface="Verdana"/>
              </a:rPr>
              <a:t>исследовательская деятельность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 algn="just"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4031"/>
                </a:solidFill>
                <a:latin typeface="Verdana"/>
              </a:rPr>
              <a:t>предметные недели</a:t>
            </a:r>
            <a:r>
              <a:rPr b="1" i="1" lang="ru-RU" sz="1600" spc="-1" strike="noStrike">
                <a:solidFill>
                  <a:srgbClr val="104031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4031"/>
                </a:solidFill>
                <a:latin typeface="Verdana"/>
              </a:rPr>
              <a:t>Мероприятия:   </a:t>
            </a:r>
            <a:r>
              <a:rPr b="1" lang="ru-RU" sz="1600" spc="-1" strike="noStrike">
                <a:solidFill>
                  <a:srgbClr val="104031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 algn="just"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4031"/>
                </a:solidFill>
                <a:latin typeface="Verdana"/>
              </a:rPr>
              <a:t>проведение олимпиад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 algn="just"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4031"/>
                </a:solidFill>
                <a:latin typeface="Verdana"/>
              </a:rPr>
              <a:t>проведение научно – практических конференций 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 algn="just"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4031"/>
                </a:solidFill>
                <a:latin typeface="Verdana"/>
              </a:rPr>
              <a:t>участие в конкурсах защиты МАН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4031"/>
                </a:solidFill>
                <a:latin typeface="Verdana"/>
              </a:rPr>
              <a:t>Ожидаемый результат: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4031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104031"/>
                </a:solidFill>
                <a:latin typeface="Verdana"/>
              </a:rPr>
              <a:t>формирование у учащихся гражданских компетентностей, духовно – нравственных ценностей, экономического мышления, нравственных идеалов и правовых норм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</p:txBody>
      </p:sp>
      <p:pic>
        <p:nvPicPr>
          <p:cNvPr id="105" name="Заголовок 3" descr=""/>
          <p:cNvPicPr/>
          <p:nvPr/>
        </p:nvPicPr>
        <p:blipFill>
          <a:blip r:embed="rId9"/>
          <a:stretch/>
        </p:blipFill>
        <p:spPr>
          <a:xfrm>
            <a:off x="450720" y="79200"/>
            <a:ext cx="824256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706320" y="-55440"/>
            <a:ext cx="8242560" cy="1384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Задачи</a:t>
            </a:r>
            <a:r>
              <a:rPr b="1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spcBef>
                <a:spcPts val="326"/>
              </a:spcBef>
              <a:buSzPct val="2530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воспитывать правосознание, способность к осознанию своих прав и прав другого человека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формировать культуру проявления гражданской позиции.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spcBef>
                <a:spcPts val="326"/>
              </a:spcBef>
              <a:buSzPct val="25303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формировать у учащихся систему знаний, уважения и интереса к государственным символам Украины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Формы и методы работы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классные часы;                        ролевые и деловые игры;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конкурсы;                                 акции и др.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Мероприятия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знакомство с государственной символикой, школьной символикой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мероприятия ко Дню Конституции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«Люди мира на минуту встаньте!» ко дню памяти погибших во время ВОВ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экскурсии в музей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общешкольные акции: 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           </a:t>
            </a: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«Дом без одиночества» (ко дню пожилого человека); «Милосердие» (ко дню инвалидов);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           </a:t>
            </a: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«Протяни руку другу» (сбор вещей для детей, особо нуждающихся в социальной поддержке).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Тематические классные часы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:       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«Человек и профессия»;       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«Кем быть и каким быть»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Ожидаемый результат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        </a:t>
            </a: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гармоничное развитие личности, ее успешная социализация; воспитание школьников в духе демократических ценностей; выработка и реализация умений и навыков активного и ответственного участия в жизни общества и государства, формирование высокого уровня правовой, политической культуры, культуры прав человека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-6480" y="-36360"/>
            <a:ext cx="9156960" cy="1865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-360" y="1814400"/>
            <a:ext cx="8929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</a:rPr>
              <a:t>Задачи:</a:t>
            </a: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создать условия для самореализации каждого ученика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развить  лидерские качества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научить сотрудничать  с социумом 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включить  школьников в реальные социально значимые дела.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</a:rPr>
              <a:t>Формы и методы работы: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форумы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акции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тренинги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</a:rPr>
              <a:t>Мероприятия: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конкурс «Лучший класс»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посвящение в пятиклассники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рейды: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      </a:t>
            </a: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«Что у вас, ребята в рюкзаках?»;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      </a:t>
            </a: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«Школьная форма»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организация дежурства по классу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</a:rPr>
              <a:t>Ожидаемый результат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создание интегрированной системы воспитания и обучения, способствующей развитию личности; готовность выпускников к жизни и труду в условиях демократического общества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749160" y="6480"/>
            <a:ext cx="8242560" cy="1384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Задачи: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сформировать  у учащихся понимания необходимости изучения прав человека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способствовать профилактике противоправного поведения; 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воспитать учащихся  в духе уважения прав и свобод других людей 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обеспечить всестороннюю информированность о правах и свободах;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воспитать  дисциплинированность, законопослушность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Формы и методы работы: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классные часы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беседы 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круглые столы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акции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Мероприятия: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проведение тематических классных часов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«Мораль и закон»;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«Мои права, мои  обязанности»;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«Закон обо мне и мне, о законе» и др. 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Ожидаемый результат:  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       </a:t>
            </a: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обеспечение условий для формирования правовой компетентности молодых граждан Украины, социализацию личности через развитие у учащихся высокой гражданственности, правового сознания, чувства верности своему Отечеству, критического и преобразующего отношения к социальной действительности, а также готовности к реализации своих прав и выполнению конституционных обязанностей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-6480" y="79200"/>
            <a:ext cx="8852040" cy="1256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Задачи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spcBef>
                <a:spcPts val="326"/>
              </a:spcBef>
              <a:buSzPct val="2530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утвердить  в сознании учащихся  гражданские, правовые и общечеловеческие ценности, взгляды  и убеждения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spcBef>
                <a:spcPts val="326"/>
              </a:spcBef>
              <a:buSzPct val="25303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привлечь учащихся к работе по возрождению, сохранению и приумножению культурных, духовно-нравственных ценностей, накопленных поколениями Украины  и  Донбасса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spcBef>
                <a:spcPts val="326"/>
              </a:spcBef>
              <a:buSzPct val="25303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создать благоприятные условия для выражения и применения своих художественных способностей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Формы и методы работы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экскурсии, выставки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конкурсы, фестивали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работа кружков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концерты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Мероприятия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участие в творческих конкурсах разного уровня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посещение выставок и театральных спектаклей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проведение праздника  «Проводы Масленицы»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проведение выставок детского творчества.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участие в работе кружков      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Ожидаемый результат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        </a:t>
            </a: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возрождение, сохранение и приумножение культурных, духовно-нравственных ценностей, накопленных поколениями Украины и  Донбасса; воспитание у учащихся  вкуса читателя, слушателя, зрителя; формирование  умения, потребности и привычки  создавать прекрасное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566640" y="208080"/>
            <a:ext cx="8242560" cy="1157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Задачи: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изучать историю родного края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воспитывать у обучающихся позицию «Я – гражданин»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формировать экологическое поведение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Формы и методы работы: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экскурсии, выставки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конкурсы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трудовые десанты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Мероприятия: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организация походов, экскурсий по родному  краю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участие в конкурсах сочинений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участие в благоустройстве школьной территории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организация выставок детского творчества («Вместо Елочки – праздничный букет»)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изучение истории родного края и города на уроках  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Ожидаемый результат:</a:t>
            </a: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воспитание у обучающихся любви к родному краю как к своей малой Родине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566640" y="208080"/>
            <a:ext cx="8242560" cy="1157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Задачи: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воспитывать культуру семейных отношений, позитивных семейных ценностей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повышать педагогическую и психологическую компетенцию родителей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включение родителей в работу по реализации целевой программы воспитательной системы гимназии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Формы и методы работы: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родительские собрания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индивидуальные консультации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совместные праздники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Мероприятия: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родительский лекторий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создание презентаций «Профессии моих родителей»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празднование Дня матери: организация выставок «Руками мамы», выставки рисунков «Профессия моей мамы», «Портрет моей мамы», фотоконкурса «Мамины глаза»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организация семейных классных праздников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проведение родительских конференций 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проведение классных родительских собраний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день открытых дверей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День знаний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Ожидаемый результат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осознание обучающимися семьи как важнейшей жизненной ценности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21:19:20Z</dcterms:created>
  <dc:creator/>
  <dc:description/>
  <dc:language>en-US</dc:language>
  <cp:lastModifiedBy/>
  <dcterms:modified xsi:type="dcterms:W3CDTF">2011-01-16T17:21:08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491049</vt:lpwstr>
  </property>
</Properties>
</file>