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E77-BCE7-4C7F-BA7E-8AFFC29D32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AD8A-104F-4C2A-A8AC-3AAE27176F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D22-29F0-485A-A345-21A27EF842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27B4-4160-4799-B0CD-3C94DA788C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25C-7851-4EF3-8FE3-F031364B8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D81-7801-4890-8AAF-4711C4A23F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4994-B7B9-4052-88ED-1FDADD919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6B8F-49F2-46DB-819B-75AC9CFE9B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114-1E17-45A1-8C67-C981B9239B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45A8-404E-4FDC-836F-F0A3D3287F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721-1C6F-4273-91DD-1EE881FC67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60EF-23D0-4F39-A674-B029284D75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D0E9-6839-4D15-9F1F-9878C8489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8D4-48B5-4A06-9C50-882814E1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26B-2D8A-4333-AC44-F2D32D8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773-42A0-4A01-AC97-83021A6A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632-708B-4950-A23A-73EFDC38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9CEC-ED48-4508-8E68-43264A1B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A638-6A2C-4318-B32C-9AFF11D3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DE87-ACBA-4914-AC95-C200657A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26DB-AB43-40CE-894C-E7A5604F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713-6F82-4A90-8560-A58B7DCB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5911-A9E6-415E-B0EE-A623FCE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317A-D048-4C38-ADA8-8B93603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F83-83E2-476A-A140-5EDE8341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AA8-CF74-49B4-8B28-17A4990D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8467-60A0-49F8-A041-C7204235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2D9E-3EC1-4A54-ACBD-377B5F37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EEC-5C63-4AA4-8534-D2C3E1D6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22AC-8D8C-49BD-AD51-2FF9D7B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4FB-5CC6-4520-8D38-C28860C9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AF0-B3AD-41E2-B858-A304940D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D2E-8165-4C71-BB99-0D410F8C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416-6F74-4900-84DE-8D32405D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389-0FCB-41A5-8CBF-315C22B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4B1-27E6-40FE-A32C-3D39C1D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5D4-0F28-4B77-ABF1-3CE661FC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EE07-DF88-470D-89CF-DC71DC78F435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C961-2FFE-4A26-BDB1-92935FDFA6B3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749160" y="901800"/>
            <a:ext cx="8004240" cy="1481040"/>
          </a:xfrm>
          <a:prstGeom prst="rect">
            <a:avLst/>
          </a:prstGeom>
          <a:ln w="0">
            <a:noFill/>
          </a:ln>
        </p:spPr>
      </p:pic>
      <p:pic>
        <p:nvPicPr>
          <p:cNvPr id="90" name="Subtitle 2" descr=""/>
          <p:cNvPicPr/>
          <p:nvPr/>
        </p:nvPicPr>
        <p:blipFill>
          <a:blip r:embed="rId2"/>
          <a:stretch/>
        </p:blipFill>
        <p:spPr>
          <a:xfrm>
            <a:off x="706320" y="5675400"/>
            <a:ext cx="8321760" cy="974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ОРОДСКОЙ ОТДЕЛ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АХТЕРСКОГО ГОРОДСКОГО СОВЕТА ДОНЕЦ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АХТЕРСКАЯ ОБЩЕОБРАЗОВАТЕЛЬНАЯ ШКОЛА 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І-ІІІ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СТУПЕНЕЙ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79280" y="213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оспитание  —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целенаправленное управление развитием личности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8675640" cy="125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24000" y="1699920"/>
            <a:ext cx="8572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Задачи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здание благоприятных условий для физического и физиологического развития учащихся, для формирования здорового образа жизни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здание здоровьесберегающей образовательной среды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едупреждение втягивания детей в нездоровый образ жизни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классные час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работа спортивных секци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турниры, состязания, первенство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ортивные праздники, дни здоровь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работа спортивных секци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оведение  Дня здоровь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артакиада школьник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ревнования по футболу, баскетболу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ортивный турнир «Веселые старты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дружеские  матчевые встречи  с командами школ  города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офилактические беседы школьного медика по предупреждению распространения заболеваний 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04031"/>
                </a:solidFill>
                <a:latin typeface="Verdana"/>
              </a:rPr>
              <a:t>Ожидаемый результат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уважение к своему здоровью, здоровью своего народа; подготовка  школьников к физическому труду, закрепление в психике ребенка стремления к здоровому образу жизни и здоровому развитию тел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246-C781-480B-812E-5C6820C26086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2560" y="2000160"/>
            <a:ext cx="26240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 Black"/>
              </a:rPr>
              <a:t>КАК</a:t>
            </a:r>
            <a:r>
              <a:rPr b="0" lang="ru-RU" sz="5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50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55640" y="260280"/>
            <a:ext cx="5270400" cy="12193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Verdana"/>
              </a:rPr>
              <a:t>Учить без дво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Verdana"/>
              </a:rPr>
              <a:t>и прину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utoShape 7"/>
          <p:cNvGrpSpPr/>
          <p:nvPr/>
        </p:nvGrpSpPr>
        <p:grpSpPr>
          <a:xfrm>
            <a:off x="353880" y="3571920"/>
            <a:ext cx="5791320" cy="1512720"/>
            <a:chOff x="353880" y="3571920"/>
            <a:chExt cx="5791320" cy="1512720"/>
          </a:xfrm>
        </p:grpSpPr>
        <p:pic>
          <p:nvPicPr>
            <p:cNvPr id="125" name="AutoShape 7" descr=""/>
            <p:cNvPicPr/>
            <p:nvPr/>
          </p:nvPicPr>
          <p:blipFill>
            <a:blip r:embed="rId2"/>
            <a:stretch/>
          </p:blipFill>
          <p:spPr>
            <a:xfrm>
              <a:off x="353880" y="3571920"/>
              <a:ext cx="57913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00120" y="3816360"/>
              <a:ext cx="52974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Сделать учение радостным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8"/>
          <p:cNvGrpSpPr/>
          <p:nvPr/>
        </p:nvGrpSpPr>
        <p:grpSpPr>
          <a:xfrm>
            <a:off x="2987640" y="5157720"/>
            <a:ext cx="5559480" cy="1414440"/>
            <a:chOff x="2987640" y="5157720"/>
            <a:chExt cx="5559480" cy="1414440"/>
          </a:xfrm>
        </p:grpSpPr>
        <p:pic>
          <p:nvPicPr>
            <p:cNvPr id="128" name="AutoShape 8" descr=""/>
            <p:cNvPicPr/>
            <p:nvPr/>
          </p:nvPicPr>
          <p:blipFill>
            <a:blip r:embed="rId3"/>
            <a:stretch/>
          </p:blipFill>
          <p:spPr>
            <a:xfrm>
              <a:off x="2987640" y="5157720"/>
              <a:ext cx="55594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218040" y="5388120"/>
              <a:ext cx="50940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Verdana"/>
                </a:rPr>
                <a:t>Развивать творческ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Verdana"/>
                </a:rPr>
                <a:t>способности уча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Овал 7"/>
          <p:cNvSpPr/>
          <p:nvPr/>
        </p:nvSpPr>
        <p:spPr>
          <a:xfrm>
            <a:off x="4071960" y="2286000"/>
            <a:ext cx="21420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6"/>
          <p:cNvGrpSpPr/>
          <p:nvPr/>
        </p:nvGrpSpPr>
        <p:grpSpPr>
          <a:xfrm>
            <a:off x="2712960" y="1700280"/>
            <a:ext cx="6504120" cy="1871640"/>
            <a:chOff x="2712960" y="1700280"/>
            <a:chExt cx="6504120" cy="1871640"/>
          </a:xfrm>
        </p:grpSpPr>
        <p:pic>
          <p:nvPicPr>
            <p:cNvPr id="132" name="AutoShape 6" descr=""/>
            <p:cNvPicPr/>
            <p:nvPr/>
          </p:nvPicPr>
          <p:blipFill>
            <a:blip r:embed="rId4"/>
            <a:stretch/>
          </p:blipFill>
          <p:spPr>
            <a:xfrm>
              <a:off x="2712960" y="1700280"/>
              <a:ext cx="65041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02040" y="1989000"/>
              <a:ext cx="59259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Развивать устойчивый интере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к знаниям и потребность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в их самостоятельном поиск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хотим, чтобы ребенок стал умным и образованным, необходимо прежде всего  заботиться о его духовном и телесном здоровье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хотим, чтобы ребенок любил учиться, надо сделать учение веселым и  радостным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 хотим, чтобы ребенок вырос сильной личностью, надо сохранять и развивать его уникальность и неповторимость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1214280" y="26028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ДАГОГ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АКСИО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7D49-F54C-49CF-A9A3-7FD37FB0493F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85840" y="21420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3"/>
          <p:cNvGrpSpPr/>
          <p:nvPr/>
        </p:nvGrpSpPr>
        <p:grpSpPr>
          <a:xfrm>
            <a:off x="2309760" y="1603440"/>
            <a:ext cx="3726000" cy="4022640"/>
            <a:chOff x="2309760" y="1603440"/>
            <a:chExt cx="3726000" cy="4022640"/>
          </a:xfrm>
        </p:grpSpPr>
        <p:pic>
          <p:nvPicPr>
            <p:cNvPr id="96" name="AutoShape 3" descr=""/>
            <p:cNvPicPr/>
            <p:nvPr/>
          </p:nvPicPr>
          <p:blipFill>
            <a:blip r:embed="rId1"/>
            <a:stretch/>
          </p:blipFill>
          <p:spPr>
            <a:xfrm>
              <a:off x="2309760" y="1603440"/>
              <a:ext cx="3726000" cy="40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238560" y="2608200"/>
              <a:ext cx="186516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ОБЩЕ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РАЗВИТИ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КАЖДОГО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РЕБЕНК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4"/>
          <p:cNvSpPr/>
          <p:nvPr/>
        </p:nvSpPr>
        <p:spPr>
          <a:xfrm>
            <a:off x="250920" y="404640"/>
            <a:ext cx="3986280" cy="914400"/>
          </a:xfrm>
          <a:prstGeom prst="cloudCallout">
            <a:avLst>
              <a:gd name="adj1" fmla="val 29194"/>
              <a:gd name="adj2" fmla="val 16665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tylo"/>
              </a:rPr>
              <a:t>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79280" y="2819520"/>
            <a:ext cx="1878120" cy="1218960"/>
          </a:xfrm>
          <a:prstGeom prst="cloudCallout">
            <a:avLst>
              <a:gd name="adj1" fmla="val 92606"/>
              <a:gd name="adj2" fmla="val -876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50920" y="5373720"/>
            <a:ext cx="2814480" cy="1285920"/>
          </a:xfrm>
          <a:prstGeom prst="cloudCallout">
            <a:avLst>
              <a:gd name="adj1" fmla="val 58097"/>
              <a:gd name="adj2" fmla="val -64935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Stylo"/>
              </a:rPr>
              <a:t>чув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6227640" y="2924280"/>
            <a:ext cx="2667240" cy="990360"/>
          </a:xfrm>
          <a:prstGeom prst="cloudCallout">
            <a:avLst>
              <a:gd name="adj1" fmla="val -77449"/>
              <a:gd name="adj2" fmla="val -949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019920" y="457200"/>
            <a:ext cx="2743200" cy="1143000"/>
          </a:xfrm>
          <a:prstGeom prst="cloudCallout">
            <a:avLst>
              <a:gd name="adj1" fmla="val -74814"/>
              <a:gd name="adj2" fmla="val 155726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6156360" y="5373720"/>
            <a:ext cx="2590920" cy="914400"/>
          </a:xfrm>
          <a:prstGeom prst="cloudCallout">
            <a:avLst>
              <a:gd name="adj1" fmla="val -83680"/>
              <a:gd name="adj2" fmla="val -151069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навыки</a:t>
            </a:r>
            <a:r>
              <a:rPr b="1" lang="ru-RU" sz="2400" spc="-1" strike="noStrike">
                <a:solidFill>
                  <a:srgbClr val="000000"/>
                </a:solidFill>
                <a:latin typeface="Styl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1617840"/>
            <a:ext cx="87156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Задачи: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создать условия для развития образовательных способностей личности;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овысить интерес к творчеству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Формы и методы работы: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уроки окружающего мира, литературы, изо, музыки, физической культуры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исследовательская деятельность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едметные недели</a:t>
            </a: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Мероприятия:   </a:t>
            </a:r>
            <a:r>
              <a:rPr b="1" lang="ru-RU" sz="16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оведение олимпиад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оведение научно – практических конференций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участие в конкурсах защиты МАН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Ожидаемый результат: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формирование у учащихся гражданских компетентностей, духовно – нравственных ценностей, экономического мышления, нравственных идеалов и правовых норм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5" name="Заголовок 3" descr=""/>
          <p:cNvPicPr/>
          <p:nvPr/>
        </p:nvPicPr>
        <p:blipFill>
          <a:blip r:embed="rId9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706320" y="-5544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</a:t>
            </a:r>
            <a:r>
              <a:rPr b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правосознание, способность к осознанию своих прав и прав другого человек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культуру проявления гражданской позиции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у учащихся систему знаний, уважения и интереса к государственным символам Украин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лассные часы;                        ролевые и деловые игры;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;                                 акции и др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накомство с государственной символикой, школьной символико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 ко Дню Конституци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Люди мира на минуту встаньте!» ко дню памяти погибших во время В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 в муз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щешкольные акции: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Дом без одиночества» (ко дню пожилого человека); «Милосердие» (ко дню инвалидов);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Протяни руку другу» (сбор вещей для детей, особо нуждающихся в социальной поддержке)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матические классные часы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: 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Человек и профессия»; 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Кем быть и каким быть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Ожидаемый результат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гармоничное развитие личности, ее успешная социализация; воспитание школьников в духе демократических ценностей; выработка и реализация умений и навыков активного и ответственного участия в жизни общества и государства, формирование высокого уровня правовой, политической культуры, культуры прав человек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1865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18144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Задачи: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создать условия для самореализации каждого ученик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развить  лидерские качеств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научить сотрудничать  с социумом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включить  школьников в реальные социально значимые дела.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форум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ак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тренинг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конкурс «Лучший класс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посвящение в пятиклассник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рейд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«Что у вас, ребята в рюкзаках?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«Школьная форма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организация дежурства по классу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Ожидаемый результат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создание интегрированной системы воспитания и обучения, способствующей развитию личности; готовность выпускников к жизни и труду в условиях демократического обществ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749160" y="648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формировать  у учащихся понимания необходимости изучения прав человек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пособствовать профилактике противоправного поведения;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ть учащихся  в духе уважения прав и свобод других людей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еспечить всестороннюю информированность о правах и свободах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ть  дисциплинированность, законопослушность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классные час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беседы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круглые стол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ак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тематических классных часов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Мораль и закон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Мои права, мои  обязанности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Закон обо мне и мне, о законе» и др.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: 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еспечение условий для формирования правовой компетентности молодых граждан Украины, социализацию личности через развитие у учащихся высокой гражданственности, правового сознания, чувства верности своему Отечеству, критического и преобразующего отношения к социальной действительности, а также готовности к реализации своих прав и выполнению конституционных обязанност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-6480" y="79200"/>
            <a:ext cx="8852040" cy="125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твердить  в сознании учащихся  гражданские, правовые и общечеловеческие ценности, взгляды  и убеждени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ивлечь учащихся к работе по возрождению, сохранению и приумножению культурных, духовно-нравственных ценностей, накопленных поколениями Украины  и  Донбасс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здать благоприятные условия для выражения и применения своих художественных способност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, выставк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, фестивал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работа кружк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церт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творческих конкурсах разного уровн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осещение выставок и театральных спектакл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праздника  «Проводы Масленицы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выставок детского творчества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работе кружков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зрождение, сохранение и приумножение культурных, духовно-нравственных ценностей, накопленных поколениями Украины и  Донбасса; воспитание у учащихся  вкуса читателя, слушателя, зрителя; формирование  умения, потребности и привычки  создавать прекрасное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изучать историю родного края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у обучающихся позицию «Я – гражданин»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экологическое поведение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, выставки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трудовые десанты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походов, экскурсий по родному  краю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конкурсах сочинений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благоустройстве школьной территории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выставок детского творчества («Вместо Елочки – праздничный букет»)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изучение истории родного края и города на уроках  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:</a:t>
            </a: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ние у обучающихся любви к родному краю как к своей малой Родине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культуру семейных отношений, позитивных семейных ценност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овышать педагогическую и психологическую компетенцию родител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ключение родителей в работу по реализации целевой программы воспитательной системы гимназ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родительские собрания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индивидуальные консульта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вместные праздник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родительский лектор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здание презентаций «Профессии моих родителей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азднование Дня матери: организация выставок «Руками мамы», выставки рисунков «Профессия моей мамы», «Портрет моей мамы», фотоконкурса «Мамины глаза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семейных классных праздников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родительских конференций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классных родительских собран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день открытых двер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День знан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сознание обучающимися семьи как важнейшей жизненной ценност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1:19:20Z</dcterms:created>
  <dc:creator/>
  <dc:description/>
  <dc:language>en-US</dc:language>
  <cp:lastModifiedBy/>
  <dcterms:modified xsi:type="dcterms:W3CDTF">2011-01-16T17:21:08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91049</vt:lpwstr>
  </property>
</Properties>
</file>