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7C44-7842-4EB8-B8D9-09DE24FC6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A080-3879-4C7F-8F50-7419423D0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08FC-32F3-429F-968F-90AAB0702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45D-27E9-4F1F-9857-3FEB8F828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5D6A-E2E9-4D7B-B06C-04CA878A51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C9C-F856-4633-9A78-237D8A32B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C39-2052-4F21-9E02-1024DC393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CB6-B398-4810-9C11-0B18F7D28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42F-860E-42EB-8B53-95FCFFD90F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62A-57D0-4B99-A1EF-1F3178EC1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EA21-34C5-4DBB-8BE5-D61E6E9F60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90F-5858-4A97-9A42-B49F7E051D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2702-0EB4-4A0E-AC69-AD50B993F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98E-4CCC-4F0E-839C-1626DDA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13E-8516-4452-B62D-636A0855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9F5-A239-48B0-A579-DF0E431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F01-B8EA-4968-8C06-01A998C3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D27-FEB9-4106-91A4-89D05C53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6D3-0BFC-438A-907F-B955905C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4AFE-8AAB-4E74-AECA-29B8E00A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A30D-4EF0-440C-ADE4-99C7DE35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9E09-1DEB-41FB-85CD-B5D9462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FC8-4818-45E2-8267-03DD1A9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D301-DA61-4DA9-8713-B86966B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56E-6B92-4CE9-80C2-6E94C1A4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B10C-51B9-4599-B011-AA0E917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7BE-06CD-4C7F-8199-9752CC4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22B-77CC-4C6C-9D10-D5D73B2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9924-1BF1-427C-8713-3012D87B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F79-DD4A-4A75-BD37-F4ECA1AA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349-088D-4B14-947A-B01AA6A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4EE-6383-4752-A707-7E7244F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DC8-1B01-47BC-8FFB-76E5204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BCB-64A3-4B20-BB27-5A9B901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8FD-6C32-40E4-BA74-09AED05D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9A1-9574-47CA-9CAA-281E202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46C-42C5-458B-8F2F-0547373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F820-6530-4F5C-8002-AF76A41C9E22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65A-3B7B-48DE-9E67-0AA067CBA811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749160" y="901800"/>
            <a:ext cx="8004240" cy="1481040"/>
          </a:xfrm>
          <a:prstGeom prst="rect">
            <a:avLst/>
          </a:prstGeom>
          <a:ln w="0">
            <a:noFill/>
          </a:ln>
        </p:spPr>
      </p:pic>
      <p:pic>
        <p:nvPicPr>
          <p:cNvPr id="90" name="Subtitle 2" descr=""/>
          <p:cNvPicPr/>
          <p:nvPr/>
        </p:nvPicPr>
        <p:blipFill>
          <a:blip r:embed="rId2"/>
          <a:stretch/>
        </p:blipFill>
        <p:spPr>
          <a:xfrm>
            <a:off x="706320" y="5675400"/>
            <a:ext cx="8321760" cy="974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РОДСКОЙ ОТДЕЛ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ОГО ГОРОДСКОГО СОВЕТА ДОН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АХТЕРСКАЯ ОБЩЕОБРАЗОВАТЕЛЬНАЯ ШКОЛА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І-ІІІ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СТУПЕНЕЙ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928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оспитание  —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целенаправленное управление развитием личности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8675640" cy="125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24000" y="1699920"/>
            <a:ext cx="8572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благоприятных условий для физического и физиологического развития учащихся, для формирования здорового образа жизн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здание здоровьесберегающей образовательной среды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едупреждение втягивания детей в нездоровый образ жизни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классные час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турниры, состязания, первенство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е праздники, дни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работа спортивных секци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ведение  Дня здоровь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артакиада школьни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оревнования по футболу, баскетболу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спортивный турнир «Веселые старт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дружеские  матчевые встречи  с командами школ  города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профилактические беседы школьного медика по предупреждению распространения заболеваний 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</a:rPr>
              <a:t>уважение к своему здоровью, здоровью своего народа; подготовка  школьников к физическому труду, закрепление в психике ребенка стремления к здоровому образу жизни и здоровому развитию тел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A07E-AD97-489F-AC9F-D45F68EF641B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2560" y="2000160"/>
            <a:ext cx="26240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 Black"/>
              </a:rPr>
              <a:t>КАК</a:t>
            </a:r>
            <a:r>
              <a:rPr b="0" lang="ru-RU" sz="5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50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55640" y="260280"/>
            <a:ext cx="5270400" cy="12193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Учить без дво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и прину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utoShape 7"/>
          <p:cNvGrpSpPr/>
          <p:nvPr/>
        </p:nvGrpSpPr>
        <p:grpSpPr>
          <a:xfrm>
            <a:off x="353880" y="3571920"/>
            <a:ext cx="5791320" cy="1512720"/>
            <a:chOff x="353880" y="3571920"/>
            <a:chExt cx="5791320" cy="1512720"/>
          </a:xfrm>
        </p:grpSpPr>
        <p:pic>
          <p:nvPicPr>
            <p:cNvPr id="125" name="AutoShape 7" descr=""/>
            <p:cNvPicPr/>
            <p:nvPr/>
          </p:nvPicPr>
          <p:blipFill>
            <a:blip r:embed="rId2"/>
            <a:stretch/>
          </p:blipFill>
          <p:spPr>
            <a:xfrm>
              <a:off x="353880" y="3571920"/>
              <a:ext cx="5791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0120" y="3816360"/>
              <a:ext cx="5297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Сделать учение радостным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8"/>
          <p:cNvGrpSpPr/>
          <p:nvPr/>
        </p:nvGrpSpPr>
        <p:grpSpPr>
          <a:xfrm>
            <a:off x="2987640" y="5157720"/>
            <a:ext cx="5559480" cy="1414440"/>
            <a:chOff x="2987640" y="5157720"/>
            <a:chExt cx="5559480" cy="1414440"/>
          </a:xfrm>
        </p:grpSpPr>
        <p:pic>
          <p:nvPicPr>
            <p:cNvPr id="128" name="AutoShape 8" descr=""/>
            <p:cNvPicPr/>
            <p:nvPr/>
          </p:nvPicPr>
          <p:blipFill>
            <a:blip r:embed="rId3"/>
            <a:stretch/>
          </p:blipFill>
          <p:spPr>
            <a:xfrm>
              <a:off x="2987640" y="5157720"/>
              <a:ext cx="55594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218040" y="5388120"/>
              <a:ext cx="50940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Развивать твор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Verdana"/>
                </a:rPr>
                <a:t>способности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Овал 7"/>
          <p:cNvSpPr/>
          <p:nvPr/>
        </p:nvSpPr>
        <p:spPr>
          <a:xfrm>
            <a:off x="4071960" y="2286000"/>
            <a:ext cx="21420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6"/>
          <p:cNvGrpSpPr/>
          <p:nvPr/>
        </p:nvGrpSpPr>
        <p:grpSpPr>
          <a:xfrm>
            <a:off x="2712960" y="1700280"/>
            <a:ext cx="6504120" cy="1871640"/>
            <a:chOff x="2712960" y="1700280"/>
            <a:chExt cx="6504120" cy="1871640"/>
          </a:xfrm>
        </p:grpSpPr>
        <p:pic>
          <p:nvPicPr>
            <p:cNvPr id="132" name="AutoShape 6" descr=""/>
            <p:cNvPicPr/>
            <p:nvPr/>
          </p:nvPicPr>
          <p:blipFill>
            <a:blip r:embed="rId4"/>
            <a:stretch/>
          </p:blipFill>
          <p:spPr>
            <a:xfrm>
              <a:off x="2712960" y="1700280"/>
              <a:ext cx="65041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02040" y="1989000"/>
              <a:ext cx="59259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Развивать устойчивый интере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к знаниям и потребность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Verdana"/>
                </a:rPr>
                <a:t>в их самостоятельном поиск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стал умным и образованным, необходимо прежде всего  заботиться о его духовном и телесном здоровье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хотим, чтобы ребенок любил учиться, надо сделать учение веселым и  радостным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04031"/>
                </a:solidFill>
                <a:latin typeface="Verdana"/>
              </a:rPr>
              <a:t>Если мы  хотим, чтобы ребенок вырос сильной личностью, надо сохранять и развивать его уникальность и неповторимость.</a:t>
            </a: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1214280" y="26028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ДАГОГ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АКСИ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018-F2FB-453D-9533-3286E8E5CB4C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85840" y="2142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3"/>
          <p:cNvGrpSpPr/>
          <p:nvPr/>
        </p:nvGrpSpPr>
        <p:grpSpPr>
          <a:xfrm>
            <a:off x="2309760" y="1603440"/>
            <a:ext cx="3726000" cy="4022640"/>
            <a:chOff x="2309760" y="1603440"/>
            <a:chExt cx="3726000" cy="4022640"/>
          </a:xfrm>
        </p:grpSpPr>
        <p:pic>
          <p:nvPicPr>
            <p:cNvPr id="96" name="AutoShape 3" descr=""/>
            <p:cNvPicPr/>
            <p:nvPr/>
          </p:nvPicPr>
          <p:blipFill>
            <a:blip r:embed="rId1"/>
            <a:stretch/>
          </p:blipFill>
          <p:spPr>
            <a:xfrm>
              <a:off x="2309760" y="1603440"/>
              <a:ext cx="372600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238560" y="2608200"/>
              <a:ext cx="186516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ОБЩЕ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АЗВИТИ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КАЖДОГО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tylo"/>
                </a:rPr>
                <a:t>РЕБЕНК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4"/>
          <p:cNvSpPr/>
          <p:nvPr/>
        </p:nvSpPr>
        <p:spPr>
          <a:xfrm>
            <a:off x="250920" y="404640"/>
            <a:ext cx="3986280" cy="914400"/>
          </a:xfrm>
          <a:prstGeom prst="cloudCallout">
            <a:avLst>
              <a:gd name="adj1" fmla="val 29194"/>
              <a:gd name="adj2" fmla="val 16665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tylo"/>
              </a:rPr>
              <a:t>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9280" y="2819520"/>
            <a:ext cx="1878120" cy="1218960"/>
          </a:xfrm>
          <a:prstGeom prst="cloudCallout">
            <a:avLst>
              <a:gd name="adj1" fmla="val 92606"/>
              <a:gd name="adj2" fmla="val -876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50920" y="5373720"/>
            <a:ext cx="2814480" cy="1285920"/>
          </a:xfrm>
          <a:prstGeom prst="cloudCallout">
            <a:avLst>
              <a:gd name="adj1" fmla="val 58097"/>
              <a:gd name="adj2" fmla="val -64935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Stylo"/>
              </a:rPr>
              <a:t>чув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227640" y="2924280"/>
            <a:ext cx="2667240" cy="990360"/>
          </a:xfrm>
          <a:prstGeom prst="cloudCallout">
            <a:avLst>
              <a:gd name="adj1" fmla="val -77449"/>
              <a:gd name="adj2" fmla="val -949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019920" y="457200"/>
            <a:ext cx="2743200" cy="1143000"/>
          </a:xfrm>
          <a:prstGeom prst="cloudCallout">
            <a:avLst>
              <a:gd name="adj1" fmla="val -74814"/>
              <a:gd name="adj2" fmla="val 155726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156360" y="5373720"/>
            <a:ext cx="2590920" cy="914400"/>
          </a:xfrm>
          <a:prstGeom prst="cloudCallout">
            <a:avLst>
              <a:gd name="adj1" fmla="val -83680"/>
              <a:gd name="adj2" fmla="val -151069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tylo"/>
              </a:rPr>
              <a:t>навыки</a:t>
            </a:r>
            <a:r>
              <a:rPr b="1" lang="ru-RU" sz="2400" spc="-1" strike="noStrike">
                <a:solidFill>
                  <a:srgbClr val="000000"/>
                </a:solidFill>
                <a:latin typeface="Styl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1617840"/>
            <a:ext cx="8715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Задачи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создать условия для развития образовательных способностей личности;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овысить интерес к творчеству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Формы и методы работы: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роки окружающего мира, литературы, изо, музыки, физической культуры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исследовательская деятельность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едметные недели</a:t>
            </a: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Мероприятия:   </a:t>
            </a:r>
            <a:r>
              <a:rPr b="1" lang="ru-RU" sz="16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олимпиад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проведение научно – практических конференций 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участие в конкурсах защиты МАН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4031"/>
                </a:solidFill>
                <a:latin typeface="Verdana"/>
              </a:rPr>
              <a:t>Ожидаемый результат: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104031"/>
                </a:solidFill>
                <a:latin typeface="Verdana"/>
              </a:rPr>
              <a:t>формирование у учащихся гражданских компетентностей, духовно – нравственных ценностей, экономического мышления, нравственных идеалов и правовых норм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5" name="Заголовок 3" descr=""/>
          <p:cNvPicPr/>
          <p:nvPr/>
        </p:nvPicPr>
        <p:blipFill>
          <a:blip r:embed="rId9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706320" y="-554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</a:t>
            </a:r>
            <a:r>
              <a:rPr b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правосознание, способность к осознанию своих прав и прав другого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культуру проявления гражданской позиции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у учащихся систему знаний, уважения и интереса к государственным символам Украин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;                        ролевые и деловые игры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;                                 акции и др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накомство с государственной символикой, школьной символико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 ко Дню Конституци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Люди мира на минуту встаньте!» ко дню памяти погибших во время В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 в муз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щешкольные акции: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Дом без одиночества» (ко дню пожилого человека); «Милосердие» (ко дню инвалидов);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Протяни руку другу» (сбор вещей для детей, особо нуждающихся в социальной поддержке)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матические классные часы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: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Человек и профессия»; 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«Кем быть и каким быть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Ожидаемый результат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гармоничное развитие личности, ее успешная социализация; воспитание школьников в духе демократических ценностей; выработка и реализация умений и навыков активного и ответственного участия в жизни общества и государства, формирование высокого уровня правовой, политической культуры, культуры прав человек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186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8144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Задачи: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ть условия для самореализации каждого учени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азвить  лидерские кач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научить сотрудничать  с социумом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включить  школьников в реальные социально значимые дела.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форум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тренинг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конкурс «Лучший класс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посвящение в пятикласс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рейд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Что у вас, ребята в рюкзаках?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«Школьная форм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организация дежурства по классу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</a:rPr>
              <a:t>создание интегрированной системы воспитания и обучения, способствующей развитию личности; готовность выпускников к жизни и труду в условиях демократического обществ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749160" y="648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формировать  у учащихся понимания необходимости изучения прав человека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пособствовать профилактике противоправного поведения;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учащихся  в духе уважения прав и свобод других люде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ить всестороннюю информированность о правах и свободах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ть  дисциплинированность, законопослушность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лассные час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беседы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круглые столы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ак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тематических классных час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раль и закон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Мои права, мои  обязанности»;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«Закон обо мне и мне, о законе» и др.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 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беспечение условий для формирования правовой компетентности молодых граждан Украины, социализацию личности через развитие у учащихся высокой гражданственности, правового сознания, чувства верности своему Отечеству, критического и преобразующего отношения к социальной действительности, а также готовности к реализации своих прав и выполнению конституционных обяза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6480" y="79200"/>
            <a:ext cx="8852040" cy="125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твердить  в сознании учащихся  гражданские, правовые и общечеловеческие ценности, взгляды  и убеждени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ивлечь учащихся к работе по возрождению, сохранению и приумножению культурных, духовно-нравственных ценностей, накопленных поколениями Украины  и  Донбасса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ть благоприятные условия для выражения и применения своих художественных способност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, фестивали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работа кружков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церты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творческих конкурсах разного уровня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сещение выставок и театральных спектаклей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праздника  «Проводы Масленицы»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выставок детского творчества.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buSzPct val="25303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работе кружков      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   </a:t>
            </a:r>
            <a:r>
              <a:rPr b="0" lang="ru-RU" sz="13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зрождение, сохранение и приумножение культурных, духовно-нравственных ценностей, накопленных поколениями Украины и  Донбасса; воспитание у учащихся  вкуса читателя, слушателя, зрителя; формирование  умения, потребности и привычки  создавать прекрасное</a:t>
            </a:r>
            <a:endParaRPr b="0" lang="en-US" sz="13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ать историю родного края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у обучающихся позицию «Я – гражданин»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ировать экологическое поведени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экскурсии, выставк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конкурс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трудовые десанты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походов, экскурсий по родному  краю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конкурсах сочинений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участие в благоустройстве школьной территории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выставок детского творчества («Вместо Елочки – праздничный букет»)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изучение истории родного края и города на уроках 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: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ание у обучающихся любви к родному краю как к своей малой Родине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Задачи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оспитывать культуру семейных отношений, позитивных семейных ценност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овышать педагогическую и психологическую компетенцию родител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включение родителей в работу по реализации целевой программы воспитательной системы гимназ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Формы и методы работы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е собрания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индивидуальные консультаци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вместные праздник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Мероприятия: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родительский лектор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создание презентаций «Профессии моих родителей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азднование Дня матери: организация выставок «Руками мамы», выставки рисунков «Профессия моей мамы», «Портрет моей мамы», фотоконкурса «Мамины глаза»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рганизация семейных классных праздников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родительских конференций 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проведение классных родительских собр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открытых двере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День знаний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жидаемый результат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104031"/>
                </a:solidFill>
                <a:latin typeface="Verdana"/>
                <a:ea typeface="Times New Roman"/>
              </a:rPr>
              <a:t>осознание обучающимися семьи как важнейшей жизненной ценности</a:t>
            </a:r>
            <a:endParaRPr b="0" lang="en-US" sz="1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19:20Z</dcterms:created>
  <dc:creator/>
  <dc:description/>
  <dc:language>en-US</dc:language>
  <cp:lastModifiedBy/>
  <dcterms:modified xsi:type="dcterms:W3CDTF">2011-01-16T17:21:08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1049</vt:lpwstr>
  </property>
</Properties>
</file>