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4332-7D35-448D-863C-474EA18999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FB28-8105-4FFC-AB13-9E62878BFA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0D12-0A17-4A68-9D96-CC4C2CFF45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819-8145-4F98-B9D0-864280AF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CF4-CD8D-4AAD-88FA-F8016040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6EB-4CBB-4DA3-95E6-71168D39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5B1-6C7D-47F7-AC98-390A4D11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9F1B-7F57-4FF5-9A10-42173F57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CE99-2656-4A54-BC25-C429147B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5F8E-182A-49F2-8BAA-47F23836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CD68-4643-4BD5-AA49-ACFA5AD3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346A-2C3D-4D20-BFB0-68D5F7C9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DA08-F8A8-4F73-B3A3-C8C0FC09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5157-6BB8-4ED8-97B9-6EDA6F5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1D6-5FFE-44E4-9195-369AD1B7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F5AE-BCDF-4DD4-98E2-876DE733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7374-F9C2-42E5-98A2-CA3BA85C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70C7-9290-4768-B4C7-CE200C5F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F206-5037-4B15-9463-528681A1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496C-15DB-46CD-98CD-EDCE2D47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01D-6475-4FEE-AECC-B52644DF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F3F-AD92-4227-AAE4-AF4C9AB6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381-21AC-41EC-9A6D-B7770B8F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1C9-4C21-40E8-B1B9-1DDCB470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DF0-3437-42C6-B366-18B98003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5FF-D8A8-49B7-9A44-3564440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D2F-77BF-4B44-B939-6463239E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f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9f7b9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1F1F-535F-4A3E-AFB9-95685B721D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f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9f7b9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DABE-FBEB-4384-9175-38AFC7516E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7120" y="2286000"/>
            <a:ext cx="621504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спитание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итуацией успеха</a:t>
            </a: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ступление на Педсовет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57160" y="4714920"/>
            <a:ext cx="721512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лахова Светлана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БОУ СОШ №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1928880" y="642960"/>
            <a:ext cx="6715080" cy="128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877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00cc"/>
                    </a:gs>
                  </a:gsLst>
                  <a:lin ang="5400000"/>
                </a:gradFill>
                <a:latin typeface="Arial"/>
              </a:rPr>
              <a:t>Успех порождает успе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00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1" name="Picture 5" descr="C:\Downloads\8a9007d6eb73b482f79821ede54a06cd.jpg"/>
          <p:cNvPicPr/>
          <p:nvPr/>
        </p:nvPicPr>
        <p:blipFill>
          <a:blip r:embed="rId1"/>
          <a:srcRect l="0" t="0" r="8213" b="3966"/>
          <a:stretch/>
        </p:blipFill>
        <p:spPr>
          <a:xfrm>
            <a:off x="6286680" y="2643120"/>
            <a:ext cx="2643120" cy="3957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Downloads\2.jpg"/>
          <p:cNvPicPr/>
          <p:nvPr/>
        </p:nvPicPr>
        <p:blipFill>
          <a:blip r:embed="rId2"/>
          <a:stretch/>
        </p:blipFill>
        <p:spPr>
          <a:xfrm>
            <a:off x="0" y="0"/>
            <a:ext cx="2000160" cy="2079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857680" y="121428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се мы очень разные, многообразие человеческих индивидуальностей поистине неисчерпаемо. Но все мы стремимся к успех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96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44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44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емократический стиль руковод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венные формы побуждения к действию (совет, просьб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уждение к  самостоятельности,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ренность взаимоотнош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живание неудач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сть за успехи каждого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ение личности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комфортного микроклимата в клас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ка полезных начинаний каждого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е инициативы и творч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зание поддержки  каждому  ребе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? ? 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жно ли создать ситуацию успеха для всех учащихся сраз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жно ли ожидать, что школьники одинаково отреагируют на предложенные учителем приемы  и условия?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! ! 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х сугубо индивидуал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имость его определяется нормами, установленными заранее: учащийся каждый раз вынужден сверять свои достижения с предложенным уровн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Схема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«Неожиданная рад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ёмы создания ситуации успех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Даю шанс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дготовленные педагогические ситуации, при которых ребёнок получает возможность неожиданно раскрыть для самого себя собственные возмож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Исповед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этот приём можно применять в тех случаях, когда есть надежда, что искреннее обращение учителя к лучшим чувствам детей получит понимание, вызовет ответный откл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Лестница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итуация, когда учитель постепенно ведёт ученика вверх, поднимаясь с ним по ступеням знаний, психологического самоопределения, обретения веры в себя и окруж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11280" y="285480"/>
            <a:ext cx="813744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бщая радость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ёмы создания ситу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Следуй за нами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даёт возможность разбудить дремлющую мысль ученика, дать ему возможность обрести радость признания в себе интеллектуальных сил. Реакция окружающих будет служить для него одновременно и сигналом пробуждения и стимулом познания, и результатом уси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Эмоциональный всплеск», «Заражение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учитель должен найти способ разбудить интеллектуальный потенциал, который скрывается в каждом ученике, помочь родить усилие, которое родит мысль, а мысль превратится в знание и ответное чувство признательности. В конечном итоге появится вера в себя, вера в успе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675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Радость познан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ёмы создания ситуации успех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Эврика»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уть состоит в том, чтобы создать условия, при которых ребёнок, выполняя учебное задание, неожиданно для себя пришёл к выводу, раскрывающему неизвестные для него ранее возмо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Линия горизонта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однажды открыв для себя увлекательность поиска, погружения в мир неведомого, школьник может уже постоянно стремиться к поиску, не считаясь с трудностями, неудач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следовательность операций создания ситуации успех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ие стра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могает преодолеть неуверенность в собственных сила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ансирование успешного результа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могает учителю выразить свою убеждённость в том, что его  ученик  обязательно справиться с поставленной задач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рытое инструктирование ребёнка в способах и формах совершенствования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могает ученику избежать пораже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ение моти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казывает ребёнку ради чего, ради кого совершается эта деятельность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ая исключи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обозначает важность усилий ребён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билизация активности или  педагогическое вну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буждает к выполнению конкретных действи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оценка дет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могает эмоционально пережить успех не результата в целом,  а какой-то отдельной детал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начение портфоли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9001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ситуации успеха для каждого уче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самооценки и уверенности в собственных    возможностя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ытие индивидуальных способ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его самореализации в различных област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познавательных интере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готовности к самостоятельному позн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ка на творческую деятельнос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мотивации дальнейшего творческого рос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ение навыков саморефлек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умения анализировать собственные интере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ключение в процесс воспитания родител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ие конференции, телефонные звонки, письма с описанием успехов их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в общении с ребен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родителей с новыми для них тактиками и стратегиями воспитания, чтобы пользоваться ими до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ение психологической и педагогической компетентностей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4200" y="1999800"/>
            <a:ext cx="8686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ожительн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трицате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 создания ситуации успеха                    во внеуро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182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4560" y="15300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ая заинтересованность уче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общеучебных умений и навыков учащего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заимоотношения, сложившиеся с конкретным учителем, стиль общения педаго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арактер взаимоотношений, принятый в конкретном ученическом коллективе, класс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ношения родителей или других референтных лиц к самому учебно-воспитательному процес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иль общения между педагогами, стиль преподавания, принятый в данной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j0301252"/>
          <p:cNvPicPr/>
          <p:nvPr/>
        </p:nvPicPr>
        <p:blipFill>
          <a:blip r:embed="rId1"/>
          <a:stretch/>
        </p:blipFill>
        <p:spPr>
          <a:xfrm>
            <a:off x="7313760" y="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одзаголовок 2"/>
          <p:cNvSpPr/>
          <p:nvPr/>
        </p:nvSpPr>
        <p:spPr>
          <a:xfrm>
            <a:off x="428760" y="107172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Администрации и педагогическому коллективу школы в своей работе ориентироваться на правила педагогической этики при работе с учащими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Каждому педагогу  школы взять  за основу предложенный  алгоритм создания ситуации успеха на уроках и во внеуроч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Классным руководителям начать  работу  по созданию школьного портфолио уче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Использовать метод проектов во внеуроч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Организовать кружки «Юный математик», «Грамотей», «Знатоки родного края» и др. в рамках проекта «Одаренные де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Проводить предметные олимпиады, начиная с 3-го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Руководителям МО организовать взаимопосещение уроков учителей с целью обмена опытом по данной пробл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9136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Решение педсов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524720" cy="14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веты знаменитых людей тем,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хочет достичь успеха…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ь уверен в своих сил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сказать себе: «Я должен победить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жалей себя и много работа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быть не таким как все. Ты должен уметь выделиться из толпы и стать лучшим в чем-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добиваться цели. Не бойся признаться себе  в эгоистичности и расчетливости в достижении своей цели. А когда ты добьешься чего-то, ты сможешь реально помогать друг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владеть собой. Добивайся того, что наметил. Эмоции и настроение  не должны тебе меш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врати свою мечту в реальность. Умей сконцентрировать свои силы на глав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останавливайся на достигнутом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вой завтрашний успех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ачинается сегодня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5" descr="Копия 13"/>
          <p:cNvPicPr/>
          <p:nvPr/>
        </p:nvPicPr>
        <p:blipFill>
          <a:blip r:embed="rId1"/>
          <a:stretch/>
        </p:blipFill>
        <p:spPr>
          <a:xfrm>
            <a:off x="755640" y="1165320"/>
            <a:ext cx="7589880" cy="56926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2787840" y="314316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Современный курс практической психологии или как добиваться успеха. Шапарь В.Б. – Издательство «Клуб семейного досуга», Харьков, Белгород,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Я такой как все. Тиньков О. – М:, ИП Анисимов Олег Юрьевич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Как подобрать ключик к любому человеку: 30 самых важных правил. Большакова Л. – М:, АСТ; Владимир: ВКТ, 20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estival.1september.ru/articles/518855/ - создание ситуации успеха (Гладина О.В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referat.ru/referats/view/18020 - создание ситуации успеха, реферат (Сосновская Але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cheba.ru/referats/4533.html - создание ситуации успеха, докла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psylive.ru/articles/1896_sozdanie-situacii-uspeha.aspx - создание ситуации успеха (Белкин А.С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zankov.ru/exp/article=1001 – создание ситуации успеха в развитии школьников (Едкова М.А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zanimatika.ru/bestsennaya-kopilka/situatsiya-uspeha.html - ситуация успех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bestreferat.ru/referat-76236.html - к вопросу о технологии создания ситуации успеха (Лопатин А.Р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ushumun2.narod.ru/pedsovet.htm - обучение и воспитание ситуацией успех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rusedu.ru/detail_6574.html - организация ситуации успеха в учебно-воспитательном процесс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5480" y="642960"/>
            <a:ext cx="86439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8164440"/>
                <a:tab algn="l" pos="8458200"/>
                <a:tab algn="l" pos="9398160"/>
                <a:tab algn="l" pos="103377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туац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это сочетание условий и обстоятельств, которые обеспечивают успе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8164440"/>
                <a:tab algn="l" pos="8458200"/>
                <a:tab algn="l" pos="9398160"/>
                <a:tab algn="l" pos="103377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спе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результат такой ситуации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х прежде всего связан с чувством радости, эмоционального подъема, которые испытывает человек в результате выполненной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8164440"/>
                <a:tab algn="l" pos="8458200"/>
                <a:tab algn="l" pos="9398160"/>
                <a:tab algn="l" pos="103377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туация успех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фактор развития лич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хема 3" descr=""/>
          <p:cNvPicPr/>
          <p:nvPr/>
        </p:nvPicPr>
        <p:blipFill>
          <a:blip r:embed="rId1"/>
          <a:stretch/>
        </p:blipFill>
        <p:spPr>
          <a:xfrm>
            <a:off x="6480" y="341280"/>
            <a:ext cx="9137520" cy="60357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j0343343.wmf"/>
          <p:cNvPicPr/>
          <p:nvPr/>
        </p:nvPicPr>
        <p:blipFill>
          <a:blip r:embed="rId2"/>
          <a:stretch/>
        </p:blipFill>
        <p:spPr>
          <a:xfrm>
            <a:off x="6643800" y="4214880"/>
            <a:ext cx="23000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14200" y="100008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портивных секций, интеллектуальных кружков, клубов по интересам (система ДО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ые олимпиа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ая раб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 класса (часы общения, тренинги, анкетировани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ы, викторины, соревнования, выстав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ортфолио ученика (класса),                 защита портфоли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е отчеты на родительских собра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неурочная деятельност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зитивные момен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живание успеха внушает человеку уверенность в собственных сил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вляется желание вновь достигнуть хороших результатов, чтобы еще раз пережить радость от успех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ительные эмоции, рождающиеся в результате успешной деятельности, создают ощущение внутреннего благополучия, что, в свою очередь, благотворно влияет на общее отношение человека к окружающему ми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егативные момен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480" y="980640"/>
            <a:ext cx="8643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х, доставшийся ценой небольших усилий, может привести к переоценке, точнее, к завышенной оценке своих возмож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сильным переживанием какой-либо эмоции обязательно следует расслабление: если же в этот период предложить человеку какую-то деятельность, то она, скорее всего, будет менее успешна, чем предыдущ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живание успеха может быть омрачено для субъекта деятельности, если результат, важный и значимый для него самого, не будет адекватно оценен другими люд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моция успеха не явится сильным переживанием, если результаты деятельности не значимы для ее субъ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7" descr="CRANINST.WMF"/>
          <p:cNvPicPr/>
          <p:nvPr/>
        </p:nvPicPr>
        <p:blipFill>
          <a:blip r:embed="rId1"/>
          <a:srcRect l="0" t="0" r="-14270" b="27343"/>
          <a:stretch/>
        </p:blipFill>
        <p:spPr>
          <a:xfrm>
            <a:off x="1428840" y="214200"/>
            <a:ext cx="7286400" cy="5472360"/>
          </a:xfrm>
          <a:prstGeom prst="rect">
            <a:avLst/>
          </a:prstGeom>
          <a:ln w="0">
            <a:noFill/>
          </a:ln>
        </p:spPr>
      </p:pic>
      <p:pic>
        <p:nvPicPr>
          <p:cNvPr id="236" name="Схема 4" descr=""/>
          <p:cNvPicPr/>
          <p:nvPr/>
        </p:nvPicPr>
        <p:blipFill>
          <a:blip r:embed="rId2"/>
          <a:stretch/>
        </p:blipFill>
        <p:spPr>
          <a:xfrm>
            <a:off x="2139840" y="1620720"/>
            <a:ext cx="4821480" cy="445140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13"/>
          <p:cNvSpPr/>
          <p:nvPr/>
        </p:nvSpPr>
        <p:spPr>
          <a:xfrm rot="21051000">
            <a:off x="636120" y="5251320"/>
            <a:ext cx="1428840" cy="9288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дупреждает и угрожает  по невыполнению требований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Заголовок 13"/>
          <p:cNvSpPr/>
          <p:nvPr/>
        </p:nvSpPr>
        <p:spPr>
          <a:xfrm>
            <a:off x="2428920" y="5143680"/>
            <a:ext cx="1285920" cy="9284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танавливает внимание на негативн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8" descr="BS01634_.WMF"/>
          <p:cNvPicPr/>
          <p:nvPr/>
        </p:nvPicPr>
        <p:blipFill>
          <a:blip r:embed="rId3"/>
          <a:stretch/>
        </p:blipFill>
        <p:spPr>
          <a:xfrm>
            <a:off x="1768320" y="5913360"/>
            <a:ext cx="621000" cy="6699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0" descr="BS01634_.WMF"/>
          <p:cNvPicPr/>
          <p:nvPr/>
        </p:nvPicPr>
        <p:blipFill>
          <a:blip r:embed="rId4"/>
          <a:stretch/>
        </p:blipFill>
        <p:spPr>
          <a:xfrm>
            <a:off x="3267000" y="5913360"/>
            <a:ext cx="622440" cy="669960"/>
          </a:xfrm>
          <a:prstGeom prst="rect">
            <a:avLst/>
          </a:prstGeom>
          <a:ln w="0">
            <a:noFill/>
          </a:ln>
        </p:spPr>
      </p:pic>
      <p:sp>
        <p:nvSpPr>
          <p:cNvPr id="241" name="Заголовок 13"/>
          <p:cNvSpPr/>
          <p:nvPr/>
        </p:nvSpPr>
        <p:spPr>
          <a:xfrm rot="795000">
            <a:off x="3944520" y="5294160"/>
            <a:ext cx="1428840" cy="9288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ёт прозвища (плохой, ленивый 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Заголовок 13"/>
          <p:cNvSpPr/>
          <p:nvPr/>
        </p:nvSpPr>
        <p:spPr>
          <a:xfrm rot="20940600">
            <a:off x="5638320" y="5303520"/>
            <a:ext cx="1009800" cy="792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 говорит за де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Заголовок 13"/>
          <p:cNvSpPr/>
          <p:nvPr/>
        </p:nvSpPr>
        <p:spPr>
          <a:xfrm>
            <a:off x="6929280" y="5429160"/>
            <a:ext cx="1500480" cy="857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ет недовольство учеником, группой уче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Рисунок 14" descr="BS01634_.WMF"/>
          <p:cNvPicPr/>
          <p:nvPr/>
        </p:nvPicPr>
        <p:blipFill>
          <a:blip r:embed="rId5"/>
          <a:stretch/>
        </p:blipFill>
        <p:spPr>
          <a:xfrm>
            <a:off x="4913280" y="5979960"/>
            <a:ext cx="615960" cy="6764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5" descr="BS01634_.WMF"/>
          <p:cNvPicPr/>
          <p:nvPr/>
        </p:nvPicPr>
        <p:blipFill>
          <a:blip r:embed="rId6"/>
          <a:stretch/>
        </p:blipFill>
        <p:spPr>
          <a:xfrm>
            <a:off x="6267600" y="5913360"/>
            <a:ext cx="620640" cy="669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6" descr="BS01634_.WMF"/>
          <p:cNvPicPr/>
          <p:nvPr/>
        </p:nvPicPr>
        <p:blipFill>
          <a:blip r:embed="rId7"/>
          <a:stretch/>
        </p:blipFill>
        <p:spPr>
          <a:xfrm>
            <a:off x="7985160" y="6053040"/>
            <a:ext cx="61596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тиль взаимодейств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а и учащегос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2" marL="1017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3105"/>
                </a:solidFill>
                <a:latin typeface="Arial"/>
              </a:rPr>
              <a:t>авторитарно- догматичес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3105"/>
                </a:solidFill>
                <a:latin typeface="Arial"/>
              </a:rPr>
              <a:t>сочувствующий или попустительс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3105"/>
                </a:solidFill>
                <a:latin typeface="Arial"/>
              </a:rPr>
              <a:t>демократически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Рисунок 4" descr="j0343341.wmf"/>
          <p:cNvPicPr/>
          <p:nvPr/>
        </p:nvPicPr>
        <p:blipFill>
          <a:blip r:embed="rId1"/>
          <a:stretch/>
        </p:blipFill>
        <p:spPr>
          <a:xfrm>
            <a:off x="6572160" y="2428920"/>
            <a:ext cx="1855800" cy="18572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j0343299.wmf"/>
          <p:cNvPicPr/>
          <p:nvPr/>
        </p:nvPicPr>
        <p:blipFill>
          <a:blip r:embed="rId2"/>
          <a:stretch/>
        </p:blipFill>
        <p:spPr>
          <a:xfrm>
            <a:off x="5857920" y="4572000"/>
            <a:ext cx="16430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3:42:23Z</dcterms:created>
  <dc:creator>Admin</dc:creator>
  <dc:description/>
  <dc:language>en-US</dc:language>
  <cp:lastModifiedBy>user</cp:lastModifiedBy>
  <dcterms:modified xsi:type="dcterms:W3CDTF">2012-01-13T16:00:49Z</dcterms:modified>
  <cp:revision>33</cp:revision>
  <dc:subject/>
  <dc:title>Слайд 1</dc:title>
</cp:coreProperties>
</file>