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246D-AD3B-454A-B229-7096BDF04F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CEC-C425-479B-B8C1-07A8AEFD98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AFFA-6AAD-4AE7-9690-3C14173CB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677-3388-4F59-A8AD-A3A38F2C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33-F1DE-493B-A7E5-0E67956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F94-F60D-498C-91FD-D3FBDFD5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822-20B2-4D34-8342-4D07F969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C2D-7C1E-4DED-B893-901F6353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A76-8350-431E-9963-77B26D5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FA6-80BD-4D17-81C4-2E8717D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F86-CDEF-4776-8D68-B8D10189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3F75-B4FD-487D-B2F2-E9C2C52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193-A47B-49FD-B20C-2515785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CD1D-55A9-46FA-9297-27BD85B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F2E-147A-4271-9D1F-C523EB19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A07-B81D-4AD6-BE3E-4BA2D80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F83-6A2A-4C06-BB90-2CA6E52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0B7A-6C22-4A65-B77A-1CB493F2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BAD5-272F-4241-A6FF-4BA722B0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42A8-E7EB-485D-9587-0C69C7F3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AEF-4811-4F5D-85DC-5A3534B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DC0-1C41-477E-9BDA-82D2FB3F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E44-5F96-466D-89A2-E293996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17E-BDDB-4142-8F78-723818F5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502-188C-4254-875D-8048EBD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302-6E08-4B43-ACD0-F84553B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EC0-FAB0-43D1-85D7-BA24AF1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40E2-5ED5-4012-A1E1-7EBDAC3D9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9f7b9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9f7b9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9f7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9f7b9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9f7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24A9-D311-4309-B709-1ED40F888B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2286000"/>
            <a:ext cx="621504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спитание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итуацией успеха</a:t>
            </a: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7160" y="4714920"/>
            <a:ext cx="721512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ахова Светла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СОШ №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928880" y="642960"/>
            <a:ext cx="67150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877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Arial"/>
              </a:rPr>
              <a:t>Успех порождает успе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1" name="Picture 5" descr="C:\Downloads\8a9007d6eb73b482f79821ede54a06cd.jpg"/>
          <p:cNvPicPr/>
          <p:nvPr/>
        </p:nvPicPr>
        <p:blipFill>
          <a:blip r:embed="rId1"/>
          <a:srcRect l="0" t="0" r="8213" b="3966"/>
          <a:stretch/>
        </p:blipFill>
        <p:spPr>
          <a:xfrm>
            <a:off x="6286680" y="2643120"/>
            <a:ext cx="2643120" cy="395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wnloads\2.jpg"/>
          <p:cNvPicPr/>
          <p:nvPr/>
        </p:nvPicPr>
        <p:blipFill>
          <a:blip r:embed="rId2"/>
          <a:stretch/>
        </p:blipFill>
        <p:spPr>
          <a:xfrm>
            <a:off x="0" y="0"/>
            <a:ext cx="2000160" cy="2079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12142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се мы очень разные, многообразие человеческих индивидуальностей поистине неисчерпаемо. Но все мы стремимся к успех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4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4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емократический стиль руковод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ые формы побуждения к действию (совет, просьб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ение к  самостоятельности,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ренность взаимоотнош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неудач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 за успехи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е личности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комфортного микроклимата в клас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ка полезных начинаний кажд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е инициативы и твор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оддержки  каждому  ребе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? ? 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создать ситуацию успеха для всех учащихся сраз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ли ожидать, что школьники одинаково отреагируют на предложенные учителем приемы  и условия?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! ! 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сугубо индивидуал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мость его определяется нормами, установленными заранее: учащийся каждый раз вынужден сверять свои достижения с предложенным уровн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хема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Неожиданная рад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Даю шанс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дготовленные педагогические ситуации, при которых ребёнок получает возможность неожиданно раскрыть для самого себя собственные возмож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Исповед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этот приём можно применять в тех случаях, когда есть надежда, что искреннее обращение учителя к лучшим чувствам детей получит понимание, вызовет ответный отк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Лестница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итуация, когда учитель постепенно ведёт ученика вверх, поднимаясь с ним по ступеням знаний, психологического самоопределения, обретения веры в себя и 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11280" y="285480"/>
            <a:ext cx="813744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бщая радость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Следуй за нами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аёт возможность разбудить дремлющую мысль ученика, дать ему возможность обрести радость признания в себе интеллектуальных сил. Реакция окружающих будет служить для него одновременно и сигналом пробуждения и стимулом познания, и результатом уси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Эмоциональный всплеск», «Зараже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учитель должен найти способ разбудить интеллектуальный потенциал, который скрывается в каждом ученике, помочь родить усилие, которое родит мысль, а мысль превратится в знание и ответное чувство признательности. В конечном итоге появится вера в себя, вера в успе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Радость позна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ёмы создания ситуации успех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Эврика»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уть состоит в том, чтобы создать условия, при которых ребёнок, выполняя учебное задание, неожиданно для себя пришёл к выводу, раскрывающему неизвестные для него ранее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Линия горизонт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однажды открыв для себя увлекательность поиска, погружения в мир неведомого, школьник может уже постоянно стремиться к поиску, не считаясь с трудностями, неудач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следовательность операций создания ситуации успех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ие стра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преодолеть неуверенность в собственных сил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ансирование успешного результа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ителю выразить свою убеждённость в том, что его  ученик  обязательно справиться с поставленной задач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рытое инструктирование ребёнка в способах и формах совершенствования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могает ученику избежать пораж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мо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казывает ребёнку ради чего, ради кого совершается эта деятельность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ая исключ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обозначает важность усилий ребён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билизация активности или  педагогическое вну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буждает к выполнению конкретных действи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оценка де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могает эмоционально пережить успех не результата в целом,  а какой-то отдельной детал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начение портфоли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9001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для каждого уче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самооценки и уверенности в собственных    возможностя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ытие индивидуальных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его самореализации в различных област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ых интере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готовности к самостоятельному позн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а на творческую деятельнос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отивации дальнейшего творческого ро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 навыков саморефлек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анализировать собственные интере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ключение в процесс воспитания родител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ие конференции, телефонные звонки, письма с описанием успехов их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в общении с ребен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родителей с новыми для них тактиками и стратегиями воспитания, чтобы пользоваться ими до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психологической и педагогической компетентностей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999800"/>
            <a:ext cx="8686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ожите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 создания ситуации успеха                    во внеуро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182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4560" y="1530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заинтересованность уче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общеучебных умений и навыков учащего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аимоотношения, сложившиеся с конкретным учителем, стиль общения педаго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арактер взаимоотношений, принятый в конкретном ученическом коллективе, клас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ношения родителей или других референтных лиц к самому учебно-воспитательному процес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ь общения между педагогами, стиль преподавания, принятый в данной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j0301252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одзаголовок 2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Администрации и педагогическому коллективу школы в своей работе ориентироваться на правила педагогической этики при работе с учащими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аждому педагогу  школы взять  за основу предложенный  алгоритм создания ситуации успеха на уроках и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Классным руководителям начать  работу  по созданию школьного портфолио уче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Использовать метод проектов во внеуроч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Организовать кружки «Юный математик», «Грамотей», «Знатоки родного края» и др. в рамках проекта 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Проводить предметные олимпиады, начиная с 3-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Arial"/>
                <a:ea typeface="Arial"/>
              </a:rPr>
              <a:t>Руководителям МО организовать взаимопосещение уроков учителей с целью обмена опытом по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191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шение педсов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524720" cy="14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веты знаменитых людей тем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хочет достичь успеха…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 уверен в своих си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сказать себе: «Я должен победи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жалей себя и много работ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быть не таким как все. Ты должен уметь выделиться из толпы и стать лучшим в чем-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добиваться цели. Не бойся признаться себе  в эгоистичности и расчетливости в достижении своей цели. А когда ты добьешься чего-то, ты сможешь реально помогать друг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й владеть собой. Добивайся того, что наметил. Эмоции и настроение  не должны тебе меш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ти свою мечту в реальность. Умей сконцентрировать свои силы на глав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останавливайся на достигнуто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вой завтрашний успех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чинается сегодня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5" descr="Копия 13"/>
          <p:cNvPicPr/>
          <p:nvPr/>
        </p:nvPicPr>
        <p:blipFill>
          <a:blip r:embed="rId1"/>
          <a:stretch/>
        </p:blipFill>
        <p:spPr>
          <a:xfrm>
            <a:off x="755640" y="1165320"/>
            <a:ext cx="7589880" cy="56926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2787840" y="31431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Современный курс практической психологии или как добиваться успеха. Шапарь В.Б. – Издательство «Клуб семейного досуга», Харьков, Белгород,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Я такой как все. Тиньков О. – М:, ИП Анисимов Олег Юрьевич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ак подобрать ключик к любому человеку: 30 самых важных правил. Большакова Л. – М:, АСТ; Владимир: ВКТ, 20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estival.1september.ru/articles/518855/ - создание ситуации успеха (Гладина О.В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eferat.ru/referats/view/18020 - создание ситуации успеха, реферат (Сосновская Але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cheba.ru/referats/4533.html - создание ситуации успеха, докл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sylive.ru/articles/1896_sozdanie-situacii-uspeha.aspx - создание ситуации успеха (Белкин А.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kov.ru/exp/article=1001 – создание ситуации успеха в развитии школьников (Едкова М.А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zanimatika.ru/bestsennaya-kopilka/situatsiya-uspeha.html - ситуация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bestreferat.ru/referat-76236.html - к вопросу о технологии создания ситуации успеха (Лопатин А.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ushumun2.narod.ru/pedsovet.htm - обучение и воспитание ситуацией успех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rusedu.ru/detail_6574.html - организация ситуации успеха в учебно-воспитательном процесс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480" y="642960"/>
            <a:ext cx="86439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сочетание условий и обстоятельств, которые обеспечивают усп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пе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результат такой ситуации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х прежде всего связан с чувством радости, эмоционального подъема, которые испытывает человек в результате выполненно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8164440"/>
                <a:tab algn="l" pos="8458200"/>
                <a:tab algn="l" pos="9398160"/>
                <a:tab algn="l" pos="103377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туация успех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фактор развития лич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хема 3" descr=""/>
          <p:cNvPicPr/>
          <p:nvPr/>
        </p:nvPicPr>
        <p:blipFill>
          <a:blip r:embed="rId1"/>
          <a:stretch/>
        </p:blipFill>
        <p:spPr>
          <a:xfrm>
            <a:off x="6480" y="341280"/>
            <a:ext cx="9137520" cy="60357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j0343343.wmf"/>
          <p:cNvPicPr/>
          <p:nvPr/>
        </p:nvPicPr>
        <p:blipFill>
          <a:blip r:embed="rId2"/>
          <a:stretch/>
        </p:blipFill>
        <p:spPr>
          <a:xfrm>
            <a:off x="6643800" y="4214880"/>
            <a:ext cx="2300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14200" y="100008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портивных секций, интеллектуальных кружков, клубов по интересам (система ДО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ые олимпиа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 раб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 класса (часы общения, тренинги, анкетировани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ы, викторины, соревнования, выстав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ортфолио ученика (класса),                 защита портфоли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отчеты на родительских собра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неурочная деятельнос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зи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живание успеха внушает человеку уверенность в собственных сил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вляется желание вновь достигнуть хороших результатов, чтобы еще раз пережить радость от успех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ительные эмоции, рождающиеся в результате успешной деятельности, создают ощущение внутреннего благополучия, что, в свою очередь, благотворно влияет на общее отношение человека к окружающе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гативные мом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980640"/>
            <a:ext cx="8643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х, доставшийся ценой небольших усилий, может привести к переоценке, точнее, к завышенной оценке своих возмож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ильным переживанием какой-либо эмоции обязательно следует расслабление: если же в этот период предложить человеку какую-то деятельность, то она, скорее всего, будет менее успешна, чем предыду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 успеха может быть омрачено для субъекта деятельности, если результат, важный и значимый для него самого, не будет адекватно оценен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я успеха не явится сильным переживанием, если результаты деятельности не значимы для ее су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7" descr="CRANINST.WMF"/>
          <p:cNvPicPr/>
          <p:nvPr/>
        </p:nvPicPr>
        <p:blipFill>
          <a:blip r:embed="rId1"/>
          <a:srcRect l="0" t="0" r="-14270" b="27343"/>
          <a:stretch/>
        </p:blipFill>
        <p:spPr>
          <a:xfrm>
            <a:off x="1428840" y="214200"/>
            <a:ext cx="7286400" cy="5472360"/>
          </a:xfrm>
          <a:prstGeom prst="rect">
            <a:avLst/>
          </a:prstGeom>
          <a:ln w="0">
            <a:noFill/>
          </a:ln>
        </p:spPr>
      </p:pic>
      <p:pic>
        <p:nvPicPr>
          <p:cNvPr id="236" name="Схема 4" descr=""/>
          <p:cNvPicPr/>
          <p:nvPr/>
        </p:nvPicPr>
        <p:blipFill>
          <a:blip r:embed="rId2"/>
          <a:stretch/>
        </p:blipFill>
        <p:spPr>
          <a:xfrm>
            <a:off x="2139840" y="1620720"/>
            <a:ext cx="4821480" cy="44514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3"/>
          <p:cNvSpPr/>
          <p:nvPr/>
        </p:nvSpPr>
        <p:spPr>
          <a:xfrm rot="21051000">
            <a:off x="636120" y="525132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ает и угрожает  по невыполнению требований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Заголовок 13"/>
          <p:cNvSpPr/>
          <p:nvPr/>
        </p:nvSpPr>
        <p:spPr>
          <a:xfrm>
            <a:off x="2428920" y="5143680"/>
            <a:ext cx="1285920" cy="9284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танавливает внимание на негативн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8" descr="BS01634_.WMF"/>
          <p:cNvPicPr/>
          <p:nvPr/>
        </p:nvPicPr>
        <p:blipFill>
          <a:blip r:embed="rId3"/>
          <a:stretch/>
        </p:blipFill>
        <p:spPr>
          <a:xfrm>
            <a:off x="1768320" y="5913360"/>
            <a:ext cx="62100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0" descr="BS01634_.WMF"/>
          <p:cNvPicPr/>
          <p:nvPr/>
        </p:nvPicPr>
        <p:blipFill>
          <a:blip r:embed="rId4"/>
          <a:stretch/>
        </p:blipFill>
        <p:spPr>
          <a:xfrm>
            <a:off x="3267000" y="5913360"/>
            <a:ext cx="622440" cy="66996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3"/>
          <p:cNvSpPr/>
          <p:nvPr/>
        </p:nvSpPr>
        <p:spPr>
          <a:xfrm rot="795000">
            <a:off x="3944520" y="5294160"/>
            <a:ext cx="1428840" cy="9288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ёт прозвища (плохой, ленивый 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Заголовок 13"/>
          <p:cNvSpPr/>
          <p:nvPr/>
        </p:nvSpPr>
        <p:spPr>
          <a:xfrm rot="20940600">
            <a:off x="5638320" y="5303520"/>
            <a:ext cx="1009800" cy="792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 говорит за де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Заголовок 13"/>
          <p:cNvSpPr/>
          <p:nvPr/>
        </p:nvSpPr>
        <p:spPr>
          <a:xfrm>
            <a:off x="6929280" y="5429160"/>
            <a:ext cx="1500480" cy="857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ет недовольство учеником, группой уче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14" descr="BS01634_.WMF"/>
          <p:cNvPicPr/>
          <p:nvPr/>
        </p:nvPicPr>
        <p:blipFill>
          <a:blip r:embed="rId5"/>
          <a:stretch/>
        </p:blipFill>
        <p:spPr>
          <a:xfrm>
            <a:off x="4913280" y="5979960"/>
            <a:ext cx="615960" cy="676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5" descr="BS01634_.WMF"/>
          <p:cNvPicPr/>
          <p:nvPr/>
        </p:nvPicPr>
        <p:blipFill>
          <a:blip r:embed="rId6"/>
          <a:stretch/>
        </p:blipFill>
        <p:spPr>
          <a:xfrm>
            <a:off x="6267600" y="5913360"/>
            <a:ext cx="620640" cy="669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6" descr="BS01634_.WMF"/>
          <p:cNvPicPr/>
          <p:nvPr/>
        </p:nvPicPr>
        <p:blipFill>
          <a:blip r:embed="rId7"/>
          <a:stretch/>
        </p:blipFill>
        <p:spPr>
          <a:xfrm>
            <a:off x="7985160" y="6053040"/>
            <a:ext cx="6159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иль взаимодейств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а и учащегос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авторитарно- догматиче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сочувствующий или попуститель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3105"/>
                </a:solidFill>
                <a:latin typeface="Arial"/>
              </a:rPr>
              <a:t>демократическ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Рисунок 4" descr="j0343341.wmf"/>
          <p:cNvPicPr/>
          <p:nvPr/>
        </p:nvPicPr>
        <p:blipFill>
          <a:blip r:embed="rId1"/>
          <a:stretch/>
        </p:blipFill>
        <p:spPr>
          <a:xfrm>
            <a:off x="6572160" y="242892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j0343299.wmf"/>
          <p:cNvPicPr/>
          <p:nvPr/>
        </p:nvPicPr>
        <p:blipFill>
          <a:blip r:embed="rId2"/>
          <a:stretch/>
        </p:blipFill>
        <p:spPr>
          <a:xfrm>
            <a:off x="5857920" y="4572000"/>
            <a:ext cx="16430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3:42:23Z</dcterms:created>
  <dc:creator>Admin</dc:creator>
  <dc:description/>
  <dc:language>en-US</dc:language>
  <cp:lastModifiedBy>user</cp:lastModifiedBy>
  <dcterms:modified xsi:type="dcterms:W3CDTF">2012-01-13T16:00:49Z</dcterms:modified>
  <cp:revision>33</cp:revision>
  <dc:subject/>
  <dc:title>Слайд 1</dc:title>
</cp:coreProperties>
</file>