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13.wmf" ContentType="image/x-wmf"/>
  <Override PartName="/ppt/media/image9.png" ContentType="image/png"/>
  <Override PartName="/ppt/media/image17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4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6.wmf" ContentType="image/x-wmf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CDBC3-7B7A-4511-A936-FB7EAFCBA7D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0CAA9-99D6-49AD-846D-538CF8E8D6A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2AB56-BEB9-46EC-826E-9EF43FB5FCC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9E05-165A-4F3B-819C-20A8FBC00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C0BE-A38D-44DC-9E6B-FF1289A33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F60E-5D06-43CE-84EA-87A4DB300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3BE1-635F-4AB6-A7CC-6CAE63FAF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B5F26-3B1E-4C9E-BAD4-C330D625F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326AE-B894-46AC-9699-40EAE074F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21EF2-CF5F-4AAA-A30B-0ED794BC0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720F9-0A8F-425A-B9AF-58969ED8E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E889C-251D-48A7-9B0A-9CFDE7A7F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A37B2-83FF-49C9-A945-BBCEA9423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36F25-BD8D-486D-8E3E-031594972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201A-2333-4C04-B3B6-D67E8BEA0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28A9E-CAED-46BF-9A88-C2F0B6CDC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A907F-B543-448A-8C07-1D0ACBBCB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55FC6-60A0-4DC6-8A6F-D10EAD86B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E868C-7A01-4587-A137-5EE3568FF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A60E4-07D5-47A1-9ECE-3940789D2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4D10-A49D-40DC-ABA6-6CE0B469F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BAE5-F7ED-4DCE-B00C-9EBE6D8EF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B76F-CA13-4AF9-B41F-289B7D350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611F-9325-4F40-B37C-ACBFAA0F9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33DF-8736-45CD-909E-30FD748D8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3365-CA23-4B0D-96B5-C11328E19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AF0D-FBF8-4713-8F1E-B3D67BFE6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f7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9f7b9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9f7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9f7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9f7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9f7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9f7b9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9f7b9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9f7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9f7b9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9f7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9f7b9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9f7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46E6F-5DB1-4395-9DFB-1A15B09CD3B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f7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9f7b9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9f7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9f7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9f7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9f7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9f7b9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9f7b9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9f7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9f7b9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9f7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9f7b9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9f7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0903A-86BD-4A8D-85C2-DC5391AF0CD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57120" y="2286000"/>
            <a:ext cx="6215040" cy="1928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Arial"/>
              </a:rPr>
              <a:t>Воспитание </a:t>
            </a:r>
            <a:br>
              <a:rPr sz="4400"/>
            </a:br>
            <a:r>
              <a:rPr b="1" i="1" lang="ru-RU" sz="4400" spc="-1" strike="noStrike">
                <a:solidFill>
                  <a:srgbClr val="0000ff"/>
                </a:solidFill>
                <a:latin typeface="Arial"/>
              </a:rPr>
              <a:t>ситуацией успеха</a:t>
            </a:r>
            <a:br>
              <a:rPr sz="1600"/>
            </a:br>
            <a:br>
              <a:rPr sz="1600"/>
            </a:b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Выступление на Педсовете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857160" y="4714920"/>
            <a:ext cx="7215120" cy="192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Малахова Светлана Алексеев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учитель начальных класс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МБОУ СОШ №3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WordArt 5"/>
          <p:cNvSpPr txBox="1"/>
          <p:nvPr/>
        </p:nvSpPr>
        <p:spPr>
          <a:xfrm>
            <a:off x="1928880" y="642960"/>
            <a:ext cx="6715080" cy="1285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228770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8000"/>
                    </a:gs>
                    <a:gs pos="100000">
                      <a:srgbClr val="0000cc"/>
                    </a:gs>
                  </a:gsLst>
                  <a:lin ang="5400000"/>
                </a:gradFill>
                <a:latin typeface="Arial"/>
              </a:rPr>
              <a:t>Успех порождает успе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8000"/>
                  </a:gs>
                  <a:gs pos="100000">
                    <a:srgbClr val="0000c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221" name="Picture 5" descr="C:\Downloads\8a9007d6eb73b482f79821ede54a06cd.jpg"/>
          <p:cNvPicPr/>
          <p:nvPr/>
        </p:nvPicPr>
        <p:blipFill>
          <a:blip r:embed="rId1"/>
          <a:srcRect l="0" t="0" r="8213" b="3966"/>
          <a:stretch/>
        </p:blipFill>
        <p:spPr>
          <a:xfrm>
            <a:off x="6286680" y="2643120"/>
            <a:ext cx="2643120" cy="395784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6" descr="C:\Downloads\2.jpg"/>
          <p:cNvPicPr/>
          <p:nvPr/>
        </p:nvPicPr>
        <p:blipFill>
          <a:blip r:embed="rId2"/>
          <a:stretch/>
        </p:blipFill>
        <p:spPr>
          <a:xfrm>
            <a:off x="0" y="0"/>
            <a:ext cx="2000160" cy="2079720"/>
          </a:xfrm>
          <a:prstGeom prst="rect">
            <a:avLst/>
          </a:prstGeom>
          <a:ln w="0">
            <a:noFill/>
          </a:ln>
        </p:spPr>
      </p:pic>
      <p:sp>
        <p:nvSpPr>
          <p:cNvPr id="223" name="TextBox 4"/>
          <p:cNvSpPr/>
          <p:nvPr/>
        </p:nvSpPr>
        <p:spPr>
          <a:xfrm>
            <a:off x="2857680" y="1214280"/>
            <a:ext cx="5929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cc"/>
                </a:solidFill>
                <a:latin typeface="Arial"/>
              </a:rPr>
              <a:t>Все мы очень разные, многообразие человеческих индивидуальностей поистине неисчерпаемо. Но все мы стремимся к успех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920"/>
                            </p:stCondLst>
                            <p:childTnLst>
                              <p:par>
                                <p:cTn id="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8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8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3960"/>
                            </p:stCondLst>
                            <p:childTnLst>
                              <p:par>
                                <p:cTn id="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8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4400"/>
                            </p:stCondLst>
                            <p:childTnLst>
                              <p:par>
                                <p:cTn id="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8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4440"/>
                            </p:stCondLst>
                            <p:childTnLst>
                              <p:par>
                                <p:cTn id="3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6440"/>
                            </p:stCondLst>
                            <p:childTnLst>
                              <p:par>
                                <p:cTn id="4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Демократический стиль руководств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свенные формы побуждения к действию (совет, просьба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буждение к  самостоятельности, активност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кренность взаимоотношени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еживание неудач ребенк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дость за успехи каждого ребенк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важение личности ребенк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здание комфортного микроклимата в класс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ддержка полезных начинаний каждого ребенк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ощрение инициативы и творчеств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казание поддержки  каждому  ребенк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Arial"/>
              </a:rPr>
              <a:t>? ? ?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14200" y="1000080"/>
            <a:ext cx="8715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ожно ли создать ситуацию успеха для всех учащихся сразу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ожно ли ожидать, что школьники одинаково отреагируют на предложенные учителем приемы  и условия?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! ! !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спех сугубо индивидуален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начимость его определяется нормами, установленными заранее: учащийся каждый раз вынужден сверять свои достижения с предложенным уровнем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Схема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0" y="260280"/>
            <a:ext cx="91440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«Неожиданная радость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риёмы создания ситуации успех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«Даю шанс»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- подготовленные педагогические ситуации, при которых ребёнок получает возможность неожиданно раскрыть для самого себя собственные возможно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«Исповедь»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-этот приём можно применять в тех случаях, когда есть надежда, что искреннее обращение учителя к лучшим чувствам детей получит понимание, вызовет ответный отклик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«Лестница»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- ситуация, когда учитель постепенно ведёт ученика вверх, поднимаясь с ним по ступеням знаний, психологического самоопределения, обретения веры в себя и окружающи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611280" y="285480"/>
            <a:ext cx="8137440" cy="63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Arial"/>
              </a:rPr>
              <a:t>«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Общая радость</a:t>
            </a:r>
            <a:r>
              <a:rPr b="0" i="1" lang="ru-RU" sz="2800" spc="-1" strike="noStrike">
                <a:solidFill>
                  <a:srgbClr val="0000ff"/>
                </a:solidFill>
                <a:latin typeface="Arial"/>
              </a:rPr>
              <a:t>»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риёмы создания ситуаци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«Следуй за нами»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- даёт возможность разбудить дремлющую мысль ученика, дать ему возможность обрести радость признания в себе интеллектуальных сил. Реакция окружающих будет служить для него одновременно и сигналом пробуждения и стимулом познания, и результатом усил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«Эмоциональный всплеск», «Заражение»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- учитель должен найти способ разбудить интеллектуальный потенциал, который скрывается в каждом ученике, помочь родить усилие, которое родит мысль, а мысль превратится в знание и ответное чувство признательности. В конечном итоге появится вера в себя, вера в успех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468000" y="188640"/>
            <a:ext cx="867564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«Радость познания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Приёмы создания ситуации успех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«Эврика»-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суть состоит в том, чтобы создать условия, при которых ребёнок, выполняя учебное задание, неожиданно для себя пришёл к выводу, раскрывающему неизвестные для него ранее возможност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«Линия горизонта»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- однажды открыв для себя увлекательность поиска, погружения в мир неведомого, школьник может уже постоянно стремиться к поиску, не считаясь с трудностями, неудача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Последовательность операций создания ситуации успех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нятие страх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помогает преодолеть неуверенность в собственных силах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вансирование успешного результат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помогает учителю выразить свою убеждённость в том, что его  ученик  обязательно справиться с поставленной задачей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крытое инструктирование ребёнка в способах и формах совершенствования деятельност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помогает ученику избежать поражения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несение мотив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 показывает ребёнку ради чего, ради кого совершается эта деятельность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ерсональная исключительност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 обозначает важность усилий ребёнка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обилизация активности или  педагогическое внуше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побуждает к выполнению конкретных действий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сокая оценка детал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 помогает эмоционально пережить успех не результата в целом,  а какой-то отдельной детали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Значение портфолио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42560" y="1341000"/>
            <a:ext cx="90010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здание ситуации успеха для каждого ученик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вышение самооценки и уверенности в собственных    возможностях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скрытие индивидуальных способносте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здание условий для его самореализации в различных областях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витие познавательных интересов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ормирование готовности к самостоятельному познанию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становка на творческую деятельность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витие мотивации дальнейшего творческого роста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обретение навыков саморефлекси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ормирование умения анализировать собственные интерес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Включение в процесс воспитания родителей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одительские конференции, телефонные звонки, письма с описанием успехов их ребен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мощь в общении с ребенко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накомство родителей с новыми для них тактиками и стратегиями воспитания, чтобы пользоваться ими дом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вышение психологической и педагогической компетентностей родителе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14200" y="1999800"/>
            <a:ext cx="8686800" cy="23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явить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положительные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отрицательны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стороны создания ситуации успеха                    во внеурочной деятельност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71680" y="857160"/>
            <a:ext cx="18288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Цель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8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40"/>
                            </p:stCondLst>
                            <p:childTnLst>
                              <p:par>
                                <p:cTn id="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8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428480" y="214200"/>
            <a:ext cx="6119640" cy="1052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Выводы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74560" y="1530000"/>
            <a:ext cx="856944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ичная заинтересованность ученик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ровень общеучебных умений и навыков учащегос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заимоотношения, сложившиеся с конкретным учителем, стиль общения педагог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характер взаимоотношений, принятый в конкретном ученическом коллективе, классе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тношения родителей или других референтных лиц к самому учебно-воспитательному процессу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тиль общения между педагогами, стиль преподавания, принятый в данной школ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9" name="Picture 4" descr="j0301252"/>
          <p:cNvPicPr/>
          <p:nvPr/>
        </p:nvPicPr>
        <p:blipFill>
          <a:blip r:embed="rId1"/>
          <a:stretch/>
        </p:blipFill>
        <p:spPr>
          <a:xfrm>
            <a:off x="7313760" y="0"/>
            <a:ext cx="1830240" cy="15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9" dur="10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1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Подзаголовок 2"/>
          <p:cNvSpPr/>
          <p:nvPr/>
        </p:nvSpPr>
        <p:spPr>
          <a:xfrm>
            <a:off x="428760" y="1071720"/>
            <a:ext cx="8286480" cy="51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1d2e"/>
                </a:solidFill>
                <a:latin typeface="Arial"/>
                <a:ea typeface="Arial"/>
              </a:rPr>
              <a:t>Администрации и педагогическому коллективу школы в своей работе ориентироваться на правила педагогической этики при работе с учащимис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1d2e"/>
                </a:solidFill>
                <a:latin typeface="Arial"/>
                <a:ea typeface="Arial"/>
              </a:rPr>
              <a:t>Каждому педагогу  школы взять  за основу предложенный  алгоритм создания ситуации успеха на уроках и во внеурочной деятельно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1d2e"/>
                </a:solidFill>
                <a:latin typeface="Arial"/>
                <a:ea typeface="Arial"/>
              </a:rPr>
              <a:t>Классным руководителям начать  работу  по созданию школьного портфолио ученик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1d2e"/>
                </a:solidFill>
                <a:latin typeface="Arial"/>
                <a:ea typeface="Arial"/>
              </a:rPr>
              <a:t>Использовать метод проектов во внеурочной деятельно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1d2e"/>
                </a:solidFill>
                <a:latin typeface="Arial"/>
                <a:ea typeface="Arial"/>
              </a:rPr>
              <a:t>Организовать кружки «Юный математик», «Грамотей», «Знатоки родного края» и др. в рамках проекта «Одаренные дети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1d2e"/>
                </a:solidFill>
                <a:latin typeface="Arial"/>
                <a:ea typeface="Arial"/>
              </a:rPr>
              <a:t>Проводить предметные олимпиады, начиная с 3-го класс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1d2e"/>
                </a:solidFill>
                <a:latin typeface="Arial"/>
                <a:ea typeface="Arial"/>
              </a:rPr>
              <a:t>Руководителям МО организовать взаимопосещение уроков учителей с целью обмена опытом по данной проблем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000080" y="142920"/>
            <a:ext cx="7191360" cy="1052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Решение педсовета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30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30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30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3000"/>
                            </p:stCondLst>
                            <p:childTnLst>
                              <p:par>
                                <p:cTn id="1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30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30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3000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6000"/>
                            </p:stCondLst>
                            <p:childTnLst>
                              <p:par>
                                <p:cTn id="1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30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30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3000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3000" fill="hold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3000" fill="hold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3000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3000" fill="hold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3000" fill="hold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3000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3000" fill="hold"/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3000" fill="hold"/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3000"/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3000" fill="hold"/>
                                        <p:tgtEl>
                                          <p:spTgt spid="2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3000" fill="hold"/>
                                        <p:tgtEl>
                                          <p:spTgt spid="2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3000"/>
                                        <p:tgtEl>
                                          <p:spTgt spid="2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14240" y="214200"/>
            <a:ext cx="7524720" cy="1400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Советы знаменитых людей тем, </a:t>
            </a:r>
            <a:br>
              <a:rPr sz="2800"/>
            </a:b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кто хочет достичь успеха…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57120" y="1213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удь уверен в своих сила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мей сказать себе: «Я должен победить!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 жалей себя и много работа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мей быть не таким как все. Ты должен уметь выделиться из толпы и стать лучшим в чем-т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мей добиваться цели. Не бойся признаться себе  в эгоистичности и расчетливости в достижении своей цели. А когда ты добьешься чего-то, ты сможешь реально помогать други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мей владеть собой. Добивайся того, что наметил. Эмоции и настроение  не должны тебе мешат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еврати свою мечту в реальность. Умей сконцентрировать свои силы на главно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 останавливайся на достигнутом!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Твой завтрашний успех</a:t>
            </a:r>
            <a:br>
              <a:rPr sz="3200"/>
            </a:b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начинается сегодня!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75" name="Picture 5" descr="Копия 13"/>
          <p:cNvPicPr/>
          <p:nvPr/>
        </p:nvPicPr>
        <p:blipFill>
          <a:blip r:embed="rId1"/>
          <a:stretch/>
        </p:blipFill>
        <p:spPr>
          <a:xfrm>
            <a:off x="755640" y="1165320"/>
            <a:ext cx="7589880" cy="5692680"/>
          </a:xfrm>
          <a:prstGeom prst="rect">
            <a:avLst/>
          </a:prstGeom>
          <a:ln w="0">
            <a:noFill/>
          </a:ln>
        </p:spPr>
      </p:pic>
      <p:sp>
        <p:nvSpPr>
          <p:cNvPr id="276" name="Rectangle 5"/>
          <p:cNvSpPr/>
          <p:nvPr/>
        </p:nvSpPr>
        <p:spPr>
          <a:xfrm>
            <a:off x="2787840" y="3143160"/>
            <a:ext cx="357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пасибо за внимание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спользуемые ресурсы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.Современный курс практической психологии или как добиваться успеха. Шапарь В.Б. – Издательство «Клуб семейного досуга», Харьков, Белгород, 201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.Я такой как все. Тиньков О. – М:, ИП Анисимов Олег Юрьевич, 20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3.Как подобрать ключик к любому человеку: 30 самых важных правил. Большакова Л. – М:, АСТ; Владимир: ВКТ, 2011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http://festival.1september.ru/articles/518855/ - создание ситуации успеха (Гладина О.В.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http://www.referat.ru/referats/view/18020 - создание ситуации успеха, реферат (Сосновская Алена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http://www.ucheba.ru/referats/4533.html - создание ситуации успеха, докла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http://www.psylive.ru/articles/1896_sozdanie-situacii-uspeha.aspx - создание ситуации успеха (Белкин А.С.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http://www.zankov.ru/exp/article=1001 – создание ситуации успеха в развитии школьников (Едкова М.А.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http://www.zanimatika.ru/bestsennaya-kopilka/situatsiya-uspeha.html - ситуация успех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http://www.bestreferat.ru/referat-76236.html - к вопросу о технологии создания ситуации успеха (Лопатин А.Р.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http://ushumun2.narod.ru/pedsovet.htm - обучение и воспитание ситуацией успех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http://www.rusedu.ru/detail_6574.html - организация ситуации успеха в учебно-воспитательном процесс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285480" y="642960"/>
            <a:ext cx="864396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80000"/>
              <a:buFont typeface="Wingdings" charset="2"/>
              <a:buChar char=""/>
              <a:tabLst>
                <a:tab algn="l" pos="8164440"/>
                <a:tab algn="l" pos="8458200"/>
                <a:tab algn="l" pos="9398160"/>
                <a:tab algn="l" pos="1033776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Ситуация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– это сочетание условий и обстоятельств, которые обеспечивают успе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80000"/>
              <a:buFont typeface="Wingdings" charset="2"/>
              <a:buChar char=""/>
              <a:tabLst>
                <a:tab algn="l" pos="8164440"/>
                <a:tab algn="l" pos="8458200"/>
                <a:tab algn="l" pos="9398160"/>
                <a:tab algn="l" pos="1033776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Успех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– результат такой ситуации.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спех прежде всего связан с чувством радости, эмоционального подъема, которые испытывает человек в результате выполненной работ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80000"/>
              <a:buFont typeface="Wingdings" charset="2"/>
              <a:buChar char=""/>
              <a:tabLst>
                <a:tab algn="l" pos="8164440"/>
                <a:tab algn="l" pos="8458200"/>
                <a:tab algn="l" pos="9398160"/>
                <a:tab algn="l" pos="1033776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Ситуация успеха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– фактор развития личност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3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3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3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3000"/>
                            </p:stCondLst>
                            <p:childTnLst>
                              <p:par>
                                <p:cTn id="7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3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30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30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3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30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30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Схема 3" descr=""/>
          <p:cNvPicPr/>
          <p:nvPr/>
        </p:nvPicPr>
        <p:blipFill>
          <a:blip r:embed="rId1"/>
          <a:stretch/>
        </p:blipFill>
        <p:spPr>
          <a:xfrm>
            <a:off x="6480" y="341280"/>
            <a:ext cx="9137520" cy="6035760"/>
          </a:xfrm>
          <a:prstGeom prst="rect">
            <a:avLst/>
          </a:prstGeom>
          <a:ln w="0">
            <a:noFill/>
          </a:ln>
        </p:spPr>
      </p:pic>
      <p:pic>
        <p:nvPicPr>
          <p:cNvPr id="228" name="Рисунок 3" descr="j0343343.wmf"/>
          <p:cNvPicPr/>
          <p:nvPr/>
        </p:nvPicPr>
        <p:blipFill>
          <a:blip r:embed="rId2"/>
          <a:stretch/>
        </p:blipFill>
        <p:spPr>
          <a:xfrm>
            <a:off x="6643800" y="4214880"/>
            <a:ext cx="2300040" cy="23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214200" y="1000080"/>
            <a:ext cx="8715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бота спортивных секций, интеллектуальных кружков, клубов по интересам (система ДО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дметные олимпиады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следовательская работ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ектная деятельность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ла класса (часы общения, тренинги, анкетирование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курсы, викторины, соревнования, выставк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здание портфолио ученика (класса),                 защита портфолио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ворческие отчеты на родительских собрания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Внеурочная деятельность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30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3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3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3000"/>
                            </p:stCondLst>
                            <p:childTnLst>
                              <p:par>
                                <p:cTn id="10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30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30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30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30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30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30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3000"/>
                            </p:stCondLst>
                            <p:childTnLst>
                              <p:par>
                                <p:cTn id="1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30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30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30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6000"/>
                            </p:stCondLst>
                            <p:childTnLst>
                              <p:par>
                                <p:cTn id="1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30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30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30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9000"/>
                            </p:stCondLst>
                            <p:childTnLst>
                              <p:par>
                                <p:cTn id="1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3000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3000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3000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2000"/>
                            </p:stCondLst>
                            <p:childTnLst>
                              <p:par>
                                <p:cTn id="1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3000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3000" fill="hold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3000" fill="hold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5000"/>
                            </p:stCondLst>
                            <p:childTnLst>
                              <p:par>
                                <p:cTn id="14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3000"/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3000" fill="hold"/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3000" fill="hold"/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Позитивные моменты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2876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ереживание успеха внушает человеку уверенность в собственных силах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является желание вновь достигнуть хороших результатов, чтобы еще раз пережить радость от успех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ложительные эмоции, рождающиеся в результате успешной деятельности, создают ощущение внутреннего благополучия, что, в свою очередь, благотворно влияет на общее отношение человека к окружающему мир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Негативные моменты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85480" y="980640"/>
            <a:ext cx="864396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спех, доставшийся ценой небольших усилий, может привести к переоценке, точнее, к завышенной оценке своих возможносте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 сильным переживанием какой-либо эмоции обязательно следует расслабление: если же в этот период предложить человеку какую-то деятельность, то она, скорее всего, будет менее успешна, чем предыдуща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еживание успеха может быть омрачено для субъекта деятельности, если результат, важный и значимый для него самого, не будет адекватно оценен другими людьм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эмоция успеха не явится сильным переживанием, если результаты деятельности не значимы для ее субъект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Рисунок 7" descr="CRANINST.WMF"/>
          <p:cNvPicPr/>
          <p:nvPr/>
        </p:nvPicPr>
        <p:blipFill>
          <a:blip r:embed="rId1"/>
          <a:srcRect l="0" t="0" r="-14270" b="27343"/>
          <a:stretch/>
        </p:blipFill>
        <p:spPr>
          <a:xfrm>
            <a:off x="1428840" y="214200"/>
            <a:ext cx="7286400" cy="5472360"/>
          </a:xfrm>
          <a:prstGeom prst="rect">
            <a:avLst/>
          </a:prstGeom>
          <a:ln w="0">
            <a:noFill/>
          </a:ln>
        </p:spPr>
      </p:pic>
      <p:pic>
        <p:nvPicPr>
          <p:cNvPr id="236" name="Схема 4" descr=""/>
          <p:cNvPicPr/>
          <p:nvPr/>
        </p:nvPicPr>
        <p:blipFill>
          <a:blip r:embed="rId2"/>
          <a:stretch/>
        </p:blipFill>
        <p:spPr>
          <a:xfrm>
            <a:off x="2139840" y="1620720"/>
            <a:ext cx="4821480" cy="4451400"/>
          </a:xfrm>
          <a:prstGeom prst="rect">
            <a:avLst/>
          </a:prstGeom>
          <a:ln w="0">
            <a:noFill/>
          </a:ln>
        </p:spPr>
      </p:pic>
      <p:sp>
        <p:nvSpPr>
          <p:cNvPr id="237" name="Заголовок 13"/>
          <p:cNvSpPr/>
          <p:nvPr/>
        </p:nvSpPr>
        <p:spPr>
          <a:xfrm rot="21051000">
            <a:off x="636120" y="5251320"/>
            <a:ext cx="1428840" cy="928800"/>
          </a:xfrm>
          <a:prstGeom prst="rect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Предупреждает и угрожает  по невыполнению требований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Заголовок 13"/>
          <p:cNvSpPr/>
          <p:nvPr/>
        </p:nvSpPr>
        <p:spPr>
          <a:xfrm>
            <a:off x="2428920" y="5143680"/>
            <a:ext cx="1285920" cy="928440"/>
          </a:xfrm>
          <a:prstGeom prst="rect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танавливает внимание на негативном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9" name="Рисунок 8" descr="BS01634_.WMF"/>
          <p:cNvPicPr/>
          <p:nvPr/>
        </p:nvPicPr>
        <p:blipFill>
          <a:blip r:embed="rId3"/>
          <a:stretch/>
        </p:blipFill>
        <p:spPr>
          <a:xfrm>
            <a:off x="1768320" y="5913360"/>
            <a:ext cx="621000" cy="669960"/>
          </a:xfrm>
          <a:prstGeom prst="rect">
            <a:avLst/>
          </a:prstGeom>
          <a:ln w="0">
            <a:noFill/>
          </a:ln>
        </p:spPr>
      </p:pic>
      <p:pic>
        <p:nvPicPr>
          <p:cNvPr id="240" name="Рисунок 10" descr="BS01634_.WMF"/>
          <p:cNvPicPr/>
          <p:nvPr/>
        </p:nvPicPr>
        <p:blipFill>
          <a:blip r:embed="rId4"/>
          <a:stretch/>
        </p:blipFill>
        <p:spPr>
          <a:xfrm>
            <a:off x="3267000" y="5913360"/>
            <a:ext cx="622440" cy="669960"/>
          </a:xfrm>
          <a:prstGeom prst="rect">
            <a:avLst/>
          </a:prstGeom>
          <a:ln w="0">
            <a:noFill/>
          </a:ln>
        </p:spPr>
      </p:pic>
      <p:sp>
        <p:nvSpPr>
          <p:cNvPr id="241" name="Заголовок 13"/>
          <p:cNvSpPr/>
          <p:nvPr/>
        </p:nvSpPr>
        <p:spPr>
          <a:xfrm rot="795000">
            <a:off x="3944520" y="5294160"/>
            <a:ext cx="1428840" cy="928800"/>
          </a:xfrm>
          <a:prstGeom prst="rect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аёт прозвища (плохой, ленивый …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Заголовок 13"/>
          <p:cNvSpPr/>
          <p:nvPr/>
        </p:nvSpPr>
        <p:spPr>
          <a:xfrm rot="20940600">
            <a:off x="5638320" y="5303520"/>
            <a:ext cx="1009800" cy="792000"/>
          </a:xfrm>
          <a:prstGeom prst="rect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ного говорит за дете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Заголовок 13"/>
          <p:cNvSpPr/>
          <p:nvPr/>
        </p:nvSpPr>
        <p:spPr>
          <a:xfrm>
            <a:off x="6929280" y="5429160"/>
            <a:ext cx="1500480" cy="857520"/>
          </a:xfrm>
          <a:prstGeom prst="rect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ыражает недовольство учеником, группой ученик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Рисунок 14" descr="BS01634_.WMF"/>
          <p:cNvPicPr/>
          <p:nvPr/>
        </p:nvPicPr>
        <p:blipFill>
          <a:blip r:embed="rId5"/>
          <a:stretch/>
        </p:blipFill>
        <p:spPr>
          <a:xfrm>
            <a:off x="4913280" y="5979960"/>
            <a:ext cx="615960" cy="676440"/>
          </a:xfrm>
          <a:prstGeom prst="rect">
            <a:avLst/>
          </a:prstGeom>
          <a:ln w="0">
            <a:noFill/>
          </a:ln>
        </p:spPr>
      </p:pic>
      <p:pic>
        <p:nvPicPr>
          <p:cNvPr id="245" name="Рисунок 15" descr="BS01634_.WMF"/>
          <p:cNvPicPr/>
          <p:nvPr/>
        </p:nvPicPr>
        <p:blipFill>
          <a:blip r:embed="rId6"/>
          <a:stretch/>
        </p:blipFill>
        <p:spPr>
          <a:xfrm>
            <a:off x="6267600" y="5913360"/>
            <a:ext cx="620640" cy="669960"/>
          </a:xfrm>
          <a:prstGeom prst="rect">
            <a:avLst/>
          </a:prstGeom>
          <a:ln w="0">
            <a:noFill/>
          </a:ln>
        </p:spPr>
      </p:pic>
      <p:pic>
        <p:nvPicPr>
          <p:cNvPr id="246" name="Рисунок 16" descr="BS01634_.WMF"/>
          <p:cNvPicPr/>
          <p:nvPr/>
        </p:nvPicPr>
        <p:blipFill>
          <a:blip r:embed="rId7"/>
          <a:stretch/>
        </p:blipFill>
        <p:spPr>
          <a:xfrm>
            <a:off x="7985160" y="6053040"/>
            <a:ext cx="615960" cy="6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0040" y="4287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Стиль взаимодействия </a:t>
            </a:r>
            <a:br>
              <a:rPr sz="4000"/>
            </a:b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педагога и учащегося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285840" y="1213920"/>
            <a:ext cx="8229600" cy="40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lvl="2" marL="10170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017000" indent="-203400">
              <a:spcBef>
                <a:spcPts val="9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73105"/>
                </a:solidFill>
                <a:latin typeface="Arial"/>
              </a:rPr>
              <a:t>авторитарно- догматический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017000" indent="0">
              <a:spcBef>
                <a:spcPts val="9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017000" indent="-203400">
              <a:spcBef>
                <a:spcPts val="9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73105"/>
                </a:solidFill>
                <a:latin typeface="Arial"/>
              </a:rPr>
              <a:t>сочувствующий или попустительский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017000" indent="0">
              <a:spcBef>
                <a:spcPts val="9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017000" indent="-203400">
              <a:spcBef>
                <a:spcPts val="9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73105"/>
                </a:solidFill>
                <a:latin typeface="Arial"/>
              </a:rPr>
              <a:t>демократический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Рисунок 4" descr="j0343341.wmf"/>
          <p:cNvPicPr/>
          <p:nvPr/>
        </p:nvPicPr>
        <p:blipFill>
          <a:blip r:embed="rId1"/>
          <a:stretch/>
        </p:blipFill>
        <p:spPr>
          <a:xfrm>
            <a:off x="6572160" y="2428920"/>
            <a:ext cx="1855800" cy="1857240"/>
          </a:xfrm>
          <a:prstGeom prst="rect">
            <a:avLst/>
          </a:prstGeom>
          <a:ln w="0">
            <a:noFill/>
          </a:ln>
        </p:spPr>
      </p:pic>
      <p:pic>
        <p:nvPicPr>
          <p:cNvPr id="250" name="Рисунок 7" descr="j0343299.wmf"/>
          <p:cNvPicPr/>
          <p:nvPr/>
        </p:nvPicPr>
        <p:blipFill>
          <a:blip r:embed="rId2"/>
          <a:stretch/>
        </p:blipFill>
        <p:spPr>
          <a:xfrm>
            <a:off x="5857920" y="4572000"/>
            <a:ext cx="1643040" cy="16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9T03:42:23Z</dcterms:created>
  <dc:creator>Admin</dc:creator>
  <dc:description/>
  <dc:language>en-US</dc:language>
  <cp:lastModifiedBy>user</cp:lastModifiedBy>
  <dcterms:modified xsi:type="dcterms:W3CDTF">2012-01-13T16:00:49Z</dcterms:modified>
  <cp:revision>33</cp:revision>
  <dc:subject/>
  <dc:title>Слайд 1</dc:title>
</cp:coreProperties>
</file>