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608-1A7E-4ACA-A61E-45498A6D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4FC-9DDE-4A44-82E5-8997FC1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B92-718C-445F-9B58-FFFF8A67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CA9-14AF-45B1-96AE-741F4F35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116D-1B35-4FC6-A44B-974EB38C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DCD5-72DC-436C-A105-0F9A264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5DA0-4519-4BEC-919C-3F94C1BC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47A4-2E69-4A5D-BC1C-ADB8769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2F82-F726-4E90-B021-DE831C13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7D45-8CA9-416B-A2C2-70D12F3C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D82-D718-450A-B355-E818FDF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4F9-A662-42F0-A3CF-6795103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54E1-757F-4398-B3D9-D507450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E64-19EE-44E9-AFB1-EE02BDEB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303-8B3C-4CD8-9EBC-A93E06A6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C39F-F93A-4152-AA2E-9AA7FD18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88AF-5550-4AD3-B93C-A523E798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41A-12F6-4C6E-BF88-D26A278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97A-6F92-493C-B936-938628F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EF2-F5F5-489D-89FA-79BA589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037-AE99-414B-9189-3CF7BAE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B82-5817-4997-91CD-8F6F34E3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C2B-623E-46E7-AE55-1959F40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56E-652E-40B2-B717-F50FCAE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4AE7-B8D6-4FEC-A5DA-13972BFB7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4D8A-3565-420E-A74D-ACC064E11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f6215"/>
                </a:solidFill>
                <a:latin typeface="Times New Roman"/>
              </a:rPr>
              <a:t>Площадь трапеции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76720" y="5661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а Т.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ОУ лицея №6 г. Ессенту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амостоятельная рабо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и основания трапеции относятся как 5:6:4. Найдите меньшее основание трапеции,если её площадь равна       88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та трапеции равна меньшему основанию и в два раза меньше большего основания. Найдите высоту трапеции, если её площадь равна        54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 rot="10753800">
            <a:off x="1371600" y="2590560"/>
            <a:ext cx="3581280" cy="2361960"/>
          </a:xfrm>
          <a:custGeom>
            <a:avLst/>
            <a:gdLst>
              <a:gd name="textAreaLeft" fmla="*/ 838800 w 3581280"/>
              <a:gd name="textAreaRight" fmla="*/ 2742480 w 3581280"/>
              <a:gd name="textAreaTop" fmla="*/ 552960 h 2361960"/>
              <a:gd name="textAreaBottom" fmla="*/ 18090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17" y="21600"/>
                </a:lnTo>
                <a:lnTo>
                  <a:pt x="1508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2438280" y="2590920"/>
            <a:ext cx="2514600" cy="236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2438280" y="259092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4952880" y="2590560"/>
            <a:ext cx="0" cy="2361960"/>
          </a:xfrm>
          <a:prstGeom prst="line">
            <a:avLst/>
          </a:prstGeom>
          <a:ln w="9360">
            <a:solidFill>
              <a:srgbClr val="66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8098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66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9200" y="2209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65940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95468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114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95504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257800" y="2743200"/>
            <a:ext cx="3352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АВСК –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= а,  ВС= в, ВМ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+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676520" y="685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909800" y="2133720"/>
            <a:ext cx="5001840" cy="3200040"/>
            <a:chOff x="1909800" y="2133720"/>
            <a:chExt cx="5001840" cy="3200040"/>
          </a:xfrm>
        </p:grpSpPr>
        <p:sp>
          <p:nvSpPr>
            <p:cNvPr id="107" name="AutoShape 3"/>
            <p:cNvSpPr/>
            <p:nvPr/>
          </p:nvSpPr>
          <p:spPr>
            <a:xfrm rot="10800000">
              <a:off x="2170800" y="2646720"/>
              <a:ext cx="4301640" cy="2140920"/>
            </a:xfrm>
            <a:custGeom>
              <a:avLst/>
              <a:gdLst>
                <a:gd name="textAreaLeft" fmla="*/ 896040 w 4301640"/>
                <a:gd name="textAreaRight" fmla="*/ 3405600 w 4301640"/>
                <a:gd name="textAreaTop" fmla="*/ 446040 h 2140920"/>
                <a:gd name="textAreaBottom" fmla="*/ 1694880 h 214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1909800" y="4788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6299640" y="478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5421600" y="221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2787480" y="221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472800" y="2647080"/>
              <a:ext cx="0" cy="214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5419440" y="2647440"/>
              <a:ext cx="1492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647460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192560" y="4874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103640" y="2133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6562440" y="333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9" name="Group 29"/>
          <p:cNvGrpSpPr/>
          <p:nvPr/>
        </p:nvGrpSpPr>
        <p:grpSpPr>
          <a:xfrm>
            <a:off x="2197800" y="1844640"/>
            <a:ext cx="5290560" cy="3556800"/>
            <a:chOff x="2197800" y="1844640"/>
            <a:chExt cx="5290560" cy="3556800"/>
          </a:xfrm>
        </p:grpSpPr>
        <p:sp>
          <p:nvSpPr>
            <p:cNvPr id="120" name="AutoShape 4"/>
            <p:cNvSpPr/>
            <p:nvPr/>
          </p:nvSpPr>
          <p:spPr>
            <a:xfrm rot="10800000">
              <a:off x="2489400" y="2407320"/>
              <a:ext cx="4808520" cy="2346480"/>
            </a:xfrm>
            <a:custGeom>
              <a:avLst/>
              <a:gdLst>
                <a:gd name="textAreaLeft" fmla="*/ 1001520 w 4808520"/>
                <a:gd name="textAreaRight" fmla="*/ 3807000 w 4808520"/>
                <a:gd name="textAreaTop" fmla="*/ 488880 h 2346480"/>
                <a:gd name="textAreaBottom" fmla="*/ 1857600 h 23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47364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5829120" y="1938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104960" y="4754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197800" y="484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473640" y="475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2"/>
            <p:cNvSpPr/>
            <p:nvPr/>
          </p:nvSpPr>
          <p:spPr>
            <a:xfrm>
              <a:off x="4749120" y="18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043240" y="49417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2589120" y="297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667320" y="2407680"/>
              <a:ext cx="0" cy="23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2686320" y="4191120"/>
              <a:ext cx="7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32" name="Group 18"/>
          <p:cNvGrpSpPr/>
          <p:nvPr/>
        </p:nvGrpSpPr>
        <p:grpSpPr>
          <a:xfrm>
            <a:off x="2197440" y="1989000"/>
            <a:ext cx="4934880" cy="3433320"/>
            <a:chOff x="2197440" y="1989000"/>
            <a:chExt cx="4934880" cy="3433320"/>
          </a:xfrm>
        </p:grpSpPr>
        <p:sp>
          <p:nvSpPr>
            <p:cNvPr id="133" name="Rectangle 5"/>
            <p:cNvSpPr/>
            <p:nvPr/>
          </p:nvSpPr>
          <p:spPr>
            <a:xfrm>
              <a:off x="3297600" y="198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699960" y="208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6599880" y="4869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197440" y="486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V="1">
              <a:off x="6698160" y="2546280"/>
              <a:ext cx="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5497200" y="2546280"/>
              <a:ext cx="12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4098600" y="4962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489816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6799320" y="328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2895840" y="4869720"/>
              <a:ext cx="38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3896280" y="2546280"/>
              <a:ext cx="170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 flipH="1">
              <a:off x="2895840" y="2546280"/>
              <a:ext cx="1000080" cy="232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2340000" y="1916280"/>
            <a:ext cx="5328720" cy="3168000"/>
            <a:chOff x="2340000" y="1916280"/>
            <a:chExt cx="5328720" cy="3168000"/>
          </a:xfrm>
        </p:grpSpPr>
        <p:sp>
          <p:nvSpPr>
            <p:cNvPr id="147" name="Line 3"/>
            <p:cNvSpPr/>
            <p:nvPr/>
          </p:nvSpPr>
          <p:spPr>
            <a:xfrm>
              <a:off x="3006000" y="5084280"/>
              <a:ext cx="466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3006000" y="2568600"/>
              <a:ext cx="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>
              <a:off x="3006000" y="256860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"/>
            <p:cNvSpPr/>
            <p:nvPr/>
          </p:nvSpPr>
          <p:spPr>
            <a:xfrm>
              <a:off x="5670360" y="2568600"/>
              <a:ext cx="1998360" cy="251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2340000" y="368676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4149720" y="191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4917600" y="25686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670360" y="2568600"/>
              <a:ext cx="0" cy="251568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37"/>
          <p:cNvSpPr/>
          <p:nvPr/>
        </p:nvSpPr>
        <p:spPr>
          <a:xfrm>
            <a:off x="241128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2486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9"/>
          <p:cNvSpPr/>
          <p:nvPr/>
        </p:nvSpPr>
        <p:spPr>
          <a:xfrm>
            <a:off x="565344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0"/>
          <p:cNvSpPr/>
          <p:nvPr/>
        </p:nvSpPr>
        <p:spPr>
          <a:xfrm>
            <a:off x="759816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5437080" y="5157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2627280" y="2349360"/>
            <a:ext cx="4752720" cy="3125520"/>
            <a:chOff x="2627280" y="2349360"/>
            <a:chExt cx="4752720" cy="3125520"/>
          </a:xfrm>
        </p:grpSpPr>
        <p:sp>
          <p:nvSpPr>
            <p:cNvPr id="162" name="Line 4"/>
            <p:cNvSpPr/>
            <p:nvPr/>
          </p:nvSpPr>
          <p:spPr>
            <a:xfrm>
              <a:off x="2627280" y="4920120"/>
              <a:ext cx="47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2627280" y="2349360"/>
              <a:ext cx="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627280" y="2349360"/>
              <a:ext cx="271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343120" y="2349360"/>
              <a:ext cx="2036880" cy="25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596760" y="5015160"/>
              <a:ext cx="7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5829120" y="50151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575600" y="234936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5343120" y="2349360"/>
              <a:ext cx="0" cy="257076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13"/>
          <p:cNvSpPr/>
          <p:nvPr/>
        </p:nvSpPr>
        <p:spPr>
          <a:xfrm>
            <a:off x="2126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12580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52945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7382160" y="465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5149800" y="5013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Задача № 48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700360" y="2637000"/>
            <a:ext cx="4165200" cy="2829960"/>
            <a:chOff x="2700360" y="2637000"/>
            <a:chExt cx="4165200" cy="2829960"/>
          </a:xfrm>
        </p:grpSpPr>
        <p:sp>
          <p:nvSpPr>
            <p:cNvPr id="177" name="Line 4"/>
            <p:cNvSpPr/>
            <p:nvPr/>
          </p:nvSpPr>
          <p:spPr>
            <a:xfrm>
              <a:off x="2700360" y="4922640"/>
              <a:ext cx="416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2700360" y="2637000"/>
              <a:ext cx="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2700360" y="2637000"/>
              <a:ext cx="238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80680" y="2637000"/>
              <a:ext cx="1784880" cy="22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505480" y="5007240"/>
              <a:ext cx="68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3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3381840" y="50072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4408200" y="2637000"/>
              <a:ext cx="72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135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080680" y="2637000"/>
              <a:ext cx="0" cy="2285640"/>
            </a:xfrm>
            <a:prstGeom prst="line">
              <a:avLst/>
            </a:prstGeom>
            <a:ln w="9360">
              <a:solidFill>
                <a:srgbClr val="66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13"/>
          <p:cNvSpPr/>
          <p:nvPr/>
        </p:nvSpPr>
        <p:spPr>
          <a:xfrm>
            <a:off x="2270520" y="486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219744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07852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68788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4861080" y="4941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ощади многоугольников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295280" y="1905120"/>
            <a:ext cx="144792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676520" y="2438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657600" y="1905120"/>
            <a:ext cx="1778040" cy="1163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4213440" y="2205000"/>
            <a:ext cx="6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588000" y="1773360"/>
            <a:ext cx="1447920" cy="1447560"/>
          </a:xfrm>
          <a:prstGeom prst="rtTriangl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6589080" y="256536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5а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1143000" y="3886200"/>
            <a:ext cx="2209680" cy="914400"/>
          </a:xfrm>
          <a:prstGeom prst="parallelogram">
            <a:avLst>
              <a:gd name="adj" fmla="val 6041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16765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2058840" y="41148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3708360" y="3500280"/>
            <a:ext cx="2133720" cy="1295640"/>
          </a:xfrm>
          <a:prstGeom prst="triangle">
            <a:avLst>
              <a:gd name="adj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5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2"/>
          <p:cNvSpPr/>
          <p:nvPr/>
        </p:nvSpPr>
        <p:spPr>
          <a:xfrm>
            <a:off x="6553080" y="3581280"/>
            <a:ext cx="1295640" cy="1752840"/>
          </a:xfrm>
          <a:prstGeom prst="diamond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6553080" y="4457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7407720" y="4775040"/>
            <a:ext cx="137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2362320" y="5334120"/>
            <a:ext cx="2133360" cy="1143000"/>
          </a:xfrm>
          <a:custGeom>
            <a:avLst/>
            <a:gdLst>
              <a:gd name="textAreaLeft" fmla="*/ 444240 w 2133360"/>
              <a:gd name="textAreaRight" fmla="*/ 1689120 w 2133360"/>
              <a:gd name="textAreaTop" fmla="*/ 237960 h 1143000"/>
              <a:gd name="textAreaBottom" fmla="*/ 90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8"/>
          <p:cNvSpPr/>
          <p:nvPr/>
        </p:nvSpPr>
        <p:spPr>
          <a:xfrm flipV="1">
            <a:off x="2895480" y="5333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2917440" y="55166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0"/>
          <p:cNvSpPr/>
          <p:nvPr/>
        </p:nvSpPr>
        <p:spPr>
          <a:xfrm>
            <a:off x="7201080" y="35812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9:32:01Z</dcterms:created>
  <dc:creator>Shurupan</dc:creator>
  <dc:description/>
  <dc:language>en-US</dc:language>
  <cp:lastModifiedBy>Коля</cp:lastModifiedBy>
  <dcterms:modified xsi:type="dcterms:W3CDTF">2013-03-30T22:04:28Z</dcterms:modified>
  <cp:revision>12</cp:revision>
  <dc:subject/>
  <dc:title>Площадь трапе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1000000000001024140</vt:lpwstr>
  </property>
</Properties>
</file>