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BED-B425-4963-9144-FCCE9CEE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FB2-365C-4EC5-9060-A509ED9C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01B-A219-41A8-BAE9-6C68C0A3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C8D-B6D3-4A0E-94C4-AB9888A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2FAD-59A7-489F-92D0-D17E6D34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A00F-33AB-4AA7-A5A1-B7E496F9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E1F2-0556-46E6-8F6E-19420391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605-538A-4155-8311-79EBE685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34DD-D09A-49A3-BBEE-1DCE348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8992-5BBF-4618-9268-F5F0FBC1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412A-FC5F-4A99-9603-FB83B49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056-7849-4784-9F0D-E02356B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AEF-745A-4B2C-9D4F-62948DD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F28-343F-403B-BB6B-2883418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D9F8-9807-4985-BE78-BE3F7086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FE80-DA6A-4692-A719-B6B2E497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607-1505-4CB0-B4E9-A27D15C7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5ED-7C15-448B-9368-B37DC8D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1FB-3FE4-4AAE-A571-177679FB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E19-FCC8-4892-ACEB-B057FA85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528-3765-450A-9169-6C981FE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FC0-965E-44DE-8315-0B123E5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727-D693-483E-84A7-5643657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839-8107-492C-A28A-E5188E7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80F1-5F92-4CF3-8896-84FABE691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598-ED3F-4AD2-ACD7-56ACABA25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f6215"/>
                </a:solidFill>
                <a:latin typeface="Times New Roman"/>
              </a:rPr>
              <a:t>Площадь трапеции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76720" y="566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а Т.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У лицея №6 г. Ессенту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мостоятельная рабо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и основания трапеции относятся как 5:6:4. Найдите меньшее основание трапеции,если её площадь равна       88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трапеции равна меньшему основанию и в два раза меньше большего основания. Найдите высоту трапеции, если её площадь равна        5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 rot="10753800">
            <a:off x="1371600" y="2590560"/>
            <a:ext cx="3581280" cy="2361960"/>
          </a:xfrm>
          <a:custGeom>
            <a:avLst/>
            <a:gdLst>
              <a:gd name="textAreaLeft" fmla="*/ 838800 w 3581280"/>
              <a:gd name="textAreaRight" fmla="*/ 2742480 w 3581280"/>
              <a:gd name="textAreaTop" fmla="*/ 552960 h 2361960"/>
              <a:gd name="textAreaBottom" fmla="*/ 18090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17" y="21600"/>
                </a:lnTo>
                <a:lnTo>
                  <a:pt x="1508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2438280" y="2590920"/>
            <a:ext cx="2514600" cy="23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2438280" y="259092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4952880" y="259056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809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66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920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65940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9546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114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95504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257800" y="274320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АВСК –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= а,  ВС= в, ВМ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67652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909800" y="2133720"/>
            <a:ext cx="5001840" cy="3200040"/>
            <a:chOff x="1909800" y="2133720"/>
            <a:chExt cx="5001840" cy="3200040"/>
          </a:xfrm>
        </p:grpSpPr>
        <p:sp>
          <p:nvSpPr>
            <p:cNvPr id="107" name="AutoShape 3"/>
            <p:cNvSpPr/>
            <p:nvPr/>
          </p:nvSpPr>
          <p:spPr>
            <a:xfrm rot="10800000">
              <a:off x="2170800" y="2646720"/>
              <a:ext cx="4301640" cy="2140920"/>
            </a:xfrm>
            <a:custGeom>
              <a:avLst/>
              <a:gdLst>
                <a:gd name="textAreaLeft" fmla="*/ 896040 w 4301640"/>
                <a:gd name="textAreaRight" fmla="*/ 3405600 w 4301640"/>
                <a:gd name="textAreaTop" fmla="*/ 446040 h 2140920"/>
                <a:gd name="textAreaBottom" fmla="*/ 16948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909800" y="4788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6299640" y="478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5421600" y="221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2787480" y="221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472800" y="2647080"/>
              <a:ext cx="0" cy="214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5419440" y="264744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647460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192560" y="4874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103640" y="2133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6562440" y="333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9" name="Group 29"/>
          <p:cNvGrpSpPr/>
          <p:nvPr/>
        </p:nvGrpSpPr>
        <p:grpSpPr>
          <a:xfrm>
            <a:off x="2197800" y="1844640"/>
            <a:ext cx="5290560" cy="3556800"/>
            <a:chOff x="2197800" y="1844640"/>
            <a:chExt cx="5290560" cy="3556800"/>
          </a:xfrm>
        </p:grpSpPr>
        <p:sp>
          <p:nvSpPr>
            <p:cNvPr id="120" name="AutoShape 4"/>
            <p:cNvSpPr/>
            <p:nvPr/>
          </p:nvSpPr>
          <p:spPr>
            <a:xfrm rot="10800000">
              <a:off x="2489400" y="2407320"/>
              <a:ext cx="4808520" cy="2346480"/>
            </a:xfrm>
            <a:custGeom>
              <a:avLst/>
              <a:gdLst>
                <a:gd name="textAreaLeft" fmla="*/ 1001520 w 4808520"/>
                <a:gd name="textAreaRight" fmla="*/ 3807000 w 4808520"/>
                <a:gd name="textAreaTop" fmla="*/ 488880 h 2346480"/>
                <a:gd name="textAreaBottom" fmla="*/ 1857600 h 23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47364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829120" y="193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104960" y="4754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197800" y="484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473640" y="475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4749120" y="18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043240" y="49417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589120" y="297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667320" y="2407680"/>
              <a:ext cx="0" cy="23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2686320" y="4191120"/>
              <a:ext cx="7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2197440" y="1989000"/>
            <a:ext cx="4934880" cy="3433320"/>
            <a:chOff x="2197440" y="1989000"/>
            <a:chExt cx="4934880" cy="3433320"/>
          </a:xfrm>
        </p:grpSpPr>
        <p:sp>
          <p:nvSpPr>
            <p:cNvPr id="133" name="Rectangle 5"/>
            <p:cNvSpPr/>
            <p:nvPr/>
          </p:nvSpPr>
          <p:spPr>
            <a:xfrm>
              <a:off x="3297600" y="198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699960" y="208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6599880" y="4869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197440" y="486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V="1">
              <a:off x="6698160" y="2546280"/>
              <a:ext cx="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5497200" y="2546280"/>
              <a:ext cx="12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4098600" y="4962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489816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6799320" y="328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2895840" y="4869720"/>
              <a:ext cx="38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3896280" y="2546280"/>
              <a:ext cx="170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H="1">
              <a:off x="2895840" y="2546280"/>
              <a:ext cx="100008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2340000" y="1916280"/>
            <a:ext cx="5328720" cy="3168000"/>
            <a:chOff x="2340000" y="1916280"/>
            <a:chExt cx="5328720" cy="3168000"/>
          </a:xfrm>
        </p:grpSpPr>
        <p:sp>
          <p:nvSpPr>
            <p:cNvPr id="147" name="Line 3"/>
            <p:cNvSpPr/>
            <p:nvPr/>
          </p:nvSpPr>
          <p:spPr>
            <a:xfrm>
              <a:off x="3006000" y="5084280"/>
              <a:ext cx="46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3006000" y="2568600"/>
              <a:ext cx="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3006000" y="256860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5670360" y="2568600"/>
              <a:ext cx="199836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340000" y="368676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414972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4917600" y="25686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670360" y="2568600"/>
              <a:ext cx="0" cy="251568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37"/>
          <p:cNvSpPr/>
          <p:nvPr/>
        </p:nvSpPr>
        <p:spPr>
          <a:xfrm>
            <a:off x="241128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2486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565344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759816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5437080" y="51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2627280" y="2349360"/>
            <a:ext cx="4752720" cy="3125520"/>
            <a:chOff x="2627280" y="2349360"/>
            <a:chExt cx="4752720" cy="3125520"/>
          </a:xfrm>
        </p:grpSpPr>
        <p:sp>
          <p:nvSpPr>
            <p:cNvPr id="162" name="Line 4"/>
            <p:cNvSpPr/>
            <p:nvPr/>
          </p:nvSpPr>
          <p:spPr>
            <a:xfrm>
              <a:off x="2627280" y="4920120"/>
              <a:ext cx="47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2627280" y="2349360"/>
              <a:ext cx="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627280" y="2349360"/>
              <a:ext cx="271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343120" y="2349360"/>
              <a:ext cx="203688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596760" y="501516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5829120" y="5015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575600" y="234936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5343120" y="2349360"/>
              <a:ext cx="0" cy="257076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13"/>
          <p:cNvSpPr/>
          <p:nvPr/>
        </p:nvSpPr>
        <p:spPr>
          <a:xfrm>
            <a:off x="2126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12580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2945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7382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5149800" y="5013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700360" y="2637000"/>
            <a:ext cx="4165200" cy="2829960"/>
            <a:chOff x="2700360" y="2637000"/>
            <a:chExt cx="4165200" cy="2829960"/>
          </a:xfrm>
        </p:grpSpPr>
        <p:sp>
          <p:nvSpPr>
            <p:cNvPr id="177" name="Line 4"/>
            <p:cNvSpPr/>
            <p:nvPr/>
          </p:nvSpPr>
          <p:spPr>
            <a:xfrm>
              <a:off x="2700360" y="4922640"/>
              <a:ext cx="416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2700360" y="2637000"/>
              <a:ext cx="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700360" y="2637000"/>
              <a:ext cx="238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80680" y="2637000"/>
              <a:ext cx="178488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505480" y="5007240"/>
              <a:ext cx="68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381840" y="5007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4408200" y="26370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080680" y="2637000"/>
              <a:ext cx="0" cy="228564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3"/>
          <p:cNvSpPr/>
          <p:nvPr/>
        </p:nvSpPr>
        <p:spPr>
          <a:xfrm>
            <a:off x="2270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21974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0785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8788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861080" y="4941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ощади многоугольнико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295280" y="1905120"/>
            <a:ext cx="144792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67652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657600" y="1905120"/>
            <a:ext cx="1778040" cy="116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213440" y="2205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588000" y="1773360"/>
            <a:ext cx="1447920" cy="1447560"/>
          </a:xfrm>
          <a:prstGeom prst="rtTriangl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6589080" y="256536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5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1143000" y="3886200"/>
            <a:ext cx="2209680" cy="914400"/>
          </a:xfrm>
          <a:prstGeom prst="parallelogram">
            <a:avLst>
              <a:gd name="adj" fmla="val 6041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16765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058840" y="41148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3708360" y="3500280"/>
            <a:ext cx="2133720" cy="1295640"/>
          </a:xfrm>
          <a:prstGeom prst="triangle">
            <a:avLst>
              <a:gd name="adj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5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2"/>
          <p:cNvSpPr/>
          <p:nvPr/>
        </p:nvSpPr>
        <p:spPr>
          <a:xfrm>
            <a:off x="6553080" y="3581280"/>
            <a:ext cx="1295640" cy="1752840"/>
          </a:xfrm>
          <a:prstGeom prst="diamond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6553080" y="4457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7407720" y="4775040"/>
            <a:ext cx="137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2362320" y="5334120"/>
            <a:ext cx="2133360" cy="1143000"/>
          </a:xfrm>
          <a:custGeom>
            <a:avLst/>
            <a:gdLst>
              <a:gd name="textAreaLeft" fmla="*/ 444240 w 2133360"/>
              <a:gd name="textAreaRight" fmla="*/ 1689120 w 2133360"/>
              <a:gd name="textAreaTop" fmla="*/ 237960 h 1143000"/>
              <a:gd name="textAreaBottom" fmla="*/ 90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8"/>
          <p:cNvSpPr/>
          <p:nvPr/>
        </p:nvSpPr>
        <p:spPr>
          <a:xfrm flipV="1">
            <a:off x="2895480" y="53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2917440" y="55166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0"/>
          <p:cNvSpPr/>
          <p:nvPr/>
        </p:nvSpPr>
        <p:spPr>
          <a:xfrm>
            <a:off x="720108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9:32:01Z</dcterms:created>
  <dc:creator>Shurupan</dc:creator>
  <dc:description/>
  <dc:language>en-US</dc:language>
  <cp:lastModifiedBy>Коля</cp:lastModifiedBy>
  <dcterms:modified xsi:type="dcterms:W3CDTF">2013-03-30T22:04:28Z</dcterms:modified>
  <cp:revision>12</cp:revision>
  <dc:subject/>
  <dc:title>Площадь трапе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1000000000001024140</vt:lpwstr>
  </property>
</Properties>
</file>