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54F8-ADE6-437F-924E-FFF68462A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036C-55DD-44D9-9BE2-727966B3E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375F-CA52-49C5-877E-E0B1156E9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9701-313F-4FEE-BED3-B19559DE9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5833D-40B6-4AE7-AC02-6D2E1CF45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0FC51-19FC-485A-B993-C668FA7F5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B73F7-BBE2-4142-80B4-D2811C385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D72C9-138C-438B-BDEA-B5F250EB1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5AAD7-CCE5-4191-B116-1C4E7C2D6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E0483-6FE7-4932-8874-0128A6ECE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6DCE7-0000-4F54-AF57-6EEAD866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B409-6CFE-4CF5-ABC0-164766F8F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0501F-8927-4432-AF32-0193E097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3C5E5-5C07-4D5B-BDB9-6DEEA149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CE2B3-DF9B-4E1A-8EF4-85CF68828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922E8-2430-454F-9D9E-8DBB2BC1B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A584A-3C63-4AC8-B1F7-5424738C5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0EB2-D2B0-41BF-A2E8-22383C692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DC00-F8B7-49B1-9D06-4C3329C49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A6C0-9240-40F1-9317-4AEC985D2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2C47-DDEB-4D65-90D6-F5E63281F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3D5B-6206-4446-A868-90E63EB6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F3DA-519D-4B5F-9F63-5AE65D34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0AB7-538A-4AD6-8A75-5CA4475D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DE540-FC35-4B08-A9C4-FD174C61705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79083-32D0-4CEA-B108-55F75559CD9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www.sunhome.ru/UsersGallery/012008/1482304.jpg&amp;pageurl=http://www.sunhome.ru%2Fimage%2F110004&amp;id=28012842&amp;iid=4&amp;imgwidth=600&amp;imgheight=480&amp;imgsize=41483&amp;images_links=b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loza.tomsk.ru/pic/km/0453.jpg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img-2007-01.photosight.ru/08/1857181.jpg&amp;pageurl=http://www.photosight.ru%2Fphoto.php%3Fphotoid%3D1857181%26ref%3Dauthor&amp;id=28991741&amp;iid=2&amp;imgwidth=1000&amp;imgheight=684&amp;imgsize=126810&amp;images_links=b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www.domodedovo.ru/ru/main/news/magazine/new/images/0504_a04_02.jpg&amp;pageurl=http://www.domodedovo.ru%2Fru%2Fmain%2Fnews%2Fmagazine%2Fnew%2Fru%2F0504%2Fa04.asp&amp;id=16519450&amp;iid=4&amp;imgwidth=200&amp;imgheight=243&amp;imgsize=21047&amp;images_links=b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txt.newsru.co.il/pict/id/large/19554_20060306212945.jpg&amp;pageurl=http://txt.newsru.co.il%2Fpict%2Fbig%2F19554.html&amp;id=9949441&amp;iid=3&amp;imgwidth=320&amp;imgheight=240&amp;imgsize=43015&amp;images_links=b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www.hobbyforyou.ru/pictures/tovar/big/shop_1145882496_1.gif&amp;pageurl=http://www.hobbyforyou.ru%2Fcatalog%2F1031-4883.html&amp;id=31560522&amp;iid=0&amp;imgwidth=300&amp;imgheight=213&amp;imgsize=34929&amp;images_links=b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www.yuga.ru/media/Baster_s.jpg&amp;pageurl=http://www.yuga.ru%2Fnews%2F43627%2F&amp;id=37240060&amp;iid=6&amp;imgwidth=106&amp;imgheight=84&amp;imgsize=2630&amp;images_links=b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76360" y="764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66"/>
                </a:solidFill>
                <a:latin typeface="Arial"/>
              </a:rPr>
              <a:t>Англия и Россия: </a:t>
            </a:r>
            <a:br>
              <a:rPr sz="3600"/>
            </a:br>
            <a:r>
              <a:rPr b="1" i="1" lang="ru-RU" sz="3600" spc="-1" strike="noStrike">
                <a:solidFill>
                  <a:srgbClr val="006666"/>
                </a:solidFill>
                <a:latin typeface="Arial"/>
              </a:rPr>
              <a:t>сравним наши традици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00"/>
                </a:solidFill>
                <a:latin typeface="Verdana"/>
              </a:rPr>
              <a:t>Докладчик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00"/>
                </a:solidFill>
                <a:latin typeface="Verdana"/>
              </a:rPr>
              <a:t>Ученик 4 Б класс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00"/>
                </a:solidFill>
                <a:latin typeface="Verdana"/>
              </a:rPr>
              <a:t>МОУ «НОШ №1»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00"/>
                </a:solidFill>
                <a:latin typeface="Verdana"/>
              </a:rPr>
              <a:t>Китаев Алекс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Традиция 7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«Левостороннее движение транспорта»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71280" y="1827000"/>
            <a:ext cx="4895640" cy="23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 правый руль и левостороннее движение в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нглии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нают все, поэтому при переходе улицы на всякий случай смотрите во всех направлениях. Левостороннее движение берет начало с рыцарских времен, когда всадники ездили слева, чтобы правая рука, в которой они держали оружие, была готова моментально нанести удар едущему навстречу врагу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5" descr="i?id=19228317&amp;tov=3"/>
          <p:cNvPicPr/>
          <p:nvPr/>
        </p:nvPicPr>
        <p:blipFill>
          <a:blip r:embed="rId1"/>
          <a:stretch/>
        </p:blipFill>
        <p:spPr>
          <a:xfrm>
            <a:off x="6372360" y="1628640"/>
            <a:ext cx="2232000" cy="23767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8"/>
          <p:cNvSpPr/>
          <p:nvPr/>
        </p:nvSpPr>
        <p:spPr>
          <a:xfrm>
            <a:off x="2916360" y="4076640"/>
            <a:ext cx="5976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Росс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правостороннее движение транспорта, поэтому при переходе проезжей части надо смотреть сначала налево, откуда движется транспорт, а, дойдя до середины – направо, не забывая при этом смотреть, что делается вокруг. Правосторонне движение в России сложилось исторически в те времена, когда по улицам ездили конные упряжки. Они должны были придерживаться правой стороны, чтобы не сталкиватьс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10" descr="1039868"/>
          <p:cNvPicPr/>
          <p:nvPr/>
        </p:nvPicPr>
        <p:blipFill>
          <a:blip r:embed="rId2"/>
          <a:stretch/>
        </p:blipFill>
        <p:spPr>
          <a:xfrm>
            <a:off x="250920" y="4365720"/>
            <a:ext cx="266364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Традиция 8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«Национальные виды спорта»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00000" y="1700280"/>
            <a:ext cx="4967280" cy="21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звлечения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нгличан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также являются традиционными. Национальными видами спорта по праву считаются гольф, крикет, теннис, конное поло, рыбная ловля и охота на лис. Крикет для англичан - больше, чем игра. Англичане играют в нее каждое воскресенье. Если вы действительно хотите завоевать их доверие, попробуйте изучить крикетные правила.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7" descr="i?id=28012842&amp;tov=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43640" y="1700280"/>
            <a:ext cx="2305080" cy="20556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4"/>
          <p:cNvSpPr/>
          <p:nvPr/>
        </p:nvSpPr>
        <p:spPr>
          <a:xfrm>
            <a:off x="2916360" y="3933720"/>
            <a:ext cx="59767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Руси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здавна все, от мала до велика, принимали участие в празднествах и торжествах. В празднество, редкий свободный от работы день, люди стремились отдохнуть от тяжелого каждодневного труда, играя, состязаясь или просто участвуя в забавах в качестве зрителей. Но не только забавами и развлечениями служили им игры, а еще и воинской тренировкой перед боями с противниками. Национальными видами спорта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русских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являются лапта, городки и гирьевой спорт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16" descr="Картинка 10 из 80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9280" y="4149720"/>
            <a:ext cx="2737080" cy="21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Традиция 9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«Разговоры о погоде»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8920" y="3500280"/>
            <a:ext cx="6769080" cy="30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Еще одной </a:t>
            </a: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английской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слабостью является погода. Все шутки и насмешки, которым они за это подвергаются, совершенно справедливы. Любой английский разговор действительно крутится вокруг этой темы, даже полуофициальные письма из организаций содержат упоминания о хорошей или плохой погоде. Главная проблема заключается в том, что англичане убеждены, что у них очень плохая, переменчивая и непредсказуемая погода, которая, по их мнению, и определяет многие стороны их жизни и характера. Такая погода, туманность и дождливость, зависит, прежде всего, от географического расположения Англии, так как это остров со всех сторон омываемый морями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Picture 4" descr="i?id=28991741&amp;tov=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03280" y="1628640"/>
            <a:ext cx="2374920" cy="18003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6"/>
          <p:cNvSpPr/>
          <p:nvPr/>
        </p:nvSpPr>
        <p:spPr>
          <a:xfrm>
            <a:off x="4356000" y="1773360"/>
            <a:ext cx="4464000" cy="17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Русски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тоже говорят о погоде, но для них она не имеет такого важного значения, как для англичан. В России нет таких частых туманов и дождей, так как страна расположена на крупном материк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Традиция 10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трогое (английское) воспитание»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5640" y="1699920"/>
            <a:ext cx="42814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Детей в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нгл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принято держать в строгости, и чем выше в обществе вы находитесь, тем больше строгостей. Нередко приходится видеть, как в богатом английском доме, с огромной гостиной, гигантской спальней, величественным кабинетом так называемая детская комната находится почти на чердаке и представляет собой убогую каморку, и делается это вполне осознанно, из принципиальных соображений, чтобы не нежить, а закалять. Не случайно, видимо, движение бойскаутов зародилось в начале XX века именно в Англии, и лозунгом его стало «Будь готов!». Подлинный англичанин должен быть готов к любым трудностям в любую минуту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5651640" y="4508640"/>
            <a:ext cx="30240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Росс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воспитание носит больше демократичный характер, родители более снисходительны к своим детям и менее строг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Picture 8" descr="o-00003514-a-00000699"/>
          <p:cNvPicPr/>
          <p:nvPr/>
        </p:nvPicPr>
        <p:blipFill>
          <a:blip r:embed="rId1"/>
          <a:stretch/>
        </p:blipFill>
        <p:spPr>
          <a:xfrm>
            <a:off x="6084720" y="1844640"/>
            <a:ext cx="1800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Традиция 11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«Частные школы-пансионаты»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496872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just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альчики и девочки в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нгл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очень часто учатся в частных школах-пансионатах вдали от родителей, домой приезжают они только на каникулы. Традиция учиться в подобных школах зародилась в средние века, когда англичане уезжали на работу в колонии и оставляли своих детей в школах-пансионатах. Девочки учатся в одних пансионатах, мальчики – в других. Встречаются очень редко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4" descr="i?id=3572327&amp;tov=0"/>
          <p:cNvPicPr/>
          <p:nvPr/>
        </p:nvPicPr>
        <p:blipFill>
          <a:blip r:embed="rId1"/>
          <a:stretch/>
        </p:blipFill>
        <p:spPr>
          <a:xfrm>
            <a:off x="6156360" y="1916280"/>
            <a:ext cx="2448000" cy="22320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3708360" y="4797360"/>
            <a:ext cx="49690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Росс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девочки и мальчики живут со своими родителями и учатся вместе, как правило, в общеобразовательных школах. В последние годы тоже стали появляться частные школы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ходства и различия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английских и русских традиций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     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116000" y="1700280"/>
          <a:ext cx="7343640" cy="4911480"/>
        </p:xfrm>
        <a:graphic>
          <a:graphicData uri="http://schemas.openxmlformats.org/drawingml/2006/table">
            <a:tbl>
              <a:tblPr/>
              <a:tblGrid>
                <a:gridCol w="3672000"/>
                <a:gridCol w="3671640"/>
              </a:tblGrid>
              <a:tr h="49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нгл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осс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1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76280" indent="-476280">
                        <a:spcBef>
                          <a:spcPts val="400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ай пьют шесть раз в д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476280" indent="-476280">
                        <a:spcBef>
                          <a:spcPts val="400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онархия (королев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476280" indent="-476280">
                        <a:spcBef>
                          <a:spcPts val="400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нгличане вежливы и уравновешен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476280" indent="-476280">
                        <a:spcBef>
                          <a:spcPts val="400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астный дом с камин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476280" indent="-476280">
                        <a:spcBef>
                          <a:spcPts val="400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юбовь к сада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476280" indent="-476280">
                        <a:spcBef>
                          <a:spcPts val="400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юбовь к животны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476280" indent="-476280">
                        <a:spcBef>
                          <a:spcPts val="400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евостороннее движение транспор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476280" indent="-476280">
                        <a:spcBef>
                          <a:spcPts val="300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циональные виды спорта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гольф, крикет, конное поло, теннис, рыбная ловля и охота на лис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476280" indent="-476280">
                        <a:spcBef>
                          <a:spcPts val="400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азговоры о погод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476280" indent="-476280">
                        <a:spcBef>
                          <a:spcPts val="400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трогое воспит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476280" indent="-476280">
                        <a:spcBef>
                          <a:spcPts val="400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астные школы пансиона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476280" indent="-4762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такой тради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едерация (президен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усские не очень вежливы и более эмоциональ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аще кварти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такой тради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такой тради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авостороннее движение транспор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циональные виды спорта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лапта, городки и гирьевой спорт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такой тради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мократическое воспит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щеобразовательные школ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71640" y="301320"/>
            <a:ext cx="7711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Сравнительный анализ уровня знаний об английских традициях среди учеников 3-х и 4-х классов.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78487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анкетировании участвовало 149 человек, из них: 74 человека (50%) – ученики 3-х классов, 75 человек  (50%) – ученики 4-х классо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3" name="Group 49"/>
          <p:cNvGrpSpPr/>
          <p:nvPr/>
        </p:nvGrpSpPr>
        <p:grpSpPr>
          <a:xfrm>
            <a:off x="1332000" y="2852640"/>
            <a:ext cx="6049800" cy="3786120"/>
            <a:chOff x="1332000" y="2852640"/>
            <a:chExt cx="6049800" cy="3786120"/>
          </a:xfrm>
        </p:grpSpPr>
        <p:sp>
          <p:nvSpPr>
            <p:cNvPr id="154" name="AutoShape 50"/>
            <p:cNvSpPr/>
            <p:nvPr/>
          </p:nvSpPr>
          <p:spPr>
            <a:xfrm>
              <a:off x="1332000" y="2852640"/>
              <a:ext cx="6049800" cy="37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Rectangle 51"/>
            <p:cNvSpPr/>
            <p:nvPr/>
          </p:nvSpPr>
          <p:spPr>
            <a:xfrm>
              <a:off x="1393560" y="2923200"/>
              <a:ext cx="5914440" cy="3644640"/>
            </a:xfrm>
            <a:prstGeom prst="rect">
              <a:avLst/>
            </a:prstGeom>
            <a:solidFill>
              <a:srgbClr val="ffffff"/>
            </a:solidFill>
            <a:ln w="10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Rectangle 52"/>
            <p:cNvSpPr/>
            <p:nvPr/>
          </p:nvSpPr>
          <p:spPr>
            <a:xfrm>
              <a:off x="1972080" y="3767400"/>
              <a:ext cx="5224320" cy="2224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" name="Line 53"/>
            <p:cNvSpPr/>
            <p:nvPr/>
          </p:nvSpPr>
          <p:spPr>
            <a:xfrm>
              <a:off x="1972080" y="5709960"/>
              <a:ext cx="52243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Line 54"/>
            <p:cNvSpPr/>
            <p:nvPr/>
          </p:nvSpPr>
          <p:spPr>
            <a:xfrm>
              <a:off x="1972080" y="5442120"/>
              <a:ext cx="52243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Line 55"/>
            <p:cNvSpPr/>
            <p:nvPr/>
          </p:nvSpPr>
          <p:spPr>
            <a:xfrm>
              <a:off x="1972080" y="5161320"/>
              <a:ext cx="52243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Line 56"/>
            <p:cNvSpPr/>
            <p:nvPr/>
          </p:nvSpPr>
          <p:spPr>
            <a:xfrm>
              <a:off x="1972080" y="4879440"/>
              <a:ext cx="52243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Line 57"/>
            <p:cNvSpPr/>
            <p:nvPr/>
          </p:nvSpPr>
          <p:spPr>
            <a:xfrm>
              <a:off x="1972080" y="4597920"/>
              <a:ext cx="52243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Line 58"/>
            <p:cNvSpPr/>
            <p:nvPr/>
          </p:nvSpPr>
          <p:spPr>
            <a:xfrm>
              <a:off x="1972080" y="4330800"/>
              <a:ext cx="52243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Line 59"/>
            <p:cNvSpPr/>
            <p:nvPr/>
          </p:nvSpPr>
          <p:spPr>
            <a:xfrm>
              <a:off x="1972080" y="4048920"/>
              <a:ext cx="52243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Line 60"/>
            <p:cNvSpPr/>
            <p:nvPr/>
          </p:nvSpPr>
          <p:spPr>
            <a:xfrm>
              <a:off x="1972080" y="3767400"/>
              <a:ext cx="52243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Rectangle 61"/>
            <p:cNvSpPr/>
            <p:nvPr/>
          </p:nvSpPr>
          <p:spPr>
            <a:xfrm>
              <a:off x="1972080" y="3767400"/>
              <a:ext cx="5224320" cy="2224080"/>
            </a:xfrm>
            <a:prstGeom prst="rect">
              <a:avLst/>
            </a:prstGeom>
            <a:noFill/>
            <a:ln w="10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6" name="Rectangle 62"/>
            <p:cNvSpPr/>
            <p:nvPr/>
          </p:nvSpPr>
          <p:spPr>
            <a:xfrm>
              <a:off x="2748960" y="5230800"/>
              <a:ext cx="1047240" cy="760680"/>
            </a:xfrm>
            <a:prstGeom prst="rect">
              <a:avLst/>
            </a:prstGeom>
            <a:solidFill>
              <a:srgbClr val="9999ff"/>
            </a:solidFill>
            <a:ln w="10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Verdana"/>
                </a:rPr>
                <a:t>76,54%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Rectangle 63"/>
            <p:cNvSpPr/>
            <p:nvPr/>
          </p:nvSpPr>
          <p:spPr>
            <a:xfrm>
              <a:off x="5360760" y="4091400"/>
              <a:ext cx="1047240" cy="1900440"/>
            </a:xfrm>
            <a:prstGeom prst="rect">
              <a:avLst/>
            </a:prstGeom>
            <a:solidFill>
              <a:srgbClr val="9999ff"/>
            </a:solidFill>
            <a:ln w="10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Verdana"/>
                </a:rPr>
                <a:t>77,36%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" name="Line 64"/>
            <p:cNvSpPr/>
            <p:nvPr/>
          </p:nvSpPr>
          <p:spPr>
            <a:xfrm>
              <a:off x="1972080" y="3767400"/>
              <a:ext cx="360" cy="2224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9" name="Line 65"/>
            <p:cNvSpPr/>
            <p:nvPr/>
          </p:nvSpPr>
          <p:spPr>
            <a:xfrm>
              <a:off x="1923120" y="5991840"/>
              <a:ext cx="489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Line 66"/>
            <p:cNvSpPr/>
            <p:nvPr/>
          </p:nvSpPr>
          <p:spPr>
            <a:xfrm>
              <a:off x="1923120" y="5709960"/>
              <a:ext cx="489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" name="Line 67"/>
            <p:cNvSpPr/>
            <p:nvPr/>
          </p:nvSpPr>
          <p:spPr>
            <a:xfrm>
              <a:off x="1923120" y="5442120"/>
              <a:ext cx="489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Line 68"/>
            <p:cNvSpPr/>
            <p:nvPr/>
          </p:nvSpPr>
          <p:spPr>
            <a:xfrm>
              <a:off x="1923120" y="5161320"/>
              <a:ext cx="489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Line 69"/>
            <p:cNvSpPr/>
            <p:nvPr/>
          </p:nvSpPr>
          <p:spPr>
            <a:xfrm>
              <a:off x="1923120" y="4879440"/>
              <a:ext cx="489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70"/>
            <p:cNvSpPr/>
            <p:nvPr/>
          </p:nvSpPr>
          <p:spPr>
            <a:xfrm>
              <a:off x="1923120" y="4597920"/>
              <a:ext cx="489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" name="Line 71"/>
            <p:cNvSpPr/>
            <p:nvPr/>
          </p:nvSpPr>
          <p:spPr>
            <a:xfrm>
              <a:off x="1923120" y="4330800"/>
              <a:ext cx="489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" name="Line 72"/>
            <p:cNvSpPr/>
            <p:nvPr/>
          </p:nvSpPr>
          <p:spPr>
            <a:xfrm>
              <a:off x="1923120" y="4048920"/>
              <a:ext cx="489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" name="Line 73"/>
            <p:cNvSpPr/>
            <p:nvPr/>
          </p:nvSpPr>
          <p:spPr>
            <a:xfrm>
              <a:off x="1923120" y="3767400"/>
              <a:ext cx="489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Line 74"/>
            <p:cNvSpPr/>
            <p:nvPr/>
          </p:nvSpPr>
          <p:spPr>
            <a:xfrm>
              <a:off x="1972080" y="5991840"/>
              <a:ext cx="52243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" name="Line 75"/>
            <p:cNvSpPr/>
            <p:nvPr/>
          </p:nvSpPr>
          <p:spPr>
            <a:xfrm flipV="1">
              <a:off x="1972080" y="5991480"/>
              <a:ext cx="360" cy="55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0" name="Line 76"/>
            <p:cNvSpPr/>
            <p:nvPr/>
          </p:nvSpPr>
          <p:spPr>
            <a:xfrm flipV="1">
              <a:off x="4584960" y="5991480"/>
              <a:ext cx="720" cy="55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1" name="Line 77"/>
            <p:cNvSpPr/>
            <p:nvPr/>
          </p:nvSpPr>
          <p:spPr>
            <a:xfrm flipV="1">
              <a:off x="7196760" y="5991480"/>
              <a:ext cx="720" cy="55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Rectangle 78"/>
            <p:cNvSpPr/>
            <p:nvPr/>
          </p:nvSpPr>
          <p:spPr>
            <a:xfrm>
              <a:off x="1911960" y="3061800"/>
              <a:ext cx="4176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% учеников, знающих английские традиции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Rectangle 79"/>
            <p:cNvSpPr/>
            <p:nvPr/>
          </p:nvSpPr>
          <p:spPr>
            <a:xfrm>
              <a:off x="1676160" y="58780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76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4" name="Rectangle 80"/>
            <p:cNvSpPr/>
            <p:nvPr/>
          </p:nvSpPr>
          <p:spPr>
            <a:xfrm>
              <a:off x="1538280" y="559692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76,2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Rectangle 81"/>
            <p:cNvSpPr/>
            <p:nvPr/>
          </p:nvSpPr>
          <p:spPr>
            <a:xfrm>
              <a:off x="1538280" y="533088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76,4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6" name="Rectangle 82"/>
            <p:cNvSpPr/>
            <p:nvPr/>
          </p:nvSpPr>
          <p:spPr>
            <a:xfrm>
              <a:off x="1538280" y="504936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76,6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" name="Rectangle 83"/>
            <p:cNvSpPr/>
            <p:nvPr/>
          </p:nvSpPr>
          <p:spPr>
            <a:xfrm>
              <a:off x="1538280" y="476676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76,8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Rectangle 84"/>
            <p:cNvSpPr/>
            <p:nvPr/>
          </p:nvSpPr>
          <p:spPr>
            <a:xfrm>
              <a:off x="1676160" y="448596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77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" name="Rectangle 85"/>
            <p:cNvSpPr/>
            <p:nvPr/>
          </p:nvSpPr>
          <p:spPr>
            <a:xfrm>
              <a:off x="1538280" y="421776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77,2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Rectangle 86"/>
            <p:cNvSpPr/>
            <p:nvPr/>
          </p:nvSpPr>
          <p:spPr>
            <a:xfrm>
              <a:off x="1538280" y="393552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77,4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1" name="Rectangle 87"/>
            <p:cNvSpPr/>
            <p:nvPr/>
          </p:nvSpPr>
          <p:spPr>
            <a:xfrm>
              <a:off x="1538280" y="365436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77,6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" name="Rectangle 88"/>
            <p:cNvSpPr/>
            <p:nvPr/>
          </p:nvSpPr>
          <p:spPr>
            <a:xfrm>
              <a:off x="2882160" y="6147000"/>
              <a:ext cx="755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3-е классы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" name="Rectangle 89"/>
            <p:cNvSpPr/>
            <p:nvPr/>
          </p:nvSpPr>
          <p:spPr>
            <a:xfrm>
              <a:off x="5493960" y="6147000"/>
              <a:ext cx="755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4-е классы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" name="Rectangle 90"/>
            <p:cNvSpPr/>
            <p:nvPr/>
          </p:nvSpPr>
          <p:spPr>
            <a:xfrm>
              <a:off x="1393560" y="2923200"/>
              <a:ext cx="5914440" cy="3644640"/>
            </a:xfrm>
            <a:prstGeom prst="rect">
              <a:avLst/>
            </a:prstGeom>
            <a:noFill/>
            <a:ln w="10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               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ЗАКЛЮЧЕНИЕ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78487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ультура и традиции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нгл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Росс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значительно различаются. Это обусловлено географическим расположением стран, их историей и  климато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533520" algn="just">
              <a:lnSpc>
                <a:spcPct val="11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нглия – очень маленькая страна, окруженная морями. Это значит, что  климат влажный. Погода часто сырая, пасмурная, поэтому англичане так часто пьют чай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533520" algn="just">
              <a:lnSpc>
                <a:spcPct val="11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оссия - огромная страна. В ней тоже есть моря, но большая часть страны удалена от них. Климат в нашей стране не такой сырой. Но в некоторых областях он даже сухо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533520" algn="just">
              <a:lnSpc>
                <a:spcPct val="11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стории развития английского и русского народов тоже очень отличаются друг от друг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533520" algn="just">
              <a:lnSpc>
                <a:spcPct val="11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ведя анкетирование среди учеников 3-4 классов нашей школы, я сделал заключение, что ребята  знают об английских традициях, но не обо всех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533520" algn="just">
              <a:lnSpc>
                <a:spcPct val="11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 вопрос о сходстве русских и английских традиций большинство учеников ответили «нет».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Цель и задач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99640" y="1628640"/>
            <a:ext cx="7993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46040" indent="176400" algn="just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Актуальность исследования: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в наше время между странами стираются границы, люди путешествуют, поэтому очень важно знать традиции и язык страны, которую посещаешь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46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266760" algn="just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Целью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анного доклада является раскрытие особенностей английской культуры и ее традиций путем сравнения культур Англии и Росс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26676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460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)  выявить традиции, существующие в Англи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460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)  найти сходство и различие в английских и русских традициях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460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3) оценить уровень знаний об английских традициях между учениками 3-х и 4-х классов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460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4) доказать необходимость изучения народных традиций в целях лучшего понимания английского и русского языко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460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46040" indent="17640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ипотезы, которые проверялись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46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) Есть ли сходство в английских и русских традициях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460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) Оказывает ли влияние географическое расположение, история страны и ее климат на культуру народ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46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46040" indent="176400" algn="just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бъектом исследования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являются английские и русские народные традиц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460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266760" algn="just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Использованные методы: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анализ литературы, наблюдение, сравнение, анкетирова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. Английские традиции, их сходство и различие с русскими.</a:t>
            </a:r>
            <a:br>
              <a:rPr sz="2200"/>
            </a:b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Традиция 1 «Чаепитие»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5329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 Англии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сть традиция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пить чай шесть раз в ден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1-я чашка ча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гличане просыпаются в 6-7 утра, и пьют чай в постели до умывания и одевания. Традиция возникла вследствие сырого климата Англии и утренних туманов. Чашечка чая помогает им проснуться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2-я чашка ча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ле того, как они просыпаются, они идут в гостиную завтракать. На завтрак англичане пьют чай с молоком и едят, чаще всего, овсяную кашу, рыбу или яичницу с беконом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3-я чашка ча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торой завтрак у англичан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Lunch time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наступает с 12.00 до 14.00 часов. В это время они также употребляют ча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4-я чашка ча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ive-o-clock"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– это английский полдник в 17.00, сопровождается чаем и небольшими закускам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5-я чашка ча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ед у англичан наступает очень поздно в 19.00 – 20.00, сопровождается чаем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("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igh tea")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и обильным употреблением еды в гостиной за огромным круглым столом у камина, где ведутся бесед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6-я чашка ча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ле позднего ужина, незадолго до сна англичане могут выпить еще одну чашечку ча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6084720" y="1557360"/>
            <a:ext cx="2808360" cy="46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Росси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есть традиция чаепития, но со временем она значительно изменилась. Раньше чай был очень дорогой, и его могли себе позволить не все. Поэтому на Руси появилась чайная церемония, которая состояла в умении заварить и разлить чай так, чтобы каждый из гостей получил свою порцию чая одинаковой крепости. Чай заваривали в самоваре, а потом пили из чашек и глубоких блюдечек вприкуску с вареньем и сахаром. В наше время это уже не церемония, а обычное вечернее чаепитие или семейные субботние посиделки с тортами, пирогами, вареньем и конфетам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Line 5"/>
          <p:cNvSpPr/>
          <p:nvPr/>
        </p:nvSpPr>
        <p:spPr>
          <a:xfrm>
            <a:off x="6084720" y="1628640"/>
            <a:ext cx="0" cy="496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Традиция 1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«Чаепитие»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84872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начительно различаются традиции чаепития в наших странах: английская традиция зародилась в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XVI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еке, с помощью чая англичане</a:t>
            </a: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ланируют свой день до сих пор, на Руси чай появился  позднее в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XVII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еке и с тех пор данная традиция очень сильно изменилас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4" descr="i?id=16519450&amp;tov=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92360" y="3789360"/>
            <a:ext cx="2087640" cy="2232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5148360" y="1700280"/>
            <a:ext cx="316872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Традиция 2 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«Монархия»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6560" y="1700280"/>
            <a:ext cx="3745080" cy="28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онарх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нглии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есть королева, которая реально не правит страной. Она – часть традиций этой страны. Англичане считают, что монархия способствует сплочению нации и поддержанию национального дух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Picture 9" descr="i?id=9949441&amp;tov=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6360" y="4653000"/>
            <a:ext cx="2590920" cy="20206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0"/>
          <p:cNvSpPr/>
          <p:nvPr/>
        </p:nvSpPr>
        <p:spPr>
          <a:xfrm>
            <a:off x="4716360" y="3573360"/>
            <a:ext cx="4032360" cy="32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Россия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– это страна, которой руководит президент, он обладает реальной властью и может принимать самостоятельные решения. До Великой Октябрьской Социалистической Революции в России была монархия, и во главе государства стоял царь-император, который обладал властью и правил страно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Line 11"/>
          <p:cNvSpPr/>
          <p:nvPr/>
        </p:nvSpPr>
        <p:spPr>
          <a:xfrm>
            <a:off x="4716360" y="1628640"/>
            <a:ext cx="71640" cy="489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16" descr="i?id=27993184&amp;tov=2"/>
          <p:cNvPicPr/>
          <p:nvPr/>
        </p:nvPicPr>
        <p:blipFill>
          <a:blip r:embed="rId3"/>
          <a:stretch/>
        </p:blipFill>
        <p:spPr>
          <a:xfrm>
            <a:off x="6012000" y="1628640"/>
            <a:ext cx="1368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6666"/>
                </a:solidFill>
                <a:latin typeface="Arial"/>
              </a:rPr>
              <a:t>Традиция 3 </a:t>
            </a:r>
            <a:br>
              <a:rPr sz="3100"/>
            </a:br>
            <a:r>
              <a:rPr b="1" lang="ru-RU" sz="3100" spc="-1" strike="noStrike">
                <a:solidFill>
                  <a:srgbClr val="006666"/>
                </a:solidFill>
                <a:latin typeface="Arial"/>
              </a:rPr>
              <a:t>«Вежливость и уравновешенность»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1042920" y="1906920"/>
            <a:ext cx="3745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нгличан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ежливы и часто говорят  «Спасибо» и «Я сожалею». Они не разговаривают громко на улице. Они не толкаются в автобусах, чтобы занять свободное место, они покупают билеты с указанием места в очередях на автобусных остановках. Жители Англии не обмениваются рукопожатием, встречая друг друга, они не показывают свои эмоции даже в трагических ситуация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14"/>
          <p:cNvSpPr/>
          <p:nvPr/>
        </p:nvSpPr>
        <p:spPr>
          <a:xfrm>
            <a:off x="5003640" y="1757160"/>
            <a:ext cx="3816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отличие от англичан,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русски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не очень вежливы и более эмоциональны, но добродушны и очень гостеприимны. В давние времена русский человек, выходя из дому, оставлял дверь отворенною и пищу готовую для странника, поэтому и ходили легенды о широте русской души. В силу большей эмоциональности русским свойственны открытость, отзывчивость и задушевность в общени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Line 22"/>
          <p:cNvSpPr/>
          <p:nvPr/>
        </p:nvSpPr>
        <p:spPr>
          <a:xfrm>
            <a:off x="4932360" y="1700280"/>
            <a:ext cx="0" cy="44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Традиция 4</a:t>
            </a:r>
            <a:br>
              <a:rPr sz="3200"/>
            </a:b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«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Любовь к своему дому»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4699080" cy="27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3" marL="52200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Англичане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любят бывать дома. Они говорят «Мой дом - моя крепость» (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y house is my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astle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), потому что они не желают, чтобы то, что происходит дома, знали соседи. Англичане предпочитают жить в отдельных домиках, построенных для одной семьи. Центр дома – это камин, вокруг которого любят сидеть все члены семьи и смотреть на огонь, обмениваясь новостями за день. На каминной полке часто размещаются часы, зеркало или фотографии.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Picture 4" descr="i?id=31560522&amp;tov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1700280"/>
            <a:ext cx="2519640" cy="223344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5"/>
          <p:cNvSpPr/>
          <p:nvPr/>
        </p:nvSpPr>
        <p:spPr>
          <a:xfrm>
            <a:off x="4356000" y="4292640"/>
            <a:ext cx="439272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538200" indent="54144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Русские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любят свой дом, но чаще всего это квартира, а еще больше им нравится приглашать людей в гости или ходить самим, потому что они более гостеприимны и хлебосольны, чем англичане. Русские люди более открыты и часто интересуются делами соседей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7" descr="i?id=33968621&amp;tov=8"/>
          <p:cNvPicPr/>
          <p:nvPr/>
        </p:nvPicPr>
        <p:blipFill>
          <a:blip r:embed="rId3"/>
          <a:stretch/>
        </p:blipFill>
        <p:spPr>
          <a:xfrm>
            <a:off x="1187280" y="4724280"/>
            <a:ext cx="31687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Традиция 5 «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Любовь к садам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(Английский сад)»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8" name="Picture 4" descr="i?id=41069591&amp;tov=3"/>
          <p:cNvPicPr/>
          <p:nvPr/>
        </p:nvPicPr>
        <p:blipFill>
          <a:blip r:embed="rId1"/>
          <a:stretch/>
        </p:blipFill>
        <p:spPr>
          <a:xfrm>
            <a:off x="1332000" y="1916280"/>
            <a:ext cx="2519280" cy="216036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8"/>
          <p:cNvSpPr/>
          <p:nvPr/>
        </p:nvSpPr>
        <p:spPr>
          <a:xfrm>
            <a:off x="4140360" y="1766160"/>
            <a:ext cx="4535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Еще больше чувств вызывает у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нгличанин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сад. Английские сады, главное в стиле которых — искусная имитация естественной природы, созданная человеческими руками 'дикость', являются сильнейшим национальным увлечение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395280" y="4292640"/>
            <a:ext cx="4535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русских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не у всех есть сады, обычно это дача с огородом. В России стремятся использовать сады, в первую очередь, не для декоративности, а для выращивания культурных растений и получения урожа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14" descr="i?id=77145168&amp;tov=6"/>
          <p:cNvPicPr/>
          <p:nvPr/>
        </p:nvPicPr>
        <p:blipFill>
          <a:blip r:embed="rId2"/>
          <a:stretch/>
        </p:blipFill>
        <p:spPr>
          <a:xfrm>
            <a:off x="5292720" y="4149720"/>
            <a:ext cx="30243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Традиция 6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«Любовь к животным»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468000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 algn="just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Англичан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очень любят домашних животных. Они имеют приблизительно пять миллионов собак, почти столько же котов, 3 миллиона попугаев и других птиц, рыб в аквариумах - и 1 миллион экзотических домашних животных, типа рептилий. В Великобритании они имеют специальные магазины собаки, продающие пищу, одежду и другие вещи для собак. Есть салоны парикмахерских услуг для собак и кладбища для собак. В Великобритании домашние животные могут послать Рождественские открытки своим друзьям. Есть специальные гостиницы животных в аэропортах. Английские люди полагают, что они - единственная нация на земле, которая является действительно доброй к животным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9" descr="i?id=37240060&amp;tov=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27640" y="1700280"/>
            <a:ext cx="1729080" cy="151272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2"/>
          <p:cNvSpPr/>
          <p:nvPr/>
        </p:nvSpPr>
        <p:spPr>
          <a:xfrm>
            <a:off x="5580000" y="3555720"/>
            <a:ext cx="3240000" cy="29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Русские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тоже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любят животных, но, к сожалению, в России не у всех есть возможность содержать крупных представителей животного мира. Чаще всего жители России могут позволить себе мелких животных, таких как: кошки, собаки, мелкие грызуны и попугаи. И услуги по уходу за животными в нашей стране так не распространены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8:17:15Z</dcterms:created>
  <dc:creator>Светлана</dc:creator>
  <dc:description/>
  <dc:language>en-US</dc:language>
  <cp:lastModifiedBy>Коля</cp:lastModifiedBy>
  <dcterms:modified xsi:type="dcterms:W3CDTF">2013-06-27T20:47:33Z</dcterms:modified>
  <cp:revision>137</cp:revision>
  <dc:subject/>
  <dc:title>Слайд 1</dc:title>
</cp:coreProperties>
</file>