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F6E-4B0F-43A1-8EF3-96A07A0F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E45-6BED-40D7-B43E-F022D782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BB5-74A6-4940-B993-214F1259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3A6-EC6D-45DD-BD61-C749952B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F36C-5430-4865-B9E2-4C9E705E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ADB1-181C-4CEC-9012-98B59C90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2A52-C6D2-4DAA-A585-129FBCEC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0B22-4312-47A1-8B84-3B3ACA06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4EB6-2AB7-4A20-BA1C-EF502FEA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6287-BACE-4DD0-B650-0D756657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B57C-5910-4D7A-9838-5A7754F4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378-52D4-4DAA-B751-42928982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42E6-7062-4FF3-9000-D54A36C6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E7E-9B40-4428-BB0C-96543F16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FA29-22B4-4617-A0BA-020C35C3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E799-E29D-489E-A742-B6A487AD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6893-0A04-4768-A6A3-F0F34821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A5F-AA70-40E9-A2E9-E3314E2E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1BF-F68D-4251-98D7-5EA7AA86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FC8-BE6B-4E8D-B892-694B39E2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A2C-64FB-48F8-88EE-135822E8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1E4-8DB9-45B3-AEE9-3DF5348C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C89-EA27-465E-A91D-F00F2D75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16F-F488-4F0A-9271-AF495341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0B43-AA8E-4C83-9A04-20A8652DC8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B469-BF83-4B43-BFB1-F2967C3FFF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unhome.ru/UsersGallery/012008/1482304.jpg&amp;pageurl=http://www.sunhome.ru%2Fimage%2F110004&amp;id=28012842&amp;iid=4&amp;imgwidth=600&amp;imgheight=480&amp;imgsize=41483&amp;images_links=b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loza.tomsk.ru/pic/km/0453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img-2007-01.photosight.ru/08/1857181.jpg&amp;pageurl=http://www.photosight.ru%2Fphoto.php%3Fphotoid%3D1857181%26ref%3Dauthor&amp;id=28991741&amp;iid=2&amp;imgwidth=1000&amp;imgheight=684&amp;imgsize=126810&amp;images_links=b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domodedovo.ru/ru/main/news/magazine/new/images/0504_a04_02.jpg&amp;pageurl=http://www.domodedovo.ru%2Fru%2Fmain%2Fnews%2Fmagazine%2Fnew%2Fru%2F0504%2Fa04.asp&amp;id=16519450&amp;iid=4&amp;imgwidth=200&amp;imgheight=243&amp;imgsize=21047&amp;images_links=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txt.newsru.co.il/pict/id/large/19554_20060306212945.jpg&amp;pageurl=http://txt.newsru.co.il%2Fpict%2Fbig%2F19554.html&amp;id=9949441&amp;iid=3&amp;imgwidth=320&amp;imgheight=240&amp;imgsize=43015&amp;images_links=b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obbyforyou.ru/pictures/tovar/big/shop_1145882496_1.gif&amp;pageurl=http://www.hobbyforyou.ru%2Fcatalog%2F1031-4883.html&amp;id=31560522&amp;iid=0&amp;imgwidth=300&amp;imgheight=213&amp;imgsize=34929&amp;images_links=b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yuga.ru/media/Baster_s.jpg&amp;pageurl=http://www.yuga.ru%2Fnews%2F43627%2F&amp;id=37240060&amp;iid=6&amp;imgwidth=106&amp;imgheight=84&amp;imgsize=2630&amp;images_links=b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Англия и Россия: </a:t>
            </a:r>
            <a:br>
              <a:rPr sz="3600"/>
            </a:b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сравним наши тради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Докладчи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Ученик 4 Б кла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МОУ «НОШ №1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Китаев Алек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7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Левостороннее движение транспорта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827000"/>
            <a:ext cx="489564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 правый руль и левостороннее движение 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ют все, поэтому при переходе улицы на всякий случай смотрите во всех направлениях. Левостороннее движение берет начало с рыцарских времен, когда всадники ездили слева, чтобы правая рука, в которой они держали оружие, была готова моментально нанести удар едущему навстречу враг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i?id=19228317&amp;tov=3"/>
          <p:cNvPicPr/>
          <p:nvPr/>
        </p:nvPicPr>
        <p:blipFill>
          <a:blip r:embed="rId1"/>
          <a:stretch/>
        </p:blipFill>
        <p:spPr>
          <a:xfrm>
            <a:off x="6372360" y="1628640"/>
            <a:ext cx="2232000" cy="2376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2916360" y="4076640"/>
            <a:ext cx="597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авостороннее движение транспорта, поэтому при переходе проезжей части надо смотреть сначала налево, откуда движется транспорт, а, дойдя до середины – направо, не забывая при этом смотреть, что делается вокруг. Правосторонне движение в России сложилось исторически в те времена, когда по улицам ездили конные упряжки. Они должны были придерживаться правой стороны, чтобы не сталкивать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10" descr="1039868"/>
          <p:cNvPicPr/>
          <p:nvPr/>
        </p:nvPicPr>
        <p:blipFill>
          <a:blip r:embed="rId2"/>
          <a:stretch/>
        </p:blipFill>
        <p:spPr>
          <a:xfrm>
            <a:off x="250920" y="4365720"/>
            <a:ext cx="26636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8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Национальные виды спорта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00000" y="1700280"/>
            <a:ext cx="496728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лечени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ча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также являются традиционными. Национальными видами спорта по праву считаются гольф, крикет, теннис, конное поло, рыбная ловля и охота на лис. Крикет для англичан - больше, чем игра. Англичане играют в нее каждое воскресенье. Если вы действительно хотите завоевать их доверие, попробуйте изучить крикетные правила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i?id=28012842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700280"/>
            <a:ext cx="2305080" cy="2055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4"/>
          <p:cNvSpPr/>
          <p:nvPr/>
        </p:nvSpPr>
        <p:spPr>
          <a:xfrm>
            <a:off x="2916360" y="3933720"/>
            <a:ext cx="5976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с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здавна все, от мала до велика, принимали участие в празднествах и торжествах. В празднество, редкий свободный от работы день, люди стремились отдохнуть от тяжелого каждодневного труда, играя, состязаясь или просто участвуя в забавах в качестве зрителей. Но не только забавами и развлечениями служили им игры, а еще и воинской тренировкой перед боями с противниками. Национальными видами спорта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сских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являются лапта, городки и гирьевой спор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6" descr="Картинка 10 из 8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4149720"/>
            <a:ext cx="27370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9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Разговоры о погод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67690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Еще одной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английской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слабостью является погода. Все шутки и насмешки, которым они за это подвергаются, совершенно справедливы. Любой английский разговор действительно крутится вокруг этой темы, даже полуофициальные письма из организаций содержат упоминания о хорошей или плохой погоде. Главная проблема заключается в том, что англичане убеждены, что у них очень плохая, переменчивая и непредсказуемая погода, которая, по их мнению, и определяет многие стороны их жизни и характера. Такая погода, туманность и дождливость, зависит, прежде всего, от географического расположения Англии, так как это остров со всех сторон омываемый мор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i?id=28991741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628640"/>
            <a:ext cx="237492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4356000" y="1773360"/>
            <a:ext cx="44640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сск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тоже говорят о погоде, но для них она не имеет такого важного значения, как для англичан. В России нет таких частых туманов и дождей, так как страна расположена на крупном материк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0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огое (английское) воспитание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4281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тей 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инято держать в строгости, и чем выше в обществе вы находитесь, тем больше строгостей. Нередко приходится видеть, как в богатом английском доме, с огромной гостиной, гигантской спальней, величественным кабинетом так называемая детская комната находится почти на чердаке и представляет собой убогую каморку, и делается это вполне осознанно, из принципиальных соображений, чтобы не нежить, а закалять. Не случайно, видимо, движение бойскаутов зародилось в начале XX века именно в Англии, и лозунгом его стало «Будь готов!». Подлинный англичанин должен быть готов к любым трудностям в любую минут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651640" y="4508640"/>
            <a:ext cx="302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оспитание носит больше демократичный характер, родители более снисходительны к своим детям и менее строг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8" descr="o-00003514-a-00000699"/>
          <p:cNvPicPr/>
          <p:nvPr/>
        </p:nvPicPr>
        <p:blipFill>
          <a:blip r:embed="rId1"/>
          <a:stretch/>
        </p:blipFill>
        <p:spPr>
          <a:xfrm>
            <a:off x="6084720" y="1844640"/>
            <a:ext cx="180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1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астные школы-пансионаты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968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льчики и девочки 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чень часто учатся в частных школах-пансионатах вдали от родителей, домой приезжают они только на каникулы. Традиция учиться в подобных школах зародилась в средние века, когда англичане уезжали на работу в колонии и оставляли своих детей в школах-пансионатах. Девочки учатся в одних пансионатах, мальчики – в других. Встречаются очень редк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i?id=3572327&amp;tov=0"/>
          <p:cNvPicPr/>
          <p:nvPr/>
        </p:nvPicPr>
        <p:blipFill>
          <a:blip r:embed="rId1"/>
          <a:stretch/>
        </p:blipFill>
        <p:spPr>
          <a:xfrm>
            <a:off x="6156360" y="191628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3708360" y="4797360"/>
            <a:ext cx="496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девочки и мальчики живут со своими родителями и учатся вместе, как правило, в общеобразовательных школах. В последние годы тоже стали появляться частные школ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ходства и различия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нглийских и русских традиц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16000" y="1700280"/>
          <a:ext cx="7343640" cy="4911480"/>
        </p:xfrm>
        <a:graphic>
          <a:graphicData uri="http://schemas.openxmlformats.org/drawingml/2006/table">
            <a:tbl>
              <a:tblPr/>
              <a:tblGrid>
                <a:gridCol w="3672000"/>
                <a:gridCol w="367164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г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й пьют шесть раз в 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нархия (королев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гличане вежливы и уравновешен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ный дом с ками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юбовь к сад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юбовь к живот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востороннее движение тран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3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иональные виды спор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гольф, крикет, конное поло, теннис, рыбная ловля и охота на ли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говоры о пог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огое вос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ные школы пансион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едерация (президе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сские не очень вежливы и более эмоциональ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ще кварт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остороннее движение тран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иональные виды спор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лапта, городки и гирьевой спор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кратическое вос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еобразовательные шк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равнительный анализ уровня знаний об английских традициях среди учеников 3-х и 4-х классов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848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анкетировании участвовало 149 человек, из них: 74 человека (50%) – ученики 3-х классов, 75 человек  (50%) – ученики 4-х класс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1332000" y="2852640"/>
            <a:ext cx="6049800" cy="3786120"/>
            <a:chOff x="1332000" y="2852640"/>
            <a:chExt cx="6049800" cy="3786120"/>
          </a:xfrm>
        </p:grpSpPr>
        <p:sp>
          <p:nvSpPr>
            <p:cNvPr id="154" name="AutoShape 50"/>
            <p:cNvSpPr/>
            <p:nvPr/>
          </p:nvSpPr>
          <p:spPr>
            <a:xfrm>
              <a:off x="1332000" y="2852640"/>
              <a:ext cx="6049800" cy="37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1393560" y="2923200"/>
              <a:ext cx="5914440" cy="3644640"/>
            </a:xfrm>
            <a:prstGeom prst="rect">
              <a:avLst/>
            </a:prstGeom>
            <a:solidFill>
              <a:srgbClr val="ffff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1972080" y="3767400"/>
              <a:ext cx="5224320" cy="2224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3"/>
            <p:cNvSpPr/>
            <p:nvPr/>
          </p:nvSpPr>
          <p:spPr>
            <a:xfrm>
              <a:off x="1972080" y="570996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4"/>
            <p:cNvSpPr/>
            <p:nvPr/>
          </p:nvSpPr>
          <p:spPr>
            <a:xfrm>
              <a:off x="1972080" y="54421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55"/>
            <p:cNvSpPr/>
            <p:nvPr/>
          </p:nvSpPr>
          <p:spPr>
            <a:xfrm>
              <a:off x="1972080" y="51613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56"/>
            <p:cNvSpPr/>
            <p:nvPr/>
          </p:nvSpPr>
          <p:spPr>
            <a:xfrm>
              <a:off x="1972080" y="487944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57"/>
            <p:cNvSpPr/>
            <p:nvPr/>
          </p:nvSpPr>
          <p:spPr>
            <a:xfrm>
              <a:off x="1972080" y="45979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Line 58"/>
            <p:cNvSpPr/>
            <p:nvPr/>
          </p:nvSpPr>
          <p:spPr>
            <a:xfrm>
              <a:off x="1972080" y="433080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59"/>
            <p:cNvSpPr/>
            <p:nvPr/>
          </p:nvSpPr>
          <p:spPr>
            <a:xfrm>
              <a:off x="1972080" y="40489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0"/>
            <p:cNvSpPr/>
            <p:nvPr/>
          </p:nvSpPr>
          <p:spPr>
            <a:xfrm>
              <a:off x="1972080" y="376740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1972080" y="3767400"/>
              <a:ext cx="5224320" cy="2224080"/>
            </a:xfrm>
            <a:prstGeom prst="rect">
              <a:avLst/>
            </a:prstGeom>
            <a:noFill/>
            <a:ln w="10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2748960" y="5230800"/>
              <a:ext cx="1047240" cy="760680"/>
            </a:xfrm>
            <a:prstGeom prst="rect">
              <a:avLst/>
            </a:prstGeom>
            <a:solidFill>
              <a:srgbClr val="9999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Verdana"/>
                </a:rPr>
                <a:t>76,54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5360760" y="4091400"/>
              <a:ext cx="1047240" cy="1900440"/>
            </a:xfrm>
            <a:prstGeom prst="rect">
              <a:avLst/>
            </a:prstGeom>
            <a:solidFill>
              <a:srgbClr val="9999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Verdana"/>
                </a:rPr>
                <a:t>77,36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64"/>
            <p:cNvSpPr/>
            <p:nvPr/>
          </p:nvSpPr>
          <p:spPr>
            <a:xfrm>
              <a:off x="1972080" y="3767400"/>
              <a:ext cx="360" cy="222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Line 65"/>
            <p:cNvSpPr/>
            <p:nvPr/>
          </p:nvSpPr>
          <p:spPr>
            <a:xfrm>
              <a:off x="1923120" y="599184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Line 66"/>
            <p:cNvSpPr/>
            <p:nvPr/>
          </p:nvSpPr>
          <p:spPr>
            <a:xfrm>
              <a:off x="1923120" y="570996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67"/>
            <p:cNvSpPr/>
            <p:nvPr/>
          </p:nvSpPr>
          <p:spPr>
            <a:xfrm>
              <a:off x="1923120" y="54421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68"/>
            <p:cNvSpPr/>
            <p:nvPr/>
          </p:nvSpPr>
          <p:spPr>
            <a:xfrm>
              <a:off x="1923120" y="51613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69"/>
            <p:cNvSpPr/>
            <p:nvPr/>
          </p:nvSpPr>
          <p:spPr>
            <a:xfrm>
              <a:off x="1923120" y="487944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70"/>
            <p:cNvSpPr/>
            <p:nvPr/>
          </p:nvSpPr>
          <p:spPr>
            <a:xfrm>
              <a:off x="1923120" y="45979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71"/>
            <p:cNvSpPr/>
            <p:nvPr/>
          </p:nvSpPr>
          <p:spPr>
            <a:xfrm>
              <a:off x="1923120" y="433080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72"/>
            <p:cNvSpPr/>
            <p:nvPr/>
          </p:nvSpPr>
          <p:spPr>
            <a:xfrm>
              <a:off x="1923120" y="40489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Line 73"/>
            <p:cNvSpPr/>
            <p:nvPr/>
          </p:nvSpPr>
          <p:spPr>
            <a:xfrm>
              <a:off x="1923120" y="376740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74"/>
            <p:cNvSpPr/>
            <p:nvPr/>
          </p:nvSpPr>
          <p:spPr>
            <a:xfrm>
              <a:off x="1972080" y="599184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75"/>
            <p:cNvSpPr/>
            <p:nvPr/>
          </p:nvSpPr>
          <p:spPr>
            <a:xfrm flipV="1">
              <a:off x="1972080" y="5991480"/>
              <a:ext cx="36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76"/>
            <p:cNvSpPr/>
            <p:nvPr/>
          </p:nvSpPr>
          <p:spPr>
            <a:xfrm flipV="1">
              <a:off x="4584960" y="5991480"/>
              <a:ext cx="72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77"/>
            <p:cNvSpPr/>
            <p:nvPr/>
          </p:nvSpPr>
          <p:spPr>
            <a:xfrm flipV="1">
              <a:off x="7196760" y="5991480"/>
              <a:ext cx="72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1911960" y="3061800"/>
              <a:ext cx="417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% учеников, знающих английские традици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1676160" y="58780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Rectangle 80"/>
            <p:cNvSpPr/>
            <p:nvPr/>
          </p:nvSpPr>
          <p:spPr>
            <a:xfrm>
              <a:off x="1538280" y="55969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2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1"/>
            <p:cNvSpPr/>
            <p:nvPr/>
          </p:nvSpPr>
          <p:spPr>
            <a:xfrm>
              <a:off x="1538280" y="53308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4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2"/>
            <p:cNvSpPr/>
            <p:nvPr/>
          </p:nvSpPr>
          <p:spPr>
            <a:xfrm>
              <a:off x="1538280" y="50493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6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3"/>
            <p:cNvSpPr/>
            <p:nvPr/>
          </p:nvSpPr>
          <p:spPr>
            <a:xfrm>
              <a:off x="1538280" y="47667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8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84"/>
            <p:cNvSpPr/>
            <p:nvPr/>
          </p:nvSpPr>
          <p:spPr>
            <a:xfrm>
              <a:off x="1676160" y="448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5"/>
            <p:cNvSpPr/>
            <p:nvPr/>
          </p:nvSpPr>
          <p:spPr>
            <a:xfrm>
              <a:off x="1538280" y="42177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,2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Rectangle 86"/>
            <p:cNvSpPr/>
            <p:nvPr/>
          </p:nvSpPr>
          <p:spPr>
            <a:xfrm>
              <a:off x="1538280" y="39355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,4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7"/>
            <p:cNvSpPr/>
            <p:nvPr/>
          </p:nvSpPr>
          <p:spPr>
            <a:xfrm>
              <a:off x="1538280" y="36543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,6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Rectangle 88"/>
            <p:cNvSpPr/>
            <p:nvPr/>
          </p:nvSpPr>
          <p:spPr>
            <a:xfrm>
              <a:off x="2882160" y="61470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3-е класс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Rectangle 89"/>
            <p:cNvSpPr/>
            <p:nvPr/>
          </p:nvSpPr>
          <p:spPr>
            <a:xfrm>
              <a:off x="5493960" y="61470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4-е класс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Rectangle 90"/>
            <p:cNvSpPr/>
            <p:nvPr/>
          </p:nvSpPr>
          <p:spPr>
            <a:xfrm>
              <a:off x="1393560" y="2923200"/>
              <a:ext cx="5914440" cy="3644640"/>
            </a:xfrm>
            <a:prstGeom prst="rect">
              <a:avLst/>
            </a:prstGeom>
            <a:noFill/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848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льтура и традици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значительно различаются. Это обусловлено географическим расположением стран, их историей и  клима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глия – очень маленькая страна, окруженная морями. Это значит, что  климат влажный. Погода часто сырая, пасмурная, поэтому англичане так часто пьют ча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сия - огромная страна. В ней тоже есть моря, но большая часть страны удалена от них. Климат в нашей стране не такой сырой. Но в некоторых областях он даже сух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тории развития английского и русского народов тоже очень отличаются друг от друг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едя анкетирование среди учеников 3-4 классов нашей школы, я сделал заключение, что ребята  знают об английских традициях, но не обо все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вопрос о сходстве русских и английских традиций большинство учеников ответили «нет».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и задач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17640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ктуальность исследования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в наше время между странами стираются границы, люди путешествуют, поэтому очень важно знать традиции и язык страны, которую посещаеш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26676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ью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ого доклада является раскрытие особенностей английской культуры и ее традиций путем сравнения культур Англии и Росс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26676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 выявить традиции, существующие в Англ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 найти сходство и различие в английских и русских традиц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оценить уровень знаний об английских традициях между учениками 3-х и 4-х класс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) доказать необходимость изучения народных традиций в целях лучшего понимания английского и русского язы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17640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отезы, которые проверялис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Есть ли сходство в английских и русских традиц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Оказывает ли влияние географическое расположение, история страны и ее климат на культуру нар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17640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бъектом исследования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ются английские и русские народные трад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26676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спользованные методы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анализ литературы, наблюдение, сравнение, анкетирова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Английские традиции, их сходство и различие с русскими.</a:t>
            </a:r>
            <a:br>
              <a:rPr sz="2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 «Чаепити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532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Англии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ть традиция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пить чай шесть раз в ден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1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гличане просыпаются в 6-7 утра, и пьют чай в постели до умывания и одевания. Традиция возникла вследствие сырого климата Англии и утренних туманов. Чашечка чая помогает им проснуть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2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того, как они просыпаются, они идут в гостиную завтракать. На завтрак англичане пьют чай с молоком и едят, чаще всего, овсяную кашу, рыбу или яичницу с бекон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3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й завтрак у англичан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unch time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наступает с 12.00 до 14.00 часов. В это время они также употребляют ча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4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ive-o-clock"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это английский полдник в 17.00, сопровождается чаем и небольшими заку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5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д у англичан наступает очень поздно в 19.00 – 20.00, сопровождается чаем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("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igh tea"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и обильным употреблением еды в гостиной за огромным круглым столом у камина, где ведутся бесе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6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позднего ужина, незадолго до сна англичане могут выпить еще одну чашечку ч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84720" y="1557360"/>
            <a:ext cx="280836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есть традиция чаепития, но со временем она значительно изменилась. Раньше чай был очень дорогой, и его могли себе позволить не все. Поэтому на Руси появилась чайная церемония, которая состояла в умении заварить и разлить чай так, чтобы каждый из гостей получил свою порцию чая одинаковой крепости. Чай заваривали в самоваре, а потом пили из чашек и глубоких блюдечек вприкуску с вареньем и сахаром. В наше время это уже не церемония, а обычное вечернее чаепитие или семейные субботние посиделки с тортами, пирогами, вареньем и конфет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084720" y="162864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аепити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848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чительно различаются традиции чаепития в наших странах: английская традиция зародилась 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еке, с помощью чая англичане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анируют свой день до сих пор, на Руси чай появился  позднее в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еке и с тех пор данная традиция очень сильно изменила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i?id=1651945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789360"/>
            <a:ext cx="208764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1700280"/>
            <a:ext cx="3168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2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Монархия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374508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нарх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есть королева, которая реально не правит страной. Она – часть традиций этой страны. Англичане считают, что монархия способствует сплочению нации и поддержанию национального дух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9" descr="i?id=9949441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4653000"/>
            <a:ext cx="2590920" cy="2020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4716360" y="3573360"/>
            <a:ext cx="403236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осс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это страна, которой руководит президент, он обладает реальной властью и может принимать самостоятельные решения. До Великой Октябрьской Социалистической Революции в России была монархия, и во главе государства стоял царь-император, который обладал властью и правил стра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716360" y="1628640"/>
            <a:ext cx="7164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16" descr="i?id=27993184&amp;tov=2"/>
          <p:cNvPicPr/>
          <p:nvPr/>
        </p:nvPicPr>
        <p:blipFill>
          <a:blip r:embed="rId3"/>
          <a:stretch/>
        </p:blipFill>
        <p:spPr>
          <a:xfrm>
            <a:off x="6012000" y="1628640"/>
            <a:ext cx="136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6666"/>
                </a:solidFill>
                <a:latin typeface="Arial"/>
              </a:rPr>
              <a:t>Традиция 3 </a:t>
            </a:r>
            <a:br>
              <a:rPr sz="3100"/>
            </a:b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«Вежливость и уравновешенность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042920" y="190692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чан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ежливы и часто говорят  «Спасибо» и «Я сожалею». Они не разговаривают громко на улице. Они не толкаются в автобусах, чтобы занять свободное место, они покупают билеты с указанием места в очередях на автобусных остановках. Жители Англии не обмениваются рукопожатием, встречая друг друга, они не показывают свои эмоции даже в трагических ситуа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003640" y="1757160"/>
            <a:ext cx="381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тличие от англичан,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русск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е очень вежливы и более эмоциональны, но добродушны и очень гостеприимны. В давние времена русский человек, выходя из дому, оставлял дверь отворенною и пищу готовую для странника, поэтому и ходили легенды о широте русской души. В силу большей эмоциональности русским свойственны открытость, отзывчивость и задушевность в общен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493236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4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«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юбовь к своему дому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4699080" cy="27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5220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Англичан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любят бывать дома. Они говорят «Мой дом - моя крепость»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y house is my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stle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, потому что они не желают, чтобы то, что происходит дома, знали соседи. Англичане предпочитают жить в отдельных домиках, построенных для одной семьи. Центр дома – это камин, вокруг которого любят сидеть все члены семьи и смотреть на огонь, обмениваясь новостями за день. На каминной полке часто размещаются часы, зеркало или фотографии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4" descr="i?id=31560522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700280"/>
            <a:ext cx="2519640" cy="2233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4356000" y="4292640"/>
            <a:ext cx="4392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538200" indent="54144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усски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любят свой дом, но чаще всего это квартира, а еще больше им нравится приглашать людей в гости или ходить самим, потому что они более гостеприимны и хлебосольны, чем англичане. Русские люди более открыты и часто интересуются делами соседе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i?id=33968621&amp;tov=8"/>
          <p:cNvPicPr/>
          <p:nvPr/>
        </p:nvPicPr>
        <p:blipFill>
          <a:blip r:embed="rId3"/>
          <a:stretch/>
        </p:blipFill>
        <p:spPr>
          <a:xfrm>
            <a:off x="1187280" y="4724280"/>
            <a:ext cx="316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5 «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юбовь к садам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Английский сад)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4" descr="i?id=41069591&amp;tov=3"/>
          <p:cNvPicPr/>
          <p:nvPr/>
        </p:nvPicPr>
        <p:blipFill>
          <a:blip r:embed="rId1"/>
          <a:stretch/>
        </p:blipFill>
        <p:spPr>
          <a:xfrm>
            <a:off x="1332000" y="1916280"/>
            <a:ext cx="2519280" cy="2160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4140360" y="1766160"/>
            <a:ext cx="45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ще больше чувств вызывает у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чанин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ад. Английские сады, главное в стиле которых — искусная имитация естественной природы, созданная человеческими руками 'дикость', являются сильнейшим национальным увлечение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95280" y="4292640"/>
            <a:ext cx="453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усски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е у всех есть сады, обычно это дача с огородом. В России стремятся использовать сады, в первую очередь, не для декоративности, а для выращивания культурных растений и получения урожа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4" descr="i?id=77145168&amp;tov=6"/>
          <p:cNvPicPr/>
          <p:nvPr/>
        </p:nvPicPr>
        <p:blipFill>
          <a:blip r:embed="rId2"/>
          <a:stretch/>
        </p:blipFill>
        <p:spPr>
          <a:xfrm>
            <a:off x="5292720" y="4149720"/>
            <a:ext cx="302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6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Любовь к животным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4680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глича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чень любят домашних животных. Они имеют приблизительно пять миллионов собак, почти столько же котов, 3 миллиона попугаев и других птиц, рыб в аквариумах - и 1 миллион экзотических домашних животных, типа рептилий. В Великобритании они имеют специальные магазины собаки, продающие пищу, одежду и другие вещи для собак. Есть салоны парикмахерских услуг для собак и кладбища для собак. В Великобритании домашние животные могут послать Рождественские открытки своим друзьям. Есть специальные гостиницы животных в аэропортах. Английские люди полагают, что они - единственная нация на земле, которая является действительно доброй к животны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9" descr="i?id=37240060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700280"/>
            <a:ext cx="1729080" cy="1512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5580000" y="3555720"/>
            <a:ext cx="32400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усски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же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юбят животных, но, к сожалению, в России не у всех есть возможность содержать крупных представителей животного мира. Чаще всего жители России могут позволить себе мелких животных, таких как: кошки, собаки, мелкие грызуны и попугаи. И услуги по уходу за животными в нашей стране так не распространен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8:17:15Z</dcterms:created>
  <dc:creator>Светлана</dc:creator>
  <dc:description/>
  <dc:language>en-US</dc:language>
  <cp:lastModifiedBy>Коля</cp:lastModifiedBy>
  <dcterms:modified xsi:type="dcterms:W3CDTF">2013-06-27T20:47:33Z</dcterms:modified>
  <cp:revision>137</cp:revision>
  <dc:subject/>
  <dc:title>Слайд 1</dc:title>
</cp:coreProperties>
</file>