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760-F1F3-4E9C-A0F6-71DD5C5A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3D0-4DD8-4117-9400-D39E5E3F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9ED-137C-46FC-8D80-C1C7E335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2D9-5583-416B-8A5E-9FDD3E8E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EE8A-2E14-471C-9F95-75B6893D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D8E5-D636-4D38-BBA6-BAC10B14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4F7C-5221-431D-8BA1-E89EB3F6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B23C-FB25-4855-8DF3-FCE4FBE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C6F1-54CC-4902-8D27-B95135D1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6CB8-FE62-4B81-B1BF-4B7AEF32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74E3-6447-41C3-9BF0-CE5C680D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199-4F04-459E-A351-08A0A38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9B00-E4E2-4CFC-A7C0-C7AE7CAC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4719-227A-4757-93B0-5037888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0A89-5A72-482D-BB2D-122413E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20D4-40FA-4E4F-B8EC-2942AC4F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C5FE-7EBC-48C7-8393-4F678439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BDC15-DB59-4DF4-A611-77714BF6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19211-D427-4C18-B482-100F051C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9A363-B9D9-44F1-8B3B-ED85AC34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A7CF2-6A96-4E59-8299-1D977D7D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E712A-8AF8-4333-9D88-42057D5E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63A-84CB-42C3-BE5D-896CB5C1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94A08-071A-4199-9ECC-27914130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1AC76-49D0-40F1-AE96-8B92B80A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175BF-7337-4800-A176-8A9053E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5E6F8-D51F-41D9-ABB4-F341F47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E7460-77AA-44A7-894F-A3A3831B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160DF-166D-4635-B4DD-E7002D7B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97AF3-C3E8-4FE9-A06F-B30691A9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3D5B6-67BA-4539-9678-5892110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5475A8-2B89-43BA-B605-2FB254A4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AA7B1-28B2-4D00-B706-483FBB2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860-BC4A-4C57-B52B-1D37759D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CE57E-C7EB-47A9-A39A-063D6A8A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8AC4E-775C-4ADF-91CB-91DFAC0A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9F1BE-8534-4FCA-B80A-D8650B11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171A8-F5AF-440E-9787-AE0A41AC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BA1BF-8442-46E2-BE89-452F4331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C7449-288D-46E7-8899-08D4E7BA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67F5C-74EA-4B7A-8491-2420BD56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964A7-E2D6-434E-A1DF-D3E58204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EFD7C-1D74-4025-B650-5D5F5D85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4B943-26ED-491E-A66E-A61E26CD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ACC-DAE4-4083-9C6C-F72C5558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037F9-35AF-4752-8F87-9007FEDE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4E69F-EA62-403B-BC23-3CBCFEF9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AD693-8FFF-4A42-A8FB-10967F1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F29D0-6B0B-46EA-82C8-B54BE33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514F2-5B9C-4477-BE11-4D7880DF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4650D-8C9E-4438-AC67-4406A3A9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3510C-ADC7-495C-8D49-9AD2EF19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C77A04-7DEF-4738-A0E9-DA6F49A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A62A0-59A9-4A72-8077-07880F3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ADD28-B66E-48C4-9772-0A66D667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B04-2921-4BA4-9E71-A80BE2DB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6E30B-C9A4-4027-9590-EE9E473E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BA3F-B2A7-437F-BE2F-3A8E21BB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9B7A-1678-4062-AAFC-EB635AA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14C86-60C5-43E9-812C-00C6204A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57E30-4F21-4EC9-965A-3D1F8918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BE97-E090-4906-A0DE-51D877CB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03EC-1172-4587-89C2-85B6DC7B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3321-AB2E-4A2D-83AB-04F46A10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3BF7-F262-41D5-8E85-2C33E43F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77758-F50B-47A2-A850-48FF7E56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E13-89E3-4346-8FD8-94D327ED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7B8B6-AE62-4227-A25A-2377B0EE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2CBE2-9EC9-4D15-A275-F794223D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954D0-0184-4B1F-9E48-4B8D16C9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9CA62-C03F-49F3-A5DF-3EB0852E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2E066-4040-4625-A969-EFADBCC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9D19D-A6B0-4201-93AF-37133230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2A8E9-F8C2-4097-B91C-280A0966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7AB9E-B38C-4BF0-9F4A-516E4365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3E697-6856-4E0E-877E-7D0773EA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1928A-3074-4698-AD42-9176A12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72E-517C-44A9-B846-69182BE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50545-EE58-4FFB-B3B8-6A5E058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D177C-F14A-4866-BB24-51A6AB2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A3337-A42A-4C29-B8AA-C9A541C6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CC0FD-9DE3-47A6-8AF0-5C25585F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02F1F-9E2B-409D-A3EB-FFC8B869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193F-718F-4436-AE8C-2994DF5A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49027-4A71-4C24-8E0A-754064F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84C9-D6EF-4DD4-9FAA-4B089F6F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AAD83-259F-4EC5-A39C-53FB8DA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2E551-838E-4285-826A-3D6CFE80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397-D54D-4FAE-BC34-C2E84A0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8981-B625-4E32-8BDB-339A1FD5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11187-A508-406F-9FF6-29D8148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0B956-EA7D-4109-997D-1773B6E0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CCA94-A38E-4BF3-9685-B68B29AB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FEF6C-8D95-4859-8DAF-1C6874A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4306-5F02-4545-8D29-49EA21BB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A590E-0DD1-46FA-AF3C-93172233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40CB-0D26-4B90-A75B-B065021D1C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0C3B-3C59-4944-A426-6D733D8065BA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6384-1C1E-4F0A-970E-6A1B0BBD56C4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ACA1-1355-4161-AF97-AB5500CC12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CBCD-1BAE-4161-B153-9975B81E2B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240A-A2B2-4628-83DC-616C4835C069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A6D-557F-4BA7-AB04-AA8E62059DBC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98A5-CD6A-4FEB-AD1F-BE2F5B46CD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dc3"/>
                </a:solidFill>
                <a:latin typeface="Arial"/>
                <a:ea typeface="Arial"/>
              </a:rPr>
              <a:t>ИСПОЛЬЗОВАЛА  ШАБЛОН ДЛЯ СОЗДАНИЯ КОМПЬЮТЕРНЫХ ТЕСТОВ В POWER POINT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Arial"/>
                <a:ea typeface="Arial"/>
              </a:rPr>
              <a:t> СМИРНОВА ДМИТРИЯ</a:t>
            </a:r>
            <a:br>
              <a:rPr sz="1400"/>
            </a:br>
            <a:r>
              <a:rPr b="0" lang="ru-RU" sz="1400" spc="-1" strike="noStrike">
                <a:solidFill>
                  <a:srgbClr val="ebddc3"/>
                </a:solidFill>
                <a:latin typeface="Times New Roman"/>
              </a:rPr>
              <a:t>HTTP://WWW.NACHALKA.COM/TEST_SHABLON</a:t>
            </a:r>
            <a:br>
              <a:rPr sz="1400"/>
            </a:br>
            <a:endParaRPr b="0" lang="en-US" sz="1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Тест по музыке для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2 класса 1 четверть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Составил учитель музыки  Апахова Лидия Юрье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МАОУ многопрофильного лицея № 2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6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  <a:ea typeface="Arial"/>
              </a:rPr>
              <a:t>города Ульяновск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5286240" y="59421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85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каких инструментах исполняют марш военный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да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кругленный прямоугольник 13"/>
          <p:cNvSpPr/>
          <p:nvPr/>
        </p:nvSpPr>
        <p:spPr>
          <a:xfrm>
            <a:off x="5786280" y="24289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еревянно – духовы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14"/>
          <p:cNvSpPr/>
          <p:nvPr/>
        </p:nvSpPr>
        <p:spPr>
          <a:xfrm>
            <a:off x="585792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рунно – смычк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«Камаринскую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лыбельная звуч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аск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3"/>
          <p:cNvSpPr/>
          <p:nvPr/>
        </p:nvSpPr>
        <p:spPr>
          <a:xfrm>
            <a:off x="378612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пе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до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казо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«Танец с кубками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абал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о сочинил композитор песни «Сурок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Скругленный прямоугольник 3"/>
          <p:cNvSpPr/>
          <p:nvPr/>
        </p:nvSpPr>
        <p:spPr>
          <a:xfrm>
            <a:off x="6000840" y="3500280"/>
            <a:ext cx="207144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тхове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ый прямоугольник 5"/>
          <p:cNvSpPr/>
          <p:nvPr/>
        </p:nvSpPr>
        <p:spPr>
          <a:xfrm>
            <a:off x="1357200" y="357192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1"/>
          <a:stretch/>
        </p:blipFill>
        <p:spPr>
          <a:xfrm>
            <a:off x="7115040" y="28584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213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того чтобы музыка стала настоящим живым искусством нуж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оз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сполнител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кругленный прямоугольник 13"/>
          <p:cNvSpPr/>
          <p:nvPr/>
        </p:nvSpPr>
        <p:spPr>
          <a:xfrm>
            <a:off x="378612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уша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струмен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цертный 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Верно: 13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Ошибки: 0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9900"/>
                </a:solidFill>
                <a:latin typeface="Arial"/>
                <a:ea typeface="Arial"/>
              </a:rPr>
              <a:t>Отметка: 5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48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"/>
          <a:stretch/>
        </p:blipFill>
        <p:spPr>
          <a:xfrm>
            <a:off x="4572000" y="1714680"/>
            <a:ext cx="42148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основных жанров в музы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85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 основные жанры музы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с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а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мф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"/>
          <p:cNvPicPr/>
          <p:nvPr/>
        </p:nvPicPr>
        <p:blipFill>
          <a:blip r:embed="rId1"/>
          <a:stretch/>
        </p:blipFill>
        <p:spPr>
          <a:xfrm>
            <a:off x="7115040" y="21420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альянскую польку написа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Скругленный прямоугольник 3"/>
          <p:cNvSpPr/>
          <p:nvPr/>
        </p:nvSpPr>
        <p:spPr>
          <a:xfrm>
            <a:off x="1928880" y="4286160"/>
            <a:ext cx="2071800" cy="12146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хман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5"/>
          <p:cNvSpPr/>
          <p:nvPr/>
        </p:nvSpPr>
        <p:spPr>
          <a:xfrm>
            <a:off x="5643720" y="42861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рш звуч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вер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12"/>
          <p:cNvSpPr/>
          <p:nvPr/>
        </p:nvSpPr>
        <p:spPr>
          <a:xfrm>
            <a:off x="92880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т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о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дор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кругленный прямоугольник 15"/>
          <p:cNvSpPr/>
          <p:nvPr/>
        </p:nvSpPr>
        <p:spPr>
          <a:xfrm>
            <a:off x="628668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дост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6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г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2" descr=""/>
          <p:cNvPicPr/>
          <p:nvPr/>
        </p:nvPicPr>
        <p:blipFill>
          <a:blip r:embed="rId1"/>
          <a:stretch/>
        </p:blipFill>
        <p:spPr>
          <a:xfrm>
            <a:off x="7115040" y="85716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)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каком ключе мы с вами по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крипич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ас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льто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"/>
          <p:cNvPicPr/>
          <p:nvPr/>
        </p:nvPicPr>
        <p:blipFill>
          <a:blip r:embed="rId1"/>
          <a:stretch/>
        </p:blipFill>
        <p:spPr>
          <a:xfrm>
            <a:off x="0" y="2928960"/>
            <a:ext cx="2179800" cy="1143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"/>
          <p:cNvPicPr/>
          <p:nvPr/>
        </p:nvPicPr>
        <p:blipFill>
          <a:blip r:embed="rId2"/>
          <a:stretch/>
        </p:blipFill>
        <p:spPr>
          <a:xfrm>
            <a:off x="7115040" y="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2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зови произведения Петра Ильича Чайковск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Скругленный прямоугольник 3"/>
          <p:cNvSpPr/>
          <p:nvPr/>
        </p:nvSpPr>
        <p:spPr>
          <a:xfrm>
            <a:off x="92880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 деревянных солда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кругленный прямоугольник 12"/>
          <p:cNvSpPr/>
          <p:nvPr/>
        </p:nvSpPr>
        <p:spPr>
          <a:xfrm>
            <a:off x="635796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Шарма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Скругленный прямоугольник 13"/>
          <p:cNvSpPr/>
          <p:nvPr/>
        </p:nvSpPr>
        <p:spPr>
          <a:xfrm>
            <a:off x="635796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бедин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тальянская по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кругленный прямоугольник 15"/>
          <p:cNvSpPr/>
          <p:nvPr/>
        </p:nvSpPr>
        <p:spPr>
          <a:xfrm>
            <a:off x="3571920" y="24289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селый музык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ый прямоугольник 16"/>
          <p:cNvSpPr/>
          <p:nvPr/>
        </p:nvSpPr>
        <p:spPr>
          <a:xfrm>
            <a:off x="92880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Школьные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a5ab81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15040" y="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8047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Вариант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 (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уровень 1</a:t>
            </a:r>
            <a:r>
              <a:rPr b="0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)</a:t>
            </a:r>
            <a:r>
              <a:rPr b="0" lang="ru-RU" sz="4400" spc="-1" strike="noStrike">
                <a:solidFill>
                  <a:srgbClr val="775f55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вана, менуэт, контраданс -это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кните на правильный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АН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кругленный прямоугольник 6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"/>
          <p:cNvPicPr/>
          <p:nvPr/>
        </p:nvPicPr>
        <p:blipFill>
          <a:blip r:embed="rId1"/>
          <a:stretch/>
        </p:blipFill>
        <p:spPr>
          <a:xfrm>
            <a:off x="7115040" y="357120"/>
            <a:ext cx="2028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мо</cp:lastModifiedBy>
  <dcterms:modified xsi:type="dcterms:W3CDTF">2013-06-26T18:07:44Z</dcterms:modified>
  <cp:revision>733</cp:revision>
  <dc:subject/>
  <dc:title>Слайд 1</dc:title>
</cp:coreProperties>
</file>