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0DF-671F-4A15-A158-7DD61C42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D9B-0EB7-47F9-88E9-76D3B90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BC1-AD3C-4CB5-AA1C-0C620F4E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E33-17DB-4043-8B88-DB7EC764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6F5A-419B-4500-B502-DC88A34C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E2E-72EF-4B17-A9E0-01A6905D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593-0832-414D-B665-0F709A9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A42E-B31D-4A4F-B616-F37AE629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D571-8792-474A-88FF-103F7A33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541A-0FD1-4BA4-B56E-E33A4CFB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5085-C897-468F-8DE2-F0E9AE4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E36-04FE-4D4A-8695-1E0EF20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CC07-CD8F-4D64-A9FE-CD45ED7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48A1-C865-46E5-8C90-93AD476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E97-AAF4-4F86-A65E-AC072F4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FC04-4273-40F4-B158-2D17ECF0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4E4F-393A-42E0-8CC4-479A81FA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A498F-CDBA-4DD4-81EB-9D464FAE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61503-7F6D-40EA-8FCD-630AE01A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3F894-D407-49EB-94A6-CA0A0816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1EA68-2868-4471-A593-3773336A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091A2-3874-4315-8536-D558572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14D-92BB-4F9D-BA6F-9CB68360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03274-D0E1-459F-8DF6-54FED2D8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7EE9A-F358-4704-9574-37A27C5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B19EF-C4C4-4FFF-966A-CC714BA5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2A78B-4BD5-4CFD-8911-191471B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EA6CB-70C5-4E1B-B449-BAC1539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88029-AADF-43A4-BB77-63535393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28784-F328-4D05-9A64-0FF37448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2E789-4481-46B9-B1C9-D92ED6FD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FAB65-8EBD-4919-94C6-D5B3294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118AF-E027-41D9-A076-1EF8EC1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A4-79F7-4174-9DD3-27308602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004AE-F0F3-413F-9653-342109D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9DC35-DACD-4F90-94CE-31B2A8E6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18615-94B5-4E41-AF1B-D4CE1C0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435B1-0919-46FB-A608-927DD30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D87A2-B154-4ED9-9ED0-021A25E3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B2A92-165B-4CBA-A944-D8726C3A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CA0EF-C52D-4D15-9389-D437BF93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23A7C-C6E5-4557-8AE9-2EA3707A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793BF-3A48-4C0C-8D0A-37350F62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DA248-ED14-424F-BCDD-6D930678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1F8-8E6B-46A3-9093-0803641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BA184-D3D0-4B0A-8097-352B19A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F180D-3F7E-4429-AF7F-11B3A24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511B3-F769-4E52-BAA9-E7B70AD0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AE166-D03F-47F4-B200-FD8387C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5AFA8-C4CF-498E-A06C-5D2B59AE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7FC87-F07F-4EF8-92FF-1FECF8F6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F022D-2E63-47C9-9B44-50384E0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44CB1-9A86-40DA-8645-ABD6303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420E6-08A6-484F-80CD-FE21578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E1144-4865-4E62-8C29-AD89DD5A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944-24B8-4644-80FC-A3BCE90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39B94-5808-4B2F-85B4-488FAAEA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EDC11-52E4-46D1-9113-3517F1D3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FDF72-D557-4FA8-A85A-FF85959C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C1EE-94A3-4BD8-8EE2-92021B8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AB343-0467-4E80-BFBE-45DC1A88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F55A-526A-4573-9D37-74DFAC07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BB43E-AFC8-4DF2-8CF1-1D7535A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B655-5165-4B2C-8BA4-B5E674E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329F-BB0E-4A4A-B019-2C3C0F32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C958-D750-4DB7-A1C4-1825A3B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712-4105-4F0C-9EEB-80C1586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3726-CA53-4AE4-A7DF-CED9A03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069F9-7555-4CC0-B5C0-722170DD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3721-BD81-418C-808A-E5363884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F0548-9D2E-4F57-9A17-EF9B3549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505D0-1106-417E-82BF-02D43CA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AD653-497A-4CDB-9E51-B5EEB7E4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712F5-5181-48D9-900D-61B4458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1A035-FC54-4854-8907-2A6B0E98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0EF5B-7CB7-4D3F-944D-0F53D6A6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F8F1E-7D2F-4E00-A50F-67C30F1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A5D-2E0E-4B43-97E2-144E83B8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C0B46-5D15-490B-B717-3E725A2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151FD-25DC-4E97-A5CD-AC21B68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5A6A2-7967-4618-9B0C-6A9EF827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247F1-32DA-48C1-9E45-D70D546C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67B78-6EEF-4B1C-8534-2F30ED3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83F6-0EE7-438A-B85A-D9CEFBE0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17F7-9332-4338-B939-53AA526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677DB-D1AA-4C1E-A09D-620DBB2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BADE8-162C-42C9-86E8-EEAE6E9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04083-67EF-4A56-B873-505BAF7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7B6-D920-4BE5-BDE9-6B7E982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A85C-A10C-4A08-99F1-F8B1362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205B-0D31-4569-BE2B-9C2843A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705E-8F8A-4C1E-A706-087156F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B1DE-3F11-47A7-B5BA-27DA800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207A8-1262-46B7-8C43-CCD5D57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5130-271E-490B-A989-17DBD2A3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ECCA-94B7-4ABF-9A63-440D35E1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C955-3FE0-485C-9CA0-66CB1939B4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3618-478D-4052-9417-233BEFCA645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E18B-EFF0-4D2B-BE19-359F0A0C337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87BF-E66B-4C12-9D12-8CD41E5543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D4D-25C1-47E7-8314-21C569347E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93D4-A47F-424A-BDFE-8B0CA29272FD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9405-E3DA-4B70-BE48-C55BB598668F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D573-89E0-4420-89D3-A060ACA952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ИСПОЛЬЗОВАЛА  ШАБЛОН ДЛЯ СОЗДАНИЯ КОМПЬЮТЕРНЫХ ТЕСТОВ В POWER POINT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 СМИРНОВА ДМИТРИЯ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HTTP://WWW.NACHALKA.COM/TEST_SHABLON</a:t>
            </a:r>
            <a:br>
              <a:rPr sz="1400"/>
            </a:br>
            <a:endParaRPr b="0" lang="en-US" sz="1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Тест по музыке дл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2 класса 1 четверть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Составил учитель музыки  Апахова Лидия Юрь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МАОУ многопрофильного лицея № 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города Ульяновс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5286240" y="59421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каких инструментах исполняют марш военный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да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3"/>
          <p:cNvSpPr/>
          <p:nvPr/>
        </p:nvSpPr>
        <p:spPr>
          <a:xfrm>
            <a:off x="5786280" y="24289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янно – духовы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14"/>
          <p:cNvSpPr/>
          <p:nvPr/>
        </p:nvSpPr>
        <p:spPr>
          <a:xfrm>
            <a:off x="585792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нно – смыч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Камаринскую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лыбельная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ас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пе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аз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Танец с кубками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бал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композитор песни «Сурок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Скругленный прямоугольник 3"/>
          <p:cNvSpPr/>
          <p:nvPr/>
        </p:nvSpPr>
        <p:spPr>
          <a:xfrm>
            <a:off x="6000840" y="3500280"/>
            <a:ext cx="207144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тхове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5"/>
          <p:cNvSpPr/>
          <p:nvPr/>
        </p:nvSpPr>
        <p:spPr>
          <a:xfrm>
            <a:off x="1357200" y="357192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7115040" y="28584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того чтобы музыка стала настоящим живым искусством нуж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оз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ит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уш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цертн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Верно: 1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шибки: 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тметка: 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8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2148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основных жанров в му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основные жанры муз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мф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льянскую польку написа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хман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рш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р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т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о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дос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г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2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)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ком ключе мы с вами п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рипич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с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льт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1"/>
          <a:stretch/>
        </p:blipFill>
        <p:spPr>
          <a:xfrm>
            <a:off x="0" y="2928960"/>
            <a:ext cx="217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2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произведения Петра Ильича Чайковс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 деревянных солда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12"/>
          <p:cNvSpPr/>
          <p:nvPr/>
        </p:nvSpPr>
        <p:spPr>
          <a:xfrm>
            <a:off x="635796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арм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кругленный прямоугольник 13"/>
          <p:cNvSpPr/>
          <p:nvPr/>
        </p:nvSpPr>
        <p:spPr>
          <a:xfrm>
            <a:off x="635796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бедин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тальянская по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5"/>
          <p:cNvSpPr/>
          <p:nvPr/>
        </p:nvSpPr>
        <p:spPr>
          <a:xfrm>
            <a:off x="357192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елый музык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6"/>
          <p:cNvSpPr/>
          <p:nvPr/>
        </p:nvSpPr>
        <p:spPr>
          <a:xfrm>
            <a:off x="92880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кольны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вана, менуэт, контраданс -это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tretch/>
        </p:blipFill>
        <p:spPr>
          <a:xfrm>
            <a:off x="7115040" y="35712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мо</cp:lastModifiedBy>
  <dcterms:modified xsi:type="dcterms:W3CDTF">2013-06-26T18:07:44Z</dcterms:modified>
  <cp:revision>733</cp:revision>
  <dc:subject/>
  <dc:title>Слайд 1</dc:title>
</cp:coreProperties>
</file>