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7F3-5637-4362-B988-983B4F23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550-9DDB-45C3-BDB9-DD127AD1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1DC-850C-4CB7-8F5E-08827B43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ACB-10D3-4CAD-AE70-C86B647B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C229-9C98-40AB-9003-E754C707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189-2A3C-4F0A-A334-F7BD857D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C4E6-9363-4537-AC32-67732A9B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710A-33AF-4CF0-8D60-959DAEE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A966-73BE-4A23-87E7-546B70CC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5FB5-7BFF-4E78-BC23-E85E924E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2C73-7E29-41CB-B7FC-8EEDE597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6B0-CE19-4F88-AFB2-729BAE32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395-9550-40C5-898F-1F1C6CDD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8985-5EB5-47F8-90AF-416A18D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0FA-073E-4F7C-9F84-C1926FEA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6C12-4430-431D-A67C-BE8B69F4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E1F9-FE02-4B79-9E6A-8B5498D1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7049D-1A1D-455B-B946-49B946B8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5A947-E0BC-4976-80E4-CB926AEB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DB5D8-575E-4A7F-9960-B65E0940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87E7E-1744-4994-B198-9F02AF8E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3A478-7ED3-4193-A684-61AE37F6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8C5-4EF5-492C-A52B-CB6452B0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04429-22E2-4F73-9462-BD7A7766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201EE-A386-47D5-B94C-EE19162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71D78-6DBC-4683-AFFC-3BBF9EB2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A04F3-3A16-449C-9F26-6C4741AB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92AB2-1CA2-4906-AC66-37B8129D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850B2-AAA0-4389-88BC-67E43A1C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D567D-5660-4A35-BC9A-9FD24192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8B7BF-8471-46D1-951A-6B9EB0F9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9D084-9ED9-4225-AD25-A41344C0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D4F4B-AC1A-46D9-BEC2-7D99734B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E34-865D-486A-8AEA-6A4B7C8D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2AAFD-1445-4702-A045-D865D66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30AD7-065C-47D1-9746-997FCE90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49C64-E5DD-4EB0-93F7-4430702A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A9B4E-FDBB-46D5-AF2D-BAA7C27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51C99-7172-42DC-8974-1F18F1B5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797C4-C309-4D0F-891C-B069F79D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C27EC-DF5C-41BC-8F45-5CA9397D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9A21EF-C666-44D8-838E-AEA2ED1A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7886A-9FF6-41C6-8708-A7EBB003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CDA12-301F-44C8-B2D1-93748F68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9E0-4EEE-4D8C-BBD9-0EC1988F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AD47B-2B13-4F9E-974B-1744BBD0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60CD8-48EB-470C-9255-4B75FCF5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C881B-EE18-4A2A-9063-04743251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47758-9F46-4B28-8924-747DDC8C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177C2-DAE5-48AA-8976-15B9615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F8CFF-C7F4-4335-A31F-91817CA5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13752-6088-4D3C-B851-03C31832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C3DAD-928C-41D0-A0FB-7F1B17B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4403A-7F67-40B3-BF6C-B33B0BE1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EF064-051C-40C2-87A8-BA3C2914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D31-1C8B-45DD-B1D3-8FCAA7E9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5A956-F0FF-4353-A395-92F6017F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C3599-5BA0-4E46-8F9F-F1F09DE1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86196-F836-4412-B2A2-C49B45AF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4BE1-F399-4271-BD3B-E55B2689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A55F2-6BF2-498B-8736-3A4E31A3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95F9-6D9F-428D-B3E7-0EB8EFD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3C1FA-B9CA-4C5C-A58F-6312BFEC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FF135-7E04-45AB-953C-D3B489C3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1C0F-63F2-4693-ADA5-1FA35433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D99CC-FAC5-45D6-9E3E-94043293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E5A-5E99-48B4-A463-BCAAAE3F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4B22-2EA3-46AF-9498-130B85C2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C3850-0E3F-44BA-BB42-197C3144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0E60-DAD0-4161-8853-62584538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F0DCA-D958-4D6B-B793-9DD1EB7B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99016-C5B9-48C6-B3B3-F70920E3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E6CEC-1F22-4BA8-B737-9A7A8684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07F70-75B6-4633-BF67-012F7D5F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56BB9-C3A1-4E91-80E6-643693DB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E1F39-FF63-4C76-96C4-DDE81708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E9BB6-426C-4144-A2FB-939CDF71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B56-5BE2-4938-AB97-AD45F356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14F2C-83C3-4046-B715-D5DE67E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D7871-DD59-4046-AAF8-08CFEF42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F6311-472B-4E1C-97EC-EF69C39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A83E9-B336-44EC-93F6-1711BD7D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77A21-4616-40B3-B53D-0788693C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B1A1-29AE-43DC-BD74-4CBB5769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9EF17-553E-4E31-9D31-98225622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57EE-20AF-4382-9D51-3B71873F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D9C43-97EE-4107-A229-FAE19F0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DD8F1-F49A-4612-8671-1EE6138F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F8C-054A-40A1-B711-81035274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A3116-3A2E-4396-BBE8-09F0FC3E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07EDE-CB2C-435B-A3C1-B28A42B7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7ACBA-22CF-44F1-BF44-FB070EA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A4B5C-3119-4671-A1D5-5614FE91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55C2A-E18E-487F-B4BC-B3C122C9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FF171-EF1E-409A-93FD-FADD015D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A8E22-91E1-452E-AC4C-D3AC0F42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64F0-98D2-4E36-87FF-482E211350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48C4-5EBC-4166-B933-F46A15CF3CB6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C74F-2A7C-4541-BF1A-8201AB0240C9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EA1A-51ED-471B-AB98-5659B6564A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BCF3-6ABC-46CD-AD51-51129AFA70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501F-6D5A-41A1-933A-6E4A43F752FC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2757-CFE2-4444-B30E-AE9556D1D40E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B7A9-CD4F-450B-B4AC-1068EBB103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dc3"/>
                </a:solidFill>
                <a:latin typeface="Arial"/>
                <a:ea typeface="Arial"/>
              </a:rPr>
              <a:t>ИСПОЛЬЗОВАЛА  ШАБЛОН ДЛЯ СОЗДАНИЯ КОМПЬЮТЕРНЫХ ТЕСТОВ В POWER POINT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Arial"/>
                <a:ea typeface="Arial"/>
              </a:rPr>
              <a:t> СМИРНОВА ДМИТРИЯ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HTTP://WWW.NACHALKA.COM/TEST_SHABLON</a:t>
            </a:r>
            <a:br>
              <a:rPr sz="1400"/>
            </a:br>
            <a:endParaRPr b="0" lang="en-US" sz="1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56760" y="939960"/>
            <a:ext cx="857268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Тест по музыке дл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2 класса 1 четверть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Составил учитель музыки  Апахова Лидия Юрьев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МАОУ многопрофильного лицея № 2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города Ульяновск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5"/>
          <p:cNvSpPr/>
          <p:nvPr/>
        </p:nvSpPr>
        <p:spPr>
          <a:xfrm>
            <a:off x="5286240" y="59421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85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ctr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 algn="ctr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каких инструментах исполняют марш военный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да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ные дух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13"/>
          <p:cNvSpPr/>
          <p:nvPr/>
        </p:nvSpPr>
        <p:spPr>
          <a:xfrm>
            <a:off x="5786280" y="24289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еревянно – духовы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14"/>
          <p:cNvSpPr/>
          <p:nvPr/>
        </p:nvSpPr>
        <p:spPr>
          <a:xfrm>
            <a:off x="585792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унно – смычк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«Камаринскую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Скругленный прямоугольник 3"/>
          <p:cNvSpPr/>
          <p:nvPr/>
        </p:nvSpPr>
        <p:spPr>
          <a:xfrm>
            <a:off x="1928880" y="4286160"/>
            <a:ext cx="207180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усски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5"/>
          <p:cNvSpPr/>
          <p:nvPr/>
        </p:nvSpPr>
        <p:spPr>
          <a:xfrm>
            <a:off x="5643720" y="42861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3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лыбельная звуч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аск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13"/>
          <p:cNvSpPr/>
          <p:nvPr/>
        </p:nvSpPr>
        <p:spPr>
          <a:xfrm>
            <a:off x="378612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пе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до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казо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«Танец с кубками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Скругленный прямоугольник 3"/>
          <p:cNvSpPr/>
          <p:nvPr/>
        </p:nvSpPr>
        <p:spPr>
          <a:xfrm>
            <a:off x="1928880" y="4286160"/>
            <a:ext cx="207180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кругленный прямоугольник 5"/>
          <p:cNvSpPr/>
          <p:nvPr/>
        </p:nvSpPr>
        <p:spPr>
          <a:xfrm>
            <a:off x="5643720" y="42861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бал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композитор песни «Сурок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Скругленный прямоугольник 3"/>
          <p:cNvSpPr/>
          <p:nvPr/>
        </p:nvSpPr>
        <p:spPr>
          <a:xfrm>
            <a:off x="6000840" y="3500280"/>
            <a:ext cx="207144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тхове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5"/>
          <p:cNvSpPr/>
          <p:nvPr/>
        </p:nvSpPr>
        <p:spPr>
          <a:xfrm>
            <a:off x="1357200" y="357192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1"/>
          <a:stretch/>
        </p:blipFill>
        <p:spPr>
          <a:xfrm>
            <a:off x="7115040" y="28584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3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того чтобы музыка стала настоящим живым искусством нуж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оз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сполнител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кругленный прямоугольник 13"/>
          <p:cNvSpPr/>
          <p:nvPr/>
        </p:nvSpPr>
        <p:spPr>
          <a:xfrm>
            <a:off x="378612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уш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струмен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цертный 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9900"/>
                </a:solidFill>
                <a:latin typeface="Arial"/>
                <a:ea typeface="Arial"/>
              </a:rPr>
              <a:t>Верно: 1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9900"/>
                </a:solidFill>
                <a:latin typeface="Arial"/>
                <a:ea typeface="Arial"/>
              </a:rPr>
              <a:t>Ошибки: 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9900"/>
                </a:solidFill>
                <a:latin typeface="Arial"/>
                <a:ea typeface="Arial"/>
              </a:rPr>
              <a:t>Отметка: 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48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"/>
          <a:stretch/>
        </p:blipFill>
        <p:spPr>
          <a:xfrm>
            <a:off x="4572000" y="1714680"/>
            <a:ext cx="42148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основных жанров в музы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6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855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 основные жанры музы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с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а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мф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альянскую польку написа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Скругленный прямоугольник 3"/>
          <p:cNvSpPr/>
          <p:nvPr/>
        </p:nvSpPr>
        <p:spPr>
          <a:xfrm>
            <a:off x="1928880" y="4286160"/>
            <a:ext cx="207180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хман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5"/>
          <p:cNvSpPr/>
          <p:nvPr/>
        </p:nvSpPr>
        <p:spPr>
          <a:xfrm>
            <a:off x="5643720" y="42861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рш звуч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р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т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о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до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дост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ег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2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)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аком ключе мы с вами по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крипич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асо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льто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"/>
          <p:cNvPicPr/>
          <p:nvPr/>
        </p:nvPicPr>
        <p:blipFill>
          <a:blip r:embed="rId1"/>
          <a:stretch/>
        </p:blipFill>
        <p:spPr>
          <a:xfrm>
            <a:off x="0" y="2928960"/>
            <a:ext cx="217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2"/>
          <a:stretch/>
        </p:blipFill>
        <p:spPr>
          <a:xfrm>
            <a:off x="7115040" y="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 произведения Петра Ильича Чайковск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ш деревянных солда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кругленный прямоугольник 12"/>
          <p:cNvSpPr/>
          <p:nvPr/>
        </p:nvSpPr>
        <p:spPr>
          <a:xfrm>
            <a:off x="635796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Шарма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кругленный прямоугольник 13"/>
          <p:cNvSpPr/>
          <p:nvPr/>
        </p:nvSpPr>
        <p:spPr>
          <a:xfrm>
            <a:off x="635796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ебедин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тальянская пол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15"/>
          <p:cNvSpPr/>
          <p:nvPr/>
        </p:nvSpPr>
        <p:spPr>
          <a:xfrm>
            <a:off x="357192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селый музык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ый прямоугольник 16"/>
          <p:cNvSpPr/>
          <p:nvPr/>
        </p:nvSpPr>
        <p:spPr>
          <a:xfrm>
            <a:off x="92880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Школьные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15040" y="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вана, менуэт, контраданс -это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Н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С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кругленный прямоугольник 6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8" descr=""/>
          <p:cNvPicPr/>
          <p:nvPr/>
        </p:nvPicPr>
        <p:blipFill>
          <a:blip r:embed="rId1"/>
          <a:stretch/>
        </p:blipFill>
        <p:spPr>
          <a:xfrm>
            <a:off x="7115040" y="35712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мо</cp:lastModifiedBy>
  <dcterms:modified xsi:type="dcterms:W3CDTF">2013-06-26T18:07:44Z</dcterms:modified>
  <cp:revision>733</cp:revision>
  <dc:subject/>
  <dc:title>Слайд 1</dc:title>
</cp:coreProperties>
</file>