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2AC-8B0C-4A94-BB26-751EE04E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631-02A3-42DB-AAF7-BA4DD7A7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DC9-8C8A-4FB4-9E89-782892FB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97A-6944-444F-A8B0-4D3E61D1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D64-2DBB-4368-B109-2CF9D7FB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71A-1E73-46E0-AA39-B28182DD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195-8C98-4531-8D68-9019C611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8FF-1946-427B-BDD0-2F29C8C9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053-739F-499F-B28E-D4B5406C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E25-1B07-42A9-80E9-FF2C3B62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FA6-99D7-4B25-98F1-E44E69BC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66C-1DE6-4DC8-AB7C-88A45E19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69D8-D993-4512-9D96-35BE87658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549360"/>
            <a:ext cx="5616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нц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809880" cy="4629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2638440" cy="176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2565360"/>
            <a:ext cx="4910400" cy="3998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771640" y="1916280"/>
            <a:ext cx="58262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692360" y="476280"/>
            <a:ext cx="62643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нглий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769080" cy="453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6769080" cy="453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03480" y="618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5516640"/>
            <a:ext cx="244800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Аллема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5516640"/>
            <a:ext cx="2449440" cy="64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Жи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116000" y="47628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Норвеж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08720" cy="5157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16360" y="5805360"/>
            <a:ext cx="3024000" cy="627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Хал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769080" cy="5168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08360" y="5805360"/>
            <a:ext cx="223200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Ганг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71640" y="620640"/>
            <a:ext cx="7129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встрий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897880" cy="4856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5805360"/>
            <a:ext cx="244764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Ва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00000" y="47628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оль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896160" cy="459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76720" y="5734080"/>
            <a:ext cx="2374920" cy="57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Краков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6912000" cy="4824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80000" y="5734080"/>
            <a:ext cx="230472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Мазу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6912000" cy="4836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24360" y="5589720"/>
            <a:ext cx="208908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Полон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87280" y="476280"/>
            <a:ext cx="691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итальян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76720" y="5373720"/>
            <a:ext cx="244764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Таранте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120000" cy="4535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35280" y="5445000"/>
            <a:ext cx="244944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Бол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913800" cy="4537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403280" y="476280"/>
            <a:ext cx="67690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Испанские танцы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445000"/>
            <a:ext cx="2808000" cy="627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Х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5:21:10Z</dcterms:created>
  <dc:creator>Мама 2</dc:creator>
  <dc:description/>
  <dc:language>en-US</dc:language>
  <cp:lastModifiedBy>Мама 2</cp:lastModifiedBy>
  <dcterms:modified xsi:type="dcterms:W3CDTF">2011-11-23T16:26:43Z</dcterms:modified>
  <cp:revision>3</cp:revision>
  <dc:subject/>
  <dc:title>Слайд 1</dc:title>
</cp:coreProperties>
</file>