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5C8-12A0-424C-9346-A4DEBAE1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0AC-8572-4692-9AE7-3502639C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81A-7909-4E83-8DC7-84CB9B63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ADC-4756-44EC-9F81-FEF32833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BB7-59E5-49E1-B1F8-7B962C8B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E04-EBA5-4682-B719-28F5670F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7C5-234E-4420-9B05-683B1D5B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677-49BF-43ED-B1DF-ADA9F6DD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3F7-EFC5-465A-B884-55C066ED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9F7-6547-46EF-B354-4B6D495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0D1-B2EA-4892-AFD9-E77231F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B6E-4462-4741-9E6C-5751F56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520-CE0F-4B63-B6EA-D6DBEA34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549360"/>
            <a:ext cx="5616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809880" cy="4629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638440" cy="176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2565360"/>
            <a:ext cx="4910400" cy="399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771640" y="1916280"/>
            <a:ext cx="58262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92360" y="476280"/>
            <a:ext cx="6264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глий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769080" cy="453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6769080" cy="453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0348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5516640"/>
            <a:ext cx="244800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лле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5516640"/>
            <a:ext cx="2449440" cy="64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Ж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16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Норвеж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5157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6360" y="5805360"/>
            <a:ext cx="3024000" cy="62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Ха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769080" cy="516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5805360"/>
            <a:ext cx="223200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анг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71640" y="620640"/>
            <a:ext cx="712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встрий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97880" cy="4856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5805360"/>
            <a:ext cx="24476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Ва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00000" y="47628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оль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896160" cy="459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76720" y="5734080"/>
            <a:ext cx="2374920" cy="57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раков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912000" cy="482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80000" y="5734080"/>
            <a:ext cx="230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азу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6912000" cy="4836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24360" y="5589720"/>
            <a:ext cx="208908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олон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87280" y="476280"/>
            <a:ext cx="69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тальян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76720" y="5373720"/>
            <a:ext cx="24476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Таранте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2000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35280" y="5445000"/>
            <a:ext cx="24494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Бол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913800" cy="453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403280" y="476280"/>
            <a:ext cx="676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спанские танцы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445000"/>
            <a:ext cx="2808000" cy="62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Х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21:10Z</dcterms:created>
  <dc:creator>Мама 2</dc:creator>
  <dc:description/>
  <dc:language>en-US</dc:language>
  <cp:lastModifiedBy>Мама 2</cp:lastModifiedBy>
  <dcterms:modified xsi:type="dcterms:W3CDTF">2011-11-23T16:26:43Z</dcterms:modified>
  <cp:revision>3</cp:revision>
  <dc:subject/>
  <dc:title>Слайд 1</dc:title>
</cp:coreProperties>
</file>