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C71FF-0B03-446E-AFDB-02C5933CF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067DE-CD61-4E66-A9B3-87B48B987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EC07E-5370-4F75-9A31-BD4EC288C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D45F1-24B2-4417-86C6-AF59A0B94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5712B-CC43-483E-94D6-C35D9A89B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B7130-EB3F-4621-A80E-82793EE6D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CD8C8-212E-454C-9C15-F57240FD1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CD218-C71D-430C-834F-BF4CE3D12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F177D-34CB-4554-924B-7F22AAFA5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07532-41F4-43E2-B5F1-36549CBE8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E0F23-DFD3-49EC-A9B6-30F4E2ACE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1F85A-BFB0-4E4A-9BFF-12C38A447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0857B-4A40-4462-8BE0-087F0194A5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619280" y="549360"/>
            <a:ext cx="561672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Танцы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067280" y="2060640"/>
            <a:ext cx="3809880" cy="46292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539640" y="4221000"/>
            <a:ext cx="2638440" cy="17640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900000" y="2565360"/>
            <a:ext cx="4910400" cy="39988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2771640" y="1916280"/>
            <a:ext cx="5826240" cy="44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1692360" y="476280"/>
            <a:ext cx="6264360" cy="91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3300"/>
                </a:solidFill>
                <a:latin typeface="Arial"/>
              </a:rPr>
              <a:t>Английские танц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3300"/>
              </a:solidFill>
              <a:latin typeface="Arial"/>
              <a:ea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403280" y="1773360"/>
            <a:ext cx="6769080" cy="45352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403280" y="1773360"/>
            <a:ext cx="6769080" cy="45352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103480" y="6184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635280" y="5516640"/>
            <a:ext cx="2448000" cy="6476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3300"/>
                </a:solidFill>
                <a:latin typeface="Arial"/>
              </a:rPr>
              <a:t>Аллеман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635280" y="5516640"/>
            <a:ext cx="2449440" cy="6490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Жи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1116000" y="476280"/>
            <a:ext cx="66247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3300"/>
                </a:solidFill>
                <a:latin typeface="Arial"/>
              </a:rPr>
              <a:t>Норвежские танц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3300"/>
              </a:solidFill>
              <a:latin typeface="Arial"/>
              <a:ea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332000" y="1484280"/>
            <a:ext cx="6408720" cy="51577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916360" y="5805360"/>
            <a:ext cx="3024000" cy="6271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3300"/>
                </a:solidFill>
                <a:latin typeface="Arial"/>
              </a:rPr>
              <a:t>Халлин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1332000" y="1484280"/>
            <a:ext cx="6769080" cy="51688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708360" y="5805360"/>
            <a:ext cx="2232000" cy="5763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3300"/>
                </a:solidFill>
                <a:latin typeface="Arial"/>
              </a:rPr>
              <a:t>Ганга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971640" y="620640"/>
            <a:ext cx="712944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3300"/>
                </a:solidFill>
                <a:latin typeface="Arial"/>
              </a:rPr>
              <a:t>Австрийские танц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3300"/>
              </a:solidFill>
              <a:latin typeface="Arial"/>
              <a:ea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547640" y="1773360"/>
            <a:ext cx="5897880" cy="48560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3276720" y="5805360"/>
            <a:ext cx="2447640" cy="5763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Валь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900000" y="476280"/>
            <a:ext cx="72741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3300"/>
                </a:solidFill>
                <a:latin typeface="Arial"/>
              </a:rPr>
              <a:t>Польские танц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3300"/>
              </a:solidFill>
              <a:latin typeface="Arial"/>
              <a:ea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116000" y="1773360"/>
            <a:ext cx="6896160" cy="45972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3276720" y="5734080"/>
            <a:ext cx="2374920" cy="5745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Краковя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1116000" y="1557360"/>
            <a:ext cx="6912000" cy="48243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3780000" y="5734080"/>
            <a:ext cx="2304720" cy="503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Мазур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1116000" y="1557360"/>
            <a:ext cx="6912000" cy="483696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3924360" y="5589720"/>
            <a:ext cx="2089080" cy="5760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Полоне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187280" y="476280"/>
            <a:ext cx="69120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3300"/>
                </a:solidFill>
                <a:latin typeface="Arial"/>
              </a:rPr>
              <a:t>итальянские танц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3300"/>
              </a:solidFill>
              <a:latin typeface="Arial"/>
              <a:ea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547640" y="1557360"/>
            <a:ext cx="6096240" cy="4572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3276720" y="5373720"/>
            <a:ext cx="2447640" cy="5763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Тарантел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1547640" y="1557360"/>
            <a:ext cx="6120000" cy="45356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3635280" y="5445000"/>
            <a:ext cx="2449440" cy="5763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Болер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042920" y="1700280"/>
            <a:ext cx="6913800" cy="453708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 txBox="1"/>
          <p:nvPr/>
        </p:nvSpPr>
        <p:spPr>
          <a:xfrm>
            <a:off x="1403280" y="476280"/>
            <a:ext cx="6769080" cy="102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3300"/>
                  </a:solidFill>
                  <a:miter/>
                </a:ln>
                <a:solidFill>
                  <a:srgbClr val="cc3300"/>
                </a:solidFill>
                <a:latin typeface="Arial"/>
              </a:rPr>
              <a:t>Испанские танцы</a:t>
            </a:r>
            <a:endParaRPr b="0" lang="en-US" sz="1800" spc="1" strike="noStrike">
              <a:ln w="9360">
                <a:solidFill>
                  <a:srgbClr val="cc3300"/>
                </a:solidFill>
                <a:miter/>
              </a:ln>
              <a:solidFill>
                <a:srgbClr val="cc3300"/>
              </a:solidFill>
              <a:latin typeface="Arial"/>
              <a:ea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76720" y="5445000"/>
            <a:ext cx="2808000" cy="6271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Хо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3T15:21:10Z</dcterms:created>
  <dc:creator>Мама 2</dc:creator>
  <dc:description/>
  <dc:language>en-US</dc:language>
  <cp:lastModifiedBy>Мама 2</cp:lastModifiedBy>
  <dcterms:modified xsi:type="dcterms:W3CDTF">2011-11-23T16:26:43Z</dcterms:modified>
  <cp:revision>3</cp:revision>
  <dc:subject/>
  <dc:title>Слайд 1</dc:title>
</cp:coreProperties>
</file>