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050-6395-4EB4-8043-74FD1CF9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45D-1DCF-4B3B-873F-F8AC74C0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AB4-1F5E-4151-AD6C-7A451048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960-F4AA-4410-9597-4816B0B3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40D-F4D3-4A04-AFF6-618040D9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EB9-221B-4DAD-97DE-0F5B5093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791-8532-4280-AFF3-CD25DA2A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A2A-F90E-498E-AC87-89729A60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DDB-E625-4D99-888B-119EE834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FAC-CD93-45A5-82E7-BC3E0911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8BA-0136-4769-83DB-A07B5C6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7CD-CCB2-4BD3-B3C0-BFD8A98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525D-EEA4-4A18-A3D6-18EA98225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44792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mic Sans MS"/>
              </a:rPr>
              <a:t>Гимнаст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mic Sans MS"/>
              </a:rPr>
              <a:t>для язы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(звук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  <a:ea typeface="Arial"/>
              </a:rPr>
              <a:t>[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С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  <a:ea typeface="Arial"/>
              </a:rPr>
              <a:t>]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  <a:ea typeface="Arial"/>
              </a:rPr>
              <a:t>,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[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З</a:t>
            </a: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]</a:t>
            </a:r>
            <a:r>
              <a:rPr b="0" lang="ru-RU" sz="6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955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0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10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609480"/>
            <a:ext cx="8534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пражнения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Дудочка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и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Заборчик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помогают научиться выполнять любое движение языка без одновременных движений губ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320040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пражнение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Блинчик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поможет научиться удерживать язык широким и расслабленным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8580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Каждое упражнение выполняется определенное врем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4197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Следи за зеленым кружком рядом с картинкой к упражн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514600"/>
            <a:ext cx="1218960" cy="12193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438280"/>
            <a:ext cx="1371600" cy="1371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2438280"/>
            <a:ext cx="1447920" cy="1371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438280"/>
            <a:ext cx="1600200" cy="15242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438280"/>
            <a:ext cx="1600200" cy="1600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362320"/>
            <a:ext cx="1600200" cy="1676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2362320"/>
            <a:ext cx="1752480" cy="16761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286000"/>
            <a:ext cx="1828800" cy="17524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09680"/>
            <a:ext cx="1905120" cy="19051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209680"/>
            <a:ext cx="2057400" cy="2057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772400" cy="17557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7772400" cy="177012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7848720" cy="18208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04920"/>
            <a:ext cx="33530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Дуд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С напряжением вытяну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губы вперед (зубы сомк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2514600"/>
            <a:ext cx="3429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Забор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Улыбнуться с напряжени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обнажив сомкнутые зу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4724280"/>
            <a:ext cx="35049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Блин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Улыб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Приоткрыть 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Положить широкий язык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нижнюю гу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9246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9246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9246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95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2955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2955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609480"/>
            <a:ext cx="85345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Упражнение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Месим тесто»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помогает научиться удерживать язык широким и расслабленн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624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Упражнение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Чистим зубы»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поможет научиться удерживать кончик языка за верхними или/и за нижними зу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952880"/>
            <a:ext cx="6553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Упражнение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«Киска»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помогает сформировать подъем спинки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29528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Каждое упражнение выполняется в медленном темпе, чет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7339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На каждый счет выполняется 1 цикл 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5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4648320"/>
            <a:ext cx="8077320" cy="18669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001000" cy="17622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7924680" cy="18432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be7f3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5181480"/>
            <a:ext cx="457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2971800"/>
            <a:ext cx="457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762120"/>
            <a:ext cx="380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04920"/>
            <a:ext cx="3429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cc0000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Месим Тест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Comic Sans MS"/>
              </a:rPr>
              <a:t>Улыбн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Comic Sans MS"/>
              </a:rPr>
              <a:t>Расположи язык между гу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Comic Sans MS"/>
              </a:rPr>
              <a:t>Пошлепай его – «пя – пя –п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590920"/>
            <a:ext cx="3429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Чистим зуб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Улыбнись, открой 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Кончиком языка «почис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нижние зубы с внутрен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стороны (вправо – вле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4648320"/>
            <a:ext cx="35812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«Киска сердит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Губы в улыбке, рот откр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Кончик зыка упирает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нижние зуб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Язык выгибаем гор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затем расслабл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8487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2955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295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295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333800" cy="777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962520" y="1828800"/>
            <a:ext cx="990360" cy="577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90920" y="99072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514600" y="4267080"/>
            <a:ext cx="800280" cy="685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5410080" y="4267080"/>
            <a:ext cx="1600200" cy="1162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52480" y="2514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Comic Sans MS"/>
              </a:rPr>
              <a:t>Молодец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0-02-07T08:50:1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050000000000010250600207f5200358026400</vt:lpwstr>
  </property>
  <property fmtid="{D5CDD505-2E9C-101B-9397-08002B2CF9AE}" pid="3" name="Version">
    <vt:r8>1</vt:r8>
  </property>
</Properties>
</file>