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078-63DA-423C-9FA0-94EE9B5A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D4D-C7D9-4DD5-935A-A1CC8E9D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398-F31E-40F7-8535-B811C6F6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975-B6DE-4E87-9D08-7B287551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B3B-9684-4B7D-B99B-7591190B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0AB-9B4C-430C-8D1C-C82A71B0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88D-52FD-4A51-8C49-5EE42591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1FE-849D-411A-8FD6-72EBBF4D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3A1-FB2C-4463-8CC4-0CA03D08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3FB-E4D8-40C2-AB53-A168DB4C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90D-95F5-49F9-B940-D434F649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338-5AE0-4A47-972A-00E22E89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3E1B-9F6B-4BDD-8E9A-9826FA139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447920"/>
            <a:ext cx="5334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mic Sans MS"/>
              </a:rPr>
              <a:t>Гимнасти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mic Sans MS"/>
              </a:rPr>
              <a:t>для язы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Comic Sans MS"/>
              </a:rPr>
              <a:t>(звук</a:t>
            </a: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6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  <a:ea typeface="Arial"/>
              </a:rPr>
              <a:t>[</a:t>
            </a:r>
            <a:r>
              <a:rPr b="0" lang="ru-RU" sz="6000" spc="-1" strike="noStrike">
                <a:solidFill>
                  <a:srgbClr val="333399"/>
                </a:solidFill>
                <a:latin typeface="Comic Sans MS"/>
              </a:rPr>
              <a:t>С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  <a:ea typeface="Arial"/>
              </a:rPr>
              <a:t>]</a:t>
            </a:r>
            <a:r>
              <a:rPr b="0" lang="ru-RU" sz="60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[</a:t>
            </a:r>
            <a:r>
              <a:rPr b="0" lang="ru-RU" sz="6000" spc="-1" strike="noStrike">
                <a:solidFill>
                  <a:srgbClr val="333399"/>
                </a:solidFill>
                <a:latin typeface="Comic Sans MS"/>
              </a:rPr>
              <a:t>З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]</a:t>
            </a:r>
            <a:r>
              <a:rPr b="0" lang="ru-RU" sz="6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5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955"/>
                            </p:stCondLst>
                            <p:childTnLst>
                              <p:par>
                                <p:cTn id="13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00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100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100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609480"/>
            <a:ext cx="8534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пражнения 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Дудочка»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и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Заборчик»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помогают научиться выполнять любое движение языка без одновременных движений губ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244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200400"/>
            <a:ext cx="601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пражнение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Блинчик»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поможет научиться удерживать язык широким и расслабленным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685800"/>
            <a:ext cx="8305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Каждое упражнение выполняется определенное врем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244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41972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Следи за зеленым кружком рядом с картинкой к упражн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514600"/>
            <a:ext cx="1218960" cy="1219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438280"/>
            <a:ext cx="1371600" cy="1371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2438280"/>
            <a:ext cx="1447920" cy="1371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438280"/>
            <a:ext cx="1600200" cy="15242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2438280"/>
            <a:ext cx="1600200" cy="1600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362320"/>
            <a:ext cx="1600200" cy="16761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2362320"/>
            <a:ext cx="1752480" cy="16761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2286000"/>
            <a:ext cx="1828800" cy="1752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209680"/>
            <a:ext cx="1905120" cy="19051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209680"/>
            <a:ext cx="2057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772400" cy="175572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7772400" cy="177012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7848720" cy="182088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77320" y="1219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77320" y="3505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5638680"/>
            <a:ext cx="1066680" cy="106704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304920"/>
            <a:ext cx="33530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«Дудо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С напряжением вытяну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губы вперед (зубы сомкну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2514600"/>
            <a:ext cx="3429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«Заборч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Улыбнуться с напряжени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обнажив сомкнутые зу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4724280"/>
            <a:ext cx="35049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«Блинч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Улыбну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Приоткрыть 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Положить широкий язык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нижнюю гу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9246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9246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79246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2955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5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295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2955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609480"/>
            <a:ext cx="8534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Упражнение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Месим тесто»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помогает научиться удерживать язык широким и расслабленны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244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624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Упражнение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Чистим зубы»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поможет научиться удерживать кончик языка за верхними или/и за нижними зу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952880"/>
            <a:ext cx="6553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Упражнение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Киска»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помогает сформировать подъем спинки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295280"/>
            <a:ext cx="8305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Каждое упражнение выполняется в медленном темпе, чет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73392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На каждый счет выполняется 1 цикл упраж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4648320"/>
            <a:ext cx="8077320" cy="18669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001000" cy="17622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7924680" cy="18432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1219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77320" y="3505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5638680"/>
            <a:ext cx="1066680" cy="106704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5181480"/>
            <a:ext cx="457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2971800"/>
            <a:ext cx="457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762120"/>
            <a:ext cx="380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304920"/>
            <a:ext cx="3429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Comic Sans MS"/>
              </a:rPr>
              <a:t>         </a:t>
            </a:r>
            <a:r>
              <a:rPr b="0" lang="ru-RU" sz="1800" spc="-1" strike="noStrike">
                <a:solidFill>
                  <a:srgbClr val="cc0000"/>
                </a:solidFill>
                <a:latin typeface="Comic Sans MS"/>
              </a:rPr>
              <a:t>«</a:t>
            </a: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Месим Тест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Comic Sans MS"/>
              </a:rPr>
              <a:t>Улыбн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Comic Sans MS"/>
              </a:rPr>
              <a:t>Расположи язык между гу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Comic Sans MS"/>
              </a:rPr>
              <a:t>Пошлепай его – «пя – пя –п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590920"/>
            <a:ext cx="3429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«Чистим зуб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Улыбнись, открой 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Кончиком языка «почист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нижние зубы с внутрен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стороны (вправо – вле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4648320"/>
            <a:ext cx="3581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«Киска сердит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Губы в улыбке, рот откр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Кончик зыка упирает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нижние зуб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Язык выгибаем гор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затем расслабл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7848720" y="6400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2955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2955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15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4000"/>
                            </p:stCondLst>
                            <p:childTnLst>
                              <p:par>
                                <p:cTn id="5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2955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1333800" cy="777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962520" y="1828800"/>
            <a:ext cx="990360" cy="577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590920" y="990720"/>
            <a:ext cx="799920" cy="914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514600" y="4267080"/>
            <a:ext cx="80028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5410080" y="4267080"/>
            <a:ext cx="1600200" cy="1162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752480" y="25146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Comic Sans MS"/>
              </a:rPr>
              <a:t>Молодец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0-02-07T08:50:1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8050000000000010250600207f5200358026400</vt:lpwstr>
  </property>
  <property fmtid="{D5CDD505-2E9C-101B-9397-08002B2CF9AE}" pid="3" name="Version">
    <vt:r8>1</vt:r8>
  </property>
</Properties>
</file>