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414-F255-49F7-9251-F720169D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B92C-2A28-457C-B375-A8662C0D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AB63-C98F-4332-BE3D-89C42470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9042-6D5B-480C-9B97-AE27D079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AFA2-B2AA-4790-80F6-84E4DF8E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948-CA3B-4659-A213-E4F7519B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90DC-0655-42F1-A275-164BD0A0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8AA8-A4DC-4E11-B085-F23A5EBB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19C-F957-45FF-A831-0D983628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C073-500D-49D8-892E-2FC1F03F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178-CCB3-451B-81C1-6FE71EE7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1276-9B99-49B5-A216-E667CBB3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A64E-AFF3-4E5B-8E1B-ADB2879471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1.wav" TargetMode="External"/><Relationship Id="rId2" Type="http://schemas.microsoft.com/office/2007/relationships/media" Target="file:///tmp/home/.config/libreoffice/4/user/gallery/1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file:///tmp/home/.config/libreoffice/4/user/gallery/11.wav" TargetMode="External"/><Relationship Id="rId3" Type="http://schemas.microsoft.com/office/2007/relationships/media" Target="file:///tmp/home/.config/libreoffice/4/user/gallery/11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12.wav" TargetMode="External"/><Relationship Id="rId3" Type="http://schemas.microsoft.com/office/2007/relationships/media" Target="file:///tmp/home/.config/libreoffice/4/user/gallery/1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file:///tmp/home/.config/libreoffice/4/user/gallery/14.wav" TargetMode="External"/><Relationship Id="rId3" Type="http://schemas.microsoft.com/office/2007/relationships/media" Target="file:///tmp/home/.config/libreoffice/4/user/gallery/14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tmp/home/.config/libreoffice/4/user/gallery/15.wav" TargetMode="External"/><Relationship Id="rId3" Type="http://schemas.microsoft.com/office/2007/relationships/media" Target="file:///tmp/home/.config/libreoffice/4/user/gallery/15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13.wav" TargetMode="External"/><Relationship Id="rId3" Type="http://schemas.microsoft.com/office/2007/relationships/media" Target="file:///tmp/home/.config/libreoffice/4/user/gallery/1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file:///tmp/home/.config/libreoffice/4/user/gallery/7.wav" TargetMode="External"/><Relationship Id="rId3" Type="http://schemas.microsoft.com/office/2007/relationships/media" Target="file:///tmp/home/.config/libreoffice/4/user/gallery/7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file:///tmp/home/.config/libreoffice/4/user/gallery/16.wav" TargetMode="External"/><Relationship Id="rId3" Type="http://schemas.microsoft.com/office/2007/relationships/media" Target="file:///tmp/home/.config/libreoffice/4/user/gallery/16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file:///tmp/home/.config/libreoffice/4/user/gallery/17.wav" TargetMode="External"/><Relationship Id="rId3" Type="http://schemas.microsoft.com/office/2007/relationships/media" Target="file:///tmp/home/.config/libreoffice/4/user/gallery/17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file:///tmp/home/.config/libreoffice/4/user/gallery/18.wav" TargetMode="External"/><Relationship Id="rId3" Type="http://schemas.microsoft.com/office/2007/relationships/media" Target="file:///tmp/home/.config/libreoffice/4/user/gallery/1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file:///tmp/home/.config/libreoffice/4/user/gallery/19.wav" TargetMode="External"/><Relationship Id="rId3" Type="http://schemas.microsoft.com/office/2007/relationships/media" Target="file:///tmp/home/.config/libreoffice/4/user/gallery/1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2.wav" TargetMode="External"/><Relationship Id="rId3" Type="http://schemas.microsoft.com/office/2007/relationships/media" Target="file:///tmp/home/.config/libreoffice/4/user/gallery/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file:///tmp/home/.config/libreoffice/4/user/gallery/20.wav" TargetMode="External"/><Relationship Id="rId3" Type="http://schemas.microsoft.com/office/2007/relationships/media" Target="file:///tmp/home/.config/libreoffice/4/user/gallery/2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file:///tmp/home/.config/libreoffice/4/user/gallery/21.wav" TargetMode="External"/><Relationship Id="rId3" Type="http://schemas.microsoft.com/office/2007/relationships/media" Target="file:///tmp/home/.config/libreoffice/4/user/gallery/21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file:///tmp/home/.config/libreoffice/4/user/gallery/22.wav" TargetMode="External"/><Relationship Id="rId3" Type="http://schemas.microsoft.com/office/2007/relationships/media" Target="file:///tmp/home/.config/libreoffice/4/user/gallery/2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file:///tmp/home/.config/libreoffice/4/user/gallery/23.wav" TargetMode="External"/><Relationship Id="rId3" Type="http://schemas.microsoft.com/office/2007/relationships/media" Target="file:///tmp/home/.config/libreoffice/4/user/gallery/2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file:///tmp/home/.config/libreoffice/4/user/gallery/24.wav" TargetMode="External"/><Relationship Id="rId3" Type="http://schemas.microsoft.com/office/2007/relationships/media" Target="file:///tmp/home/.config/libreoffice/4/user/gallery/24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file:///tmp/home/.config/libreoffice/4/user/gallery/26.wav" TargetMode="External"/><Relationship Id="rId3" Type="http://schemas.microsoft.com/office/2007/relationships/media" Target="file:///tmp/home/.config/libreoffice/4/user/gallery/26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file:///tmp/home/.config/libreoffice/4/user/gallery/25.wav" TargetMode="External"/><Relationship Id="rId3" Type="http://schemas.microsoft.com/office/2007/relationships/media" Target="file:///tmp/home/.config/libreoffice/4/user/gallery/25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file:///tmp/home/.config/libreoffice/4/user/gallery/27.wav" TargetMode="External"/><Relationship Id="rId3" Type="http://schemas.microsoft.com/office/2007/relationships/media" Target="file:///tmp/home/.config/libreoffice/4/user/gallery/27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file:///tmp/home/.config/libreoffice/4/user/gallery/29.wav" TargetMode="External"/><Relationship Id="rId3" Type="http://schemas.microsoft.com/office/2007/relationships/media" Target="file:///tmp/home/.config/libreoffice/4/user/gallery/2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file:///tmp/home/.config/libreoffice/4/user/gallery/28.wav" TargetMode="External"/><Relationship Id="rId3" Type="http://schemas.microsoft.com/office/2007/relationships/media" Target="file:///tmp/home/.config/libreoffice/4/user/gallery/2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3.wav" TargetMode="External"/><Relationship Id="rId3" Type="http://schemas.microsoft.com/office/2007/relationships/media" Target="file:///tmp/home/.config/libreoffice/4/user/gallery/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file:///tmp/home/.config/libreoffice/4/user/gallery/30.wav" TargetMode="External"/><Relationship Id="rId3" Type="http://schemas.microsoft.com/office/2007/relationships/media" Target="file:///tmp/home/.config/libreoffice/4/user/gallery/3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file:///tmp/home/.config/libreoffice/4/user/gallery/31.wav" TargetMode="External"/><Relationship Id="rId3" Type="http://schemas.microsoft.com/office/2007/relationships/media" Target="file:///tmp/home/.config/libreoffice/4/user/gallery/31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4.wav" TargetMode="External"/><Relationship Id="rId3" Type="http://schemas.microsoft.com/office/2007/relationships/media" Target="file:///tmp/home/.config/libreoffice/4/user/gallery/4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file:///tmp/home/.config/libreoffice/4/user/gallery/8.wav" TargetMode="External"/><Relationship Id="rId4" Type="http://schemas.microsoft.com/office/2007/relationships/media" Target="file:///tmp/home/.config/libreoffice/4/user/gallery/8.wav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5.wav" TargetMode="External"/><Relationship Id="rId3" Type="http://schemas.microsoft.com/office/2007/relationships/media" Target="file:///tmp/home/.config/libreoffice/4/user/gallery/5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6.wav" TargetMode="External"/><Relationship Id="rId3" Type="http://schemas.microsoft.com/office/2007/relationships/media" Target="file:///tmp/home/.config/libreoffice/4/user/gallery/6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file:///tmp/home/.config/libreoffice/4/user/gallery/9.wav" TargetMode="External"/><Relationship Id="rId3" Type="http://schemas.microsoft.com/office/2007/relationships/media" Target="file:///tmp/home/.config/libreoffice/4/user/gallery/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file:///tmp/home/.config/libreoffice/4/user/gallery/10.wav" TargetMode="External"/><Relationship Id="rId3" Type="http://schemas.microsoft.com/office/2007/relationships/media" Target="file:///tmp/home/.config/libreoffice/4/user/gallery/1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85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3800" y="2101680"/>
            <a:ext cx="502992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300" spc="-1" strike="noStrike">
                <a:solidFill>
                  <a:srgbClr val="0000ff"/>
                </a:solidFill>
                <a:latin typeface="Arial"/>
              </a:rPr>
              <a:t>спорт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3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7056360" cy="5389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330200" y="5546880"/>
            <a:ext cx="679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тайский бок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672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5315" t="8358" r="5315" b="8358"/>
          <a:stretch/>
        </p:blipFill>
        <p:spPr>
          <a:xfrm>
            <a:off x="179280" y="260280"/>
            <a:ext cx="8839440" cy="5237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59560" y="5516640"/>
            <a:ext cx="665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борьба сум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010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69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3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4705560" cy="5756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308040" y="5516640"/>
            <a:ext cx="31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енд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28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27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35280" y="115920"/>
            <a:ext cx="5960880" cy="5853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19760" y="5661000"/>
            <a:ext cx="487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тэквонд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85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44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9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8772" t="9147" r="8772" b="9147"/>
          <a:stretch/>
        </p:blipFill>
        <p:spPr>
          <a:xfrm>
            <a:off x="1833480" y="115920"/>
            <a:ext cx="5762880" cy="5479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97960" y="5502240"/>
            <a:ext cx="631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фехтова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836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602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2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995" t="1418" r="995" b="1418"/>
          <a:stretch/>
        </p:blipFill>
        <p:spPr>
          <a:xfrm>
            <a:off x="755640" y="189000"/>
            <a:ext cx="7693200" cy="5348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51440" y="5502240"/>
            <a:ext cx="667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армрестлин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85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53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5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392880" cy="5419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93440" y="5491080"/>
            <a:ext cx="568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формула 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010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76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8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064720" cy="5371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59040" y="5491080"/>
            <a:ext cx="559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авторалл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170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509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1"/>
                </p:tgtEl>
              </p:cMediaNode>
            </p:audio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624720" cy="5397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96360" y="5516640"/>
            <a:ext cx="555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отокрос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28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55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4"/>
                </p:tgtEl>
              </p:cMediaNode>
            </p:audio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1909" t="2856" r="1909" b="2856"/>
          <a:stretch/>
        </p:blipFill>
        <p:spPr>
          <a:xfrm>
            <a:off x="324000" y="189000"/>
            <a:ext cx="8496000" cy="5564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96000" y="5546880"/>
            <a:ext cx="546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отогон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170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67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7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62440" y="260280"/>
            <a:ext cx="4224240" cy="633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8200" y="2133720"/>
            <a:ext cx="465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тяж</a:t>
            </a:r>
            <a:r>
              <a:rPr b="1" lang="uk-UA" sz="80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ла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атлет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28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9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7993080" cy="5743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412360" y="5564160"/>
            <a:ext cx="456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отобо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2800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46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0"/>
                </p:tgtEl>
              </p:cMediaNode>
            </p:audio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890" t="2835" r="1890" b="1890"/>
          <a:stretch/>
        </p:blipFill>
        <p:spPr>
          <a:xfrm>
            <a:off x="973080" y="479520"/>
            <a:ext cx="7407360" cy="4889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320" y="5589720"/>
            <a:ext cx="91785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ff0000"/>
                </a:solidFill>
                <a:latin typeface="Arial"/>
              </a:rPr>
              <a:t>гонки на квадрациклах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85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043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3"/>
                </p:tgtEl>
              </p:cMediaNode>
            </p:audio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490160" cy="5618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2520" y="5715000"/>
            <a:ext cx="903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велосипедный крос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0436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83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6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580500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велотре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926400" cy="5832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567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44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9"/>
                </p:tgtEl>
              </p:cMediaNode>
            </p:audio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414160" y="5661000"/>
            <a:ext cx="460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кейтин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47720" y="115920"/>
            <a:ext cx="7569360" cy="5689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96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533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2"/>
                </p:tgtEl>
              </p:cMediaNode>
            </p:audio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50200" cy="5570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38880" y="5589720"/>
            <a:ext cx="723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онный спор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010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74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5"/>
                </p:tgtEl>
              </p:cMediaNode>
            </p:audio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8360" y="152280"/>
            <a:ext cx="8281800" cy="579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916720" y="5589720"/>
            <a:ext cx="3544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кач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59636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23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8"/>
                </p:tgtEl>
              </p:cMediaNode>
            </p:audio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8280360" cy="5856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58000" y="5635800"/>
            <a:ext cx="26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ол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7407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3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1"/>
                </p:tgtEl>
              </p:cMediaNode>
            </p:audio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848360" cy="5232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105480" y="5570640"/>
            <a:ext cx="9285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800" spc="-1" strike="noStrike">
                <a:solidFill>
                  <a:srgbClr val="ff0000"/>
                </a:solidFill>
                <a:latin typeface="Arial"/>
              </a:rPr>
              <a:t>стрелковый спорт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836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88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4"/>
                </p:tgtEl>
              </p:cMediaNode>
            </p:audio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6920" y="5546880"/>
            <a:ext cx="887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трельба из лу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7488360" cy="5616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010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81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7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22520" y="44280"/>
            <a:ext cx="4152960" cy="5761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16000" y="5589720"/>
            <a:ext cx="690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бодибилдин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4400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533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8"/>
                </p:tgtEl>
              </p:cMediaNode>
            </p:audio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5649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195640" y="5661000"/>
            <a:ext cx="499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ейнтбо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59636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509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0"/>
                </p:tgtEl>
              </p:cMediaNode>
            </p:audio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480360" cy="5349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50720" y="5546880"/>
            <a:ext cx="484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шахмат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96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486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3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7993080" cy="568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07480" y="5661000"/>
            <a:ext cx="250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бок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7407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04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3269" t="1814" r="1226" b="2419"/>
          <a:stretch/>
        </p:blipFill>
        <p:spPr>
          <a:xfrm>
            <a:off x="260280" y="2492280"/>
            <a:ext cx="4541760" cy="3160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76720" y="620640"/>
            <a:ext cx="3907080" cy="561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3800" y="604800"/>
            <a:ext cx="386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борьб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6676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27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489" t="4369" r="3489" b="3883"/>
          <a:stretch/>
        </p:blipFill>
        <p:spPr>
          <a:xfrm>
            <a:off x="1627200" y="368280"/>
            <a:ext cx="5960880" cy="5280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132360" y="5573880"/>
            <a:ext cx="35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арат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18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101080" cy="551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88720" y="5546880"/>
            <a:ext cx="346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дзюд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567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23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1817" t="2339" r="1817" b="2339"/>
          <a:stretch/>
        </p:blipFill>
        <p:spPr>
          <a:xfrm>
            <a:off x="826920" y="135000"/>
            <a:ext cx="7358400" cy="5657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843280" y="5573880"/>
            <a:ext cx="376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айкид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4516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277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6960" y="189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88480" y="5718240"/>
            <a:ext cx="580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икбоксин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04360" y="7029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55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7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5:33:19Z</dcterms:created>
  <dc:creator>InterBaby</dc:creator>
  <dc:description/>
  <dc:language>en-US</dc:language>
  <cp:lastModifiedBy>InterBaby</cp:lastModifiedBy>
  <dcterms:modified xsi:type="dcterms:W3CDTF">2005-04-21T15:33:35Z</dcterms:modified>
  <cp:revision>1</cp:revision>
  <dc:subject/>
  <dc:title>Слайд 1</dc:title>
</cp:coreProperties>
</file>