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40D-9E1D-4559-9D46-6458EFEE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EA0-9A16-45EC-9E09-16326D59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401-E78E-45CD-8D7B-748FCF83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23E-B2FA-43CA-BD24-79B62F43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37CD-4E9D-4A8E-99DE-FF6B8836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EB0-5FEB-4B2D-B11F-4FA97BE8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B7B-88D7-4A3B-A51B-54BD91D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4D5-3BDA-4912-9C06-C25021D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404-D080-48E4-A217-E4772078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9E3-BBAE-4601-A38C-4620C22D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4C0-295A-4DFA-9035-5E0070F2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2DD-7AFB-4385-BAEA-04389BB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C2A8-A580-47A5-853A-9AAA88384A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1.wav" TargetMode="External"/><Relationship Id="rId2" Type="http://schemas.microsoft.com/office/2007/relationships/media" Target="file:///tmp/home/.config/libreoffice/4/user/gallery/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11.wav" TargetMode="External"/><Relationship Id="rId3" Type="http://schemas.microsoft.com/office/2007/relationships/media" Target="file:///tmp/home/.config/libreoffice/4/user/gallery/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12.wav" TargetMode="External"/><Relationship Id="rId3" Type="http://schemas.microsoft.com/office/2007/relationships/media" Target="file:///tmp/home/.config/libreoffice/4/user/gallery/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14.wav" TargetMode="External"/><Relationship Id="rId3" Type="http://schemas.microsoft.com/office/2007/relationships/media" Target="file:///tmp/home/.config/libreoffice/4/user/gallery/1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15.wav" TargetMode="External"/><Relationship Id="rId3" Type="http://schemas.microsoft.com/office/2007/relationships/media" Target="file:///tmp/home/.config/libreoffice/4/user/gallery/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13.wav" TargetMode="External"/><Relationship Id="rId3" Type="http://schemas.microsoft.com/office/2007/relationships/media" Target="file:///tmp/home/.config/libreoffice/4/user/gallery/1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7.wav" TargetMode="External"/><Relationship Id="rId3" Type="http://schemas.microsoft.com/office/2007/relationships/media" Target="file:///tmp/home/.config/libreoffice/4/user/gallery/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16.wav" TargetMode="External"/><Relationship Id="rId3" Type="http://schemas.microsoft.com/office/2007/relationships/media" Target="file:///tmp/home/.config/libreoffice/4/user/gallery/1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17.wav" TargetMode="External"/><Relationship Id="rId3" Type="http://schemas.microsoft.com/office/2007/relationships/media" Target="file:///tmp/home/.config/libreoffice/4/user/gallery/1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18.wav" TargetMode="External"/><Relationship Id="rId3" Type="http://schemas.microsoft.com/office/2007/relationships/media" Target="file:///tmp/home/.config/libreoffice/4/user/gallery/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file:///tmp/home/.config/libreoffice/4/user/gallery/19.wav" TargetMode="External"/><Relationship Id="rId3" Type="http://schemas.microsoft.com/office/2007/relationships/media" Target="file:///tmp/home/.config/libreoffice/4/user/gallery/1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file:///tmp/home/.config/libreoffice/4/user/gallery/20.wav" TargetMode="External"/><Relationship Id="rId3" Type="http://schemas.microsoft.com/office/2007/relationships/media" Target="file:///tmp/home/.config/libreoffice/4/user/gallery/2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file:///tmp/home/.config/libreoffice/4/user/gallery/21.wav" TargetMode="External"/><Relationship Id="rId3" Type="http://schemas.microsoft.com/office/2007/relationships/media" Target="file:///tmp/home/.config/libreoffice/4/user/gallery/2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22.wav" TargetMode="External"/><Relationship Id="rId3" Type="http://schemas.microsoft.com/office/2007/relationships/media" Target="file:///tmp/home/.config/libreoffice/4/user/gallery/2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file:///tmp/home/.config/libreoffice/4/user/gallery/23.wav" TargetMode="External"/><Relationship Id="rId3" Type="http://schemas.microsoft.com/office/2007/relationships/media" Target="file:///tmp/home/.config/libreoffice/4/user/gallery/2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file:///tmp/home/.config/libreoffice/4/user/gallery/24.wav" TargetMode="External"/><Relationship Id="rId3" Type="http://schemas.microsoft.com/office/2007/relationships/media" Target="file:///tmp/home/.config/libreoffice/4/user/gallery/2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file:///tmp/home/.config/libreoffice/4/user/gallery/26.wav" TargetMode="External"/><Relationship Id="rId3" Type="http://schemas.microsoft.com/office/2007/relationships/media" Target="file:///tmp/home/.config/libreoffice/4/user/gallery/2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25.wav" TargetMode="External"/><Relationship Id="rId3" Type="http://schemas.microsoft.com/office/2007/relationships/media" Target="file:///tmp/home/.config/libreoffice/4/user/gallery/2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file:///tmp/home/.config/libreoffice/4/user/gallery/27.wav" TargetMode="External"/><Relationship Id="rId3" Type="http://schemas.microsoft.com/office/2007/relationships/media" Target="file:///tmp/home/.config/libreoffice/4/user/gallery/2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29.wav" TargetMode="External"/><Relationship Id="rId3" Type="http://schemas.microsoft.com/office/2007/relationships/media" Target="file:///tmp/home/.config/libreoffice/4/user/gallery/2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file:///tmp/home/.config/libreoffice/4/user/gallery/28.wav" TargetMode="External"/><Relationship Id="rId3" Type="http://schemas.microsoft.com/office/2007/relationships/media" Target="file:///tmp/home/.config/libreoffice/4/user/gallery/2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file:///tmp/home/.config/libreoffice/4/user/gallery/30.wav" TargetMode="External"/><Relationship Id="rId3" Type="http://schemas.microsoft.com/office/2007/relationships/media" Target="file:///tmp/home/.config/libreoffice/4/user/gallery/3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31.wav" TargetMode="External"/><Relationship Id="rId3" Type="http://schemas.microsoft.com/office/2007/relationships/media" Target="file:///tmp/home/.config/libreoffice/4/user/gallery/3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file:///tmp/home/.config/libreoffice/4/user/gallery/8.wav" TargetMode="External"/><Relationship Id="rId4" Type="http://schemas.microsoft.com/office/2007/relationships/media" Target="file:///tmp/home/.config/libreoffice/4/user/gallery/8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9.wav" TargetMode="External"/><Relationship Id="rId3" Type="http://schemas.microsoft.com/office/2007/relationships/media" Target="file:///tmp/home/.config/libreoffice/4/user/gallery/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10.wav" TargetMode="External"/><Relationship Id="rId3" Type="http://schemas.microsoft.com/office/2007/relationships/media" Target="file:///tmp/home/.config/libreoffice/4/user/gallery/1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3800" y="2101680"/>
            <a:ext cx="50299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300" spc="-1" strike="noStrike">
                <a:solidFill>
                  <a:srgbClr val="0000ff"/>
                </a:solidFill>
                <a:latin typeface="Arial"/>
              </a:rPr>
              <a:t>спорт</a:t>
            </a:r>
            <a:endParaRPr b="0" lang="en-US" sz="1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3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056360" cy="538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0200" y="5546880"/>
            <a:ext cx="679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айский 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67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315" t="8358" r="5315" b="8358"/>
          <a:stretch/>
        </p:blipFill>
        <p:spPr>
          <a:xfrm>
            <a:off x="179280" y="260280"/>
            <a:ext cx="8839440" cy="5237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9560" y="5516640"/>
            <a:ext cx="665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 сум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705560" cy="575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08040" y="5516640"/>
            <a:ext cx="31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е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15920"/>
            <a:ext cx="5960880" cy="5853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19760" y="5661000"/>
            <a:ext cx="487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эквон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8772" t="9147" r="8772" b="9147"/>
          <a:stretch/>
        </p:blipFill>
        <p:spPr>
          <a:xfrm>
            <a:off x="1833480" y="115920"/>
            <a:ext cx="5762880" cy="547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97960" y="5502240"/>
            <a:ext cx="631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ехтов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60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995" t="1418" r="995" b="1418"/>
          <a:stretch/>
        </p:blipFill>
        <p:spPr>
          <a:xfrm>
            <a:off x="755640" y="189000"/>
            <a:ext cx="7693200" cy="5348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51440" y="5502240"/>
            <a:ext cx="667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рмрестл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392880" cy="541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93440" y="5491080"/>
            <a:ext cx="568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формула 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76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59040" y="5491080"/>
            <a:ext cx="559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вторалл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0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624720" cy="5397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96360" y="5516640"/>
            <a:ext cx="555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крос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5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909" t="2856" r="1909" b="2856"/>
          <a:stretch/>
        </p:blipFill>
        <p:spPr>
          <a:xfrm>
            <a:off x="324000" y="189000"/>
            <a:ext cx="8496000" cy="5564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96000" y="5546880"/>
            <a:ext cx="546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го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67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62440" y="260280"/>
            <a:ext cx="4224240" cy="633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8200" y="2133720"/>
            <a:ext cx="465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тяж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ла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тле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9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743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12360" y="5564160"/>
            <a:ext cx="456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ото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2800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6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890" t="2835" r="1890" b="1890"/>
          <a:stretch/>
        </p:blipFill>
        <p:spPr>
          <a:xfrm>
            <a:off x="973080" y="479520"/>
            <a:ext cx="7407360" cy="488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20" y="5589720"/>
            <a:ext cx="9178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ff0000"/>
                </a:solidFill>
                <a:latin typeface="Arial"/>
              </a:rPr>
              <a:t>гонки на квадрациклах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4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2520" y="5715000"/>
            <a:ext cx="903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велосипедный кро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3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580500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велотре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926400" cy="583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44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4160" y="5661000"/>
            <a:ext cx="46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ейт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7720" y="115920"/>
            <a:ext cx="7569360" cy="56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33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70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38880" y="5589720"/>
            <a:ext cx="723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онный спор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7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152280"/>
            <a:ext cx="8281800" cy="579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16720" y="5589720"/>
            <a:ext cx="354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кач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23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80360" cy="585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58000" y="5635800"/>
            <a:ext cx="26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3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232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105480" y="5570640"/>
            <a:ext cx="928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800" spc="-1" strike="noStrike">
                <a:solidFill>
                  <a:srgbClr val="ff0000"/>
                </a:solidFill>
                <a:latin typeface="Arial"/>
              </a:rPr>
              <a:t>стрелковый спорт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88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920" y="5546880"/>
            <a:ext cx="88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стрельба из лу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488360" cy="561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81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22520" y="44280"/>
            <a:ext cx="4152960" cy="5761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5589720"/>
            <a:ext cx="690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дибилд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3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4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95640" y="5661000"/>
            <a:ext cx="499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ейнтбо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09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480360" cy="534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50720" y="5546880"/>
            <a:ext cx="48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шахма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48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7993080" cy="568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7480" y="5661000"/>
            <a:ext cx="25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к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740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269" t="1814" r="1226" b="2419"/>
          <a:stretch/>
        </p:blipFill>
        <p:spPr>
          <a:xfrm>
            <a:off x="260280" y="2492280"/>
            <a:ext cx="454176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907080" cy="561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3800" y="604800"/>
            <a:ext cx="38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борьб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489" t="4369" r="3489" b="3883"/>
          <a:stretch/>
        </p:blipFill>
        <p:spPr>
          <a:xfrm>
            <a:off x="1627200" y="368280"/>
            <a:ext cx="5960880" cy="528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32360" y="5573880"/>
            <a:ext cx="35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ара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1080" cy="551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88720" y="5546880"/>
            <a:ext cx="346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дзю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3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817" t="2339" r="1817" b="2339"/>
          <a:stretch/>
        </p:blipFill>
        <p:spPr>
          <a:xfrm>
            <a:off x="826920" y="135000"/>
            <a:ext cx="7358400" cy="5657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43280" y="5573880"/>
            <a:ext cx="376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айкид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7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69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88480" y="5718240"/>
            <a:ext cx="580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кикбоксин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5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5:33:19Z</dcterms:created>
  <dc:creator>InterBaby</dc:creator>
  <dc:description/>
  <dc:language>en-US</dc:language>
  <cp:lastModifiedBy>InterBaby</cp:lastModifiedBy>
  <dcterms:modified xsi:type="dcterms:W3CDTF">2005-04-21T15:33:35Z</dcterms:modified>
  <cp:revision>1</cp:revision>
  <dc:subject/>
  <dc:title>Слайд 1</dc:title>
</cp:coreProperties>
</file>