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094D-41DC-441E-A924-7E31E4C0F3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A303-0B83-47BC-8535-31B0FC0852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7989-32DC-4756-BAFC-35FB80F943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2FD4-26A7-4B1C-AFAA-3E751DA67D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59AB-3765-4F6D-A098-A482382327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29AF-21A2-4E6F-98E9-646D3EB50D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DE7E-7EA6-410F-BBA8-16D049FC3D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1B6-406B-4DF6-8CBD-C2DCB197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22C-1EC6-4936-84AE-F24D5D73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5B5-1CE8-4497-AB07-08C7AE27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A0C-16F2-46D2-8B9E-778598B6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58B5-DEA0-47A3-A69A-3895D654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D181-06AC-4931-A6E5-5E3D4B05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DE6D-DD6F-47CB-9686-143F849A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B086-756E-4CE0-9DA6-9EE74B79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B681-C492-48A4-AA1A-C85F78B2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289A-6519-4635-896C-DCD6FA42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2D72-B34E-4C21-818E-A5A3559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6E0-A3CC-4A47-A08C-D4CB9255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5DF5-BB25-4085-9D5C-B48FBB32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DDE6-31DD-4733-9AE5-CF29007B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0C3A-C35C-4C40-AAAA-29F4F04B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E15D-5028-460B-8100-B3AF58BE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F233-69B9-416E-96D0-EF0B04C7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9ED34-0298-401F-93CA-DF1B0CDA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B647F-E777-4BDD-BD9C-7A0917BE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171C-5EAF-4D6F-A773-965AAE15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F602-3AE4-433F-A87B-2396843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F706-6855-45CA-B3E6-A35923F1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405-FEAA-47BE-BA5A-F23D89AF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02B6-4FDF-4635-AAD7-36D6122F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102E-E927-4F72-971C-966304D4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5D14-D4D7-4976-9A91-948005F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9DBC9-2B9D-40A2-A2D9-18BBE134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3176-72D8-4920-923F-D78F2F9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32CE-8DA5-48BA-AC97-6AA081C8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381D-E488-4F9B-8E46-79632551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698-5F6C-41A4-A3D4-FF52161F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63B-EF38-4724-ACE7-1D36F911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CAB-985A-4EE5-B9F0-16B6763F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62B-9F23-46E2-86A2-92B9D668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199-7C1B-4DCB-A412-0F9FD60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AC4-58CD-4721-81E3-89C081A8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C8FB-6964-4209-B2D0-E59D68631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8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BB13-3B09-400A-B7B3-A083E6E737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B595-D6B8-4564-9CE8-F074590CF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duvluki.ru/admin/data/school/11/239/23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&#1069;&#1083;&#1077;&#1082;&#1090;&#1088;&#1086;&#1085;&#1085;&#1072;&#1103;%20&#1087;&#1072;&#1087;&#1082;&#1072;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«Совершенствование учительского корпус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71640" y="4005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оект муниципального вечернего (сменного) общеобразовательного учреждения  Кулеватовской вечерней (сменной) общеобразовательной школы при ИК№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2286000" y="2071800"/>
            <a:ext cx="6072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чителя, как местные светочи науки,  должны стоять на полной высоте  собственных знаний в своей специальности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Д.И. Менделеев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дагогические условия совершенствования методической работ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3419640" y="3645000"/>
            <a:ext cx="2087280" cy="720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00000" y="220500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ка и реал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ы развития М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3059280" y="5589720"/>
            <a:ext cx="2808000" cy="79200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ыш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тивации на М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0920" y="350028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ятельности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250920" y="458136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анка данных П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5940360" y="4581360"/>
            <a:ext cx="287964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утрифирменная систе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ышения квалифи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940360" y="3429000"/>
            <a:ext cx="2808360" cy="79200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дание механиз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циального партнё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5364000" y="2205000"/>
            <a:ext cx="2808360" cy="792360"/>
          </a:xfrm>
          <a:prstGeom prst="foldedCorner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ка мод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ы М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 flipH="1" flipV="1">
            <a:off x="3347640" y="2997000"/>
            <a:ext cx="64764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4932360" y="2997000"/>
            <a:ext cx="43164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H="1">
            <a:off x="3058920" y="4005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5508720" y="40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 flipH="1">
            <a:off x="3059280" y="4292640"/>
            <a:ext cx="79200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5148360" y="4292640"/>
            <a:ext cx="79200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4500720" y="4365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276720" y="1052640"/>
            <a:ext cx="2303280" cy="6523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012000" y="907920"/>
            <a:ext cx="1676160" cy="947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иблиотечно-информационная служ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50920" y="2708280"/>
            <a:ext cx="1884240" cy="11523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учителей начальной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116000" y="1989000"/>
            <a:ext cx="6672240" cy="4366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ические объ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2195640" y="2730600"/>
            <a:ext cx="2663640" cy="11300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учителей естественно-математического ци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5003640" y="2781360"/>
            <a:ext cx="1800360" cy="1008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учителей гуманитарного ци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6877080" y="2781360"/>
            <a:ext cx="1984320" cy="1008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 классных руков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777960" y="4059360"/>
            <a:ext cx="7485120" cy="32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ворческие группы уч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623880" y="6054840"/>
            <a:ext cx="8051760" cy="32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дивидуальная научно-методическая деятельность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1706400" y="24354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3409920" y="24354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867280" y="24210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7380360" y="242100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3203640" y="333360"/>
            <a:ext cx="2448000" cy="5796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даг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1692360" y="3860640"/>
            <a:ext cx="1404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3409560" y="3860640"/>
            <a:ext cx="972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586728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7524720" y="3789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324000" y="4683240"/>
            <a:ext cx="2466720" cy="1245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уппа по разработке и реализации медиа-уро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опытные педагоги высшей и первой категори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3132000" y="4653000"/>
            <a:ext cx="2829240" cy="12463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уппы (по графику)по изучению возможностей интерактивной доски и её использованию в образовательном процес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педагоги школ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6372360" y="4683240"/>
            <a:ext cx="2447640" cy="1242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нутрифирменное П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учение проектной методики «Интел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молодые специалисты и вновь прибывшие педагог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1706400" y="44337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4340160" y="44337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>
            <a:off x="7281720" y="44337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9"/>
          <p:cNvSpPr/>
          <p:nvPr/>
        </p:nvSpPr>
        <p:spPr>
          <a:xfrm>
            <a:off x="4356000" y="17002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0"/>
          <p:cNvSpPr/>
          <p:nvPr/>
        </p:nvSpPr>
        <p:spPr>
          <a:xfrm>
            <a:off x="4356000" y="90792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1042920" y="981000"/>
            <a:ext cx="1892520" cy="874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кола молодого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32"/>
          <p:cNvSpPr/>
          <p:nvPr/>
        </p:nvSpPr>
        <p:spPr>
          <a:xfrm flipH="1" flipV="1">
            <a:off x="2946240" y="1552320"/>
            <a:ext cx="33048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3"/>
          <p:cNvSpPr/>
          <p:nvPr/>
        </p:nvSpPr>
        <p:spPr>
          <a:xfrm flipV="1">
            <a:off x="5580000" y="1552320"/>
            <a:ext cx="46368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785880" y="285840"/>
          <a:ext cx="8101080" cy="6146640"/>
        </p:xfrm>
        <a:graphic>
          <a:graphicData uri="http://schemas.openxmlformats.org/drawingml/2006/table">
            <a:tbl>
              <a:tblPr/>
              <a:tblGrid>
                <a:gridCol w="4051080"/>
                <a:gridCol w="40500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ие квалифик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ишколь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е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творческих груп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кола молодого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ерывное самообразование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портфоли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тические педагогические сове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мина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глые стол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астер-класс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одическая нед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ая нед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станционное обу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тевое взаимодейств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ховное   образование (внутришкольные  годичные  или  двухгодичные  курсы,  семинары,  круглые  стол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е на курсах ТО ИПК 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стие в конкурсах, семинарах, конференциях различны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тест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82692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тевое взаимодейств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95280" y="2133720"/>
            <a:ext cx="61927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аботу в сети творческих учителей  на уровне школы  можно организовать в  направлениях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ртал как источник информационных ресурсов  (используются материалы многочисленных сообществ, статьи и методики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о общения, взаимодействия в ходе форумов, конкурсов, проек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мещение собственных методических разрабо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4" descr="Картинка 626 из 22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365720"/>
            <a:ext cx="2662200" cy="2146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826920" y="1268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ние портфоли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39640" y="220500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портфоли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жизненная необходимость. Портфолио учителя, по мнению Питера Зелдина, автора книги «The Teaching Portfolio», есть очередной этап в развитии профе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796000" y="54450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ff66"/>
                </a:solidFill>
                <a:uFillTx/>
                <a:latin typeface="Times New Roman"/>
                <a:hlinkClick r:id="rId1"/>
              </a:rPr>
              <a:t>Портфоли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7" descr="PH02742g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6300720" y="2133720"/>
            <a:ext cx="2592360" cy="237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824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: «Внедрение инновационных педагогических технологий в учебно-воспитательный процесс школ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повышение уровня профессионального мастерства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image086"/>
          <p:cNvPicPr/>
          <p:nvPr/>
        </p:nvPicPr>
        <p:blipFill>
          <a:blip r:embed="rId1"/>
          <a:stretch/>
        </p:blipFill>
        <p:spPr>
          <a:xfrm>
            <a:off x="5076720" y="1628640"/>
            <a:ext cx="3600720" cy="270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82692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а над единой методической тем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24000" y="4076640"/>
            <a:ext cx="82803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ть методический уровень педагогов в овладении новыми педагогическими технолог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должить работу по обобщению и распространению передового педагогического опы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ть работу с детьми, имеющими повышенные интеллектуальные способности, навыки исследовательской и экспериментальной раб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75800" y="209520"/>
            <a:ext cx="810108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общающий   эта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 буклетов,  портфолио   каждого учителя,  отражение  профессиональной  деятельности  учителей  на  информационном  портале,  публикации  в  печати,  издание  методических  материалов  из  опыта  работы,  освещение  профессиональной  деятельности  в  СМИ,  создание  банка  передового  педагогического  опыта 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Механизм реализации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ботка системы моральной поддержки педаго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а системы материальной поддержки учителе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системы повышения значимости аттестации педагогических и управленческих кадров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системы привлекательности профессиональ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внутришкольных конкурсов: «Учитель года», «Воспитать человека», «Сердце отдаю детям» «Лучший классный руководитель» и участие в районных, региональных и всероссийских, интерактивных  конкур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«Мастер-классов», открытых уроков и внеклассных мероприят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мониторинговых исследований и комплексной оценки  достижений учителя, его компетенции и способ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38512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ДОЛЖЕ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28840" y="999720"/>
            <a:ext cx="7416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е к педагогической профессии молодых, талантливых людей особенно в систему дополнительного образования 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кое распространение опыта лучших учителей в школе, районе, об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е использование системы поощрений, награждений, представлений к наградам школьного, районного, регионального, всероссийского уровн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условий для использования современных технологий, приобретений нового современного интерактивного обору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3851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ДОЛЖЕ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3920" y="1071360"/>
            <a:ext cx="7404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в школе атмосферы жизнеутверждения, отвечающей идее улучшения себя, стимулирования и поощрения пусть и небольшого но успе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положения о стимулирующих доплатах и надбавках , которое позволит стимулировать лучших учителей вне зависимости от стажа их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 качества  и результатов педагогической деятельности  с участием школьных сове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крытие роли аттестации педагогических кадров как важного стимула профессиональной компетенции уч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тивирование  учителя   на  постоянное совершенствование своих знаний, на владение передовыми идеями и методи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ВТОР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Щербакова Л.А.- учитель би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ВСОУ Кулеватовской ВСОШ при ИК№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j0195384"/>
          <p:cNvPicPr/>
          <p:nvPr/>
        </p:nvPicPr>
        <p:blipFill>
          <a:blip r:embed="rId1"/>
          <a:stretch/>
        </p:blipFill>
        <p:spPr>
          <a:xfrm>
            <a:off x="5929200" y="4386240"/>
            <a:ext cx="1743120" cy="177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жидаемый результ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Рост уровня педагогического мастерства учителя, повышение уровня его культурной образованности, укрепление психологического здоровья. Снижение уровня тревожности в коллекти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Создание корпоративной Культуры сообщества учителей и взаимодействия их с социум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оздание коллектива учителей, открытых ко всему новому, понимающих детскую психологию и особенности развития школьников хорошо знающих свой предм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лючевой особенностью педагогического коллектива станет чуткость, внимательность, восприимчивость к интересам школьников, открытость ко всему нов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вая школа – это новые учителя, открытые ко всему новому, понимающие детскую психологию и хорошо знающие свой предм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j0301252"/>
          <p:cNvPicPr/>
          <p:nvPr/>
        </p:nvPicPr>
        <p:blipFill>
          <a:blip r:embed="rId1"/>
          <a:stretch/>
        </p:blipFill>
        <p:spPr>
          <a:xfrm>
            <a:off x="2987640" y="2997360"/>
            <a:ext cx="2982960" cy="2550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ктуальность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ая школа – это новые учителя, открытые ко всему новому, понимающие детскую психологию и особенности развития школьников, хорошо знающие свой предмет. Задачи учителя – помочь ребятам найти себя в будущем, стать самостоятельными и творческими, уверенными в себе людьми. Чуткие, внимательные и восприимчивые к интересам школьников, открытые ко всему новому учителя – ключевая особенность школы будущ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Цель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ие  профессиональной  компетентности  учительского  корпуса  школы,  модернизация системы моральных и материальных стимулов поддержки педагогического коллектива, привлечение в школу молодых, талантливых педаго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Этап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7720" y="1071720"/>
            <a:ext cx="80074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но-мобилизаци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мониторинговых исследований и комплексной оценки  достижений учителя, его компетенции и спосо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   </a:t>
            </a:r>
            <a:r>
              <a:rPr b="1" lang="en-US" sz="1800" spc="-1" strike="noStrike">
                <a:solidFill>
                  <a:srgbClr val="ffff0d"/>
                </a:solidFill>
                <a:latin typeface="Arial"/>
              </a:rPr>
              <a:t>SWOT</a:t>
            </a:r>
            <a:r>
              <a:rPr b="1" lang="en-US" sz="1800" spc="-1" strike="noStrike">
                <a:solidFill>
                  <a:srgbClr val="eeeeee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анализа системных изме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Разработка  нормативно  правовой  базы:  положений  о  стимулирующих  надбавках  и  доплатах,  положений  о  внутришкольных  конкурсах,  стимулирующих   профессиональную  деятельность  учител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Учитель года», «Воспитать человека», «Сердце отдаю детям» «Лучший классный руководитель</a:t>
            </a: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  и 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Создание  координационного  совета  по  осуществлению 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Разработка  плана  реализации 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Проведение   педагогического  совета, производственного  совещания,  раскрывающего  привлекательность  проекта  в  глазах  уч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Разрабо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eee"/>
                </a:solidFill>
                <a:latin typeface="Arial"/>
              </a:rPr>
              <a:t>Разработка  плана  реал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0"/>
            <a:ext cx="71640" cy="6858000"/>
          </a:xfrm>
          <a:prstGeom prst="rect">
            <a:avLst/>
          </a:prstGeom>
          <a:solidFill>
            <a:srgbClr val="008e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42920" y="714240"/>
          <a:ext cx="8101080" cy="5732640"/>
        </p:xfrm>
        <a:graphic>
          <a:graphicData uri="http://schemas.openxmlformats.org/drawingml/2006/table">
            <a:tbl>
              <a:tblPr/>
              <a:tblGrid>
                <a:gridCol w="4041720"/>
                <a:gridCol w="405936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Возмож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Сильные сторон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есть возможность получить квалифицированную научно-методическую помо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щь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высокий уровень мотивации коллектива к переменам в школ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Имеется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система материального стимулирования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педагогического труда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сплоченность и работоспособность коллектива; наличие группы творчески работающих учителей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идею необходимости изменений в школе поддерживает большое количество 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учителей</a:t>
                      </a: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Высокий   авторитет директора школы в коллектив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Угроз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Слабые сторон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Совершенствование профессиональной деятельности педагога с неизбежностью предполагают интенсификацию его труда, а значит неизбежно приводит к перегрузкам </a:t>
                      </a: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отсутствие необходимого опыта инновационной деятельности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разница в оплате и условиях труда может привести к оттоку части </a:t>
                      </a: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учителей</a:t>
                      </a: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несогласованность образов желаемого будущего школы у разных педагогов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формальные требования отдела  образования, форсирующего внедрение некоторых модных нововведений без учета потребностей и реальных возможностей конкретной школы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6600"/>
                          </a:solidFill>
                          <a:latin typeface="Calibri"/>
                          <a:ea typeface="Times New Roman"/>
                        </a:rPr>
                        <a:t>преобладание в коллективе традиционных и устаревших подходов к образовательному процессу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Внешняя сре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99ff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0d"/>
                          </a:solidFill>
                          <a:latin typeface="Calibri"/>
                          <a:ea typeface="Times New Roman"/>
                        </a:rPr>
                        <a:t>Внутренняя сре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43"/>
          <p:cNvSpPr/>
          <p:nvPr/>
        </p:nvSpPr>
        <p:spPr>
          <a:xfrm>
            <a:off x="1428840" y="1429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d"/>
                </a:solidFill>
                <a:latin typeface="Arial"/>
              </a:rPr>
              <a:t>SWOT</a:t>
            </a:r>
            <a:r>
              <a:rPr b="1" lang="en-US" sz="2800" spc="-1" strike="noStrike">
                <a:solidFill>
                  <a:srgbClr val="eeeeee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eeeeee"/>
                </a:solidFill>
                <a:latin typeface="Arial"/>
              </a:rPr>
              <a:t>анализ системных изме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Поисково-преобразовательный этап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7720" y="999720"/>
            <a:ext cx="80074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енствование  методической  работы  как  одной  из  форм  формирования   «нового» 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а  из  целей методической работы в условиях создания   молели  «новой  школы»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:  повышение  профессиональной  компетентности 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3" descr="Рисунок1"/>
          <p:cNvPicPr/>
          <p:nvPr/>
        </p:nvPicPr>
        <p:blipFill>
          <a:blip r:embed="rId1"/>
          <a:stretch/>
        </p:blipFill>
        <p:spPr>
          <a:xfrm>
            <a:off x="3357720" y="3429000"/>
            <a:ext cx="2555640" cy="2205000"/>
          </a:xfrm>
          <a:prstGeom prst="rect">
            <a:avLst/>
          </a:prstGeom>
          <a:ln w="0">
            <a:noFill/>
          </a:ln>
        </p:spPr>
      </p:pic>
      <p:sp>
        <p:nvSpPr>
          <p:cNvPr id="174" name="Oval 19"/>
          <p:cNvSpPr/>
          <p:nvPr/>
        </p:nvSpPr>
        <p:spPr>
          <a:xfrm>
            <a:off x="500040" y="3714840"/>
            <a:ext cx="3240000" cy="115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фессион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оорган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21"/>
          <p:cNvSpPr/>
          <p:nvPr/>
        </p:nvSpPr>
        <p:spPr>
          <a:xfrm>
            <a:off x="5500800" y="3857760"/>
            <a:ext cx="3240000" cy="115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формирова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лючевых компетен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20"/>
          <p:cNvSpPr/>
          <p:nvPr/>
        </p:nvSpPr>
        <p:spPr>
          <a:xfrm>
            <a:off x="3000240" y="5357880"/>
            <a:ext cx="3240360" cy="115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дагог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560" y="-572040"/>
            <a:ext cx="8699400" cy="22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71720" y="1928520"/>
            <a:ext cx="77738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рофессиональная компетент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рассматривается, с одной стороны, в качестве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интегрального критер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чества профессионального обучения и профессиональной деятельности,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 другой – как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о лич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для которой характерны высокое качество выполнения трудовых функций, культура труда и межличностных коммуникаций, умение инициативно и творчески решать профессиональные проблемы, а также готовность к принятию управленческих решений, к адаптации в новых условиях деятельност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11280" y="638172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 Кластеры компетенций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042920" y="3240"/>
            <a:ext cx="7416720" cy="625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58:58Z</dcterms:created>
  <dc:creator>mesto</dc:creator>
  <dc:description/>
  <dc:language>en-US</dc:language>
  <cp:lastModifiedBy>ПК</cp:lastModifiedBy>
  <dcterms:modified xsi:type="dcterms:W3CDTF">2002-01-14T09:26:36Z</dcterms:modified>
  <cp:revision>54</cp:revision>
  <dc:subject/>
  <dc:title>«Совершенствование учительского корпуса»</dc:title>
</cp:coreProperties>
</file>