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1AF8-4FCE-4A63-AEDF-7345A2E41B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7473-D60B-40F4-87DF-F9499214AF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093-8F85-4A07-95C7-79368F1A4D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C0AB-D0E5-43D1-AF23-B107633D4E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0516-B632-4BC4-A4CF-A2776260FE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93EE-75BA-4D6C-9DEB-C8215D553A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180-D2FE-4EB7-B8EF-27A2067E29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20C-FB9A-46E4-A588-DFDE817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412-5A14-4B04-A045-9CBF9012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F9E-B87E-484D-A62E-34FA8742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B14-7D30-4264-BFD6-10AAB2C2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AAEE-02E4-4EC5-819E-21FCA5DD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E42-D520-4AD1-980E-39EA3471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F069-9CAF-404D-97C0-4244204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6CE0-6FAE-46BF-A9BE-4EB50E6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4485-F579-4076-A9C5-AFC692A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91EF-9F93-4211-B0B1-62753D05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9AB8-AD4F-4189-9536-B691EB2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EC0-3A33-4765-BA9F-5DAF425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DA1D-A29D-4205-BAF7-6F2BDD4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B16C-49C3-44CF-87B7-4AC5FFA7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C607-426D-46F8-A337-7890A1C6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D40C-AE4F-45D3-B448-4A5CEBB1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9985-CA97-48D7-ADCC-6A4BCA9E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4A78-EC4C-4ABB-94C6-C6EB6A44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B944-E1F5-41A2-BAC2-1E4D8EC3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D98D-47B6-4DF3-8FDA-9929ADB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8551-5414-47DF-91BF-99D8BDA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2006-25FD-4326-9D69-1FB672B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483-5445-4EC4-B8A7-6BCD2AA4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8E60-86FB-4CB3-B69C-DD62E6F2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90B9-A8A7-4D6A-9C0B-5FC7277D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77AD-3B7F-424C-ADFA-DC18A6F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13E6-AD39-4F4B-A412-CAAEB5C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6634-527F-41EE-9F7F-D539389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A4DE-3B6A-4102-BCC1-D0408639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CEED-9091-4318-9C8A-2CA0527A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0F5-F718-4F8A-B4C6-442A480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F08-7AD7-49C1-8B41-38157440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14E-EE5C-4917-80FF-9E215753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C8A-1B07-48BC-AEC5-115954D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D9F-FC02-4F17-A088-E57F4C3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346-F72F-4AC7-AF04-91535C6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F674-F33A-46F7-9A78-AE3AEAE51C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8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EC80-BF61-4767-9071-FB7694589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6BFB-07AD-4311-BCEB-CA58F595F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duvluki.ru/admin/data/school/11/239/23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&#1069;&#1083;&#1077;&#1082;&#1090;&#1088;&#1086;&#1085;&#1085;&#1072;&#1103;%20&#1087;&#1072;&#1087;&#1082;&#1072;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«Совершенствование учительского корпус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71640" y="400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ект муниципального вечернего (сменного) общеобразовательного учреждения  Кулеватовской вечерней (сменной) общеобразовательной школы при ИК№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2286000" y="2071800"/>
            <a:ext cx="6072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чителя, как местные светочи науки,  должны стоять на полной высоте  собственных знаний в своей специальности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Д.И. Менделеев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дагогические условия совершенствования методической работ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3419640" y="3645000"/>
            <a:ext cx="2087280" cy="720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00000" y="220500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и реал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ы развития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3059280" y="5589720"/>
            <a:ext cx="2808000" cy="79200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тивации на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0920" y="350028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ятельности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250920" y="458136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анка данных П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5940360" y="4581360"/>
            <a:ext cx="287964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утрифирменная сист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ия квалиф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940360" y="3429000"/>
            <a:ext cx="2808360" cy="79200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 механиз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ого партнё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5364000" y="220500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мод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ы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 flipH="1" flipV="1">
            <a:off x="3347640" y="2997000"/>
            <a:ext cx="64764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4932360" y="2997000"/>
            <a:ext cx="43164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>
            <a:off x="3058920" y="400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5508720" y="40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H="1">
            <a:off x="3059280" y="4292640"/>
            <a:ext cx="79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5148360" y="4292640"/>
            <a:ext cx="79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4500720" y="4365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276720" y="1052640"/>
            <a:ext cx="2303280" cy="6523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012000" y="907920"/>
            <a:ext cx="1676160" cy="947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блиотечно-информационная служ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0920" y="2708280"/>
            <a:ext cx="1884240" cy="1152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начальной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116000" y="1989000"/>
            <a:ext cx="6672240" cy="4366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е объ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2195640" y="2730600"/>
            <a:ext cx="2663640" cy="11300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естественно-математическ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5003640" y="2781360"/>
            <a:ext cx="180036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гуманитарн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877080" y="2781360"/>
            <a:ext cx="198432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классных руков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777960" y="4059360"/>
            <a:ext cx="7485120" cy="32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ворческие группы уч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623880" y="6054840"/>
            <a:ext cx="8051760" cy="32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дивидуальная научно-методическая деятельность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706400" y="24354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3409920" y="24354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867280" y="24210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7380360" y="24210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3203640" y="333360"/>
            <a:ext cx="2448000" cy="579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даг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3860640"/>
            <a:ext cx="1404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3409560" y="3860640"/>
            <a:ext cx="972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586728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7524720" y="3789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324000" y="4683240"/>
            <a:ext cx="2466720" cy="1245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уппа по разработке и реализации медиа-уро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опытные педагоги высшей и первой категори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3132000" y="4653000"/>
            <a:ext cx="2829240" cy="12463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уппы (по графику)по изучению возможностей интерактивной доски и её использованию в образовательном проце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педагоги школ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6372360" y="4683240"/>
            <a:ext cx="2447640" cy="1242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нутрифирменное П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учение проектной методики «Интел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молодые специалисты и вновь прибывшие педагог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170640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434016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728172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9"/>
          <p:cNvSpPr/>
          <p:nvPr/>
        </p:nvSpPr>
        <p:spPr>
          <a:xfrm>
            <a:off x="4356000" y="17002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0"/>
          <p:cNvSpPr/>
          <p:nvPr/>
        </p:nvSpPr>
        <p:spPr>
          <a:xfrm>
            <a:off x="4356000" y="90792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1042920" y="981000"/>
            <a:ext cx="1892520" cy="874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кола молодого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 flipV="1">
            <a:off x="2946240" y="1552320"/>
            <a:ext cx="33048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3"/>
          <p:cNvSpPr/>
          <p:nvPr/>
        </p:nvSpPr>
        <p:spPr>
          <a:xfrm flipV="1">
            <a:off x="5580000" y="1552320"/>
            <a:ext cx="46368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785880" y="285840"/>
          <a:ext cx="8101080" cy="6146640"/>
        </p:xfrm>
        <a:graphic>
          <a:graphicData uri="http://schemas.openxmlformats.org/drawingml/2006/table">
            <a:tbl>
              <a:tblPr/>
              <a:tblGrid>
                <a:gridCol w="4051080"/>
                <a:gridCol w="40500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ие квалифик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ишко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е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творческих груп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а молодого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ерывное самообразование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портфоли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е педагогические сов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мина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ые сто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астер-класс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одическая нед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ая нед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танционное обу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тевое взаимодейств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ховное   образование (внутришкольные  годичные  или  двухгодичные  курсы,  семинары,  круглые  стол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е на курсах ТО ИПК 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ие в конкурсах, семинарах, конференциях различны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тест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тевое взаимодей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95280" y="2133720"/>
            <a:ext cx="61927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боту в сети творческих учителей  на уровне школы  можно организовать в  направления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тал как источник информационных ресурсов  (используются материалы многочисленных сообществ, статьи и методики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о общения, взаимодействия в ходе форумов, конкурсов, про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мещение собственных методических разрабо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4" descr="Картинка 626 из 22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365720"/>
            <a:ext cx="2662200" cy="214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826920" y="1268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е портфоли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39640" y="220500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портфоли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жизненная необходимость. Портфолио учителя, по мнению Питера Зелдина, автора книги «The Teaching Portfolio», есть очередной этап в развитии профе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796000" y="5445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Портфоли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PH02742g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6300720" y="213372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824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: «Внедрение инновационных педагогических технологий в учебно-воспитательный процесс школ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повышение уровня профессионального мастерства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image086"/>
          <p:cNvPicPr/>
          <p:nvPr/>
        </p:nvPicPr>
        <p:blipFill>
          <a:blip r:embed="rId1"/>
          <a:stretch/>
        </p:blipFill>
        <p:spPr>
          <a:xfrm>
            <a:off x="5076720" y="1628640"/>
            <a:ext cx="3600720" cy="270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над единой методической те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24000" y="4076640"/>
            <a:ext cx="8280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методический уровень педагогов в овладении новыми педагогическими технолог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олжить работу по обобщению и распространению передового педагогического опы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работу с детьми, имеющими повышенные интеллектуальные способности, навыки исследовательской и экспериментальной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75800" y="209520"/>
            <a:ext cx="810108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общающий   эта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 буклетов,  портфолио   каждого учителя,  отражение  профессиональной  деятельности  учителей  на  информационном  портале,  публикации  в  печати,  издание  методических  материалов  из  опыта  работы,  освещение  профессиональной  деятельности  в  СМИ,  создание  банка  передового  педагогического  опыта 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Механизм реализаци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ботка системы моральной поддержки педаго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а системы материальной поддержки учителе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системы повышения значимости аттестации педагогических и управленческих кадров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системы привлекательности профессиональ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внутришкольных конкурсов: «Учитель года», «Воспитать человека», «Сердце отдаю детям» «Лучший классный руководитель» и участие в районных, региональных и всероссийских, интерактивных  конкур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«Мастер-классов», открытых уроков и внеклассных мероприят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мониторинговых исследований и комплексной оценки  достижений учителя, его компетенции и способ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38512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ДОЛЖЕ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28840" y="999720"/>
            <a:ext cx="7416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к педагогической профессии молодых, талантливых людей особенно в систему дополнительного образования 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кое распространение опыта лучших учителей в школе, районе, об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е использование системы поощрений, награждений, представлений к наградам школьного, районного, регионального, всероссийского уров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условий для использования современных технологий, приобретений нового современного интерактивного обору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3851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ДОЛЖЕ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3920" y="1071360"/>
            <a:ext cx="7404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в школе атмосферы жизнеутверждения, отвечающей идее улучшения себя, стимулирования и поощрения пусть и небольшого но успе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положения о стимулирующих доплатах и надбавках , которое позволит стимулировать лучших учителей вне зависимости от стажа их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 качества  и результатов педагогической деятельности  с участием школьных сове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крытие роли аттестации педагогических кадров как важного стимула профессиональной компетенции уч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тивирование  учителя   на  постоянное совершенствование своих знаний, на владение передовыми идеями и методи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ВТОР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ербакова Л.А.- учитель би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ВСОУ Кулеватовской ВСОШ при ИК№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j0195384"/>
          <p:cNvPicPr/>
          <p:nvPr/>
        </p:nvPicPr>
        <p:blipFill>
          <a:blip r:embed="rId1"/>
          <a:stretch/>
        </p:blipFill>
        <p:spPr>
          <a:xfrm>
            <a:off x="5929200" y="4386240"/>
            <a:ext cx="1743120" cy="17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жидаемый результ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Рост уровня педагогического мастерства учителя, повышение уровня его культурной образованности, укрепление психологического здоровья. Снижение уровня тревожности в коллекти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Создание корпоративной Культуры сообщества учителей и взаимодействия их с социум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оздание коллектива учителей, открытых ко всему новому, понимающих детскую психологию и особенности развития школьников хорошо знающих свой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лючевой особенностью педагогического коллектива станет чуткость, внимательность, восприимчивость к интересам школьников, открытость ко всему нов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вая школа – это новые учителя, открытые ко всему новому, понимающие детскую психологию и хорошо знающие свой предм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j0301252"/>
          <p:cNvPicPr/>
          <p:nvPr/>
        </p:nvPicPr>
        <p:blipFill>
          <a:blip r:embed="rId1"/>
          <a:stretch/>
        </p:blipFill>
        <p:spPr>
          <a:xfrm>
            <a:off x="2987640" y="2997360"/>
            <a:ext cx="2982960" cy="2550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ктуальность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ая школа – это новые учителя, открытые ко всему новому, понимающие детскую психологию и особенности развития школьников, хорошо знающие свой предмет. Задачи учителя – помочь ребятам найти себя в будущем, стать самостоятельными и творческими, уверенными в себе людьми. Чуткие, внимательные и восприимчивые к интересам школьников, открытые ко всему новому учителя – ключевая особенность школы будущ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Цел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 профессиональной  компетентности  учительского  корпуса  школы,  модернизация системы моральных и материальных стимулов поддержки педагогического коллектива, привлечение в школу молодых, талантливых педаго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Этап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1071720"/>
            <a:ext cx="80074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о-мобилизаци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мониторинговых исследований и комплексной оценки  достижений учителя, его компетенции и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   </a:t>
            </a:r>
            <a:r>
              <a:rPr b="1" lang="en-US" sz="1800" spc="-1" strike="noStrike">
                <a:solidFill>
                  <a:srgbClr val="ffff0d"/>
                </a:solidFill>
                <a:latin typeface="Arial"/>
              </a:rPr>
              <a:t>SWOT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анализа системных изме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 нормативно  правовой  базы:  положений  о  стимулирующих  надбавках  и  доплатах,  положений  о  внутришкольных  конкурсах,  стимулирующих   профессиональную  деятельность  учител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Учитель года», «Воспитать человека», «Сердце отдаю детям» «Лучший классный руководитель</a:t>
            </a: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  и 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Создание  координационного  совета  по  осуществлению 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 плана  реализации 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Проведение   педагогического  совета, производственного  совещания,  раскрывающего  привлекательность  проекта  в  глазах  уч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eee"/>
                </a:solidFill>
                <a:latin typeface="Arial"/>
              </a:rPr>
              <a:t>Разработка  плана  реал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0"/>
            <a:ext cx="71640" cy="6858000"/>
          </a:xfrm>
          <a:prstGeom prst="rect">
            <a:avLst/>
          </a:prstGeom>
          <a:solidFill>
            <a:srgbClr val="008e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2920" y="714240"/>
          <a:ext cx="8101080" cy="5732640"/>
        </p:xfrm>
        <a:graphic>
          <a:graphicData uri="http://schemas.openxmlformats.org/drawingml/2006/table">
            <a:tbl>
              <a:tblPr/>
              <a:tblGrid>
                <a:gridCol w="4041720"/>
                <a:gridCol w="40593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озмож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Сильные сторон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есть возможность получить квалифицированную научно-методическую помо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щь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высокий уровень мотивации коллектива к переменам в школ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Имеется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система материального стимулирования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педагогического труда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сплоченность и работоспособность коллектива; наличие группы творчески работающих учителе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идею необходимости изменений в школе поддерживает большое количество 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учителей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Высокий   авторитет директора школы в коллектив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Угроз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Слабые сторон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Совершенствование профессиональной деятельности педагога с неизбежностью предполагают интенсификацию его труда, а значит неизбежно приводит к перегрузкам 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отсутствие необходимого опыта инновационной деятельности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разница в оплате и условиях труда может привести к оттоку части 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учителей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несогласованность образов желаемого будущего школы у разных педагогов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формальные требования отдела  образования, форсирующего внедрение некоторых модных нововведений без учета потребностей и реальных возможностей конкретной школы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преобладание в коллективе традиционных и устаревших подходов к образовательному процессу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нешняя сре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нутренняя сре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3"/>
          <p:cNvSpPr/>
          <p:nvPr/>
        </p:nvSpPr>
        <p:spPr>
          <a:xfrm>
            <a:off x="1428840" y="142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d"/>
                </a:solidFill>
                <a:latin typeface="Arial"/>
              </a:rPr>
              <a:t>SWO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eeeeee"/>
                </a:solidFill>
                <a:latin typeface="Arial"/>
              </a:rPr>
              <a:t>анализ системных изме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Поисково-преобразовательный этап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7720" y="999720"/>
            <a:ext cx="80074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енствование  методической  работы  как  одной  из  форм  формирования   «нового» 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а  из  целей методической работы в условиях создания   молели  «новой  школы»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:  повышение  профессиональной  компетентности 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3" descr="Рисунок1"/>
          <p:cNvPicPr/>
          <p:nvPr/>
        </p:nvPicPr>
        <p:blipFill>
          <a:blip r:embed="rId1"/>
          <a:stretch/>
        </p:blipFill>
        <p:spPr>
          <a:xfrm>
            <a:off x="3357720" y="3429000"/>
            <a:ext cx="2555640" cy="2205000"/>
          </a:xfrm>
          <a:prstGeom prst="rect">
            <a:avLst/>
          </a:prstGeom>
          <a:ln w="0">
            <a:noFill/>
          </a:ln>
        </p:spPr>
      </p:pic>
      <p:sp>
        <p:nvSpPr>
          <p:cNvPr id="174" name="Oval 19"/>
          <p:cNvSpPr/>
          <p:nvPr/>
        </p:nvSpPr>
        <p:spPr>
          <a:xfrm>
            <a:off x="500040" y="3714840"/>
            <a:ext cx="324000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фессион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оорган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5500800" y="3857760"/>
            <a:ext cx="324000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формирова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ючевых компетен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3000240" y="5357880"/>
            <a:ext cx="324036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дагог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560" y="-572040"/>
            <a:ext cx="8699400" cy="22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71720" y="1928520"/>
            <a:ext cx="77738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офессиональная компетент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рассматривается, с одной стороны, в качестве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нтегрального критер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чества профессионального обучения и профессиональной деятельности,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 другой – как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о лич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для которой характерны высокое качество выполнения трудовых функций, культура труда и межличностных коммуникаций, умение инициативно и творчески решать профессиональные проблемы, а также готовность к принятию управленческих решений, к адаптации в новых условиях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11280" y="63817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 Кластеры компетенций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042920" y="3240"/>
            <a:ext cx="7416720" cy="625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58:58Z</dcterms:created>
  <dc:creator>mesto</dc:creator>
  <dc:description/>
  <dc:language>en-US</dc:language>
  <cp:lastModifiedBy>ПК</cp:lastModifiedBy>
  <dcterms:modified xsi:type="dcterms:W3CDTF">2002-01-14T09:26:36Z</dcterms:modified>
  <cp:revision>54</cp:revision>
  <dc:subject/>
  <dc:title>«Совершенствование учительского корпуса»</dc:title>
</cp:coreProperties>
</file>