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020-71CD-4BE0-97D9-F7A2F6ACE6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7C1-6E21-41FF-AFCD-7ACBCD1A43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C990-BE1D-4C77-B3CF-A091B57172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F5B1-0E43-45C0-B15B-6CE523D41C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90A-3786-4E5F-B1C2-4845A058AF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4DFE-B5E2-44A2-8887-AE4D3FE753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CC1-3384-438B-B719-92EFF03A81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7D9-1F96-42C7-834D-47B0C672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57B-6184-4A29-A4B1-E5F2DCB5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A3B-2FAC-4F7B-B318-E4C91AC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FDE-7450-46B8-B47F-B476419E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BA6-1AB4-4B74-B5E7-03A7953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C1AF-99C2-4321-A374-DCDA6DFD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F065-07A1-4988-80C0-2702B040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70C-48BE-437C-A071-B528F90B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3D29-B0D1-48AD-88AA-F536445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EDD-ED2F-42AC-88A1-84EC369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9381-E6E6-4526-A2A2-C09F469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301-E266-4B01-AF00-72DC4CD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8F0-5FA4-42C0-87D5-3915C1A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70B1-7A3A-4478-9FB0-2A7B2B0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F45-8CB1-4882-BCD0-FD7F7B8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ABF1-45D4-4A37-8CFF-E50861E2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ABEC-4FC2-40F0-A9D8-C6206B1A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199A-0B47-4005-AF58-5A5E99CB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3C25-8AFB-48F6-B53E-69B6036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23AD-453C-473C-9625-AEF0C9F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4166-B3F3-48DE-98C0-53629D2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F9E2-0BDF-47D9-9D67-DB3C6C8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D65-84CE-49EC-A51F-4668C0B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24B6-BE18-4BF7-8163-49263A9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648B-9C44-4C19-9BB6-FF8F7DE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8CAD-10C0-46C3-9C66-53BA6EAB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E4FC-CD36-4267-A5C3-C893B74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FE82-AB22-40A4-ABC4-24201E2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4724-2D6C-4EF5-B7F4-D0BF89B7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2BEA-123B-4E2B-9F1C-FBE5F81A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C6A-4A0F-4DC9-B99A-91E3AF0C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348-5276-4344-9F4F-E98D8BA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33D-789B-4995-B95E-70B9224F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0C8-F416-414A-A81E-FB3AD41E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680-B846-4028-A0EF-ECBB162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CC6-3C87-4455-849B-089F3DE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026C-1C69-4A50-97C5-0D9D9CC882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D5DA-4D76-4F48-829C-973BF9DD65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779A-C23E-4D76-8284-92553C472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duvluki.ru/admin/data/school/11/239/23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&#1069;&#1083;&#1077;&#1082;&#1090;&#1088;&#1086;&#1085;&#1085;&#1072;&#1103;%20&#1087;&#1072;&#1087;&#1082;&#1072;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«Совершенствование учительского корпус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71640" y="400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ект муниципального вечернего (сменного) общеобразовательного учреждения  Кулеватовской вечерней (сменной) общеобразовательной школы при ИК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2286000" y="2071800"/>
            <a:ext cx="607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чителя, как местные светочи науки,  должны стоять на полной высоте  собственных знаний в своей специальности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Д.И. Менделеев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дагогические условия совершенствования методической рабо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419640" y="3645000"/>
            <a:ext cx="2087280" cy="720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00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и реал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ы развития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3059280" y="5589720"/>
            <a:ext cx="280800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тивации на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0920" y="350028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ятельност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250920" y="458136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анка данных П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940360" y="4581360"/>
            <a:ext cx="287964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утрифирменная сист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я квал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940360" y="3429000"/>
            <a:ext cx="280836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 механиз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ого партнё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5364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мод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ы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 flipH="1" flipV="1">
            <a:off x="3347640" y="2997000"/>
            <a:ext cx="647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4932360" y="2997000"/>
            <a:ext cx="431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05892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50872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5928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514836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4500720" y="4365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276720" y="1052640"/>
            <a:ext cx="2303280" cy="652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012000" y="907920"/>
            <a:ext cx="1676160" cy="947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блиотечно-информационная сл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0920" y="2708280"/>
            <a:ext cx="1884240" cy="1152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начальной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1989000"/>
            <a:ext cx="6672240" cy="436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е объ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2195640" y="2730600"/>
            <a:ext cx="2663640" cy="11300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003640" y="2781360"/>
            <a:ext cx="180036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гуманитар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877080" y="2781360"/>
            <a:ext cx="198432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классных руко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777960" y="4059360"/>
            <a:ext cx="748512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ворческие группы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23880" y="6054840"/>
            <a:ext cx="805176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научно-методическая деятельность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70640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340992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86728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738036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3203640" y="333360"/>
            <a:ext cx="2448000" cy="579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3860640"/>
            <a:ext cx="1404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3409560" y="3860640"/>
            <a:ext cx="97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586728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524720" y="3789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324000" y="4683240"/>
            <a:ext cx="2466720" cy="1245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а по разработке и реализации медиа-уро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опытные педагоги высшей и первой категор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3132000" y="4653000"/>
            <a:ext cx="2829240" cy="1246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ы (по графику)по изучению возможностей интерактивной доски и её использованию в образователь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педагоги школ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372360" y="4683240"/>
            <a:ext cx="2447640" cy="1242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нутрифирменное П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учение проектной методики «Интел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молодые специалисты и вновь прибывшие педагог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0640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434016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28172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4356000" y="17002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4356000" y="90792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1042920" y="981000"/>
            <a:ext cx="1892520" cy="874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кола молодого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 flipV="1">
            <a:off x="2946240" y="1552320"/>
            <a:ext cx="3304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3"/>
          <p:cNvSpPr/>
          <p:nvPr/>
        </p:nvSpPr>
        <p:spPr>
          <a:xfrm flipV="1">
            <a:off x="5580000" y="1552320"/>
            <a:ext cx="4636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785880" y="285840"/>
          <a:ext cx="8101080" cy="6146640"/>
        </p:xfrm>
        <a:graphic>
          <a:graphicData uri="http://schemas.openxmlformats.org/drawingml/2006/table">
            <a:tbl>
              <a:tblPr/>
              <a:tblGrid>
                <a:gridCol w="4051080"/>
                <a:gridCol w="40500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ие квалифик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ишко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творческих груп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а молодого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ерывное самообразование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портфоли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е педагогические сов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мина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ые сто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астер-класс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одическ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танционное обу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тевое взаимодейств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овное   образование (внутришкольные  годичные  или  двухгодичные  курсы,  семинары,  круглые  стол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е на курсах ТО ИПК 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ие в конкурсах, семинарах, конференциях различны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тевое взаимодей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95280" y="2133720"/>
            <a:ext cx="6192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боту в сети творческих учителей  на уровне школы  можно организовать в  направления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тал как источник информационных ресурсов  (используются материалы многочисленных сообществ, статьи и методик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 общения, взаимодействия в ходе форумов, конкурсов, про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мещение собственных методических разрабо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4" descr="Картинка 626 из 2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662200" cy="214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826920" y="1268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20500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жизненная необходимость. Портфолио учителя, по мнению Питера Зелдина, автора книги «The Teaching Portfolio», есть очередной этап в развитии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796000" y="5445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Портфоли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PH02742g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6300720" y="213372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: «Внедрение инновационных педагогических технологий в учебно-воспитательный процесс шко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повышение уровня профессионального мастерства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image086"/>
          <p:cNvPicPr/>
          <p:nvPr/>
        </p:nvPicPr>
        <p:blipFill>
          <a:blip r:embed="rId1"/>
          <a:stretch/>
        </p:blipFill>
        <p:spPr>
          <a:xfrm>
            <a:off x="5076720" y="1628640"/>
            <a:ext cx="3600720" cy="270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над единой методической те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24000" y="4076640"/>
            <a:ext cx="828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методический уровень педагогов в овладении новыми педагогическими технолог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олжить работу по обобщению и распространению передового педагогического опы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работу с детьми, имеющими повышенные интеллектуальные способности, навыки исследовательской и эксперименталь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75800" y="209520"/>
            <a:ext cx="810108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общающий  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 буклетов,  портфолио   каждого учителя,  отражение  профессиональной  деятельности  учителей  на  информационном  портале,  публикации  в  печати,  издание  методических  материалов  из  опыта  работы,  освещение  профессиональной  деятельности  в  СМИ,  создание  банка  передового  педагогического  опыта 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Механизм реализаци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ботка системы моральной поддержки педаг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системы материальной поддержки учителе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системы повышения значимости аттестации педагогических и управленческих кадров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системы привлекательности профессиона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внутришкольных конкурсов: «Учитель года», «Воспитать человека», «Сердце отдаю детям» «Лучший классный руководитель» и участие в районных, региональных и всероссийских, интерактивных  конкур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«Мастер-классов», открытых уроков и внеклассных мероприят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38512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28840" y="999720"/>
            <a:ext cx="7416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к педагогической профессии молодых, талантливых людей особенно в систему дополнительного образования 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е распространение опыта лучших учителей в школе, районе,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е использование системы поощрений, награждений, представлений к наградам школьного, районного, регионального, всероссийского уров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условий для использования современных технологий, приобретений нового современного интерактивного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3851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3920" y="1071360"/>
            <a:ext cx="7404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в школе атмосферы жизнеутверждения, отвечающей идее улучшения себя, стимулирования и поощрения пусть и небольшого но успе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положения о стимулирующих доплатах и надбавках , которое позволит стимулировать лучших учителей вне зависимости от стажа их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 качества  и результатов педагогической деятельности  с участием школьных со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крытие роли аттестации педагогических кадров как важного стимула профессиональной компетенции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тивирование  учителя   на  постоянное совершенствование своих знаний, на владение передовыми идеями и метод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ВТОР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ербакова Л.А.- учитель б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ВСОУ Кулеватовской ВСОШ при ИК№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j0195384"/>
          <p:cNvPicPr/>
          <p:nvPr/>
        </p:nvPicPr>
        <p:blipFill>
          <a:blip r:embed="rId1"/>
          <a:stretch/>
        </p:blipFill>
        <p:spPr>
          <a:xfrm>
            <a:off x="5929200" y="4386240"/>
            <a:ext cx="1743120" cy="17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Рост уровня педагогического мастерства учителя, повышение уровня его культурной образованности, укрепление психологического здоровья. Снижение уровня тревожности в коллекти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оздание корпоративной Культуры сообщества учителей и взаимодействия их с социу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оздание коллектива учителей, открытых ко всему новому, понимающих детскую психологию и особенности развития школьников хорошо знающих свой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лючевой особенностью педагогического коллектива станет чуткость, внимательность, восприимчивость к интересам школьников, открытость ко всему нов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хорошо знающие свой предм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301252"/>
          <p:cNvPicPr/>
          <p:nvPr/>
        </p:nvPicPr>
        <p:blipFill>
          <a:blip r:embed="rId1"/>
          <a:stretch/>
        </p:blipFill>
        <p:spPr>
          <a:xfrm>
            <a:off x="2987640" y="2997360"/>
            <a:ext cx="2982960" cy="2550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ктуальность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особенности развития школьников, хорошо знающие свой предмет. Задачи учителя – помочь ребятам найти себя в будущем, стать самостоятельными и творческими, уверенными в себе людьми. Чуткие, внимательные и восприимчивые к интересам школьников, открытые ко всему новому учителя – ключевая особенность школы буду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 профессиональной  компетентности  учительского  корпуса  школы,  модернизация системы моральных и материальных стимулов поддержки педагогического коллектива, привлечение в школу молодых, талантливых педаг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тап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071720"/>
            <a:ext cx="8007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о-мобилизаци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   </a:t>
            </a:r>
            <a:r>
              <a:rPr b="1" lang="en-US" sz="1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анализа системных изме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нормативно  правовой  базы:  положений  о  стимулирующих  надбавках  и  доплатах,  положений  о  внутришкольных  конкурсах,  стимулирующих   профессиональную  деятельность  учител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Учитель года», «Воспитать человека», «Сердце отдаю детям» «Лучший классный руководитель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  и 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Создание  координационного  совета  по  осуществлению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плана  реализации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Проведение   педагогического  совета, производственного  совещания,  раскрывающего  привлекательность  проекта  в  глазах 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eee"/>
                </a:solidFill>
                <a:latin typeface="Arial"/>
              </a:rPr>
              <a:t>Разработка  плана 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0"/>
            <a:ext cx="71640" cy="6858000"/>
          </a:xfrm>
          <a:prstGeom prst="rect">
            <a:avLst/>
          </a:prstGeom>
          <a:solidFill>
            <a:srgbClr val="008e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714240"/>
          <a:ext cx="8101080" cy="5732640"/>
        </p:xfrm>
        <a:graphic>
          <a:graphicData uri="http://schemas.openxmlformats.org/drawingml/2006/table">
            <a:tbl>
              <a:tblPr/>
              <a:tblGrid>
                <a:gridCol w="4041720"/>
                <a:gridCol w="40593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озмож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ильн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есть возможность получить квалифицированную научно-методическую помо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щь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уровень мотивации коллектива к переменам в школ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меетс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система материального стимулировани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педагогического труда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сплоченность и работоспособность коллектива; наличие группы творчески работающих учителе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дею необходимости изменений в школе поддерживает большое количество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  авторитет директора школы в коллектив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Угроз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лаб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Совершенствование профессиональной деятельности педагога с неизбежностью предполагают интенсификацию его труда, а значит неизбежно приводит к перегрузкам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отсутствие необходимого опыта инновационной деятельности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разница в оплате и условиях труда может привести к оттоку части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несогласованность образов желаемого будущего школы у разных педагогов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формальные требования отдела  образования, форсирующего внедрение некоторых модных нововведений без учета потребностей и реальных возможностей конкретной школы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преобладание в коллективе традиционных и устаревших подходов к образовательному процессу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еш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утрен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3"/>
          <p:cNvSpPr/>
          <p:nvPr/>
        </p:nvSpPr>
        <p:spPr>
          <a:xfrm>
            <a:off x="142884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eeeeee"/>
                </a:solidFill>
                <a:latin typeface="Arial"/>
              </a:rPr>
              <a:t>анализ системных изме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Поисково-преобразовательный этап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7720" y="999720"/>
            <a:ext cx="8007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енствование  методической  работы  как  одной  из  форм  формирования   «нового»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а  из  целей методической работы в условиях создания   молели  «новой  школы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:  повышение  профессиональной  компетентности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3" descr="Рисунок1"/>
          <p:cNvPicPr/>
          <p:nvPr/>
        </p:nvPicPr>
        <p:blipFill>
          <a:blip r:embed="rId1"/>
          <a:stretch/>
        </p:blipFill>
        <p:spPr>
          <a:xfrm>
            <a:off x="3357720" y="3429000"/>
            <a:ext cx="2555640" cy="2205000"/>
          </a:xfrm>
          <a:prstGeom prst="rect">
            <a:avLst/>
          </a:prstGeom>
          <a:ln w="0">
            <a:noFill/>
          </a:ln>
        </p:spPr>
      </p:pic>
      <p:sp>
        <p:nvSpPr>
          <p:cNvPr id="174" name="Oval 19"/>
          <p:cNvSpPr/>
          <p:nvPr/>
        </p:nvSpPr>
        <p:spPr>
          <a:xfrm>
            <a:off x="500040" y="371484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фессион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орга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500800" y="385776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формирова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ючевых компет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3000240" y="5357880"/>
            <a:ext cx="324036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-572040"/>
            <a:ext cx="8699400" cy="22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71720" y="1928520"/>
            <a:ext cx="77738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фессиональная 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рассматривается, с одной стороны, в качестве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нтегрального крите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чества профессионального обучения и профессиональной деятельности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 другой – как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о лич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для которой характерны высокое качество выполнения трудовых функций, культура труда и межличностных коммуникаций, умение инициативно и творчески решать профессиональные проблемы, а также готовность к принятию управленческих решений, к адаптации в новых условиях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63817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 Кластеры компетенций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42920" y="3240"/>
            <a:ext cx="7416720" cy="62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58:58Z</dcterms:created>
  <dc:creator>mesto</dc:creator>
  <dc:description/>
  <dc:language>en-US</dc:language>
  <cp:lastModifiedBy>ПК</cp:lastModifiedBy>
  <dcterms:modified xsi:type="dcterms:W3CDTF">2002-01-14T09:26:36Z</dcterms:modified>
  <cp:revision>54</cp:revision>
  <dc:subject/>
  <dc:title>«Совершенствование учительского корпуса»</dc:title>
</cp:coreProperties>
</file>